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D54-B8B9-43C8-B4C6-ABCA1351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00E-2F10-43C8-99AC-E6BE9E6A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8BB-55F9-410D-803B-CC340EC8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723-B794-49ED-8312-BCE84187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DA2-E3AA-4BE6-B22B-9B5E756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335-A9A0-4448-B9E4-852767E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395-8465-430A-8167-D2A24D2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EB3-1F3C-450D-A921-831A90F5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BEA-BB4E-4568-AF45-EBD1A79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769-A50E-4A6A-92D7-1A99E94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804-D300-4DC2-9E56-E2F219F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349-02DB-44E6-9EF2-20CA7C47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1829-59B5-4210-A2CE-9312BF11BB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3143160" y="2658960"/>
            <a:ext cx="30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3132000" y="31417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———————————————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203640" y="32846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浪漫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87696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3283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997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212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5497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7340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069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5926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63061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4997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65696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3926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1519920" y="100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3997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4069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4260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357280" y="1428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854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26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0568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498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069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73404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069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9267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3426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783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73404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068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45691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212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120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640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140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855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5355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100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5497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3426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87696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9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4354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6T08:34:51Z</dcterms:modified>
  <cp:revision>42</cp:revision>
  <dc:subject/>
  <dc:title>幻灯片 1</dc:title>
</cp:coreProperties>
</file>