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gif" ContentType="image/gif"/>
  <Override PartName="/ppt/media/chimes.wav" ContentType="audio/x-wav"/>
  <Override PartName="/ppt/media/image7.jpeg" ContentType="image/jpeg"/>
  <Override PartName="/ppt/media/image9.jpeg" ContentType="image/jpeg"/>
  <Override PartName="/ppt/media/image10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D13E0-E37B-41AF-9B88-E832EF89C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4C6D1-F45C-4041-8C6B-2E0F4CB27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1DE0B-C909-4968-A1CB-77CEB9ABF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9D7DC-9569-4401-86E3-29D7F44A0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42048-3C52-4377-86FA-7C069580D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4C088-B0B5-4218-95B0-B17265E63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1A716-C79A-476D-B629-653A948F5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BDE9D-5A7B-43C1-95D4-603DEF23E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D4178-8C25-4679-A765-A60043BAC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7839D-AF5E-47FA-8849-F9756CE9C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43B34-FC9E-4478-8C69-CF5A111A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1D865-FD31-4602-947F-3A2E19872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51A90-1429-48DA-9F0A-4CEC2C18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8BE9A-913D-4A78-83BD-AFE79157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F26D1-0C3B-421B-B657-A2A542EEB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AE446-F010-4DA2-ABBD-D8EA4A261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EB227-4F59-4A2B-8778-2981C2FB7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1F910-5F51-4FF2-B750-B48454320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BA5BA-7226-419F-A2DC-7E2C98231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EAE54-4E6E-4266-A219-4B098E55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88067-5754-4B12-B245-31563D0D4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8DDDF-7718-4ED8-97DF-DA2802CEF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61348-3179-4F16-83AA-95A0DF790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89BB3-DE71-4E60-9649-5CA82D984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655D3-A457-47F6-8E48-FA11BA86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759C4-7F19-4D61-A8C9-4E80880D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60ABB-A601-49D1-844A-70327E8A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2740A-58C7-449D-9DCB-0B40BE30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3F64F-D76E-4D98-BF2E-5BFC89CDF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7A8CB-BDDF-44C4-8397-3F4A790DA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E3E92-07BA-46BF-9B29-F099F2F19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FD837-2064-40F0-8BA7-5A980A0A9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FA19D-ABA7-4915-97C9-80BA5202F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D9D58-4A1A-49BF-9DC8-42471BBA2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EBC10-7A8B-4BF9-A6E4-DA2879E66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DEBAC-047E-4DBC-8D91-AA34CC13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5BD95-1993-4442-B801-5A82A031A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605FD-CD7A-43DC-9D42-E3DA3981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60343-8F61-4E39-B656-31D6810B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1B01D-35AE-4B35-A184-68F09BC0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1FC35-23D5-46A8-AB66-5F06364A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5B386-0554-4009-B25E-DDB9517BF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AA2A0-BA7E-4D94-8F83-E1BFC7751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3E7E5-00E1-4E04-93E4-13E1A5FB4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32130-5D4A-4B69-AA8D-64AA03BB0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FE396-8AB2-4333-8205-87E1E9C07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9B911-855E-4CBA-902F-8FF604E3A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736C5-907D-4D60-B1CE-FA644E281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FA06C-4715-4D63-AFB4-B519B1661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FEF35-51A8-4E64-859C-4FDFAB5DF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90899-7E84-40A7-8DB7-BBE73246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5A6DE-3B76-47F8-848A-DC77E982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EB7A8-D0C0-4C36-BD63-DD6DFC77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5B196-D0BA-41AB-9903-F78277F60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3A023-EFCA-4D3E-971F-3B6E026F5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2A692-6D49-4BD9-8EF4-A04EBBE5A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D2BBB-8E93-412B-AD95-FF6426B4B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887F1-6C6F-4C76-BDE4-3CF8CFD6D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71EA96-ADAF-4BE2-AB69-D91F33C49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D5CAB6-0AEE-44A9-92E6-E5FD12207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05DB11-21FF-48FC-BC32-BFEBCEA0A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86A7F-9E5D-42D9-9CD6-9ED8DDF25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E4827-2CFA-4D6D-959B-785E4B644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AAC5A-BEDA-4F5F-B89A-FFDAB498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7D8F91-8049-4190-B392-96BA8309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DE68D-6543-4EF6-85B2-9BB8C23D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EE06D-34E3-4E13-9481-EACFE08B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5E8C6-CB73-4139-92A6-A475C2B40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237BE-2B94-4B66-89AB-6E5BF400A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D7E9B-D86F-48B1-8527-2A0794CA3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05C700-31A2-450D-A113-6C685293E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4A598B-CC6E-422D-80E6-A2316DFAA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08B768-6288-44D9-B78A-D89E06F6E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BE5B7-0851-4A20-9C7D-E20743B41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91EB4-B357-4E35-87BE-BC681DA4D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40ABB-07A9-4EBD-93A6-A0FE37AD3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40529-8385-4438-8408-48E37D59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6BACA-0A11-400F-8CCD-43C43CD8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1B37C-2B55-431D-826B-479D2D5B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C1C44-E647-4C65-8B52-FA495ACB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3F90A1-45F6-4ABF-8A66-D7B017062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EBC14-17C2-485E-BE7A-35D519164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15B22-72F7-4E0B-A54F-9B266A367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86F2B8-AEF3-4089-81AA-3C63ABFBF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2CFD15-E3BA-4953-A85E-23FF060A5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2D63F7-D24C-4231-871E-A68A6A979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285DBA-3258-439C-B9D2-A89007262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B00ACD-BEA9-45C7-A261-A65F57F59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E26A5-E539-4450-BE94-839C62E2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41AE8E-3767-4B0C-B0EB-0E7D30C40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50947D-AD17-434C-B966-EBCE376F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06CA56-292B-4957-ACC2-44B5EFFC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859F99-E6FA-4D1B-A846-2E6777DB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C1004D-DF6C-4555-92DC-BB2CB12BE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D9B225-71E6-427C-B3BE-5B7E75EFB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2E3F05-6B57-4753-9C09-10CD2FB8C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A8C2-62A2-4C1E-9216-FBD6CEC3068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64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65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7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68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6699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8434B-8481-4168-9A1E-616AEB8B7C38}" type="slidenum">
              <a:rPr b="1" lang="en-US" sz="2600" spc="-1" strike="noStrike">
                <a:solidFill>
                  <a:srgbClr val="6699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7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8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9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B091F-8A3B-4E8F-ABCB-EB66CFE43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53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54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5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6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57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8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9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60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1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62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63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64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00"/>
                    </a:gs>
                    <a:gs pos="100000">
                      <a:srgbClr val="00336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5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ff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6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67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8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>
                      <a:gd name="textAreaLeft" fmla="*/ 0 w 884520"/>
                      <a:gd name="textAreaRight" fmla="*/ 884880 w 88452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9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0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71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>
                      <a:gd name="textAreaLeft" fmla="*/ 0 w 931320"/>
                      <a:gd name="textAreaRight" fmla="*/ 93168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>
                      <a:gd name="textAreaLeft" fmla="*/ 0 w 499680"/>
                      <a:gd name="textAreaRight" fmla="*/ 500040 w 499680"/>
                      <a:gd name="textAreaTop" fmla="*/ 0 h 279360"/>
                      <a:gd name="textAreaBottom" fmla="*/ 279720 h 279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3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74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>
                      <a:gd name="textAreaLeft" fmla="*/ 0 w 890280"/>
                      <a:gd name="textAreaRight" fmla="*/ 890640 w 89028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>
                      <a:gd name="textAreaLeft" fmla="*/ 0 w 478080"/>
                      <a:gd name="textAreaRight" fmla="*/ 47844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77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>
                      <a:gd name="textAreaLeft" fmla="*/ 0 w 461880"/>
                      <a:gd name="textAreaRight" fmla="*/ 462240 w 46188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9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80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>
                      <a:gd name="textAreaLeft" fmla="*/ 0 w 792720"/>
                      <a:gd name="textAreaRight" fmla="*/ 793080 w 79272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>
                      <a:gd name="textAreaLeft" fmla="*/ 0 w 425880"/>
                      <a:gd name="textAreaRight" fmla="*/ 426240 w 4258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82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83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11600"/>
                      <a:gd name="textAreaBottom" fmla="*/ 111960 h 111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4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>
                      <a:gd name="textAreaLeft" fmla="*/ 0 w 386640"/>
                      <a:gd name="textAreaRight" fmla="*/ 387000 w 38664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85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86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88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89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>
                      <a:gd name="textAreaLeft" fmla="*/ 360 w 884880"/>
                      <a:gd name="textAreaRight" fmla="*/ 885600 w 8848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>
                      <a:gd name="textAreaLeft" fmla="*/ 360 w 474480"/>
                      <a:gd name="textAreaRight" fmla="*/ 475200 w 474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1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92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>
                      <a:gd name="textAreaLeft" fmla="*/ -360 w 931320"/>
                      <a:gd name="textAreaRight" fmla="*/ 93132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3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>
                      <a:gd name="textAreaLeft" fmla="*/ -360 w 500040"/>
                      <a:gd name="textAreaRight" fmla="*/ 500040 w 50004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4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95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>
                      <a:gd name="textAreaLeft" fmla="*/ 360 w 890640"/>
                      <a:gd name="textAreaRight" fmla="*/ 891360 w 89064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>
                      <a:gd name="textAreaLeft" fmla="*/ 360 w 478080"/>
                      <a:gd name="textAreaRight" fmla="*/ 47880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7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98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9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>
                      <a:gd name="textAreaLeft" fmla="*/ -360 w 461880"/>
                      <a:gd name="textAreaRight" fmla="*/ 461880 w 46188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0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201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>
                      <a:gd name="textAreaLeft" fmla="*/ -360 w 792360"/>
                      <a:gd name="textAreaRight" fmla="*/ 792360 w 792360"/>
                      <a:gd name="textAreaTop" fmla="*/ 0 h 159480"/>
                      <a:gd name="textAreaBottom" fmla="*/ 159840 h 159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>
                      <a:gd name="textAreaLeft" fmla="*/ 360 w 425520"/>
                      <a:gd name="textAreaRight" fmla="*/ 426240 w 425520"/>
                      <a:gd name="textAreaTop" fmla="*/ 0 h 249840"/>
                      <a:gd name="textAreaBottom" fmla="*/ 250200 h 2498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3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204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11960"/>
                      <a:gd name="textAreaBottom" fmla="*/ 112320 h 1119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>
                      <a:gd name="textAreaLeft" fmla="*/ -360 w 387000"/>
                      <a:gd name="textAreaRight" fmla="*/ 387000 w 38700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6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207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8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9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210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>
                      <a:gd name="textAreaLeft" fmla="*/ 360 w 632160"/>
                      <a:gd name="textAreaRight" fmla="*/ 632880 w 63216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12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213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>
                      <a:gd name="textAreaLeft" fmla="*/ 360 w 633600"/>
                      <a:gd name="textAreaRight" fmla="*/ 634320 w 63360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4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15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216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>
                      <a:gd name="textAreaLeft" fmla="*/ -360 w 641880"/>
                      <a:gd name="textAreaRight" fmla="*/ 641880 w 64188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7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>
                      <a:gd name="textAreaLeft" fmla="*/ 0 w 345240"/>
                      <a:gd name="textAreaRight" fmla="*/ 345240 w 3452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18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219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>
                      <a:gd name="textAreaLeft" fmla="*/ -360 w 303480"/>
                      <a:gd name="textAreaRight" fmla="*/ 303480 w 30348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1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222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>
                      <a:gd name="textAreaLeft" fmla="*/ -360 w 543960"/>
                      <a:gd name="textAreaRight" fmla="*/ 543960 w 54396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3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>
                      <a:gd name="textAreaLeft" fmla="*/ 360 w 292320"/>
                      <a:gd name="textAreaRight" fmla="*/ 293040 w 29232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4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225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>
                      <a:gd name="textAreaLeft" fmla="*/ 0 w 632160"/>
                      <a:gd name="textAreaRight" fmla="*/ 632520 w 63216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7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228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>
                      <a:gd name="textAreaLeft" fmla="*/ 0 w 633240"/>
                      <a:gd name="textAreaRight" fmla="*/ 633600 w 63324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230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9966"/>
                    </a:gs>
                    <a:gs pos="100000">
                      <a:srgbClr val="ffff99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31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>
                    <a:gd name="textAreaLeft" fmla="*/ 360 w 282240"/>
                    <a:gd name="textAreaRight" fmla="*/ 282960 w 282240"/>
                    <a:gd name="textAreaTop" fmla="*/ 0 h 117720"/>
                    <a:gd name="textAreaBottom" fmla="*/ 118080 h 11772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366"/>
                    </a:gs>
                    <a:gs pos="100000">
                      <a:srgbClr val="ff9966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232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33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>
                      <a:gd name="textAreaLeft" fmla="*/ 0 w 545040"/>
                      <a:gd name="textAreaRight" fmla="*/ 545400 w 545040"/>
                      <a:gd name="textAreaTop" fmla="*/ 0 h 94320"/>
                      <a:gd name="textAreaBottom" fmla="*/ 94680 h 943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>
                      <a:gd name="textAreaLeft" fmla="*/ 0 w 292320"/>
                      <a:gd name="textAreaRight" fmla="*/ 292680 w 292320"/>
                      <a:gd name="textAreaTop" fmla="*/ 0 h 148320"/>
                      <a:gd name="textAreaBottom" fmla="*/ 148680 h 1483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5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36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>
                      <a:gd name="textAreaLeft" fmla="*/ 0 w 592560"/>
                      <a:gd name="textAreaRight" fmla="*/ 592920 w 592560"/>
                      <a:gd name="textAreaTop" fmla="*/ 0 h 138240"/>
                      <a:gd name="textAreaBottom" fmla="*/ 138600 h 1382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>
                      <a:gd name="textAreaLeft" fmla="*/ 0 w 317880"/>
                      <a:gd name="textAreaRight" fmla="*/ 318240 w 317880"/>
                      <a:gd name="textAreaTop" fmla="*/ 0 h 216360"/>
                      <a:gd name="textAreaBottom" fmla="*/ 216720 h 216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39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>
                      <a:gd name="textAreaLeft" fmla="*/ 0 w 488880"/>
                      <a:gd name="textAreaRight" fmla="*/ 489240 w 488880"/>
                      <a:gd name="textAreaTop" fmla="*/ 0 h 43920"/>
                      <a:gd name="textAreaBottom" fmla="*/ 44280 h 43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>
                      <a:gd name="textAreaLeft" fmla="*/ 0 w 262440"/>
                      <a:gd name="textAreaRight" fmla="*/ 262800 w 262440"/>
                      <a:gd name="textAreaTop" fmla="*/ 0 h 69120"/>
                      <a:gd name="textAreaBottom" fmla="*/ 69480 h 691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41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42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>
                      <a:gd name="textAreaLeft" fmla="*/ 360 w 884160"/>
                      <a:gd name="textAreaRight" fmla="*/ 88488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>
                      <a:gd name="textAreaLeft" fmla="*/ -360 w 474120"/>
                      <a:gd name="textAreaRight" fmla="*/ 474120 w 47412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44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45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>
                      <a:gd name="textAreaLeft" fmla="*/ -360 w 818280"/>
                      <a:gd name="textAreaRight" fmla="*/ 818280 w 8182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6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>
                      <a:gd name="textAreaLeft" fmla="*/ 360 w 439200"/>
                      <a:gd name="textAreaRight" fmla="*/ 439920 w 43920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47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48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>
                      <a:gd name="textAreaLeft" fmla="*/ -360 w 785160"/>
                      <a:gd name="textAreaRight" fmla="*/ 785160 w 785160"/>
                      <a:gd name="textAreaTop" fmla="*/ 0 h 144000"/>
                      <a:gd name="textAreaBottom" fmla="*/ 144360 h 144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9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>
                      <a:gd name="textAreaLeft" fmla="*/ 360 w 421200"/>
                      <a:gd name="textAreaRight" fmla="*/ 421920 w 421200"/>
                      <a:gd name="textAreaTop" fmla="*/ 0 h 226440"/>
                      <a:gd name="textAreaBottom" fmla="*/ 226800 h 226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50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51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>
                      <a:gd name="textAreaLeft" fmla="*/ 0 w 884880"/>
                      <a:gd name="textAreaRight" fmla="*/ 885240 w 88488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52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1640"/>
                      <a:gd name="textAreaBottom" fmla="*/ 252000 h 251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53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54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>
                      <a:gd name="textAreaLeft" fmla="*/ 0 w 846720"/>
                      <a:gd name="textAreaRight" fmla="*/ 847080 w 84672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55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56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57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>
                      <a:gd name="textAreaLeft" fmla="*/ 0 w 821160"/>
                      <a:gd name="textAreaRight" fmla="*/ 821520 w 82116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58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>
                      <a:gd name="textAreaLeft" fmla="*/ 0 w 440280"/>
                      <a:gd name="textAreaRight" fmla="*/ 440640 w 44028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59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60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>
                      <a:gd name="textAreaLeft" fmla="*/ 0 w 754920"/>
                      <a:gd name="textAreaRight" fmla="*/ 755280 w 754920"/>
                      <a:gd name="textAreaTop" fmla="*/ 0 h 126000"/>
                      <a:gd name="textAreaBottom" fmla="*/ 126360 h 126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1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>
                      <a:gd name="textAreaLeft" fmla="*/ 0 w 405360"/>
                      <a:gd name="textAreaRight" fmla="*/ 405720 w 405360"/>
                      <a:gd name="textAreaTop" fmla="*/ 0 h 198000"/>
                      <a:gd name="textAreaBottom" fmla="*/ 198360 h 198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62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63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>
                      <a:gd name="textAreaLeft" fmla="*/ 0 w 737640"/>
                      <a:gd name="textAreaRight" fmla="*/ 738000 w 737640"/>
                      <a:gd name="textAreaTop" fmla="*/ 0 h 96480"/>
                      <a:gd name="textAreaBottom" fmla="*/ 96840 h 96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4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>
                      <a:gd name="textAreaLeft" fmla="*/ 0 w 395640"/>
                      <a:gd name="textAreaRight" fmla="*/ 396000 w 39564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sp>
            <p:nvSpPr>
              <p:cNvPr id="265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>
                  <a:gd name="textAreaLeft" fmla="*/ 360 w 1090080"/>
                  <a:gd name="textAreaRight" fmla="*/ 1090800 w 1090080"/>
                  <a:gd name="textAreaTop" fmla="*/ 0 h 1181880"/>
                  <a:gd name="textAreaBottom" fmla="*/ 1182240 h 11818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>
                  <a:gd name="textAreaLeft" fmla="*/ 360 w 637200"/>
                  <a:gd name="textAreaRight" fmla="*/ 637920 w 637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9680"/>
                  <a:gd name="textAreaBottom" fmla="*/ 1220040 h 121968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>
                  <a:gd name="textAreaLeft" fmla="*/ 0 w 515520"/>
                  <a:gd name="textAreaRight" fmla="*/ 515880 w 515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>
                  <a:gd name="textAreaLeft" fmla="*/ 0 w 248400"/>
                  <a:gd name="textAreaRight" fmla="*/ 248760 w 24840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>
                  <a:gd name="textAreaLeft" fmla="*/ 0 w 226080"/>
                  <a:gd name="textAreaRight" fmla="*/ 226440 w 226080"/>
                  <a:gd name="textAreaTop" fmla="*/ -360 h 429480"/>
                  <a:gd name="textAreaBottom" fmla="*/ 429480 h 429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>
                  <a:gd name="textAreaLeft" fmla="*/ -360 w 948600"/>
                  <a:gd name="textAreaRight" fmla="*/ 948600 w 94860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>
                  <a:gd name="textAreaLeft" fmla="*/ 0 w 391320"/>
                  <a:gd name="textAreaRight" fmla="*/ 391680 w 391320"/>
                  <a:gd name="textAreaTop" fmla="*/ 0 h 1182960"/>
                  <a:gd name="textAreaBottom" fmla="*/ 1183320 h 118296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>
                  <a:gd name="textAreaLeft" fmla="*/ -360 w 556200"/>
                  <a:gd name="textAreaRight" fmla="*/ 556200 w 55620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>
                  <a:gd name="textAreaLeft" fmla="*/ 0 w 778680"/>
                  <a:gd name="textAreaRight" fmla="*/ 779040 w 778680"/>
                  <a:gd name="textAreaTop" fmla="*/ 0 h 548280"/>
                  <a:gd name="textAreaBottom" fmla="*/ 548280 h 5482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5480"/>
                  <a:gd name="textAreaBottom" fmla="*/ 735840 h 735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>
                  <a:gd name="textAreaLeft" fmla="*/ 0 w 227520"/>
                  <a:gd name="textAreaRight" fmla="*/ 227880 w 22752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>
                  <a:gd name="textAreaLeft" fmla="*/ -360 w 226440"/>
                  <a:gd name="textAreaRight" fmla="*/ 226440 w 22644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99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6C925-DC25-4540-9EA9-B247A4A2891B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29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0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1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2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3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4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5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6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7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8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9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0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1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2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3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4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5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6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7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8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9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74E1B-C629-48B4-B6E9-105641A877B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392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3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94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395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6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18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6699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C2234-85A9-4842-AA2C-9ABD0C3B8981}" type="slidenum">
              <a:rPr b="1" lang="en-US" sz="2600" spc="-1" strike="noStrike">
                <a:solidFill>
                  <a:srgbClr val="6699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19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0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21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92437-ADCA-4F2C-A162-A575FE9B4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480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481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2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83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484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485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486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6600"/>
                      </a:gs>
                      <a:gs pos="100000">
                        <a:srgbClr val="00336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87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66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88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489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490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>
                        <a:gd name="textAreaLeft" fmla="*/ 0 w 2125440"/>
                        <a:gd name="textAreaRight" fmla="*/ 212580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91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492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493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>
                        <a:gd name="textAreaLeft" fmla="*/ 0 w 2236680"/>
                        <a:gd name="textAreaRight" fmla="*/ 223704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94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>
                        <a:gd name="textAreaLeft" fmla="*/ 0 w 1200600"/>
                        <a:gd name="textAreaRight" fmla="*/ 1200960 w 1200600"/>
                        <a:gd name="textAreaTop" fmla="*/ 0 h 671760"/>
                        <a:gd name="textAreaBottom" fmla="*/ 672120 h 671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495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496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>
                        <a:gd name="textAreaLeft" fmla="*/ 0 w 2140560"/>
                        <a:gd name="textAreaRight" fmla="*/ 2140920 w 214056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97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498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499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0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01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502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>
                        <a:gd name="textAreaLeft" fmla="*/ 0 w 1904760"/>
                        <a:gd name="textAreaRight" fmla="*/ 1905120 w 190476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3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>
                        <a:gd name="textAreaLeft" fmla="*/ 0 w 1023480"/>
                        <a:gd name="textAreaRight" fmla="*/ 1023840 w 102348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04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505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70000"/>
                        <a:gd name="textAreaBottom" fmla="*/ 270360 h 270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6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07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508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>
                        <a:gd name="textAreaLeft" fmla="*/ 0 w 1520280"/>
                        <a:gd name="textAreaRight" fmla="*/ 152064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9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10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511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>
                        <a:gd name="textAreaLeft" fmla="*/ -360 w 2125800"/>
                        <a:gd name="textAreaRight" fmla="*/ 212580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2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>
                        <a:gd name="textAreaLeft" fmla="*/ -360 w 1140840"/>
                        <a:gd name="textAreaRight" fmla="*/ 1140840 w 114084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13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514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>
                        <a:gd name="textAreaLeft" fmla="*/ -360 w 2236680"/>
                        <a:gd name="textAreaRight" fmla="*/ 223668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5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>
                        <a:gd name="textAreaLeft" fmla="*/ 360 w 1200960"/>
                        <a:gd name="textAreaRight" fmla="*/ 1201680 w 1200960"/>
                        <a:gd name="textAreaTop" fmla="*/ 0 h 672480"/>
                        <a:gd name="textAreaBottom" fmla="*/ 672840 h 6724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16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517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>
                        <a:gd name="textAreaLeft" fmla="*/ -360 w 2140920"/>
                        <a:gd name="textAreaRight" fmla="*/ 2140920 w 214092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8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>
                        <a:gd name="textAreaLeft" fmla="*/ 360 w 1149120"/>
                        <a:gd name="textAreaRight" fmla="*/ 1149840 w 114912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19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520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>
                        <a:gd name="textAreaLeft" fmla="*/ 360 w 2067840"/>
                        <a:gd name="textAreaRight" fmla="*/ 2068560 w 206784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21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>
                        <a:gd name="textAreaLeft" fmla="*/ -360 w 1110600"/>
                        <a:gd name="textAreaRight" fmla="*/ 111060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22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523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>
                        <a:gd name="textAreaLeft" fmla="*/ -360 w 1904760"/>
                        <a:gd name="textAreaRight" fmla="*/ 1904760 w 190476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24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>
                        <a:gd name="textAreaLeft" fmla="*/ 360 w 1023120"/>
                        <a:gd name="textAreaRight" fmla="*/ 1023840 w 1023120"/>
                        <a:gd name="textAreaTop" fmla="*/ 0 h 603000"/>
                        <a:gd name="textAreaBottom" fmla="*/ 603360 h 60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25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526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>
                        <a:gd name="textAreaLeft" fmla="*/ 360 w 1730880"/>
                        <a:gd name="textAreaRight" fmla="*/ 1731600 w 1730880"/>
                        <a:gd name="textAreaTop" fmla="*/ 0 h 269280"/>
                        <a:gd name="textAreaBottom" fmla="*/ 269640 h 269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27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>
                        <a:gd name="textAreaLeft" fmla="*/ 360 w 929520"/>
                        <a:gd name="textAreaRight" fmla="*/ 93024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28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529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30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31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532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33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>
                        <a:gd name="textAreaLeft" fmla="*/ 360 w 816480"/>
                        <a:gd name="textAreaRight" fmla="*/ 81720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34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535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36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37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538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39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40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541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>
                        <a:gd name="textAreaLeft" fmla="*/ 360 w 1356480"/>
                        <a:gd name="textAreaRight" fmla="*/ 1357200 w 13564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42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>
                        <a:gd name="textAreaLeft" fmla="*/ -360 w 729000"/>
                        <a:gd name="textAreaRight" fmla="*/ 729000 w 72900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43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544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>
                        <a:gd name="textAreaLeft" fmla="*/ 360 w 1308240"/>
                        <a:gd name="textAreaRight" fmla="*/ 1308960 w 13082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45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46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547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48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49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550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51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552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>
                      <a:gd name="textAreaLeft" fmla="*/ 0 w 1266120"/>
                      <a:gd name="textAreaRight" fmla="*/ 1266120 w 1266120"/>
                      <a:gd name="textAreaTop" fmla="*/ 0 h 178560"/>
                      <a:gd name="textAreaBottom" fmla="*/ 178920 h 178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53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2240"/>
                      <a:gd name="textAreaBottom" fmla="*/ 282600 h 282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554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555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>
                        <a:gd name="textAreaLeft" fmla="*/ 0 w 1309680"/>
                        <a:gd name="textAreaRight" fmla="*/ 1310040 w 1309680"/>
                        <a:gd name="textAreaTop" fmla="*/ 0 h 226800"/>
                        <a:gd name="textAreaBottom" fmla="*/ 227160 h 2268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56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>
                        <a:gd name="textAreaLeft" fmla="*/ 0 w 702360"/>
                        <a:gd name="textAreaRight" fmla="*/ 702720 w 702360"/>
                        <a:gd name="textAreaTop" fmla="*/ 0 h 356040"/>
                        <a:gd name="textAreaBottom" fmla="*/ 356400 h 3560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57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558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>
                        <a:gd name="textAreaLeft" fmla="*/ 0 w 1424160"/>
                        <a:gd name="textAreaRight" fmla="*/ 1424520 w 1424160"/>
                        <a:gd name="textAreaTop" fmla="*/ 0 h 332640"/>
                        <a:gd name="textAreaBottom" fmla="*/ 333000 h 332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59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>
                        <a:gd name="textAreaLeft" fmla="*/ 0 w 764280"/>
                        <a:gd name="textAreaRight" fmla="*/ 764640 w 764280"/>
                        <a:gd name="textAreaTop" fmla="*/ 0 h 521280"/>
                        <a:gd name="textAreaBottom" fmla="*/ 521640 h 5212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60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561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>
                        <a:gd name="textAreaLeft" fmla="*/ 0 w 1175760"/>
                        <a:gd name="textAreaRight" fmla="*/ 1176120 w 1175760"/>
                        <a:gd name="textAreaTop" fmla="*/ 0 h 105840"/>
                        <a:gd name="textAreaBottom" fmla="*/ 106200 h 105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62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>
                        <a:gd name="textAreaLeft" fmla="*/ 0 w 631080"/>
                        <a:gd name="textAreaRight" fmla="*/ 631440 w 631080"/>
                        <a:gd name="textAreaTop" fmla="*/ 0 h 165960"/>
                        <a:gd name="textAreaBottom" fmla="*/ 166320 h 165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63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564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>
                        <a:gd name="textAreaLeft" fmla="*/ 360 w 2125440"/>
                        <a:gd name="textAreaRight" fmla="*/ 212616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65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>
                        <a:gd name="textAreaLeft" fmla="*/ 360 w 1140480"/>
                        <a:gd name="textAreaRight" fmla="*/ 114120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66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567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>
                        <a:gd name="textAreaLeft" fmla="*/ -360 w 1966680"/>
                        <a:gd name="textAreaRight" fmla="*/ 1966680 w 196668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68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>
                        <a:gd name="textAreaLeft" fmla="*/ -360 w 1055160"/>
                        <a:gd name="textAreaRight" fmla="*/ 1055160 w 1055160"/>
                        <a:gd name="textAreaTop" fmla="*/ 0 h 603720"/>
                        <a:gd name="textAreaBottom" fmla="*/ 604080 h 603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69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570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>
                        <a:gd name="textAreaLeft" fmla="*/ -360 w 1886760"/>
                        <a:gd name="textAreaRight" fmla="*/ 1886760 w 1886760"/>
                        <a:gd name="textAreaTop" fmla="*/ 0 h 346320"/>
                        <a:gd name="textAreaBottom" fmla="*/ 346680 h 346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71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>
                        <a:gd name="textAreaLeft" fmla="*/ 360 w 1012320"/>
                        <a:gd name="textAreaRight" fmla="*/ 1013040 w 1012320"/>
                        <a:gd name="textAreaTop" fmla="*/ 0 h 544320"/>
                        <a:gd name="textAreaBottom" fmla="*/ 544680 h 544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72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573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>
                        <a:gd name="textAreaLeft" fmla="*/ 0 w 2125800"/>
                        <a:gd name="textAreaRight" fmla="*/ 212616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74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75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576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>
                        <a:gd name="textAreaLeft" fmla="*/ 0 w 2034360"/>
                        <a:gd name="textAreaRight" fmla="*/ 2034720 w 2034360"/>
                        <a:gd name="textAreaTop" fmla="*/ 0 h 368640"/>
                        <a:gd name="textAreaBottom" fmla="*/ 369000 h 368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77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>
                        <a:gd name="textAreaLeft" fmla="*/ 0 w 1091160"/>
                        <a:gd name="textAreaRight" fmla="*/ 1091520 w 1091160"/>
                        <a:gd name="textAreaTop" fmla="*/ 0 h 578160"/>
                        <a:gd name="textAreaBottom" fmla="*/ 578520 h 578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78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579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>
                        <a:gd name="textAreaLeft" fmla="*/ 0 w 1973880"/>
                        <a:gd name="textAreaRight" fmla="*/ 1974240 w 197388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80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>
                        <a:gd name="textAreaLeft" fmla="*/ 0 w 1059120"/>
                        <a:gd name="textAreaRight" fmla="*/ 1059480 w 1059120"/>
                        <a:gd name="textAreaTop" fmla="*/ 0 h 475920"/>
                        <a:gd name="textAreaBottom" fmla="*/ 476280 h 475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81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582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>
                        <a:gd name="textAreaLeft" fmla="*/ 0 w 1814040"/>
                        <a:gd name="textAreaRight" fmla="*/ 1814400 w 181404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83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>
                        <a:gd name="textAreaLeft" fmla="*/ 0 w 974160"/>
                        <a:gd name="textAreaRight" fmla="*/ 974520 w 97416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84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585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>
                        <a:gd name="textAreaLeft" fmla="*/ 0 w 1771920"/>
                        <a:gd name="textAreaRight" fmla="*/ 1772280 w 177192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86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3240"/>
                        <a:gd name="textAreaBottom" fmla="*/ 363600 h 363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grpSp>
            <p:nvGrpSpPr>
              <p:cNvPr id="587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588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589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>
                      <a:gd name="textAreaLeft" fmla="*/ 0 w 3165480"/>
                      <a:gd name="textAreaRight" fmla="*/ 3165840 w 3165480"/>
                      <a:gd name="textAreaTop" fmla="*/ -360 h 2522520"/>
                      <a:gd name="textAreaBottom" fmla="*/ 2522520 h 252252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90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>
                      <a:gd name="textAreaLeft" fmla="*/ -360 w 2485800"/>
                      <a:gd name="textAreaRight" fmla="*/ 2485800 w 24858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91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>
                      <a:gd name="textAreaLeft" fmla="*/ 0 w 1758240"/>
                      <a:gd name="textAreaRight" fmla="*/ 1758600 w 175824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92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>
                      <a:gd name="textAreaLeft" fmla="*/ 360 w 3132000"/>
                      <a:gd name="textAreaRight" fmla="*/ 3132720 w 31320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93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>
                      <a:gd name="textAreaLeft" fmla="*/ 360 w 2280960"/>
                      <a:gd name="textAreaRight" fmla="*/ 2281680 w 22809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94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>
                      <a:gd name="textAreaLeft" fmla="*/ 0 w 941760"/>
                      <a:gd name="textAreaRight" fmla="*/ 942120 w 9417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ff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95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596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>
                    <a:gd name="textAreaLeft" fmla="*/ 0 w 544680"/>
                    <a:gd name="textAreaRight" fmla="*/ 545040 w 544680"/>
                    <a:gd name="textAreaTop" fmla="*/ 0 h 1031760"/>
                    <a:gd name="textAreaBottom" fmla="*/ 1032120 h 103176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597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598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>
                  <a:gd name="textAreaLeft" fmla="*/ -360 w 597960"/>
                  <a:gd name="textAreaRight" fmla="*/ 59796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9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>
                  <a:gd name="textAreaLeft" fmla="*/ 360 w 2616480"/>
                  <a:gd name="textAreaRight" fmla="*/ 2617200 w 2616480"/>
                  <a:gd name="textAreaTop" fmla="*/ 0 h 2841120"/>
                  <a:gd name="textAreaBottom" fmla="*/ 2841480 h 284112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0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>
                  <a:gd name="textAreaLeft" fmla="*/ 360 w 1533600"/>
                  <a:gd name="textAreaRight" fmla="*/ 1534320 w 15336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1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>
                  <a:gd name="textAreaLeft" fmla="*/ -360 w 2930040"/>
                  <a:gd name="textAreaRight" fmla="*/ 2930040 w 2930040"/>
                  <a:gd name="textAreaTop" fmla="*/ 0 h 2933640"/>
                  <a:gd name="textAreaBottom" fmla="*/ 2934000 h 293364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2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3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>
                  <a:gd name="textAreaLeft" fmla="*/ 0 w 1237680"/>
                  <a:gd name="textAreaRight" fmla="*/ 1238040 w 123768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4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>
                  <a:gd name="textAreaLeft" fmla="*/ 0 w 597960"/>
                  <a:gd name="textAreaRight" fmla="*/ 59832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5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-360 h 1032120"/>
                  <a:gd name="textAreaBottom" fmla="*/ 103212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6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>
                  <a:gd name="textAreaLeft" fmla="*/ -360 w 1338120"/>
                  <a:gd name="textAreaRight" fmla="*/ 1338120 w 133812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7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>
                  <a:gd name="textAreaLeft" fmla="*/ 360 w 858240"/>
                  <a:gd name="textAreaRight" fmla="*/ 858960 w 85824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8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>
                  <a:gd name="textAreaLeft" fmla="*/ 0 w 1241640"/>
                  <a:gd name="textAreaRight" fmla="*/ 1242000 w 1241640"/>
                  <a:gd name="textAreaTop" fmla="*/ 0 h 1974240"/>
                  <a:gd name="textAreaBottom" fmla="*/ 1974600 h 1974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9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>
                  <a:gd name="textAreaLeft" fmla="*/ 0 w 1872000"/>
                  <a:gd name="textAreaRight" fmla="*/ 1872360 w 187200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0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>
                  <a:gd name="textAreaLeft" fmla="*/ 0 w 817200"/>
                  <a:gd name="textAreaRight" fmla="*/ 817560 w 817200"/>
                  <a:gd name="textAreaTop" fmla="*/ 0 h 1768320"/>
                  <a:gd name="textAreaBottom" fmla="*/ 1768680 h 17683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1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>
                  <a:gd name="textAreaLeft" fmla="*/ 360 w 545040"/>
                  <a:gd name="textAreaRight" fmla="*/ 545760 w 545040"/>
                  <a:gd name="textAreaTop" fmla="*/ 0 h 1032120"/>
                  <a:gd name="textAreaBottom" fmla="*/ 103248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99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7321D-F9EA-4E63-BCBD-273B5EEBCA24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8294760" cy="4782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Tahoma"/>
              </a:rPr>
              <a:t>感恩母亲</a:t>
            </a:r>
            <a:br>
              <a:rPr sz="8000"/>
            </a:br>
            <a:r>
              <a:rPr b="0" lang="zh-CN" sz="6600" spc="-1" strike="noStrike">
                <a:solidFill>
                  <a:srgbClr val="ff0000"/>
                </a:solidFill>
                <a:latin typeface="Tahoma"/>
              </a:rPr>
              <a:t>           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——</a:t>
            </a:r>
            <a:r>
              <a:rPr b="0" lang="zh-CN" sz="3200" spc="-1" strike="noStrike">
                <a:solidFill>
                  <a:srgbClr val="ff3300"/>
                </a:solidFill>
                <a:latin typeface="Tahoma"/>
              </a:rPr>
              <a:t>妇女节主题班会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ff3300"/>
                </a:solidFill>
                <a:latin typeface="Tahoma"/>
              </a:rPr>
              <a:t>                               六年三班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655" name="20100828221805123f8f1a5840a163715cd83b5c2ea713.mp3" descr=""/>
          <p:cNvPicPr/>
          <p:nvPr/>
        </p:nvPicPr>
        <p:blipFill>
          <a:blip r:embed="rId2"/>
          <a:stretch/>
        </p:blipFill>
        <p:spPr>
          <a:xfrm>
            <a:off x="8028000" y="6021360"/>
            <a:ext cx="50328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5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5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1904" fill="hold"/>
                                        <p:tgtEl>
                                          <p:spTgt spid="6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Black"/>
              </a:rPr>
              <a:t>结束：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4400" spc="-1" strike="noStrike">
                <a:solidFill>
                  <a:srgbClr val="ffffff"/>
                </a:solidFill>
                <a:latin typeface="Arial Black"/>
              </a:rPr>
              <a:t>感恩方案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4400" spc="-1" strike="noStrike">
                <a:solidFill>
                  <a:srgbClr val="ffffff"/>
                </a:solidFill>
                <a:latin typeface="Arial Black"/>
              </a:rPr>
              <a:t>：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8816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 Black"/>
              </a:rPr>
              <a:t>（一） 了解妈妈、长辈对我的爱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Arial Black"/>
              </a:rPr>
              <a:t>、 问一问妈妈，自己是怎样降临到这个世界上的，妈妈在怀着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ffffff"/>
                </a:solidFill>
                <a:latin typeface="Arial Black"/>
              </a:rPr>
              <a:t>我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1800" spc="-1" strike="noStrike">
                <a:solidFill>
                  <a:srgbClr val="ffffff"/>
                </a:solidFill>
                <a:latin typeface="Arial Black"/>
              </a:rPr>
              <a:t>的时候我有没有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ffffff"/>
                </a:solidFill>
                <a:latin typeface="Arial Black"/>
              </a:rPr>
              <a:t>调皮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1800" spc="-1" strike="noStrike">
                <a:solidFill>
                  <a:srgbClr val="ffffff"/>
                </a:solidFill>
                <a:latin typeface="Arial Black"/>
              </a:rPr>
              <a:t>。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Arial Black"/>
              </a:rPr>
              <a:t>、 和全家人一起看看小时候的照片，请爸爸妈妈讲讲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ffffff"/>
                </a:solidFill>
                <a:latin typeface="Arial Black"/>
              </a:rPr>
              <a:t>我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1800" spc="-1" strike="noStrike">
                <a:solidFill>
                  <a:srgbClr val="ffffff"/>
                </a:solidFill>
                <a:latin typeface="Arial Black"/>
              </a:rPr>
              <a:t>小时候的故事。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Arial Black"/>
              </a:rPr>
              <a:t>、 大家说说记忆中父母作出的最让自己感动的事情。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 Black"/>
              </a:rPr>
              <a:t>（二）了解妈妈、长辈的艰辛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Arial Black"/>
              </a:rPr>
              <a:t>、 听妈妈讲培养我成长的故事。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Arial Black"/>
              </a:rPr>
              <a:t>、 听妈妈讲他的工作、学习的故事。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 Black"/>
              </a:rPr>
              <a:t>（三）我们对妈妈、长辈的爱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Arial Black"/>
              </a:rPr>
              <a:t>、 想想我们对妈妈、长辈做过些什么？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Arial Black"/>
              </a:rPr>
              <a:t>、 说说还有哪些方面做得还不够，以后有什么打算？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 Black"/>
              </a:rPr>
              <a:t>（四）真情回馈、温情行动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Arial Black"/>
              </a:rPr>
              <a:t>、 为母亲、为奶奶、为外婆倒杯水，捶捶背、洗洗脚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Arial Black"/>
              </a:rPr>
              <a:t>、 给妈妈做一张画着自己小手的贺卡，写一篇真情酿成的美文，悄悄地放在妈妈的枕头底下！让妈妈感受到其中的甜蜜。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Black"/>
              </a:rPr>
              <a:t>名人 名言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①</a:t>
            </a: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人的嘴唇所能发出的最甜美的字眼，就是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母亲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，最美好的呼唤，就是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妈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。     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     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———</a:t>
            </a: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纪伯伦（黎巴嫩诗人、散文作家、画家）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②</a:t>
            </a: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在宽广博大的人生海洋中，母亲的爱就像一座小岛，是避开汹涌波涛的平安宁静之地。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———</a:t>
            </a: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莱斯（英国词人）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/>
          </p:nvPr>
        </p:nvSpPr>
        <p:spPr>
          <a:xfrm>
            <a:off x="539280" y="188640"/>
            <a:ext cx="82803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③</a:t>
            </a: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成功的时候，谁都是朋友。但只有母亲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…</a:t>
            </a: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，她是失败时的伴侣。            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———</a:t>
            </a: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郑振铎（中国文史家）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④</a:t>
            </a: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世界上其它一切都是假的、空的，惟有母爱才是真的、永恒的。             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———</a:t>
            </a: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普列姆昌德（印度小说家）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⑤</a:t>
            </a: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为什么母亲的温柔会感人泪下呢？因为母亲对儿女的操劳是无代价的。     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———</a:t>
            </a: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铃木健二（日本作家）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Picture 2" descr="0013"/>
          <p:cNvPicPr/>
          <p:nvPr/>
        </p:nvPicPr>
        <p:blipFill>
          <a:blip r:embed="rId1"/>
          <a:stretch/>
        </p:blipFill>
        <p:spPr>
          <a:xfrm>
            <a:off x="539640" y="404640"/>
            <a:ext cx="8128080" cy="6096240"/>
          </a:xfrm>
          <a:prstGeom prst="rect">
            <a:avLst/>
          </a:prstGeom>
          <a:ln w="0">
            <a:noFill/>
          </a:ln>
        </p:spPr>
      </p:pic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zh-CN" sz="8000" spc="-1" strike="noStrike">
                <a:solidFill>
                  <a:srgbClr val="ff0000"/>
                </a:solidFill>
                <a:latin typeface="Arial Black"/>
              </a:rPr>
              <a:t>祝妈妈节日快乐！</a:t>
            </a:r>
            <a:endParaRPr b="0" lang="en-US" sz="8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79" name="Picture 4" descr="Img200332510431587"/>
          <p:cNvPicPr/>
          <p:nvPr/>
        </p:nvPicPr>
        <p:blipFill>
          <a:blip r:embed="rId2"/>
          <a:stretch/>
        </p:blipFill>
        <p:spPr>
          <a:xfrm>
            <a:off x="685800" y="3429000"/>
            <a:ext cx="2266920" cy="2990880"/>
          </a:xfrm>
          <a:prstGeom prst="rect">
            <a:avLst/>
          </a:prstGeom>
          <a:ln w="0">
            <a:noFill/>
          </a:ln>
        </p:spPr>
      </p:pic>
      <p:pic>
        <p:nvPicPr>
          <p:cNvPr id="680" name="20100828221805123f8f1a5840a163715cd83b5c2ea713.mp3" descr=""/>
          <p:cNvPicPr/>
          <p:nvPr/>
        </p:nvPicPr>
        <p:blipFill>
          <a:blip r:embed="rId3"/>
          <a:stretch/>
        </p:blipFill>
        <p:spPr>
          <a:xfrm>
            <a:off x="7885080" y="5877000"/>
            <a:ext cx="71928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680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680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11904" fill="hold"/>
                                        <p:tgtEl>
                                          <p:spTgt spid="6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/>
          </p:nvPr>
        </p:nvSpPr>
        <p:spPr>
          <a:xfrm>
            <a:off x="468360" y="2565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妇女节又称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国际妇女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是世界各国妇女争取和平、平等、发展的节日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节期在每年三月八日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一个世纪以来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各国妇女为争取到这一权利做出了不懈的努力和斗争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WordArt 12"/>
          <p:cNvSpPr txBox="1"/>
          <p:nvPr/>
        </p:nvSpPr>
        <p:spPr>
          <a:xfrm>
            <a:off x="1547640" y="620640"/>
            <a:ext cx="5832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黑体"/>
              </a:rPr>
              <a:t>三八妇女节的来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0" y="836280"/>
            <a:ext cx="896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57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年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月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日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美国纽约的服装和纺织女工举行了一次抗议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反对非人道的工作环境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12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小时工作制和低薪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游行者被警察围攻并赶散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两年以后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又是在三月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这些妇女组织了第一个工会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08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年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月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日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1500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名妇女在纽约市游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要求缩短工作时间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提高劳动报酬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享有选举权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禁止使用童工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她们提出的口号是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面包和玫瑰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；面包象征经济保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玫瑰象征较好的生活质量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五月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美国社会党决定以二月的最后一个星期日做为国内的妇女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/>
          </p:nvPr>
        </p:nvSpPr>
        <p:spPr>
          <a:xfrm>
            <a:off x="456840" y="259920"/>
            <a:ext cx="84358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10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年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德国社会学家蔡特金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ClaraZetkin)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建议为了纪念美国服装工人的罢工应设定一天当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国际妇女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该建议被在哥本哈根召开的国际妇女社会学家会议接受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但并未定出具体日期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17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年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俄国妇女号召在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月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3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日罢工以要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面包和和平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抗议恶劣的工作环境和食物短缺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这天依据俄国使用的儒略历是当月的最后一个星期日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折合成欧洲广范使用的格里高历是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月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日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24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年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中国共产党在广州召开了第一次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三、八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节纪念大会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49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年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我国中央人民政府作出决定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将三月八日定为妇女节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该日全国妇女放假半天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举行各种仪式的纪念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祝庆活动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9152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77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年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2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月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联合国采纳了一项决议声明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联合国妇女权益和和平日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在一种的某一天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服从各成员国的历史和传统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对联合国而言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国际妇女节订为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月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日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且从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75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年开始南非妇女节时间有别于国际妇女节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56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年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月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日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数百名黑人妇女在比勒陀利亚举行示威游行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抗议当局推行种族隔离的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通行证法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新南非政府将这一天定为妇女节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以纪念南非妇女在争取平等斗争中所作的贡献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并将这一天定为全国公假日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从此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每年的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月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日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南非各地的妇女纷纷举行各种形式的庆祝活动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要求实现男女平等、结束党派冲突与暴力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保证妇女生存权益和反对性骚扰与性犯罪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以消除旧南非种族隔离制度造成的根深蒂固的歧视妇女的影响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Picture 2" descr="2289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3" descr="cd"/>
          <p:cNvPicPr/>
          <p:nvPr/>
        </p:nvPicPr>
        <p:blipFill>
          <a:blip r:embed="rId2"/>
          <a:stretch/>
        </p:blipFill>
        <p:spPr>
          <a:xfrm>
            <a:off x="3419640" y="3500280"/>
            <a:ext cx="2857320" cy="2981520"/>
          </a:xfrm>
          <a:prstGeom prst="rect">
            <a:avLst/>
          </a:prstGeom>
          <a:ln w="0">
            <a:noFill/>
          </a:ln>
        </p:spPr>
      </p:pic>
      <p:sp>
        <p:nvSpPr>
          <p:cNvPr id="663" name="Text Box 4"/>
          <p:cNvSpPr/>
          <p:nvPr/>
        </p:nvSpPr>
        <p:spPr>
          <a:xfrm>
            <a:off x="1676520" y="476280"/>
            <a:ext cx="5775120" cy="1312920"/>
          </a:xfrm>
          <a:prstGeom prst="rect">
            <a:avLst/>
          </a:prstGeom>
          <a:solidFill>
            <a:srgbClr val="e4f8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华文彩云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彩云"/>
              </a:rPr>
              <a:t>父母怎么给你过生日的？你知道父母的生日吗？你给他们过过生日吗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ru"/>
    <p:sndAc>
      <p:stSnd>
        <p:snd r:embed="rId3" name="chimes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Picture 2" descr="2345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5" name=""/>
          <p:cNvSpPr txBox="1"/>
          <p:nvPr/>
        </p:nvSpPr>
        <p:spPr>
          <a:xfrm>
            <a:off x="752040" y="1742400"/>
            <a:ext cx="7639920" cy="40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听故事，谈感想。</a:t>
            </a:r>
            <a:br>
              <a:rPr sz="4000"/>
            </a:br>
            <a:endParaRPr b="1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Picture 2" descr="217193"/>
          <p:cNvPicPr/>
          <p:nvPr/>
        </p:nvPicPr>
        <p:blipFill>
          <a:blip r:embed="rId1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  <p:sp>
        <p:nvSpPr>
          <p:cNvPr id="667" name=""/>
          <p:cNvSpPr txBox="1"/>
          <p:nvPr/>
        </p:nvSpPr>
        <p:spPr>
          <a:xfrm>
            <a:off x="792720" y="609840"/>
            <a:ext cx="7558560" cy="461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讨论：怎样让母亲过一个难忘的三八节？</a:t>
            </a:r>
            <a:br>
              <a:rPr sz="54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AutoShape 4"/>
          <p:cNvSpPr/>
          <p:nvPr/>
        </p:nvSpPr>
        <p:spPr>
          <a:xfrm>
            <a:off x="7620120" y="60199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45" h="21600">
                <a:moveTo>
                  <a:pt x="9966" y="7493"/>
                </a:moveTo>
                <a:lnTo>
                  <a:pt x="13474" y="7493"/>
                </a:lnTo>
                <a:lnTo>
                  <a:pt x="13474" y="12828"/>
                </a:lnTo>
                <a:cubicBezTo>
                  <a:pt x="13474" y="13751"/>
                  <a:pt x="14274" y="14482"/>
                  <a:pt x="15310" y="14482"/>
                </a:cubicBezTo>
                <a:lnTo>
                  <a:pt x="16972" y="14482"/>
                </a:lnTo>
                <a:cubicBezTo>
                  <a:pt x="18008" y="14482"/>
                  <a:pt x="18809" y="13751"/>
                  <a:pt x="18809" y="12828"/>
                </a:cubicBezTo>
                <a:lnTo>
                  <a:pt x="18809" y="7493"/>
                </a:lnTo>
                <a:lnTo>
                  <a:pt x="16972" y="7493"/>
                </a:lnTo>
                <a:lnTo>
                  <a:pt x="20480" y="3985"/>
                </a:lnTo>
                <a:lnTo>
                  <a:pt x="24153" y="7493"/>
                </a:lnTo>
                <a:lnTo>
                  <a:pt x="22317" y="7493"/>
                </a:lnTo>
                <a:lnTo>
                  <a:pt x="22317" y="12828"/>
                </a:lnTo>
                <a:cubicBezTo>
                  <a:pt x="22317" y="15596"/>
                  <a:pt x="19740" y="18155"/>
                  <a:pt x="16972" y="18155"/>
                </a:cubicBezTo>
                <a:lnTo>
                  <a:pt x="15310" y="18155"/>
                </a:lnTo>
                <a:cubicBezTo>
                  <a:pt x="12542" y="18155"/>
                  <a:pt x="9966" y="15596"/>
                  <a:pt x="9966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Picture 2" descr="0013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Arial"/>
              </a:rPr>
              <a:t>讨论：</a:t>
            </a:r>
            <a:r>
              <a:rPr b="0" lang="zh-CN" sz="7200" spc="-1" strike="noStrike">
                <a:solidFill>
                  <a:srgbClr val="ff0000"/>
                </a:solidFill>
                <a:latin typeface="Arial"/>
              </a:rPr>
              <a:t>以后我们该怎样回报父母？</a:t>
            </a:r>
            <a:endParaRPr b="0" lang="en-US" sz="72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671" name="Picture 4" descr="Img200332510431587"/>
          <p:cNvPicPr/>
          <p:nvPr/>
        </p:nvPicPr>
        <p:blipFill>
          <a:blip r:embed="rId2"/>
          <a:stretch/>
        </p:blipFill>
        <p:spPr>
          <a:xfrm>
            <a:off x="685800" y="3429000"/>
            <a:ext cx="226692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7T03:17:26Z</dcterms:created>
  <dc:creator>USER</dc:creator>
  <dc:description/>
  <dc:language>en-US</dc:language>
  <cp:lastModifiedBy>Administrator</cp:lastModifiedBy>
  <dcterms:modified xsi:type="dcterms:W3CDTF">2015-03-02T08:57:48Z</dcterms:modified>
  <cp:revision>5</cp:revision>
  <dc:subject/>
  <dc:title>感恩母亲 </dc:title>
</cp:coreProperties>
</file>