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DEE2-DBB6-4C61-B5D2-3B7E1421CD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C2F2-0222-4A46-AF3D-5C8018E350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45000-AC21-41A7-88B8-2E8C6290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9839B-04F4-47F9-ABBA-FACC4E7D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DC85D-4414-48D5-997B-B40865B2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02205-6CD1-433B-A108-07637B41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8D240-5DFF-47FB-A54A-B52079E4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135AD-ABE6-427C-870C-F1F2A403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6215F-41D2-4593-B636-4032825A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90468-270C-467D-B4ED-501E4C65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93323-66BE-44A4-BF69-4678E593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13EC5-C5DE-4196-BD6B-ECC079A2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7AAB4-4306-4167-BC2A-B3E86CCD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4EF8B-5EB9-4449-ADDD-0EF79759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5450F-F1C4-409D-BC55-469E94EE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F7BC5-5E7C-45F9-BAC6-54EA85EB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E9034-B6F8-425F-A713-D20F7296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BBD4E-EBA0-4F4F-AE98-E73A70A4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62E9F-BF2A-4A5B-81F5-8E90BFE0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2EA89-6C36-451F-93F0-10A7BE69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8640E-69A5-4A11-A8B3-DD1BA386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93277-0F3A-420C-BF81-9D47AE3F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D9503-FED4-4186-826A-49FB73FB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0E740-D158-4A99-860F-9AAA6509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47BDE-136B-40EE-B6E8-81DF99B6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F6FCE-E7A4-4EDD-8E4C-9709AE8B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DE118-3E40-42E6-A71E-D72C91AD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E695D-6513-4602-BE6A-52CC597E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F61A9-8D01-4836-AB8E-67800F61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A5783-AE3D-4B62-B872-E1A68F1B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5C874-992D-414F-B027-9AEB1090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03334-A983-4361-8D6D-83D6CF23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471-1331-4149-B722-EBBAB243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05F7A-4BB7-4E83-9110-4BC0ECCC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FEBF0-6709-4725-9AA1-544A7D6B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787C0-58B5-4BCD-AF8C-4A0C395F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B114E-E6E0-4283-99C6-C4947701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60693-D65B-4506-A310-F9F11743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F7145-5FBE-4E35-B112-41300F68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0BAE1-763E-4C70-91DE-30395A0F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113E8-D213-4A7B-B60C-5973352D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A907F-67DE-4B29-9AAC-96DA0150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A02EE-6294-4AB6-8F59-8234DDE4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E5BB-DFBB-43BB-8CA0-21B27196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AC7E8-8774-4ACA-8380-BF09D954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D1B26-4DBD-4A4F-A0FA-45E88974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F435B-0172-450F-BEED-1092C182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69FAE-6444-4126-9716-41614B3D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9EED0-0611-448C-AE3F-F00C4A24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46B58-CF57-48A3-B47A-7E8C7FD9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E6B2A-8C73-46E5-8E93-14A81279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AE038-7C28-4397-81B6-132FFA24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A15FC-15E7-4E82-BAFE-B0B035A5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24344-60D1-4697-9B07-FFFF2D79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313-A116-4AEB-B994-EC6642EC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0A20D-1B69-45D7-9AE8-6A16600B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A02B3-A656-472D-90C1-F4FF52D8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6712D-C86D-409F-9B88-1FE8B3ED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28838-BD3D-4273-BDA5-63FAFAB9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D7487-3F8D-4559-981F-35BD9800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FE3A7-6429-480C-B89B-416FDC09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9632D-6C71-4271-92E7-0CC09639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3E973-881D-4489-B9D8-7E178FF7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12D41-3454-4630-BF37-131F6805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8FC05-80D9-4561-AA10-116ECA6E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2ED-52DF-4AF2-AF3E-29AA1F0A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E4855-BED9-4DA9-8093-3AF6878B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909FA-B72D-43BC-931B-242778CF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4222D-12C7-4161-BF4B-F97A2F58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93DC4-2E06-4E02-AE53-A9CBA6E2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F3B68-5A16-4340-B274-0F6FD359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F0A76A-4574-4751-A97F-13B500DC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303DC-0405-4E1B-BD0A-5927E8C5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37A32-669B-4635-BEEF-E593587E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98C39-8F9C-41F8-938B-F0725A35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F2499B-C1F2-438D-ADEF-F09426FB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F65-DD65-482F-AAB0-B1906A53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EC4D2-BE50-4FC6-900A-64FE7722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3C226-0D77-4BD2-AE0E-977294A5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868C6-7B61-4B06-B9CC-D09DA474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6C719-F663-4270-9D82-E4CDD884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3B8A9-9661-43A7-A9AA-33A5E796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70B080-80BF-4C29-B0E8-FB4E3FAE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65678-D6AE-42B9-B78C-6EF79F00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28ACFC-B5ED-463D-B4C6-140F6D2B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F94EF-B28D-4F41-9AF9-E0883162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1167F-5A15-4F41-BB9D-695A791C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8070-46E3-4FDC-B409-230FD45F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B5A6B-C2AF-4B21-A66C-0B54CF88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347A30-6F67-48E5-B153-E12B0A3E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ED1FD0-4385-4A81-B752-28E367D3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7FACCA-72D9-4C8B-A998-946DE5D5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2871F-5C64-409C-9E82-41C2352A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960779-4DA8-42FB-8DD8-FC2DD345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5A80E-0FCE-4523-BB2E-2AED84FE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A27009-92C7-45C0-99A7-CCF6DEC8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20FAB-1D60-4BC2-8214-1CB0366C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38881A-A3FB-4D7E-A839-3083CD00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59BE-E6FE-42DE-8DDF-FBC1E295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5ED060-DC96-47EC-B703-D07637EE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9A8330-52FF-4318-8009-77D71ADA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DACD47-6910-4996-9636-02C5F55E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DA2EAA-499B-43D1-8E10-BA5108C6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7C5D26-482B-419C-82BB-CA6F96C9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49DCD7-6A86-4A7E-BD11-B86A8919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DC4D03-961B-4B33-B23E-6D0FC16D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808BD9-DE27-4E69-A924-02A434FE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5A3C03-B337-42EB-991E-77E0C557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F8315C-5B5B-4D1D-A737-7798D8E3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5CC-8444-472A-B6D4-EEF1E413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7DF99D-CBD6-4188-9AFB-C31CC7CB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1800EE-4558-4EE7-B5C4-D3FB9859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6F65C9-4A56-4FCE-9867-DF959735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04910A-3C66-4639-A76C-A5FC17C2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DEB1E5-11FC-47C4-80B8-1E424FEE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26567C-2265-4C3C-8ABA-A4A287F1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FD1A99-8C78-4266-97FA-6BB36EA8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BFD17D-17C1-4843-B84A-0019537D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C61E5D-97B7-4D7D-9531-BDCAC718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D3B81B-9323-4981-9A27-F66C1E8C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F74-0159-4515-9752-B4A134E1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BC849A-F284-428D-B611-17D270BC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622C8F-9341-41C4-BB55-B8A4A014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DBA66A-F14F-4CFC-B5E9-19110FA1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45D718-805D-43E0-BECC-351859D7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750F72-46FE-4E33-9482-95B3BE63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57C43B-8FB2-4625-B485-5AB283B1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DF5492-A5F4-4158-802D-D1EA8480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A77DCD-9FA3-4C92-B357-EF99031A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372B74-D44D-48CC-8C6F-AA356615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C7D95E-EF8D-4859-BC91-DEE123A2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6D1-2BB8-4649-A42B-010FD1AE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145A16-3263-4E82-BBEA-59B6A7E1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CE47E1-E196-4A4A-85BC-333C099C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17DE4-1A06-44F0-A509-50CFFBA0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931346-A3F3-4599-9E56-8E1D8E0E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2BC5F6-E792-4E56-8B52-301C67D7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154EF2-D7C2-46DC-92E5-2A33C66D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A48B35-A3A9-4F00-AF60-6F4130BE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BB4A23-9658-420A-BD0A-B2255840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AA6EF2-956A-4D2B-AB66-E9498988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A7756A-1D91-4538-BD1C-9E617229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DC7-2AFC-43CB-A67A-DC40B766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29C79E-B9F7-4605-A85A-F3C94DF9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B14B1A-A8FC-48B3-8359-093C16B0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39D058-B55A-4724-B96F-2C413AFF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E7C619-26DA-4E51-824D-9E104B0F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C86234-1E09-4C00-9E8E-3FBB23BB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8FD302-B028-4223-803D-13CA8C40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2BF2A8-357D-469C-9D96-83E2B063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6D6CB1-D44B-42EB-A75E-AF57DF55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F75BCA-0D29-4513-BD7E-DD736172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DAAF0A-299D-4147-AEF1-54A161C6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902-9195-47DB-829D-CE191527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D1A888-4651-4B1D-8066-82FD3CEA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A1CF76-2534-4C7B-9BBA-46EFA4AB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084D2D-B2DB-4571-A1A1-83FFB3F5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1C205F-EE9E-4B21-9D6C-0EF2FB51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4875E0-0319-4981-B6A6-076FD762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D8EA1D-7628-497F-90A9-B39C18B8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08B915-D0FE-491E-9CDC-10492A6B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C8E136-7D37-4FD6-AB9E-48685439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E04254-1EC2-49EB-BDA1-2CAE7D39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DBBF3D-D77F-469F-8A86-480EED22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B621-DCC2-4C2F-A17A-0B87C3EC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04D20E-C594-4D71-9CF1-92D16B37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03AAF5-B4CE-4B47-8BD2-8DB4A6DE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E93EBC-D563-4162-9BBA-356D8BD3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4AEA91-9231-415F-B195-4BE337BB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4E06F0-3590-4EED-8935-409F94D3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8D50A6-DC4E-4790-AB8A-9F55D388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BF6F7D-7A64-4B50-9C36-1C9C0C0C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178A32-546B-4BE5-952D-26DD4D51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D2AB3B-DEA3-43EF-A3F1-5154F277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343251-737E-400A-8CFC-231E7A60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378E-1678-4E4A-87B1-D4F03AC6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3805D8-2415-4A3B-A446-71528E10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0A33C7-ACBA-40AE-84DD-1D0CA5F3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6E896C-0C6A-4A0A-A669-40F6F18F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BDDBB5-22D7-4961-9868-6AF56F8F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1B8D7E-1706-47D3-A6BD-FB340172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E4D3-461E-4448-98AA-5C289857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D75B-856A-4093-A622-6E5D075D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F2A6-40A3-489F-A5E7-B9F0D6B8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4A20-8020-4860-91D7-98869AA5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A376-1243-46C3-9DE0-66650FB7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6D25-B42F-419B-8FC7-8AE7760E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BCD9-6450-415A-ADED-F13F3757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CFB6-CC7D-4B23-8FAE-46507D26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7B73-D75A-482F-A32B-C4FE7385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7893-EE54-43FF-A829-D9D1F0A0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D9ED6-8AB9-4448-9A89-72E0EF6F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90561-B33A-4800-8ECB-B3C798B8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6FA93-D489-49DD-8353-F70C3AE0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B54C4-2F11-4449-A4A1-D9155906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0D92F-4B91-47A6-A168-3C007EAE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46A91-2EE8-47BA-A8B2-BC10AAB6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E86E5-0558-40A7-B8A3-80EB7B78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A0877-426C-4B1B-B434-F52652F2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D8458-3304-4505-91B5-6E24BF37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D7AF9-688E-437A-978E-1D252E8B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85A90-41DA-4870-8CB3-F809DDD6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73F01-7481-47F4-B8CB-C86DEA63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BDBC2-7615-40C3-B4EF-C037D837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60C74-10D2-4C17-933C-CC2BB2D5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33E47-DB2F-419C-84B9-5497C48E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51A64-2439-43BC-8663-B3F6794B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E96CF-33F7-49C8-B5EA-B1BDE3E8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B6674-451F-4EC9-BC21-CD214102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821AE-7EEC-47C1-9AC1-4A63F085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AD529-B27F-41E9-AFEC-C0E56539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967E8-9749-4B51-827C-29428760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1F7A0-00AF-4EB8-870E-02A5E661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443DD-54B0-4860-AC4A-ED244DB6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00A41-0CBC-4A50-BEF0-0D3B6061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B9B33-EA65-44F1-8C1D-63D09713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6ACBC-A8A2-4AAB-B535-371F3CAD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21CBE-A235-4CE9-A381-B3B9F248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BFFFF-91C6-401E-8317-EF32A7AB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2D8A4-A76A-4A09-9262-813714BA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9B5D0-59EC-4F3B-83AD-7FD6A3EB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87017-39C7-40E3-8A85-0C952BD2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DAF9A-277E-4367-BDE4-C24F3707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7B0F1-0D5B-40FD-A623-AAB4C175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6264A-2A82-4496-8D12-C15807E5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F56CD-B8E9-4A19-8A1D-2F848BEC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3227A-9DE2-44E5-B0F9-6096C15F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6024B-535F-4ED6-890B-45B8D05D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67611-D28F-4C21-AC0E-6968543E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7A327-2140-45A4-98A8-3FCE492C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1BFCA-C2A9-4972-9A57-FBC71B38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EAF7B-D95B-4638-836A-7F418825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E180D-045E-4639-8E80-D833065D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DFD89-EDCE-49F9-BB62-4C31872C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598F6-B95C-458F-A3E5-3B388064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425C8-B6A7-4D0C-A77F-506D7F82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6492C-FCCC-486E-9508-4A7CB95E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4E3E4-DC4C-432D-8E77-8F4A2235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C4DEE-89BF-4DEA-BD0F-A1362C2F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5EC67-7482-4743-8116-BFA03894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F6AA1-6260-4589-8576-3DC41047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EB0DD-ABB6-4794-BE00-CA652638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337FF-3E03-4B78-A8AC-6C0B8539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FD53B-8642-4BCA-AFB8-57723614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861C6-5D17-44F0-AD9E-574C9EDE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F5A52-573B-4868-B01C-CFCF1AC2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E494B-722C-4265-BDF6-D3B6505A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7BC44-3523-460B-8704-68AC4130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814F8-CE37-4F3B-958A-3B927E57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5AEA4-C098-43FB-9B45-394C74EC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09C17-37D3-45D0-860F-5D836493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248F0-B905-4B03-9B76-4BC179A3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487D0-6B36-4B89-883E-6BFED219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73A06-7503-4F99-A30B-86C8C313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2EE7-A718-4184-ACAF-BBE5BAFDC210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29D1-6135-4C61-88F2-F3DFF725FEEC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93E0-5B10-4E36-9B2B-45EB3A8522AD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63F7-B9AE-457B-B684-9BC378E40D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0655-18F6-48A4-9A17-EF91ED1F0D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1147-A1FC-40E1-9EBE-90CDC7C357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F93C-C91F-4F2F-8CF1-181D52187E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CCA1-9CE2-4191-8299-AAEBF00F54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5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6EFA-29FF-40BA-8B3C-A93E86CD3E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0254-1A1A-494A-83C8-5C8BFC4FC8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2A8D-2D15-4470-AE4B-ED4622C16A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5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5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5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B334-B4A4-4C03-821E-760AB4691E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5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6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ECD1-EA4D-4A0E-9949-4E7756A059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6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6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6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647B-5BCC-4D4C-A4CF-0C8023942C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72A6-7AD8-4128-BF18-E8D149776B77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39DA-8EDF-4FBE-8939-2D4721353A89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FE2F-755E-40C7-8188-B93BC4E70B5B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3ADA-0D6E-43F0-88A3-8ED89E60A578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E694-AAF8-4105-8142-A5DBF3926675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9CBF-5549-4562-AE84-E3C48AA2DFBD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243E-D5A7-4A3C-81B6-EC442C165553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矩形 11"/>
          <p:cNvSpPr/>
          <p:nvPr/>
        </p:nvSpPr>
        <p:spPr>
          <a:xfrm>
            <a:off x="684360" y="469440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5" name="图片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sp>
        <p:nvSpPr>
          <p:cNvPr id="886" name="TextBox 2"/>
          <p:cNvSpPr/>
          <p:nvPr/>
        </p:nvSpPr>
        <p:spPr>
          <a:xfrm>
            <a:off x="225720" y="13176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4"/>
          <p:cNvSpPr/>
          <p:nvPr/>
        </p:nvSpPr>
        <p:spPr>
          <a:xfrm>
            <a:off x="5219280" y="276120"/>
            <a:ext cx="25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BroadwayEngraved BT"/>
              </a:rPr>
              <a:t>HAPP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5"/>
          <p:cNvSpPr/>
          <p:nvPr/>
        </p:nvSpPr>
        <p:spPr>
          <a:xfrm>
            <a:off x="5457600" y="950760"/>
            <a:ext cx="30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roadwayEngraved BT"/>
              </a:rPr>
              <a:t>NEW  Y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6"/>
          <p:cNvSpPr/>
          <p:nvPr/>
        </p:nvSpPr>
        <p:spPr>
          <a:xfrm>
            <a:off x="4954320" y="1536840"/>
            <a:ext cx="125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alibri"/>
              </a:rPr>
              <a:t>2015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7"/>
          <p:cNvSpPr/>
          <p:nvPr/>
        </p:nvSpPr>
        <p:spPr>
          <a:xfrm>
            <a:off x="6252840" y="14461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8"/>
          <p:cNvSpPr/>
          <p:nvPr/>
        </p:nvSpPr>
        <p:spPr>
          <a:xfrm>
            <a:off x="7328880" y="1581120"/>
            <a:ext cx="531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心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9"/>
          <p:cNvSpPr/>
          <p:nvPr/>
        </p:nvSpPr>
        <p:spPr>
          <a:xfrm>
            <a:off x="7145280" y="2257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图片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894" name="组合 6"/>
          <p:cNvGrpSpPr/>
          <p:nvPr/>
        </p:nvGrpSpPr>
        <p:grpSpPr>
          <a:xfrm>
            <a:off x="3240" y="324000"/>
            <a:ext cx="7808760" cy="684000"/>
            <a:chOff x="3240" y="324000"/>
            <a:chExt cx="7808760" cy="684000"/>
          </a:xfrm>
        </p:grpSpPr>
        <p:sp>
          <p:nvSpPr>
            <p:cNvPr id="895" name="剪去单角的矩形 2"/>
            <p:cNvSpPr/>
            <p:nvPr/>
          </p:nvSpPr>
          <p:spPr>
            <a:xfrm flipH="1" flipV="1" rot="10800000">
              <a:off x="2880" y="324000"/>
              <a:ext cx="7808760" cy="684000"/>
            </a:xfrm>
            <a:custGeom>
              <a:avLst/>
              <a:gdLst/>
              <a:ahLst/>
              <a:rect l="l" t="t" r="r" b="b"/>
              <a:pathLst>
                <a:path w="1345550" h="1345548">
                  <a:moveTo>
                    <a:pt x="0" y="0"/>
                  </a:moveTo>
                  <a:lnTo>
                    <a:pt x="1273851" y="2145"/>
                  </a:lnTo>
                  <a:lnTo>
                    <a:pt x="1345550" y="1345548"/>
                  </a:lnTo>
                  <a:lnTo>
                    <a:pt x="0" y="13455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TextBox 8"/>
            <p:cNvSpPr/>
            <p:nvPr/>
          </p:nvSpPr>
          <p:spPr>
            <a:xfrm>
              <a:off x="5937480" y="412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sp>
        <p:nvSpPr>
          <p:cNvPr id="898" name="TextBox 2"/>
          <p:cNvSpPr/>
          <p:nvPr/>
        </p:nvSpPr>
        <p:spPr>
          <a:xfrm>
            <a:off x="189360" y="13176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TextBox 4"/>
          <p:cNvSpPr/>
          <p:nvPr/>
        </p:nvSpPr>
        <p:spPr>
          <a:xfrm>
            <a:off x="4308840" y="151452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roadwayEngraved BT"/>
              </a:rPr>
              <a:t>HAPPY NEW YE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extBox 5"/>
          <p:cNvSpPr/>
          <p:nvPr/>
        </p:nvSpPr>
        <p:spPr>
          <a:xfrm>
            <a:off x="4562640" y="906480"/>
            <a:ext cx="33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roadwayEngraved BT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03:06:06Z</dcterms:created>
  <dc:creator>f</dc:creator>
  <dc:description/>
  <dc:language>en-US</dc:language>
  <cp:lastModifiedBy>admin</cp:lastModifiedBy>
  <dcterms:modified xsi:type="dcterms:W3CDTF">2014-12-30T06:28:57Z</dcterms:modified>
  <cp:revision>417</cp:revision>
  <dc:subject/>
  <dc:title>PowerPoint 演示文稿</dc:title>
</cp:coreProperties>
</file>