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894-854B-42AF-A172-C21EC3E4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EC8-4F4B-4FFB-A08F-B53031C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62B-5472-4051-9AD2-1A739235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722-9DED-4308-A677-1E1429AC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AA2-AA9D-4821-A57B-A8E506C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754-F795-4B81-8E6F-DE832AA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C21-113A-4C11-9A4F-6A9593D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2AD-61DE-44B6-B62D-3E97F92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E64-9F4A-46E7-8515-02F68CE7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8CD-CE1C-4571-B19A-1D79679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3BA-298B-4655-87A6-336A26C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9D8-7E56-4A84-A421-65808AE2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BDF4-7277-43D2-AB73-9C439B05C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护士节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9882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783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214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78628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25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64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165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83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91656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568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8T02:07:26Z</dcterms:modified>
  <cp:revision>41</cp:revision>
  <dc:subject/>
  <dc:title>幻灯片 1</dc:title>
</cp:coreProperties>
</file>