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C77-51BD-44AA-A9C3-E0B01B82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D46-6514-4B31-A280-96C71AC4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0E8-0922-432F-B102-DB2912A1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312-1E72-40DF-9374-C4AFA622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C70-8DE5-40A6-AD5C-A3395C42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04D-5F2F-4016-B156-652CD5FA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535-5798-4592-BADE-190ED1A3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496-A84F-47C1-8906-B3D0CD9B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9858-ABE4-4FE5-A342-783F5FAA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AC4-DAF6-4869-9120-A3168C67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FF3-3EAF-47EE-ACAE-C4A5E27C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978-71FD-4C20-A089-F822F464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335C-3D2C-4F93-89F0-C858E58E659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FF40-52FE-4D7C-8D8A-D3F360DBA4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幻灯片2"/>
          <p:cNvPicPr/>
          <p:nvPr/>
        </p:nvPicPr>
        <p:blipFill>
          <a:blip r:embed="rId1"/>
          <a:stretch/>
        </p:blipFill>
        <p:spPr>
          <a:xfrm>
            <a:off x="1584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矩形 2"/>
          <p:cNvSpPr/>
          <p:nvPr/>
        </p:nvSpPr>
        <p:spPr>
          <a:xfrm>
            <a:off x="5140800" y="1969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华文隶书"/>
                <a:ea typeface="华文隶书"/>
              </a:rPr>
              <a:t>茶园茶山背景幻灯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3"/>
          <p:cNvSpPr/>
          <p:nvPr/>
        </p:nvSpPr>
        <p:spPr>
          <a:xfrm>
            <a:off x="4788000" y="866880"/>
            <a:ext cx="3744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" name="矩形 2"/>
          <p:cNvSpPr/>
          <p:nvPr/>
        </p:nvSpPr>
        <p:spPr>
          <a:xfrm>
            <a:off x="471960" y="39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8" name="矩形 2"/>
          <p:cNvSpPr/>
          <p:nvPr/>
        </p:nvSpPr>
        <p:spPr>
          <a:xfrm>
            <a:off x="471960" y="39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152360" y="213984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152360" y="298440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2.</a:t>
            </a: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152360" y="383076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3.</a:t>
            </a: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3" name="矩形 2"/>
          <p:cNvSpPr/>
          <p:nvPr/>
        </p:nvSpPr>
        <p:spPr>
          <a:xfrm>
            <a:off x="762480" y="398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1152360" y="213984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双击输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02:10:00Z</dcterms:created>
  <dc:creator>lxyia_000</dc:creator>
  <dc:description/>
  <cp:keywords/>
  <dc:language>en-US</dc:language>
  <cp:lastModifiedBy>Administrator</cp:lastModifiedBy>
  <dcterms:modified xsi:type="dcterms:W3CDTF">2015-01-04T02:34:12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