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11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3.gif" ContentType="image/gif"/>
  <Override PartName="/ppt/media/image6.png" ContentType="image/png"/>
  <Override PartName="/ppt/media/image8.gif" ContentType="image/gif"/>
  <Override PartName="/ppt/media/image15.png" ContentType="image/png"/>
  <Override PartName="/ppt/media/image18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164-0459-41D1-B9F7-1370356A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B79-391F-4068-AB05-4FB613D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4C7-C680-44EB-91F5-65B86ED2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80F-886D-48B5-960B-7966A0C5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209B-5B5A-44F7-803D-B1852BE0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B810-7A96-4D46-ADCF-27033DC7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C09-C982-49B8-B1B7-069CC0E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C867-54A1-4355-A86A-AE0BF60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0AF-3A2F-4963-BF78-DC5F86BD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459-BF8F-4033-BE20-640115B4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609D-4468-4379-9D8B-99BC6FD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10C-9B22-4C98-A45A-F83DF415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57D0-E9F6-4D06-951C-BD318E6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B284-E28A-4E49-94B5-A5BA62B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169-7EEE-47B1-8A5A-542282F5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6EA-3B7F-411D-AA7A-DA7A835F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7459-2F40-4627-B93C-4876556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881-772D-412F-B4CC-2AB62EC8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EC4-3078-4ED4-8F99-A35143A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9CD-BB45-4239-A6BB-D70C49A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670-A868-415B-816A-062F0AC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510-0063-401C-9D3B-0EA04AC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C51-FF47-4C45-9C11-4F01C6B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2CC-95D7-4A86-A9FE-63296439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BE2D-052C-49DE-AD14-4AEB9DDAA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C424-93C7-4B68-872B-724E95E340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abaoku.com/gif/biaoshi/031/web/05e.htm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前言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学们，经过全体师生不懈的努力，我们已经完成了本学期的学习任务，从今天开始起，学校就正式放寒假，同学们就要过寒假生活。而寒假期间，又恰逢中华民族最隆重的佳节，为了使每位同学健康地度过寒假，愉快地欢度春节，根据有关精神，特向同学们提出以下要求，望同学们认真执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340640" y="624240"/>
            <a:ext cx="7437600" cy="808200"/>
          </a:xfrm>
          <a:prstGeom prst="rect">
            <a:avLst/>
          </a:prstGeom>
          <a:noFill/>
          <a:ln w="28440">
            <a:solidFill>
              <a:srgbClr val="5490a8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82406"/>
              </a:buClr>
              <a:buFont typeface="Wingdings" charset="2"/>
              <a:buChar char="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4400" spc="-1" strike="noStrike">
                <a:solidFill>
                  <a:srgbClr val="d82406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d82406"/>
                </a:solidFill>
                <a:latin typeface="Times New Roman"/>
              </a:rPr>
              <a:t>交通安全小知识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1628640"/>
            <a:ext cx="435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通信号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绿灯亮时，准许行人通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黄灯亮时，不准行人通行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但已进入人行道的行人，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继续通行；红灯亮时，不准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通行；黄灯闪烁时，行人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确保安全的原则下通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1844640"/>
            <a:ext cx="3564000" cy="2346480"/>
          </a:xfrm>
          <a:prstGeom prst="cloudCallout">
            <a:avLst>
              <a:gd name="adj1" fmla="val -94990"/>
              <a:gd name="adj2" fmla="val 95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上幼儿园的时候就知道了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你做到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5516640"/>
            <a:ext cx="8077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红灯停，绿灯行，黄灯亮了等一等！</a:t>
            </a:r>
            <a:endParaRPr b="0" i="1" lang="en-US" sz="40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7" name="" descr="交通红绿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1368360" cy="47628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居家安全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家庭应该是每个人最安全的生活和休息场所。但是仔细想一下，家庭中也存在着不少危险源呢，比如说谁家也离不了电，烧菜做饭的燃料或燃气等等。这些危险源的存在决定了家庭内也有发生事故伤害的可能。所以，居家安全注意事项也请大家牢记在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  </a:t>
            </a: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居家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安全之电器安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一、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家庭安全用电“十忌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、忌铜丝或铁丝代替保险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、忌湿手、湿布更换或擦拭灯泡、  灯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、忌用手触及灯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、忌伤湿膏代替绝缘胶布包裹破损电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SimSun"/>
              </a:rPr>
              <a:t>、忌用普通剪刀切削带电电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32000" y="2060640"/>
            <a:ext cx="5410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忌用单线或软线敷设墙壁暗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忌直接用水浇电器火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忌将镇流器直接固定在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8W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台灯的金属外壳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忌台扇、落地扇以及洗衣机、电冰箱等电器用两孔电源插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忌用手直接去营救触电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3573360"/>
            <a:ext cx="2260440" cy="261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</a:t>
            </a: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居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安全之电器安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81080" y="4572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居家</a:t>
            </a:r>
            <a:r>
              <a:rPr b="1" lang="zh-CN" sz="4400" spc="-1" strike="noStrike">
                <a:solidFill>
                  <a:srgbClr val="ffffcc"/>
                </a:solidFill>
                <a:latin typeface="Tahoma"/>
                <a:ea typeface="標楷體"/>
              </a:rPr>
              <a:t>安全之煤气安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924360" cy="5257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87280" y="1584360"/>
            <a:ext cx="3816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一、使用煤气前应注意什么？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使用煤气必须注意是否有臭味，确认无漏气时再开火使用，并注意通风要良好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二、使用煤气钢瓶应注意什么？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钢瓶请注意检验期限，并附有检验合格标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钢瓶请直立，且避免受猛烈震动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放置于通风良好且避免日晒场所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不可将钢瓶放倒使用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钢瓶上不可放置物品，以免引燃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81080" y="4572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ahoma"/>
                <a:ea typeface="標楷體"/>
              </a:rPr>
              <a:t>居家</a:t>
            </a:r>
            <a:r>
              <a:rPr b="1" lang="zh-CN" sz="4400" spc="-1" strike="noStrike">
                <a:solidFill>
                  <a:srgbClr val="ffffcc"/>
                </a:solidFill>
                <a:latin typeface="Tahoma"/>
                <a:ea typeface="標楷體"/>
              </a:rPr>
              <a:t>安全之煤气安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16000" y="1463760"/>
            <a:ext cx="43927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三、使用煤气空气不足，而产生一氧化碳中毒应该怎么办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?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关闭煤气开关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打开门窗通风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提供伤者新鲜空气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解开束缚、畅通呼吸道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煤气异味散去之前，勿开启或关闭任何电源开关，以免产生火花引起火灾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四、一氧化碳中毒有那些症状？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会头痛、头晕、恶心、呕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会强烈虚脱感、呼吸及脉搏加速、意识模糊，身体无法自主移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脸色潮红、意识丧失、呼吸停止、痉孪，导致心跳停止而死。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64000" y="1600200"/>
            <a:ext cx="3780000" cy="525780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居家安全之消防安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14800" cy="4821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962520" cy="4800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10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居家安全之消防安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92280"/>
            <a:ext cx="4267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SimSun"/>
              </a:rPr>
              <a:t>家庭火灾</a:t>
            </a:r>
            <a:r>
              <a:rPr b="1" lang="zh-CN" sz="1600" spc="-1" strike="noStrike">
                <a:solidFill>
                  <a:srgbClr val="ffffff"/>
                </a:solidFill>
                <a:latin typeface="SimSun"/>
              </a:rPr>
              <a:t>:    </a:t>
            </a:r>
            <a:r>
              <a:rPr b="0" lang="zh-CN" sz="1800" spc="-1" strike="noStrike">
                <a:solidFill>
                  <a:srgbClr val="ffffcc"/>
                </a:solidFill>
                <a:latin typeface="SimSun"/>
              </a:rPr>
              <a:t>随着社会的发展人们生活日益富足、安康，但全民整体的消防意识、消防工作落实不足火灾并没有因此收敛它肆虐的脾性，而且越来越猖狂。家庭火灾每年都呈现逐步上升趋势，</a:t>
            </a:r>
            <a:r>
              <a:rPr b="0" lang="zh-CN" sz="1800" spc="-1" strike="noStrike">
                <a:solidFill>
                  <a:srgbClr val="ff0000"/>
                </a:solidFill>
                <a:latin typeface="SimSun"/>
              </a:rPr>
              <a:t>约占总体火灾比例的近</a:t>
            </a:r>
            <a:r>
              <a:rPr b="0" lang="zh-CN" sz="1800" spc="-1" strike="noStrike">
                <a:solidFill>
                  <a:srgbClr val="ff0000"/>
                </a:solidFill>
                <a:latin typeface="SimSun"/>
              </a:rPr>
              <a:t>60</a:t>
            </a:r>
            <a:r>
              <a:rPr b="0" lang="zh-CN" sz="1800" spc="-1" strike="noStrike">
                <a:solidFill>
                  <a:srgbClr val="ff0000"/>
                </a:solidFill>
                <a:latin typeface="SimSun"/>
              </a:rPr>
              <a:t>％</a:t>
            </a:r>
            <a:r>
              <a:rPr b="0" lang="zh-CN" sz="1800" spc="-1" strike="noStrike">
                <a:solidFill>
                  <a:srgbClr val="ff0000"/>
                </a:solidFill>
                <a:latin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SimSun"/>
              </a:rPr>
              <a:t>家庭火灾的预防、扑救</a:t>
            </a:r>
            <a:r>
              <a:rPr b="1" lang="zh-CN" sz="2000" spc="-1" strike="noStrike">
                <a:solidFill>
                  <a:srgbClr val="003366"/>
                </a:solidFill>
                <a:latin typeface="SimSu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3794040"/>
            <a:ext cx="4343400" cy="2987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327560" cy="2987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572000" y="898560"/>
            <a:ext cx="4327560" cy="27590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280" y="1752120"/>
            <a:ext cx="4438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SimSun"/>
              </a:rPr>
              <a:t>发生火警不要惊慌失措，要保持镇静，火警电话号码</a:t>
            </a:r>
            <a:r>
              <a:rPr b="1" lang="zh-CN" sz="2000" spc="-1" strike="noStrike">
                <a:solidFill>
                  <a:srgbClr val="ffffcc"/>
                </a:solidFill>
                <a:latin typeface="SimSun"/>
              </a:rPr>
              <a:t>119</a:t>
            </a:r>
            <a:r>
              <a:rPr b="1" lang="zh-CN" sz="2000" spc="-1" strike="noStrike">
                <a:solidFill>
                  <a:srgbClr val="ffffcc"/>
                </a:solidFill>
                <a:latin typeface="SimSun"/>
              </a:rPr>
              <a:t>要记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（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1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）火警电话打通后，应讲清楚着火单位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,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所在区县，街道，门牌或乡村的详细地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（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2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）要讲清什么东西着火，火势怎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（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3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）要讲清是平房还是楼房，最好能讲清起火部位，燃烧物质和燃烧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（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4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）报警人要讲清自己姓名，工作单位和电话号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（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5</a:t>
            </a: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）报警后要派专人在街道路口或村口等候消防车到来，指引消防车去 火场的道路，以便迅速，准确到达起火地点。</a:t>
            </a:r>
            <a:br>
              <a:rPr sz="2000"/>
            </a:br>
            <a:r>
              <a:rPr b="0" lang="zh-CN" sz="2000" spc="-1" strike="noStrike">
                <a:solidFill>
                  <a:srgbClr val="ffffcc"/>
                </a:solidFill>
                <a:latin typeface="SimSun"/>
              </a:rPr>
              <a:t>    发现火警应及时报警，这是每个公民的责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居家安全之消防安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657600" cy="236232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4840" y="590400"/>
            <a:ext cx="531036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cc"/>
                </a:solidFill>
                <a:latin typeface="Times New Roman"/>
                <a:ea typeface="华文新魏"/>
              </a:rPr>
              <a:t>   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572000" cy="2666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3962520"/>
            <a:ext cx="4572000" cy="2819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4572000" cy="2895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4648320" cy="2743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33336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居家安全之消防安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一：关爱自己，增强安全意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老师们和各位的家长每天所最惦记的就是你们的健康和安全。同学们要牢固树立“安全第一”的思想，懂得安全的重要意义，做到：安全第一，从我做起；安全第一，从小事做起。关注安全，关爱生命。我要安全，我懂安全。时时讲安全，事事讲安全，人人讲安全，保证人人都安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0023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不要通过任何渠道让其它人知道你存放有贵重物品在家里，即使是你再好的朋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即使是在家里，也不要存放大量的现金或金银首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请注意安全使用燃气或煤气，使用安全合格的燃气器具，防止泄漏；</a:t>
            </a:r>
            <a:r>
              <a:rPr b="0" lang="zh-TW" sz="2400" spc="-1" strike="noStrike">
                <a:solidFill>
                  <a:srgbClr val="000000"/>
                </a:solidFill>
                <a:latin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35640" y="4149720"/>
            <a:ext cx="3556080" cy="24796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80880" y="4114800"/>
            <a:ext cx="449604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7280" y="4437000"/>
            <a:ext cx="41054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请注意安全使用热水器，使用煤气热水器时务必注意安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建议在家里放置灭火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居家安全注意事项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出门前请检查门窗是否全部锁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请检查您家里的阳台、窗户是否容易让其它人侵入，如翻越、攀爬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任何未经核实的送货上门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维修人员，先通过可视对讲系统或猫眼观察，再打开门确认，但确保防盗门或安全锁是锁上的，尤其要提醒家里的老人和小孩；任何时候，不要给上门推销的人员开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临近春节，又是入室盗窃和抢劫案高发时期，请大家切实注意防范；</a:t>
            </a:r>
            <a:r>
              <a:rPr b="0" lang="zh-TW" sz="28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居家安全注意事项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公共治安防范。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公共治安防范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参加大规模公众活动时，入场前就要看清楚出口所在和各种逃生标识。切记：进入场地时的通道未必是最安全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如果是在足球场、舞厅、大型商场等人多的地方，除了出入通道，还应该事先观察是否有其他逃生途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体育场内最安全的地方是球场草地，因此如果发生意外的话，没有必要一定从进出通道挤出去。留在人群后面至少十五分钟，让大部分人散去才离开是一种安全的选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如果观看的是一场激烈的比赛，双方球迷情绪又比较激动的话，看完球赛后一定不要忘记除去身上表示所拥戴球队的任何标识，以免遭到另一球队的球迷视为报复目标。据统计，大部分伤亡事件都是发生在比赛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观看大型演唱会时，一定要注意看台的踏板是否牢固，不要和狂热的歌迷们一起站在踏板上，以防踏板不够牢固，造成摔伤事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．如果大型文体活动现场发生意外事故，不要盲目跟随人群拥挤逃窜，稳定住惶恐心理后，仔细观察周围场地，寻找逃生机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8101080" cy="566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公共治安防范之火場逃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上街安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17733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请避免携带手提电脑等贵重物品外出，请勿携带有明显标记的贵重物品提包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、在街上行走，请选择路基内侧，并请妥善保管好您的手提包，切勿随意地背、挎在肩上；请注意骑摩托车抢劫几乎都发生在马路边上或自行车道中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003640" y="1676520"/>
            <a:ext cx="4064040" cy="4419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6172200" y="6165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Rotis Sans Serif for Nokia"/>
                <a:ea typeface="華康特粗黑體"/>
              </a:rPr>
              <a:t>作案工具</a:t>
            </a:r>
            <a:r>
              <a:rPr b="1" lang="zh-CN" sz="2000" spc="-1" strike="noStrike">
                <a:solidFill>
                  <a:srgbClr val="ff3300"/>
                </a:solidFill>
                <a:latin typeface="Rotis Sans Serif for Nok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4114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任何时候避免坐“摩的”；骑、坐摩托车时，请勿随意将手提包和袋背在背上、挎在肩上，最好是捂在身前或放进车箱里</a:t>
            </a:r>
            <a:r>
              <a:rPr b="0" lang="zh-TW" sz="28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等公车时，请退到路基内侧掏钱包拿钱买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、上、下公交车时请不要拥挤在人群里，避免偷窃；下公交车或出租车时，请选择人多的地方，尤其是晚上；</a:t>
            </a:r>
            <a:r>
              <a:rPr b="0" lang="zh-TW" sz="28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上街安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57600" cy="4876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10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31640" y="1557000"/>
            <a:ext cx="3886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、单人乘坐出租车时（尤其在晚上），请记住车牌号，一旦发现异常，马上打电话联系家人或朋友，并大声地告诉对方您所乘车辆的车牌号和目的地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、将物品放在私家车和出租车的后排或尾箱时，请确保车后门、后窗和尾箱已锁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、避免经过偏僻、阴暗的角落或区域，避免晚上单人上街，确实因事太晚时，请安排家人在路口等候；请注意在夜晚单身女性最容易成为被侵害对象，请注意女性在夜晚要避免单独与陌生人同乘一部电梯；</a:t>
            </a:r>
            <a:r>
              <a:rPr b="0" lang="zh-TW" sz="32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上街安全注意事項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775240" cy="31240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940360" y="53344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Rotis Sans Serif for Nokia"/>
              </a:rPr>
              <a:t>出门钱财不显眼，可放在衣内口袋里，并扣好钮扣和拉链</a:t>
            </a:r>
            <a:r>
              <a:rPr b="1" lang="zh-CN" sz="1400" spc="-1" strike="noStrike">
                <a:solidFill>
                  <a:srgbClr val="ffffff"/>
                </a:solidFill>
                <a:latin typeface="Rotis Sans Serif for Nok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、请注意人与人之间有效的安全距离是保持一臂长（约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75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公分）以上；在街上必须随时保持警觉性，观察四周状况，包括身后；任何时候发现有人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车企图接近您，马上远离此人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车；因为有“敲头党”和“飛車賊”；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、如果不幸真的遭遇抢劫时，请牢记“人身安全最重要”，不要与歹徒反抗，不要死拉住自己的物品不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809880" cy="441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上街安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659640" y="4149720"/>
            <a:ext cx="2232000" cy="2158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230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659640" y="1700280"/>
            <a:ext cx="223200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140360" y="4149720"/>
            <a:ext cx="230328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476360" y="191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防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2637000"/>
            <a:ext cx="273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SimSun"/>
              </a:rPr>
              <a:t>易</a:t>
            </a:r>
            <a:r>
              <a:rPr b="1" lang="zh-CN" sz="2400" spc="-1" strike="noStrike">
                <a:solidFill>
                  <a:srgbClr val="ff3300"/>
                </a:solidFill>
                <a:latin typeface="SimSun"/>
              </a:rPr>
              <a:t>发</a:t>
            </a:r>
            <a:r>
              <a:rPr b="1" lang="zh-TW" sz="2400" spc="-1" strike="noStrike">
                <a:solidFill>
                  <a:srgbClr val="ff3300"/>
                </a:solidFill>
                <a:latin typeface="SimSun"/>
              </a:rPr>
              <a:t>地</a:t>
            </a:r>
            <a:r>
              <a:rPr b="1" lang="zh-CN" sz="2400" spc="-1" strike="noStrike">
                <a:solidFill>
                  <a:srgbClr val="ff3300"/>
                </a:solidFill>
                <a:latin typeface="SimSun"/>
              </a:rPr>
              <a:t>点</a:t>
            </a:r>
            <a:r>
              <a:rPr b="1" lang="en-US" sz="2400" spc="-1" strike="noStrike">
                <a:solidFill>
                  <a:srgbClr val="ff3300"/>
                </a:solidFill>
                <a:latin typeface="SimSun"/>
              </a:rPr>
              <a:t>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imSun"/>
              </a:rPr>
              <a:t>    </a:t>
            </a:r>
            <a:r>
              <a:rPr b="0" lang="zh-CN" sz="2400" spc="-1" strike="noStrike">
                <a:solidFill>
                  <a:srgbClr val="ffffcc"/>
                </a:solidFill>
                <a:latin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商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场门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口</a:t>
            </a: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公交站台</a:t>
            </a: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公交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车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上</a:t>
            </a: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火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车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站內</a:t>
            </a: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活动现场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公共治安防范之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偷</a:t>
            </a: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抢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2475000" cy="201600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37160" y="1773360"/>
            <a:ext cx="2706840" cy="2133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780000" y="4005360"/>
            <a:ext cx="2592360" cy="1979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37160" y="4005360"/>
            <a:ext cx="2706840" cy="1979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042920" y="1773360"/>
            <a:ext cx="27432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大街明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SimSun"/>
              </a:rPr>
              <a:t>防范对策</a:t>
            </a:r>
            <a:r>
              <a:rPr b="1" lang="en-US" sz="2000" spc="-1" strike="noStrike">
                <a:solidFill>
                  <a:srgbClr val="ff0000"/>
                </a:solidFill>
                <a:latin typeface="SimSun"/>
              </a:rPr>
              <a:t>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外出不可露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财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取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钱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有人陪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避免晚上外出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偏僻地方勿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防范生人靠近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敢于大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声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呼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不可盲目反抗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人身安全重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51640" y="3357720"/>
            <a:ext cx="1368360" cy="10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ff00"/>
                </a:solidFill>
                <a:latin typeface="Times New Roman"/>
                <a:ea typeface="標楷體"/>
              </a:rPr>
              <a:t>現場實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286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公共治安防范之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偷</a:t>
            </a: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二：注意细节，时刻牢记安全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寒假期间，你们是在家中社会上度过的，但由于你们年龄小，社会经验不足，显得自我保护能力又特别差，加上社会情况复杂，学习自我保护特别重要，在这里提醒同学们注意一下几个方面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2376360" cy="18734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414520" cy="1890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924360" y="3933720"/>
            <a:ext cx="2376360" cy="2087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258920" y="1989000"/>
            <a:ext cx="27432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SimSun"/>
              </a:rPr>
              <a:t>飞车抢</a:t>
            </a:r>
            <a:r>
              <a:rPr b="0" lang="zh-TW" sz="2800" spc="-1" strike="noStrike">
                <a:solidFill>
                  <a:srgbClr val="ffffff"/>
                </a:solidFill>
                <a:latin typeface="SimSun"/>
              </a:rPr>
              <a:t>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SimSun"/>
              </a:rPr>
              <a:t>防范对策</a:t>
            </a:r>
            <a:r>
              <a:rPr b="1" lang="en-US" sz="2000" spc="-1" strike="noStrike">
                <a:solidFill>
                  <a:srgbClr val="ff0000"/>
                </a:solidFill>
                <a:latin typeface="SimSun"/>
              </a:rPr>
              <a:t>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背包挎在身前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财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物不可外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站台提高警惕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上</a:t>
            </a:r>
            <a:r>
              <a:rPr b="0" lang="zh-CN" sz="2000" spc="-1" strike="noStrike">
                <a:solidFill>
                  <a:srgbClr val="ffffff"/>
                </a:solidFill>
                <a:latin typeface="SimSun"/>
              </a:rPr>
              <a:t>车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不在門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外出有人陪同</a:t>
            </a: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imSun"/>
              </a:rPr>
              <a:t>    </a:t>
            </a:r>
            <a:r>
              <a:rPr b="0" lang="zh-TW" sz="2000" spc="-1" strike="noStrike">
                <a:solidFill>
                  <a:srgbClr val="ffffff"/>
                </a:solidFill>
                <a:latin typeface="SimSun"/>
              </a:rPr>
              <a:t>女性特別注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516720" y="3933720"/>
            <a:ext cx="2414520" cy="20829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34" name=""/>
          <p:cNvSpPr/>
          <p:nvPr/>
        </p:nvSpPr>
        <p:spPr>
          <a:xfrm>
            <a:off x="5796000" y="3213000"/>
            <a:ext cx="1368360" cy="1081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ff00"/>
                </a:solidFill>
                <a:latin typeface="Times New Roman"/>
                <a:ea typeface="標楷體"/>
              </a:rPr>
              <a:t>現場實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公共治安防范之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偷</a:t>
            </a: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抢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79640" y="1700280"/>
            <a:ext cx="4537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节日防偷順口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节日大家出行忙，在外防偷不能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车站等车备零钱，贵重物品莫显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车有序莫拥挤，别让小偷乘时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车以后朝里走，不要站在车门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各种包带要放短，置于胸前才保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可疑人员身边挤，镇定自若要警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这些角色有特点，稍加留心就可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萎靡不振精神差，贼眉鼠眼留长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臂头部多伤疤，雕龙刺凤充老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手搭衣物作道具，这是小偷在演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发现小偷在作案，不要犹豫快报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拨打电话一一零，讲清地点才能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众人携手力量大，过街老鼠人人打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该出手时就出手，义不容辞抓扒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516720" y="2060640"/>
            <a:ext cx="2362320" cy="23335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914400" y="2286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公共治安防范之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偷</a:t>
            </a:r>
            <a:r>
              <a:rPr b="1" lang="zh-TW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防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標楷體"/>
              </a:rPr>
              <a:t>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486560" y="0"/>
            <a:ext cx="1657440" cy="160020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三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开展几项有意义的活动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寒假期间，同学们在家要帮助父母做家务和参加有益的社会实践活动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爱护今年新栽的树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定好寒假学习计划，认真完成寒假作业，开展好“五个一”活动，即读一本好书，并写出读后感，看一部好电影（电视剧），学唱一首好歌，做一件好事，当一天家长，体验一下做父母的辛苦，并做好记录或日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四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坚持做到“四不”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是不进网吧，它不是未成年人去的场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是不去歌舞厅，那是成年人休闲、娱乐的地方；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是不参加封建迷信活动，它不是科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四是不参与打牌赌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第五：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要“四记住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记住：在家应努力争做好孩子，帮助长辈做一些力所能及的事，学会“知恩图报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记住：外出争做合格的小公民，说话要礼貌，乘车主动给老、弱、病、残、孕让座，不乱丢乱扔，损坏公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记住：提倡勤俭节约，不乱花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记住：培养良好品德。假期期间，全体师生要自觉遵守公民道德，做遵守公民道德的模范，要崇尚科学、破除迷信、勤俭节约；要自觉树立科学的世界观、人生观；要大力倡导“爱国守法、明礼诚信、团结友善、勤俭自强、敬业奉献”的基本道德规范；要学会尊重人、理解人、关心人；要增强礼仪、礼节、礼貌意识，要不断提高自身道德修养；要规范自己的行为习惯，培养自己的良好道德品质和文明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7324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同学们，安全重于泰山，同学们要自我监督，严格要求，防患于未然，安全意识要警钟长鸣。尤其是寒假期间，不安全因素较多。因此，更要强化安全意识，提高防范能力，时时刻刻都要注意自身以及周围人群的安全。防止安全事故的发生就是为家庭为社会节约了宝贵的财富，就是为自己未来的幸福生活奠定了基础。最后祝全体同学能够度过一个平安、健康、有意义的寒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7324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同学们，让我们珍惜每一天，让飞翔的梦想张开美丽的翅膀，生命会因你精彩！奋斗每一天，让你的才华发出耀眼的光芒，生命会因你而骄傲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667000">
            <a:off x="1611000" y="3668400"/>
            <a:ext cx="6769440" cy="24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0033"/>
                </a:solidFill>
                <a:latin typeface="SimSun"/>
                <a:ea typeface=""/>
              </a:rPr>
              <a:t>祝同学们新年快乐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0033"/>
                </a:solidFill>
                <a:latin typeface="SimSun"/>
                <a:ea typeface=""/>
              </a:rPr>
              <a:t>               </a:t>
            </a:r>
            <a:r>
              <a:rPr b="1" lang="zh-CN" sz="2800" spc="-1" strike="noStrike">
                <a:solidFill>
                  <a:srgbClr val="990033"/>
                </a:solidFill>
                <a:latin typeface="SimSun"/>
                <a:ea typeface=""/>
              </a:rPr>
              <a:t>中学政教处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交通安全。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春节是走亲访友的高峰期，也是各类交通安全事故多发期，希望同学们认真阅读以下交通安全注意事项，确保寒假期间交通安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標楷體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春运交通安全注意事项</a:t>
            </a:r>
            <a:r>
              <a:rPr b="0" lang="zh-TW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乘坐客车时，不要携带任何易燃、易爆、危险品上车。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不要乘坐非法营运车辆、超员车辆、带病车辆、无牌   照车辆以及有其它违法行为的车辆。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4191120" cy="325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191120" cy="322272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6000" y="1628280"/>
            <a:ext cx="46483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在旅途中如果发现车辆驾驶员有疲劳驾驶、超速行驶、超载行驶或酒后驾驶等违章行为，要及时予以指出，或报告执勤的公安民警和客运管理部门。</a:t>
            </a:r>
            <a:r>
              <a:rPr b="0" lang="zh-TW" sz="2400" spc="-1" strike="noStrike">
                <a:solidFill>
                  <a:srgbClr val="ffffff"/>
                </a:solidFill>
                <a:latin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途中如果车辆出现险情或发生事故，要迅速到右侧路肩上，并及时拨打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110</a:t>
            </a:r>
            <a:r>
              <a:rPr b="0" lang="zh-CN" sz="2400" spc="-1" strike="noStrike">
                <a:solidFill>
                  <a:srgbClr val="ffffff"/>
                </a:solidFill>
                <a:latin typeface="SimSun"/>
              </a:rPr>
              <a:t>报警电话，或请求路过的车辆驾驶员、行人等拨打报警求助电话，并尽可能讲清楚事故发生地点。如果在高速公路上发生上述情况，驾驶员和乘客要迅速离开车辆，撤离到高速公路外，以防二次事故的发生。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春运交通安全注意事项</a:t>
            </a:r>
            <a:r>
              <a:rPr b="0" lang="zh-TW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857680" cy="25052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  <a:ea typeface="標楷體"/>
              </a:rPr>
              <a:t>交通安全注意事项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在人行道內行走，沒有人行道的靠路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边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行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通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路口或者橫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道路，走人行橫道或者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过街设施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；有交通信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号灯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的，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应按照交通信号灯指示通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不得跨越、倚坐道路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隔离设施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，不扒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车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、強行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拦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通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过铁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路道口，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应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按交通信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号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或者管理人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员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指挥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通行；沒有交通信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号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和管理人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员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的，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应当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在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确认无火车行使后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，迅速通</a:t>
            </a:r>
            <a:r>
              <a:rPr b="1" lang="zh-CN" sz="3200" spc="-1" strike="noStrike">
                <a:solidFill>
                  <a:srgbClr val="ffffff"/>
                </a:solidFill>
                <a:latin typeface="SimSun"/>
              </a:rPr>
              <a:t>过</a:t>
            </a:r>
            <a:r>
              <a:rPr b="1" lang="zh-TW" sz="3200" spc="-1" strike="noStrike">
                <a:solidFill>
                  <a:srgbClr val="ffffff"/>
                </a:solidFill>
                <a:latin typeface="SimSu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16360" y="2368440"/>
            <a:ext cx="4275360" cy="403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2371680"/>
            <a:ext cx="4489560" cy="4021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1700280"/>
            <a:ext cx="770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標楷體"/>
              </a:rPr>
              <a:t>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標楷體"/>
              </a:rPr>
              <a:t>过马路：</a:t>
            </a:r>
            <a:r>
              <a:rPr b="1" lang="zh-TW" sz="3200" spc="-1" strike="noStrike">
                <a:solidFill>
                  <a:srgbClr val="000099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3808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  <a:ea typeface="標楷體"/>
              </a:rPr>
              <a:t>交通安全注意事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標楷體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標楷體"/>
              </a:rPr>
              <a:t>行人引發事故常見原因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8129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標楷體"/>
              </a:rPr>
              <a:t>翻越交通隔离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486400" cy="374508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05:27:50Z</dcterms:created>
  <dc:creator>st</dc:creator>
  <dc:description/>
  <dc:language>en-US</dc:language>
  <cp:lastModifiedBy>User</cp:lastModifiedBy>
  <dcterms:modified xsi:type="dcterms:W3CDTF">2013-12-24T23:55:25Z</dcterms:modified>
  <cp:revision>102</cp:revision>
  <dc:subject/>
  <dc:title>PowerPoint 演示文稿</dc:title>
</cp:coreProperties>
</file>