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AFE-4132-452F-852B-D37EA76F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ADD-8044-4EED-801C-6FC47543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7F0-6B55-43A9-AC02-E1EF4A21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24F-5660-4859-A208-113E8400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4869-783C-4A57-84A1-CBBC7E16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0825-23D7-427F-86BE-7F8ABD26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5B8F-449C-4334-B84E-94239A64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8AD5-8FA9-41E2-B542-052645F4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37C4-39E3-4D41-8768-354645EF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03F3-9D7F-42D9-B2CE-AE98AD07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EE14-5E99-49AC-874E-B9EA3D30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E6B-4B57-4AD9-9E1C-AE0EEDD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2895-B5F8-40D6-802E-887B6AF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3BF1-12A7-4ACC-844A-DC7DA0A0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8848-D84F-4FAB-B1D4-173272F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5B1E-3FA6-4C8A-9A56-0A71ADDB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30CC-8CF7-4222-93A7-FDE336C3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56E-E377-4A45-979B-FA26FA4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63C-FDE8-41C0-BD1F-C8674D04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03C-9E94-49CE-BE90-153912F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A7C-E239-4AEF-A597-5FEE9FEA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3AE-9F6F-40CF-A1E3-41448E9E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832-8D99-4222-BF92-7F6E32CF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C5A-0F16-424D-8E33-5CFA1D4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64F-CE03-4194-882E-A6DD529555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5062680"/>
            <a:ext cx="914400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1.jpg"/>
          <p:cNvPicPr/>
          <p:nvPr/>
        </p:nvPicPr>
        <p:blipFill>
          <a:blip r:embed="rId2"/>
          <a:stretch/>
        </p:blipFill>
        <p:spPr>
          <a:xfrm>
            <a:off x="230040" y="122400"/>
            <a:ext cx="8683920" cy="2523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2.jpg"/>
          <p:cNvPicPr/>
          <p:nvPr/>
        </p:nvPicPr>
        <p:blipFill>
          <a:blip r:embed="rId3"/>
          <a:stretch/>
        </p:blipFill>
        <p:spPr>
          <a:xfrm>
            <a:off x="214200" y="4686480"/>
            <a:ext cx="8747280" cy="350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7E43-BB1C-4D53-BECE-F7BC4D5EF6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-1128600" y="-285840"/>
            <a:ext cx="11396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2705040" y="1023840"/>
            <a:ext cx="3729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87164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986360" y="666720"/>
            <a:ext cx="2286000" cy="380988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eeece1">
                <a:alpha val="75000"/>
              </a:srgbClr>
            </a:outerShdw>
          </a:effectLst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-147600" y="0"/>
            <a:ext cx="943452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6:40:06Z</dcterms:created>
  <dc:creator>L</dc:creator>
  <dc:description/>
  <dc:language>en-US</dc:language>
  <cp:lastModifiedBy>QQ</cp:lastModifiedBy>
  <dcterms:modified xsi:type="dcterms:W3CDTF">2013-04-10T02:52:36Z</dcterms:modified>
  <cp:revision>1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21000000000001024100</vt:lpwstr>
  </property>
</Properties>
</file>