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4.png" ContentType="image/png"/>
  <Override PartName="/ppt/media/chimes.wav" ContentType="audio/x-wav"/>
  <Override PartName="/ppt/media/suction.wav" ContentType="audio/x-wav"/>
  <Override PartName="/ppt/media/image6.jpeg" ContentType="image/jpeg"/>
  <Override PartName="/ppt/media/image13.png" ContentType="image/png"/>
  <Override PartName="/ppt/media/image12.jpeg" ContentType="image/jpeg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1BE-8422-410C-9ECC-095D0DA3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7E7-2357-4A60-9C3B-4F071FF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6B8-30AA-4BE3-A0AD-3B97B381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0DE-E062-4262-9028-780A4CF6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F372-F905-4F89-B85F-28405BE9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8F2F-46DA-404B-A27E-25FEF16A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EBF0-C8FD-4DCC-BD5C-308A02AC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A62-F959-4ED0-BE11-C44D1CFC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893F-5E21-4902-9B8D-7905B6B2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2E01-B7D7-4504-AAAF-9A6BA28B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2985-A86C-4DD3-B271-68447CC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866-B005-421B-9F96-352B6A6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D9F-8F24-4BD9-BB3F-3F39640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19CC-D719-4821-8263-4A88D61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DA3C-FDD7-48C4-A5DA-037CA2E1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558D-6227-4332-AF19-094A231D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759-E8DA-4FC6-A0AE-C44C6995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172-B0B5-4834-B6B0-81CDDCAB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B17-DAEC-4544-951A-3DA1FD8F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EF9-3C8C-465D-AEE5-58BCEAB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B35-7046-457B-91D4-FE3C769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AA2-3ABA-4E69-B5E6-72D7034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0FA-06B7-467C-B9CA-C48BB28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352-BB14-4F19-A571-B589D99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E72-7743-4D02-B02A-1D3043897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1958760"/>
            <a:ext cx="57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D03-84BD-4DB8-9B12-6FBE22B26A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69192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“</a:t>
            </a:r>
            <a:r>
              <a:rPr b="0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珍爱生命 </a:t>
            </a:r>
            <a:br>
              <a:rPr sz="8800"/>
            </a:br>
            <a:r>
              <a:rPr b="0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预防溺水”</a:t>
            </a:r>
            <a:endParaRPr b="1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920" y="3716280"/>
            <a:ext cx="52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 Rounded MT Bold"/>
              </a:rPr>
              <a:t>主题班会</a:t>
            </a:r>
            <a:endParaRPr b="0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Black"/>
              </a:rPr>
              <a:t>单  足  跳  跃  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Black"/>
              </a:rPr>
              <a:t>溺水的急救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 Rounded MT Bold"/>
              </a:rPr>
              <a:t>方法一：可将救生圈、竹竿、木板等物抛给溺水者，再将其拖至岸边；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Black"/>
              </a:rPr>
              <a:t>溺水的急救：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Rounded MT Bold"/>
              </a:rPr>
              <a:t>方法二：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Rounded MT Bold"/>
              </a:rPr>
              <a:t>若没有救护器材，会游泳者可以入水直接救护。接近溺水者时要转动他的髋部，使其背向自己然后拖运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Rounded MT Bold"/>
              </a:rPr>
              <a:t>拖运时通常采用侧泳或仰泳拖运法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Black"/>
              </a:rPr>
              <a:t>救助方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Black"/>
              </a:rPr>
              <a:t>伏膝倒水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23760" y="0"/>
            <a:ext cx="91328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0" y="46080"/>
            <a:ext cx="9059760" cy="67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Black"/>
              </a:rPr>
              <a:t>急救示例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6856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6760" y="770040"/>
            <a:ext cx="31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泳，是广大少年喜爱的体育锻炼项目之一。然而，不做好准备、缺少安全防范意识，遇到意外时慌张、不能沉着自救，极易发生溺水伤亡事故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92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调查报告：在中国，意外伤害是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儿童的首要死因。平均每年全国有近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000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儿童因意外伤害而死亡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平均每天有近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5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儿童因意外伤害而失去生命。儿童伤害死亡只是伤害的冰山一角，在每一位死亡者背后，还有着上百儿童因此而终身致残。意外溺水是儿童意外伤害的首要死因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因意外伤害而死亡的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儿童中，有近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是因为溺水身亡的。当儿童溺水时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分钟后便会失去意识；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分钟后身体便遭受不可逆反的伤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Black"/>
              </a:rPr>
              <a:t>急救示例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2360" y="1125360"/>
            <a:ext cx="8640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21000" y="188640"/>
            <a:ext cx="471816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Black"/>
                <a:ea typeface="楷体_GB2312"/>
              </a:rPr>
              <a:t>游泳小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、必须在家长（监护人）的带领下去游泳。单身一人去游泳最容易出问题，如果你的同伴不是家长（成年人），在出现险情时，很难保证能够得到妥善的救助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、身体患病者不要去游泳。中耳炎、心脏病、皮肤病、肝、肾疾病、高血压、癫痫、红眼病等慢性疾病患者，及感冒、发热、精神疲倦，身体无力都不要去游泳，因为上述病人参加游泳运动，不但容易加重病情，而且还容易发生抽筋、意外昏迷，危及生命。传染病患者易把病传染给别人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65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参加强体力劳动或剧烈运动后，不能立即跳进水中游泳，尤其是在满身大汗，浑身发热的情况下，不可以立即下水，否则易引起抽筋、感冒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被污染的（水质不好）河流、水库、有急流处、两条河流的交汇处以及落差的河流湖泊，均不宜游泳。一般来说，凡是水况不不明的江河湖泊都不宜游泳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恶劣天气如雷雨、刮风、天气突变等情况下，也不宜游泳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 Black"/>
                <a:ea typeface="楷体_GB2312"/>
              </a:rPr>
              <a:t>倡议书</a:t>
            </a:r>
            <a:endParaRPr b="1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 Rounded MT Bold"/>
              </a:rPr>
              <a:t>        </a:t>
            </a:r>
            <a:r>
              <a:rPr b="0" lang="zh-CN" sz="4800" spc="-1" strike="noStrike">
                <a:solidFill>
                  <a:srgbClr val="333399"/>
                </a:solidFill>
                <a:latin typeface="Arial Rounded MT Bold"/>
              </a:rPr>
              <a:t>为积极响应学校近日以“珍爱生命、谨防溺水”为主题的“安全教育”班会活动，创设更安全的和谐的学习生活环境，杜绝溺水悲剧的发生，学校提出以下倡议：</a:t>
            </a:r>
            <a:endParaRPr b="0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0800000">
            <a:off x="-814320" y="-299880"/>
            <a:ext cx="8604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、对自己负责：树立安全意识，加强自我保护。绝不参与危险的戏水游泳活动，绝不参与没有家长陪同的游泳活动，绝不到危险、陌生的河塘游泳，绝不在河塘边垂钓鱼虾，绝不做危险举动，绝对远离溺水杀手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、对家人负责：如果游泳，一定要在自己的家长陪护前提下，到安全的、正规的游泳场所游泳，并要做好相应准备活动，防止溺水事件的发生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、对学校负责：要遵守学校的各项规章制度，不断强化安全防范意识，以血为鉴，引以为戒。学会相关的预防溺水知识，并能将所学的知识运用于实际，掌握溺水自救的基本知识和技能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、对他人负责：在加强自我安全意识的同时，要努力做好说服教育工作，对于那些违反学校纪律，私自外出游泳的行为，要坚决抵制、劝阻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《</a:t>
            </a:r>
            <a:r>
              <a:rPr b="1" lang="zh-CN" sz="4400" spc="-1" strike="noStrike">
                <a:solidFill>
                  <a:srgbClr val="ff0066"/>
                </a:solidFill>
                <a:latin typeface="Arial Black"/>
              </a:rPr>
              <a:t>溺水歌</a:t>
            </a: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》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我防溺水有高招，大人陪伴第一招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我防溺水有高招，泳前热身第二招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伸手踢脚弯弯腰，预防动作不可少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我防溺水有高招，解除抽筋第三招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赶紧上岸很重要，喝杯糖水解疲劳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防溺措施要知道，不可逞能不骄傲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安全”二字记心中，远离危险身体好。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Black"/>
              </a:rPr>
              <a:t>誓                词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绝不私自下河游泳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绝不擅自与同学结伴游泳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绝不无家长或老师带领的情况下游泳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绝不在无安全设施、无救护人员的水域玩耍、游泳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安全重于泰山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命高于一切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万家平安是我们共同的心愿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让平安的种子播撒进自己的心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让欢乐和幸福永远围绕在我们身边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</a:rPr>
              <a:t>让平安伴随我们大家健康成长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640" y="1052640"/>
            <a:ext cx="62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珍爱生命，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预防溺水”</a:t>
            </a:r>
            <a:br>
              <a:rPr sz="8800"/>
            </a:br>
            <a:endParaRPr b="1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44280"/>
            <a:ext cx="7920000" cy="6789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93400" y="47628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溺水发生惨剧后的死者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88920"/>
            <a:ext cx="8066160" cy="672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364680" y="47628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溺水发生惨剧后的死者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44280"/>
            <a:ext cx="8213760" cy="676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364680" y="333360"/>
            <a:ext cx="1277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溺水发生惨剧后的死者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</a:rPr>
              <a:t>发生溺水事件的客观原因是什么？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3933720"/>
            <a:ext cx="74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7064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060640"/>
            <a:ext cx="914400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不小心落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、水中滑倒无法站立或水中嬉戏难以自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准备不充分，急于下水；或水中逞强，过度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、突然呛水，不会调整；浮具受损沉入水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游泳技术没掌握，碰到意外，惊慌失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92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92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192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192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92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92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192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192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92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192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192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192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92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192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192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192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676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</a:rPr>
              <a:t>当发现有人溺水，你该怎么办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下水救助  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放手不管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把竹竿抛给溺水者，电话报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6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小心腿抽筋了，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28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大声呼救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用力蹬水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使劲胡乱向岸上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941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将溺水者救上岸因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66748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捉住腿将人倒放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使劲摇晃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按压胸部或人工呼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33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2637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01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Black"/>
                <a:ea typeface="楷体_GB2312"/>
              </a:rPr>
              <a:t>游泳要严格遵守“四不”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未经家长、老师同意不去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没有会游泳的成年人陪同不去</a:t>
            </a:r>
            <a:r>
              <a:rPr b="1" lang="en-US" sz="3200" spc="-1" strike="noStrike">
                <a:solidFill>
                  <a:srgbClr val="333399"/>
                </a:solidFill>
                <a:latin typeface="Arial Rounded MT Bol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深水的地方不去；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江溪池塘不去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13:50Z</dcterms:created>
  <dc:creator>ch</dc:creator>
  <dc:description/>
  <cp:keywords/>
  <dc:language>en-US</dc:language>
  <cp:lastModifiedBy>微软用户</cp:lastModifiedBy>
  <cp:lastPrinted>1899-12-30T00:00:00Z</cp:lastPrinted>
  <dcterms:modified xsi:type="dcterms:W3CDTF">2011-05-10T03:13:53Z</dcterms:modified>
  <cp:revision>16</cp:revision>
  <dc:subject/>
  <dc:title>热烈欢迎各位领导 光临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