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2B9-2FC2-4C28-B408-66FE310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F2A-F658-4901-86F2-81D4502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2CC-B21B-4FDD-A0C1-78FFE949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2DA-8155-40DE-B7DF-43EF30AC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B96-A7BE-41C3-98B3-1ED8BB85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75F-A259-4AD2-921B-4B5FFEF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77D-B3BF-4E5B-ABB2-BDDA2BD9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122-8C7A-42C7-B638-3A89F7D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526-72CE-4FF8-8CD8-A434718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7AB-CDC1-44AD-BB86-CEE2FE5A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9C3-7797-485E-A3B5-8FC570D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EDD-78FD-4048-89BA-8EA85E0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0463-F134-4301-ABF6-2D060A6F62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263B-2871-49A5-BB5D-58E4A0A540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144000" cy="150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356200" y="35892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7"/>
          <a:stretch/>
        </p:blipFill>
        <p:spPr>
          <a:xfrm>
            <a:off x="-36360" y="-44280"/>
            <a:ext cx="9144000" cy="1501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144000" cy="1501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1T06:09:52Z</dcterms:created>
  <dc:creator/>
  <dc:description/>
  <dc:language>en-US</dc:language>
  <cp:lastModifiedBy>Administrator</cp:lastModifiedBy>
  <dcterms:modified xsi:type="dcterms:W3CDTF">2017-07-21T06:11:17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60</vt:lpwstr>
  </property>
</Properties>
</file>