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6.wmf" ContentType="image/x-wm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20051231133142843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6" descr="6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470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9"/>
          <p:cNvSpPr/>
          <p:nvPr/>
        </p:nvSpPr>
        <p:spPr>
          <a:xfrm>
            <a:off x="324000" y="1989000"/>
            <a:ext cx="741672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Arial"/>
                <a:ea typeface="微软雅黑"/>
              </a:rPr>
              <a:t>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学生会主席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竞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  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微软雅黑"/>
              </a:rPr>
              <a:t>        </a:t>
            </a:r>
            <a:r>
              <a:rPr b="1" lang="en-US" sz="3600" spc="-1" strike="noStrike">
                <a:solidFill>
                  <a:srgbClr val="3366ff"/>
                </a:solidFill>
                <a:latin typeface="楷体"/>
                <a:ea typeface="楷体"/>
              </a:rPr>
              <a:t>------  </a:t>
            </a:r>
            <a:r>
              <a:rPr b="1" lang="en-US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纯音乐 - 华丽邂逅.mp3" descr=""/>
          <p:cNvPicPr/>
          <p:nvPr/>
        </p:nvPicPr>
        <p:blipFill>
          <a:blip r:embed="rId2"/>
          <a:stretch/>
        </p:blipFill>
        <p:spPr>
          <a:xfrm>
            <a:off x="6516720" y="602136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411280" y="1628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希望用我的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真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能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赢得大家的支持和信任。而一个学生会的优秀来自全体同学的参与和学生会主席的素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908000" y="29926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马，只有跑过千里，才能知具是否为良驹；人，只有通过竞争才会知具是否为栋梁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p_large_L"/>
          <p:cNvPicPr/>
          <p:nvPr/>
        </p:nvPicPr>
        <p:blipFill>
          <a:blip r:embed="rId2"/>
          <a:stretch/>
        </p:blipFill>
        <p:spPr>
          <a:xfrm>
            <a:off x="5148360" y="3933720"/>
            <a:ext cx="3744720" cy="271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331280" y="260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微软雅黑"/>
              </a:rPr>
              <a:t>学生会主席竞选演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24000" y="4292640"/>
            <a:ext cx="54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cc"/>
                </a:solidFill>
                <a:latin typeface="Arial"/>
                <a:ea typeface="微软雅黑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771640" y="1989000"/>
            <a:ext cx="540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已无暇顾及过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要向前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0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5" dur="10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6" dur="10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33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0" y="2599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基本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80000" y="1484280"/>
            <a:ext cx="51130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微软雅黑"/>
              </a:rPr>
              <a:t>姓名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     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微软雅黑"/>
              </a:rPr>
              <a:t>班级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高二（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微软雅黑"/>
              </a:rPr>
              <a:t>现任职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学生会级部副主席 班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3815280" y="1589040"/>
            <a:ext cx="467280" cy="468360"/>
            <a:chOff x="3815280" y="1589040"/>
            <a:chExt cx="467280" cy="468360"/>
          </a:xfrm>
        </p:grpSpPr>
        <p:sp>
          <p:nvSpPr>
            <p:cNvPr id="44" name="Oval 6"/>
            <p:cNvSpPr/>
            <p:nvPr/>
          </p:nvSpPr>
          <p:spPr>
            <a:xfrm>
              <a:off x="3851280" y="1628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7"/>
            <p:cNvGrpSpPr/>
            <p:nvPr/>
          </p:nvGrpSpPr>
          <p:grpSpPr>
            <a:xfrm>
              <a:off x="3815280" y="1589040"/>
              <a:ext cx="467280" cy="468360"/>
              <a:chOff x="3815280" y="1589040"/>
              <a:chExt cx="467280" cy="468360"/>
            </a:xfrm>
          </p:grpSpPr>
          <p:pic>
            <p:nvPicPr>
              <p:cNvPr id="46" name="Picture 8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3883680" y="16552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Oval 9"/>
              <p:cNvSpPr/>
              <p:nvPr/>
            </p:nvSpPr>
            <p:spPr>
              <a:xfrm rot="19311000">
                <a:off x="3884040" y="16545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414e4f">
                      <a:alpha val="90196"/>
                    </a:srgbClr>
                  </a:gs>
                  <a:gs pos="50000">
                    <a:srgbClr val="bbe0e3">
                      <a:alpha val="75294"/>
                    </a:srgbClr>
                  </a:gs>
                  <a:gs pos="100000">
                    <a:srgbClr val="414e4f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Picture 10" descr="Picture2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851280" y="1680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" name="Picture 11" descr=""/>
            <p:cNvPicPr/>
            <p:nvPr/>
          </p:nvPicPr>
          <p:blipFill>
            <a:blip r:embed="rId5"/>
            <a:srcRect l="12039" t="9310" r="12440" b="12600"/>
            <a:stretch/>
          </p:blipFill>
          <p:spPr>
            <a:xfrm>
              <a:off x="3876840" y="1641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26"/>
          <p:cNvGrpSpPr/>
          <p:nvPr/>
        </p:nvGrpSpPr>
        <p:grpSpPr>
          <a:xfrm>
            <a:off x="3815280" y="2813040"/>
            <a:ext cx="467280" cy="468360"/>
            <a:chOff x="3815280" y="2813040"/>
            <a:chExt cx="467280" cy="468360"/>
          </a:xfrm>
        </p:grpSpPr>
        <p:sp>
          <p:nvSpPr>
            <p:cNvPr id="51" name="Oval 27"/>
            <p:cNvSpPr/>
            <p:nvPr/>
          </p:nvSpPr>
          <p:spPr>
            <a:xfrm>
              <a:off x="3851280" y="2852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8"/>
            <p:cNvGrpSpPr/>
            <p:nvPr/>
          </p:nvGrpSpPr>
          <p:grpSpPr>
            <a:xfrm>
              <a:off x="3815280" y="2813040"/>
              <a:ext cx="467280" cy="468360"/>
              <a:chOff x="3815280" y="2813040"/>
              <a:chExt cx="467280" cy="468360"/>
            </a:xfrm>
          </p:grpSpPr>
          <p:pic>
            <p:nvPicPr>
              <p:cNvPr id="53" name="Picture 29" descr="circuler_1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883680" y="28792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Oval 30"/>
              <p:cNvSpPr/>
              <p:nvPr/>
            </p:nvSpPr>
            <p:spPr>
              <a:xfrm rot="19311000">
                <a:off x="3884040" y="287856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31" descr="Picture2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851280" y="2904480"/>
                <a:ext cx="26244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32" descr=""/>
            <p:cNvPicPr/>
            <p:nvPr/>
          </p:nvPicPr>
          <p:blipFill>
            <a:blip r:embed="rId8"/>
            <a:srcRect l="12039" t="9310" r="12440" b="12600"/>
            <a:stretch/>
          </p:blipFill>
          <p:spPr>
            <a:xfrm>
              <a:off x="3876840" y="2865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2"/>
          <p:cNvGrpSpPr/>
          <p:nvPr/>
        </p:nvGrpSpPr>
        <p:grpSpPr>
          <a:xfrm>
            <a:off x="3815640" y="4037040"/>
            <a:ext cx="466920" cy="468360"/>
            <a:chOff x="3815640" y="4037040"/>
            <a:chExt cx="466920" cy="468360"/>
          </a:xfrm>
        </p:grpSpPr>
        <p:sp>
          <p:nvSpPr>
            <p:cNvPr id="58" name="Oval 13"/>
            <p:cNvSpPr/>
            <p:nvPr/>
          </p:nvSpPr>
          <p:spPr>
            <a:xfrm>
              <a:off x="3851280" y="4076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4"/>
            <p:cNvGrpSpPr/>
            <p:nvPr/>
          </p:nvGrpSpPr>
          <p:grpSpPr>
            <a:xfrm>
              <a:off x="3815640" y="4037040"/>
              <a:ext cx="466920" cy="468360"/>
              <a:chOff x="3815640" y="4037040"/>
              <a:chExt cx="466920" cy="468360"/>
            </a:xfrm>
          </p:grpSpPr>
          <p:pic>
            <p:nvPicPr>
              <p:cNvPr id="60" name="Picture 15" descr="circuler_1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884040" y="41032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Oval 16"/>
              <p:cNvSpPr/>
              <p:nvPr/>
            </p:nvSpPr>
            <p:spPr>
              <a:xfrm rot="19311000">
                <a:off x="3884400" y="41025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21235">
                      <a:alpha val="90196"/>
                    </a:srgbClr>
                  </a:gs>
                  <a:gs pos="50000">
                    <a:srgbClr val="333399">
                      <a:alpha val="75294"/>
                    </a:srgbClr>
                  </a:gs>
                  <a:gs pos="100000">
                    <a:srgbClr val="121235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17" descr="Picture2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851640" y="4128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Picture 18" descr=""/>
            <p:cNvPicPr/>
            <p:nvPr/>
          </p:nvPicPr>
          <p:blipFill>
            <a:blip r:embed="rId11"/>
            <a:srcRect l="12039" t="9310" r="12440" b="12600"/>
            <a:stretch/>
          </p:blipFill>
          <p:spPr>
            <a:xfrm>
              <a:off x="3876480" y="4089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40"/>
          <p:cNvSpPr/>
          <p:nvPr/>
        </p:nvSpPr>
        <p:spPr>
          <a:xfrm>
            <a:off x="324000" y="4724280"/>
            <a:ext cx="46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</a:rPr>
              <a:t>心有多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</a:rPr>
              <a:t>舞台就有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w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056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788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▷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获奖情况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曾获得演讲类、硬笔书法类、纸膜类、歌唱类及各式能力竞赛大小奖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次，荣获区级“十佳少年”和市级“优秀共青团员”等称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793560" y="26028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竞选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59280" y="836640"/>
            <a:ext cx="5903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微软雅黑"/>
                <a:ea typeface="微软雅黑"/>
              </a:rPr>
              <a:t>丰富课余活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打造高效团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微软雅黑"/>
                <a:ea typeface="微软雅黑"/>
              </a:rPr>
              <a:t>与时俱进 大胆改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努力建设全新的学生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577560" y="333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岗位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635280" y="105264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看来，学生会是在团委老师的带领下，由拥有能力并热爱学生工作的成员组成，是一个展现全员学生精神面貌和生活状态的窗口，是学生自我管理的平台，也是我们锻炼自身能力、实现自我价值的大舞台。学生会主席团作为整个学生会的领导核心，特别是学生会主席，要有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卓越的判断力和行动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已用"/>
          <p:cNvPicPr/>
          <p:nvPr/>
        </p:nvPicPr>
        <p:blipFill>
          <a:blip r:embed="rId2"/>
          <a:stretch/>
        </p:blipFill>
        <p:spPr>
          <a:xfrm>
            <a:off x="324000" y="1341360"/>
            <a:ext cx="309564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6012000" y="98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我的宗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64000" y="1700280"/>
            <a:ext cx="291636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微软雅黑"/>
              </a:rPr>
              <a:t>心系全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微软雅黑"/>
              </a:rPr>
              <a:t>将心比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微软雅黑"/>
              </a:rPr>
              <a:t>投入诚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微软雅黑"/>
              </a:rPr>
              <a:t>换以真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u=455104952,500794228&amp;fm=15&amp;gp=0"/>
          <p:cNvPicPr/>
          <p:nvPr/>
        </p:nvPicPr>
        <p:blipFill>
          <a:blip r:embed="rId2"/>
          <a:stretch/>
        </p:blipFill>
        <p:spPr>
          <a:xfrm>
            <a:off x="684360" y="1628640"/>
            <a:ext cx="4464000" cy="44658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577560" y="333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我的优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热情外向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细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虚心 真诚自信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公正公开  严于律己  宽以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善于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发现问题  反映问题  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事以大局为重  一切以集体利益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善于交际沟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喜欢迎难而上 挑战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待工作负责 办事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高效细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态度严肃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深知人员协调 团队合作与民主决议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十年班长经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熟悉工作 具备素质 敢想敢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6650640" y="40464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❤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工作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IMG_1670"/>
          <p:cNvPicPr/>
          <p:nvPr/>
        </p:nvPicPr>
        <p:blipFill>
          <a:blip r:embed="rId2"/>
          <a:stretch/>
        </p:blipFill>
        <p:spPr>
          <a:xfrm>
            <a:off x="5867280" y="4653000"/>
            <a:ext cx="2881440" cy="18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u=1544650841,3488158662&amp;fm=15&amp;gp=0"/>
          <p:cNvPicPr/>
          <p:nvPr/>
        </p:nvPicPr>
        <p:blipFill>
          <a:blip r:embed="rId3"/>
          <a:stretch/>
        </p:blipFill>
        <p:spPr>
          <a:xfrm>
            <a:off x="468360" y="4653000"/>
            <a:ext cx="2881440" cy="192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74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☞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谁是高手” 棋王争霸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☞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校园篮球之星”评选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☞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兰化一中汉字成语听写大会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☞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对面 心连心”校学生干部问答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☞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IMG_1670"/>
          <p:cNvPicPr/>
          <p:nvPr/>
        </p:nvPicPr>
        <p:blipFill>
          <a:blip r:embed="rId4"/>
          <a:stretch/>
        </p:blipFill>
        <p:spPr>
          <a:xfrm>
            <a:off x="5867280" y="4653000"/>
            <a:ext cx="2881440" cy="18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u=1544650841,3488158662&amp;fm=15&amp;gp=0"/>
          <p:cNvPicPr/>
          <p:nvPr/>
        </p:nvPicPr>
        <p:blipFill>
          <a:blip r:embed="rId5"/>
          <a:stretch/>
        </p:blipFill>
        <p:spPr>
          <a:xfrm>
            <a:off x="468360" y="4653000"/>
            <a:ext cx="288144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37:41Z</dcterms:created>
  <dc:creator>微软用户</dc:creator>
  <dc:description/>
  <dc:language>en-US</dc:language>
  <cp:lastModifiedBy>Administrator</cp:lastModifiedBy>
  <dcterms:modified xsi:type="dcterms:W3CDTF">2017-06-19T10:23:47Z</dcterms:modified>
  <cp:revision>28</cp:revision>
  <dc:subject/>
  <dc:title>幻灯片 1</dc:title>
</cp:coreProperties>
</file>