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A71-7FAB-465D-A195-0B04E9BA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8A8-F46F-4B11-9FA8-E3A482C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BEF1-DFA6-496A-A388-26D9F40A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2467D-FD82-4560-B555-E3305C59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4C439-74D7-4697-B0ED-F6755917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C462-EC4A-436F-94D6-CA84D3A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2A7E-6379-491B-8C05-40FC8B6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B8101-4CDF-4C27-8E69-6BD9853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AEAE-AA39-468D-A9FC-6944CEB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639E4-FDE1-4059-BA5B-6DC19F44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47C99-3DCD-4D8C-9D57-402DC8B7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DF9B-7C86-442B-9E10-FD479827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6AF-BD07-496D-8FE7-E32CBEE7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B7EE2-F76A-4D5A-9B9C-12525F5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CB80D-75E7-4C77-B485-CF9E12F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1D9EC-8511-48EB-813D-BBAA400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2F795-16C3-4518-93AB-3248C343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AE093-2A73-49B1-A7E0-6F36B87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E6266-5E18-42C7-AD3F-C4ECF43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C3F48-FBED-4CA6-8109-668ECA7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93AE-E1FB-41B0-8B26-3A82D37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A4756-4AE8-4A1C-B7EA-F361EDF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359A4-BFCA-4A94-A691-FDC8538B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F96-7EB0-421A-A73F-B6251E5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26BC-E75B-4201-9A19-9BF3405B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93A7-0876-43B1-9157-A96D4FE8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AA6E-4D4E-4BA1-9220-4E1F61C1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85D1-8B8D-4B2E-80C5-3F50C5AD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9216-A087-4F74-B214-37902D9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08F0-CE3A-49B4-B1AC-415A2F1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3923-2475-433B-9190-31B2E5E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4C78A-49E7-4134-8407-440C852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7102F-BB6F-4BF5-9604-B2A50B2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0404-F825-445D-A59E-9BA7EC0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4C5-60ED-488E-994F-35FCA642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B055-E85F-4DD5-AF51-E84D60E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1486C-E9C4-4AA1-8BC5-157681A0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83937-DF60-498B-A281-DD881DB8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E172-8935-45AB-87B8-DE56E7EC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FFC20-923E-4249-85B5-502713D4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110AB-D973-41F6-A4EC-C06F59BF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351B3-AA90-438C-A67B-F17A5EC4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7D189-A789-44E9-A6D6-5B6C871B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9F1A0-B331-4817-AC55-A077698B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28F7-13A4-40AB-8A96-695A331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824A-855D-4743-9048-16AF3F3A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9DFC0-D259-4672-B3EB-EF05F06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FAE98-68D8-47B5-983A-62DD1A3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210A8-1D8E-4CE5-90F7-E0642EB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37E25-D9C1-4DD9-AB92-36B8043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59E1-D1DF-48B1-99F4-88937A66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FA1FD-5F18-48A3-88B8-306674D7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9194F-BBFB-4E1C-8F1F-CDA11BD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419DB-7950-4EB2-B964-BB46797D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335F3-D890-4E2C-9585-C2A764B4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79B3C-F0E4-421B-B2DD-7E654EC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366-63B9-490F-9C53-34FABCE6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20F1F-5ECE-4E5F-82F7-D67A1EF0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603DB-8651-4E87-BDF9-C3F8208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061BB-DA56-4D20-83D6-0D9D7C8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72AD5-1B4F-424C-82E5-4CD7BBA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6B719-6C6E-4F9C-AE51-B238211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08201-BC3A-42C3-9C07-D0286195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3F417-3293-4C13-B1C8-38CED94C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DF7-989B-4B9E-88E7-48EC7D1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146E-0894-49C0-B6AA-EE0E8139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1AF2-F464-4AC6-A4CE-074E6076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C6F2-3767-4296-82D1-823CB58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02B-C87A-465C-A6BF-51C615D3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F55-10FD-4A3F-9468-E9C3C84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D9A4-5926-47C0-9E88-839AE5F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B9B3-61B6-4A72-9FC3-EB48B2D5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E27E-2405-4953-B346-D0B9C68E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71F5-EBFD-473B-BB3E-86C35023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6EDF-6BDC-433B-9343-0B8867DA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3C24-A33C-4BA9-A2A7-D35AB49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5CA3-3A9F-4C57-B9ED-3D07059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94C7-0D08-458D-8133-6BF93596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D1E7-C011-417A-8FAD-A866F1A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C36-7871-45D7-9D5A-D911320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4601-3513-428D-A366-8156DC4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CECD-F3AE-4AB3-B6EF-EF601EE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5469-A986-4177-A148-CACFABB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3B83-3F83-43B6-A3BD-1A74048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94D3-9EEE-4C13-912A-CF68B7B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09E4-8C38-4AF2-B1D5-14E5137E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303B-43E8-45CA-B5AA-BF078265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CAAA-9D01-4280-937B-C10E5EAE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F239-4B32-4CD4-9147-B9AB1669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0CF8-EE20-48F1-86DB-EA2E466E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A99-2087-465B-948A-5CC45C3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A94B-1F7A-444D-88A7-01724AAE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E0B5-0604-42EC-BACC-1A8EAA3B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742E-5BF1-4E8A-BA32-B75E6523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982A-08B5-4E18-BA38-E8F984D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D0F2-FB25-4F1E-8C9A-AEB511B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EE22-40DB-4307-BED0-48FB0FF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21B5-9AA7-4471-92D0-4B7C35C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9F94A-8C52-4905-9440-45AB1B25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C9FD-DBD7-4A99-9939-FC0675FD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0B0F-F4E5-4AC7-8EBA-6BA5FF9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3CB-7183-4880-BFE6-01AD1BE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7F90-D402-48F3-B040-4DD36A48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BC306-A7B5-44F9-81CD-BA31A63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2B807-6DAB-4FB9-8CEC-E67BA58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4F18-5D0D-47FB-A005-065320D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4A76-9082-4AA8-ADD0-EF947B56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2640-92FE-473D-92DA-67A9168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0210-ED82-4BB1-8AFF-CA88EA7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F94B2-F23E-4A9C-A399-69246A2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3E36A-C6E0-4995-8614-551BE2A2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0F02-7F94-4062-A9AD-41985924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7A9-DDC3-40A5-AF7A-879178F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F16D-9373-4470-94A5-006CA79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8E25-B420-49D6-B739-3B73FA7E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671A2-D49F-4E42-85C7-5D43F232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E95C8-199A-4145-A361-C275BA44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514D-0ED6-4373-9A51-BE3ECC7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0DE3-712D-493F-ADF7-47B5A27D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2CB6A-B58E-4090-8FA5-2EAEC4B4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2F82-C8CD-4FA0-B14A-27B7B62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F199-1C5E-40CD-A489-116AB6E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E3DDC-1ABC-4805-AFFE-621766C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773-6314-4161-8D2D-80A6839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E02C-DD83-47E1-AF27-CC73346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75919-5808-4EAA-B799-FD674AC6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44E7-0749-463E-8011-B317E932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28395-68E7-4552-9F65-CE5FE86E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D6DC0-3C49-457E-9E92-76F8E15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C310-6A7B-4434-852C-92E8BB9D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97A2-1267-4016-A023-D513D78E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CDF9-6ED1-4A57-8730-3F208196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BBF2-5145-4C76-9A3A-AEFA829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F0C6-0EE9-48EB-8C11-75DECBB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8AA-49FF-412B-9C78-7003D0B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2C97-1CB2-4CF9-A2EA-1A5259E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239C-C08B-427C-B854-BDCA56D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262E-C5D8-466E-BCA4-E5098C0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9ACE-A0D4-481C-B0BE-AC0F3008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E463-0927-4002-826B-CBCAD75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D7CA-4BA7-49F5-95E0-217D7C3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E196-BBFE-458F-BECA-7907439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9775-D798-4B04-A55B-F3F1CD8A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01C4-BA95-4A5F-9AE2-B0BEFEF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FDC0E-09BB-483C-87F9-BAA5720C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8B0-CA27-4C33-92F0-83F80BD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4A2F9-11BF-41DA-AE72-464C2049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A050-F701-4D4F-A64E-8BBD6AC0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0094-FDB4-445B-B7AE-260D0F8A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0271-6E5F-4506-A305-005C986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5FB0-856A-4342-A434-F7D49844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D85C-6D8B-42B3-A4A3-F902D14B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68D7-F036-4E02-BBF1-07E92F1A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9DF63-809C-43D3-BB3C-7154B19A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D5C4E-11A6-431C-8B7A-A1B871F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20D7C-36A6-46CC-B15A-09978F9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79F-20E2-42C2-A308-DD9D1F9B4A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A28-4EB3-43D9-9101-54D69259D3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B8A-85C7-405D-9AEC-7899927B06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838F-D48B-4349-BE4D-A5065ED4D6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6DBD-1FDD-4D38-901D-6AC2214C0C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F7D0-6B1E-4CD3-B24B-16391984B3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C26F-4ADB-4B89-BF00-FD290B476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2AD-F10E-4793-AE17-2948BD6E17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53A0-A7A3-4134-8CBE-C407983485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99A8-538D-44DE-ABA5-656DF24257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FFBE-3B16-4EE5-9A42-C0A93DE775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A30-6D82-4B73-911F-638378835D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2593-A8F6-49EA-9E93-6F6DA95A29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1692360" y="620640"/>
            <a:ext cx="5688000" cy="5688000"/>
            <a:chOff x="1692360" y="620640"/>
            <a:chExt cx="5688000" cy="5688000"/>
          </a:xfrm>
        </p:grpSpPr>
        <p:sp>
          <p:nvSpPr>
            <p:cNvPr id="534" name="矩形 17"/>
            <p:cNvSpPr/>
            <p:nvPr/>
          </p:nvSpPr>
          <p:spPr>
            <a:xfrm>
              <a:off x="4060800" y="422100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5" name="Picture 2" descr="E:\Users\Admin\Desktop\cake.png"/>
            <p:cNvPicPr/>
            <p:nvPr/>
          </p:nvPicPr>
          <p:blipFill>
            <a:blip r:embed="rId16"/>
            <a:stretch/>
          </p:blipFill>
          <p:spPr>
            <a:xfrm>
              <a:off x="1692360" y="620640"/>
              <a:ext cx="5688000" cy="56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6" name="Picture 3" descr="E:\Users\Admin\Desktop\火焰.png"/>
          <p:cNvPicPr/>
          <p:nvPr/>
        </p:nvPicPr>
        <p:blipFill>
          <a:blip r:embed="rId17"/>
          <a:stretch/>
        </p:blipFill>
        <p:spPr>
          <a:xfrm>
            <a:off x="2077920" y="1276200"/>
            <a:ext cx="1314720" cy="1230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E:\Users\Admin\Desktop\火焰.png"/>
          <p:cNvPicPr/>
          <p:nvPr/>
        </p:nvPicPr>
        <p:blipFill>
          <a:blip r:embed="rId18"/>
          <a:stretch/>
        </p:blipFill>
        <p:spPr>
          <a:xfrm>
            <a:off x="2639880" y="476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E:\Users\Admin\Desktop\火焰.png"/>
          <p:cNvPicPr/>
          <p:nvPr/>
        </p:nvPicPr>
        <p:blipFill>
          <a:blip r:embed="rId19"/>
          <a:stretch/>
        </p:blipFill>
        <p:spPr>
          <a:xfrm>
            <a:off x="3905280" y="476280"/>
            <a:ext cx="1314360" cy="1231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E:\Users\Admin\Desktop\火焰.png"/>
          <p:cNvPicPr/>
          <p:nvPr/>
        </p:nvPicPr>
        <p:blipFill>
          <a:blip r:embed="rId20"/>
          <a:stretch/>
        </p:blipFill>
        <p:spPr>
          <a:xfrm>
            <a:off x="5175360" y="62064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E:\Users\Admin\Desktop\火焰.png"/>
          <p:cNvPicPr/>
          <p:nvPr/>
        </p:nvPicPr>
        <p:blipFill>
          <a:blip r:embed="rId21"/>
          <a:stretch/>
        </p:blipFill>
        <p:spPr>
          <a:xfrm>
            <a:off x="3186000" y="1484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E:\Users\Admin\Desktop\火焰.png"/>
          <p:cNvPicPr/>
          <p:nvPr/>
        </p:nvPicPr>
        <p:blipFill>
          <a:blip r:embed="rId22"/>
          <a:stretch/>
        </p:blipFill>
        <p:spPr>
          <a:xfrm>
            <a:off x="4844880" y="1517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E:\Users\Admin\Desktop\火焰.png"/>
          <p:cNvPicPr/>
          <p:nvPr/>
        </p:nvPicPr>
        <p:blipFill>
          <a:blip r:embed="rId23"/>
          <a:stretch/>
        </p:blipFill>
        <p:spPr>
          <a:xfrm>
            <a:off x="5823000" y="119700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E:\Users\Admin\Desktop\火焰.png"/>
          <p:cNvPicPr/>
          <p:nvPr/>
        </p:nvPicPr>
        <p:blipFill>
          <a:blip r:embed="rId24"/>
          <a:stretch/>
        </p:blipFill>
        <p:spPr>
          <a:xfrm>
            <a:off x="2050920" y="126828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E:\Users\Admin\Desktop\火焰.png"/>
          <p:cNvPicPr/>
          <p:nvPr/>
        </p:nvPicPr>
        <p:blipFill>
          <a:blip r:embed="rId25"/>
          <a:stretch/>
        </p:blipFill>
        <p:spPr>
          <a:xfrm>
            <a:off x="2612880" y="509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E:\Users\Admin\Desktop\火焰.png"/>
          <p:cNvPicPr/>
          <p:nvPr/>
        </p:nvPicPr>
        <p:blipFill>
          <a:blip r:embed="rId26"/>
          <a:stretch/>
        </p:blipFill>
        <p:spPr>
          <a:xfrm>
            <a:off x="3878280" y="50976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E:\Users\Admin\Desktop\火焰.png"/>
          <p:cNvPicPr/>
          <p:nvPr/>
        </p:nvPicPr>
        <p:blipFill>
          <a:blip r:embed="rId27"/>
          <a:stretch/>
        </p:blipFill>
        <p:spPr>
          <a:xfrm>
            <a:off x="5148360" y="65412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E:\Users\Admin\Desktop\火焰.png"/>
          <p:cNvPicPr/>
          <p:nvPr/>
        </p:nvPicPr>
        <p:blipFill>
          <a:blip r:embed="rId28"/>
          <a:stretch/>
        </p:blipFill>
        <p:spPr>
          <a:xfrm>
            <a:off x="3159000" y="151776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E:\Users\Admin\Desktop\火焰.png"/>
          <p:cNvPicPr/>
          <p:nvPr/>
        </p:nvPicPr>
        <p:blipFill>
          <a:blip r:embed="rId29"/>
          <a:stretch/>
        </p:blipFill>
        <p:spPr>
          <a:xfrm>
            <a:off x="4818240" y="155088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E:\Users\Admin\Desktop\火焰.png"/>
          <p:cNvPicPr/>
          <p:nvPr/>
        </p:nvPicPr>
        <p:blipFill>
          <a:blip r:embed="rId30"/>
          <a:stretch/>
        </p:blipFill>
        <p:spPr>
          <a:xfrm>
            <a:off x="5796000" y="1230480"/>
            <a:ext cx="1314360" cy="12301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7"/>
          <p:cNvSpPr/>
          <p:nvPr/>
        </p:nvSpPr>
        <p:spPr>
          <a:xfrm>
            <a:off x="2546280" y="597384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84807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984807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84807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984807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图片 9" descr=""/>
          <p:cNvPicPr/>
          <p:nvPr/>
        </p:nvPicPr>
        <p:blipFill>
          <a:blip r:embed="rId13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10" descr="png-0644"/>
          <p:cNvPicPr/>
          <p:nvPr/>
        </p:nvPicPr>
        <p:blipFill>
          <a:blip r:embed="rId14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png-0652"/>
          <p:cNvPicPr/>
          <p:nvPr/>
        </p:nvPicPr>
        <p:blipFill>
          <a:blip r:embed="rId15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3:30:12Z</dcterms:created>
  <dc:creator>Admin</dc:creator>
  <dc:description/>
  <dc:language>en-US</dc:language>
  <cp:lastModifiedBy>lenovo</cp:lastModifiedBy>
  <dcterms:modified xsi:type="dcterms:W3CDTF">2014-02-13T05:43:33Z</dcterms:modified>
  <cp:revision>20</cp:revision>
  <dc:subject/>
  <dc:title>PowerPoint 演示文稿</dc:title>
</cp:coreProperties>
</file>