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D9E804-0AD1-44BF-A749-3E75D4084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F8EA2E-23DE-45AF-AD48-A39C66A81E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822-6880-45D1-A3A5-0C3B65C7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861-92EA-4432-97E2-972472D6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FF6-B07A-4039-9DCA-170BD5F6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A49-C7C9-45C0-869D-D0742AF2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999-B366-4FD4-95DC-6C999C1F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5E8-9137-4564-8889-EA5A8BC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9929-E17F-4AB5-9EC1-B2959B66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53B5-276B-4CF7-B9DB-2BB5BAD1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54E9-595D-4DBA-A5AA-9E5BAC6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AB84-58BB-4159-8644-20F0536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3FE1-1979-465F-A984-11AE7DF2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C45-BE6B-4F4F-851E-5562380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50E8-917A-47DE-9905-BA7CA908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075E-7812-4192-85B8-33A9FB4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17BC-FC33-4828-8EC2-2F9606DE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90EE-CFD2-4F47-9071-8BF3827B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AD33-90BC-4978-9FD9-1010A275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24E-C494-465A-AAB3-2DFAAF3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7AF-AF8C-4EA6-BB73-DE59CBD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F23-55AF-4F59-9032-8583FA89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B38-2960-4113-86C5-2367401E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2B8-4BD3-4149-AEE3-1A050BB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5D8-9023-4A04-ACC2-0BCF7AF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060-5351-4FC6-8B2D-72F9BA0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0" r="0" b="28081"/>
          <a:stretch/>
        </p:blipFill>
        <p:spPr>
          <a:xfrm>
            <a:off x="0" y="2749680"/>
            <a:ext cx="9143640" cy="4109760"/>
          </a:xfrm>
          <a:prstGeom prst="rect">
            <a:avLst/>
          </a:prstGeom>
          <a:ln w="9525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0"/>
            <a:ext cx="9143640" cy="6859080"/>
          </a:xfrm>
          <a:prstGeom prst="rect">
            <a:avLst/>
          </a:prstGeom>
          <a:gradFill rotWithShape="0">
            <a:gsLst>
              <a:gs pos="44000">
                <a:srgbClr val="000000"/>
              </a:gs>
              <a:gs pos="100000">
                <a:srgbClr val="000000">
                  <a:alpha val="9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pic>
        <p:nvPicPr>
          <p:cNvPr id="2" name="图片 6" descr=""/>
          <p:cNvPicPr/>
          <p:nvPr/>
        </p:nvPicPr>
        <p:blipFill>
          <a:blip r:embed="rId3"/>
          <a:srcRect l="16562" t="0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7"/>
          <p:cNvSpPr/>
          <p:nvPr/>
        </p:nvSpPr>
        <p:spPr>
          <a:xfrm>
            <a:off x="7236000" y="4508640"/>
            <a:ext cx="1223640" cy="720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4" name="矩形 11"/>
          <p:cNvSpPr/>
          <p:nvPr/>
        </p:nvSpPr>
        <p:spPr>
          <a:xfrm>
            <a:off x="6443640" y="4869000"/>
            <a:ext cx="1223640" cy="720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cxnSp>
        <p:nvCxnSpPr>
          <p:cNvPr id="5" name="直接连接符 13"/>
          <p:cNvCxnSpPr/>
          <p:nvPr/>
        </p:nvCxnSpPr>
        <p:spPr>
          <a:xfrm>
            <a:off x="7235640" y="4508280"/>
            <a:ext cx="190872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6" name="直接连接符 15"/>
          <p:cNvCxnSpPr>
            <a:endCxn id="6" idx="1"/>
          </p:cNvCxnSpPr>
          <p:nvPr/>
        </p:nvCxnSpPr>
        <p:spPr>
          <a:xfrm>
            <a:off x="7235640" y="4508280"/>
            <a:ext cx="360" cy="90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7" name="直接连接符 17"/>
          <p:cNvCxnSpPr/>
          <p:nvPr/>
        </p:nvCxnSpPr>
        <p:spPr>
          <a:xfrm flipH="1">
            <a:off x="6443640" y="4868640"/>
            <a:ext cx="7923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8" name="直接连接符 19"/>
          <p:cNvCxnSpPr>
            <a:endCxn id="9" idx="1"/>
          </p:cNvCxnSpPr>
          <p:nvPr/>
        </p:nvCxnSpPr>
        <p:spPr>
          <a:xfrm flipH="1">
            <a:off x="457200" y="4868640"/>
            <a:ext cx="5986800" cy="167040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0" name="直接连接符 21"/>
          <p:cNvCxnSpPr>
            <a:stCxn id="9" idx="1"/>
          </p:cNvCxnSpPr>
          <p:nvPr/>
        </p:nvCxnSpPr>
        <p:spPr>
          <a:xfrm flipH="1" flipV="1">
            <a:off x="0" y="5187600"/>
            <a:ext cx="457560" cy="1351440"/>
          </a:xfrm>
          <a:prstGeom prst="straightConnector1">
            <a:avLst/>
          </a:prstGeom>
          <a:ln>
            <a:solidFill>
              <a:srgbClr val="808080"/>
            </a:solidFill>
            <a:round/>
          </a:ln>
        </p:spPr>
      </p:cxn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5840" y="5229360"/>
            <a:ext cx="7772040" cy="94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bfcfe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32EC2-AA07-48C2-8A36-60FE2094255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7" descr=""/>
          <p:cNvPicPr/>
          <p:nvPr/>
        </p:nvPicPr>
        <p:blipFill>
          <a:blip r:embed="rId2"/>
          <a:srcRect l="0" t="0" r="0" b="28081"/>
          <a:stretch/>
        </p:blipFill>
        <p:spPr>
          <a:xfrm>
            <a:off x="0" y="2749680"/>
            <a:ext cx="9143640" cy="4109760"/>
          </a:xfrm>
          <a:prstGeom prst="rect">
            <a:avLst/>
          </a:prstGeom>
          <a:ln w="9525">
            <a:noFill/>
          </a:ln>
        </p:spPr>
      </p:pic>
      <p:sp>
        <p:nvSpPr>
          <p:cNvPr id="53" name="矩形 8"/>
          <p:cNvSpPr/>
          <p:nvPr/>
        </p:nvSpPr>
        <p:spPr>
          <a:xfrm>
            <a:off x="0" y="0"/>
            <a:ext cx="9143640" cy="6859080"/>
          </a:xfrm>
          <a:prstGeom prst="rect">
            <a:avLst/>
          </a:prstGeom>
          <a:gradFill rotWithShape="0">
            <a:gsLst>
              <a:gs pos="44000">
                <a:srgbClr val="000000"/>
              </a:gs>
              <a:gs pos="100000">
                <a:srgbClr val="000000">
                  <a:alpha val="9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  <a:ea typeface="宋体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二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第三级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–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四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Arial"/>
              <a:buChar char="»"/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第五级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C8BC39-F883-46F5-B9D2-084947084013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5840" y="5229360"/>
            <a:ext cx="7772040" cy="941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bfcfe"/>
                </a:solidFill>
                <a:latin typeface="Impact"/>
              </a:rPr>
              <a:t>感恩母亲节</a:t>
            </a:r>
            <a:r>
              <a:rPr b="1" lang="en-US" sz="3200" spc="-1" strike="noStrike">
                <a:solidFill>
                  <a:srgbClr val="fbfcfe"/>
                </a:solidFill>
                <a:latin typeface="Impact"/>
              </a:rPr>
              <a:t>PPT</a:t>
            </a:r>
            <a:r>
              <a:rPr b="1" lang="zh-CN" sz="3200" spc="-1" strike="noStrike">
                <a:solidFill>
                  <a:srgbClr val="fbfcfe"/>
                </a:solidFill>
                <a:latin typeface="Impact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35040" y="4809240"/>
            <a:ext cx="7824600" cy="49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d9d9d9"/>
                </a:solidFill>
                <a:latin typeface="华文细黑"/>
                <a:ea typeface="华文细黑"/>
              </a:rPr>
              <a:t>妈妈，我爱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6300360" y="15120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4">
      <a:dk1>
        <a:srgbClr val="000000"/>
      </a:dk1>
      <a:lt1>
        <a:srgbClr val="ffffff"/>
      </a:lt1>
      <a:dk2>
        <a:srgbClr val="ffff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4">
      <a:dk1>
        <a:srgbClr val="000000"/>
      </a:dk1>
      <a:lt1>
        <a:srgbClr val="ffffff"/>
      </a:lt1>
      <a:dk2>
        <a:srgbClr val="ffff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  <Words>127</Words>
  <Paragraphs>1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5-11T17:34:54Z</dcterms:created>
  <dc:creator>果因PPT工作室</dc:creator>
  <dc:description/>
  <cp:keywords>XS-普屏 4：3 SC-深蓝色 BG-浅色 DH-静态</cp:keywords>
  <dc:language>en-US</dc:language>
  <cp:lastModifiedBy>Administrator</cp:lastModifiedBy>
  <dcterms:modified xsi:type="dcterms:W3CDTF">2017-07-14T09:38:04Z</dcterms:modified>
  <cp:revision>9</cp:revision>
  <dc:subject>TP-人文风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2</vt:r8>
  </property>
</Properties>
</file>