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11ED-E165-4B27-BD8B-8DAABB8C3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35B8-AF68-4253-AD56-EB5753A0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DD71-C27C-4B83-B9BF-98FCB8CC0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1AB0-231F-44ED-88C5-F61FDCB15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9277-3F35-43CA-81C0-0E79DFD8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357E-92C3-4497-BD20-FEE3B521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5B99-433F-4870-A3EF-A5130BE2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B4D3-900B-45FA-AF6C-774C52CE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A476-F81F-44A1-8CD0-9EF1496D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86F7-106C-49FE-8FB5-8C7956B4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C191-F393-46A7-B001-4CE66031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C256-F828-446E-B419-9E711E41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C9E5-8B48-4889-A554-904B6F77A8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ysweetmoon.taobao.com/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052" descr="max_20100216053255616027"/>
          <p:cNvPicPr/>
          <p:nvPr/>
        </p:nvPicPr>
        <p:blipFill>
          <a:blip r:embed="rId1"/>
          <a:stretch/>
        </p:blipFill>
        <p:spPr>
          <a:xfrm>
            <a:off x="63360" y="0"/>
            <a:ext cx="8985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对象 6147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5122" descr="阅读课：排好队，一个接一个">
            <a:hlinkClick r:id="rId1"/>
          </p:cNvPr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1332000" y="0"/>
            <a:ext cx="6669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5362" descr="阅读课：排好队，一个接一个"/>
          <p:cNvPicPr/>
          <p:nvPr/>
        </p:nvPicPr>
        <p:blipFill>
          <a:blip r:embed="rId1">
            <a:lum contrast="6000"/>
          </a:blip>
          <a:srcRect l="0" t="1481" r="0" b="0"/>
          <a:stretch/>
        </p:blipFill>
        <p:spPr>
          <a:xfrm>
            <a:off x="0" y="981000"/>
            <a:ext cx="91440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4338" descr="阅读课：排好队，一个接一个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836640"/>
            <a:ext cx="914400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3314" descr="阅读课：排好队，一个接一个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1266" descr="阅读课：排好队，一个接一个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0242" descr="阅读课：排好队，一个接一个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1125360"/>
            <a:ext cx="914400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对象 9219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8194" descr="69d532a7g946f686af1c2&amp;690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1197000"/>
            <a:ext cx="9144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7170" descr="阅读课：排好队，一个接一个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907920"/>
            <a:ext cx="9144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01:56:18Z</dcterms:created>
  <dc:creator>dell</dc:creator>
  <dc:description/>
  <dc:language>en-US</dc:language>
  <cp:lastModifiedBy>admin</cp:lastModifiedBy>
  <dcterms:modified xsi:type="dcterms:W3CDTF">2017-03-23T06:59:37Z</dcterms:modified>
  <cp:revision>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60</vt:lpwstr>
  </property>
</Properties>
</file>