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0E0C-FB5A-4546-8B31-106ECD2F9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9E98-0DCB-4F48-80EA-8FB14E24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F3C8-929F-448A-AED8-98CEBE6A9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AA35-8DFA-4EC2-AA12-7F8597CBA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BF12-EF62-41B5-98CF-D9BA546F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D523-59B6-4D62-A1E3-92D1ABA1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05F5-8A7C-45DE-B062-FC576D94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1F33-E3EF-4827-A660-B9226742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6819-33F8-4172-9C0A-717E5D59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D88E-06B4-4D81-90E6-16CD1427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BCA4-878B-4BE0-8987-C8A45E5B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BD1B-D078-4C82-8378-39BEAD05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B0E2-CF41-4428-B787-6217DCEBF4D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4754520" y="692280"/>
            <a:ext cx="48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003640" y="645480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流程图: 可选过程 11"/>
          <p:cNvSpPr/>
          <p:nvPr/>
        </p:nvSpPr>
        <p:spPr>
          <a:xfrm rot="5400000">
            <a:off x="1190880" y="865800"/>
            <a:ext cx="914400" cy="2160360"/>
          </a:xfrm>
          <a:prstGeom prst="flowChartAlternateProcess">
            <a:avLst/>
          </a:prstGeom>
          <a:solidFill>
            <a:srgbClr val="3280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4"/>
          <p:cNvSpPr/>
          <p:nvPr/>
        </p:nvSpPr>
        <p:spPr>
          <a:xfrm>
            <a:off x="285840" y="1868400"/>
            <a:ext cx="2782800" cy="3560760"/>
          </a:xfrm>
          <a:prstGeom prst="rect">
            <a:avLst/>
          </a:prstGeom>
          <a:solidFill>
            <a:srgbClr val="b3b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弦形 13"/>
          <p:cNvSpPr/>
          <p:nvPr/>
        </p:nvSpPr>
        <p:spPr>
          <a:xfrm rot="16200000">
            <a:off x="1231920" y="13939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461284" y="914381"/>
                </a:moveTo>
                <a:cubicBezTo>
                  <a:pt x="464009" y="914375"/>
                  <a:pt x="462647" y="914381"/>
                  <a:pt x="461284" y="914381"/>
                </a:cubicBezTo>
                <a:cubicBezTo>
                  <a:pt x="208779" y="914381"/>
                  <a:pt x="4084" y="709686"/>
                  <a:pt x="4084" y="457181"/>
                </a:cubicBezTo>
                <a:cubicBezTo>
                  <a:pt x="4084" y="204676"/>
                  <a:pt x="208779" y="-19"/>
                  <a:pt x="461284" y="-19"/>
                </a:cubicBezTo>
                <a:close/>
              </a:path>
            </a:pathLst>
          </a:custGeom>
          <a:solidFill>
            <a:srgbClr val="3280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流程图: 可选过程 17"/>
          <p:cNvSpPr/>
          <p:nvPr/>
        </p:nvSpPr>
        <p:spPr>
          <a:xfrm rot="5400000">
            <a:off x="4061520" y="865440"/>
            <a:ext cx="914400" cy="2160720"/>
          </a:xfrm>
          <a:prstGeom prst="flowChartAlternateProcess">
            <a:avLst/>
          </a:prstGeom>
          <a:solidFill>
            <a:srgbClr val="3280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8"/>
          <p:cNvSpPr/>
          <p:nvPr/>
        </p:nvSpPr>
        <p:spPr>
          <a:xfrm>
            <a:off x="3156120" y="1868400"/>
            <a:ext cx="2782800" cy="3560760"/>
          </a:xfrm>
          <a:prstGeom prst="rect">
            <a:avLst/>
          </a:prstGeom>
          <a:solidFill>
            <a:srgbClr val="b3b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弦形 19"/>
          <p:cNvSpPr/>
          <p:nvPr/>
        </p:nvSpPr>
        <p:spPr>
          <a:xfrm rot="16200000">
            <a:off x="4102200" y="13939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461284" y="914381"/>
                </a:moveTo>
                <a:cubicBezTo>
                  <a:pt x="464009" y="914375"/>
                  <a:pt x="462647" y="914381"/>
                  <a:pt x="461284" y="914381"/>
                </a:cubicBezTo>
                <a:cubicBezTo>
                  <a:pt x="208779" y="914381"/>
                  <a:pt x="4084" y="709686"/>
                  <a:pt x="4084" y="457181"/>
                </a:cubicBezTo>
                <a:cubicBezTo>
                  <a:pt x="4084" y="204676"/>
                  <a:pt x="208779" y="-19"/>
                  <a:pt x="461284" y="-19"/>
                </a:cubicBezTo>
                <a:close/>
              </a:path>
            </a:pathLst>
          </a:custGeom>
          <a:solidFill>
            <a:srgbClr val="3280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流程图: 可选过程 21"/>
          <p:cNvSpPr/>
          <p:nvPr/>
        </p:nvSpPr>
        <p:spPr>
          <a:xfrm rot="5400000">
            <a:off x="6919200" y="865440"/>
            <a:ext cx="914400" cy="2160720"/>
          </a:xfrm>
          <a:prstGeom prst="flowChartAlternateProcess">
            <a:avLst/>
          </a:prstGeom>
          <a:solidFill>
            <a:srgbClr val="3280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22"/>
          <p:cNvSpPr/>
          <p:nvPr/>
        </p:nvSpPr>
        <p:spPr>
          <a:xfrm>
            <a:off x="6013440" y="1868400"/>
            <a:ext cx="2782800" cy="3560760"/>
          </a:xfrm>
          <a:prstGeom prst="rect">
            <a:avLst/>
          </a:prstGeom>
          <a:solidFill>
            <a:srgbClr val="b3b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弦形 23"/>
          <p:cNvSpPr/>
          <p:nvPr/>
        </p:nvSpPr>
        <p:spPr>
          <a:xfrm rot="16200000">
            <a:off x="6959520" y="13939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461284" y="914381"/>
                </a:moveTo>
                <a:cubicBezTo>
                  <a:pt x="464009" y="914375"/>
                  <a:pt x="462647" y="914381"/>
                  <a:pt x="461284" y="914381"/>
                </a:cubicBezTo>
                <a:cubicBezTo>
                  <a:pt x="208779" y="914381"/>
                  <a:pt x="4084" y="709686"/>
                  <a:pt x="4084" y="457181"/>
                </a:cubicBezTo>
                <a:cubicBezTo>
                  <a:pt x="4084" y="204676"/>
                  <a:pt x="208779" y="-19"/>
                  <a:pt x="461284" y="-19"/>
                </a:cubicBezTo>
                <a:close/>
              </a:path>
            </a:pathLst>
          </a:custGeom>
          <a:solidFill>
            <a:srgbClr val="3280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2"/>
          <p:cNvSpPr/>
          <p:nvPr/>
        </p:nvSpPr>
        <p:spPr>
          <a:xfrm>
            <a:off x="10688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3"/>
          <p:cNvSpPr/>
          <p:nvPr/>
        </p:nvSpPr>
        <p:spPr>
          <a:xfrm>
            <a:off x="69267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4"/>
          <p:cNvSpPr/>
          <p:nvPr/>
        </p:nvSpPr>
        <p:spPr>
          <a:xfrm>
            <a:off x="40690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椭圆 10"/>
          <p:cNvSpPr/>
          <p:nvPr/>
        </p:nvSpPr>
        <p:spPr>
          <a:xfrm>
            <a:off x="1360440" y="1825560"/>
            <a:ext cx="1100160" cy="1100160"/>
          </a:xfrm>
          <a:prstGeom prst="ellipse">
            <a:avLst/>
          </a:prstGeom>
          <a:solidFill>
            <a:srgbClr val="b3b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11"/>
          <p:cNvSpPr/>
          <p:nvPr/>
        </p:nvSpPr>
        <p:spPr>
          <a:xfrm>
            <a:off x="5083200" y="1825560"/>
            <a:ext cx="1100160" cy="1100160"/>
          </a:xfrm>
          <a:prstGeom prst="ellipse">
            <a:avLst/>
          </a:prstGeom>
          <a:solidFill>
            <a:srgbClr val="b3b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12"/>
          <p:cNvSpPr/>
          <p:nvPr/>
        </p:nvSpPr>
        <p:spPr>
          <a:xfrm>
            <a:off x="2774880" y="3790800"/>
            <a:ext cx="1100160" cy="1100160"/>
          </a:xfrm>
          <a:prstGeom prst="ellipse">
            <a:avLst/>
          </a:prstGeom>
          <a:solidFill>
            <a:srgbClr val="b3b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13"/>
          <p:cNvSpPr/>
          <p:nvPr/>
        </p:nvSpPr>
        <p:spPr>
          <a:xfrm>
            <a:off x="6640560" y="3760920"/>
            <a:ext cx="1100160" cy="1100160"/>
          </a:xfrm>
          <a:prstGeom prst="ellipse">
            <a:avLst/>
          </a:prstGeom>
          <a:solidFill>
            <a:srgbClr val="b3b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14"/>
          <p:cNvSpPr/>
          <p:nvPr/>
        </p:nvSpPr>
        <p:spPr>
          <a:xfrm>
            <a:off x="2060640" y="2685960"/>
            <a:ext cx="333360" cy="333360"/>
          </a:xfrm>
          <a:prstGeom prst="ellipse">
            <a:avLst/>
          </a:prstGeom>
          <a:solidFill>
            <a:srgbClr val="3280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15"/>
          <p:cNvSpPr/>
          <p:nvPr/>
        </p:nvSpPr>
        <p:spPr>
          <a:xfrm>
            <a:off x="5931000" y="2664000"/>
            <a:ext cx="333360" cy="333360"/>
          </a:xfrm>
          <a:prstGeom prst="ellipse">
            <a:avLst/>
          </a:prstGeom>
          <a:solidFill>
            <a:srgbClr val="3280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16"/>
          <p:cNvSpPr/>
          <p:nvPr/>
        </p:nvSpPr>
        <p:spPr>
          <a:xfrm>
            <a:off x="3500280" y="4680000"/>
            <a:ext cx="335160" cy="333360"/>
          </a:xfrm>
          <a:prstGeom prst="ellipse">
            <a:avLst/>
          </a:prstGeom>
          <a:solidFill>
            <a:srgbClr val="3280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17"/>
          <p:cNvSpPr/>
          <p:nvPr/>
        </p:nvSpPr>
        <p:spPr>
          <a:xfrm>
            <a:off x="7408800" y="4656240"/>
            <a:ext cx="335160" cy="333360"/>
          </a:xfrm>
          <a:prstGeom prst="ellipse">
            <a:avLst/>
          </a:prstGeom>
          <a:solidFill>
            <a:srgbClr val="3280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直接箭头连接符 18"/>
          <p:cNvCxnSpPr/>
          <p:nvPr/>
        </p:nvCxnSpPr>
        <p:spPr>
          <a:xfrm>
            <a:off x="2287440" y="2997360"/>
            <a:ext cx="648360" cy="864000"/>
          </a:xfrm>
          <a:prstGeom prst="straightConnector1">
            <a:avLst/>
          </a:prstGeom>
          <a:ln w="9360">
            <a:solidFill>
              <a:srgbClr val="858494"/>
            </a:solidFill>
            <a:round/>
            <a:tailEnd len="med" type="arrow" w="med"/>
          </a:ln>
        </p:spPr>
      </p:cxnSp>
      <p:cxnSp>
        <p:nvCxnSpPr>
          <p:cNvPr id="52" name="直接箭头连接符 19"/>
          <p:cNvCxnSpPr/>
          <p:nvPr/>
        </p:nvCxnSpPr>
        <p:spPr>
          <a:xfrm>
            <a:off x="6183000" y="2946240"/>
            <a:ext cx="648360" cy="845280"/>
          </a:xfrm>
          <a:prstGeom prst="straightConnector1">
            <a:avLst/>
          </a:prstGeom>
          <a:ln w="9360">
            <a:solidFill>
              <a:srgbClr val="858494"/>
            </a:solidFill>
            <a:round/>
            <a:tailEnd len="med" type="arrow" w="med"/>
          </a:ln>
        </p:spPr>
      </p:cxnSp>
      <p:cxnSp>
        <p:nvCxnSpPr>
          <p:cNvPr id="53" name="直接箭头连接符 20"/>
          <p:cNvCxnSpPr/>
          <p:nvPr/>
        </p:nvCxnSpPr>
        <p:spPr>
          <a:xfrm flipV="1">
            <a:off x="3666960" y="2685240"/>
            <a:ext cx="1416960" cy="1175400"/>
          </a:xfrm>
          <a:prstGeom prst="straightConnector1">
            <a:avLst/>
          </a:prstGeom>
          <a:ln w="9360">
            <a:solidFill>
              <a:srgbClr val="858494"/>
            </a:solidFill>
            <a:round/>
            <a:tailEnd len="med" type="arrow" w="med"/>
          </a:ln>
        </p:spPr>
      </p:cxnSp>
      <p:sp>
        <p:nvSpPr>
          <p:cNvPr id="5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0"/>
          <p:cNvSpPr/>
          <p:nvPr/>
        </p:nvSpPr>
        <p:spPr>
          <a:xfrm>
            <a:off x="2883240" y="4084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1"/>
          <p:cNvSpPr/>
          <p:nvPr/>
        </p:nvSpPr>
        <p:spPr>
          <a:xfrm>
            <a:off x="1383120" y="2155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2"/>
          <p:cNvSpPr/>
          <p:nvPr/>
        </p:nvSpPr>
        <p:spPr>
          <a:xfrm>
            <a:off x="6598080" y="4084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2"/>
          <p:cNvSpPr/>
          <p:nvPr/>
        </p:nvSpPr>
        <p:spPr>
          <a:xfrm>
            <a:off x="5097960" y="2084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20"/>
          <p:cNvGrpSpPr/>
          <p:nvPr/>
        </p:nvGrpSpPr>
        <p:grpSpPr>
          <a:xfrm>
            <a:off x="604800" y="2276640"/>
            <a:ext cx="3846600" cy="2084400"/>
            <a:chOff x="604800" y="2276640"/>
            <a:chExt cx="3846600" cy="2084400"/>
          </a:xfrm>
        </p:grpSpPr>
        <p:grpSp>
          <p:nvGrpSpPr>
            <p:cNvPr id="69" name="组合 19"/>
            <p:cNvGrpSpPr/>
            <p:nvPr/>
          </p:nvGrpSpPr>
          <p:grpSpPr>
            <a:xfrm>
              <a:off x="604800" y="2276640"/>
              <a:ext cx="3846600" cy="1890360"/>
              <a:chOff x="604800" y="2276640"/>
              <a:chExt cx="3846600" cy="1890360"/>
            </a:xfrm>
          </p:grpSpPr>
          <p:pic>
            <p:nvPicPr>
              <p:cNvPr id="70" name="Picture 16" descr="c:\documents and settings\administrator\application data\360se6\User Data\temp\curve-desert-mountains-5159-826x550.jpg"/>
              <p:cNvPicPr/>
              <p:nvPr/>
            </p:nvPicPr>
            <p:blipFill>
              <a:blip r:embed="rId1"/>
              <a:stretch/>
            </p:blipFill>
            <p:spPr>
              <a:xfrm>
                <a:off x="604800" y="2276640"/>
                <a:ext cx="2838240" cy="1890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1" name="组合 7"/>
              <p:cNvGrpSpPr/>
              <p:nvPr/>
            </p:nvGrpSpPr>
            <p:grpSpPr>
              <a:xfrm>
                <a:off x="3513600" y="2276640"/>
                <a:ext cx="937800" cy="1890360"/>
                <a:chOff x="3513600" y="2276640"/>
                <a:chExt cx="937800" cy="1890360"/>
              </a:xfrm>
            </p:grpSpPr>
            <p:sp>
              <p:nvSpPr>
                <p:cNvPr id="72" name="矩形 5"/>
                <p:cNvSpPr/>
                <p:nvPr/>
              </p:nvSpPr>
              <p:spPr>
                <a:xfrm>
                  <a:off x="3513600" y="2276640"/>
                  <a:ext cx="937800" cy="1890360"/>
                </a:xfrm>
                <a:prstGeom prst="rect">
                  <a:avLst/>
                </a:prstGeom>
                <a:solidFill>
                  <a:srgbClr val="3280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TextBox 26"/>
                <p:cNvSpPr/>
                <p:nvPr/>
              </p:nvSpPr>
              <p:spPr>
                <a:xfrm>
                  <a:off x="3713400" y="2345400"/>
                  <a:ext cx="546120" cy="175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添加标题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" name="圆角矩形 22"/>
            <p:cNvSpPr/>
            <p:nvPr/>
          </p:nvSpPr>
          <p:spPr>
            <a:xfrm>
              <a:off x="604800" y="4315320"/>
              <a:ext cx="3846600" cy="45720"/>
            </a:xfrm>
            <a:prstGeom prst="roundRect">
              <a:avLst>
                <a:gd name="adj" fmla="val 16667"/>
              </a:avLst>
            </a:prstGeom>
            <a:solidFill>
              <a:srgbClr val="328015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27"/>
          <p:cNvGrpSpPr/>
          <p:nvPr/>
        </p:nvGrpSpPr>
        <p:grpSpPr>
          <a:xfrm>
            <a:off x="4827600" y="2276640"/>
            <a:ext cx="3848040" cy="2063520"/>
            <a:chOff x="4827600" y="2276640"/>
            <a:chExt cx="3848040" cy="2063520"/>
          </a:xfrm>
        </p:grpSpPr>
        <p:grpSp>
          <p:nvGrpSpPr>
            <p:cNvPr id="76" name="组合 17"/>
            <p:cNvGrpSpPr/>
            <p:nvPr/>
          </p:nvGrpSpPr>
          <p:grpSpPr>
            <a:xfrm>
              <a:off x="4827600" y="2276640"/>
              <a:ext cx="3848040" cy="1890720"/>
              <a:chOff x="4827600" y="2276640"/>
              <a:chExt cx="3848040" cy="1890720"/>
            </a:xfrm>
          </p:grpSpPr>
          <p:pic>
            <p:nvPicPr>
              <p:cNvPr id="77" name="Picture 20" descr="c:\documents and settings\administrator\application data\360se6\User Data\temp\beach-palms-4988-525x350.jpg"/>
              <p:cNvPicPr/>
              <p:nvPr/>
            </p:nvPicPr>
            <p:blipFill>
              <a:blip r:embed="rId2"/>
              <a:stretch/>
            </p:blipFill>
            <p:spPr>
              <a:xfrm>
                <a:off x="4827600" y="2276640"/>
                <a:ext cx="2834640" cy="1890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8" name="组合 41"/>
              <p:cNvGrpSpPr/>
              <p:nvPr/>
            </p:nvGrpSpPr>
            <p:grpSpPr>
              <a:xfrm>
                <a:off x="7737840" y="2276640"/>
                <a:ext cx="937800" cy="1890720"/>
                <a:chOff x="7737840" y="2276640"/>
                <a:chExt cx="937800" cy="1890720"/>
              </a:xfrm>
            </p:grpSpPr>
            <p:sp>
              <p:nvSpPr>
                <p:cNvPr id="79" name="矩形 32"/>
                <p:cNvSpPr/>
                <p:nvPr/>
              </p:nvSpPr>
              <p:spPr>
                <a:xfrm>
                  <a:off x="7737840" y="2276640"/>
                  <a:ext cx="937800" cy="1890720"/>
                </a:xfrm>
                <a:prstGeom prst="rect">
                  <a:avLst/>
                </a:prstGeom>
                <a:solidFill>
                  <a:srgbClr val="b3b3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TextBox 33"/>
                <p:cNvSpPr/>
                <p:nvPr/>
              </p:nvSpPr>
              <p:spPr>
                <a:xfrm>
                  <a:off x="7937640" y="2345760"/>
                  <a:ext cx="546120" cy="175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添加标题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" name="圆角矩形 29"/>
            <p:cNvSpPr/>
            <p:nvPr/>
          </p:nvSpPr>
          <p:spPr>
            <a:xfrm>
              <a:off x="4827600" y="4294440"/>
              <a:ext cx="3846600" cy="45720"/>
            </a:xfrm>
            <a:prstGeom prst="roundRect">
              <a:avLst>
                <a:gd name="adj" fmla="val 16667"/>
              </a:avLst>
            </a:prstGeom>
            <a:solidFill>
              <a:srgbClr val="b3b338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rcRect l="17053" t="7627" r="19003" b="562"/>
          <a:stretch/>
        </p:blipFill>
        <p:spPr>
          <a:xfrm>
            <a:off x="539640" y="1670040"/>
            <a:ext cx="5018040" cy="3613320"/>
          </a:xfrm>
          <a:prstGeom prst="rect">
            <a:avLst/>
          </a:prstGeom>
          <a:ln w="0">
            <a:noFill/>
          </a:ln>
        </p:spPr>
      </p:pic>
      <p:grpSp>
        <p:nvGrpSpPr>
          <p:cNvPr id="88" name="组合 7"/>
          <p:cNvGrpSpPr/>
          <p:nvPr/>
        </p:nvGrpSpPr>
        <p:grpSpPr>
          <a:xfrm>
            <a:off x="5711760" y="1685880"/>
            <a:ext cx="3181320" cy="3597480"/>
            <a:chOff x="5711760" y="1685880"/>
            <a:chExt cx="3181320" cy="3597480"/>
          </a:xfrm>
        </p:grpSpPr>
        <p:sp>
          <p:nvSpPr>
            <p:cNvPr id="89" name="矩形 8"/>
            <p:cNvSpPr/>
            <p:nvPr/>
          </p:nvSpPr>
          <p:spPr>
            <a:xfrm>
              <a:off x="5711760" y="1685880"/>
              <a:ext cx="3098880" cy="449280"/>
            </a:xfrm>
            <a:prstGeom prst="rect">
              <a:avLst/>
            </a:prstGeom>
            <a:solidFill>
              <a:srgbClr val="b3b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10"/>
            <p:cNvSpPr/>
            <p:nvPr/>
          </p:nvSpPr>
          <p:spPr>
            <a:xfrm>
              <a:off x="5794200" y="2738520"/>
              <a:ext cx="3098880" cy="449280"/>
            </a:xfrm>
            <a:prstGeom prst="rect">
              <a:avLst/>
            </a:prstGeom>
            <a:solidFill>
              <a:srgbClr val="3280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12"/>
            <p:cNvSpPr/>
            <p:nvPr/>
          </p:nvSpPr>
          <p:spPr>
            <a:xfrm>
              <a:off x="5794200" y="3781440"/>
              <a:ext cx="3098880" cy="449280"/>
            </a:xfrm>
            <a:prstGeom prst="rect">
              <a:avLst/>
            </a:prstGeom>
            <a:solidFill>
              <a:srgbClr val="b3b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14"/>
            <p:cNvSpPr/>
            <p:nvPr/>
          </p:nvSpPr>
          <p:spPr>
            <a:xfrm>
              <a:off x="5794200" y="4834080"/>
              <a:ext cx="3098880" cy="449280"/>
            </a:xfrm>
            <a:prstGeom prst="rect">
              <a:avLst/>
            </a:prstGeom>
            <a:solidFill>
              <a:srgbClr val="3280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矩形 13"/>
          <p:cNvSpPr/>
          <p:nvPr/>
        </p:nvSpPr>
        <p:spPr>
          <a:xfrm>
            <a:off x="539640" y="1700280"/>
            <a:ext cx="4969080" cy="3600360"/>
          </a:xfrm>
          <a:prstGeom prst="rect">
            <a:avLst/>
          </a:prstGeom>
          <a:solidFill>
            <a:srgbClr val="b3b338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rcRect l="3784" t="12820" r="32357" b="12820"/>
          <a:stretch/>
        </p:blipFill>
        <p:spPr>
          <a:xfrm>
            <a:off x="755640" y="1628640"/>
            <a:ext cx="5030640" cy="2927520"/>
          </a:xfrm>
          <a:prstGeom prst="rect">
            <a:avLst/>
          </a:prstGeom>
          <a:ln w="0">
            <a:noFill/>
          </a:ln>
        </p:spPr>
      </p:pic>
      <p:sp>
        <p:nvSpPr>
          <p:cNvPr id="100" name="矩形 7"/>
          <p:cNvSpPr/>
          <p:nvPr/>
        </p:nvSpPr>
        <p:spPr>
          <a:xfrm>
            <a:off x="2708280" y="3830760"/>
            <a:ext cx="5954760" cy="1450800"/>
          </a:xfrm>
          <a:prstGeom prst="rect">
            <a:avLst/>
          </a:prstGeom>
          <a:solidFill>
            <a:srgbClr val="b3b338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8"/>
          <p:cNvSpPr/>
          <p:nvPr/>
        </p:nvSpPr>
        <p:spPr>
          <a:xfrm>
            <a:off x="560520" y="1449360"/>
            <a:ext cx="447480" cy="414360"/>
          </a:xfrm>
          <a:prstGeom prst="rect">
            <a:avLst/>
          </a:prstGeom>
          <a:solidFill>
            <a:srgbClr val="858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9"/>
          <p:cNvSpPr/>
          <p:nvPr/>
        </p:nvSpPr>
        <p:spPr>
          <a:xfrm>
            <a:off x="755640" y="1500120"/>
            <a:ext cx="447840" cy="412920"/>
          </a:xfrm>
          <a:prstGeom prst="rect">
            <a:avLst/>
          </a:prstGeom>
          <a:solidFill>
            <a:srgbClr val="3280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剪去同侧角的矩形 1"/>
          <p:cNvSpPr/>
          <p:nvPr/>
        </p:nvSpPr>
        <p:spPr>
          <a:xfrm>
            <a:off x="2347920" y="3209760"/>
            <a:ext cx="1793880" cy="1262160"/>
          </a:xfrm>
          <a:custGeom>
            <a:avLst/>
            <a:gdLst/>
            <a:ahLst/>
            <a:rect l="l" t="t" r="r" b="b"/>
            <a:pathLst>
              <a:path w="2646947" h="1359568">
                <a:moveTo>
                  <a:pt x="0" y="685800"/>
                </a:moveTo>
                <a:lnTo>
                  <a:pt x="1335505" y="0"/>
                </a:lnTo>
                <a:lnTo>
                  <a:pt x="2646947" y="685800"/>
                </a:lnTo>
                <a:lnTo>
                  <a:pt x="2646947" y="1359568"/>
                </a:lnTo>
                <a:lnTo>
                  <a:pt x="0" y="1359568"/>
                </a:lnTo>
                <a:lnTo>
                  <a:pt x="0" y="685800"/>
                </a:lnTo>
                <a:close/>
              </a:path>
            </a:pathLst>
          </a:custGeom>
          <a:solidFill>
            <a:srgbClr val="3280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剪去同侧角的矩形 1"/>
          <p:cNvSpPr/>
          <p:nvPr/>
        </p:nvSpPr>
        <p:spPr>
          <a:xfrm>
            <a:off x="4249800" y="3209760"/>
            <a:ext cx="1792080" cy="1262160"/>
          </a:xfrm>
          <a:custGeom>
            <a:avLst/>
            <a:gdLst/>
            <a:ahLst/>
            <a:rect l="l" t="t" r="r" b="b"/>
            <a:pathLst>
              <a:path w="2646947" h="1359568">
                <a:moveTo>
                  <a:pt x="0" y="685800"/>
                </a:moveTo>
                <a:lnTo>
                  <a:pt x="1335505" y="0"/>
                </a:lnTo>
                <a:lnTo>
                  <a:pt x="2646947" y="685800"/>
                </a:lnTo>
                <a:lnTo>
                  <a:pt x="2646947" y="1359568"/>
                </a:lnTo>
                <a:lnTo>
                  <a:pt x="0" y="1359568"/>
                </a:lnTo>
                <a:lnTo>
                  <a:pt x="0" y="685800"/>
                </a:lnTo>
                <a:close/>
              </a:path>
            </a:pathLst>
          </a:custGeom>
          <a:solidFill>
            <a:srgbClr val="b3b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剪去同侧角的矩形 1"/>
          <p:cNvSpPr/>
          <p:nvPr/>
        </p:nvSpPr>
        <p:spPr>
          <a:xfrm rot="10800000">
            <a:off x="3298320" y="2457360"/>
            <a:ext cx="1792440" cy="1263600"/>
          </a:xfrm>
          <a:custGeom>
            <a:avLst/>
            <a:gdLst/>
            <a:ahLst/>
            <a:rect l="l" t="t" r="r" b="b"/>
            <a:pathLst>
              <a:path w="2646947" h="1359568">
                <a:moveTo>
                  <a:pt x="0" y="685800"/>
                </a:moveTo>
                <a:lnTo>
                  <a:pt x="1335505" y="0"/>
                </a:lnTo>
                <a:lnTo>
                  <a:pt x="2646947" y="685800"/>
                </a:lnTo>
                <a:lnTo>
                  <a:pt x="2646947" y="1359568"/>
                </a:lnTo>
                <a:lnTo>
                  <a:pt x="0" y="1359568"/>
                </a:lnTo>
                <a:lnTo>
                  <a:pt x="0" y="685800"/>
                </a:lnTo>
                <a:close/>
              </a:path>
            </a:pathLst>
          </a:custGeom>
          <a:solidFill>
            <a:srgbClr val="b3b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剪去同侧角的矩形 1"/>
          <p:cNvSpPr/>
          <p:nvPr/>
        </p:nvSpPr>
        <p:spPr>
          <a:xfrm rot="10800000">
            <a:off x="5252760" y="2457360"/>
            <a:ext cx="1793880" cy="1263600"/>
          </a:xfrm>
          <a:custGeom>
            <a:avLst/>
            <a:gdLst/>
            <a:ahLst/>
            <a:rect l="l" t="t" r="r" b="b"/>
            <a:pathLst>
              <a:path w="2646947" h="1359568">
                <a:moveTo>
                  <a:pt x="0" y="685800"/>
                </a:moveTo>
                <a:lnTo>
                  <a:pt x="1335505" y="0"/>
                </a:lnTo>
                <a:lnTo>
                  <a:pt x="2646947" y="685800"/>
                </a:lnTo>
                <a:lnTo>
                  <a:pt x="2646947" y="1359568"/>
                </a:lnTo>
                <a:lnTo>
                  <a:pt x="0" y="1359568"/>
                </a:lnTo>
                <a:lnTo>
                  <a:pt x="0" y="685800"/>
                </a:lnTo>
                <a:close/>
              </a:path>
            </a:pathLst>
          </a:custGeom>
          <a:solidFill>
            <a:srgbClr val="3280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5"/>
          <p:cNvSpPr/>
          <p:nvPr/>
        </p:nvSpPr>
        <p:spPr>
          <a:xfrm flipV="1">
            <a:off x="4222800" y="1862280"/>
            <a:ext cx="0" cy="581040"/>
          </a:xfrm>
          <a:prstGeom prst="line">
            <a:avLst/>
          </a:prstGeom>
          <a:ln w="1260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7"/>
          <p:cNvSpPr/>
          <p:nvPr/>
        </p:nvSpPr>
        <p:spPr>
          <a:xfrm flipH="1">
            <a:off x="2142720" y="1849320"/>
            <a:ext cx="2079720" cy="0"/>
          </a:xfrm>
          <a:prstGeom prst="line">
            <a:avLst/>
          </a:prstGeom>
          <a:ln w="648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28"/>
          <p:cNvSpPr/>
          <p:nvPr/>
        </p:nvSpPr>
        <p:spPr>
          <a:xfrm flipV="1">
            <a:off x="3298680" y="4484160"/>
            <a:ext cx="0" cy="373320"/>
          </a:xfrm>
          <a:prstGeom prst="line">
            <a:avLst/>
          </a:prstGeom>
          <a:ln w="1260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29"/>
          <p:cNvSpPr/>
          <p:nvPr/>
        </p:nvSpPr>
        <p:spPr>
          <a:xfrm flipH="1">
            <a:off x="2347920" y="4857840"/>
            <a:ext cx="938160" cy="0"/>
          </a:xfrm>
          <a:prstGeom prst="line">
            <a:avLst/>
          </a:prstGeom>
          <a:ln w="648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36"/>
          <p:cNvSpPr/>
          <p:nvPr/>
        </p:nvSpPr>
        <p:spPr>
          <a:xfrm flipV="1">
            <a:off x="5111640" y="4484160"/>
            <a:ext cx="0" cy="373320"/>
          </a:xfrm>
          <a:prstGeom prst="line">
            <a:avLst/>
          </a:prstGeom>
          <a:ln w="1260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37"/>
          <p:cNvSpPr/>
          <p:nvPr/>
        </p:nvSpPr>
        <p:spPr>
          <a:xfrm flipH="1">
            <a:off x="5111640" y="4857840"/>
            <a:ext cx="930240" cy="0"/>
          </a:xfrm>
          <a:prstGeom prst="line">
            <a:avLst/>
          </a:prstGeom>
          <a:ln w="648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41"/>
          <p:cNvSpPr/>
          <p:nvPr/>
        </p:nvSpPr>
        <p:spPr>
          <a:xfrm flipV="1">
            <a:off x="6135840" y="1849320"/>
            <a:ext cx="0" cy="611280"/>
          </a:xfrm>
          <a:prstGeom prst="line">
            <a:avLst/>
          </a:prstGeom>
          <a:ln w="1260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42"/>
          <p:cNvSpPr/>
          <p:nvPr/>
        </p:nvSpPr>
        <p:spPr>
          <a:xfrm flipH="1">
            <a:off x="6135840" y="1835280"/>
            <a:ext cx="1428480" cy="0"/>
          </a:xfrm>
          <a:prstGeom prst="line">
            <a:avLst/>
          </a:prstGeom>
          <a:ln w="648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2"/>
          <p:cNvSpPr/>
          <p:nvPr/>
        </p:nvSpPr>
        <p:spPr>
          <a:xfrm>
            <a:off x="706968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3"/>
          <p:cNvSpPr/>
          <p:nvPr/>
        </p:nvSpPr>
        <p:spPr>
          <a:xfrm>
            <a:off x="62125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4"/>
          <p:cNvSpPr/>
          <p:nvPr/>
        </p:nvSpPr>
        <p:spPr>
          <a:xfrm>
            <a:off x="17830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5"/>
          <p:cNvSpPr/>
          <p:nvPr/>
        </p:nvSpPr>
        <p:spPr>
          <a:xfrm>
            <a:off x="171180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组合 11"/>
          <p:cNvGrpSpPr/>
          <p:nvPr/>
        </p:nvGrpSpPr>
        <p:grpSpPr>
          <a:xfrm>
            <a:off x="357120" y="2001960"/>
            <a:ext cx="8447040" cy="2355840"/>
            <a:chOff x="357120" y="2001960"/>
            <a:chExt cx="8447040" cy="2355840"/>
          </a:xfrm>
        </p:grpSpPr>
        <p:sp>
          <p:nvSpPr>
            <p:cNvPr id="125" name="矩形 12"/>
            <p:cNvSpPr/>
            <p:nvPr/>
          </p:nvSpPr>
          <p:spPr>
            <a:xfrm>
              <a:off x="357120" y="2001960"/>
              <a:ext cx="2171520" cy="2355840"/>
            </a:xfrm>
            <a:prstGeom prst="rect">
              <a:avLst/>
            </a:prstGeom>
            <a:solidFill>
              <a:srgbClr val="b3b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任意多边形 13"/>
            <p:cNvSpPr/>
            <p:nvPr/>
          </p:nvSpPr>
          <p:spPr>
            <a:xfrm>
              <a:off x="1350720" y="2459160"/>
              <a:ext cx="3119400" cy="1441440"/>
            </a:xfrm>
            <a:custGeom>
              <a:avLst/>
              <a:gdLst/>
              <a:ahLst/>
              <a:rect l="l" t="t" r="r" b="b"/>
              <a:pathLst>
                <a:path w="2806603" h="1296144">
                  <a:moveTo>
                    <a:pt x="101734" y="0"/>
                  </a:moveTo>
                  <a:lnTo>
                    <a:pt x="2158531" y="0"/>
                  </a:lnTo>
                  <a:lnTo>
                    <a:pt x="2806603" y="648072"/>
                  </a:lnTo>
                  <a:lnTo>
                    <a:pt x="2158531" y="1296144"/>
                  </a:lnTo>
                  <a:lnTo>
                    <a:pt x="101734" y="1296144"/>
                  </a:lnTo>
                  <a:cubicBezTo>
                    <a:pt x="45548" y="1296144"/>
                    <a:pt x="0" y="1250596"/>
                    <a:pt x="0" y="1194410"/>
                  </a:cubicBezTo>
                  <a:lnTo>
                    <a:pt x="0" y="101734"/>
                  </a:lnTo>
                  <a:cubicBezTo>
                    <a:pt x="0" y="45548"/>
                    <a:pt x="45548" y="0"/>
                    <a:pt x="101734" y="0"/>
                  </a:cubicBezTo>
                  <a:close/>
                </a:path>
              </a:pathLst>
            </a:custGeom>
            <a:solidFill>
              <a:srgbClr val="328015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88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矩形 14"/>
            <p:cNvSpPr/>
            <p:nvPr/>
          </p:nvSpPr>
          <p:spPr>
            <a:xfrm>
              <a:off x="6632640" y="2001960"/>
              <a:ext cx="2171520" cy="2355840"/>
            </a:xfrm>
            <a:prstGeom prst="rect">
              <a:avLst/>
            </a:prstGeom>
            <a:solidFill>
              <a:srgbClr val="3280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任意多边形 15"/>
            <p:cNvSpPr/>
            <p:nvPr/>
          </p:nvSpPr>
          <p:spPr>
            <a:xfrm flipH="1">
              <a:off x="4690080" y="2459160"/>
              <a:ext cx="3120840" cy="1441440"/>
            </a:xfrm>
            <a:custGeom>
              <a:avLst/>
              <a:gdLst/>
              <a:ahLst/>
              <a:rect l="l" t="t" r="r" b="b"/>
              <a:pathLst>
                <a:path w="2806603" h="1296144">
                  <a:moveTo>
                    <a:pt x="101734" y="0"/>
                  </a:moveTo>
                  <a:lnTo>
                    <a:pt x="2158531" y="0"/>
                  </a:lnTo>
                  <a:lnTo>
                    <a:pt x="2806603" y="648072"/>
                  </a:lnTo>
                  <a:lnTo>
                    <a:pt x="2158531" y="1296144"/>
                  </a:lnTo>
                  <a:lnTo>
                    <a:pt x="101734" y="1296144"/>
                  </a:lnTo>
                  <a:cubicBezTo>
                    <a:pt x="45548" y="1296144"/>
                    <a:pt x="0" y="1250596"/>
                    <a:pt x="0" y="1194410"/>
                  </a:cubicBezTo>
                  <a:lnTo>
                    <a:pt x="0" y="101734"/>
                  </a:lnTo>
                  <a:cubicBezTo>
                    <a:pt x="0" y="45548"/>
                    <a:pt x="45548" y="0"/>
                    <a:pt x="101734" y="0"/>
                  </a:cubicBezTo>
                  <a:close/>
                </a:path>
              </a:pathLst>
            </a:custGeom>
            <a:solidFill>
              <a:srgbClr val="b3b338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88000" rIns="90000" tIns="46800" bIns="46800" anchor="ctr">
              <a:noAutofit/>
            </a:bodyPr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2"/>
          <p:cNvSpPr/>
          <p:nvPr/>
        </p:nvSpPr>
        <p:spPr>
          <a:xfrm>
            <a:off x="21405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4"/>
          <p:cNvSpPr/>
          <p:nvPr/>
        </p:nvSpPr>
        <p:spPr>
          <a:xfrm>
            <a:off x="60696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组合 26"/>
          <p:cNvGrpSpPr/>
          <p:nvPr/>
        </p:nvGrpSpPr>
        <p:grpSpPr>
          <a:xfrm>
            <a:off x="285840" y="2220840"/>
            <a:ext cx="8615160" cy="1922400"/>
            <a:chOff x="285840" y="2220840"/>
            <a:chExt cx="8615160" cy="1922400"/>
          </a:xfrm>
        </p:grpSpPr>
        <p:grpSp>
          <p:nvGrpSpPr>
            <p:cNvPr id="137" name="组合 16"/>
            <p:cNvGrpSpPr/>
            <p:nvPr/>
          </p:nvGrpSpPr>
          <p:grpSpPr>
            <a:xfrm>
              <a:off x="285840" y="2220840"/>
              <a:ext cx="2253240" cy="1922400"/>
              <a:chOff x="285840" y="2220840"/>
              <a:chExt cx="2253240" cy="1922400"/>
            </a:xfrm>
          </p:grpSpPr>
          <p:sp>
            <p:nvSpPr>
              <p:cNvPr id="138" name="矩形 14"/>
              <p:cNvSpPr/>
              <p:nvPr/>
            </p:nvSpPr>
            <p:spPr>
              <a:xfrm>
                <a:off x="285840" y="2220840"/>
                <a:ext cx="1856520" cy="1922400"/>
              </a:xfrm>
              <a:prstGeom prst="rect">
                <a:avLst/>
              </a:prstGeom>
              <a:solidFill>
                <a:srgbClr val="b3b3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右箭头 15"/>
              <p:cNvSpPr/>
              <p:nvPr/>
            </p:nvSpPr>
            <p:spPr>
              <a:xfrm>
                <a:off x="1942200" y="2751120"/>
                <a:ext cx="596880" cy="728640"/>
              </a:xfrm>
              <a:prstGeom prst="rightArrow">
                <a:avLst>
                  <a:gd name="adj1" fmla="val 50000"/>
                  <a:gd name="adj2" fmla="val 35403"/>
                </a:avLst>
              </a:prstGeom>
              <a:solidFill>
                <a:srgbClr val="b3b3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组合 17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141" name="组合 20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42" name="矩形 24"/>
            <p:cNvSpPr/>
            <p:nvPr/>
          </p:nvSpPr>
          <p:spPr>
            <a:xfrm>
              <a:off x="7045200" y="2220840"/>
              <a:ext cx="1855800" cy="1922400"/>
            </a:xfrm>
            <a:prstGeom prst="rect">
              <a:avLst/>
            </a:prstGeom>
            <a:solidFill>
              <a:srgbClr val="3280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2"/>
          <p:cNvSpPr/>
          <p:nvPr/>
        </p:nvSpPr>
        <p:spPr>
          <a:xfrm>
            <a:off x="30708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3"/>
          <p:cNvSpPr/>
          <p:nvPr/>
        </p:nvSpPr>
        <p:spPr>
          <a:xfrm>
            <a:off x="74998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4"/>
          <p:cNvSpPr/>
          <p:nvPr/>
        </p:nvSpPr>
        <p:spPr>
          <a:xfrm>
            <a:off x="52837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5"/>
          <p:cNvSpPr/>
          <p:nvPr/>
        </p:nvSpPr>
        <p:spPr>
          <a:xfrm>
            <a:off x="7117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组合 12"/>
          <p:cNvGrpSpPr/>
          <p:nvPr/>
        </p:nvGrpSpPr>
        <p:grpSpPr>
          <a:xfrm>
            <a:off x="671400" y="1785960"/>
            <a:ext cx="6491880" cy="7854840"/>
            <a:chOff x="671400" y="1785960"/>
            <a:chExt cx="6491880" cy="7854840"/>
          </a:xfrm>
        </p:grpSpPr>
        <p:sp>
          <p:nvSpPr>
            <p:cNvPr id="153" name="任意多边形 10"/>
            <p:cNvSpPr/>
            <p:nvPr/>
          </p:nvSpPr>
          <p:spPr>
            <a:xfrm rot="3540600">
              <a:off x="437400" y="4187520"/>
              <a:ext cx="7069680" cy="3198600"/>
            </a:xfrm>
            <a:custGeom>
              <a:avLst/>
              <a:gdLst/>
              <a:ahLst/>
              <a:rect l="l" t="t" r="r" b="b"/>
              <a:pathLst>
                <a:path w="3816424" h="1693845">
                  <a:moveTo>
                    <a:pt x="0" y="729953"/>
                  </a:moveTo>
                  <a:lnTo>
                    <a:pt x="93241" y="785936"/>
                  </a:lnTo>
                  <a:lnTo>
                    <a:pt x="565128" y="0"/>
                  </a:lnTo>
                  <a:lnTo>
                    <a:pt x="3816424" y="0"/>
                  </a:lnTo>
                  <a:lnTo>
                    <a:pt x="3816424" y="1693845"/>
                  </a:lnTo>
                  <a:lnTo>
                    <a:pt x="0" y="1693845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0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任意多边形 11"/>
            <p:cNvSpPr/>
            <p:nvPr/>
          </p:nvSpPr>
          <p:spPr>
            <a:xfrm>
              <a:off x="671400" y="1785960"/>
              <a:ext cx="3452760" cy="2073240"/>
            </a:xfrm>
            <a:custGeom>
              <a:avLst/>
              <a:gdLst/>
              <a:ahLst/>
              <a:rect l="l" t="t" r="r" b="b"/>
              <a:pathLst>
                <a:path w="1863270" h="1119753">
                  <a:moveTo>
                    <a:pt x="613113" y="0"/>
                  </a:moveTo>
                  <a:cubicBezTo>
                    <a:pt x="758857" y="0"/>
                    <a:pt x="883905" y="88612"/>
                    <a:pt x="937320" y="214899"/>
                  </a:cubicBezTo>
                  <a:lnTo>
                    <a:pt x="938985" y="220260"/>
                  </a:lnTo>
                  <a:lnTo>
                    <a:pt x="957596" y="185972"/>
                  </a:lnTo>
                  <a:cubicBezTo>
                    <a:pt x="1020827" y="92377"/>
                    <a:pt x="1127908" y="30841"/>
                    <a:pt x="1249362" y="30841"/>
                  </a:cubicBezTo>
                  <a:cubicBezTo>
                    <a:pt x="1419397" y="30841"/>
                    <a:pt x="1561262" y="151451"/>
                    <a:pt x="1594072" y="311787"/>
                  </a:cubicBezTo>
                  <a:lnTo>
                    <a:pt x="1600380" y="374360"/>
                  </a:lnTo>
                  <a:lnTo>
                    <a:pt x="1648371" y="389258"/>
                  </a:lnTo>
                  <a:cubicBezTo>
                    <a:pt x="1774658" y="442673"/>
                    <a:pt x="1863270" y="567721"/>
                    <a:pt x="1863270" y="713465"/>
                  </a:cubicBezTo>
                  <a:cubicBezTo>
                    <a:pt x="1863270" y="907791"/>
                    <a:pt x="1705738" y="1065323"/>
                    <a:pt x="1511412" y="1065323"/>
                  </a:cubicBezTo>
                  <a:cubicBezTo>
                    <a:pt x="1405140" y="1065323"/>
                    <a:pt x="1309872" y="1018210"/>
                    <a:pt x="1245355" y="943730"/>
                  </a:cubicBezTo>
                  <a:lnTo>
                    <a:pt x="1233031" y="926827"/>
                  </a:lnTo>
                  <a:lnTo>
                    <a:pt x="1212516" y="964622"/>
                  </a:lnTo>
                  <a:cubicBezTo>
                    <a:pt x="1149285" y="1058217"/>
                    <a:pt x="1042204" y="1119753"/>
                    <a:pt x="920750" y="1119753"/>
                  </a:cubicBezTo>
                  <a:cubicBezTo>
                    <a:pt x="823587" y="1119753"/>
                    <a:pt x="735622" y="1080370"/>
                    <a:pt x="671949" y="1016696"/>
                  </a:cubicBezTo>
                  <a:lnTo>
                    <a:pt x="630549" y="966519"/>
                  </a:lnTo>
                  <a:lnTo>
                    <a:pt x="600659" y="1002746"/>
                  </a:lnTo>
                  <a:cubicBezTo>
                    <a:pt x="536985" y="1066420"/>
                    <a:pt x="449021" y="1105803"/>
                    <a:pt x="351858" y="1105803"/>
                  </a:cubicBezTo>
                  <a:cubicBezTo>
                    <a:pt x="157532" y="1105803"/>
                    <a:pt x="0" y="948271"/>
                    <a:pt x="0" y="753945"/>
                  </a:cubicBezTo>
                  <a:cubicBezTo>
                    <a:pt x="0" y="608201"/>
                    <a:pt x="88612" y="483153"/>
                    <a:pt x="214899" y="429738"/>
                  </a:cubicBezTo>
                  <a:lnTo>
                    <a:pt x="267461" y="413422"/>
                  </a:lnTo>
                  <a:lnTo>
                    <a:pt x="261255" y="351858"/>
                  </a:lnTo>
                  <a:cubicBezTo>
                    <a:pt x="261255" y="157532"/>
                    <a:pt x="418787" y="0"/>
                    <a:pt x="613113" y="0"/>
                  </a:cubicBezTo>
                  <a:close/>
                </a:path>
              </a:pathLst>
            </a:custGeom>
            <a:solidFill>
              <a:srgbClr val="3280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组合 13"/>
          <p:cNvGrpSpPr/>
          <p:nvPr/>
        </p:nvGrpSpPr>
        <p:grpSpPr>
          <a:xfrm>
            <a:off x="4929120" y="1714680"/>
            <a:ext cx="6492240" cy="7854480"/>
            <a:chOff x="4929120" y="1714680"/>
            <a:chExt cx="6492240" cy="7854480"/>
          </a:xfrm>
        </p:grpSpPr>
        <p:sp>
          <p:nvSpPr>
            <p:cNvPr id="156" name="任意多边形 14"/>
            <p:cNvSpPr/>
            <p:nvPr/>
          </p:nvSpPr>
          <p:spPr>
            <a:xfrm rot="3540600">
              <a:off x="4695480" y="4115880"/>
              <a:ext cx="7069320" cy="3198600"/>
            </a:xfrm>
            <a:custGeom>
              <a:avLst/>
              <a:gdLst/>
              <a:ahLst/>
              <a:rect l="l" t="t" r="r" b="b"/>
              <a:pathLst>
                <a:path w="3816424" h="1693845">
                  <a:moveTo>
                    <a:pt x="0" y="729953"/>
                  </a:moveTo>
                  <a:lnTo>
                    <a:pt x="93241" y="785936"/>
                  </a:lnTo>
                  <a:lnTo>
                    <a:pt x="565128" y="0"/>
                  </a:lnTo>
                  <a:lnTo>
                    <a:pt x="3816424" y="0"/>
                  </a:lnTo>
                  <a:lnTo>
                    <a:pt x="3816424" y="1693845"/>
                  </a:lnTo>
                  <a:lnTo>
                    <a:pt x="0" y="1693845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0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任意多边形 15"/>
            <p:cNvSpPr/>
            <p:nvPr/>
          </p:nvSpPr>
          <p:spPr>
            <a:xfrm>
              <a:off x="4929120" y="1714680"/>
              <a:ext cx="3452760" cy="2073240"/>
            </a:xfrm>
            <a:custGeom>
              <a:avLst/>
              <a:gdLst/>
              <a:ahLst/>
              <a:rect l="l" t="t" r="r" b="b"/>
              <a:pathLst>
                <a:path w="1863270" h="1119753">
                  <a:moveTo>
                    <a:pt x="613113" y="0"/>
                  </a:moveTo>
                  <a:cubicBezTo>
                    <a:pt x="758857" y="0"/>
                    <a:pt x="883905" y="88612"/>
                    <a:pt x="937320" y="214899"/>
                  </a:cubicBezTo>
                  <a:lnTo>
                    <a:pt x="938985" y="220260"/>
                  </a:lnTo>
                  <a:lnTo>
                    <a:pt x="957596" y="185972"/>
                  </a:lnTo>
                  <a:cubicBezTo>
                    <a:pt x="1020827" y="92377"/>
                    <a:pt x="1127908" y="30841"/>
                    <a:pt x="1249362" y="30841"/>
                  </a:cubicBezTo>
                  <a:cubicBezTo>
                    <a:pt x="1419397" y="30841"/>
                    <a:pt x="1561262" y="151451"/>
                    <a:pt x="1594072" y="311787"/>
                  </a:cubicBezTo>
                  <a:lnTo>
                    <a:pt x="1600380" y="374360"/>
                  </a:lnTo>
                  <a:lnTo>
                    <a:pt x="1648371" y="389258"/>
                  </a:lnTo>
                  <a:cubicBezTo>
                    <a:pt x="1774658" y="442673"/>
                    <a:pt x="1863270" y="567721"/>
                    <a:pt x="1863270" y="713465"/>
                  </a:cubicBezTo>
                  <a:cubicBezTo>
                    <a:pt x="1863270" y="907791"/>
                    <a:pt x="1705738" y="1065323"/>
                    <a:pt x="1511412" y="1065323"/>
                  </a:cubicBezTo>
                  <a:cubicBezTo>
                    <a:pt x="1405140" y="1065323"/>
                    <a:pt x="1309872" y="1018210"/>
                    <a:pt x="1245355" y="943730"/>
                  </a:cubicBezTo>
                  <a:lnTo>
                    <a:pt x="1233031" y="926827"/>
                  </a:lnTo>
                  <a:lnTo>
                    <a:pt x="1212516" y="964622"/>
                  </a:lnTo>
                  <a:cubicBezTo>
                    <a:pt x="1149285" y="1058217"/>
                    <a:pt x="1042204" y="1119753"/>
                    <a:pt x="920750" y="1119753"/>
                  </a:cubicBezTo>
                  <a:cubicBezTo>
                    <a:pt x="823587" y="1119753"/>
                    <a:pt x="735622" y="1080370"/>
                    <a:pt x="671949" y="1016696"/>
                  </a:cubicBezTo>
                  <a:lnTo>
                    <a:pt x="630549" y="966519"/>
                  </a:lnTo>
                  <a:lnTo>
                    <a:pt x="600659" y="1002746"/>
                  </a:lnTo>
                  <a:cubicBezTo>
                    <a:pt x="536985" y="1066420"/>
                    <a:pt x="449021" y="1105803"/>
                    <a:pt x="351858" y="1105803"/>
                  </a:cubicBezTo>
                  <a:cubicBezTo>
                    <a:pt x="157532" y="1105803"/>
                    <a:pt x="0" y="948271"/>
                    <a:pt x="0" y="753945"/>
                  </a:cubicBezTo>
                  <a:cubicBezTo>
                    <a:pt x="0" y="608201"/>
                    <a:pt x="88612" y="483153"/>
                    <a:pt x="214899" y="429738"/>
                  </a:cubicBezTo>
                  <a:lnTo>
                    <a:pt x="267461" y="413422"/>
                  </a:lnTo>
                  <a:lnTo>
                    <a:pt x="261255" y="351858"/>
                  </a:lnTo>
                  <a:cubicBezTo>
                    <a:pt x="261255" y="157532"/>
                    <a:pt x="418787" y="0"/>
                    <a:pt x="613113" y="0"/>
                  </a:cubicBezTo>
                  <a:close/>
                </a:path>
              </a:pathLst>
            </a:custGeom>
            <a:solidFill>
              <a:srgbClr val="b3b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3"/>
          <p:cNvSpPr/>
          <p:nvPr/>
        </p:nvSpPr>
        <p:spPr>
          <a:xfrm>
            <a:off x="62838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5"/>
          <p:cNvSpPr/>
          <p:nvPr/>
        </p:nvSpPr>
        <p:spPr>
          <a:xfrm>
            <a:off x="192600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</cp:lastModifiedBy>
  <dcterms:modified xsi:type="dcterms:W3CDTF">2017-05-05T03:18:19Z</dcterms:modified>
  <cp:revision>29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93</vt:lpwstr>
  </property>
</Properties>
</file>