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FB0-F8FD-4FA2-998F-100CBE52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244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652-FB52-473F-8429-5CA43FAF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37C-072F-4CBF-BD3E-A4F9CDEE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E4D-6F3C-4418-8326-81509971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0168-C2FE-4681-AC0B-9C4BF571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4CED-C20D-4691-967F-5B9ABCCB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2970-A5BB-4EEF-B4E3-DC605005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65DA-173A-4D0A-ACD7-35367382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6B9C-6B34-4399-95A5-2A5FE8E6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0720" y="14256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7ACB-0F41-4ECC-A792-51CF5715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9C1C-6E63-428E-8F5F-CB79D24D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570-0073-469C-93DA-E47AC761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F0CC-7CF1-46BF-9544-7D04A3B3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3B3A-D943-40E1-94F5-14BAE6D5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244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D50C-DAF4-4826-BDCB-91720C1B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8907-FB2C-4AE5-B39E-2F2070BC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5141-3FAA-48D9-ACBB-D6B57C3E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C4F7E-19D2-4C75-9C82-DD7F6676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15F9A-D514-4141-A7D5-F5F4D6E1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48F9-C77F-4911-B4C7-5A4D9CD9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AE3C-9284-460F-835D-BB57D8F5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E601F-B2F7-4C01-9929-3B4FEF61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471B-F768-4DE5-B0AE-129BBE13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0720" y="14256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4FB18-9314-473E-9E82-5674A5FC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E183-6A5C-4006-B90A-3A148361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0C2C0-4D61-418C-B9D9-C9850457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2952-0617-480D-BB2C-F1BF85D0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244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A012-6E8C-4C8C-98BF-3A44EE4A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93E02-AF50-4EEF-B130-69BC9018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7138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24480"/>
            <a:ext cx="264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B2364-B42A-4638-BCCE-55A2F676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CA2-ABF8-4F0F-BF00-332B81ED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0CF-60F6-4466-8141-E06AF627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720" y="14256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94B-B4CB-44B2-8BBE-50228B0A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E36-4FC1-49A3-891B-3EF4B1DB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244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4CD-1B8E-428C-B1D3-41A8AAE6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713880"/>
            <a:ext cx="40158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4480"/>
            <a:ext cx="8229600" cy="26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1A3-0837-4205-AECB-EFEB9FE4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封面2内页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04C8-59F8-4F1B-90CE-88D50C135B5B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封底2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8625-FA30-4CB0-B9AF-3A4572ADEE21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8" descr="封底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72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EAB5-ACEA-47F0-82BF-CC5B2DB6E17F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5880" y="1714320"/>
            <a:ext cx="5000400" cy="5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b0087"/>
                </a:solidFill>
                <a:latin typeface="华文细黑"/>
              </a:rPr>
              <a:t>单击添加母亲节祝福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85880" y="2286000"/>
            <a:ext cx="39290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0087"/>
                </a:solidFill>
                <a:latin typeface="华文细黑"/>
              </a:rPr>
              <a:t>单击添加母亲节祝福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模板使用说明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5640" y="108864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华文细黑"/>
              </a:rPr>
              <a:t>添加</a:t>
            </a:r>
            <a:r>
              <a:rPr b="0" lang="en-US" sz="1800" spc="-1" strike="noStrike">
                <a:solidFill>
                  <a:srgbClr val="262626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262626"/>
                </a:solidFill>
                <a:latin typeface="华文细黑"/>
              </a:rPr>
              <a:t>：</a:t>
            </a: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03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版本选择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视图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——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母版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——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幻灯片母版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下调整；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07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版本选择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视图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——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幻灯片母版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，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华文细黑"/>
              </a:rPr>
              <a:t>字体格式的设置：</a:t>
            </a: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本模板默认字体为“华文细黑”，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如需修改字体请在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视图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--&gt;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母版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--&gt;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【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幻灯片母版</a:t>
            </a:r>
            <a:r>
              <a:rPr b="0" lang="en-US" sz="1400" spc="-1" strike="noStrike">
                <a:solidFill>
                  <a:srgbClr val="262626"/>
                </a:solidFill>
                <a:latin typeface="华文细黑"/>
              </a:rPr>
              <a:t>】</a:t>
            </a: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下调整。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华文细黑"/>
              </a:rPr>
              <a:t>版权说明：</a:t>
            </a: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此模板为免费模板，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华文细黑"/>
              </a:rPr>
              <a:t>请勿用于任何形式的付费下载，</a:t>
            </a: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标题 2"/>
          <p:cNvSpPr/>
          <p:nvPr/>
        </p:nvSpPr>
        <p:spPr>
          <a:xfrm>
            <a:off x="4214880" y="2006640"/>
            <a:ext cx="40003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eb0087"/>
                </a:solidFill>
                <a:latin typeface="华文细黑"/>
                <a:ea typeface="华文细黑"/>
              </a:rPr>
              <a:t>祝福所有的母亲节日快乐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984240" y="2363760"/>
            <a:ext cx="594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0087"/>
                </a:solidFill>
                <a:latin typeface="Bickham Script Pro Semibold"/>
                <a:ea typeface="宋体"/>
              </a:rPr>
              <a:t>Best wishes for mothers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29:13Z</dcterms:created>
  <dc:creator>IdeaPPT</dc:creator>
  <dc:description>www.ideappt.com  中国专业PPT设计团队</dc:description>
  <cp:keywords>ppt</cp:keywords>
  <dc:language>en-US</dc:language>
  <cp:lastModifiedBy>火韦</cp:lastModifiedBy>
  <dcterms:modified xsi:type="dcterms:W3CDTF">2016-05-10T22:51:32Z</dcterms:modified>
  <cp:revision>46</cp:revision>
  <dc:subject/>
  <dc:title>节日-粉色-母亲节</dc:title>
</cp:coreProperties>
</file>