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B73D3-B599-460F-9D76-F91A3679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C0D99-835C-4333-A48E-FB03169C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93048-199C-4DE2-AC19-18EE45C3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C13EB-EB08-4496-B470-EAB7EB30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04C2F-BC99-4FCB-9079-82651166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679B8-A475-4EFE-8FAD-76A8503A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17EF-0547-40B2-A773-890D5743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AF6F2-B293-4C86-904C-EBAF445E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D7105-2A62-4E37-8C62-EEA14915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8E715-02D3-4C17-AE85-8E8C7AD2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47869-A1B4-4AA2-8719-110C20CD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EA59A-AA92-4F29-8BE6-BC791712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EC4AD-5606-4C81-B3E1-C4ACB965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A3B4A-CB47-450E-9032-CA7202E0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4795D-9689-49CD-86AD-185E74B4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4726D-2F87-4CFB-99A2-D47BDE34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38ED3-009C-4EB9-B6E3-D95A1B8A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9CCE9-91D4-44D1-A8DC-DE62BE82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E77BD-E9A5-4542-A6DC-547132E5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51BC9-D4FA-4925-B2A2-CFFBA383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5AADC-99B2-4307-A71C-33494469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82ACE-4C16-4F6E-ACDE-43DCEFE6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DAA97-8853-4564-8D73-5C5E576D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15B58-2084-430C-944D-3150CFF6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34B8C-82DB-4255-BE95-C3D127CC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F141A-9771-4805-B790-C17607F2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D31FE-1862-4B07-8DFE-CAF6334D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7F1D9-73A2-4B79-9D6D-7DFB86FC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88020-B8BE-4AC1-A030-5C341EA6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B5104-3DF9-4CBB-A0B1-558CCFBC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2C0-879F-451A-A6C8-B821DF7B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16BBC-1923-41F5-B6B7-146FC41A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DADAD-E3F4-4C93-BE2A-00CFE0A8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85599-175D-4B7C-8171-4CB0FBBB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2125F-4423-404A-82B9-23138715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B7617-E7BD-4DFE-BB81-413B20E7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2DCAB-5CD6-4737-8C03-4FCDABFD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EE6AF-271D-47CB-B929-D2503B39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47706-834B-4018-95B8-DC2B08C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EF54C-22D7-40E0-BBD2-B9E0C5C5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5EDDE-DD5E-43E6-B896-697ECED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019-0727-4212-965F-87CD4925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18B46-D948-4DF7-9CBE-AFEB3804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E0330-6D14-4843-BE07-965F88E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24458-A2D5-403E-BF09-7AF8AF48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5769D-5923-4964-832B-DE7C4EA4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6419C-2C53-4AF8-BB7A-9301DA8B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63D-3811-4EA4-AA33-0D8EB792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CCE-36DA-4698-8A8D-E244DE5E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70A-E9D1-471F-BDCB-2084798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B8D-48D1-4222-A18F-9F4E76A0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D03-85D7-4BA0-A97D-E1A88786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90B-A4CD-4567-936C-77CE6B51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77E-E5B6-49B3-ABE7-5B07468E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557-6868-4CF0-813D-0FF1C1DF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EA9-ADF1-425D-900A-7A61A848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8EB-F575-4DC5-BB9E-10F6B949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36A2-0596-4209-A60F-ED256F21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126E-7FFD-4D6B-A502-937CD40F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49C7-1902-4DDB-A72E-2AB4BCFF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918B-003B-4ADA-9642-9A0D7FCF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43E8-C9F7-4070-9E1A-865EDEF2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AF2D-6ABD-4CA8-A56C-9A18BC6B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EB1A-5FEA-4F2C-8B6F-CBFB839D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62AB-6699-442C-B848-398F0A7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CE53-5768-4049-88C2-5F347A04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7F31-7AD7-4AAB-839A-789FBFC7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AEC0-82A5-4007-876D-53B1F9C6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0855-D71E-4CE4-B8A9-1D323BEF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A2D0-9172-4740-98EC-34FAD778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7E2D-FD96-40C2-AAD1-1845AD22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46D0-7B9D-484A-9D00-30DD77A0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231F9-7B2D-4254-8027-205484C2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0F22-5A70-4831-85F2-D5A6668E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2021-86ED-44FC-8AF4-0EA6118C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D1CD-E06B-410E-9CF3-B33441AD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953E-18EA-4A1D-9853-00EF6A59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80DEE-F942-484B-8326-BE8C25BA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82228-5F34-4B8D-AD3E-BB8B32A9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24D6-D352-4AF2-9107-46AF2CDC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0ECC-2DC2-405D-8190-F105C82B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B849A-C620-4789-BF52-3D7C73AF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2B205-AB02-46BE-84F6-6B9231B8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BB58B-D2F8-449C-8D38-46224A51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E5F3F-B44B-49AB-9301-DDC29F05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3856B-F280-476A-B41F-980F7B94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8309A-8A8A-4CF6-99C3-1E5EF860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15E1-F7C0-443B-AB4A-67A9373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3909-6419-46BC-9FF0-4547A2FA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09E0-8771-494D-B732-4D5E486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0F2D-287C-43E6-A17C-328B0022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BB72D-02A6-427C-8694-BD0738EE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D326-7EE2-436A-BB18-077D6B06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2D191-DB67-4F90-9649-F011C889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A6533-2E25-47E2-B452-C73DDE64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37F3-E854-46CB-AE3F-37FE9089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711E-4F63-4CB0-83DA-ABB474A5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003A7-9A2D-415D-8F93-C0BDB256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9EFFD-50CB-43A9-A287-BD64F586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0912C-25C5-4BC4-B2C0-F608441A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3FE6-B6C7-4406-B966-323C3BD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C1B9D-AF1F-494C-895B-82EF71DF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76CC-D892-4D29-9B40-30D665E6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0C80F-791F-46E4-8CDC-5BAA0FEE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7D572-CBD1-4317-A800-0306C28E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B27CD-BD6C-4A35-802E-A1A527D9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BFF49-6D26-4DB9-BFE0-931A9D5A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9C72-4269-45EE-A098-D65E9733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EAF1-C37E-4DDD-B6A6-6642E409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5E6C5-7C53-40DB-BEEF-E8B99A40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86CAE-7C18-4594-90E6-FB8166E5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8CB66-A78E-4408-BA37-9A2C82BA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8D0B7-0576-4899-A9F4-5C735200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73BB1-6318-4E13-9946-B041D7A0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3EFD-675A-444B-B13E-D5BF1710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3A72D-3850-482D-B284-8C6D26ED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F3591-87E1-4340-9AAD-84EF0114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F9B3-5853-4754-B7BC-A324511B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CEAB-F6A3-4DD2-917F-48FC2B66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B313C-8FCD-41C8-A4CF-ABD83600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8DB06-32D9-4435-B47F-0D2E9AEA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CB5BA-ED2C-40CE-9B91-10C5C913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1FFF6-2620-49E8-AB3E-FD66949E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266FB-5C35-4A0D-8D20-B9D6DBA2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F81E1-F384-47C1-A32E-524E6932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BBF40-18FF-445B-A004-8B3BEB0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5B16C-AD05-4ECB-82FD-8D7A51A6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FEE18-B89A-4C75-A9BF-A8BDD8E1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63E85-862C-41EA-B3D1-F1F0D2D8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39767-43A7-4113-9EDB-6E4DE181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1FA6A-E783-4334-9E75-D65B81D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9613A-369F-4E3C-A750-582DC4FC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CA7B-ED6E-41B8-9508-D1E8AEDC1BDF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49F7-7CCC-4953-9F3E-957BBE59DA7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AE0F-4C60-4C11-883E-82B6558C8A1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1B9E-E0AC-4B63-8173-85E8A6714E5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3225-D899-46AB-BBA6-074509A2F64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6C0D-34FD-4AC2-99BA-FC145FB08F85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5E3D-6B11-43B8-856F-0294A1B4B540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478C-8CA0-4F32-A429-F01724DABEE8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7A7E-3F1A-4115-BC5D-16F727EBD30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89FF-763E-44BB-B8F0-5ED5C21963AA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E625-A345-40E4-BA34-86C4BA9BABA4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1.png"/><Relationship Id="rId4" Type="http://schemas.openxmlformats.org/officeDocument/2006/relationships/image" Target="../media/image10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1.png"/><Relationship Id="rId4" Type="http://schemas.openxmlformats.org/officeDocument/2006/relationships/image" Target="../media/image10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blog.sina.com.cn/wyl611825" TargetMode="External"/><Relationship Id="rId3" Type="http://schemas.openxmlformats.org/officeDocument/2006/relationships/hyperlink" Target="http://blog.sina.com.cn/wyl611825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矩形 5" descr=""/>
          <p:cNvPicPr/>
          <p:nvPr/>
        </p:nvPicPr>
        <p:blipFill>
          <a:blip r:embed="rId1"/>
          <a:stretch/>
        </p:blipFill>
        <p:spPr>
          <a:xfrm>
            <a:off x="-6480" y="4065480"/>
            <a:ext cx="9156960" cy="85680"/>
          </a:xfrm>
          <a:prstGeom prst="rect">
            <a:avLst/>
          </a:prstGeom>
          <a:ln w="0">
            <a:noFill/>
          </a:ln>
        </p:spPr>
      </p:pic>
      <p:pic>
        <p:nvPicPr>
          <p:cNvPr id="527" name="矩形 3" descr=""/>
          <p:cNvPicPr/>
          <p:nvPr/>
        </p:nvPicPr>
        <p:blipFill>
          <a:blip r:embed="rId2"/>
          <a:stretch/>
        </p:blipFill>
        <p:spPr>
          <a:xfrm>
            <a:off x="-6480" y="1639800"/>
            <a:ext cx="9156960" cy="2298960"/>
          </a:xfrm>
          <a:prstGeom prst="rect">
            <a:avLst/>
          </a:prstGeom>
          <a:ln w="0">
            <a:noFill/>
          </a:ln>
        </p:spPr>
      </p:pic>
      <p:pic>
        <p:nvPicPr>
          <p:cNvPr id="528" name="TextBox 8" descr=""/>
          <p:cNvPicPr/>
          <p:nvPr/>
        </p:nvPicPr>
        <p:blipFill>
          <a:blip r:embed="rId3"/>
          <a:stretch/>
        </p:blipFill>
        <p:spPr>
          <a:xfrm>
            <a:off x="433440" y="2408400"/>
            <a:ext cx="8448480" cy="13525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辩人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   师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0" name="图片 6" descr="江西师大.png"/>
          <p:cNvPicPr/>
          <p:nvPr/>
        </p:nvPicPr>
        <p:blipFill>
          <a:blip r:embed="rId4"/>
          <a:stretch/>
        </p:blipFill>
        <p:spPr>
          <a:xfrm>
            <a:off x="142920" y="142920"/>
            <a:ext cx="28796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2805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532" name="AutoShape 2788"/>
            <p:cNvSpPr/>
            <p:nvPr/>
          </p:nvSpPr>
          <p:spPr>
            <a:xfrm>
              <a:off x="571680" y="4143240"/>
              <a:ext cx="950400" cy="500040"/>
            </a:xfrm>
            <a:custGeom>
              <a:avLst/>
              <a:gdLst>
                <a:gd name="textAreaLeft" fmla="*/ 0 w 950400"/>
                <a:gd name="textAreaRight" fmla="*/ 950760 w 9504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AutoShape 2792"/>
            <p:cNvSpPr/>
            <p:nvPr/>
          </p:nvSpPr>
          <p:spPr>
            <a:xfrm>
              <a:off x="147312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AutoShape 2793"/>
            <p:cNvSpPr/>
            <p:nvPr/>
          </p:nvSpPr>
          <p:spPr>
            <a:xfrm>
              <a:off x="23536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0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圆角矩形 14" descr=""/>
          <p:cNvPicPr/>
          <p:nvPr/>
        </p:nvPicPr>
        <p:blipFill>
          <a:blip r:embed="rId2"/>
          <a:stretch/>
        </p:blipFill>
        <p:spPr>
          <a:xfrm>
            <a:off x="-311040" y="66600"/>
            <a:ext cx="9839160" cy="433440"/>
          </a:xfrm>
          <a:prstGeom prst="rect">
            <a:avLst/>
          </a:prstGeom>
          <a:ln w="0">
            <a:noFill/>
          </a:ln>
        </p:spPr>
      </p:pic>
      <p:grpSp>
        <p:nvGrpSpPr>
          <p:cNvPr id="708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0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0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71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62560" y="1151640"/>
                <a:ext cx="10663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8000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3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4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5" name="组合 20"/>
          <p:cNvGrpSpPr/>
          <p:nvPr/>
        </p:nvGrpSpPr>
        <p:grpSpPr>
          <a:xfrm>
            <a:off x="971640" y="3357720"/>
            <a:ext cx="1758960" cy="2057400"/>
            <a:chOff x="971640" y="3357720"/>
            <a:chExt cx="1758960" cy="2057400"/>
          </a:xfrm>
        </p:grpSpPr>
        <p:sp>
          <p:nvSpPr>
            <p:cNvPr id="716" name="矩形标注 21"/>
            <p:cNvSpPr/>
            <p:nvPr/>
          </p:nvSpPr>
          <p:spPr>
            <a:xfrm>
              <a:off x="97164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7" name="矩形 23"/>
            <p:cNvSpPr/>
            <p:nvPr/>
          </p:nvSpPr>
          <p:spPr>
            <a:xfrm>
              <a:off x="1097640" y="4007880"/>
              <a:ext cx="1511640" cy="128772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宋体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9" name="组合 21"/>
          <p:cNvGrpSpPr/>
          <p:nvPr/>
        </p:nvGrpSpPr>
        <p:grpSpPr>
          <a:xfrm>
            <a:off x="3738600" y="3357720"/>
            <a:ext cx="1760400" cy="2057400"/>
            <a:chOff x="3738600" y="3357720"/>
            <a:chExt cx="1760400" cy="2057400"/>
          </a:xfrm>
        </p:grpSpPr>
        <p:sp>
          <p:nvSpPr>
            <p:cNvPr id="720" name="矩形标注 29"/>
            <p:cNvSpPr/>
            <p:nvPr/>
          </p:nvSpPr>
          <p:spPr>
            <a:xfrm>
              <a:off x="3738600" y="3357720"/>
              <a:ext cx="176040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1" name="矩形 30"/>
            <p:cNvSpPr/>
            <p:nvPr/>
          </p:nvSpPr>
          <p:spPr>
            <a:xfrm>
              <a:off x="3864600" y="4007880"/>
              <a:ext cx="1513080" cy="128772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宋体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3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宋体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TextBox 34"/>
          <p:cNvSpPr/>
          <p:nvPr/>
        </p:nvSpPr>
        <p:spPr>
          <a:xfrm>
            <a:off x="5611680" y="3987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宋体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5" name="组合 22"/>
          <p:cNvGrpSpPr/>
          <p:nvPr/>
        </p:nvGrpSpPr>
        <p:grpSpPr>
          <a:xfrm>
            <a:off x="6475320" y="3357720"/>
            <a:ext cx="1758960" cy="2057400"/>
            <a:chOff x="6475320" y="3357720"/>
            <a:chExt cx="1758960" cy="2057400"/>
          </a:xfrm>
        </p:grpSpPr>
        <p:sp>
          <p:nvSpPr>
            <p:cNvPr id="726" name="矩形标注 37"/>
            <p:cNvSpPr/>
            <p:nvPr/>
          </p:nvSpPr>
          <p:spPr>
            <a:xfrm>
              <a:off x="647532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007ee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7" name="矩形 18"/>
            <p:cNvGrpSpPr/>
            <p:nvPr/>
          </p:nvGrpSpPr>
          <p:grpSpPr>
            <a:xfrm>
              <a:off x="6594840" y="4002120"/>
              <a:ext cx="1521720" cy="1297080"/>
              <a:chOff x="6594840" y="4002120"/>
              <a:chExt cx="1521720" cy="1297080"/>
            </a:xfrm>
          </p:grpSpPr>
          <p:pic>
            <p:nvPicPr>
              <p:cNvPr id="728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4840" y="4002120"/>
                <a:ext cx="15217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Text Box 11"/>
              <p:cNvSpPr/>
              <p:nvPr/>
            </p:nvSpPr>
            <p:spPr>
              <a:xfrm>
                <a:off x="6601320" y="4007520"/>
                <a:ext cx="151200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  <a:ea typeface="宋体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30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3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3" name="圆角矩形 14" descr=""/>
          <p:cNvPicPr/>
          <p:nvPr/>
        </p:nvPicPr>
        <p:blipFill>
          <a:blip r:embed="rId2"/>
          <a:stretch/>
        </p:blipFill>
        <p:spPr>
          <a:xfrm>
            <a:off x="-311040" y="66600"/>
            <a:ext cx="9839160" cy="433440"/>
          </a:xfrm>
          <a:prstGeom prst="rect">
            <a:avLst/>
          </a:prstGeom>
          <a:ln w="0">
            <a:noFill/>
          </a:ln>
        </p:spPr>
      </p:pic>
      <p:grpSp>
        <p:nvGrpSpPr>
          <p:cNvPr id="73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3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36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73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62560" y="1151640"/>
                <a:ext cx="10663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8000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9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0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1" name="图示 13" descr=""/>
          <p:cNvPicPr/>
          <p:nvPr/>
        </p:nvPicPr>
        <p:blipFill>
          <a:blip r:embed="rId5"/>
          <a:stretch/>
        </p:blipFill>
        <p:spPr>
          <a:xfrm>
            <a:off x="1932120" y="2779560"/>
            <a:ext cx="51703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圆角矩形 14" descr=""/>
          <p:cNvPicPr/>
          <p:nvPr/>
        </p:nvPicPr>
        <p:blipFill>
          <a:blip r:embed="rId1"/>
          <a:stretch/>
        </p:blipFill>
        <p:spPr>
          <a:xfrm>
            <a:off x="-311040" y="66600"/>
            <a:ext cx="9839160" cy="433440"/>
          </a:xfrm>
          <a:prstGeom prst="rect">
            <a:avLst/>
          </a:prstGeom>
          <a:ln w="0">
            <a:noFill/>
          </a:ln>
        </p:spPr>
      </p:pic>
      <p:grpSp>
        <p:nvGrpSpPr>
          <p:cNvPr id="74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4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46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747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2560" y="1151640"/>
                <a:ext cx="10663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8000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9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0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752" name="组合 36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753" name="组合 11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754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5" name="椭圆形标注 65"/>
              <p:cNvSpPr/>
              <p:nvPr/>
            </p:nvSpPr>
            <p:spPr>
              <a:xfrm>
                <a:off x="1064880" y="3981960"/>
                <a:ext cx="1931400" cy="147096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56" name="TextBox 63"/>
            <p:cNvSpPr/>
            <p:nvPr/>
          </p:nvSpPr>
          <p:spPr>
            <a:xfrm>
              <a:off x="1445400" y="436860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宋体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7" name="TextBox 66"/>
          <p:cNvSpPr/>
          <p:nvPr/>
        </p:nvSpPr>
        <p:spPr>
          <a:xfrm>
            <a:off x="-500040" y="27082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8" name="组合 36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759" name="组合 11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760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1" name="椭圆形标注 23"/>
              <p:cNvSpPr/>
              <p:nvPr/>
            </p:nvSpPr>
            <p:spPr>
              <a:xfrm>
                <a:off x="3708000" y="3981960"/>
                <a:ext cx="1931400" cy="147096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62" name="TextBox 20"/>
            <p:cNvSpPr/>
            <p:nvPr/>
          </p:nvSpPr>
          <p:spPr>
            <a:xfrm>
              <a:off x="3857400" y="4435560"/>
              <a:ext cx="172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宋体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3" name="组合 36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764" name="组合 11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765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6" name="椭圆形标注 31"/>
              <p:cNvSpPr/>
              <p:nvPr/>
            </p:nvSpPr>
            <p:spPr>
              <a:xfrm>
                <a:off x="6193800" y="4053600"/>
                <a:ext cx="1931400" cy="147096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67" name="TextBox 29"/>
            <p:cNvSpPr/>
            <p:nvPr/>
          </p:nvSpPr>
          <p:spPr>
            <a:xfrm>
              <a:off x="6072120" y="450720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宋体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69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1" name="圆角矩形 14" descr=""/>
          <p:cNvPicPr/>
          <p:nvPr/>
        </p:nvPicPr>
        <p:blipFill>
          <a:blip r:embed="rId2"/>
          <a:stretch/>
        </p:blipFill>
        <p:spPr>
          <a:xfrm>
            <a:off x="-311040" y="66600"/>
            <a:ext cx="9839160" cy="433440"/>
          </a:xfrm>
          <a:prstGeom prst="rect">
            <a:avLst/>
          </a:prstGeom>
          <a:ln w="0">
            <a:noFill/>
          </a:ln>
        </p:spPr>
      </p:pic>
      <p:grpSp>
        <p:nvGrpSpPr>
          <p:cNvPr id="772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73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4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775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62560" y="1151640"/>
                <a:ext cx="10663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8000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7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8" name="组合 25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779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80" name="对角圆角矩形 29"/>
            <p:cNvGrpSpPr/>
            <p:nvPr/>
          </p:nvGrpSpPr>
          <p:grpSpPr>
            <a:xfrm>
              <a:off x="3327840" y="4291560"/>
              <a:ext cx="774000" cy="1194840"/>
              <a:chOff x="3327840" y="4291560"/>
              <a:chExt cx="774000" cy="1194840"/>
            </a:xfrm>
          </p:grpSpPr>
          <p:pic>
            <p:nvPicPr>
              <p:cNvPr id="781" name="对角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27840" y="4291560"/>
                <a:ext cx="774000" cy="119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"/>
              <p:cNvSpPr/>
              <p:nvPr/>
            </p:nvSpPr>
            <p:spPr>
              <a:xfrm>
                <a:off x="337068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783" name="组合 6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784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85" name="对角圆角矩形 32"/>
            <p:cNvGrpSpPr/>
            <p:nvPr/>
          </p:nvGrpSpPr>
          <p:grpSpPr>
            <a:xfrm>
              <a:off x="7686720" y="4291560"/>
              <a:ext cx="780120" cy="1194840"/>
              <a:chOff x="7686720" y="4291560"/>
              <a:chExt cx="780120" cy="1194840"/>
            </a:xfrm>
          </p:grpSpPr>
          <p:pic>
            <p:nvPicPr>
              <p:cNvPr id="786" name="对角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86720" y="4291560"/>
                <a:ext cx="780120" cy="119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7" name=""/>
              <p:cNvSpPr/>
              <p:nvPr/>
            </p:nvSpPr>
            <p:spPr>
              <a:xfrm>
                <a:off x="773208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88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宋体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宋体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1" name="圆角矩形 14" descr=""/>
          <p:cNvPicPr/>
          <p:nvPr/>
        </p:nvPicPr>
        <p:blipFill>
          <a:blip r:embed="rId1"/>
          <a:stretch/>
        </p:blipFill>
        <p:spPr>
          <a:xfrm>
            <a:off x="-311040" y="66600"/>
            <a:ext cx="9839160" cy="433440"/>
          </a:xfrm>
          <a:prstGeom prst="rect">
            <a:avLst/>
          </a:prstGeom>
          <a:ln w="0">
            <a:noFill/>
          </a:ln>
        </p:spPr>
      </p:pic>
      <p:grpSp>
        <p:nvGrpSpPr>
          <p:cNvPr id="792" name="组合 27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793" name="圆角矩形标注 22"/>
            <p:cNvSpPr/>
            <p:nvPr/>
          </p:nvSpPr>
          <p:spPr>
            <a:xfrm>
              <a:off x="554040" y="928800"/>
              <a:ext cx="159948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94" name="同侧圆角矩形 19"/>
            <p:cNvGrpSpPr/>
            <p:nvPr/>
          </p:nvGrpSpPr>
          <p:grpSpPr>
            <a:xfrm>
              <a:off x="785520" y="1000440"/>
              <a:ext cx="1143000" cy="499680"/>
              <a:chOff x="785520" y="1000440"/>
              <a:chExt cx="1143000" cy="499680"/>
            </a:xfrm>
          </p:grpSpPr>
          <p:pic>
            <p:nvPicPr>
              <p:cNvPr id="795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2200" y="1151640"/>
                <a:ext cx="10663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6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520" y="1000440"/>
                <a:ext cx="107964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98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800" name="组合 26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801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02" name="组合 7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803" name="组合 8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804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05" name="对角圆角矩形 23"/>
                <p:cNvGrpSpPr/>
                <p:nvPr/>
              </p:nvGrpSpPr>
              <p:grpSpPr>
                <a:xfrm>
                  <a:off x="7930440" y="3449880"/>
                  <a:ext cx="774000" cy="689040"/>
                  <a:chOff x="7930440" y="3449880"/>
                  <a:chExt cx="774000" cy="689040"/>
                </a:xfrm>
              </p:grpSpPr>
              <p:pic>
                <p:nvPicPr>
                  <p:cNvPr id="806" name="对角圆角矩形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30440" y="3449880"/>
                    <a:ext cx="774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7" name=""/>
                  <p:cNvSpPr/>
                  <p:nvPr/>
                </p:nvSpPr>
                <p:spPr>
                  <a:xfrm>
                    <a:off x="7957080" y="3478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08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9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10" name="组合 25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811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12" name="组合 19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813" name="组合 20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814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15" name="对角圆角矩形 34"/>
                <p:cNvGrpSpPr/>
                <p:nvPr/>
              </p:nvGrpSpPr>
              <p:grpSpPr>
                <a:xfrm>
                  <a:off x="7930440" y="4821480"/>
                  <a:ext cx="774000" cy="682920"/>
                  <a:chOff x="7930440" y="4821480"/>
                  <a:chExt cx="774000" cy="682920"/>
                </a:xfrm>
              </p:grpSpPr>
              <p:pic>
                <p:nvPicPr>
                  <p:cNvPr id="816" name="对角圆角矩形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0440" y="4821480"/>
                    <a:ext cx="77400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7" name=""/>
                  <p:cNvSpPr/>
                  <p:nvPr/>
                </p:nvSpPr>
                <p:spPr>
                  <a:xfrm>
                    <a:off x="7957080" y="4846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18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宋体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9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1" name="圆角矩形 14" descr=""/>
          <p:cNvPicPr/>
          <p:nvPr/>
        </p:nvPicPr>
        <p:blipFill>
          <a:blip r:embed="rId1"/>
          <a:stretch/>
        </p:blipFill>
        <p:spPr>
          <a:xfrm>
            <a:off x="-311040" y="66600"/>
            <a:ext cx="9839160" cy="433440"/>
          </a:xfrm>
          <a:prstGeom prst="rect">
            <a:avLst/>
          </a:prstGeom>
          <a:ln w="0">
            <a:noFill/>
          </a:ln>
        </p:spPr>
      </p:pic>
      <p:grpSp>
        <p:nvGrpSpPr>
          <p:cNvPr id="822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823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24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825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2560" y="1151640"/>
                <a:ext cx="10663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6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8000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7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28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9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830" name="组合 13"/>
          <p:cNvGrpSpPr/>
          <p:nvPr/>
        </p:nvGrpSpPr>
        <p:grpSpPr>
          <a:xfrm>
            <a:off x="636480" y="2714760"/>
            <a:ext cx="8007120" cy="439560"/>
            <a:chOff x="636480" y="2714760"/>
            <a:chExt cx="8007120" cy="439560"/>
          </a:xfrm>
        </p:grpSpPr>
        <p:grpSp>
          <p:nvGrpSpPr>
            <p:cNvPr id="831" name="组合 64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832" name="同侧圆角矩形 23"/>
              <p:cNvSpPr/>
              <p:nvPr/>
            </p:nvSpPr>
            <p:spPr>
              <a:xfrm rot="16200000">
                <a:off x="1500120" y="1850760"/>
                <a:ext cx="421920" cy="2149560"/>
              </a:xfrm>
              <a:custGeom>
                <a:avLst/>
                <a:gdLst>
                  <a:gd name="textAreaLeft" fmla="*/ 20520 w 421920"/>
                  <a:gd name="textAreaRight" fmla="*/ 401400 w 421920"/>
                  <a:gd name="textAreaTop" fmla="*/ 38520 h 2149560"/>
                  <a:gd name="textAreaBottom" fmla="*/ 2149920 h 2149560"/>
                </a:gdLst>
                <a:ahLst/>
                <a:rect l="textAreaLeft" t="textAreaTop" r="textAreaRight" b="textAreaBottom"/>
                <a:pathLst>
                  <a:path w="792087" h="2149818">
                    <a:moveTo>
                      <a:pt x="132017" y="0"/>
                    </a:moveTo>
                    <a:lnTo>
                      <a:pt x="660070" y="0"/>
                    </a:lnTo>
                    <a:lnTo>
                      <a:pt x="660070" y="0"/>
                    </a:lnTo>
                    <a:arcTo wR="132017" hR="132017" stAng="-5400000" swAng="5400000"/>
                    <a:lnTo>
                      <a:pt x="792087" y="2149818"/>
                    </a:lnTo>
                    <a:lnTo>
                      <a:pt x="0" y="2149818"/>
                    </a:lnTo>
                    <a:lnTo>
                      <a:pt x="0" y="132017"/>
                    </a:lnTo>
                    <a:lnTo>
                      <a:pt x="0" y="132017"/>
                    </a:lnTo>
                    <a:arcTo wR="132017" hR="132017" stAng="10800000" swAng="5400000"/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3" name="TextBox 11"/>
              <p:cNvSpPr/>
              <p:nvPr/>
            </p:nvSpPr>
            <p:spPr>
              <a:xfrm>
                <a:off x="852120" y="27367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34" name="组合 69"/>
            <p:cNvGrpSpPr/>
            <p:nvPr/>
          </p:nvGrpSpPr>
          <p:grpSpPr>
            <a:xfrm>
              <a:off x="2714400" y="2718720"/>
              <a:ext cx="5929200" cy="435600"/>
              <a:chOff x="2714400" y="2718720"/>
              <a:chExt cx="5929200" cy="435600"/>
            </a:xfrm>
          </p:grpSpPr>
          <p:sp>
            <p:nvSpPr>
              <p:cNvPr id="835" name="同侧圆角矩形 17"/>
              <p:cNvSpPr/>
              <p:nvPr/>
            </p:nvSpPr>
            <p:spPr>
              <a:xfrm flipV="1" rot="16200000">
                <a:off x="5503320" y="360"/>
                <a:ext cx="421920" cy="5858280"/>
              </a:xfrm>
              <a:custGeom>
                <a:avLst/>
                <a:gdLst>
                  <a:gd name="textAreaLeft" fmla="*/ 20520 w 421920"/>
                  <a:gd name="textAreaRight" fmla="*/ 401400 w 421920"/>
                  <a:gd name="textAreaTop" fmla="*/ 38520 h 5858280"/>
                  <a:gd name="textAreaBottom" fmla="*/ 5858640 h 5858280"/>
                </a:gdLst>
                <a:ahLst/>
                <a:rect l="textAreaLeft" t="textAreaTop" r="textAreaRight" b="textAreaBottom"/>
                <a:pathLst>
                  <a:path w="792312" h="5858071">
                    <a:moveTo>
                      <a:pt x="132055" y="0"/>
                    </a:moveTo>
                    <a:lnTo>
                      <a:pt x="660257" y="0"/>
                    </a:lnTo>
                    <a:lnTo>
                      <a:pt x="660257" y="0"/>
                    </a:lnTo>
                    <a:arcTo wR="132055" hR="132055" stAng="-5400000" swAng="5400000"/>
                    <a:lnTo>
                      <a:pt x="792312" y="5858071"/>
                    </a:lnTo>
                    <a:lnTo>
                      <a:pt x="0" y="5858071"/>
                    </a:lnTo>
                    <a:lnTo>
                      <a:pt x="0" y="132055"/>
                    </a:lnTo>
                    <a:lnTo>
                      <a:pt x="0" y="132055"/>
                    </a:lnTo>
                    <a:arcTo wR="132055" hR="132055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36" name="对角圆角矩形 18"/>
              <p:cNvGrpSpPr/>
              <p:nvPr/>
            </p:nvGrpSpPr>
            <p:grpSpPr>
              <a:xfrm>
                <a:off x="7918920" y="2871360"/>
                <a:ext cx="682560" cy="280800"/>
                <a:chOff x="7918920" y="2871360"/>
                <a:chExt cx="682560" cy="280800"/>
              </a:xfrm>
            </p:grpSpPr>
            <p:pic>
              <p:nvPicPr>
                <p:cNvPr id="837" name="对角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18920" y="2871360"/>
                  <a:ext cx="682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7941600" y="289656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9" name="TextBox 12"/>
              <p:cNvSpPr/>
              <p:nvPr/>
            </p:nvSpPr>
            <p:spPr>
              <a:xfrm>
                <a:off x="2714400" y="2786040"/>
                <a:ext cx="426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40" name="组合 28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841" name="组合 64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842" name="同侧圆角矩形 34"/>
              <p:cNvSpPr/>
              <p:nvPr/>
            </p:nvSpPr>
            <p:spPr>
              <a:xfrm rot="16200000">
                <a:off x="1389600" y="2318400"/>
                <a:ext cx="642960" cy="2149560"/>
              </a:xfrm>
              <a:custGeom>
                <a:avLst/>
                <a:gdLst>
                  <a:gd name="textAreaLeft" fmla="*/ 31320 w 642960"/>
                  <a:gd name="textAreaRight" fmla="*/ 611640 w 642960"/>
                  <a:gd name="textAreaTop" fmla="*/ 59040 h 2149560"/>
                  <a:gd name="textAreaBottom" fmla="*/ 2149920 h 2149560"/>
                </a:gdLst>
                <a:ahLst/>
                <a:rect l="textAreaLeft" t="textAreaTop" r="textAreaRight" b="textAreaBottom"/>
                <a:pathLst>
                  <a:path w="1209545" h="2149815">
                    <a:moveTo>
                      <a:pt x="201595" y="0"/>
                    </a:moveTo>
                    <a:lnTo>
                      <a:pt x="1007950" y="0"/>
                    </a:lnTo>
                    <a:lnTo>
                      <a:pt x="1007950" y="0"/>
                    </a:lnTo>
                    <a:arcTo wR="201595" hR="201595" stAng="-5400000" swAng="5400000"/>
                    <a:lnTo>
                      <a:pt x="1209545" y="2149815"/>
                    </a:lnTo>
                    <a:lnTo>
                      <a:pt x="0" y="2149815"/>
                    </a:lnTo>
                    <a:lnTo>
                      <a:pt x="0" y="201595"/>
                    </a:lnTo>
                    <a:lnTo>
                      <a:pt x="0" y="201595"/>
                    </a:lnTo>
                    <a:arcTo wR="201595" hR="201595" stAng="10800000" swAng="5400000"/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3" name="TextBox 11"/>
              <p:cNvSpPr/>
              <p:nvPr/>
            </p:nvSpPr>
            <p:spPr>
              <a:xfrm>
                <a:off x="852120" y="3181320"/>
                <a:ext cx="230400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44" name="组合 69"/>
            <p:cNvGrpSpPr/>
            <p:nvPr/>
          </p:nvGrpSpPr>
          <p:grpSpPr>
            <a:xfrm>
              <a:off x="2786040" y="3163320"/>
              <a:ext cx="5857920" cy="428760"/>
              <a:chOff x="2786040" y="3163320"/>
              <a:chExt cx="5857920" cy="428760"/>
            </a:xfrm>
          </p:grpSpPr>
          <p:sp>
            <p:nvSpPr>
              <p:cNvPr id="845" name="同侧圆角矩形 31"/>
              <p:cNvSpPr/>
              <p:nvPr/>
            </p:nvSpPr>
            <p:spPr>
              <a:xfrm flipV="1" rot="16200000">
                <a:off x="5506560" y="442800"/>
                <a:ext cx="416880" cy="5857920"/>
              </a:xfrm>
              <a:custGeom>
                <a:avLst/>
                <a:gdLst>
                  <a:gd name="textAreaLeft" fmla="*/ 20160 w 416880"/>
                  <a:gd name="textAreaRight" fmla="*/ 396720 w 416880"/>
                  <a:gd name="textAreaTop" fmla="*/ 38520 h 5857920"/>
                  <a:gd name="textAreaBottom" fmla="*/ 5858280 h 5857920"/>
                </a:gdLst>
                <a:ahLst/>
                <a:rect l="textAreaLeft" t="textAreaTop" r="textAreaRight" b="textAreaBottom"/>
                <a:pathLst>
                  <a:path w="792312" h="5858072">
                    <a:moveTo>
                      <a:pt x="132055" y="0"/>
                    </a:moveTo>
                    <a:lnTo>
                      <a:pt x="660257" y="0"/>
                    </a:lnTo>
                    <a:lnTo>
                      <a:pt x="660257" y="0"/>
                    </a:lnTo>
                    <a:arcTo wR="132055" hR="132055" stAng="-5400000" swAng="5400000"/>
                    <a:lnTo>
                      <a:pt x="792312" y="5858072"/>
                    </a:lnTo>
                    <a:lnTo>
                      <a:pt x="0" y="5858072"/>
                    </a:lnTo>
                    <a:lnTo>
                      <a:pt x="0" y="132055"/>
                    </a:lnTo>
                    <a:lnTo>
                      <a:pt x="0" y="132055"/>
                    </a:lnTo>
                    <a:arcTo wR="132055" hR="132055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46" name="对角圆角矩形 32"/>
              <p:cNvGrpSpPr/>
              <p:nvPr/>
            </p:nvGrpSpPr>
            <p:grpSpPr>
              <a:xfrm>
                <a:off x="7918920" y="3314520"/>
                <a:ext cx="682560" cy="277560"/>
                <a:chOff x="7918920" y="3314520"/>
                <a:chExt cx="682560" cy="277560"/>
              </a:xfrm>
            </p:grpSpPr>
            <p:pic>
              <p:nvPicPr>
                <p:cNvPr id="847" name="对角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18920" y="3314520"/>
                  <a:ext cx="682560" cy="27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8" name=""/>
                <p:cNvSpPr/>
                <p:nvPr/>
              </p:nvSpPr>
              <p:spPr>
                <a:xfrm>
                  <a:off x="7941600" y="3339000"/>
                  <a:ext cx="6375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49" name="TextBox 12"/>
              <p:cNvSpPr/>
              <p:nvPr/>
            </p:nvSpPr>
            <p:spPr>
              <a:xfrm>
                <a:off x="3357360" y="3214080"/>
                <a:ext cx="426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  <a:ea typeface="宋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50" name="组合 36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851" name="组合 64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852" name="同侧圆角矩形 43"/>
              <p:cNvSpPr/>
              <p:nvPr/>
            </p:nvSpPr>
            <p:spPr>
              <a:xfrm rot="16200000">
                <a:off x="1500120" y="2707920"/>
                <a:ext cx="421920" cy="2149560"/>
              </a:xfrm>
              <a:custGeom>
                <a:avLst/>
                <a:gdLst>
                  <a:gd name="textAreaLeft" fmla="*/ 20520 w 421920"/>
                  <a:gd name="textAreaRight" fmla="*/ 401400 w 421920"/>
                  <a:gd name="textAreaTop" fmla="*/ 38520 h 2149560"/>
                  <a:gd name="textAreaBottom" fmla="*/ 2149920 h 2149560"/>
                </a:gdLst>
                <a:ahLst/>
                <a:rect l="textAreaLeft" t="textAreaTop" r="textAreaRight" b="textAreaBottom"/>
                <a:pathLst>
                  <a:path w="792087" h="2149817">
                    <a:moveTo>
                      <a:pt x="132017" y="0"/>
                    </a:moveTo>
                    <a:lnTo>
                      <a:pt x="660070" y="0"/>
                    </a:lnTo>
                    <a:lnTo>
                      <a:pt x="660070" y="0"/>
                    </a:lnTo>
                    <a:arcTo wR="132017" hR="132017" stAng="-5400000" swAng="5400000"/>
                    <a:lnTo>
                      <a:pt x="792087" y="2149817"/>
                    </a:lnTo>
                    <a:lnTo>
                      <a:pt x="0" y="2149817"/>
                    </a:lnTo>
                    <a:lnTo>
                      <a:pt x="0" y="132017"/>
                    </a:lnTo>
                    <a:lnTo>
                      <a:pt x="0" y="132017"/>
                    </a:lnTo>
                    <a:arcTo wR="132017" hR="132017" stAng="10800000" swAng="5400000"/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3" name="TextBox 11"/>
              <p:cNvSpPr/>
              <p:nvPr/>
            </p:nvSpPr>
            <p:spPr>
              <a:xfrm>
                <a:off x="852120" y="35938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54" name="组合 69"/>
            <p:cNvGrpSpPr/>
            <p:nvPr/>
          </p:nvGrpSpPr>
          <p:grpSpPr>
            <a:xfrm>
              <a:off x="2786040" y="3575520"/>
              <a:ext cx="5857920" cy="429840"/>
              <a:chOff x="2786040" y="3575520"/>
              <a:chExt cx="5857920" cy="429840"/>
            </a:xfrm>
          </p:grpSpPr>
          <p:sp>
            <p:nvSpPr>
              <p:cNvPr id="855" name="同侧圆角矩形 40"/>
              <p:cNvSpPr/>
              <p:nvPr/>
            </p:nvSpPr>
            <p:spPr>
              <a:xfrm flipV="1" rot="16200000">
                <a:off x="5506920" y="853920"/>
                <a:ext cx="415800" cy="5857920"/>
              </a:xfrm>
              <a:custGeom>
                <a:avLst/>
                <a:gdLst>
                  <a:gd name="textAreaLeft" fmla="*/ 20160 w 415800"/>
                  <a:gd name="textAreaRight" fmla="*/ 395640 w 415800"/>
                  <a:gd name="textAreaTop" fmla="*/ 38880 h 5857920"/>
                  <a:gd name="textAreaBottom" fmla="*/ 5858280 h 5857920"/>
                </a:gdLst>
                <a:ahLst/>
                <a:rect l="textAreaLeft" t="textAreaTop" r="textAreaRight" b="textAreaBottom"/>
                <a:pathLst>
                  <a:path w="792313" h="5858071">
                    <a:moveTo>
                      <a:pt x="132055" y="0"/>
                    </a:moveTo>
                    <a:lnTo>
                      <a:pt x="660258" y="0"/>
                    </a:lnTo>
                    <a:lnTo>
                      <a:pt x="660258" y="0"/>
                    </a:lnTo>
                    <a:arcTo wR="132055" hR="132055" stAng="-5400000" swAng="5400000"/>
                    <a:lnTo>
                      <a:pt x="792313" y="5858071"/>
                    </a:lnTo>
                    <a:lnTo>
                      <a:pt x="0" y="5858071"/>
                    </a:lnTo>
                    <a:lnTo>
                      <a:pt x="0" y="132055"/>
                    </a:lnTo>
                    <a:lnTo>
                      <a:pt x="0" y="132055"/>
                    </a:lnTo>
                    <a:arcTo wR="132055" hR="132055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56" name="对角圆角矩形 41"/>
              <p:cNvGrpSpPr/>
              <p:nvPr/>
            </p:nvGrpSpPr>
            <p:grpSpPr>
              <a:xfrm>
                <a:off x="7918920" y="3728520"/>
                <a:ext cx="682560" cy="276840"/>
                <a:chOff x="7918920" y="3728520"/>
                <a:chExt cx="682560" cy="276840"/>
              </a:xfrm>
            </p:grpSpPr>
            <p:pic>
              <p:nvPicPr>
                <p:cNvPr id="857" name="对角圆角矩形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18920" y="3728520"/>
                  <a:ext cx="682560" cy="27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"/>
                <p:cNvSpPr/>
                <p:nvPr/>
              </p:nvSpPr>
              <p:spPr>
                <a:xfrm>
                  <a:off x="7941600" y="3750840"/>
                  <a:ext cx="637560" cy="23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59" name="TextBox 12"/>
              <p:cNvSpPr/>
              <p:nvPr/>
            </p:nvSpPr>
            <p:spPr>
              <a:xfrm>
                <a:off x="3429000" y="363060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860" name="TextBox 21" descr=""/>
          <p:cNvPicPr/>
          <p:nvPr/>
        </p:nvPicPr>
        <p:blipFill>
          <a:blip r:embed="rId8"/>
          <a:stretch/>
        </p:blipFill>
        <p:spPr>
          <a:xfrm>
            <a:off x="835200" y="2981160"/>
            <a:ext cx="1884240" cy="1041480"/>
          </a:xfrm>
          <a:prstGeom prst="rect">
            <a:avLst/>
          </a:prstGeom>
          <a:ln w="0">
            <a:noFill/>
          </a:ln>
        </p:spPr>
      </p:pic>
      <p:grpSp>
        <p:nvGrpSpPr>
          <p:cNvPr id="861" name="组合 69"/>
          <p:cNvGrpSpPr/>
          <p:nvPr/>
        </p:nvGrpSpPr>
        <p:grpSpPr>
          <a:xfrm>
            <a:off x="642960" y="4352760"/>
            <a:ext cx="8143920" cy="439560"/>
            <a:chOff x="642960" y="4352760"/>
            <a:chExt cx="8143920" cy="439560"/>
          </a:xfrm>
        </p:grpSpPr>
        <p:grpSp>
          <p:nvGrpSpPr>
            <p:cNvPr id="862" name="组合 64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863" name="同侧圆角矩形 75"/>
              <p:cNvSpPr/>
              <p:nvPr/>
            </p:nvSpPr>
            <p:spPr>
              <a:xfrm rot="16200000">
                <a:off x="1506600" y="3488760"/>
                <a:ext cx="421920" cy="2149560"/>
              </a:xfrm>
              <a:custGeom>
                <a:avLst/>
                <a:gdLst>
                  <a:gd name="textAreaLeft" fmla="*/ 20520 w 421920"/>
                  <a:gd name="textAreaRight" fmla="*/ 401400 w 421920"/>
                  <a:gd name="textAreaTop" fmla="*/ 38520 h 2149560"/>
                  <a:gd name="textAreaBottom" fmla="*/ 2149920 h 2149560"/>
                </a:gdLst>
                <a:ahLst/>
                <a:rect l="textAreaLeft" t="textAreaTop" r="textAreaRight" b="textAreaBottom"/>
                <a:pathLst>
                  <a:path w="792087" h="2149818">
                    <a:moveTo>
                      <a:pt x="132017" y="0"/>
                    </a:moveTo>
                    <a:lnTo>
                      <a:pt x="660070" y="0"/>
                    </a:lnTo>
                    <a:lnTo>
                      <a:pt x="660070" y="0"/>
                    </a:lnTo>
                    <a:arcTo wR="132017" hR="132017" stAng="-5400000" swAng="5400000"/>
                    <a:lnTo>
                      <a:pt x="792087" y="2149818"/>
                    </a:lnTo>
                    <a:lnTo>
                      <a:pt x="0" y="2149818"/>
                    </a:lnTo>
                    <a:lnTo>
                      <a:pt x="0" y="132017"/>
                    </a:lnTo>
                    <a:lnTo>
                      <a:pt x="0" y="132017"/>
                    </a:lnTo>
                    <a:arcTo wR="132017" hR="132017" stAng="10800000" swAng="5400000"/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4" name="TextBox 11"/>
              <p:cNvSpPr/>
              <p:nvPr/>
            </p:nvSpPr>
            <p:spPr>
              <a:xfrm>
                <a:off x="858600" y="43747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65" name="组合 69"/>
            <p:cNvGrpSpPr/>
            <p:nvPr/>
          </p:nvGrpSpPr>
          <p:grpSpPr>
            <a:xfrm>
              <a:off x="2649600" y="4356720"/>
              <a:ext cx="6137280" cy="435600"/>
              <a:chOff x="2649600" y="4356720"/>
              <a:chExt cx="6137280" cy="435600"/>
            </a:xfrm>
          </p:grpSpPr>
          <p:sp>
            <p:nvSpPr>
              <p:cNvPr id="866" name="同侧圆角矩形 72"/>
              <p:cNvSpPr/>
              <p:nvPr/>
            </p:nvSpPr>
            <p:spPr>
              <a:xfrm flipV="1" rot="16200000">
                <a:off x="5510160" y="1638720"/>
                <a:ext cx="421920" cy="5857920"/>
              </a:xfrm>
              <a:custGeom>
                <a:avLst/>
                <a:gdLst>
                  <a:gd name="textAreaLeft" fmla="*/ 20520 w 421920"/>
                  <a:gd name="textAreaRight" fmla="*/ 401400 w 421920"/>
                  <a:gd name="textAreaTop" fmla="*/ 38880 h 5857920"/>
                  <a:gd name="textAreaBottom" fmla="*/ 5858280 h 5857920"/>
                </a:gdLst>
                <a:ahLst/>
                <a:rect l="textAreaLeft" t="textAreaTop" r="textAreaRight" b="textAreaBottom"/>
                <a:pathLst>
                  <a:path w="792312" h="5858071">
                    <a:moveTo>
                      <a:pt x="132055" y="0"/>
                    </a:moveTo>
                    <a:lnTo>
                      <a:pt x="660257" y="0"/>
                    </a:lnTo>
                    <a:lnTo>
                      <a:pt x="660257" y="0"/>
                    </a:lnTo>
                    <a:arcTo wR="132055" hR="132055" stAng="-5400000" swAng="5400000"/>
                    <a:lnTo>
                      <a:pt x="792312" y="5858071"/>
                    </a:lnTo>
                    <a:lnTo>
                      <a:pt x="0" y="5858071"/>
                    </a:lnTo>
                    <a:lnTo>
                      <a:pt x="0" y="132055"/>
                    </a:lnTo>
                    <a:lnTo>
                      <a:pt x="0" y="132055"/>
                    </a:lnTo>
                    <a:arcTo wR="132055" hR="132055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7" name="对角圆角矩形 73"/>
              <p:cNvGrpSpPr/>
              <p:nvPr/>
            </p:nvGrpSpPr>
            <p:grpSpPr>
              <a:xfrm>
                <a:off x="7925040" y="4510440"/>
                <a:ext cx="682560" cy="280800"/>
                <a:chOff x="7925040" y="4510440"/>
                <a:chExt cx="682560" cy="280800"/>
              </a:xfrm>
            </p:grpSpPr>
            <p:pic>
              <p:nvPicPr>
                <p:cNvPr id="868" name="对角圆角矩形 7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25040" y="4510440"/>
                  <a:ext cx="682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9" name=""/>
                <p:cNvSpPr/>
                <p:nvPr/>
              </p:nvSpPr>
              <p:spPr>
                <a:xfrm>
                  <a:off x="7947720" y="453456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70" name="TextBox 12"/>
              <p:cNvSpPr/>
              <p:nvPr/>
            </p:nvSpPr>
            <p:spPr>
              <a:xfrm>
                <a:off x="2649600" y="442404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71" name="组合 77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872" name="组合 64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873" name="同侧圆角矩形 83"/>
              <p:cNvSpPr/>
              <p:nvPr/>
            </p:nvSpPr>
            <p:spPr>
              <a:xfrm rot="16200000">
                <a:off x="1396080" y="3956760"/>
                <a:ext cx="642960" cy="2149560"/>
              </a:xfrm>
              <a:custGeom>
                <a:avLst/>
                <a:gdLst>
                  <a:gd name="textAreaLeft" fmla="*/ 31320 w 642960"/>
                  <a:gd name="textAreaRight" fmla="*/ 611640 w 642960"/>
                  <a:gd name="textAreaTop" fmla="*/ 59040 h 2149560"/>
                  <a:gd name="textAreaBottom" fmla="*/ 2149920 h 2149560"/>
                </a:gdLst>
                <a:ahLst/>
                <a:rect l="textAreaLeft" t="textAreaTop" r="textAreaRight" b="textAreaBottom"/>
                <a:pathLst>
                  <a:path w="1209545" h="2149815">
                    <a:moveTo>
                      <a:pt x="201595" y="0"/>
                    </a:moveTo>
                    <a:lnTo>
                      <a:pt x="1007950" y="0"/>
                    </a:lnTo>
                    <a:lnTo>
                      <a:pt x="1007950" y="0"/>
                    </a:lnTo>
                    <a:arcTo wR="201595" hR="201595" stAng="-5400000" swAng="5400000"/>
                    <a:lnTo>
                      <a:pt x="1209545" y="2149815"/>
                    </a:lnTo>
                    <a:lnTo>
                      <a:pt x="0" y="2149815"/>
                    </a:lnTo>
                    <a:lnTo>
                      <a:pt x="0" y="201595"/>
                    </a:lnTo>
                    <a:lnTo>
                      <a:pt x="0" y="201595"/>
                    </a:lnTo>
                    <a:arcTo wR="201595" hR="201595" stAng="10800000" swAng="5400000"/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4" name="TextBox 11"/>
              <p:cNvSpPr/>
              <p:nvPr/>
            </p:nvSpPr>
            <p:spPr>
              <a:xfrm>
                <a:off x="858600" y="4819680"/>
                <a:ext cx="230400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5" name="组合 69"/>
            <p:cNvGrpSpPr/>
            <p:nvPr/>
          </p:nvGrpSpPr>
          <p:grpSpPr>
            <a:xfrm>
              <a:off x="2714400" y="4801320"/>
              <a:ext cx="6072480" cy="429120"/>
              <a:chOff x="2714400" y="4801320"/>
              <a:chExt cx="6072480" cy="429120"/>
            </a:xfrm>
          </p:grpSpPr>
          <p:sp>
            <p:nvSpPr>
              <p:cNvPr id="876" name="同侧圆角矩形 80"/>
              <p:cNvSpPr/>
              <p:nvPr/>
            </p:nvSpPr>
            <p:spPr>
              <a:xfrm flipV="1" rot="16200000">
                <a:off x="5512680" y="2079720"/>
                <a:ext cx="415800" cy="5858280"/>
              </a:xfrm>
              <a:custGeom>
                <a:avLst/>
                <a:gdLst>
                  <a:gd name="textAreaLeft" fmla="*/ 20160 w 415800"/>
                  <a:gd name="textAreaRight" fmla="*/ 395640 w 415800"/>
                  <a:gd name="textAreaTop" fmla="*/ 38520 h 5858280"/>
                  <a:gd name="textAreaBottom" fmla="*/ 5858640 h 5858280"/>
                </a:gdLst>
                <a:ahLst/>
                <a:rect l="textAreaLeft" t="textAreaTop" r="textAreaRight" b="textAreaBottom"/>
                <a:pathLst>
                  <a:path w="792312" h="5858072">
                    <a:moveTo>
                      <a:pt x="132055" y="0"/>
                    </a:moveTo>
                    <a:lnTo>
                      <a:pt x="660257" y="0"/>
                    </a:lnTo>
                    <a:lnTo>
                      <a:pt x="660257" y="0"/>
                    </a:lnTo>
                    <a:arcTo wR="132055" hR="132055" stAng="-5400000" swAng="5400000"/>
                    <a:lnTo>
                      <a:pt x="792312" y="5858072"/>
                    </a:lnTo>
                    <a:lnTo>
                      <a:pt x="0" y="5858072"/>
                    </a:lnTo>
                    <a:lnTo>
                      <a:pt x="0" y="132055"/>
                    </a:lnTo>
                    <a:lnTo>
                      <a:pt x="0" y="132055"/>
                    </a:lnTo>
                    <a:arcTo wR="132055" hR="132055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77" name="对角圆角矩形 81"/>
              <p:cNvGrpSpPr/>
              <p:nvPr/>
            </p:nvGrpSpPr>
            <p:grpSpPr>
              <a:xfrm>
                <a:off x="7925040" y="4953600"/>
                <a:ext cx="682560" cy="276840"/>
                <a:chOff x="7925040" y="4953600"/>
                <a:chExt cx="682560" cy="276840"/>
              </a:xfrm>
            </p:grpSpPr>
            <p:pic>
              <p:nvPicPr>
                <p:cNvPr id="878" name="对角圆角矩形 8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25040" y="4953600"/>
                  <a:ext cx="682560" cy="27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9" name=""/>
                <p:cNvSpPr/>
                <p:nvPr/>
              </p:nvSpPr>
              <p:spPr>
                <a:xfrm>
                  <a:off x="7947720" y="4977000"/>
                  <a:ext cx="637560" cy="23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80" name="TextBox 12"/>
              <p:cNvSpPr/>
              <p:nvPr/>
            </p:nvSpPr>
            <p:spPr>
              <a:xfrm>
                <a:off x="2714400" y="485208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宋体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81" name="组合 85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882" name="组合 64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883" name="同侧圆角矩形 91"/>
              <p:cNvSpPr/>
              <p:nvPr/>
            </p:nvSpPr>
            <p:spPr>
              <a:xfrm rot="16200000">
                <a:off x="1506600" y="4346280"/>
                <a:ext cx="421920" cy="2149560"/>
              </a:xfrm>
              <a:custGeom>
                <a:avLst/>
                <a:gdLst>
                  <a:gd name="textAreaLeft" fmla="*/ 20520 w 421920"/>
                  <a:gd name="textAreaRight" fmla="*/ 401400 w 421920"/>
                  <a:gd name="textAreaTop" fmla="*/ 38520 h 2149560"/>
                  <a:gd name="textAreaBottom" fmla="*/ 2149920 h 2149560"/>
                </a:gdLst>
                <a:ahLst/>
                <a:rect l="textAreaLeft" t="textAreaTop" r="textAreaRight" b="textAreaBottom"/>
                <a:pathLst>
                  <a:path w="792087" h="2149817">
                    <a:moveTo>
                      <a:pt x="132017" y="0"/>
                    </a:moveTo>
                    <a:lnTo>
                      <a:pt x="660070" y="0"/>
                    </a:lnTo>
                    <a:lnTo>
                      <a:pt x="660070" y="0"/>
                    </a:lnTo>
                    <a:arcTo wR="132017" hR="132017" stAng="-5400000" swAng="5400000"/>
                    <a:lnTo>
                      <a:pt x="792087" y="2149817"/>
                    </a:lnTo>
                    <a:lnTo>
                      <a:pt x="0" y="2149817"/>
                    </a:lnTo>
                    <a:lnTo>
                      <a:pt x="0" y="132017"/>
                    </a:lnTo>
                    <a:lnTo>
                      <a:pt x="0" y="132017"/>
                    </a:lnTo>
                    <a:arcTo wR="132017" hR="132017" stAng="10800000" swAng="5400000"/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4" name="TextBox 11"/>
              <p:cNvSpPr/>
              <p:nvPr/>
            </p:nvSpPr>
            <p:spPr>
              <a:xfrm>
                <a:off x="858600" y="523224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85" name="组合 69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886" name="同侧圆角矩形 88"/>
              <p:cNvSpPr/>
              <p:nvPr/>
            </p:nvSpPr>
            <p:spPr>
              <a:xfrm flipV="1" rot="16200000">
                <a:off x="5513760" y="2492640"/>
                <a:ext cx="414720" cy="5857920"/>
              </a:xfrm>
              <a:custGeom>
                <a:avLst/>
                <a:gdLst>
                  <a:gd name="textAreaLeft" fmla="*/ 20160 w 414720"/>
                  <a:gd name="textAreaRight" fmla="*/ 394560 w 414720"/>
                  <a:gd name="textAreaTop" fmla="*/ 38880 h 5857920"/>
                  <a:gd name="textAreaBottom" fmla="*/ 5858280 h 5857920"/>
                </a:gdLst>
                <a:ahLst/>
                <a:rect l="textAreaLeft" t="textAreaTop" r="textAreaRight" b="textAreaBottom"/>
                <a:pathLst>
                  <a:path w="792313" h="5858071">
                    <a:moveTo>
                      <a:pt x="132055" y="0"/>
                    </a:moveTo>
                    <a:lnTo>
                      <a:pt x="660258" y="0"/>
                    </a:lnTo>
                    <a:lnTo>
                      <a:pt x="660258" y="0"/>
                    </a:lnTo>
                    <a:arcTo wR="132055" hR="132055" stAng="-5400000" swAng="5400000"/>
                    <a:lnTo>
                      <a:pt x="792313" y="5858071"/>
                    </a:lnTo>
                    <a:lnTo>
                      <a:pt x="0" y="5858071"/>
                    </a:lnTo>
                    <a:lnTo>
                      <a:pt x="0" y="132055"/>
                    </a:lnTo>
                    <a:lnTo>
                      <a:pt x="0" y="132055"/>
                    </a:lnTo>
                    <a:arcTo wR="132055" hR="132055" stAng="10800000" swAng="5400000"/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7" name="对角圆角矩形 89"/>
              <p:cNvGrpSpPr/>
              <p:nvPr/>
            </p:nvGrpSpPr>
            <p:grpSpPr>
              <a:xfrm>
                <a:off x="7924680" y="5367600"/>
                <a:ext cx="682560" cy="276120"/>
                <a:chOff x="7924680" y="5367600"/>
                <a:chExt cx="682560" cy="276120"/>
              </a:xfrm>
            </p:grpSpPr>
            <p:pic>
              <p:nvPicPr>
                <p:cNvPr id="888" name="对角圆角矩形 8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24680" y="5367600"/>
                  <a:ext cx="682560" cy="27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"/>
                <p:cNvSpPr/>
                <p:nvPr/>
              </p:nvSpPr>
              <p:spPr>
                <a:xfrm>
                  <a:off x="7947360" y="5389200"/>
                  <a:ext cx="637560" cy="23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90" name="TextBox 12"/>
              <p:cNvSpPr/>
              <p:nvPr/>
            </p:nvSpPr>
            <p:spPr>
              <a:xfrm>
                <a:off x="2786040" y="526860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891" name="TextBox 21" descr=""/>
          <p:cNvPicPr/>
          <p:nvPr/>
        </p:nvPicPr>
        <p:blipFill>
          <a:blip r:embed="rId12"/>
          <a:stretch/>
        </p:blipFill>
        <p:spPr>
          <a:xfrm>
            <a:off x="639720" y="4705200"/>
            <a:ext cx="243828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图片 2" descr="方形立体小人锐普PPT论坛-098.JPG"/>
          <p:cNvPicPr/>
          <p:nvPr/>
        </p:nvPicPr>
        <p:blipFill>
          <a:blip r:embed="rId1"/>
          <a:srcRect l="0" t="0" r="-87" b="0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893" name="组合 19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894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7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95" name="矩形 24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896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敬请各位专家领导批评指正！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图片 1" descr=""/>
          <p:cNvPicPr/>
          <p:nvPr/>
        </p:nvPicPr>
        <p:blipFill>
          <a:blip r:embed="rId1"/>
          <a:stretch/>
        </p:blipFill>
        <p:spPr>
          <a:xfrm>
            <a:off x="-396720" y="0"/>
            <a:ext cx="10281960" cy="6858000"/>
          </a:xfrm>
          <a:prstGeom prst="rect">
            <a:avLst/>
          </a:prstGeom>
          <a:ln w="0">
            <a:noFill/>
          </a:ln>
        </p:spPr>
      </p:pic>
      <p:sp>
        <p:nvSpPr>
          <p:cNvPr id="899" name="TextBox 8"/>
          <p:cNvSpPr/>
          <p:nvPr/>
        </p:nvSpPr>
        <p:spPr>
          <a:xfrm>
            <a:off x="1547640" y="1943280"/>
            <a:ext cx="734544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欢迎到</a:t>
            </a:r>
            <a:r>
              <a:rPr b="0" lang="zh-CN" sz="3600" spc="-1" strike="noStrike" u="sng">
                <a:solidFill>
                  <a:srgbClr val="eb8803"/>
                </a:solidFill>
                <a:uFillTx/>
                <a:latin typeface="Verdana"/>
                <a:ea typeface="宋体"/>
                <a:hlinkClick r:id="rId2"/>
              </a:rPr>
              <a:t>秋记博客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做客（链接可点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1" lang="en-US" sz="1600" spc="-1" strike="noStrike" u="sng">
                <a:solidFill>
                  <a:srgbClr val="eb8803"/>
                </a:solidFill>
                <a:uFillTx/>
                <a:latin typeface="Verdana"/>
                <a:ea typeface="宋体"/>
                <a:hlinkClick r:id="rId3"/>
              </a:rPr>
              <a:t>http://blog.sina.com.cn/wyl6118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欢迎到新浪微博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宋体"/>
              </a:rPr>
              <a:t>@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教育技术秋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感谢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宋体"/>
              </a:rPr>
              <a:t>@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秋叶语录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宋体"/>
              </a:rPr>
              <a:t>@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新思境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宋体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7" name="组合 27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538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9" name="同侧圆角矩形 19"/>
            <p:cNvGrpSpPr/>
            <p:nvPr/>
          </p:nvGrpSpPr>
          <p:grpSpPr>
            <a:xfrm>
              <a:off x="1126800" y="2252880"/>
              <a:ext cx="1142280" cy="499680"/>
              <a:chOff x="1126800" y="2252880"/>
              <a:chExt cx="1142280" cy="499680"/>
            </a:xfrm>
          </p:grpSpPr>
          <p:pic>
            <p:nvPicPr>
              <p:cNvPr id="540" name="同侧圆角矩形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2760" y="2401920"/>
                <a:ext cx="10663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Text Box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6800" y="2252880"/>
                <a:ext cx="107964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2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3" name="组合 54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544" name="圆角矩形标注 57"/>
            <p:cNvSpPr/>
            <p:nvPr/>
          </p:nvSpPr>
          <p:spPr>
            <a:xfrm>
              <a:off x="954000" y="4113360"/>
              <a:ext cx="1560600" cy="6778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45" name="Text Box 32" descr=""/>
            <p:cNvPicPr/>
            <p:nvPr/>
          </p:nvPicPr>
          <p:blipFill>
            <a:blip r:embed="rId3"/>
            <a:stretch/>
          </p:blipFill>
          <p:spPr>
            <a:xfrm>
              <a:off x="1060920" y="4076640"/>
              <a:ext cx="12132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圆角矩形标注 59"/>
          <p:cNvSpPr/>
          <p:nvPr/>
        </p:nvSpPr>
        <p:spPr>
          <a:xfrm>
            <a:off x="3276720" y="2824200"/>
            <a:ext cx="5182920" cy="1612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1"/>
          <p:cNvSpPr/>
          <p:nvPr/>
        </p:nvSpPr>
        <p:spPr>
          <a:xfrm>
            <a:off x="3276720" y="3133800"/>
            <a:ext cx="53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圆角矩形标注 59"/>
          <p:cNvSpPr/>
          <p:nvPr/>
        </p:nvSpPr>
        <p:spPr>
          <a:xfrm>
            <a:off x="1258920" y="2997360"/>
            <a:ext cx="669780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Box 1"/>
          <p:cNvSpPr/>
          <p:nvPr/>
        </p:nvSpPr>
        <p:spPr>
          <a:xfrm>
            <a:off x="900000" y="31417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矩形 52" descr=""/>
          <p:cNvPicPr/>
          <p:nvPr/>
        </p:nvPicPr>
        <p:blipFill>
          <a:blip r:embed="rId1"/>
          <a:stretch/>
        </p:blipFill>
        <p:spPr>
          <a:xfrm>
            <a:off x="-92160" y="493560"/>
            <a:ext cx="9401400" cy="10112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53"/>
          <p:cNvSpPr/>
          <p:nvPr/>
        </p:nvSpPr>
        <p:spPr>
          <a:xfrm>
            <a:off x="21564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6" name="组合 43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557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58" name="组合 7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559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0" name="对角圆角矩形 53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561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2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63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组合 15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566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7" name="组合 7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568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9" name="对角圆角矩形 53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570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1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72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4" name="组合 16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575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6" name="组合 7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577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78" name="对角圆角矩形 53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579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0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81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2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3" name="组合 25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584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85" name="组合 7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586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87" name="对角圆角矩形 53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588" name="对角圆角矩形 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9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90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593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5" name="圆角矩形 14" descr=""/>
          <p:cNvPicPr/>
          <p:nvPr/>
        </p:nvPicPr>
        <p:blipFill>
          <a:blip r:embed="rId2"/>
          <a:stretch/>
        </p:blipFill>
        <p:spPr>
          <a:xfrm>
            <a:off x="-311040" y="66600"/>
            <a:ext cx="9839160" cy="433440"/>
          </a:xfrm>
          <a:prstGeom prst="rect">
            <a:avLst/>
          </a:prstGeom>
          <a:ln w="0">
            <a:noFill/>
          </a:ln>
        </p:spPr>
      </p:pic>
      <p:grpSp>
        <p:nvGrpSpPr>
          <p:cNvPr id="596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597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8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599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62560" y="1151640"/>
                <a:ext cx="10663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0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8000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1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2" name="组合 4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603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椭圆形标注 35"/>
            <p:cNvSpPr/>
            <p:nvPr/>
          </p:nvSpPr>
          <p:spPr>
            <a:xfrm>
              <a:off x="2624040" y="3286080"/>
              <a:ext cx="1238400" cy="9892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5" name="椭圆 36"/>
            <p:cNvSpPr/>
            <p:nvPr/>
          </p:nvSpPr>
          <p:spPr>
            <a:xfrm>
              <a:off x="2714400" y="332568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7" name="组合 10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608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椭圆 41"/>
            <p:cNvSpPr/>
            <p:nvPr/>
          </p:nvSpPr>
          <p:spPr>
            <a:xfrm>
              <a:off x="4076640" y="2757240"/>
              <a:ext cx="1238400" cy="94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2" name="组合 15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613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椭圆 46"/>
            <p:cNvSpPr/>
            <p:nvPr/>
          </p:nvSpPr>
          <p:spPr>
            <a:xfrm>
              <a:off x="2315880" y="4410000"/>
              <a:ext cx="1144800" cy="89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7" name="组合 35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618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椭圆 51"/>
            <p:cNvSpPr/>
            <p:nvPr/>
          </p:nvSpPr>
          <p:spPr>
            <a:xfrm>
              <a:off x="5594400" y="346860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2" name="组合 30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623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椭圆 56"/>
            <p:cNvSpPr/>
            <p:nvPr/>
          </p:nvSpPr>
          <p:spPr>
            <a:xfrm>
              <a:off x="3757680" y="4344840"/>
              <a:ext cx="1349280" cy="103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7" name="组合 20"/>
          <p:cNvGrpSpPr/>
          <p:nvPr/>
        </p:nvGrpSpPr>
        <p:grpSpPr>
          <a:xfrm>
            <a:off x="4964040" y="4470480"/>
            <a:ext cx="2428920" cy="1704960"/>
            <a:chOff x="4964040" y="4470480"/>
            <a:chExt cx="2428920" cy="1704960"/>
          </a:xfrm>
        </p:grpSpPr>
        <p:sp>
          <p:nvSpPr>
            <p:cNvPr id="628" name="椭圆 59"/>
            <p:cNvSpPr/>
            <p:nvPr/>
          </p:nvSpPr>
          <p:spPr>
            <a:xfrm>
              <a:off x="4964040" y="5548320"/>
              <a:ext cx="2428920" cy="627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椭圆形标注 60"/>
            <p:cNvSpPr/>
            <p:nvPr/>
          </p:nvSpPr>
          <p:spPr>
            <a:xfrm>
              <a:off x="5322600" y="4470480"/>
              <a:ext cx="1568520" cy="125424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椭圆 61"/>
            <p:cNvSpPr/>
            <p:nvPr/>
          </p:nvSpPr>
          <p:spPr>
            <a:xfrm>
              <a:off x="5438520" y="4521240"/>
              <a:ext cx="1332000" cy="1017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TextBox 24"/>
            <p:cNvSpPr/>
            <p:nvPr/>
          </p:nvSpPr>
          <p:spPr>
            <a:xfrm>
              <a:off x="5471280" y="49320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33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5" name="圆角矩形 14" descr=""/>
          <p:cNvPicPr/>
          <p:nvPr/>
        </p:nvPicPr>
        <p:blipFill>
          <a:blip r:embed="rId2"/>
          <a:stretch/>
        </p:blipFill>
        <p:spPr>
          <a:xfrm>
            <a:off x="-311040" y="66600"/>
            <a:ext cx="9839160" cy="43344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37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38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639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62560" y="1151640"/>
                <a:ext cx="10663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0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8000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1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2" name="组合 71"/>
          <p:cNvGrpSpPr/>
          <p:nvPr/>
        </p:nvGrpSpPr>
        <p:grpSpPr>
          <a:xfrm>
            <a:off x="1042920" y="2944800"/>
            <a:ext cx="3060720" cy="2787840"/>
            <a:chOff x="1042920" y="2944800"/>
            <a:chExt cx="3060720" cy="2787840"/>
          </a:xfrm>
        </p:grpSpPr>
        <p:pic>
          <p:nvPicPr>
            <p:cNvPr id="643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4" name="组合 26"/>
            <p:cNvGrpSpPr/>
            <p:nvPr/>
          </p:nvGrpSpPr>
          <p:grpSpPr>
            <a:xfrm>
              <a:off x="1731960" y="3022560"/>
              <a:ext cx="2371680" cy="1625760"/>
              <a:chOff x="1731960" y="3022560"/>
              <a:chExt cx="2371680" cy="1625760"/>
            </a:xfrm>
          </p:grpSpPr>
          <p:sp>
            <p:nvSpPr>
              <p:cNvPr id="645" name="圆角矩形标注 75"/>
              <p:cNvSpPr/>
              <p:nvPr/>
            </p:nvSpPr>
            <p:spPr>
              <a:xfrm>
                <a:off x="1731960" y="3022560"/>
                <a:ext cx="237168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6" name="矩形 76"/>
              <p:cNvSpPr/>
              <p:nvPr/>
            </p:nvSpPr>
            <p:spPr>
              <a:xfrm>
                <a:off x="1957320" y="351468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47" name="椭圆 74"/>
            <p:cNvSpPr/>
            <p:nvPr/>
          </p:nvSpPr>
          <p:spPr>
            <a:xfrm>
              <a:off x="1674720" y="29448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8" name="组合 77"/>
          <p:cNvGrpSpPr/>
          <p:nvPr/>
        </p:nvGrpSpPr>
        <p:grpSpPr>
          <a:xfrm>
            <a:off x="4960800" y="2874960"/>
            <a:ext cx="3214800" cy="2857680"/>
            <a:chOff x="4960800" y="2874960"/>
            <a:chExt cx="3214800" cy="2857680"/>
          </a:xfrm>
        </p:grpSpPr>
        <p:pic>
          <p:nvPicPr>
            <p:cNvPr id="649" name="Picture 9" descr=""/>
            <p:cNvPicPr/>
            <p:nvPr/>
          </p:nvPicPr>
          <p:blipFill>
            <a:blip r:embed="rId6"/>
            <a:stretch/>
          </p:blipFill>
          <p:spPr>
            <a:xfrm>
              <a:off x="496080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0" name="组合 27"/>
            <p:cNvGrpSpPr/>
            <p:nvPr/>
          </p:nvGrpSpPr>
          <p:grpSpPr>
            <a:xfrm>
              <a:off x="5675040" y="2963520"/>
              <a:ext cx="2500560" cy="1625760"/>
              <a:chOff x="5675040" y="2963520"/>
              <a:chExt cx="2500560" cy="1625760"/>
            </a:xfrm>
          </p:grpSpPr>
          <p:sp>
            <p:nvSpPr>
              <p:cNvPr id="651" name="椭圆形标注 16"/>
              <p:cNvSpPr/>
              <p:nvPr/>
            </p:nvSpPr>
            <p:spPr>
              <a:xfrm>
                <a:off x="5675040" y="2963520"/>
                <a:ext cx="237204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2" name="矩形 17"/>
              <p:cNvSpPr/>
              <p:nvPr/>
            </p:nvSpPr>
            <p:spPr>
              <a:xfrm>
                <a:off x="5746320" y="3499920"/>
                <a:ext cx="2429280" cy="397080"/>
              </a:xfrm>
              <a:prstGeom prst="wedgeRoundRectCallout">
                <a:avLst>
                  <a:gd name="adj1" fmla="val -20842"/>
                  <a:gd name="adj2" fmla="val 65759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53" name="椭圆 80"/>
            <p:cNvSpPr/>
            <p:nvPr/>
          </p:nvSpPr>
          <p:spPr>
            <a:xfrm>
              <a:off x="595944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椭圆 81"/>
            <p:cNvSpPr/>
            <p:nvPr/>
          </p:nvSpPr>
          <p:spPr>
            <a:xfrm>
              <a:off x="560196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8" name="圆角矩形 14" descr=""/>
          <p:cNvPicPr/>
          <p:nvPr/>
        </p:nvPicPr>
        <p:blipFill>
          <a:blip r:embed="rId2"/>
          <a:stretch/>
        </p:blipFill>
        <p:spPr>
          <a:xfrm>
            <a:off x="-311040" y="66600"/>
            <a:ext cx="9839160" cy="433440"/>
          </a:xfrm>
          <a:prstGeom prst="rect">
            <a:avLst/>
          </a:prstGeom>
          <a:ln w="0">
            <a:noFill/>
          </a:ln>
        </p:spPr>
      </p:pic>
      <p:grpSp>
        <p:nvGrpSpPr>
          <p:cNvPr id="659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6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1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662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62560" y="1151640"/>
                <a:ext cx="10663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3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8000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4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5" name="组合 18"/>
          <p:cNvGrpSpPr/>
          <p:nvPr/>
        </p:nvGrpSpPr>
        <p:grpSpPr>
          <a:xfrm>
            <a:off x="1824120" y="2852640"/>
            <a:ext cx="1019160" cy="1433880"/>
            <a:chOff x="1824120" y="2852640"/>
            <a:chExt cx="1019160" cy="1433880"/>
          </a:xfrm>
        </p:grpSpPr>
        <p:pic>
          <p:nvPicPr>
            <p:cNvPr id="666" name="图片 6" descr="user.png"/>
            <p:cNvPicPr/>
            <p:nvPr/>
          </p:nvPicPr>
          <p:blipFill>
            <a:blip r:embed="rId5"/>
            <a:stretch/>
          </p:blipFill>
          <p:spPr>
            <a:xfrm>
              <a:off x="1824120" y="2852640"/>
              <a:ext cx="10191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Box 7"/>
            <p:cNvSpPr/>
            <p:nvPr/>
          </p:nvSpPr>
          <p:spPr>
            <a:xfrm>
              <a:off x="2011680" y="38876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8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9" name="组合 21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grpSp>
          <p:nvGrpSpPr>
            <p:cNvPr id="670" name="矩形 18"/>
            <p:cNvGrpSpPr/>
            <p:nvPr/>
          </p:nvGrpSpPr>
          <p:grpSpPr>
            <a:xfrm>
              <a:off x="828720" y="4386240"/>
              <a:ext cx="3095640" cy="432000"/>
              <a:chOff x="828720" y="4386240"/>
              <a:chExt cx="3095640" cy="432000"/>
            </a:xfrm>
          </p:grpSpPr>
          <p:pic>
            <p:nvPicPr>
              <p:cNvPr id="671" name="矩形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28720" y="4386240"/>
                <a:ext cx="30956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833760" y="4389120"/>
                <a:ext cx="3083760" cy="42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73" name="矩形 13"/>
            <p:cNvGrpSpPr/>
            <p:nvPr/>
          </p:nvGrpSpPr>
          <p:grpSpPr>
            <a:xfrm>
              <a:off x="961920" y="4416120"/>
              <a:ext cx="1317240" cy="372240"/>
              <a:chOff x="961920" y="4416120"/>
              <a:chExt cx="1317240" cy="372240"/>
            </a:xfrm>
          </p:grpSpPr>
          <p:pic>
            <p:nvPicPr>
              <p:cNvPr id="674" name="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961920" y="4416120"/>
                <a:ext cx="1317240" cy="3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5" name=""/>
              <p:cNvSpPr/>
              <p:nvPr/>
            </p:nvSpPr>
            <p:spPr>
              <a:xfrm>
                <a:off x="970200" y="4420080"/>
                <a:ext cx="13017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XXX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76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宋体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7" name="组合 22"/>
          <p:cNvGrpSpPr/>
          <p:nvPr/>
        </p:nvGrpSpPr>
        <p:grpSpPr>
          <a:xfrm>
            <a:off x="5364000" y="4386240"/>
            <a:ext cx="3095640" cy="432000"/>
            <a:chOff x="5364000" y="4386240"/>
            <a:chExt cx="3095640" cy="432000"/>
          </a:xfrm>
        </p:grpSpPr>
        <p:grpSp>
          <p:nvGrpSpPr>
            <p:cNvPr id="678" name="矩形 23"/>
            <p:cNvGrpSpPr/>
            <p:nvPr/>
          </p:nvGrpSpPr>
          <p:grpSpPr>
            <a:xfrm>
              <a:off x="5364000" y="4386240"/>
              <a:ext cx="3095640" cy="432000"/>
              <a:chOff x="5364000" y="4386240"/>
              <a:chExt cx="3095640" cy="432000"/>
            </a:xfrm>
          </p:grpSpPr>
          <p:pic>
            <p:nvPicPr>
              <p:cNvPr id="679" name="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5364000" y="4386240"/>
                <a:ext cx="30956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5369040" y="4389120"/>
                <a:ext cx="3083760" cy="42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1" name="矩形 17"/>
            <p:cNvSpPr/>
            <p:nvPr/>
          </p:nvSpPr>
          <p:spPr>
            <a:xfrm>
              <a:off x="5476320" y="442008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2" name="直接连接符 29"/>
          <p:cNvSpPr/>
          <p:nvPr/>
        </p:nvSpPr>
        <p:spPr>
          <a:xfrm flipV="1">
            <a:off x="755640" y="4287600"/>
            <a:ext cx="7704000" cy="4680"/>
          </a:xfrm>
          <a:prstGeom prst="line">
            <a:avLst/>
          </a:prstGeom>
          <a:ln w="1260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3" name="组合 18"/>
          <p:cNvGrpSpPr/>
          <p:nvPr/>
        </p:nvGrpSpPr>
        <p:grpSpPr>
          <a:xfrm>
            <a:off x="6288120" y="2892600"/>
            <a:ext cx="1019160" cy="1433880"/>
            <a:chOff x="6288120" y="2892600"/>
            <a:chExt cx="1019160" cy="1433880"/>
          </a:xfrm>
        </p:grpSpPr>
        <p:pic>
          <p:nvPicPr>
            <p:cNvPr id="684" name="图片 6" descr="user.png"/>
            <p:cNvPicPr/>
            <p:nvPr/>
          </p:nvPicPr>
          <p:blipFill>
            <a:blip r:embed="rId9"/>
            <a:stretch/>
          </p:blipFill>
          <p:spPr>
            <a:xfrm>
              <a:off x="6288120" y="2892600"/>
              <a:ext cx="101916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Box 7"/>
            <p:cNvSpPr/>
            <p:nvPr/>
          </p:nvSpPr>
          <p:spPr>
            <a:xfrm>
              <a:off x="6475680" y="39276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8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8" name="圆角矩形 14" descr=""/>
          <p:cNvPicPr/>
          <p:nvPr/>
        </p:nvPicPr>
        <p:blipFill>
          <a:blip r:embed="rId2"/>
          <a:stretch/>
        </p:blipFill>
        <p:spPr>
          <a:xfrm>
            <a:off x="-311040" y="66600"/>
            <a:ext cx="9839160" cy="433440"/>
          </a:xfrm>
          <a:prstGeom prst="rect">
            <a:avLst/>
          </a:prstGeom>
          <a:ln w="0">
            <a:noFill/>
          </a:ln>
        </p:spPr>
      </p:pic>
      <p:grpSp>
        <p:nvGrpSpPr>
          <p:cNvPr id="689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9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1" name="同侧圆角矩形 19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692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62560" y="1151640"/>
                <a:ext cx="106632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3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8000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宋体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宋体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6" name="组合 20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697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6"/>
              </a:avLst>
            </a:prstGeom>
            <a:solidFill>
              <a:srgbClr val="0070c0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圆角矩形 12"/>
            <p:cNvSpPr/>
            <p:nvPr/>
          </p:nvSpPr>
          <p:spPr>
            <a:xfrm>
              <a:off x="836640" y="3998160"/>
              <a:ext cx="2193120" cy="115344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9" name="组合 20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700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4"/>
                <a:gd name="adj2" fmla="val -64416"/>
              </a:avLst>
            </a:prstGeom>
            <a:solidFill>
              <a:srgbClr val="c58d01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圆角矩形 42"/>
            <p:cNvSpPr/>
            <p:nvPr/>
          </p:nvSpPr>
          <p:spPr>
            <a:xfrm>
              <a:off x="3533760" y="4020480"/>
              <a:ext cx="2193120" cy="115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2" name="组合 20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703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4"/>
              </a:avLst>
            </a:prstGeom>
            <a:solidFill>
              <a:srgbClr val="b0105c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圆角矩形 45"/>
            <p:cNvSpPr/>
            <p:nvPr/>
          </p:nvSpPr>
          <p:spPr>
            <a:xfrm>
              <a:off x="6177240" y="4020480"/>
              <a:ext cx="2192760" cy="115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ZB</cp:lastModifiedBy>
  <dcterms:modified xsi:type="dcterms:W3CDTF">2012-06-19T13:53:00Z</dcterms:modified>
  <cp:revision>73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1e000000000001024140</vt:lpwstr>
  </property>
</Properties>
</file>