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1CD-4E8B-4F3A-A1DA-2165A33D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3C7-83D9-41B0-A533-7A25AB5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D2F-56DA-4775-977A-475FF9E1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324-E56B-491E-81B8-81203B87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1465-C752-4088-91C6-E3946B5D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B73D-0B00-42BA-9285-6EF3BBC4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1FBE-3BA0-4336-A24A-AD4C97B5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1E7D-3462-442D-8F40-56029804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644E-B09B-4B05-B9C9-D440362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640D-210A-4787-A2E8-BDF22E6C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6801-4312-49F0-B409-759B9F51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8D9-58FE-416C-BBC8-696BFA5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4015-CD02-4D88-8C84-6D05279C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3B4A-6752-442D-B307-E14D5EE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1F43-DA17-4FC7-B4EC-DB91104F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CB16-64A3-467B-86F6-7B543030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4840-F250-44CA-AAB8-A5AD1718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BF96-08C0-4397-ADFC-77168866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0420-E32C-45C2-91A1-45A6B696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D670-A609-4B52-A9B0-3DF29A5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7447-7C01-40F6-8DA5-68D1D506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8680-D4BD-4441-ABD3-DE2269BD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0EF-09B6-489A-94FE-06C0C3EC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146D-1D89-4180-AC9B-D655F0D5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9130-17D4-41C2-BF59-4FFAD87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A676-B5FA-472B-A48A-98E2735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DE98-A893-4AA2-B9A0-D3BB7D6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4C85-66D7-4354-A0BB-D9F9D9D0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495D-8B35-4E88-A0F8-9F647C10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CCD1-5081-4DDB-8B81-70673D23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C66-670C-468C-9BF4-2AFA757A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0D3-4D4C-47B7-A64C-D58FB789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A50-BBC0-408C-A96C-166BBDB6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AC5-9A7E-497D-8CD2-0F9F0FA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983-5752-4F0C-AFC0-BEC214E8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837-E091-4C2A-9C1D-903BDB9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12180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5EF5-2EE1-4A73-BD0C-68B458701D58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680" y="0"/>
            <a:ext cx="121824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1820-4221-455F-B5EF-87AEA0B4B2F5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8A69-DBEF-46CD-9184-BF33860D7039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39960" y="2100240"/>
            <a:ext cx="4923000" cy="180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添加标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439960" y="4206600"/>
            <a:ext cx="492300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添加副标题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98040" y="1117080"/>
            <a:ext cx="107492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14:05:06Z</dcterms:created>
  <dc:creator>Administrator</dc:creator>
  <dc:description/>
  <dc:language>en-US</dc:language>
  <cp:lastModifiedBy>Administrator</cp:lastModifiedBy>
  <dcterms:modified xsi:type="dcterms:W3CDTF">2016-06-29T03:23:28Z</dcterms:modified>
  <cp:revision>2</cp:revision>
  <dc:subject/>
  <dc:title>单击此处添加标题</dc:title>
</cp:coreProperties>
</file>