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4.jpeg" ContentType="image/jpeg"/>
  <Override PartName="/ppt/media/image33.png" ContentType="image/png"/>
  <Override PartName="/ppt/media/image49.jpeg" ContentType="image/jpeg"/>
  <Override PartName="/ppt/media/image6.jpeg" ContentType="image/jpeg"/>
  <Override PartName="/ppt/media/image60.png" ContentType="image/png"/>
  <Override PartName="/ppt/media/image3.jpeg" ContentType="image/jpeg"/>
  <Override PartName="/ppt/media/image30.png" ContentType="image/png"/>
  <Override PartName="/ppt/media/image16.png" ContentType="image/png"/>
  <Override PartName="/ppt/media/image7.jpeg" ContentType="image/jpeg"/>
  <Override PartName="/ppt/media/image37.jpeg" ContentType="image/jpeg"/>
  <Override PartName="/ppt/media/image20.png" ContentType="image/png"/>
  <Override PartName="/ppt/media/image57.png" ContentType="image/png"/>
  <Override PartName="/ppt/media/image15.png" ContentType="image/png"/>
  <Override PartName="/ppt/media/image10.jpeg" ContentType="image/jpeg"/>
  <Override PartName="/ppt/media/image14.png" ContentType="image/png"/>
  <Override PartName="/ppt/media/image63.jpeg" ContentType="image/jpeg"/>
  <Override PartName="/ppt/media/image29.png" ContentType="image/png"/>
  <Override PartName="/ppt/media/image4.jpeg" ContentType="image/jpeg"/>
  <Override PartName="/ppt/media/image25.png" ContentType="image/png"/>
  <Override PartName="/ppt/media/image18.png" ContentType="image/png"/>
  <Override PartName="/ppt/media/image42.jpeg" ContentType="image/jpeg"/>
  <Override PartName="/ppt/media/image62.png" ContentType="image/png"/>
  <Override PartName="/ppt/media/image51.jpeg" ContentType="image/jpeg"/>
  <Override PartName="/ppt/media/image64.png" ContentType="image/png"/>
  <Override PartName="/ppt/media/image27.png" ContentType="image/png"/>
  <Override PartName="/ppt/media/image22.png" ContentType="image/png"/>
  <Override PartName="/ppt/media/image59.png" ContentType="image/png"/>
  <Override PartName="/ppt/media/image61.png" ContentType="image/png"/>
  <Override PartName="/ppt/media/image19.png" ContentType="image/png"/>
  <Override PartName="/ppt/media/image24.png" ContentType="image/png"/>
  <Override PartName="/ppt/media/image1.jpeg" ContentType="image/jpeg"/>
  <Override PartName="/ppt/media/image21.png" ContentType="image/png"/>
  <Override PartName="/ppt/media/image11.png" ContentType="image/png"/>
  <Override PartName="/ppt/media/image13.jpeg" ContentType="image/jpeg"/>
  <Override PartName="/ppt/media/image9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26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12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4.png" ContentType="image/png"/>
  <Override PartName="/ppt/media/image36.png" ContentType="image/png"/>
  <Override PartName="/ppt/media/image41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5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2.jpeg" ContentType="image/jpeg"/>
  <Override PartName="/ppt/media/image5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115204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549360" y="685440"/>
            <a:ext cx="57592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E407-D32C-4695-A9D7-723FC08D7E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549360" y="685800"/>
            <a:ext cx="57592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FB1C-D6AF-4D22-84B3-0530A94E72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7E7-6DD6-4EB9-9DF9-3BD6AD8A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757-EE69-46B0-A4F5-99DD7A97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B9237-FB84-4FF3-860C-E6D321DC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BAE35-FAE9-4BEF-8673-B10FF7F1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63640" y="151920"/>
            <a:ext cx="8656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2EDB3-26C2-43F0-9EAC-76DB095B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8F4FC-CBC5-4D2A-927D-0165FB23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42548-BB05-48C9-A37E-232FBB72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39961-A051-4A20-A47B-C9B3F3AB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1838F-0E0D-4292-B4D6-EF726299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50E2E-7733-401C-9B64-951C49D4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4216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42032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6364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14216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742032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80B3D-2DBC-4297-88AF-423AB1C7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8AF-30F8-4BD2-9D9E-63B4C38E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216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032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216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2032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F88-C6EC-4AAD-B55E-A38009E6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6131-6F12-45E7-8546-C2CD2E6F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6DF9-7B69-4323-8974-7F99C9B5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5EE8-CE00-496D-9998-2551E802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75EB-C6A1-456F-BC59-5E1CA872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D899-FB5F-4EC4-9A43-D6971C3E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63640" y="151920"/>
            <a:ext cx="8656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C2A3-607E-42B6-B3E5-90024222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2C43-E13C-4964-BB01-53710CE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981-8B21-4EC4-81C7-11CDFA9D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D048-85CA-403A-A958-166D9D83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BFFB-CB24-4352-8558-24DB45EE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601E-628F-4E2E-BBB7-23BA56E3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0778-8A8B-421A-8B00-5E390317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4216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2032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6364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14216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742032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6BDC-063D-4A0F-82E1-2384C2E8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474A-36A8-495C-838B-FB8803AF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2658-DCE7-4A19-8339-CCAB879B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DB6C-BBFE-453C-B649-EB0FB3C7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7A860-77C9-4127-BD11-A5E532DD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F9CD-CEF9-4BA6-B23F-0AFDA57F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CAA-2402-41DF-B4DC-214C35AA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63640" y="151920"/>
            <a:ext cx="8656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639B-C2E6-4DCA-8299-5CCC980D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BFDD-D85B-4FA0-86F1-225A244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27B3-5431-468C-AF62-9402F9BB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F6A5-2EDF-44BE-8E24-7BEEAEA9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EE2A-9CDC-47AA-8E00-5C0F39AB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AA296-8042-4E2C-A843-5AD54E8C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4216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2032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6364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414216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742032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AE8D-EC4F-4BC9-9071-630AE028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1086-74A3-4028-9588-4DA6C205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A651-F127-4750-B966-0E5A0317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6CCF-8EF6-4E67-A559-9E6E0CFF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40F-0758-4FF2-B2D2-76F2D2CE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1268E-B9E0-48B5-9703-E275E4F1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0D10D-9BB4-431A-AE72-985F286F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63640" y="151920"/>
            <a:ext cx="8656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7784-2301-421E-8696-B288C500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11869-8366-48BE-A612-4DC7794E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4FC2-6647-4A61-ACF7-EC99ED5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DBBD-6B23-44EF-998D-FAD9B896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BD244-7927-40E0-8856-7BEDEC5A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5E238-1B05-4C90-8A4E-67732042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4216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42032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6364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14216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742032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82B70-0028-4BD4-876A-1E8AE9D2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5075F-EB2E-4E68-B19E-B61DB5EF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0DE-D7DB-4450-99EE-3FF4143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121B-C3F6-4FC7-9C3A-4F8A9B28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7CD9E-F536-4AC4-8134-9DFEE2E6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24526-6005-4839-B784-08C31786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1AE46-11E1-4B49-98A5-A8346C92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63640" y="151920"/>
            <a:ext cx="8656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9D13B-EF00-4AB8-85D6-889108E4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F0F7E-56F2-48C2-9909-0BD2082D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4FA23-D709-484C-8C2C-060B89AB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80D28-6E25-42D4-8F20-A88522EB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7E7F3-53A5-4D6E-9EE6-AAA54AEE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B8592-C365-4D7D-B7C3-FA425742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151920"/>
            <a:ext cx="8656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78F-BB62-4652-A49A-B0FD26FA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4216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42032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6364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14216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742032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F13C-27C4-488E-B3C7-B190CB92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7168D-710E-4504-903D-CD1F2A57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908FF-B2CF-4333-9B56-6B46C5AE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7426B-44E4-4DFE-81C6-2544E04B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BBD81-6D2E-42FF-874B-A7F5B1C0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55E3F-2E1A-4990-826E-C6029902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863640" y="151920"/>
            <a:ext cx="8656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BB05F-AF86-44F0-87B9-44D1FC23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76B45-60E1-47E2-B835-8985F580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F80DC-0344-4848-82E4-EC1F327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7C983-1F1D-4D39-A7C6-1FA1C6F0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98F-E86A-4880-B17D-C7B83BD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FE02BF-4D5E-4A03-83B9-5E148A6F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A72F5-298E-4814-876F-292B9C95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4216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42032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86364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14216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742032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F519C-C7E6-4879-A2DA-6AE03F2C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4F3AB-5E70-4730-96A8-0DBA7715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D2D08-07A9-4375-B5CE-A1CF3875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3607D-DEFB-4CFE-AD5A-BD95D71A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C47B0-D424-4E72-AFD7-40AE5818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70885-4304-4562-8D7B-A2C64B8A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63640" y="151920"/>
            <a:ext cx="8656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8F4A0-48D1-4EFF-B77A-D4669357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A1EAA-E9A4-4D39-B6B6-40A73044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984-511E-41AF-90D1-03118DA5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2A197-98F7-486D-A283-1096A06A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23EB7-D21D-4F26-B7AE-8A6988ED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984AF-FCD2-45EE-947A-EB330268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85F6A-9F67-4749-97A8-7D951D77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14216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42032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6364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14216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742032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16ADB-0871-4A1E-A0F4-C7FEB9DC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AAF884-9BB5-4598-B3A4-CC49862E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4ABCF8-9FA4-4E5D-A2B6-AECDC8F7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3FCC8A-9E80-49CB-AD80-1267DA39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5974ED-BB06-4656-967D-218CAEF0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348A8-ABDC-4AD8-97CD-4D3A544B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C19-4DEA-476E-992E-3B0360B5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63640" y="151920"/>
            <a:ext cx="8656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1E90DE-22C1-4B01-BB51-5EF988DA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CD356F-38D9-4D13-B8F7-BD58C242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8FEEFC-1F7F-4545-8C1E-EFEB5CDC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F885CA-7066-4B55-9A62-FA2C7565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63640" y="3739320"/>
            <a:ext cx="9696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571379-6FA5-4792-AE1A-B3EE1D94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832000" y="182880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6364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832000" y="3739320"/>
            <a:ext cx="4731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693D31-BE18-4C5B-B22F-8A0108E2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4216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420320" y="182880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6364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14216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420320" y="3739320"/>
            <a:ext cx="3121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4A1A7A-C2DE-411A-91F3-32857B8A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A9DEB-7B2A-462C-A113-571CF473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D8659-D75C-4640-B9CA-62A77EBB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3B0B8-C120-4D43-8A97-105BB30B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280" y="609120"/>
            <a:ext cx="97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280" y="1981080"/>
            <a:ext cx="97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5520" y="6248520"/>
            <a:ext cx="364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0A6C-2C8A-4DDA-A163-01BE55206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11520000" cy="6858000"/>
            <a:chOff x="0" y="0"/>
            <a:chExt cx="11520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11520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11520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7872480" y="6262560"/>
            <a:ext cx="36478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9887040" cy="857160"/>
            <a:chOff x="0" y="6019920"/>
            <a:chExt cx="9887040" cy="857160"/>
          </a:xfrm>
        </p:grpSpPr>
        <p:sp>
          <p:nvSpPr>
            <p:cNvPr id="46" name="Freeform 7"/>
            <p:cNvSpPr/>
            <p:nvPr/>
          </p:nvSpPr>
          <p:spPr>
            <a:xfrm>
              <a:off x="2976120" y="6019920"/>
              <a:ext cx="647964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4971960" y="6019920"/>
              <a:ext cx="4915080" cy="857160"/>
              <a:chOff x="4971960" y="6019920"/>
              <a:chExt cx="491508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7895520" y="6031080"/>
                <a:ext cx="19915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353560" y="6019920"/>
                <a:ext cx="37188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059160" y="6180120"/>
                <a:ext cx="75600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7255080" y="6137280"/>
                <a:ext cx="30996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4971960" y="6126120"/>
                <a:ext cx="8388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795204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790560" y="6021360"/>
            <a:ext cx="7160760" cy="849240"/>
            <a:chOff x="790560" y="6021360"/>
            <a:chExt cx="7160760" cy="849240"/>
          </a:xfrm>
        </p:grpSpPr>
        <p:sp>
          <p:nvSpPr>
            <p:cNvPr id="55" name="Freeform 16"/>
            <p:cNvSpPr/>
            <p:nvPr/>
          </p:nvSpPr>
          <p:spPr>
            <a:xfrm>
              <a:off x="2392200" y="6021360"/>
              <a:ext cx="73008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885840" y="6078600"/>
              <a:ext cx="406548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3660120" y="6068880"/>
              <a:ext cx="14184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710000" y="6099120"/>
              <a:ext cx="32184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412280" y="6118200"/>
              <a:ext cx="11772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90560" y="6049800"/>
              <a:ext cx="4896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6360" y="22824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576360" y="1600200"/>
            <a:ext cx="1036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576000" y="6248520"/>
            <a:ext cx="268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935520" y="6248520"/>
            <a:ext cx="364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256600" y="6248520"/>
            <a:ext cx="268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E11-5C79-4223-98BA-3D787E7D76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9080" y="228240"/>
            <a:ext cx="1076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79080" y="1599840"/>
            <a:ext cx="1076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9440" y="6244920"/>
            <a:ext cx="2884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935520" y="6244920"/>
            <a:ext cx="364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256600" y="6244920"/>
            <a:ext cx="2884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2215-C95E-4413-AB5D-436DA648C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6360" y="291960"/>
            <a:ext cx="10368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76360" y="1905120"/>
            <a:ext cx="103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76000" y="6244920"/>
            <a:ext cx="2687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935520" y="6244920"/>
            <a:ext cx="364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56600" y="6244920"/>
            <a:ext cx="2687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9B06-B102-4EB7-ADA0-C52C35ECC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9950400" y="-285840"/>
            <a:ext cx="1162080" cy="262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1728360" y="6248520"/>
            <a:ext cx="23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479840" y="6248520"/>
            <a:ext cx="364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46432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440A-1891-42A0-AD77-B2AC91139C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10060560" y="-248040"/>
            <a:ext cx="1164960" cy="264312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9999720" y="-12600"/>
            <a:ext cx="1025640" cy="198108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9360" y="5540400"/>
            <a:ext cx="2247120" cy="1246320"/>
            <a:chOff x="9360" y="5540400"/>
            <a:chExt cx="22471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47160" y="5564160"/>
              <a:ext cx="217764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2043360" y="5686560"/>
              <a:ext cx="14184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9240" y="5991120"/>
              <a:ext cx="158400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57400" y="6045120"/>
              <a:ext cx="104976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969120" y="5607000"/>
              <a:ext cx="26964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281240" y="6608880"/>
              <a:ext cx="15192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1007280" y="5726160"/>
              <a:ext cx="3859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335240" y="5699160"/>
              <a:ext cx="72756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693000" y="5862600"/>
              <a:ext cx="31176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9360" y="5540400"/>
              <a:ext cx="2247120" cy="1238400"/>
              <a:chOff x="9360" y="5540400"/>
              <a:chExt cx="22471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996840" y="5654520"/>
                <a:ext cx="1095480" cy="1124280"/>
                <a:chOff x="996840" y="5654520"/>
                <a:chExt cx="109548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996840" y="5694480"/>
                  <a:ext cx="31392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270800" y="6567480"/>
                  <a:ext cx="22968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2006280" y="5654520"/>
                  <a:ext cx="8604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51200" y="5924520"/>
                <a:ext cx="118980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519480" y="6168960"/>
                <a:ext cx="48780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1128600" y="5842080"/>
                <a:ext cx="21384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9360" y="5540400"/>
                <a:ext cx="2247120" cy="1076400"/>
                <a:chOff x="9360" y="5540400"/>
                <a:chExt cx="22471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336680" y="6426360"/>
                  <a:ext cx="1497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9360" y="5918040"/>
                  <a:ext cx="168336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210960" y="5985000"/>
                  <a:ext cx="15984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896760" y="5540400"/>
                  <a:ext cx="64368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1154880" y="5794200"/>
                  <a:ext cx="19152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654840" y="5762520"/>
                  <a:ext cx="38988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315080" y="5616720"/>
                  <a:ext cx="94140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432800" y="5724360"/>
                  <a:ext cx="4896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10936080" y="2116080"/>
            <a:ext cx="485280" cy="4308480"/>
            <a:chOff x="10936080" y="2116080"/>
            <a:chExt cx="48528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10935720" y="4159080"/>
              <a:ext cx="40932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11011680" y="2116080"/>
              <a:ext cx="40932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9128880" y="-253800"/>
            <a:ext cx="2868840" cy="2581560"/>
            <a:chOff x="9128880" y="-253800"/>
            <a:chExt cx="2868840" cy="2581560"/>
          </a:xfrm>
        </p:grpSpPr>
        <p:grpSp>
          <p:nvGrpSpPr>
            <p:cNvPr id="223" name="Group 41"/>
            <p:cNvGrpSpPr/>
            <p:nvPr/>
          </p:nvGrpSpPr>
          <p:grpSpPr>
            <a:xfrm>
              <a:off x="9128880" y="-253800"/>
              <a:ext cx="2868840" cy="2581560"/>
              <a:chOff x="9128880" y="-253800"/>
              <a:chExt cx="2868840" cy="258156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10871640" y="1664640"/>
                <a:ext cx="98640" cy="57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9128880" y="-253800"/>
                <a:ext cx="2868840" cy="2581560"/>
                <a:chOff x="9128880" y="-253800"/>
                <a:chExt cx="2868840" cy="258156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9963000" y="86400"/>
                  <a:ext cx="243000" cy="250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10153800" y="434520"/>
                  <a:ext cx="427320" cy="875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9822240" y="102240"/>
                  <a:ext cx="802440" cy="1794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9960840" y="-306000"/>
                  <a:ext cx="1204560" cy="2686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10631160" y="1397520"/>
                  <a:ext cx="268560" cy="243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10543320" y="1248120"/>
                  <a:ext cx="287280" cy="287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10006920" y="302760"/>
                  <a:ext cx="287280" cy="294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9934920" y="194760"/>
                  <a:ext cx="284400" cy="27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9739800" y="133200"/>
              <a:ext cx="842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-7920" y="20520"/>
            <a:ext cx="11520000" cy="6858000"/>
            <a:chOff x="-7920" y="20520"/>
            <a:chExt cx="11520000" cy="6858000"/>
          </a:xfrm>
        </p:grpSpPr>
        <p:sp>
          <p:nvSpPr>
            <p:cNvPr id="272" name="Freeform 3"/>
            <p:cNvSpPr/>
            <p:nvPr/>
          </p:nvSpPr>
          <p:spPr>
            <a:xfrm>
              <a:off x="-7920" y="4897440"/>
              <a:ext cx="11520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4"/>
            <p:cNvSpPr/>
            <p:nvPr/>
          </p:nvSpPr>
          <p:spPr>
            <a:xfrm>
              <a:off x="-7920" y="20520"/>
              <a:ext cx="11520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Freeform 5"/>
          <p:cNvSpPr/>
          <p:nvPr/>
        </p:nvSpPr>
        <p:spPr>
          <a:xfrm>
            <a:off x="7864560" y="6269040"/>
            <a:ext cx="36478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6"/>
          <p:cNvGrpSpPr/>
          <p:nvPr/>
        </p:nvGrpSpPr>
        <p:grpSpPr>
          <a:xfrm>
            <a:off x="-1440" y="6033960"/>
            <a:ext cx="9883080" cy="850680"/>
            <a:chOff x="-1440" y="6033960"/>
            <a:chExt cx="9883080" cy="850680"/>
          </a:xfrm>
        </p:grpSpPr>
        <p:sp>
          <p:nvSpPr>
            <p:cNvPr id="276" name="Freeform 7"/>
            <p:cNvSpPr/>
            <p:nvPr/>
          </p:nvSpPr>
          <p:spPr>
            <a:xfrm>
              <a:off x="2974320" y="6033960"/>
              <a:ext cx="647928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Group 8"/>
            <p:cNvGrpSpPr/>
            <p:nvPr/>
          </p:nvGrpSpPr>
          <p:grpSpPr>
            <a:xfrm>
              <a:off x="4970520" y="6033960"/>
              <a:ext cx="4911120" cy="850680"/>
              <a:chOff x="4970520" y="6033960"/>
              <a:chExt cx="4911120" cy="850680"/>
            </a:xfrm>
          </p:grpSpPr>
          <p:sp>
            <p:nvSpPr>
              <p:cNvPr id="278" name="Freeform 9"/>
              <p:cNvSpPr/>
              <p:nvPr/>
            </p:nvSpPr>
            <p:spPr>
              <a:xfrm>
                <a:off x="7894080" y="6045120"/>
                <a:ext cx="198756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0"/>
              <p:cNvSpPr/>
              <p:nvPr/>
            </p:nvSpPr>
            <p:spPr>
              <a:xfrm>
                <a:off x="5352120" y="6033960"/>
                <a:ext cx="37152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1"/>
              <p:cNvSpPr/>
              <p:nvPr/>
            </p:nvSpPr>
            <p:spPr>
              <a:xfrm>
                <a:off x="6057720" y="6194160"/>
                <a:ext cx="75564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2"/>
              <p:cNvSpPr/>
              <p:nvPr/>
            </p:nvSpPr>
            <p:spPr>
              <a:xfrm>
                <a:off x="7253640" y="6151320"/>
                <a:ext cx="30996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3"/>
              <p:cNvSpPr/>
              <p:nvPr/>
            </p:nvSpPr>
            <p:spPr>
              <a:xfrm>
                <a:off x="4970520" y="6140160"/>
                <a:ext cx="8388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Freeform 14"/>
            <p:cNvSpPr/>
            <p:nvPr/>
          </p:nvSpPr>
          <p:spPr>
            <a:xfrm>
              <a:off x="-1440" y="6033960"/>
              <a:ext cx="79516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5"/>
          <p:cNvGrpSpPr/>
          <p:nvPr/>
        </p:nvGrpSpPr>
        <p:grpSpPr>
          <a:xfrm>
            <a:off x="790560" y="6021360"/>
            <a:ext cx="7160760" cy="849240"/>
            <a:chOff x="790560" y="6021360"/>
            <a:chExt cx="7160760" cy="849240"/>
          </a:xfrm>
        </p:grpSpPr>
        <p:sp>
          <p:nvSpPr>
            <p:cNvPr id="285" name="Freeform 16"/>
            <p:cNvSpPr/>
            <p:nvPr/>
          </p:nvSpPr>
          <p:spPr>
            <a:xfrm>
              <a:off x="2392200" y="6021360"/>
              <a:ext cx="73008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7"/>
            <p:cNvSpPr/>
            <p:nvPr/>
          </p:nvSpPr>
          <p:spPr>
            <a:xfrm>
              <a:off x="3885840" y="6078600"/>
              <a:ext cx="406548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8"/>
            <p:cNvSpPr/>
            <p:nvPr/>
          </p:nvSpPr>
          <p:spPr>
            <a:xfrm>
              <a:off x="3660120" y="6068880"/>
              <a:ext cx="14184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19"/>
            <p:cNvSpPr/>
            <p:nvPr/>
          </p:nvSpPr>
          <p:spPr>
            <a:xfrm>
              <a:off x="1710000" y="6099120"/>
              <a:ext cx="32184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20"/>
            <p:cNvSpPr/>
            <p:nvPr/>
          </p:nvSpPr>
          <p:spPr>
            <a:xfrm>
              <a:off x="1412280" y="6118200"/>
              <a:ext cx="11772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1"/>
            <p:cNvSpPr/>
            <p:nvPr/>
          </p:nvSpPr>
          <p:spPr>
            <a:xfrm>
              <a:off x="790560" y="6049800"/>
              <a:ext cx="4896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6360" y="22824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76360" y="1600200"/>
            <a:ext cx="1036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6000" y="6248520"/>
            <a:ext cx="268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7"/>
          </p:nvPr>
        </p:nvSpPr>
        <p:spPr>
          <a:xfrm>
            <a:off x="8256600" y="6248520"/>
            <a:ext cx="268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EDF3-12FE-411B-8232-F48E61C698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8"/>
          </p:nvPr>
        </p:nvSpPr>
        <p:spPr>
          <a:xfrm>
            <a:off x="3935520" y="6248520"/>
            <a:ext cx="364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79080" y="228240"/>
            <a:ext cx="1076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79080" y="1599840"/>
            <a:ext cx="1076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379440" y="6171840"/>
            <a:ext cx="2884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935520" y="6171840"/>
            <a:ext cx="364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8256600" y="6171840"/>
            <a:ext cx="2884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A43F-9478-4456-9EB9-DBD2F718DB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reeform 4"/>
          <p:cNvSpPr/>
          <p:nvPr/>
        </p:nvSpPr>
        <p:spPr>
          <a:xfrm>
            <a:off x="36036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6360" y="291960"/>
            <a:ext cx="10368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76360" y="1905120"/>
            <a:ext cx="103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22"/>
          </p:nvPr>
        </p:nvSpPr>
        <p:spPr>
          <a:xfrm>
            <a:off x="3935520" y="6244920"/>
            <a:ext cx="364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3"/>
          </p:nvPr>
        </p:nvSpPr>
        <p:spPr>
          <a:xfrm>
            <a:off x="8256600" y="6244920"/>
            <a:ext cx="2687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7085-0722-4A8E-BBEA-AB7DD71F8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dt" idx="24"/>
          </p:nvPr>
        </p:nvSpPr>
        <p:spPr>
          <a:xfrm>
            <a:off x="576000" y="6244920"/>
            <a:ext cx="2687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26"/>
          <p:cNvSpPr/>
          <p:nvPr/>
        </p:nvSpPr>
        <p:spPr>
          <a:xfrm>
            <a:off x="25560" y="12600"/>
            <a:ext cx="11209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1032"/>
          <p:cNvGrpSpPr/>
          <p:nvPr/>
        </p:nvGrpSpPr>
        <p:grpSpPr>
          <a:xfrm>
            <a:off x="246240" y="235080"/>
            <a:ext cx="4771080" cy="1778040"/>
            <a:chOff x="246240" y="235080"/>
            <a:chExt cx="4771080" cy="1778040"/>
          </a:xfrm>
        </p:grpSpPr>
        <p:sp>
          <p:nvSpPr>
            <p:cNvPr id="417" name="Freeform 1033"/>
            <p:cNvSpPr/>
            <p:nvPr/>
          </p:nvSpPr>
          <p:spPr>
            <a:xfrm>
              <a:off x="354600" y="281160"/>
              <a:ext cx="449892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034"/>
            <p:cNvSpPr/>
            <p:nvPr/>
          </p:nvSpPr>
          <p:spPr>
            <a:xfrm>
              <a:off x="332280" y="414360"/>
              <a:ext cx="448704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035"/>
            <p:cNvSpPr/>
            <p:nvPr/>
          </p:nvSpPr>
          <p:spPr>
            <a:xfrm>
              <a:off x="948240" y="546120"/>
              <a:ext cx="297576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1036"/>
            <p:cNvGrpSpPr/>
            <p:nvPr/>
          </p:nvGrpSpPr>
          <p:grpSpPr>
            <a:xfrm>
              <a:off x="246240" y="235080"/>
              <a:ext cx="4771080" cy="1716120"/>
              <a:chOff x="246240" y="235080"/>
              <a:chExt cx="4771080" cy="1716120"/>
            </a:xfrm>
          </p:grpSpPr>
          <p:sp>
            <p:nvSpPr>
              <p:cNvPr id="421" name="Freeform 1037"/>
              <p:cNvSpPr/>
              <p:nvPr/>
            </p:nvSpPr>
            <p:spPr>
              <a:xfrm>
                <a:off x="4009320" y="1482840"/>
                <a:ext cx="42372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1038"/>
              <p:cNvSpPr/>
              <p:nvPr/>
            </p:nvSpPr>
            <p:spPr>
              <a:xfrm>
                <a:off x="246240" y="235080"/>
                <a:ext cx="477108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1039"/>
              <p:cNvSpPr/>
              <p:nvPr/>
            </p:nvSpPr>
            <p:spPr>
              <a:xfrm>
                <a:off x="648360" y="250920"/>
                <a:ext cx="33714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40"/>
              <p:cNvSpPr/>
              <p:nvPr/>
            </p:nvSpPr>
            <p:spPr>
              <a:xfrm>
                <a:off x="818280" y="398520"/>
                <a:ext cx="45360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1041"/>
              <p:cNvSpPr/>
              <p:nvPr/>
            </p:nvSpPr>
            <p:spPr>
              <a:xfrm>
                <a:off x="1692000" y="851040"/>
                <a:ext cx="138168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Group 1042"/>
          <p:cNvGrpSpPr/>
          <p:nvPr/>
        </p:nvGrpSpPr>
        <p:grpSpPr>
          <a:xfrm>
            <a:off x="9896040" y="4285080"/>
            <a:ext cx="1086840" cy="1226520"/>
            <a:chOff x="9896040" y="4285080"/>
            <a:chExt cx="1086840" cy="1226520"/>
          </a:xfrm>
        </p:grpSpPr>
        <p:sp>
          <p:nvSpPr>
            <p:cNvPr id="427" name="Freeform 1043"/>
            <p:cNvSpPr/>
            <p:nvPr/>
          </p:nvSpPr>
          <p:spPr>
            <a:xfrm rot="7320000">
              <a:off x="9946440" y="4601520"/>
              <a:ext cx="998640" cy="5839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044"/>
            <p:cNvSpPr/>
            <p:nvPr/>
          </p:nvSpPr>
          <p:spPr>
            <a:xfrm rot="7320000">
              <a:off x="9914760" y="4580280"/>
              <a:ext cx="995400" cy="5781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045"/>
            <p:cNvSpPr/>
            <p:nvPr/>
          </p:nvSpPr>
          <p:spPr>
            <a:xfrm rot="7320000">
              <a:off x="10083600" y="4571280"/>
              <a:ext cx="660240" cy="528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Group 1046"/>
            <p:cNvGrpSpPr/>
            <p:nvPr/>
          </p:nvGrpSpPr>
          <p:grpSpPr>
            <a:xfrm>
              <a:off x="9896040" y="4285080"/>
              <a:ext cx="1086840" cy="1226520"/>
              <a:chOff x="9896040" y="4285080"/>
              <a:chExt cx="1086840" cy="1226520"/>
            </a:xfrm>
          </p:grpSpPr>
          <p:sp>
            <p:nvSpPr>
              <p:cNvPr id="431" name="Freeform 1047"/>
              <p:cNvSpPr/>
              <p:nvPr/>
            </p:nvSpPr>
            <p:spPr>
              <a:xfrm rot="7320000">
                <a:off x="9985680" y="5051520"/>
                <a:ext cx="93960" cy="12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1048"/>
              <p:cNvSpPr/>
              <p:nvPr/>
            </p:nvSpPr>
            <p:spPr>
              <a:xfrm rot="7320000">
                <a:off x="9910080" y="4588200"/>
                <a:ext cx="1058760" cy="61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1049"/>
              <p:cNvSpPr/>
              <p:nvPr/>
            </p:nvSpPr>
            <p:spPr>
              <a:xfrm rot="7320000">
                <a:off x="10219680" y="4721760"/>
                <a:ext cx="7495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1050"/>
              <p:cNvSpPr/>
              <p:nvPr/>
            </p:nvSpPr>
            <p:spPr>
              <a:xfrm rot="7320000">
                <a:off x="10739160" y="4536360"/>
                <a:ext cx="10008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1051"/>
              <p:cNvSpPr/>
              <p:nvPr/>
            </p:nvSpPr>
            <p:spPr>
              <a:xfrm rot="7320000">
                <a:off x="10312920" y="4740480"/>
                <a:ext cx="306360" cy="20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" name="Freeform 1052"/>
          <p:cNvSpPr/>
          <p:nvPr/>
        </p:nvSpPr>
        <p:spPr>
          <a:xfrm>
            <a:off x="1136520" y="5054760"/>
            <a:ext cx="857592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1053"/>
          <p:cNvSpPr/>
          <p:nvPr/>
        </p:nvSpPr>
        <p:spPr>
          <a:xfrm>
            <a:off x="5135400" y="1930320"/>
            <a:ext cx="112104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8632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3935520" y="6248520"/>
            <a:ext cx="364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825624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2B15-94C6-4F22-8E20-7F6177E3EF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anonfans.com/showlist.php?thumbid=570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38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38.png"/><Relationship Id="rId9" Type="http://schemas.openxmlformats.org/officeDocument/2006/relationships/image" Target="../media/image62.png"/><Relationship Id="rId10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&#19990;&#19978;&#21482;&#26377;.wma" TargetMode="External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449280" y="3357720"/>
            <a:ext cx="508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00"/>
                </a:solidFill>
                <a:uFillTx/>
                <a:latin typeface="草檀斋毛泽东字体"/>
                <a:ea typeface="草檀斋毛泽东字体"/>
              </a:rPr>
              <a:t>感恩母亲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图片 7" descr="5.png"/>
          <p:cNvPicPr/>
          <p:nvPr/>
        </p:nvPicPr>
        <p:blipFill>
          <a:blip r:embed="rId2"/>
          <a:stretch/>
        </p:blipFill>
        <p:spPr>
          <a:xfrm>
            <a:off x="6031080" y="2695680"/>
            <a:ext cx="50641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WordArt 2"/>
          <p:cNvSpPr txBox="1"/>
          <p:nvPr/>
        </p:nvSpPr>
        <p:spPr>
          <a:xfrm>
            <a:off x="952560" y="1341360"/>
            <a:ext cx="4535280" cy="12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小测验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0040" y="1341360"/>
            <a:ext cx="1036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46e6"/>
                </a:solidFill>
                <a:latin typeface="Comic Sans MS"/>
              </a:rPr>
              <a:t>难度：</a:t>
            </a: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46e6"/>
                </a:solidFill>
                <a:latin typeface="Comic Sans MS"/>
              </a:rPr>
              <a:t>妈妈的年龄，生日是哪一天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46e6"/>
                </a:solidFill>
                <a:latin typeface="Comic Sans MS"/>
              </a:rPr>
              <a:t>          </a:t>
            </a:r>
            <a:r>
              <a:rPr b="0" lang="zh-CN" sz="4400" spc="-1" strike="noStrike">
                <a:solidFill>
                  <a:srgbClr val="7046e6"/>
                </a:solidFill>
                <a:latin typeface="Comic Sans MS"/>
              </a:rPr>
              <a:t>第二题：难度：</a:t>
            </a: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★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46e6"/>
                </a:solidFill>
                <a:latin typeface="Comic Sans MS"/>
              </a:rPr>
              <a:t>          </a:t>
            </a:r>
            <a:r>
              <a:rPr b="0" lang="zh-CN" sz="4400" spc="-1" strike="noStrike">
                <a:solidFill>
                  <a:srgbClr val="7046e6"/>
                </a:solidFill>
                <a:latin typeface="Comic Sans MS"/>
              </a:rPr>
              <a:t>妈妈的身高和体重是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7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7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7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第三题：难度：</a:t>
            </a:r>
            <a:r>
              <a:rPr b="0" lang="zh-CN" sz="4000" spc="-1" strike="noStrike">
                <a:solidFill>
                  <a:srgbClr val="ff3300"/>
                </a:solidFill>
                <a:latin typeface="Comic Sans MS"/>
              </a:rPr>
              <a:t>★★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妈妈最爱吃的一道菜是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7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7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7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98600" y="1844640"/>
            <a:ext cx="1036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46e6"/>
                </a:solidFill>
                <a:latin typeface="Comic Sans MS"/>
              </a:rPr>
              <a:t>            </a:t>
            </a: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第四题：难度：</a:t>
            </a:r>
            <a:r>
              <a:rPr b="0" lang="zh-CN" sz="4000" spc="-1" strike="noStrike">
                <a:solidFill>
                  <a:srgbClr val="ff3300"/>
                </a:solidFill>
                <a:latin typeface="Comic Sans MS"/>
              </a:rPr>
              <a:t>★★★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          </a:t>
            </a: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妈妈穿多大码的鞋子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7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7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7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第五题：难度：</a:t>
            </a:r>
            <a:r>
              <a:rPr b="0" lang="zh-CN" sz="4000" spc="-1" strike="noStrike">
                <a:solidFill>
                  <a:srgbClr val="ff3300"/>
                </a:solidFill>
                <a:latin typeface="Comic Sans MS"/>
              </a:rPr>
              <a:t>★★★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妈妈的最爱说的口头禅是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7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7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7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46e6"/>
                </a:solidFill>
                <a:latin typeface="Comic Sans MS"/>
              </a:rPr>
              <a:t>            </a:t>
            </a: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第六题：难度：</a:t>
            </a:r>
            <a:r>
              <a:rPr b="0" lang="zh-CN" sz="4000" spc="-1" strike="noStrike">
                <a:solidFill>
                  <a:srgbClr val="ff3300"/>
                </a:solidFill>
                <a:latin typeface="Comic Sans MS"/>
              </a:rPr>
              <a:t>★★★★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          </a:t>
            </a: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妈妈最大的爱好是什么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7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7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7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8656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63640" y="1828800"/>
            <a:ext cx="96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46e6"/>
                </a:solidFill>
                <a:latin typeface="Comic Sans MS"/>
              </a:rPr>
              <a:t>          </a:t>
            </a: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第七题：难度：</a:t>
            </a:r>
            <a:r>
              <a:rPr b="0" lang="zh-CN" sz="4000" spc="-1" strike="noStrike">
                <a:solidFill>
                  <a:srgbClr val="ff3300"/>
                </a:solidFill>
                <a:latin typeface="Comic Sans MS"/>
              </a:rPr>
              <a:t>★★★★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         </a:t>
            </a: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妈妈最大的心愿是？</a:t>
            </a: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/</a:t>
            </a:r>
            <a:r>
              <a:rPr b="0" lang="zh-CN" sz="4000" spc="-1" strike="noStrike">
                <a:solidFill>
                  <a:srgbClr val="7046e6"/>
                </a:solidFill>
                <a:latin typeface="Comic Sans MS"/>
              </a:rPr>
              <a:t>妈妈感到最开心的事情是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7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7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7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WordArt 2"/>
          <p:cNvSpPr txBox="1"/>
          <p:nvPr/>
        </p:nvSpPr>
        <p:spPr>
          <a:xfrm rot="5400000">
            <a:off x="-679680" y="2865600"/>
            <a:ext cx="4895640" cy="126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你知道几个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76360" y="260280"/>
            <a:ext cx="10368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d57bc"/>
                </a:solidFill>
                <a:latin typeface="Comic Sans MS"/>
              </a:rPr>
              <a:t>★</a:t>
            </a:r>
            <a:r>
              <a:rPr b="1" lang="zh-CN" sz="2700" spc="-1" strike="noStrike">
                <a:solidFill>
                  <a:srgbClr val="cd57bc"/>
                </a:solidFill>
                <a:latin typeface="Comic Sans MS"/>
              </a:rPr>
              <a:t>感恩母亲节 儿女六件小事报恩情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Comic Sans MS"/>
              </a:rPr>
              <a:t>◎</a:t>
            </a:r>
            <a:r>
              <a:rPr b="1" lang="zh-CN" sz="27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zh-CN" sz="2700" spc="-1" strike="noStrike">
                <a:solidFill>
                  <a:srgbClr val="0000ff"/>
                </a:solidFill>
                <a:latin typeface="Comic Sans MS"/>
              </a:rPr>
              <a:t>、对你说上一声</a:t>
            </a:r>
            <a:r>
              <a:rPr b="1" lang="zh-CN" sz="2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700" spc="-1" strike="noStrike">
                <a:solidFill>
                  <a:srgbClr val="0000ff"/>
                </a:solidFill>
                <a:latin typeface="Comic Sans MS"/>
              </a:rPr>
              <a:t>我爱你</a:t>
            </a:r>
            <a:r>
              <a:rPr b="1" lang="zh-CN" sz="27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9900"/>
                </a:solidFill>
                <a:latin typeface="Comic Sans MS"/>
              </a:rPr>
              <a:t>◎</a:t>
            </a:r>
            <a:r>
              <a:rPr b="1" lang="zh-CN" sz="2700" spc="-1" strike="noStrike">
                <a:solidFill>
                  <a:srgbClr val="009900"/>
                </a:solidFill>
                <a:latin typeface="Comic Sans MS"/>
              </a:rPr>
              <a:t>2</a:t>
            </a:r>
            <a:r>
              <a:rPr b="1" lang="zh-CN" sz="2700" spc="-1" strike="noStrike">
                <a:solidFill>
                  <a:srgbClr val="009900"/>
                </a:solidFill>
                <a:latin typeface="Comic Sans MS"/>
              </a:rPr>
              <a:t>、写一封信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Comic Sans MS"/>
              </a:rPr>
              <a:t>◎</a:t>
            </a:r>
            <a:r>
              <a:rPr b="1" lang="zh-CN" sz="27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700" spc="-1" strike="noStrike">
                <a:solidFill>
                  <a:srgbClr val="000099"/>
                </a:solidFill>
                <a:latin typeface="Comic Sans MS"/>
              </a:rPr>
              <a:t>、做一道菜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Comic Sans MS"/>
              </a:rPr>
              <a:t>◎</a:t>
            </a:r>
            <a:r>
              <a:rPr b="1" lang="zh-CN" sz="2700" spc="-1" strike="noStrike">
                <a:solidFill>
                  <a:srgbClr val="0066ff"/>
                </a:solidFill>
                <a:latin typeface="Comic Sans MS"/>
              </a:rPr>
              <a:t>4</a:t>
            </a:r>
            <a:r>
              <a:rPr b="1" lang="zh-CN" sz="2700" spc="-1" strike="noStrike">
                <a:solidFill>
                  <a:srgbClr val="0066ff"/>
                </a:solidFill>
                <a:latin typeface="Comic Sans MS"/>
              </a:rPr>
              <a:t>、送一束花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9999ff"/>
                </a:solidFill>
                <a:latin typeface="Comic Sans MS"/>
              </a:rPr>
              <a:t>◎</a:t>
            </a:r>
            <a:r>
              <a:rPr b="1" lang="zh-CN" sz="2700" spc="-1" strike="noStrike">
                <a:solidFill>
                  <a:srgbClr val="9999ff"/>
                </a:solidFill>
                <a:latin typeface="Comic Sans MS"/>
              </a:rPr>
              <a:t>5</a:t>
            </a:r>
            <a:r>
              <a:rPr b="1" lang="zh-CN" sz="2700" spc="-1" strike="noStrike">
                <a:solidFill>
                  <a:srgbClr val="9999ff"/>
                </a:solidFill>
                <a:latin typeface="Comic Sans MS"/>
              </a:rPr>
              <a:t>、陪她一天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b1359f"/>
                </a:solidFill>
                <a:latin typeface="Comic Sans MS"/>
              </a:rPr>
              <a:t>◎</a:t>
            </a:r>
            <a:r>
              <a:rPr b="1" lang="zh-CN" sz="2700" spc="-1" strike="noStrike">
                <a:solidFill>
                  <a:srgbClr val="b1359f"/>
                </a:solidFill>
                <a:latin typeface="Comic Sans MS"/>
              </a:rPr>
              <a:t>6</a:t>
            </a:r>
            <a:r>
              <a:rPr b="1" lang="zh-CN" sz="2700" spc="-1" strike="noStrike">
                <a:solidFill>
                  <a:srgbClr val="b1359f"/>
                </a:solidFill>
                <a:latin typeface="Comic Sans MS"/>
              </a:rPr>
              <a:t>、体检卡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3300"/>
                </a:solidFill>
                <a:latin typeface="Comic Sans MS"/>
              </a:rPr>
              <a:t>◎</a:t>
            </a:r>
            <a:r>
              <a:rPr b="1" lang="zh-CN" sz="2700" spc="-1" strike="noStrike">
                <a:solidFill>
                  <a:srgbClr val="ff3300"/>
                </a:solidFill>
                <a:latin typeface="Comic Sans MS"/>
              </a:rPr>
              <a:t>7.</a:t>
            </a:r>
            <a:r>
              <a:rPr b="1" lang="zh-CN" sz="2700" spc="-1" strike="noStrike">
                <a:solidFill>
                  <a:srgbClr val="ff3300"/>
                </a:solidFill>
                <a:latin typeface="Comic Sans MS"/>
              </a:rPr>
              <a:t>不惹她生气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3"/>
          <p:cNvSpPr/>
          <p:nvPr/>
        </p:nvSpPr>
        <p:spPr>
          <a:xfrm>
            <a:off x="590400" y="189000"/>
            <a:ext cx="37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  <a:ea typeface="华康少女文字W5"/>
              </a:rPr>
              <a:t>感受母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27"/>
          <p:cNvSpPr/>
          <p:nvPr/>
        </p:nvSpPr>
        <p:spPr>
          <a:xfrm>
            <a:off x="225360" y="1341360"/>
            <a:ext cx="6816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方正卡通简体"/>
                <a:ea typeface="方正卡通简体"/>
              </a:rPr>
              <a:t>无论你身在何地，有一个人，她永远占据在你心中最柔软的地方，你愿用自己的一生去爱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方正卡通简体"/>
                <a:ea typeface="方正卡通简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方正卡通简体"/>
                <a:ea typeface="方正卡通简体"/>
              </a:rPr>
              <a:t>有一种爱，它让你肆意索取，享用，却不要你任何回报</a:t>
            </a:r>
            <a:r>
              <a:rPr b="1" lang="en-US" sz="3200" spc="-1" strike="noStrike">
                <a:solidFill>
                  <a:srgbClr val="876cfa"/>
                </a:solidFill>
                <a:latin typeface="方正卡通简体"/>
                <a:ea typeface="方正卡通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方正卡通简体"/>
                <a:ea typeface="方正卡通简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方正卡通简体"/>
                <a:ea typeface="方正卡通简体"/>
              </a:rPr>
              <a:t>这个人，叫“</a:t>
            </a:r>
            <a:r>
              <a:rPr b="1" lang="zh-CN" sz="3600" spc="-1" strike="noStrike" u="sng">
                <a:solidFill>
                  <a:srgbClr val="876cfa"/>
                </a:solidFill>
                <a:uFillTx/>
                <a:latin typeface="方正卡通简体"/>
                <a:ea typeface="方正卡通简体"/>
              </a:rPr>
              <a:t>母亲</a:t>
            </a:r>
            <a:r>
              <a:rPr b="1" lang="zh-CN" sz="3200" spc="-1" strike="noStrike">
                <a:solidFill>
                  <a:srgbClr val="876cfa"/>
                </a:solidFill>
                <a:latin typeface="方正卡通简体"/>
                <a:ea typeface="方正卡通简体"/>
              </a:rPr>
              <a:t>”，这种爱叫“</a:t>
            </a:r>
            <a:r>
              <a:rPr b="1" lang="zh-CN" sz="3600" spc="-1" strike="noStrike" u="sng">
                <a:solidFill>
                  <a:srgbClr val="876cfa"/>
                </a:solidFill>
                <a:uFillTx/>
                <a:latin typeface="方正卡通简体"/>
                <a:ea typeface="方正卡通简体"/>
              </a:rPr>
              <a:t>母爱</a:t>
            </a:r>
            <a:r>
              <a:rPr b="1" lang="zh-CN" sz="3200" spc="-1" strike="noStrike">
                <a:solidFill>
                  <a:srgbClr val="876cfa"/>
                </a:solidFill>
                <a:latin typeface="方正卡通简体"/>
                <a:ea typeface="方正卡通简体"/>
              </a:rPr>
              <a:t>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5" descr="200861416172914_2"/>
          <p:cNvPicPr/>
          <p:nvPr/>
        </p:nvPicPr>
        <p:blipFill>
          <a:blip r:embed="rId1"/>
          <a:stretch/>
        </p:blipFill>
        <p:spPr>
          <a:xfrm>
            <a:off x="7756560" y="0"/>
            <a:ext cx="3763800" cy="3645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029" descr="userid34564time20040712185428">
            <a:hlinkClick r:id="rId2"/>
          </p:cNvPr>
          <p:cNvPicPr/>
          <p:nvPr/>
        </p:nvPicPr>
        <p:blipFill>
          <a:blip r:embed="rId3"/>
          <a:srcRect l="2087" t="13048" r="0" b="0"/>
          <a:stretch/>
        </p:blipFill>
        <p:spPr>
          <a:xfrm>
            <a:off x="7756560" y="3645000"/>
            <a:ext cx="37638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7392960" y="3962520"/>
            <a:ext cx="2303640" cy="23428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3"/>
          <p:cNvSpPr/>
          <p:nvPr/>
        </p:nvSpPr>
        <p:spPr>
          <a:xfrm>
            <a:off x="479520" y="609480"/>
            <a:ext cx="6721560" cy="3276720"/>
          </a:xfrm>
          <a:prstGeom prst="cloudCallout">
            <a:avLst>
              <a:gd name="adj1" fmla="val 50060"/>
              <a:gd name="adj2" fmla="val 6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055520" y="121932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文鼎广告体"/>
              </a:rPr>
              <a:t>为什么我们要对妈妈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863640" y="1905120"/>
            <a:ext cx="950436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文鼎广告体"/>
              </a:rPr>
              <a:t>为什么我们要对妈妈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Handwriting"/>
                <a:ea typeface="Arphic Kaiti Medium BIG5"/>
              </a:rPr>
              <a:t>Happy Mother’s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2"/>
          <a:stretch/>
        </p:blipFill>
        <p:spPr>
          <a:xfrm>
            <a:off x="6432480" y="838080"/>
            <a:ext cx="508788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5578560" y="2060640"/>
            <a:ext cx="5424480" cy="3124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1055520" y="2133720"/>
            <a:ext cx="4416480" cy="2895480"/>
          </a:xfrm>
          <a:prstGeom prst="rect">
            <a:avLst/>
          </a:prstGeom>
          <a:ln w="0">
            <a:noFill/>
          </a:ln>
        </p:spPr>
      </p:pic>
      <p:sp>
        <p:nvSpPr>
          <p:cNvPr id="545" name="WordArt 9"/>
          <p:cNvSpPr txBox="1"/>
          <p:nvPr/>
        </p:nvSpPr>
        <p:spPr>
          <a:xfrm>
            <a:off x="1440000" y="609480"/>
            <a:ext cx="9119880" cy="141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所有的妈妈都可爱！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46" name="Picture 12" descr=""/>
          <p:cNvPicPr/>
          <p:nvPr/>
        </p:nvPicPr>
        <p:blipFill>
          <a:blip r:embed="rId3"/>
          <a:stretch/>
        </p:blipFill>
        <p:spPr>
          <a:xfrm>
            <a:off x="8159760" y="3124080"/>
            <a:ext cx="1152360" cy="7128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"/>
          <p:cNvPicPr/>
          <p:nvPr/>
        </p:nvPicPr>
        <p:blipFill>
          <a:blip r:embed="rId4"/>
          <a:stretch/>
        </p:blipFill>
        <p:spPr>
          <a:xfrm>
            <a:off x="192240" y="2666880"/>
            <a:ext cx="1439640" cy="8859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4"/>
          <p:cNvSpPr/>
          <p:nvPr/>
        </p:nvSpPr>
        <p:spPr>
          <a:xfrm>
            <a:off x="407880" y="5589720"/>
            <a:ext cx="107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你想一想记忆中母亲让你最感动的一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1"/>
          <a:srcRect l="24476" t="0" r="11640" b="2095"/>
          <a:stretch/>
        </p:blipFill>
        <p:spPr>
          <a:xfrm>
            <a:off x="479520" y="3809880"/>
            <a:ext cx="1504800" cy="26672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" descr=""/>
          <p:cNvPicPr/>
          <p:nvPr/>
        </p:nvPicPr>
        <p:blipFill>
          <a:blip r:embed="rId2"/>
          <a:stretch/>
        </p:blipFill>
        <p:spPr>
          <a:xfrm>
            <a:off x="1055520" y="3886200"/>
            <a:ext cx="3456000" cy="24876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"/>
          <p:cNvPicPr/>
          <p:nvPr/>
        </p:nvPicPr>
        <p:blipFill>
          <a:blip r:embed="rId3"/>
          <a:stretch/>
        </p:blipFill>
        <p:spPr>
          <a:xfrm>
            <a:off x="768240" y="152280"/>
            <a:ext cx="3840120" cy="3429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"/>
          <p:cNvPicPr/>
          <p:nvPr/>
        </p:nvPicPr>
        <p:blipFill>
          <a:blip r:embed="rId4"/>
          <a:stretch/>
        </p:blipFill>
        <p:spPr>
          <a:xfrm>
            <a:off x="5472000" y="228600"/>
            <a:ext cx="4560840" cy="20131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1"/>
          <p:cNvSpPr/>
          <p:nvPr/>
        </p:nvSpPr>
        <p:spPr>
          <a:xfrm>
            <a:off x="3552840" y="2133720"/>
            <a:ext cx="41274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华文行楷"/>
              </a:rPr>
              <a:t>我们的生命从妈妈的夏天开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840120" y="3124080"/>
            <a:ext cx="4224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华文行楷"/>
              </a:rPr>
              <a:t>妈妈用她们渐去的红颜换来我们年轻的容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4224240" y="4114800"/>
            <a:ext cx="4319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华文行楷"/>
                <a:ea typeface="华文行楷"/>
              </a:rPr>
              <a:t>她们历经了多少苦难</a:t>
            </a:r>
            <a:r>
              <a:rPr b="1" lang="en-US" sz="2400" spc="-1" strike="noStrike">
                <a:solidFill>
                  <a:srgbClr val="990099"/>
                </a:solidFill>
                <a:latin typeface="华文行楷"/>
                <a:ea typeface="华文行楷"/>
              </a:rPr>
              <a:t>,</a:t>
            </a:r>
            <a:r>
              <a:rPr b="1" lang="zh-CN" sz="2400" spc="-1" strike="noStrike">
                <a:solidFill>
                  <a:srgbClr val="990099"/>
                </a:solidFill>
                <a:latin typeface="华文行楷"/>
                <a:ea typeface="华文行楷"/>
              </a:rPr>
              <a:t>我们能用言语说得清吗</a:t>
            </a:r>
            <a:r>
              <a:rPr b="1" lang="en-US" sz="2400" spc="-1" strike="noStrike">
                <a:solidFill>
                  <a:srgbClr val="990099"/>
                </a:solidFill>
                <a:latin typeface="华文行楷"/>
                <a:ea typeface="华文行楷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8159760" y="6172200"/>
            <a:ext cx="36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文鼎大标宋"/>
              </a:rPr>
              <a:t>丢勒木炭素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文鼎大标宋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文鼎大标宋"/>
              </a:rPr>
              <a:t>母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文鼎大标宋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9" descr=""/>
          <p:cNvPicPr/>
          <p:nvPr/>
        </p:nvPicPr>
        <p:blipFill>
          <a:blip r:embed="rId5"/>
          <a:stretch/>
        </p:blipFill>
        <p:spPr>
          <a:xfrm>
            <a:off x="8640720" y="251460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7" descr=""/>
          <p:cNvPicPr/>
          <p:nvPr/>
        </p:nvPicPr>
        <p:blipFill>
          <a:blip r:embed="rId6"/>
          <a:stretch/>
        </p:blipFill>
        <p:spPr>
          <a:xfrm>
            <a:off x="4703760" y="5181480"/>
            <a:ext cx="2436840" cy="13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"/>
          <p:cNvPicPr/>
          <p:nvPr/>
        </p:nvPicPr>
        <p:blipFill>
          <a:blip r:embed="rId1"/>
          <a:stretch/>
        </p:blipFill>
        <p:spPr>
          <a:xfrm>
            <a:off x="7585200" y="457200"/>
            <a:ext cx="2495520" cy="196200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7"/>
          <p:cNvSpPr/>
          <p:nvPr/>
        </p:nvSpPr>
        <p:spPr>
          <a:xfrm>
            <a:off x="2016000" y="609480"/>
            <a:ext cx="4800600" cy="1600200"/>
          </a:xfrm>
          <a:prstGeom prst="wedgeEllipseCallout">
            <a:avLst>
              <a:gd name="adj1" fmla="val 70208"/>
              <a:gd name="adj2" fmla="val 164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8"/>
          <p:cNvSpPr/>
          <p:nvPr/>
        </p:nvSpPr>
        <p:spPr>
          <a:xfrm>
            <a:off x="3168720" y="2895480"/>
            <a:ext cx="6719760" cy="2133720"/>
          </a:xfrm>
          <a:prstGeom prst="cloudCallout">
            <a:avLst>
              <a:gd name="adj1" fmla="val -32587"/>
              <a:gd name="adj2" fmla="val 7001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2495520" y="990720"/>
            <a:ext cx="39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文鼎广告体"/>
              </a:rPr>
              <a:t>妈妈，你到底为什么爱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4032360" y="3505320"/>
            <a:ext cx="53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文鼎大颜楷"/>
              </a:rPr>
              <a:t>不为什么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文鼎大颜楷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文鼎大颜楷"/>
              </a:rPr>
              <a:t>只因你是我的小孩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11" descr=""/>
          <p:cNvPicPr/>
          <p:nvPr/>
        </p:nvPicPr>
        <p:blipFill>
          <a:blip r:embed="rId2"/>
          <a:stretch/>
        </p:blipFill>
        <p:spPr>
          <a:xfrm>
            <a:off x="8832960" y="5105520"/>
            <a:ext cx="1342800" cy="9525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"/>
          <p:cNvPicPr/>
          <p:nvPr/>
        </p:nvPicPr>
        <p:blipFill>
          <a:blip r:embed="rId3"/>
          <a:stretch/>
        </p:blipFill>
        <p:spPr>
          <a:xfrm>
            <a:off x="576360" y="4343400"/>
            <a:ext cx="32637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828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5" descr=""/>
          <p:cNvPicPr/>
          <p:nvPr/>
        </p:nvPicPr>
        <p:blipFill>
          <a:blip r:embed="rId2"/>
          <a:stretch/>
        </p:blipFill>
        <p:spPr>
          <a:xfrm>
            <a:off x="0" y="6095880"/>
            <a:ext cx="3071880" cy="7621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6" descr=""/>
          <p:cNvPicPr/>
          <p:nvPr/>
        </p:nvPicPr>
        <p:blipFill>
          <a:blip r:embed="rId3"/>
          <a:srcRect l="0" t="0" r="80961" b="0"/>
          <a:stretch/>
        </p:blipFill>
        <p:spPr>
          <a:xfrm>
            <a:off x="384120" y="1066680"/>
            <a:ext cx="1631880" cy="1133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9" descr=""/>
          <p:cNvPicPr/>
          <p:nvPr/>
        </p:nvPicPr>
        <p:blipFill>
          <a:blip r:embed="rId4"/>
          <a:stretch/>
        </p:blipFill>
        <p:spPr>
          <a:xfrm>
            <a:off x="5376960" y="4419720"/>
            <a:ext cx="1631880" cy="12189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0" descr=""/>
          <p:cNvPicPr/>
          <p:nvPr/>
        </p:nvPicPr>
        <p:blipFill>
          <a:blip r:embed="rId5"/>
          <a:srcRect l="30855" t="0" r="0" b="0"/>
          <a:stretch/>
        </p:blipFill>
        <p:spPr>
          <a:xfrm>
            <a:off x="2879640" y="3276720"/>
            <a:ext cx="3013200" cy="11811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2" descr=""/>
          <p:cNvPicPr/>
          <p:nvPr/>
        </p:nvPicPr>
        <p:blipFill>
          <a:blip r:embed="rId6"/>
          <a:stretch/>
        </p:blipFill>
        <p:spPr>
          <a:xfrm>
            <a:off x="1536840" y="4419720"/>
            <a:ext cx="3875040" cy="990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7" descr=""/>
          <p:cNvPicPr/>
          <p:nvPr/>
        </p:nvPicPr>
        <p:blipFill>
          <a:blip r:embed="rId7"/>
          <a:stretch/>
        </p:blipFill>
        <p:spPr>
          <a:xfrm>
            <a:off x="8640720" y="0"/>
            <a:ext cx="2879640" cy="828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8" descr=""/>
          <p:cNvPicPr/>
          <p:nvPr/>
        </p:nvPicPr>
        <p:blipFill>
          <a:blip r:embed="rId8"/>
          <a:stretch/>
        </p:blipFill>
        <p:spPr>
          <a:xfrm>
            <a:off x="5761080" y="0"/>
            <a:ext cx="2879640" cy="828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9" descr=""/>
          <p:cNvPicPr/>
          <p:nvPr/>
        </p:nvPicPr>
        <p:blipFill>
          <a:blip r:embed="rId9"/>
          <a:stretch/>
        </p:blipFill>
        <p:spPr>
          <a:xfrm>
            <a:off x="2879640" y="0"/>
            <a:ext cx="2881440" cy="828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1" descr=""/>
          <p:cNvPicPr/>
          <p:nvPr/>
        </p:nvPicPr>
        <p:blipFill>
          <a:blip r:embed="rId10"/>
          <a:stretch/>
        </p:blipFill>
        <p:spPr>
          <a:xfrm>
            <a:off x="8736120" y="6095880"/>
            <a:ext cx="2784240" cy="762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2" descr=""/>
          <p:cNvPicPr/>
          <p:nvPr/>
        </p:nvPicPr>
        <p:blipFill>
          <a:blip r:embed="rId11"/>
          <a:stretch/>
        </p:blipFill>
        <p:spPr>
          <a:xfrm>
            <a:off x="3071880" y="6095880"/>
            <a:ext cx="2879640" cy="7621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3" descr=""/>
          <p:cNvPicPr/>
          <p:nvPr/>
        </p:nvPicPr>
        <p:blipFill>
          <a:blip r:embed="rId12"/>
          <a:stretch/>
        </p:blipFill>
        <p:spPr>
          <a:xfrm>
            <a:off x="5951520" y="6095880"/>
            <a:ext cx="2784600" cy="762120"/>
          </a:xfrm>
          <a:prstGeom prst="rect">
            <a:avLst/>
          </a:prstGeom>
          <a:ln w="0">
            <a:noFill/>
          </a:ln>
        </p:spPr>
      </p:pic>
      <p:sp>
        <p:nvSpPr>
          <p:cNvPr id="578" name="WordArt 36"/>
          <p:cNvSpPr txBox="1"/>
          <p:nvPr/>
        </p:nvSpPr>
        <p:spPr>
          <a:xfrm>
            <a:off x="863640" y="2057400"/>
            <a:ext cx="10009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宋体"/>
              </a:rPr>
              <a:t>你用什么方法表示对妈妈节日的问候？</a:t>
            </a:r>
            <a:endParaRPr b="1" lang="en-US" sz="2400" spc="1" strike="noStrike">
              <a:ln w="1908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040" y="260280"/>
            <a:ext cx="10160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今后如何处理与母亲的关系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15720" y="1052640"/>
            <a:ext cx="11204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尊重母亲的教诲，理解母亲罗嗦背后深切的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要承担部分家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要善于表达爱。例如：妈妈下班时，可递上一杯热茶；妈妈做了使你感动的事，你可以说：“妈妈，你真好！”等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有责任与母亲建立民主的沟通方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多交流。把学校的生活、交友的情况、对问题的看法多与母亲交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说出内心的感受。当意见不统一或母亲做法欠妥时，要学会平静地告诉他们你的内心感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6360" y="291960"/>
            <a:ext cx="10368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祝福天下母亲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1916280"/>
            <a:ext cx="1036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看着母亲一丝一丝的白发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一条一条逐日渐深的皱纹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多年含辛茹苦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哺育我成人的母亲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在这属于您的节日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请接受我对您最深切得祝愿：节日快乐，永远年轻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也许我很任性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固执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令您操心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惹您生气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也许我总爱自作主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自作聪明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把您的话当成罗嗦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但是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在我的心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妈妈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我其实很爱您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!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Tahoma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QQ截图20120505180225"/>
          <p:cNvPicPr/>
          <p:nvPr/>
        </p:nvPicPr>
        <p:blipFill>
          <a:blip r:embed="rId1"/>
          <a:stretch/>
        </p:blipFill>
        <p:spPr>
          <a:xfrm>
            <a:off x="-676440" y="-673200"/>
            <a:ext cx="14149440" cy="5353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"/>
          <p:cNvPicPr/>
          <p:nvPr/>
        </p:nvPicPr>
        <p:blipFill>
          <a:blip r:embed="rId2"/>
          <a:stretch/>
        </p:blipFill>
        <p:spPr>
          <a:xfrm>
            <a:off x="10750680" y="3933720"/>
            <a:ext cx="8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390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498600" y="2637000"/>
            <a:ext cx="498924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母亲是一艘大船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载着我们驶向大海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去追寻生命的奥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去探索世界的神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母亲是一座高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蕴藏着万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哺育我们成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强壮我们的身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3130560" y="741240"/>
            <a:ext cx="76662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母亲是一曲动人的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带着我们云游四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用她那优美的曲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颂吟着祖国的历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母亲是一缕春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吹生着世界万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盈盈的步履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带来了勃勃的生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母亲是丝丝春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滋润着大地万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啊！母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我爱你，你是我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宋黑简体"/>
                <a:ea typeface="方正宋黑简体"/>
              </a:rPr>
              <a:t>永远的挚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4" descr="106012_1318130474RO0Q"/>
          <p:cNvPicPr/>
          <p:nvPr/>
        </p:nvPicPr>
        <p:blipFill>
          <a:blip r:embed="rId1"/>
          <a:stretch/>
        </p:blipFill>
        <p:spPr>
          <a:xfrm>
            <a:off x="4035600" y="333360"/>
            <a:ext cx="2788920" cy="2951280"/>
          </a:xfrm>
          <a:prstGeom prst="rect">
            <a:avLst/>
          </a:prstGeom>
          <a:ln w="0">
            <a:noFill/>
          </a:ln>
        </p:spPr>
      </p:pic>
      <p:pic>
        <p:nvPicPr>
          <p:cNvPr id="588" name="纯音乐 - 泪花(TEARS).mp3" descr="纯音乐 - 泪花(TEARS)"/>
          <p:cNvPicPr/>
          <p:nvPr/>
        </p:nvPicPr>
        <p:blipFill>
          <a:blip r:embed="rId2"/>
          <a:stretch/>
        </p:blipFill>
        <p:spPr>
          <a:xfrm>
            <a:off x="10933200" y="6453360"/>
            <a:ext cx="463320" cy="36972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6"/>
          <p:cNvSpPr/>
          <p:nvPr/>
        </p:nvSpPr>
        <p:spPr>
          <a:xfrm>
            <a:off x="498600" y="260280"/>
            <a:ext cx="22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叶根友钢笔行书升级版"/>
              </a:rPr>
              <a:t>赞美母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mediacall" presetID="1" repeatCount="2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235099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57"/>
          <p:cNvPicPr/>
          <p:nvPr/>
        </p:nvPicPr>
        <p:blipFill>
          <a:blip r:embed="rId1"/>
          <a:stretch/>
        </p:blipFill>
        <p:spPr>
          <a:xfrm>
            <a:off x="-406440" y="260280"/>
            <a:ext cx="6637320" cy="6747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a171aa25tw1ds0m9ao0rrj"/>
          <p:cNvPicPr/>
          <p:nvPr/>
        </p:nvPicPr>
        <p:blipFill>
          <a:blip r:embed="rId2"/>
          <a:stretch/>
        </p:blipFill>
        <p:spPr>
          <a:xfrm>
            <a:off x="5997600" y="0"/>
            <a:ext cx="5524560" cy="364644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4"/>
          <p:cNvSpPr/>
          <p:nvPr/>
        </p:nvSpPr>
        <p:spPr>
          <a:xfrm>
            <a:off x="316080" y="476280"/>
            <a:ext cx="526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  <a:ea typeface="李国夫手写体"/>
              </a:rPr>
              <a:t>今生今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130560" y="134136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余光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136440" y="1628640"/>
            <a:ext cx="51721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貓咪篇"/>
                <a:ea typeface="迷你简硬笔楷书"/>
              </a:rPr>
              <a:t>我最忘情的哭声有两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貓咪篇"/>
                <a:ea typeface="迷你简硬笔楷书"/>
              </a:rPr>
              <a:t>一次，在我生命的开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貓咪篇"/>
                <a:ea typeface="迷你简硬笔楷书"/>
              </a:rPr>
              <a:t>一次，在你生命的告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貓咪篇"/>
                <a:ea typeface="迷你简硬笔楷书"/>
              </a:rPr>
              <a:t>第一次，我不会记得，是听你说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貓咪篇"/>
                <a:ea typeface="迷你简硬笔楷书"/>
              </a:rPr>
              <a:t>第二次，你不会晓得，我说也没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貓咪篇"/>
                <a:ea typeface="迷你简硬笔楷书"/>
              </a:rPr>
              <a:t>但两次哭声的中间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貓咪篇"/>
                <a:ea typeface="迷你简硬笔楷书"/>
              </a:rPr>
              <a:t>有无穷无尽的笑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貓咪篇"/>
                <a:ea typeface="迷你简硬笔楷书"/>
              </a:rPr>
              <a:t>一遍一遍又一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貓咪篇"/>
                <a:ea typeface="迷你简硬笔楷书"/>
              </a:rPr>
              <a:t>回荡了整整三十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貓咪篇"/>
                <a:ea typeface="迷你简硬笔楷书"/>
              </a:rPr>
              <a:t>你都晓得，我都记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久石让 - The Rain(菊次郎的夏天插曲).mp3" descr="久石让 - The Rain(菊次郎的夏天插曲)"/>
          <p:cNvPicPr/>
          <p:nvPr/>
        </p:nvPicPr>
        <p:blipFill>
          <a:blip r:embed="rId3"/>
          <a:stretch/>
        </p:blipFill>
        <p:spPr>
          <a:xfrm>
            <a:off x="11022120" y="6524640"/>
            <a:ext cx="384120" cy="304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"/>
          <p:cNvPicPr/>
          <p:nvPr/>
        </p:nvPicPr>
        <p:blipFill>
          <a:blip r:embed="rId4"/>
          <a:stretch/>
        </p:blipFill>
        <p:spPr>
          <a:xfrm>
            <a:off x="10750680" y="2997360"/>
            <a:ext cx="8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4" dur="341932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6" dur="390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20548"/>
          <p:cNvPicPr/>
          <p:nvPr/>
        </p:nvPicPr>
        <p:blipFill>
          <a:blip r:embed="rId1"/>
          <a:stretch/>
        </p:blipFill>
        <p:spPr>
          <a:xfrm>
            <a:off x="136440" y="2089080"/>
            <a:ext cx="9252000" cy="458964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3"/>
          <p:cNvSpPr/>
          <p:nvPr/>
        </p:nvSpPr>
        <p:spPr>
          <a:xfrm>
            <a:off x="316080" y="549360"/>
            <a:ext cx="1015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9900"/>
                </a:solidFill>
                <a:latin typeface="Arial"/>
                <a:ea typeface="汉仪蝶语体简"/>
              </a:rPr>
              <a:t>母亲节的由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四叶草的幸福5"/>
          <p:cNvPicPr/>
          <p:nvPr/>
        </p:nvPicPr>
        <p:blipFill>
          <a:blip r:embed="rId1"/>
          <a:stretch/>
        </p:blipFill>
        <p:spPr>
          <a:xfrm>
            <a:off x="0" y="-20520"/>
            <a:ext cx="11520360" cy="68691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3"/>
          <p:cNvSpPr/>
          <p:nvPr/>
        </p:nvSpPr>
        <p:spPr>
          <a:xfrm>
            <a:off x="2180880" y="333360"/>
            <a:ext cx="511848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现在请大家闭上眼睛，伴着舒缓的音乐，想一想你小的时候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妈妈的样子。想一想那时和妈妈在一起的情景，那时的妈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年轻又漂亮，那时你还在幼儿园，能记起妈妈牵着你的小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送你上学时的情景吗？后来你又上了小学、初中，能记起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妈在你每天上学前为你准备好书包，并告诉你要听老师的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要好好学习的情景吗？还记得在风中、在雨中妈妈接送你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学的情景吗？现在的你已经是一名高中生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能记得每次返回学校，离开家门时，妈妈那充满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爱而又有几分不舍的眼神吗？再想想妈妈现在的样子，妈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的脸上是不是多了几道皱纹，妈妈的手上是否多了几块老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妈妈的头上是否多了几缕白发。在你的成长过程中，妈妈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你做了那么多的事情，妈妈为我们付出了太多的心血，你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记得那最让你感动的一幕吗，你还能回想起那最让你难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一刻吗？</a:t>
            </a:r>
            <a:r>
              <a:rPr b="0" lang="zh-CN" sz="2800" spc="-1" strike="noStrike">
                <a:solidFill>
                  <a:srgbClr val="0000cc"/>
                </a:solidFill>
                <a:latin typeface="华康少女文字W5(P)"/>
                <a:ea typeface="华康少女文字W5(P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纯音乐 - The Pachelbel Canon『詹姆斯.高威爵士』.mp3" descr=""/>
          <p:cNvPicPr/>
          <p:nvPr/>
        </p:nvPicPr>
        <p:blipFill>
          <a:blip r:embed="rId2"/>
          <a:stretch/>
        </p:blipFill>
        <p:spPr>
          <a:xfrm>
            <a:off x="11136240" y="6553080"/>
            <a:ext cx="384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2" dur="1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009ai"/>
          <p:cNvPicPr/>
          <p:nvPr/>
        </p:nvPicPr>
        <p:blipFill>
          <a:blip r:embed="rId1"/>
          <a:stretch/>
        </p:blipFill>
        <p:spPr>
          <a:xfrm>
            <a:off x="5397480" y="907920"/>
            <a:ext cx="5778360" cy="4586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008ah"/>
          <p:cNvPicPr/>
          <p:nvPr/>
        </p:nvPicPr>
        <p:blipFill>
          <a:blip r:embed="rId2"/>
          <a:stretch/>
        </p:blipFill>
        <p:spPr>
          <a:xfrm>
            <a:off x="136440" y="115920"/>
            <a:ext cx="4751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004ad"/>
          <p:cNvPicPr/>
          <p:nvPr/>
        </p:nvPicPr>
        <p:blipFill>
          <a:blip r:embed="rId1"/>
          <a:stretch/>
        </p:blipFill>
        <p:spPr>
          <a:xfrm>
            <a:off x="679320" y="476280"/>
            <a:ext cx="4753080" cy="5715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065cm"/>
          <p:cNvPicPr/>
          <p:nvPr/>
        </p:nvPicPr>
        <p:blipFill>
          <a:blip r:embed="rId2"/>
          <a:stretch/>
        </p:blipFill>
        <p:spPr>
          <a:xfrm>
            <a:off x="6303960" y="476280"/>
            <a:ext cx="478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014an"/>
          <p:cNvPicPr/>
          <p:nvPr/>
        </p:nvPicPr>
        <p:blipFill>
          <a:blip r:embed="rId1"/>
          <a:stretch/>
        </p:blipFill>
        <p:spPr>
          <a:xfrm>
            <a:off x="0" y="0"/>
            <a:ext cx="7201080" cy="41814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035bi"/>
          <p:cNvPicPr/>
          <p:nvPr/>
        </p:nvPicPr>
        <p:blipFill>
          <a:blip r:embed="rId2"/>
          <a:stretch/>
        </p:blipFill>
        <p:spPr>
          <a:xfrm>
            <a:off x="4319640" y="3057480"/>
            <a:ext cx="7200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069cq"/>
          <p:cNvPicPr/>
          <p:nvPr/>
        </p:nvPicPr>
        <p:blipFill>
          <a:blip r:embed="rId1"/>
          <a:stretch/>
        </p:blipFill>
        <p:spPr>
          <a:xfrm>
            <a:off x="4127400" y="3114720"/>
            <a:ext cx="7201080" cy="37432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068cp"/>
          <p:cNvPicPr/>
          <p:nvPr/>
        </p:nvPicPr>
        <p:blipFill>
          <a:blip r:embed="rId2"/>
          <a:stretch/>
        </p:blipFill>
        <p:spPr>
          <a:xfrm>
            <a:off x="0" y="0"/>
            <a:ext cx="64864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082dd"/>
          <p:cNvPicPr/>
          <p:nvPr/>
        </p:nvPicPr>
        <p:blipFill>
          <a:blip r:embed="rId1"/>
          <a:stretch/>
        </p:blipFill>
        <p:spPr>
          <a:xfrm>
            <a:off x="136440" y="0"/>
            <a:ext cx="4775400" cy="5715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088dj"/>
          <p:cNvPicPr/>
          <p:nvPr/>
        </p:nvPicPr>
        <p:blipFill>
          <a:blip r:embed="rId2"/>
          <a:stretch/>
        </p:blipFill>
        <p:spPr>
          <a:xfrm>
            <a:off x="7216920" y="0"/>
            <a:ext cx="4303440" cy="3456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37167_145134756604_2"/>
          <p:cNvPicPr/>
          <p:nvPr/>
        </p:nvPicPr>
        <p:blipFill>
          <a:blip r:embed="rId3"/>
          <a:stretch/>
        </p:blipFill>
        <p:spPr>
          <a:xfrm>
            <a:off x="5262480" y="3530520"/>
            <a:ext cx="6257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92a78ccegw1dsmo7wqkuuj"/>
          <p:cNvPicPr/>
          <p:nvPr/>
        </p:nvPicPr>
        <p:blipFill>
          <a:blip r:embed="rId1"/>
          <a:stretch/>
        </p:blipFill>
        <p:spPr>
          <a:xfrm>
            <a:off x="5670720" y="549360"/>
            <a:ext cx="5716440" cy="3020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7c273da9gw1dsn84k2q9mj"/>
          <p:cNvPicPr/>
          <p:nvPr/>
        </p:nvPicPr>
        <p:blipFill>
          <a:blip r:embed="rId2"/>
          <a:stretch/>
        </p:blipFill>
        <p:spPr>
          <a:xfrm>
            <a:off x="0" y="620640"/>
            <a:ext cx="5280120" cy="552456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7302600" y="436572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汉真广标"/>
              </a:rPr>
              <a:t>动物间也有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汉真广标"/>
              </a:rPr>
              <a:t>母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6666"/>
          <p:cNvPicPr/>
          <p:nvPr/>
        </p:nvPicPr>
        <p:blipFill>
          <a:blip r:embed="rId1"/>
          <a:stretch/>
        </p:blipFill>
        <p:spPr>
          <a:xfrm>
            <a:off x="7302600" y="-385920"/>
            <a:ext cx="4802040" cy="21416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空白_副本00"/>
          <p:cNvPicPr/>
          <p:nvPr/>
        </p:nvPicPr>
        <p:blipFill>
          <a:blip r:embed="rId2"/>
          <a:stretch/>
        </p:blipFill>
        <p:spPr>
          <a:xfrm>
            <a:off x="6667560" y="2925720"/>
            <a:ext cx="4800600" cy="21430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空白_副本"/>
          <p:cNvPicPr/>
          <p:nvPr/>
        </p:nvPicPr>
        <p:blipFill>
          <a:blip r:embed="rId3"/>
          <a:stretch/>
        </p:blipFill>
        <p:spPr>
          <a:xfrm>
            <a:off x="2585880" y="2997360"/>
            <a:ext cx="4800600" cy="19270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4"/>
          <a:stretch/>
        </p:blipFill>
        <p:spPr>
          <a:xfrm>
            <a:off x="1768320" y="1413000"/>
            <a:ext cx="4802400" cy="214308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-316080" y="117360"/>
            <a:ext cx="80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他们眼中的</a:t>
            </a:r>
            <a:r>
              <a:rPr b="1" lang="zh-CN" sz="6000" spc="-1" strike="noStrike">
                <a:solidFill>
                  <a:srgbClr val="010199"/>
                </a:solidFill>
                <a:latin typeface="Arial"/>
                <a:ea typeface="华康少女文字W5(P)"/>
              </a:rPr>
              <a:t>母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7" descr="QQ截图20120505193028"/>
          <p:cNvPicPr/>
          <p:nvPr/>
        </p:nvPicPr>
        <p:blipFill>
          <a:blip r:embed="rId5"/>
          <a:stretch/>
        </p:blipFill>
        <p:spPr>
          <a:xfrm>
            <a:off x="317520" y="1197000"/>
            <a:ext cx="10704600" cy="1101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8" descr="QQ截图20120505193037"/>
          <p:cNvPicPr/>
          <p:nvPr/>
        </p:nvPicPr>
        <p:blipFill>
          <a:blip r:embed="rId6"/>
          <a:stretch/>
        </p:blipFill>
        <p:spPr>
          <a:xfrm>
            <a:off x="317520" y="2494080"/>
            <a:ext cx="10207440" cy="15634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9" descr="QQ截图20120505193118"/>
          <p:cNvPicPr/>
          <p:nvPr/>
        </p:nvPicPr>
        <p:blipFill>
          <a:blip r:embed="rId7"/>
          <a:stretch/>
        </p:blipFill>
        <p:spPr>
          <a:xfrm>
            <a:off x="407880" y="5950080"/>
            <a:ext cx="11068200" cy="1068120"/>
          </a:xfrm>
          <a:prstGeom prst="rect">
            <a:avLst/>
          </a:prstGeom>
          <a:ln w="0">
            <a:noFill/>
          </a:ln>
        </p:spPr>
      </p:pic>
      <p:pic>
        <p:nvPicPr>
          <p:cNvPr id="622" name="纯音乐 - 是忧伤还是快乐.mp3" descr="纯音乐 - 是忧伤还是快乐"/>
          <p:cNvPicPr/>
          <p:nvPr/>
        </p:nvPicPr>
        <p:blipFill>
          <a:blip r:embed="rId8"/>
          <a:stretch/>
        </p:blipFill>
        <p:spPr>
          <a:xfrm>
            <a:off x="10750680" y="6308640"/>
            <a:ext cx="644400" cy="513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1" descr="QQ截图20120505193043"/>
          <p:cNvPicPr/>
          <p:nvPr/>
        </p:nvPicPr>
        <p:blipFill>
          <a:blip r:embed="rId9"/>
          <a:stretch/>
        </p:blipFill>
        <p:spPr>
          <a:xfrm>
            <a:off x="-44280" y="4438800"/>
            <a:ext cx="113392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2311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5360" y="404280"/>
            <a:ext cx="1036944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ahoma"/>
                <a:ea typeface="李国夫手写体"/>
              </a:rPr>
              <a:t>想想你和你妈妈之间的故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5" name="Picture 3" descr="1106201303a4b7d5e2073a5d68"/>
          <p:cNvPicPr/>
          <p:nvPr/>
        </p:nvPicPr>
        <p:blipFill>
          <a:blip r:embed="rId1"/>
          <a:stretch/>
        </p:blipFill>
        <p:spPr>
          <a:xfrm>
            <a:off x="316080" y="1773360"/>
            <a:ext cx="6260760" cy="39859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QQ截图20120505181446"/>
          <p:cNvPicPr/>
          <p:nvPr/>
        </p:nvPicPr>
        <p:blipFill>
          <a:blip r:embed="rId2"/>
          <a:stretch/>
        </p:blipFill>
        <p:spPr>
          <a:xfrm>
            <a:off x="5670720" y="3284640"/>
            <a:ext cx="5303520" cy="3162240"/>
          </a:xfrm>
          <a:prstGeom prst="rect">
            <a:avLst/>
          </a:prstGeom>
          <a:ln w="0">
            <a:noFill/>
          </a:ln>
        </p:spPr>
      </p:pic>
      <p:pic>
        <p:nvPicPr>
          <p:cNvPr id="627" name="群星 - 世上只有妈妈好（怀旧金曲）.mp3" descr=""/>
          <p:cNvPicPr/>
          <p:nvPr/>
        </p:nvPicPr>
        <p:blipFill>
          <a:blip r:embed="rId3"/>
          <a:stretch/>
        </p:blipFill>
        <p:spPr>
          <a:xfrm>
            <a:off x="10929960" y="6553080"/>
            <a:ext cx="384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241566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90400" y="-360"/>
            <a:ext cx="97920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世上只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07520" y="1557360"/>
            <a:ext cx="54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望着你讲也许更易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浓于水的三个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从我降世一开始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到永远不休止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你亦是我支柱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动力和意义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ake me cry, make me smi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me feel the love is true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谢谢你的关顾与及无偿的爱护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年月漫漫多艰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你也永远优先担心我喜恶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唯恐我并未得到最贴身保护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h i love you!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6667560" y="765000"/>
            <a:ext cx="3936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但是我知你都有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仍将一生给我用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全个世界几多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爱与爱在互动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也未及这种爱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能完全献奉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i d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always d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make me cry, make me smi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me feel the love is true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谢谢你的看顾与历年来的爱护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月漫漫多艰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再重也不肯抛低我不顾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不会立下私心怕会给辜负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 i love you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i love you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always 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空白_副本00"/>
          <p:cNvPicPr/>
          <p:nvPr/>
        </p:nvPicPr>
        <p:blipFill>
          <a:blip r:embed="rId1"/>
          <a:stretch/>
        </p:blipFill>
        <p:spPr>
          <a:xfrm>
            <a:off x="6213600" y="-166680"/>
            <a:ext cx="4800600" cy="21384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182520" y="333360"/>
            <a:ext cx="1129356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代意义上的母亲节起源于</a:t>
            </a:r>
            <a:r>
              <a:rPr b="1" lang="zh-CN" sz="2800" spc="-1" strike="noStrike">
                <a:solidFill>
                  <a:srgbClr val="00ffcc"/>
                </a:solidFill>
                <a:latin typeface="隶书"/>
                <a:ea typeface="隶书"/>
              </a:rPr>
              <a:t>美国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由</a:t>
            </a:r>
            <a:r>
              <a:rPr b="1" lang="en-US" sz="2800" spc="-1" strike="noStrike">
                <a:solidFill>
                  <a:srgbClr val="00ffcc"/>
                </a:solidFill>
                <a:latin typeface="隶书"/>
                <a:ea typeface="隶书"/>
              </a:rPr>
              <a:t>Ms. Jarvis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864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－ 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48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发起，她终身未婚，一直陪伴在她母亲身边，她母亲于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05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年去世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Ms. Jarvis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悲痛欲绝，两年后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Ms. Jarvis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和她的朋友开始写信给有影响的部长、商人、议员来寻求支持，以便让母亲节成为一个法定的节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 Ms. Jarvis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认为子女经常忽视了对母亲的感情，她希望母亲节能够让人多想一想母亲为家庭所付出的一切。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2400" spc="-1" strike="noStrike">
                <a:solidFill>
                  <a:srgbClr val="a50021"/>
                </a:solidFill>
                <a:latin typeface="隶书"/>
                <a:ea typeface="隶书"/>
              </a:rPr>
              <a:t>第一个母亲节于</a:t>
            </a:r>
            <a:r>
              <a:rPr b="1" lang="en-US" sz="2400" spc="-1" strike="noStrike">
                <a:solidFill>
                  <a:srgbClr val="a50021"/>
                </a:solidFill>
                <a:latin typeface="隶书"/>
                <a:ea typeface="隶书"/>
              </a:rPr>
              <a:t>1908</a:t>
            </a:r>
            <a:r>
              <a:rPr b="1" lang="zh-CN" sz="2400" spc="-1" strike="noStrike">
                <a:solidFill>
                  <a:srgbClr val="a50021"/>
                </a:solidFill>
                <a:latin typeface="隶书"/>
                <a:ea typeface="隶书"/>
              </a:rPr>
              <a:t>年</a:t>
            </a:r>
            <a:r>
              <a:rPr b="1" lang="en-US" sz="2400" spc="-1" strike="noStrike">
                <a:solidFill>
                  <a:srgbClr val="a50021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a50021"/>
                </a:solidFill>
                <a:latin typeface="隶书"/>
                <a:ea typeface="隶书"/>
              </a:rPr>
              <a:t>月</a:t>
            </a:r>
            <a:r>
              <a:rPr b="1" lang="en-US" sz="2400" spc="-1" strike="noStrike">
                <a:solidFill>
                  <a:srgbClr val="a50021"/>
                </a:solidFill>
                <a:latin typeface="隶书"/>
                <a:ea typeface="隶书"/>
              </a:rPr>
              <a:t>10</a:t>
            </a:r>
            <a:r>
              <a:rPr b="1" lang="zh-CN" sz="2400" spc="-1" strike="noStrike">
                <a:solidFill>
                  <a:srgbClr val="a50021"/>
                </a:solidFill>
                <a:latin typeface="隶书"/>
                <a:ea typeface="隶书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在西弗吉尼亚和宾夕法尼亚州举行，在这次节日里，</a:t>
            </a:r>
            <a:r>
              <a:rPr b="1" lang="zh-CN" sz="2400" spc="-1" strike="noStrike">
                <a:solidFill>
                  <a:srgbClr val="00ffcc"/>
                </a:solidFill>
                <a:latin typeface="隶书"/>
                <a:ea typeface="隶书"/>
              </a:rPr>
              <a:t>康乃馨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被选中为献给母亲的花，并以此流传下来。 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en-US" sz="2400" spc="-1" strike="noStrike">
                <a:solidFill>
                  <a:srgbClr val="a50021"/>
                </a:solidFill>
                <a:latin typeface="隶书"/>
                <a:ea typeface="隶书"/>
              </a:rPr>
              <a:t>1914</a:t>
            </a:r>
            <a:r>
              <a:rPr b="1" lang="zh-CN" sz="2400" spc="-1" strike="noStrike">
                <a:solidFill>
                  <a:srgbClr val="a50021"/>
                </a:solidFill>
                <a:latin typeface="隶书"/>
                <a:ea typeface="隶书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美国国会通过了一份议案，将</a:t>
            </a:r>
            <a:r>
              <a:rPr b="1" lang="zh-CN" sz="2400" spc="-1" strike="noStrike">
                <a:solidFill>
                  <a:srgbClr val="a50021"/>
                </a:solidFill>
                <a:latin typeface="隶书"/>
                <a:ea typeface="隶书"/>
              </a:rPr>
              <a:t>每年</a:t>
            </a:r>
            <a:r>
              <a:rPr b="1" lang="en-US" sz="2400" spc="-1" strike="noStrike">
                <a:solidFill>
                  <a:srgbClr val="a50021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a50021"/>
                </a:solidFill>
                <a:latin typeface="隶书"/>
                <a:ea typeface="隶书"/>
              </a:rPr>
              <a:t>月的第二个星期天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为法定的母亲节。母亲节从此在世界各地流传开来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316080" y="549360"/>
            <a:ext cx="1015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9900"/>
                </a:solidFill>
                <a:latin typeface="Arial"/>
                <a:ea typeface="汉仪蝶语体简"/>
              </a:rPr>
              <a:t>母亲节的由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479520" y="457200"/>
            <a:ext cx="11135880" cy="1556640"/>
            <a:chOff x="479520" y="457200"/>
            <a:chExt cx="11135880" cy="1556640"/>
          </a:xfrm>
        </p:grpSpPr>
        <p:sp>
          <p:nvSpPr>
            <p:cNvPr id="498" name="Rectangle 3"/>
            <p:cNvSpPr/>
            <p:nvPr/>
          </p:nvSpPr>
          <p:spPr>
            <a:xfrm>
              <a:off x="479520" y="457200"/>
              <a:ext cx="11135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4"/>
            <p:cNvSpPr/>
            <p:nvPr/>
          </p:nvSpPr>
          <p:spPr>
            <a:xfrm>
              <a:off x="479520" y="457200"/>
              <a:ext cx="11135880" cy="15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卡通简体"/>
                  <a:ea typeface="方正卡通简体"/>
                </a:rPr>
                <a:t>仔细想想，原来</a:t>
              </a:r>
              <a:r>
                <a:rPr b="1" lang="en-US" sz="3200" spc="-1" strike="noStrike">
                  <a:solidFill>
                    <a:srgbClr val="ff0000"/>
                  </a:solidFill>
                  <a:latin typeface="汉真广标"/>
                  <a:ea typeface="汉真广标"/>
                </a:rPr>
                <a:t>【</a:t>
              </a:r>
              <a:r>
                <a:rPr b="1" lang="en-US" sz="2800" spc="-1" strike="noStrike">
                  <a:solidFill>
                    <a:srgbClr val="000000"/>
                  </a:solidFill>
                  <a:latin typeface="汉真广标"/>
                  <a:ea typeface="汉真广标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汉真广标"/>
                  <a:ea typeface="汉真广标"/>
                </a:rPr>
                <a:t>mother</a:t>
              </a:r>
              <a:r>
                <a:rPr b="1" lang="en-US" sz="3200" spc="-1" strike="noStrike">
                  <a:solidFill>
                    <a:srgbClr val="ff0000"/>
                  </a:solidFill>
                  <a:latin typeface="汉真广标"/>
                  <a:ea typeface="汉真广标"/>
                </a:rPr>
                <a:t>】</a:t>
              </a:r>
              <a:r>
                <a:rPr b="1" lang="en-US" sz="3200" spc="-1" strike="noStrike">
                  <a:solidFill>
                    <a:srgbClr val="ff0000"/>
                  </a:solidFill>
                  <a:latin typeface="方正卡通简体"/>
                  <a:ea typeface="方正卡通简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方正卡通简体"/>
                  <a:ea typeface="方正卡通简体"/>
                </a:rPr>
                <a:t>一词是可以这样解释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Rectangle 5">
            <a:hlinkClick r:id="rId1" action="ppaction://hlinksldjump"/>
          </p:cNvPr>
          <p:cNvSpPr/>
          <p:nvPr/>
        </p:nvSpPr>
        <p:spPr>
          <a:xfrm>
            <a:off x="3311640" y="117360"/>
            <a:ext cx="377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书体坊赵九江钢笔楷书"/>
              </a:rPr>
              <a:t>母亲的诠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679320" y="1989000"/>
            <a:ext cx="72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 much 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文鼎中特广告体"/>
              </a:rPr>
              <a:t>妈妈给了我很多很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679320" y="2565360"/>
            <a:ext cx="98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old )    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妈妈为我操心</a:t>
            </a:r>
            <a:r>
              <a:rPr b="1" lang="en-US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白发已爬上了您的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1297080" y="3213000"/>
            <a:ext cx="38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a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您为我流过不少泪</a:t>
            </a:r>
            <a:r>
              <a:rPr b="0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1448280" y="3933720"/>
            <a:ext cx="42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您有一颗慈祥温暖的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679320" y="4653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y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书体坊赵九江钢笔楷书"/>
              </a:rPr>
              <a:t>您注视我的目光总是充满着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679320" y="5445000"/>
            <a:ext cx="130651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您从不欺骗我们，教导我们去做正确的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游子吟"/>
          <p:cNvPicPr/>
          <p:nvPr/>
        </p:nvPicPr>
        <p:blipFill>
          <a:blip r:embed="rId1"/>
          <a:stretch/>
        </p:blipFill>
        <p:spPr>
          <a:xfrm>
            <a:off x="0" y="0"/>
            <a:ext cx="4173480" cy="220824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3">
            <a:hlinkClick r:id="rId2" action="ppaction://hlinksldjump"/>
          </p:cNvPr>
          <p:cNvSpPr/>
          <p:nvPr/>
        </p:nvSpPr>
        <p:spPr>
          <a:xfrm>
            <a:off x="4400640" y="-382680"/>
            <a:ext cx="1094400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Times New Roman"/>
                <a:ea typeface="书体坊赵九江钢笔楷书"/>
              </a:rPr>
              <a:t>游子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2857680" y="1584360"/>
          <a:ext cx="7921440" cy="6383160"/>
        </p:xfrm>
        <a:graphic>
          <a:graphicData uri="http://schemas.openxmlformats.org/drawingml/2006/table">
            <a:tbl>
              <a:tblPr/>
              <a:tblGrid>
                <a:gridCol w="2421000"/>
                <a:gridCol w="266400"/>
                <a:gridCol w="5234040"/>
              </a:tblGrid>
              <a:tr h="1321920">
                <a:tc>
                  <a:txBody>
                    <a:bodyPr lIns="115200" rIns="1152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</a:t>
                      </a: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唐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]</a:t>
                      </a: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孟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4960"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115200" rIns="1152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1760">
                <a:tc gridSpan="3">
                  <a:txBody>
                    <a:bodyPr lIns="115200" rIns="1152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2840">
                <a:tc gridSpan="3">
                  <a:txBody>
                    <a:bodyPr lIns="115200" rIns="1152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494080" y="1609560"/>
          <a:ext cx="8216640" cy="2297160"/>
        </p:xfrm>
        <a:graphic>
          <a:graphicData uri="http://schemas.openxmlformats.org/drawingml/2006/table">
            <a:tbl>
              <a:tblPr/>
              <a:tblGrid>
                <a:gridCol w="8216640"/>
              </a:tblGrid>
              <a:tr h="552960"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迷你简硬笔楷书"/>
                        </a:rPr>
                        <a:t>慈母手中线，游子身上衣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迷你简硬笔楷书"/>
                        </a:rPr>
                        <a:t>临行密密缝，意恐迟迟归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迷你简硬笔楷书"/>
                        </a:rPr>
                        <a:t>谁言寸草心，报得三春晖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0" y="3994200"/>
          <a:ext cx="9709200" cy="1379520"/>
        </p:xfrm>
        <a:graphic>
          <a:graphicData uri="http://schemas.openxmlformats.org/drawingml/2006/table">
            <a:tbl>
              <a:tblPr/>
              <a:tblGrid>
                <a:gridCol w="1495440"/>
                <a:gridCol w="8213760"/>
              </a:tblGrid>
              <a:tr h="1379520"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【</a:t>
                      </a:r>
                      <a:r>
                        <a:rPr b="1" lang="zh-CN" sz="18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注释</a:t>
                      </a: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  <a:ea typeface="黑体"/>
                        </a:rPr>
                        <a:t>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这首诗以歌颂伟大的母爱而著称。它从母亲为即将离家远游的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儿子缝制衣服的行动中，透露出母亲的无限慈爱。提出小草般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的儿女怎能报答春日般的慈母养育之恩的疑问，引起天下儿女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的共鸣，拨动了天下儿女敬爱慈母的心弦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1495440" y="5364000"/>
          <a:ext cx="4842000" cy="1305000"/>
        </p:xfrm>
        <a:graphic>
          <a:graphicData uri="http://schemas.openxmlformats.org/drawingml/2006/table">
            <a:tbl>
              <a:tblPr/>
              <a:tblGrid>
                <a:gridCol w="1145520"/>
                <a:gridCol w="266400"/>
                <a:gridCol w="3430080"/>
              </a:tblGrid>
              <a:tr h="390600"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寸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小草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三春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1152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春天的太阳，比喻父母的恩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3" name="游子吟.mp3" descr=""/>
          <p:cNvPicPr/>
          <p:nvPr/>
        </p:nvPicPr>
        <p:blipFill>
          <a:blip r:embed="rId3"/>
          <a:stretch/>
        </p:blipFill>
        <p:spPr>
          <a:xfrm>
            <a:off x="11022120" y="6462720"/>
            <a:ext cx="498240" cy="3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30564" fill="hold"/>
                                        <p:tgtEl>
                                          <p:spTgt spid="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407880" y="333360"/>
            <a:ext cx="480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ff"/>
                </a:solidFill>
                <a:latin typeface="Arial"/>
                <a:ea typeface="汉仪萝卜体简"/>
              </a:rPr>
              <a:t>母爱伟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QQ截图20120505183703"/>
          <p:cNvPicPr/>
          <p:nvPr/>
        </p:nvPicPr>
        <p:blipFill>
          <a:blip r:embed="rId1"/>
          <a:stretch/>
        </p:blipFill>
        <p:spPr>
          <a:xfrm>
            <a:off x="1495440" y="1844640"/>
            <a:ext cx="8686800" cy="460044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8808840" y="404640"/>
            <a:ext cx="23749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63416"/>
                </a:solidFill>
                <a:latin typeface="Arial"/>
                <a:ea typeface="汉真广标"/>
              </a:rPr>
              <a:t>十月怀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0040" y="-1611360"/>
            <a:ext cx="8750160" cy="23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99fb4"/>
                </a:solidFill>
                <a:latin typeface="Trebuchet MS"/>
                <a:ea typeface="文鼎中特广告体"/>
              </a:rPr>
              <a:t>感受母爱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61480" y="836640"/>
            <a:ext cx="96966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99"/>
                </a:solidFill>
                <a:latin typeface="Comic Sans MS"/>
              </a:rPr>
              <a:t>例一：在苏联的一次地震中，母子两人被压在断墙残瓦之下，在无粮无水的情况下，母亲毅然咬破自己的手指，让幼小的孩吸着她的血。 当救援人员挖出他们的时候，母亲已死，孩子仍存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99"/>
                </a:solidFill>
                <a:latin typeface="Comic Sans MS"/>
              </a:rPr>
              <a:t>例二：为母亲洗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日本一位名牌大学的毕业生去一家公司应聘。公司总裁在面试时问他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你为父母擦过背吗？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青年人回答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没有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。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那么你为父母揉过肩吗？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”“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揉过，那是在上小学的时候，揉过几次。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总裁说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你能忠实的回答问题，很好。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青年临走时总裁喊住他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明天你再来一次，不过一定先要为母亲洗一次脚。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             </a:t>
            </a:r>
            <a:r>
              <a:rPr b="0" lang="zh-CN" sz="2000" spc="-1" strike="noStrike">
                <a:solidFill>
                  <a:srgbClr val="ff6600"/>
                </a:solidFill>
                <a:latin typeface="Comic Sans MS"/>
              </a:rPr>
              <a:t>这位青年虽是名牌大学生，但家境贫穷，他两岁时父亲便去世了，母亲流着泪发誓要把他抚养成人。为了养活他，供他上学，母亲只好去做佣人，一天到晚拼命挣钱，供他上了大学。这次应聘，公司总裁要他必须替母亲洗一次脚。他在为母亲洗脚时，才发现母亲的双脚像木头一样僵硬，还有不少皲裂口子，不由得搂着母亲的双脚哭了起来</a:t>
            </a:r>
            <a:r>
              <a:rPr b="0" lang="zh-CN" sz="2000" spc="-1" strike="noStrike">
                <a:solidFill>
                  <a:srgbClr val="ffb800"/>
                </a:solidFill>
                <a:latin typeface="Comic Sans MS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90040" y="-685800"/>
            <a:ext cx="9882360" cy="13716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omic Sans MS"/>
              </a:rPr>
              <a:t>            </a:t>
            </a:r>
            <a:r>
              <a:rPr b="0" lang="zh-CN" sz="4400" spc="-1" strike="noStrike">
                <a:solidFill>
                  <a:srgbClr val="990099"/>
                </a:solidFill>
                <a:latin typeface="Comic Sans MS"/>
              </a:rPr>
              <a:t>为母亲洗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225000" y="1197000"/>
            <a:ext cx="11295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在读书时，他心安理地花着母亲如期送来的学费和零花钱，现在才知道，母亲的钱来得多不容易啊！那是母亲的血汗钱、辛苦钱！第二天，年轻人如约去了那家公司，很伤感地对总裁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我能不能进贵公司工作，对我来说已经不重要了。现在我已经知道母亲为了我受了很多的苦。是您使我明白了在学校里没有学过的大道理，使我知道母亲养育我的艰辛。谢 谢总裁，如果不是你，我根本不会为母亲洗脚。母亲是我唯一的亲人，我要好好照顾母亲，决不能让她再受苦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总裁点了点头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好，你被录取了，明天就可以来公司上班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日本与我国一水之隔，其传统文化、道德观念等与我国有很多相同之处。这个日本青年受到总裁的启迪，懂得了母爱，更知道了父母养育儿女的艰辛和不易。那份辛苦和期盼，真可谓：可怜天下父母心啊！由此，他才真正懂得该怎样去孝敬父母，尊敬长辈，履行应尽的义务和赡养职责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23:47:55Z</dcterms:created>
  <dc:creator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creator>
  <dc:description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description>
  <cp:keywords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cp:keywords>
  <dc:language>en-US</dc:language>
  <cp:lastModifiedBy>jl</cp:lastModifiedBy>
  <dcterms:modified xsi:type="dcterms:W3CDTF">2017-02-16T18:12:09Z</dcterms:modified>
  <cp:revision>80</cp:revision>
  <dc:subject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subject>
  <dc:title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title>
</cp:coreProperties>
</file>