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E1D-1261-46BF-8AF7-0C682729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505-321C-4EB4-95FC-5A203442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91F-0205-4AA3-A37D-8268C9C2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67E-FF8C-4719-9984-9BC19215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25A-63A5-4165-99D8-1D73FC6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B73-53BD-4AF1-8AA1-DA343B1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82C-5650-4A51-AAF7-B915523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344-ECB8-4EE8-BED6-9136B4E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9F8-2069-4472-8EC3-931C008A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C1B-A02B-4B26-B3CE-57A6CE6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066-B753-4307-A86E-D480051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F28-8801-49CA-A77C-C9BCBF74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D89-329D-4D95-BF9D-D9479BDA70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57168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06:59:24Z</dcterms:created>
  <dc:creator>Administrator</dc:creator>
  <dc:description/>
  <dc:language>en-US</dc:language>
  <cp:lastModifiedBy>AutoBVT</cp:lastModifiedBy>
  <dcterms:modified xsi:type="dcterms:W3CDTF">2017-04-25T07:03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