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E9A-0FC2-4500-B8A1-DB095864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6E4-9520-47FA-8559-1BCFCC9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FF5-EA1F-4F72-B2DD-2ED8C7CA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BE9-8D7D-46E5-B301-004633FF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C27-43F4-4843-88C4-4B8DD31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323-4774-4A2A-A0E6-4D9341E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EBB-D39D-4E1A-9D0D-9550A59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2A8-3B77-4A6B-9FF8-330C2BA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97C-24B4-46B5-91DD-F27318C2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EC5-3C52-4CB7-A450-C1AC6B0F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3D9-38CF-48FB-8D3B-D2B6D88A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619-093A-464F-B074-03DE469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E6C9-6BF4-4CE3-BED2-21E55781C1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864C-39AB-408F-B6EA-2CBD7D194E0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364200" y="28576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80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68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985560" y="3332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lly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1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22" descr=""/>
          <p:cNvPicPr/>
          <p:nvPr/>
        </p:nvPicPr>
        <p:blipFill>
          <a:blip r:embed="rId1"/>
          <a:stretch/>
        </p:blipFill>
        <p:spPr>
          <a:xfrm>
            <a:off x="1933560" y="1131840"/>
            <a:ext cx="234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32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8400" y="5160960"/>
            <a:ext cx="33480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B0C-05F1-4C81-A6D5-1281509777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8400" y="5160960"/>
            <a:ext cx="10400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5640" y="318600"/>
            <a:ext cx="35985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688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6880"/>
              <a:ext cx="46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 rot="2700000">
            <a:off x="6354000" y="540360"/>
            <a:ext cx="35989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9" name="椭圆​​ 24"/>
            <p:cNvSpPr/>
            <p:nvPr/>
          </p:nvSpPr>
          <p:spPr>
            <a:xfrm>
              <a:off x="142848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​​ 25"/>
            <p:cNvSpPr/>
            <p:nvPr/>
          </p:nvSpPr>
          <p:spPr>
            <a:xfrm>
              <a:off x="27129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​​ 26"/>
            <p:cNvSpPr/>
            <p:nvPr/>
          </p:nvSpPr>
          <p:spPr>
            <a:xfrm>
              <a:off x="1204920" y="-90288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2"/>
            <p:cNvSpPr/>
            <p:nvPr/>
          </p:nvSpPr>
          <p:spPr>
            <a:xfrm flipV="1">
              <a:off x="153828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3"/>
            <p:cNvSpPr/>
            <p:nvPr/>
          </p:nvSpPr>
          <p:spPr>
            <a:xfrm flipV="1">
              <a:off x="282276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071800" y="24447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-106200" y="534960"/>
            <a:ext cx="470664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2648880" y="3433680"/>
            <a:ext cx="40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2124000" y="1963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4"/>
          <p:cNvSpPr/>
          <p:nvPr/>
        </p:nvSpPr>
        <p:spPr>
          <a:xfrm>
            <a:off x="-147492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cp:keywords/>
  <dc:language>en-US</dc:language>
  <cp:lastModifiedBy>微软中国</cp:lastModifiedBy>
  <cp:lastPrinted>1899-12-30T00:00:00Z</cp:lastPrinted>
  <dcterms:modified xsi:type="dcterms:W3CDTF">2011-06-08T02:47:4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