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FC4C-9E2C-420B-B560-1CA516A30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99640" y="1834920"/>
            <a:ext cx="741708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3623760"/>
            <a:ext cx="77724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3823200"/>
            <a:ext cx="77724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5401-BC90-4173-A6E0-71E6DCFEF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99640" y="1834920"/>
            <a:ext cx="741708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3623760"/>
            <a:ext cx="37926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3623760"/>
            <a:ext cx="37926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3823200"/>
            <a:ext cx="37926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3823200"/>
            <a:ext cx="37926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EA73-3921-4E76-BE66-BFD0D1C24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99640" y="1834920"/>
            <a:ext cx="741708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3623760"/>
            <a:ext cx="2502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3623760"/>
            <a:ext cx="2502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3623760"/>
            <a:ext cx="2502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3823200"/>
            <a:ext cx="2502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3823200"/>
            <a:ext cx="2502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3823200"/>
            <a:ext cx="2502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AFEA-00EA-4672-86E8-E35C049E4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99640" y="1834920"/>
            <a:ext cx="741708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1120" y="362376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99640" y="1834920"/>
            <a:ext cx="741708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1120" y="362376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99640" y="1834920"/>
            <a:ext cx="741708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1120" y="3623760"/>
            <a:ext cx="37926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3800" y="3623760"/>
            <a:ext cx="37926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99640" y="1834920"/>
            <a:ext cx="741708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899640" y="1834920"/>
            <a:ext cx="7417080" cy="533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99640" y="1834920"/>
            <a:ext cx="741708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1120" y="3623760"/>
            <a:ext cx="37926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3800" y="3623760"/>
            <a:ext cx="37926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1120" y="3823200"/>
            <a:ext cx="37926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99640" y="1834920"/>
            <a:ext cx="741708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362376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6936-EEFF-4E8F-9DD9-AFD29C4F4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99640" y="1834920"/>
            <a:ext cx="741708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1120" y="3623760"/>
            <a:ext cx="37926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3800" y="3623760"/>
            <a:ext cx="37926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3800" y="3823200"/>
            <a:ext cx="37926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99640" y="1834920"/>
            <a:ext cx="741708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1120" y="3623760"/>
            <a:ext cx="37926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3800" y="3623760"/>
            <a:ext cx="37926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1120" y="3823200"/>
            <a:ext cx="77724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99640" y="1834920"/>
            <a:ext cx="741708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1120" y="3623760"/>
            <a:ext cx="77724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1120" y="3823200"/>
            <a:ext cx="77724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99640" y="1834920"/>
            <a:ext cx="741708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1120" y="3623760"/>
            <a:ext cx="37926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3800" y="3623760"/>
            <a:ext cx="37926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1120" y="3823200"/>
            <a:ext cx="37926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3800" y="3823200"/>
            <a:ext cx="37926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99640" y="1834920"/>
            <a:ext cx="741708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1120" y="3623760"/>
            <a:ext cx="2502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09120" y="3623760"/>
            <a:ext cx="2502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36760" y="3623760"/>
            <a:ext cx="2502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1120" y="3823200"/>
            <a:ext cx="2502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09120" y="3823200"/>
            <a:ext cx="2502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36760" y="3823200"/>
            <a:ext cx="2502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99640" y="1834920"/>
            <a:ext cx="741708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362376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E417-8736-4742-9092-CE1C9630A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99640" y="1834920"/>
            <a:ext cx="741708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3623760"/>
            <a:ext cx="37926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3623760"/>
            <a:ext cx="37926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28DA-8535-4DFE-8831-8F943C326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99640" y="1834920"/>
            <a:ext cx="741708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17A6-61E0-4E30-9411-72143EE94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99640" y="1834920"/>
            <a:ext cx="7417080" cy="533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7944-1D71-4071-B2BD-3E071DEEC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99640" y="1834920"/>
            <a:ext cx="741708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3623760"/>
            <a:ext cx="37926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3623760"/>
            <a:ext cx="37926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3823200"/>
            <a:ext cx="37926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0DBB-322E-4595-8E18-DCC15CD9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99640" y="1834920"/>
            <a:ext cx="741708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3623760"/>
            <a:ext cx="37926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3623760"/>
            <a:ext cx="37926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3823200"/>
            <a:ext cx="37926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D753-37ED-4451-A57F-70764F68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99640" y="1834920"/>
            <a:ext cx="741708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3623760"/>
            <a:ext cx="37926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3623760"/>
            <a:ext cx="37926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3823200"/>
            <a:ext cx="77724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3897-0C83-4AB9-846D-97D9C819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8360" y="1197000"/>
            <a:ext cx="8207280" cy="5256360"/>
          </a:xfrm>
          <a:prstGeom prst="rect">
            <a:avLst/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1" marL="343080" indent="12600">
              <a:lnSpc>
                <a:spcPct val="15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2" marL="343080" indent="12600">
              <a:lnSpc>
                <a:spcPct val="150000"/>
              </a:lnSpc>
              <a:spcBef>
                <a:spcPts val="499"/>
              </a:spcBef>
              <a:buClr>
                <a:srgbClr val="666699"/>
              </a:buClr>
              <a:buFont typeface="黑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3" marL="343080" indent="1260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黑体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4" marL="343080" indent="1260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黑体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5" marL="343080" indent="12600">
              <a:lnSpc>
                <a:spcPct val="150000"/>
              </a:lnSpc>
              <a:spcBef>
                <a:spcPts val="499"/>
              </a:spcBef>
              <a:buClr>
                <a:srgbClr val="666699"/>
              </a:buClr>
              <a:buFont typeface="黑体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6" marL="343080" indent="12600">
              <a:lnSpc>
                <a:spcPct val="150000"/>
              </a:lnSpc>
              <a:spcBef>
                <a:spcPts val="499"/>
              </a:spcBef>
              <a:buClr>
                <a:srgbClr val="666699"/>
              </a:buClr>
              <a:buFont typeface="黑体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394920" y="6446520"/>
            <a:ext cx="22431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5752800" y="6457680"/>
            <a:ext cx="2895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3471480" y="64432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666699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7D86C-9878-495D-A4FE-6C54DF752FEA}" type="slidenum">
              <a:rPr b="0" lang="zh-CN" sz="1000" spc="-1" strike="noStrike">
                <a:solidFill>
                  <a:srgbClr val="666699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633240" y="318960"/>
            <a:ext cx="7896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99640" y="1834920"/>
            <a:ext cx="741708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  <a:p>
            <a:pPr lvl="2" marL="914400" indent="343080" algn="ctr">
              <a:lnSpc>
                <a:spcPct val="150000"/>
              </a:lnSpc>
              <a:spcBef>
                <a:spcPts val="400"/>
              </a:spcBef>
              <a:buClr>
                <a:srgbClr val="666699"/>
              </a:buClr>
              <a:buFont typeface="黑体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黑体"/>
            </a:endParaRPr>
          </a:p>
          <a:p>
            <a:pPr lvl="3" marL="1371600" indent="241200" algn="ctr">
              <a:lnSpc>
                <a:spcPct val="150000"/>
              </a:lnSpc>
              <a:spcBef>
                <a:spcPts val="400"/>
              </a:spcBef>
              <a:buClr>
                <a:srgbClr val="ffffff"/>
              </a:buClr>
              <a:buFont typeface="黑体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黑体"/>
            </a:endParaRPr>
          </a:p>
          <a:p>
            <a:pPr lvl="4" marL="1828800" indent="139680" algn="ctr">
              <a:lnSpc>
                <a:spcPct val="150000"/>
              </a:lnSpc>
              <a:spcBef>
                <a:spcPts val="400"/>
              </a:spcBef>
              <a:buClr>
                <a:srgbClr val="ffffff"/>
              </a:buClr>
              <a:buFont typeface="黑体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黑体"/>
            </a:endParaRPr>
          </a:p>
          <a:p>
            <a:pPr lvl="5" marL="1828800" indent="139680">
              <a:spcBef>
                <a:spcPts val="400"/>
              </a:spcBef>
              <a:buClr>
                <a:srgbClr val="666699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黑体"/>
            </a:endParaRPr>
          </a:p>
          <a:p>
            <a:pPr lvl="6" marL="1828800" indent="139680">
              <a:spcBef>
                <a:spcPts val="400"/>
              </a:spcBef>
              <a:buClr>
                <a:srgbClr val="666699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124000" y="1916280"/>
            <a:ext cx="4753080" cy="2304720"/>
          </a:xfrm>
          <a:prstGeom prst="roundRect">
            <a:avLst>
              <a:gd name="adj" fmla="val 1917"/>
            </a:avLst>
          </a:prstGeom>
          <a:solidFill>
            <a:srgbClr val="33cccc">
              <a:alpha val="30000"/>
            </a:srgbClr>
          </a:solidFill>
          <a:ln w="0">
            <a:solidFill>
              <a:srgbClr val="49cacd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Arial"/>
                <a:ea typeface="宋体"/>
              </a:rPr>
              <a:t>@</a:t>
            </a:r>
            <a:r>
              <a:rPr b="0" lang="zh-CN" sz="1800" spc="-1" strike="noStrike">
                <a:solidFill>
                  <a:srgbClr val="666699"/>
                </a:solidFill>
                <a:latin typeface="Arial"/>
                <a:ea typeface="宋体"/>
              </a:rPr>
              <a:t>经典</a:t>
            </a:r>
            <a:r>
              <a:rPr b="0" lang="en-US" sz="1800" spc="-1" strike="noStrike">
                <a:solidFill>
                  <a:srgbClr val="666699"/>
                </a:solidFill>
                <a:latin typeface="Arial"/>
                <a:ea typeface="宋体"/>
              </a:rPr>
              <a:t>PPT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1933200"/>
            <a:ext cx="723888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广西大学硕士论文答辩模块</a:t>
            </a: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0760" y="3623760"/>
            <a:ext cx="74199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机械工程学院  工程测试实验室西大新浪制作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30000" y="1441440"/>
            <a:ext cx="782460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宋体"/>
              </a:rPr>
              <a:t>1</a:t>
            </a:r>
            <a:r>
              <a:rPr b="1" lang="zh-CN" sz="2100" spc="-1" strike="noStrike">
                <a:solidFill>
                  <a:srgbClr val="ffffff"/>
                </a:solidFill>
                <a:latin typeface="黑体"/>
                <a:ea typeface="宋体"/>
              </a:rPr>
              <a:t>、打开原来的幻灯片</a:t>
            </a: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宋体"/>
              </a:rPr>
              <a:t>ppt</a:t>
            </a:r>
            <a:r>
              <a:rPr b="1" lang="zh-CN" sz="2100" spc="-1" strike="noStrike">
                <a:solidFill>
                  <a:srgbClr val="ffffff"/>
                </a:solidFill>
                <a:latin typeface="黑体"/>
                <a:ea typeface="宋体"/>
              </a:rPr>
              <a:t>，然后点“设计”</a:t>
            </a:r>
            <a:endParaRPr b="1" lang="en-US" sz="2100" spc="-1" strike="noStrike">
              <a:solidFill>
                <a:srgbClr val="ffffff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宋体"/>
              </a:rPr>
              <a:t>2</a:t>
            </a:r>
            <a:r>
              <a:rPr b="1" lang="zh-CN" sz="2100" spc="-1" strike="noStrike">
                <a:solidFill>
                  <a:srgbClr val="ffffff"/>
                </a:solidFill>
                <a:latin typeface="黑体"/>
                <a:ea typeface="宋体"/>
              </a:rPr>
              <a:t>、点“浏览”找到本模板，就可以套用了。</a:t>
            </a:r>
            <a:endParaRPr b="1" lang="en-US" sz="21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633240" y="318960"/>
            <a:ext cx="7896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</a:rPr>
              <a:t>模板套用方法</a:t>
            </a: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987640" y="2349360"/>
            <a:ext cx="3295800" cy="466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3276720" y="3789360"/>
            <a:ext cx="249084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80760" y="3141720"/>
            <a:ext cx="7419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@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经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914400" y="2276280"/>
            <a:ext cx="723888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</a:rPr>
              <a:t>感谢您的关注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7T08:04:50Z</dcterms:created>
  <dc:creator>NordriDesignStudio</dc:creator>
  <dc:description/>
  <dc:language>en-US</dc:language>
  <cp:lastModifiedBy>雨林木风</cp:lastModifiedBy>
  <dcterms:modified xsi:type="dcterms:W3CDTF">2011-04-07T07:06:28Z</dcterms:modified>
  <cp:revision>11</cp:revision>
  <dc:subject/>
  <dc:title>PowerPoint Template</dc:title>
</cp:coreProperties>
</file>