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%E4%BA%A1%E7%81%B5%E5%BA%8F%E6%9B%B2.wav" ContentType="audio/x-wav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20D-D550-4272-AE42-9A44E91E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6F6-FDF7-430F-8239-3327881D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9D76A-D913-4953-920F-1FD61CA8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CE1A4-0EBA-4815-A480-715A8B64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BEB58-BC61-4529-8953-7CE896FD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434E0-F398-483D-B1D8-3242F958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BE9D5-F4FB-40EF-897C-E2EDF746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54749-2C78-4988-9278-8FD611E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49D73-2E39-46EB-A8A0-B1DFAC4F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D9FFE-D717-4006-AF65-AE37BB1C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60DE2-2395-4483-940B-C2B687A1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FB1F1-8E71-4459-96F3-3403C131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26D-4B6F-408D-BAEE-4154CCA3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1664F-4AFC-4C9C-A6C4-86332B88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D7415-BB24-49A5-BFB1-EBD193CB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934F4-E77B-4837-967D-DC4F93FA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77A0E-6591-4A47-B259-EB0ABE86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B47C9-FDE4-42F1-A8B1-9D682CF6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1763B-05AA-4071-B296-3B87008C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CDC9B-644A-4A25-9D0A-2FA18A16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C9DC1-7E4D-46B2-AAA7-588BECCC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D53C8-74CD-44FF-92F9-7D828E4E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B36A1-E099-4116-8E40-2144E5A7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319-2C14-4D17-9E95-6F99F087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87078-5225-40E3-AE32-2F440FAC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F0455-EB22-4E59-ADE9-DC25D871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CC27C-C29B-4E42-B023-3F1C3511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34F78-54B5-4C7F-BF44-BE6A9388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EECF7-1C9B-4C86-80C4-7001E3E3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34A02-65C9-4F7D-BD64-2B76FC8A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79A86-5586-41EB-85A6-DD03ABCE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96192-F5DA-4F20-89FA-5FAECBB1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C6F83-DB5A-462B-A698-D651DDB0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C09E3-858A-448D-8633-63B49AAD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505B-2640-40A5-A3C0-8C49E39E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F799E-0389-4079-BE7B-651818D5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6E988-BA51-4E75-9A4A-A5501B1B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A0169-29C3-4791-975C-054C430B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0AADC-E760-4294-8C79-2BB4DDAF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20FC4-3FF1-42AE-8F9B-8A12E078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9B567-EC12-4ADB-9805-9C76BBFC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474D3-4ACE-4824-B2A2-8A8346FD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B447F-8F43-4C40-9B9D-BDB1D34F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0D64E-A5E5-4D81-8C84-79BC3996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3A312-9FA2-4071-A870-FF10B57B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B528-3E5F-4835-B01D-B8D51875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503AF-3D29-4B5A-A1AB-DE7AAA3C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75C13-9B01-412A-8E93-C6E10CE4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3B693-2317-417A-84EA-40EF93FE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CBA0A-CFA8-42CD-A9D0-D10D1DD9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E91A7-AC11-4DD0-9044-7E8300BC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A7BDE-D174-4CA5-9F00-956B0B63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AC168-B4B6-40D4-B296-96A4573E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50C28-51D6-4C64-AFED-B0FAD948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CD59D-5546-4490-ABE6-B4BE4EA7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86826-1709-4831-8195-24C79930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3B61-AD6C-4769-86F3-CB13755F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D1801-1A99-4E1E-AF08-15BF723D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62467-F4A5-4CF5-AC11-F673CE7B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A7B60-0AE5-4D79-A8A7-D412047F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D5D16-7601-45E5-B349-3EE7A2CD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B0B70-7E27-42CA-9E68-47A0A3B3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36498-C1D3-42BA-966B-6B632BCA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BA00E-BDA0-466E-A553-8935527B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9594-E034-42CB-9EB4-EB086E66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9621-CCA8-4FC1-8DFE-2D77CFEC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D35A-4979-4A6A-B5C2-EB59B86C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0E19-BDAD-4EF0-9E3C-F7183236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B92-E35C-4FE1-8F78-299CFA83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124F-522D-448B-9043-6A7C6C2B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B977-EF9B-4BA9-82A6-EF4590D0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C6FB-983B-45EF-95F2-21B3286A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958E-3D29-4FF7-92DA-90F73577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F21D-425C-4FFF-96FD-C6EDB385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51C2B-345E-4C3E-8F51-F88F6801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F1E8A-E231-45EB-9D0A-E9E4B019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23E5A-12E7-4422-AC48-222A1F9E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8266E-DCBB-4DDF-B930-320F025D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77FB-995E-4E1D-8246-14083E9B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7A4-FBE5-4B5B-8ED0-123BDDB3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EA1E4-C9BC-4078-AA33-7679EB97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08C20-F88B-417A-BE2B-1CFCF06B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C6BAF-4BD7-4774-83C2-5C44608D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6AF2-74EC-492D-BDFD-6F3744E9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A624B-71A4-49CF-846F-3AFAA816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8646D-350E-4DD2-A87E-1BED7503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FEECD-3C87-4F95-999B-DCA27689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C6528-DF71-4078-8CC0-6E0FCE4D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744C1-B75C-4252-B2A7-779E4664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CD293-0E6B-42B3-A86D-2DC02E21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211-AA44-4E6D-9CB2-6A161376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066B1-390C-4E1E-8F2E-745F3DF9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5818A-4033-4146-982E-6C510FCF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083B0-7B9E-4F2C-9327-7E69FD33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96A9A-B9B8-4292-B260-4D92EFE3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F3854-B344-4042-B9CF-8B766A36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D48DE-1020-4386-A849-600D1BCD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5130D-5590-486B-B5C3-B03418B8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5CDCA-108E-4068-9A00-35AE20B7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AB25B-51D9-4803-9B97-E6C5A5A4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F22FF-A2E0-4A67-BDD4-9091ABD5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EB6B-4F00-43B4-B2F8-A68EB7C1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2B6A0-35A5-4F45-8B0E-C66C215C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02BAE-70C9-4D89-A5AA-98E092C0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807CF-D6A9-46FF-A710-3AC52825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BE787-7278-4313-8B15-CCA771D4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42A3C-1F1F-483C-9236-DF53E514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59E88-C18E-4050-AC2F-7161340B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2DBB7-AF70-4CBF-B42F-7A70E1E1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C5446-ECE8-46E5-BD3E-62C5AA93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571A5-AED7-418F-BE42-054C025B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FE793-08A4-4AE6-BF05-8CBD7FF5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E4A-2898-4580-8965-EC997924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99B5F-5E8F-40B5-9676-C17024F5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863CC-EC7A-49B4-891F-7C009585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985A7-8552-45AE-82E7-60423717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EABE8-E548-4743-92F3-41542E71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EA2D9-02FD-40A6-9AD0-5E2E54AE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1F0D0-A8ED-432F-895B-76891C63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D74F9-210F-4EFB-BD2C-A6E30811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9C373-2800-4140-A423-F263BE41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279D1-8E95-4E6D-9838-6428CF62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6BB44-71E7-481E-9381-CF00D74F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79A-21CC-4219-BB23-A142C948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56428-3BF3-4773-BFD7-CDA83696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49B0A-971B-41E0-9D89-FDC7104C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7F539-F65B-4DC1-BDB8-B8D87505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7C2AE-263F-4CE8-8451-8BEC129E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8E16F-381E-495E-9C4D-1846E4C1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C0304-2FE0-4378-8593-A9EDC5CF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03883-92BB-4288-B7B6-BC9BB446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B2DCE-C54D-43E6-AA06-8A605AFA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20D13-ABC2-43D1-B2A8-C2F604EB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F7D38-324A-42FC-B372-A0043EC6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BDF-E18E-46C8-AA37-1B2C70A8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B4960-4657-41D0-A840-ED41CC8B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BA95B-82AA-4DFF-B67C-ED852E10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55E3E-8727-4649-A710-72A665A3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CD933-92E7-4D9A-AE76-122B7FE5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C437F-0CC8-44F1-9DE4-5A3FE502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644D7-A2B3-402A-9FF6-44C05668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54177-A002-40F0-9B4B-6B567F70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C436C-3082-4172-8230-05CD8BC5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55BAB-BD57-41E2-9164-1BC855E4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A7443-9049-41BB-AEA3-F53A5001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D02-F139-42FF-82E8-F4B5CDDB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C60F6-8328-4AAD-A54D-4C7D4D07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FAADC-AE80-416F-B878-A409251B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E46BD-2EAF-438E-8753-AA52ADC1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03242-3B70-4835-A252-F1E65A20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A2B05-3AC1-4632-920D-E245141E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AD68B-0D1B-40E1-BE35-3044D11C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E38D3-7C2F-4FA7-9836-F1263BEC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4A3CE-3957-4D5E-AAC2-088844C3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B4AC5-5455-4874-BE6C-4C15C943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6603E-4D02-45D1-9B5C-71198825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5E96-3B0C-43C8-A789-41EC748581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CB47-C378-4775-90F4-FCBB68C178A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F2AA-3B75-48A2-8FF3-DB870455794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CC80-636E-4774-8C7C-80567D89C1A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A5FB-4328-453A-845E-6A1A90A5A77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1CF5-3AB6-4283-8712-32FD680B0ED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AF5E-7965-45E2-97DC-327533A5F43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9B54-9B53-4F2A-89F8-F5FB9EC197D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EE19-22DF-4939-A0ED-1C237FA9E2F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4827-BDA5-4B12-BC17-5908D47966B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971C-95B8-49DB-AE1F-A9CD1494478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BEFC-1F19-4C8B-8EB0-7F47D42B5A3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D19C-B689-4AEF-B77C-9C55BDCCE06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0442-10AB-43D0-94AD-1D59E2142B4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531A-40FC-45BA-B157-84D0473375D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A651-CACD-4815-9848-B0BB4D73319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66D3-9A2C-4809-8E6F-40C2008CF91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2BA0-3EF0-4168-A41E-A4938C1C038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D2CE-5A42-480E-A7A8-64C0F4AF472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1ED8-6F38-4538-B7CA-CD63386BA98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56F5-F2C0-46AA-B7C1-EB29223ADD4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14BB-E7F3-427A-A83A-301791852B7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1BE2-FC99-4F08-B40B-44965E788EE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A26C-98FC-4E00-A02C-FC41A99DECB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5987-165D-411E-BB7A-39257D89ED9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hyperlink" Target="http://www.pptbz.com/" TargetMode="External"/><Relationship Id="rId10" Type="http://schemas.openxmlformats.org/officeDocument/2006/relationships/hyperlink" Target="http://www.pptbz.com/" TargetMode="External"/><Relationship Id="rId11" Type="http://schemas.openxmlformats.org/officeDocument/2006/relationships/hyperlink" Target="http://www.pptbz.com/" TargetMode="External"/><Relationship Id="rId12" Type="http://schemas.openxmlformats.org/officeDocument/2006/relationships/hyperlink" Target="http://www.pptbz.com/pptshucai/" TargetMode="External"/><Relationship Id="rId13" Type="http://schemas.openxmlformats.org/officeDocument/2006/relationships/hyperlink" Target="http://www.pptbz.com/pptshucai/" TargetMode="External"/><Relationship Id="rId14" Type="http://schemas.openxmlformats.org/officeDocument/2006/relationships/hyperlink" Target="http://www.pptbz.com/pptshucai/" TargetMode="External"/><Relationship Id="rId15" Type="http://schemas.openxmlformats.org/officeDocument/2006/relationships/hyperlink" Target="http://www.pptbz.com/pptpic/" TargetMode="External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audio" Target="../media/&#20129;&#28789;&#24207;&#26354;.wav"/><Relationship Id="rId2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4"/>
          <p:cNvSpPr/>
          <p:nvPr/>
        </p:nvSpPr>
        <p:spPr>
          <a:xfrm>
            <a:off x="6723360" y="1785960"/>
            <a:ext cx="12776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6921360" y="4018680"/>
            <a:ext cx="10335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6"/>
          <p:cNvSpPr/>
          <p:nvPr/>
        </p:nvSpPr>
        <p:spPr>
          <a:xfrm>
            <a:off x="7191720" y="164304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地球日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矩形 8"/>
          <p:cNvSpPr/>
          <p:nvPr/>
        </p:nvSpPr>
        <p:spPr>
          <a:xfrm>
            <a:off x="491724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9"/>
          <p:cNvSpPr/>
          <p:nvPr/>
        </p:nvSpPr>
        <p:spPr>
          <a:xfrm>
            <a:off x="5283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9"/>
          <p:cNvSpPr/>
          <p:nvPr/>
        </p:nvSpPr>
        <p:spPr>
          <a:xfrm>
            <a:off x="49978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"/>
          <p:cNvSpPr/>
          <p:nvPr/>
        </p:nvSpPr>
        <p:spPr>
          <a:xfrm>
            <a:off x="29977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5"/>
          <p:cNvSpPr/>
          <p:nvPr/>
        </p:nvSpPr>
        <p:spPr>
          <a:xfrm>
            <a:off x="32835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8865-1B1C-411D-8F74-15A0A23581B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图片 1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633920"/>
          </a:xfrm>
          <a:prstGeom prst="rect">
            <a:avLst/>
          </a:prstGeom>
          <a:ln w="0">
            <a:noFill/>
          </a:ln>
        </p:spPr>
      </p:pic>
      <p:sp>
        <p:nvSpPr>
          <p:cNvPr id="578" name="Line 7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3"/>
          <p:cNvSpPr/>
          <p:nvPr/>
        </p:nvSpPr>
        <p:spPr>
          <a:xfrm>
            <a:off x="-20520" y="1257480"/>
            <a:ext cx="913896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6"/>
          <p:cNvSpPr/>
          <p:nvPr/>
        </p:nvSpPr>
        <p:spPr>
          <a:xfrm>
            <a:off x="0" y="5956200"/>
            <a:ext cx="91440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3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5" descr="热气球"/>
          <p:cNvPicPr/>
          <p:nvPr/>
        </p:nvPicPr>
        <p:blipFill>
          <a:blip r:embed="rId2"/>
          <a:stretch/>
        </p:blipFill>
        <p:spPr>
          <a:xfrm>
            <a:off x="7164360" y="361800"/>
            <a:ext cx="1428840" cy="1987560"/>
          </a:xfrm>
          <a:prstGeom prst="rect">
            <a:avLst/>
          </a:prstGeom>
          <a:ln w="0">
            <a:noFill/>
          </a:ln>
        </p:spPr>
      </p:pic>
      <p:sp>
        <p:nvSpPr>
          <p:cNvPr id="583" name="TextBox 8"/>
          <p:cNvSpPr/>
          <p:nvPr/>
        </p:nvSpPr>
        <p:spPr>
          <a:xfrm>
            <a:off x="2987640" y="549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i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宝藏致力于优秀的</a:t>
            </a:r>
            <a:r>
              <a:rPr b="1" i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i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分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图片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0" y="130320"/>
            <a:ext cx="2982960" cy="99504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8" descr="07.png"/>
          <p:cNvPicPr/>
          <p:nvPr/>
        </p:nvPicPr>
        <p:blipFill>
          <a:blip r:embed="rId5"/>
          <a:stretch/>
        </p:blipFill>
        <p:spPr>
          <a:xfrm>
            <a:off x="2147760" y="-69840"/>
            <a:ext cx="984240" cy="9763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美女跳舞2"/>
          <p:cNvPicPr/>
          <p:nvPr/>
        </p:nvPicPr>
        <p:blipFill>
          <a:blip r:embed="rId6"/>
          <a:stretch/>
        </p:blipFill>
        <p:spPr>
          <a:xfrm>
            <a:off x="179280" y="1341360"/>
            <a:ext cx="2297160" cy="52484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0" descr="绿风车棍子"/>
          <p:cNvPicPr/>
          <p:nvPr/>
        </p:nvPicPr>
        <p:blipFill>
          <a:blip r:embed="rId7"/>
          <a:stretch/>
        </p:blipFill>
        <p:spPr>
          <a:xfrm>
            <a:off x="8461440" y="4219560"/>
            <a:ext cx="71280" cy="16574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9" descr="绿风车"/>
          <p:cNvPicPr/>
          <p:nvPr/>
        </p:nvPicPr>
        <p:blipFill>
          <a:blip r:embed="rId8"/>
          <a:stretch/>
        </p:blipFill>
        <p:spPr>
          <a:xfrm>
            <a:off x="7850160" y="3722760"/>
            <a:ext cx="1217520" cy="1220760"/>
          </a:xfrm>
          <a:prstGeom prst="rect">
            <a:avLst/>
          </a:prstGeom>
          <a:ln w="0">
            <a:noFill/>
          </a:ln>
        </p:spPr>
      </p:pic>
      <p:sp>
        <p:nvSpPr>
          <p:cNvPr id="589" name="TextBox 4"/>
          <p:cNvSpPr/>
          <p:nvPr/>
        </p:nvSpPr>
        <p:spPr>
          <a:xfrm>
            <a:off x="2627280" y="2476440"/>
            <a:ext cx="53294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模板下载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pptbz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素材下载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pptbz.com/pptsh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背景图片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pptbz.com/pptpic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课件下载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pptbz.com/keji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图片 55" descr=""/>
          <p:cNvPicPr/>
          <p:nvPr/>
        </p:nvPicPr>
        <p:blipFill>
          <a:blip r:embed="rId16"/>
          <a:stretch/>
        </p:blipFill>
        <p:spPr>
          <a:xfrm rot="2305200">
            <a:off x="2293560" y="23702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56" descr=""/>
          <p:cNvPicPr/>
          <p:nvPr/>
        </p:nvPicPr>
        <p:blipFill>
          <a:blip r:embed="rId17"/>
          <a:stretch/>
        </p:blipFill>
        <p:spPr>
          <a:xfrm rot="2305200">
            <a:off x="2293560" y="295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57" descr=""/>
          <p:cNvPicPr/>
          <p:nvPr/>
        </p:nvPicPr>
        <p:blipFill>
          <a:blip r:embed="rId18"/>
          <a:stretch/>
        </p:blipFill>
        <p:spPr>
          <a:xfrm rot="2305200">
            <a:off x="2293560" y="3527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58" descr=""/>
          <p:cNvPicPr/>
          <p:nvPr/>
        </p:nvPicPr>
        <p:blipFill>
          <a:blip r:embed="rId19"/>
          <a:stretch/>
        </p:blipFill>
        <p:spPr>
          <a:xfrm rot="2305200">
            <a:off x="2293560" y="410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94" name="TextBox 22"/>
          <p:cNvSpPr/>
          <p:nvPr/>
        </p:nvSpPr>
        <p:spPr>
          <a:xfrm>
            <a:off x="2471760" y="616572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更多精美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下载请点击：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宝藏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_www.pptbz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200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 repeatCount="indefinite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9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1"/>
          <p:cNvSpPr/>
          <p:nvPr/>
        </p:nvSpPr>
        <p:spPr>
          <a:xfrm>
            <a:off x="4786200" y="571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8"/>
          <p:cNvSpPr/>
          <p:nvPr/>
        </p:nvSpPr>
        <p:spPr>
          <a:xfrm>
            <a:off x="4069080" y="248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8"/>
          <p:cNvSpPr/>
          <p:nvPr/>
        </p:nvSpPr>
        <p:spPr>
          <a:xfrm>
            <a:off x="4212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6"/>
          <p:cNvSpPr/>
          <p:nvPr/>
        </p:nvSpPr>
        <p:spPr>
          <a:xfrm>
            <a:off x="42836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5"/>
          <p:cNvSpPr/>
          <p:nvPr/>
        </p:nvSpPr>
        <p:spPr>
          <a:xfrm>
            <a:off x="42836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8"/>
          <p:cNvSpPr/>
          <p:nvPr/>
        </p:nvSpPr>
        <p:spPr>
          <a:xfrm>
            <a:off x="491724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6"/>
          <p:cNvSpPr/>
          <p:nvPr/>
        </p:nvSpPr>
        <p:spPr>
          <a:xfrm>
            <a:off x="34977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5"/>
          <p:cNvSpPr/>
          <p:nvPr/>
        </p:nvSpPr>
        <p:spPr>
          <a:xfrm>
            <a:off x="51408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6"/>
          <p:cNvSpPr/>
          <p:nvPr/>
        </p:nvSpPr>
        <p:spPr>
          <a:xfrm>
            <a:off x="17118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5"/>
          <p:cNvSpPr/>
          <p:nvPr/>
        </p:nvSpPr>
        <p:spPr>
          <a:xfrm>
            <a:off x="6998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8"/>
          <p:cNvSpPr/>
          <p:nvPr/>
        </p:nvSpPr>
        <p:spPr>
          <a:xfrm>
            <a:off x="491724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7"/>
          <p:cNvSpPr/>
          <p:nvPr/>
        </p:nvSpPr>
        <p:spPr>
          <a:xfrm>
            <a:off x="3357720" y="3929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6"/>
          <p:cNvSpPr/>
          <p:nvPr/>
        </p:nvSpPr>
        <p:spPr>
          <a:xfrm>
            <a:off x="25689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6"/>
          <p:cNvSpPr/>
          <p:nvPr/>
        </p:nvSpPr>
        <p:spPr>
          <a:xfrm>
            <a:off x="542664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8"/>
          <p:cNvSpPr/>
          <p:nvPr/>
        </p:nvSpPr>
        <p:spPr>
          <a:xfrm>
            <a:off x="491724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7"/>
          <p:cNvSpPr/>
          <p:nvPr/>
        </p:nvSpPr>
        <p:spPr>
          <a:xfrm>
            <a:off x="2786040" y="2643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7"/>
          <p:cNvSpPr/>
          <p:nvPr/>
        </p:nvSpPr>
        <p:spPr>
          <a:xfrm>
            <a:off x="5283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5"/>
          <p:cNvSpPr/>
          <p:nvPr/>
        </p:nvSpPr>
        <p:spPr>
          <a:xfrm>
            <a:off x="5855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5"/>
          <p:cNvSpPr/>
          <p:nvPr/>
        </p:nvSpPr>
        <p:spPr>
          <a:xfrm>
            <a:off x="2426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8"/>
          <p:cNvSpPr/>
          <p:nvPr/>
        </p:nvSpPr>
        <p:spPr>
          <a:xfrm>
            <a:off x="491724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5"/>
          <p:cNvSpPr/>
          <p:nvPr/>
        </p:nvSpPr>
        <p:spPr>
          <a:xfrm>
            <a:off x="42120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"/>
          <p:cNvSpPr/>
          <p:nvPr/>
        </p:nvSpPr>
        <p:spPr>
          <a:xfrm>
            <a:off x="414072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5"/>
          <p:cNvSpPr/>
          <p:nvPr/>
        </p:nvSpPr>
        <p:spPr>
          <a:xfrm>
            <a:off x="20689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5"/>
          <p:cNvSpPr/>
          <p:nvPr/>
        </p:nvSpPr>
        <p:spPr>
          <a:xfrm>
            <a:off x="61408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矩形 8"/>
          <p:cNvSpPr/>
          <p:nvPr/>
        </p:nvSpPr>
        <p:spPr>
          <a:xfrm>
            <a:off x="491724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9"/>
          <p:cNvSpPr/>
          <p:nvPr/>
        </p:nvSpPr>
        <p:spPr>
          <a:xfrm>
            <a:off x="5212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7"/>
          <p:cNvSpPr/>
          <p:nvPr/>
        </p:nvSpPr>
        <p:spPr>
          <a:xfrm>
            <a:off x="2640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矩形 8"/>
          <p:cNvSpPr/>
          <p:nvPr/>
        </p:nvSpPr>
        <p:spPr>
          <a:xfrm>
            <a:off x="491724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9"/>
          <p:cNvSpPr/>
          <p:nvPr/>
        </p:nvSpPr>
        <p:spPr>
          <a:xfrm>
            <a:off x="4140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9"/>
          <p:cNvSpPr/>
          <p:nvPr/>
        </p:nvSpPr>
        <p:spPr>
          <a:xfrm>
            <a:off x="64267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6"/>
          <p:cNvSpPr/>
          <p:nvPr/>
        </p:nvSpPr>
        <p:spPr>
          <a:xfrm>
            <a:off x="1640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8"/>
          <p:cNvSpPr/>
          <p:nvPr/>
        </p:nvSpPr>
        <p:spPr>
          <a:xfrm>
            <a:off x="491724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9"/>
          <p:cNvSpPr/>
          <p:nvPr/>
        </p:nvSpPr>
        <p:spPr>
          <a:xfrm>
            <a:off x="6569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9"/>
          <p:cNvSpPr/>
          <p:nvPr/>
        </p:nvSpPr>
        <p:spPr>
          <a:xfrm>
            <a:off x="4140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6"/>
          <p:cNvSpPr/>
          <p:nvPr/>
        </p:nvSpPr>
        <p:spPr>
          <a:xfrm>
            <a:off x="1711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Windows 用户</cp:lastModifiedBy>
  <dcterms:modified xsi:type="dcterms:W3CDTF">2014-11-19T08:09:54Z</dcterms:modified>
  <cp:revision>42</cp:revision>
  <dc:subject/>
  <dc:title>www.pptbz.com</dc:title>
</cp:coreProperties>
</file>