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jpeg" ContentType="image/jpeg"/>
  <Override PartName="/ppt/media/image23.jpeg" ContentType="image/jpeg"/>
  <Override PartName="/ppt/media/image25.png" ContentType="image/png"/>
  <Override PartName="/ppt/media/image24.png" ContentType="image/png"/>
  <Override PartName="/ppt/media/image18.jpeg" ContentType="image/jpeg"/>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4a0d8"/>
              </a:solidFill>
              <a:latin typeface="Arial"/>
            </a:endParaRPr>
          </a:p>
        </p:txBody>
      </p:sp>
      <p:sp>
        <p:nvSpPr>
          <p:cNvPr id="7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1" name="PlaceHolder 3"/>
          <p:cNvSpPr>
            <a:spLocks noGrp="1"/>
          </p:cNvSpPr>
          <p:nvPr>
            <p:ph type="sldImg"/>
          </p:nvPr>
        </p:nvSpPr>
        <p:spPr>
          <a:xfrm>
            <a:off x="379440" y="685440"/>
            <a:ext cx="609912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lick to move the slide</a:t>
            </a:r>
            <a:endParaRPr b="0" lang="en-US" sz="2400" spc="-1" strike="noStrike">
              <a:solidFill>
                <a:srgbClr val="4d4d4d"/>
              </a:solidFill>
              <a:latin typeface="Arial"/>
            </a:endParaRPr>
          </a:p>
        </p:txBody>
      </p:sp>
      <p:sp>
        <p:nvSpPr>
          <p:cNvPr id="7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0227-37DE-4EAA-8960-6F39B5E6BE9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379440" y="685800"/>
            <a:ext cx="6099120" cy="3429000"/>
          </a:xfrm>
          <a:prstGeom prst="rect">
            <a:avLst/>
          </a:prstGeom>
          <a:ln w="0">
            <a:noFill/>
          </a:ln>
        </p:spPr>
      </p:sp>
      <p:sp>
        <p:nvSpPr>
          <p:cNvPr id="138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9CDA-796D-4E99-9180-AC607E573DB2}" type="slidenum">
              <a:rPr b="0" lang="zh-CN" sz="1200" spc="-1" strike="noStrike">
                <a:solidFill>
                  <a:srgbClr val="000000"/>
                </a:solidFill>
                <a:latin typeface="Arial"/>
              </a:rPr>
              <a:t>&lt;number&gt;</a:t>
            </a:fld>
            <a:endParaRPr b="0" lang="en-US" sz="1200" spc="-1" strike="noStrike">
              <a:solidFill>
                <a:srgbClr val="54a0d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379440" y="685800"/>
            <a:ext cx="6099120" cy="3429000"/>
          </a:xfrm>
          <a:prstGeom prst="rect">
            <a:avLst/>
          </a:prstGeom>
          <a:ln w="0">
            <a:noFill/>
          </a:ln>
        </p:spPr>
      </p:sp>
      <p:sp>
        <p:nvSpPr>
          <p:cNvPr id="14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EFB0-B506-444E-AE7F-2AC3D3B05CED}"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379440" y="685800"/>
            <a:ext cx="6099120" cy="3429000"/>
          </a:xfrm>
          <a:prstGeom prst="rect">
            <a:avLst/>
          </a:prstGeom>
          <a:ln w="0">
            <a:noFill/>
          </a:ln>
        </p:spPr>
      </p:sp>
      <p:sp>
        <p:nvSpPr>
          <p:cNvPr id="14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0C33-A637-4636-801C-B189A87A997F}"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379440" y="685800"/>
            <a:ext cx="6099120" cy="3429000"/>
          </a:xfrm>
          <a:prstGeom prst="rect">
            <a:avLst/>
          </a:prstGeom>
          <a:ln w="0">
            <a:noFill/>
          </a:ln>
        </p:spPr>
      </p:sp>
      <p:sp>
        <p:nvSpPr>
          <p:cNvPr id="14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D79B-EFCA-453E-9A70-CBEB5602AE7A}"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379440" y="685800"/>
            <a:ext cx="6099120" cy="3429000"/>
          </a:xfrm>
          <a:prstGeom prst="rect">
            <a:avLst/>
          </a:prstGeom>
          <a:ln w="0">
            <a:noFill/>
          </a:ln>
        </p:spPr>
      </p:sp>
      <p:sp>
        <p:nvSpPr>
          <p:cNvPr id="14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4E38-2449-4FB6-98A0-44BACE17BA62}"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379440" y="685800"/>
            <a:ext cx="6099120" cy="3429000"/>
          </a:xfrm>
          <a:prstGeom prst="rect">
            <a:avLst/>
          </a:prstGeom>
          <a:ln w="0">
            <a:noFill/>
          </a:ln>
        </p:spPr>
      </p:sp>
      <p:sp>
        <p:nvSpPr>
          <p:cNvPr id="14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9C47-C744-4867-86BC-FB76C9FA207E}" type="slidenum">
              <a:rPr b="0" lang="zh-CN" sz="1200" spc="-1" strike="noStrike">
                <a:solidFill>
                  <a:srgbClr val="000000"/>
                </a:solidFill>
                <a:latin typeface="Arial"/>
              </a:rPr>
              <a:t>&lt;number&gt;</a:t>
            </a:fld>
            <a:endParaRPr b="0" lang="en-US" sz="1200" spc="-1" strike="noStrike">
              <a:solidFill>
                <a:srgbClr val="54a0d8"/>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379440" y="685800"/>
            <a:ext cx="6099120" cy="3429000"/>
          </a:xfrm>
          <a:prstGeom prst="rect">
            <a:avLst/>
          </a:prstGeom>
          <a:ln w="0">
            <a:noFill/>
          </a:ln>
        </p:spPr>
      </p:sp>
      <p:sp>
        <p:nvSpPr>
          <p:cNvPr id="14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7FB9-942B-4D3A-9927-EFCB4A665E23}"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379440" y="685800"/>
            <a:ext cx="609912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3DEC-F4BE-4512-A28E-7CE56A6DC9C8}"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379440" y="685800"/>
            <a:ext cx="6099120" cy="3429000"/>
          </a:xfrm>
          <a:prstGeom prst="rect">
            <a:avLst/>
          </a:prstGeom>
          <a:ln w="0">
            <a:noFill/>
          </a:ln>
        </p:spPr>
      </p:sp>
      <p:sp>
        <p:nvSpPr>
          <p:cNvPr id="14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424A-3C2D-42F3-AE19-2F6467282043}"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379440" y="685800"/>
            <a:ext cx="609912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9C6F-333A-4BBD-8FDE-73903A01B935}" type="slidenum">
              <a:rPr b="0" lang="zh-CN" sz="1200" spc="-1" strike="noStrike">
                <a:solidFill>
                  <a:srgbClr val="000000"/>
                </a:solidFill>
                <a:latin typeface="Arial"/>
              </a:rPr>
              <a:t>&lt;number&gt;</a:t>
            </a:fld>
            <a:endParaRPr b="0" lang="en-US" sz="1200" spc="-1" strike="noStrike">
              <a:solidFill>
                <a:srgbClr val="54a0d8"/>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379440" y="685800"/>
            <a:ext cx="6099120" cy="3429000"/>
          </a:xfrm>
          <a:prstGeom prst="rect">
            <a:avLst/>
          </a:prstGeom>
          <a:ln w="0">
            <a:noFill/>
          </a:ln>
        </p:spPr>
      </p:sp>
      <p:sp>
        <p:nvSpPr>
          <p:cNvPr id="143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7360-AB02-400F-A485-BC68184BC2CB}"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379440" y="685800"/>
            <a:ext cx="6099120" cy="3429000"/>
          </a:xfrm>
          <a:prstGeom prst="rect">
            <a:avLst/>
          </a:prstGeom>
          <a:ln w="0">
            <a:noFill/>
          </a:ln>
        </p:spPr>
      </p:sp>
      <p:sp>
        <p:nvSpPr>
          <p:cNvPr id="13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8F31-F064-454A-8A58-4C5E2D4F2648}" type="slidenum">
              <a:rPr b="0" lang="zh-CN" sz="1200" spc="-1" strike="noStrike">
                <a:solidFill>
                  <a:srgbClr val="000000"/>
                </a:solidFill>
                <a:latin typeface="Arial"/>
              </a:rPr>
              <a:t>&lt;number&gt;</a:t>
            </a:fld>
            <a:endParaRPr b="0" lang="en-US" sz="1200" spc="-1" strike="noStrike">
              <a:solidFill>
                <a:srgbClr val="54a0d8"/>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379440" y="685800"/>
            <a:ext cx="609912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2E98-8955-4E49-9C63-28E94E052E26}"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379440" y="685800"/>
            <a:ext cx="6099120" cy="3429000"/>
          </a:xfrm>
          <a:prstGeom prst="rect">
            <a:avLst/>
          </a:prstGeom>
          <a:ln w="0">
            <a:noFill/>
          </a:ln>
        </p:spPr>
      </p:sp>
      <p:sp>
        <p:nvSpPr>
          <p:cNvPr id="14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163B-107F-49BA-AA1B-4820DDA510B9}"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379440" y="685800"/>
            <a:ext cx="6099120" cy="3429000"/>
          </a:xfrm>
          <a:prstGeom prst="rect">
            <a:avLst/>
          </a:prstGeom>
          <a:ln w="0">
            <a:noFill/>
          </a:ln>
        </p:spPr>
      </p:sp>
      <p:sp>
        <p:nvSpPr>
          <p:cNvPr id="14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F20B-B81C-4E95-8A4B-25A8E33C9AE1}" type="slidenum">
              <a:rPr b="0" lang="zh-CN" sz="1200" spc="-1" strike="noStrike">
                <a:solidFill>
                  <a:srgbClr val="000000"/>
                </a:solidFill>
                <a:latin typeface="Arial"/>
              </a:rPr>
              <a:t>&lt;number&gt;</a:t>
            </a:fld>
            <a:endParaRPr b="0" lang="en-US" sz="1200" spc="-1" strike="noStrike">
              <a:solidFill>
                <a:srgbClr val="54a0d8"/>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379440" y="685800"/>
            <a:ext cx="609912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9284-1BF4-465E-B934-954B69315B71}"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379440" y="685800"/>
            <a:ext cx="6099120" cy="3429000"/>
          </a:xfrm>
          <a:prstGeom prst="rect">
            <a:avLst/>
          </a:prstGeom>
          <a:ln w="0">
            <a:noFill/>
          </a:ln>
        </p:spPr>
      </p:sp>
      <p:sp>
        <p:nvSpPr>
          <p:cNvPr id="14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D5DB-EBD1-4A15-8C10-6FC65002F7A8}"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379440" y="685800"/>
            <a:ext cx="6099120" cy="3429000"/>
          </a:xfrm>
          <a:prstGeom prst="rect">
            <a:avLst/>
          </a:prstGeom>
          <a:ln w="0">
            <a:noFill/>
          </a:ln>
        </p:spPr>
      </p:sp>
      <p:sp>
        <p:nvSpPr>
          <p:cNvPr id="14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B015-D485-44ED-91C6-DBF664CFFDBF}"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379440" y="685800"/>
            <a:ext cx="6099120" cy="3429000"/>
          </a:xfrm>
          <a:prstGeom prst="rect">
            <a:avLst/>
          </a:prstGeom>
          <a:ln w="0">
            <a:noFill/>
          </a:ln>
        </p:spPr>
      </p:sp>
      <p:sp>
        <p:nvSpPr>
          <p:cNvPr id="14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8E12-0D98-4B2D-9770-B7F79B482EF4}"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379440" y="685800"/>
            <a:ext cx="609912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2949-FC7A-4BA5-9C06-775173FD6D29}"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379440" y="685800"/>
            <a:ext cx="6099120" cy="3429000"/>
          </a:xfrm>
          <a:prstGeom prst="rect">
            <a:avLst/>
          </a:prstGeom>
          <a:ln w="0">
            <a:noFill/>
          </a:ln>
        </p:spPr>
      </p:sp>
      <p:sp>
        <p:nvSpPr>
          <p:cNvPr id="14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46E0-42C1-4053-9EC9-FF054BC5E0B8}" type="slidenum">
              <a:rPr b="0" lang="zh-CN" sz="1200" spc="-1" strike="noStrike">
                <a:solidFill>
                  <a:srgbClr val="000000"/>
                </a:solidFill>
                <a:latin typeface="Arial"/>
              </a:rPr>
              <a:t>&lt;number&gt;</a:t>
            </a:fld>
            <a:endParaRPr b="0" lang="en-US" sz="1200" spc="-1" strike="noStrike">
              <a:solidFill>
                <a:srgbClr val="54a0d8"/>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379440" y="685800"/>
            <a:ext cx="609912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7BDF-D7E8-4630-8F11-1EB3956B018D}" type="slidenum">
              <a:rPr b="0" lang="zh-CN" sz="1200" spc="-1" strike="noStrike">
                <a:solidFill>
                  <a:srgbClr val="000000"/>
                </a:solidFill>
                <a:latin typeface="Arial"/>
              </a:rPr>
              <a:t>&lt;number&gt;</a:t>
            </a:fld>
            <a:endParaRPr b="0" lang="en-US" sz="1200" spc="-1" strike="noStrike">
              <a:solidFill>
                <a:srgbClr val="54a0d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379440" y="685800"/>
            <a:ext cx="609912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0DD4-DEC8-486C-BB37-365922DCA415}" type="slidenum">
              <a:rPr b="0" lang="zh-CN" sz="1200" spc="-1" strike="noStrike">
                <a:solidFill>
                  <a:srgbClr val="000000"/>
                </a:solidFill>
                <a:latin typeface="Arial"/>
              </a:rPr>
              <a:t>&lt;number&gt;</a:t>
            </a:fld>
            <a:endParaRPr b="0" lang="en-US" sz="1200" spc="-1" strike="noStrike">
              <a:solidFill>
                <a:srgbClr val="54a0d8"/>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379440" y="685800"/>
            <a:ext cx="6099120" cy="3429000"/>
          </a:xfrm>
          <a:prstGeom prst="rect">
            <a:avLst/>
          </a:prstGeom>
          <a:ln w="0">
            <a:noFill/>
          </a:ln>
        </p:spPr>
      </p:sp>
      <p:sp>
        <p:nvSpPr>
          <p:cNvPr id="14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2582-1718-41BA-BEB8-B8BB66CFFFB5}"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685800" y="1143000"/>
            <a:ext cx="5486400" cy="3086280"/>
          </a:xfrm>
          <a:prstGeom prst="rect">
            <a:avLst/>
          </a:prstGeom>
          <a:ln w="0">
            <a:noFill/>
          </a:ln>
        </p:spPr>
      </p:sp>
      <p:sp>
        <p:nvSpPr>
          <p:cNvPr id="1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模板来自于 </a:t>
            </a:r>
            <a:r>
              <a:rPr b="0" lang="en-US" sz="1200" spc="-1" strike="noStrike">
                <a:solidFill>
                  <a:srgbClr val="000000"/>
                </a:solidFill>
                <a:latin typeface="Calibri"/>
              </a:rPr>
              <a:t>http://www.ypppt.com</a:t>
            </a:r>
            <a:endParaRPr b="0" lang="en-US" sz="1200" spc="-1" strike="noStrike">
              <a:solidFill>
                <a:srgbClr val="000000"/>
              </a:solidFill>
              <a:latin typeface="Calibri"/>
            </a:endParaRPr>
          </a:p>
        </p:txBody>
      </p:sp>
      <p:sp>
        <p:nvSpPr>
          <p:cNvPr id="14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6B34-83D0-4FA5-B9A2-FD9DEFBD48DC}" type="slidenum">
              <a:rPr b="0" lang="zh-CN" sz="1200" spc="-1" strike="noStrike">
                <a:solidFill>
                  <a:srgbClr val="000000"/>
                </a:solidFill>
                <a:latin typeface="Calibri"/>
              </a:rPr>
              <a:t>&lt;number&gt;</a:t>
            </a:fld>
            <a:endParaRPr b="0" lang="en-US" sz="1200" spc="-1" strike="noStrike">
              <a:solidFill>
                <a:srgbClr val="54a0d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379440" y="685800"/>
            <a:ext cx="6099120" cy="3429000"/>
          </a:xfrm>
          <a:prstGeom prst="rect">
            <a:avLst/>
          </a:prstGeom>
          <a:ln w="0">
            <a:noFill/>
          </a:ln>
        </p:spPr>
      </p:sp>
      <p:sp>
        <p:nvSpPr>
          <p:cNvPr id="13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4F01-72F3-40C9-A15E-19EAE6105E53}"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379440" y="685800"/>
            <a:ext cx="609912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010D-379A-43BD-B7D2-E8850A175AE0}"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379440" y="685800"/>
            <a:ext cx="6099120" cy="3429000"/>
          </a:xfrm>
          <a:prstGeom prst="rect">
            <a:avLst/>
          </a:prstGeom>
          <a:ln w="0">
            <a:noFill/>
          </a:ln>
        </p:spPr>
      </p:sp>
      <p:sp>
        <p:nvSpPr>
          <p:cNvPr id="13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637F-54F2-4A4F-A522-81922397E96A}"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379440" y="685800"/>
            <a:ext cx="6099120" cy="3429000"/>
          </a:xfrm>
          <a:prstGeom prst="rect">
            <a:avLst/>
          </a:prstGeom>
          <a:ln w="0">
            <a:noFill/>
          </a:ln>
        </p:spPr>
      </p:sp>
      <p:sp>
        <p:nvSpPr>
          <p:cNvPr id="13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697A-A0E4-4106-92EC-7E029A0CF213}"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379440" y="685800"/>
            <a:ext cx="6099120" cy="3429000"/>
          </a:xfrm>
          <a:prstGeom prst="rect">
            <a:avLst/>
          </a:prstGeom>
          <a:ln w="0">
            <a:noFill/>
          </a:ln>
        </p:spPr>
      </p:sp>
      <p:sp>
        <p:nvSpPr>
          <p:cNvPr id="14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B956-3EBD-4430-A044-0B8ED1BAFBA9}" type="slidenum">
              <a:rPr b="0" lang="zh-CN" sz="1200" spc="-1" strike="noStrike">
                <a:solidFill>
                  <a:srgbClr val="54a0d8"/>
                </a:solidFill>
                <a:latin typeface="Arial"/>
              </a:rPr>
              <a:t>&lt;number&gt;</a:t>
            </a:fld>
            <a:endParaRPr b="0" lang="en-US" sz="1200" spc="-1" strike="noStrike">
              <a:solidFill>
                <a:srgbClr val="54a0d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379440" y="685800"/>
            <a:ext cx="6099120" cy="3429000"/>
          </a:xfrm>
          <a:prstGeom prst="rect">
            <a:avLst/>
          </a:prstGeom>
          <a:ln w="0">
            <a:noFill/>
          </a:ln>
        </p:spPr>
      </p:sp>
      <p:sp>
        <p:nvSpPr>
          <p:cNvPr id="14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BD08-D578-4B90-80E0-C639DF5B0835}" type="slidenum">
              <a:rPr b="0" lang="zh-CN" sz="1200" spc="-1" strike="noStrike">
                <a:solidFill>
                  <a:srgbClr val="000000"/>
                </a:solidFill>
                <a:latin typeface="Arial"/>
              </a:rPr>
              <a:t>&lt;number&gt;</a:t>
            </a:fld>
            <a:endParaRPr b="0" lang="en-US" sz="1200" spc="-1" strike="noStrike">
              <a:solidFill>
                <a:srgbClr val="54a0d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9"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9D57DD-516B-4C45-9F59-333C27494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40BE53-7002-4CBF-87F4-8D44ED39C0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1F7C3-F6B6-4DFB-ACD5-C9155414EB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4"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5"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A02E0-8DC9-4269-953D-B5CCAD99BD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8"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9"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FDDBD-829D-40E3-9C17-573D75D522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2"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3"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398FE-9C30-4269-9F02-89961E8519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6"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E7C76C-00A0-447A-8F02-DE6B229B4A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9"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0"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1"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794212-61C1-4C11-AE84-73E8642599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4"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5"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6"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7"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8"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71C218-2C32-4E87-9CB9-29B5B88E3A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8A62B5-1F72-4DDE-8C01-27DC046EF9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5"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7174BB-7B23-4CB7-BBC5-DD5BCEAAB6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67CAE1-3254-4002-B170-E77192173A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0"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1A684D-3DD1-4BD9-893B-9B0CFBA45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AA67F7-2C16-4B99-A25E-E159ACB986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A29D43-E8E3-43E7-82A4-338C591DDF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5"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6"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0F8632-4D93-451B-9864-98ABE2374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89"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0"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1A352-3E1B-46C2-B251-2C1ADB73B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3"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4"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6859A1-E25D-4AAB-9999-FAFADFF34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97"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41607B-C641-4B4E-8013-ABE199E3BC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0"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1"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2"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3A2210-149E-4C3F-A938-42A0C59A12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3"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4"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5"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6"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7"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5"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6"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7"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8"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09"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A3DBAE-778C-4129-A182-DECF01ED2E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67E619-99BF-43EA-A538-DEDBF5ED4A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6"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94AE5B-37F9-4327-91C9-8F55F39527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9C6C8F-8505-4C18-861B-4E683877D5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1"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D57D1E-F52C-47F1-BCB7-696934022E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91F73D-17D7-4EC6-8819-7CECDD5C79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38E42-6991-4A30-BB39-13CAD776A9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6"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27"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5EB3D-CA59-4E1D-823F-8B3CD730F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0"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1"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61CEA9-FD60-4260-B88B-42E147A820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4"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85924-EFFD-4ED8-A1E9-26BA5CE6E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529BA-7BE7-413E-AC06-A427B5B30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38"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75AFE0-39BA-447C-9CF7-D49597F510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1"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2"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3"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5C5952-3106-4B7B-9695-485AE4E840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6"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7"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8"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49"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50"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39629B-720F-4AB0-8958-C5A06086F3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BE633A-4B9F-4A36-AE75-847FF13681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7"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72F48C-91C5-488E-97D8-7D44AFE19F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8C76E1-C7D9-49E6-8DC6-258526AA65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2"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21CDDE-0443-4CDD-BD7F-79AAAA54B0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B39766-A4D9-4BF9-94B9-DF1058D967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05E728-072F-4CA7-A10B-C5FAA224A7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7"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68"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5A1754-DC1A-4722-BE1C-3BFB21544F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7E901-2A2C-4CE2-A83F-575BE164F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1"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2"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455BA-49E8-470B-B8AB-97370D44E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5"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6"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B3305-90CA-457D-99DA-EF6F968B0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79"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92B80-F923-4057-88A3-C669EF4ACA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2"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3"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4"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078BD0-42E3-4BD0-8B60-D973619130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7"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8"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89"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0"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1"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1555E1-297E-4432-955D-CF37AB7DF3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FDAC5B-D895-4F3F-B374-318A8A3D7A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98"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F50D26-57E9-4521-9D5D-DE79025A27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0"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FD717B-D700-4C3C-B0DC-D866D46039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3"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1FC74F-A128-4413-9FAC-BEC84756E6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A3FA5F-F83C-4B58-B8B2-749C97EE9B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8D84A-9B8D-4320-8635-88A97A951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561BFB-2FF7-4EC3-82A6-44CE2E6849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07"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8"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09"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3AE2B0-3117-4CEA-9370-5F6CCBA786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1"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2"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3"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76905C-C593-4336-A2E3-0E062145B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6"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17"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564619-B2E5-480C-82D0-0870B7F2B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0"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637FB5-5C14-4270-B502-386953A306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22"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3"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4"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5"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12828D-C1B7-4BC4-B067-7EECA2B912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27"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8"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29"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0"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1"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32"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DE3584-C8A8-47C9-81C3-1191A71462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FD4938-9322-47C8-9292-D858CACC62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9"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A2AC3A-31D2-4876-AFA0-0381F633E4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D19B46-C28D-4D35-82AF-586C5BA18B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9"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632F3-9714-4120-B8BF-73F58DA9F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4"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04D32B-B0A1-47E2-8C5C-02BBB9DD2A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3FB324-FCC0-4CA7-80B0-A2E4E986B1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21D1AD-4E16-4250-993C-F80C823C35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48"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9"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0"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CBF74-5D66-4A33-8C2D-66CEDFBEFE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3"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4"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5FACC6-5599-463D-B587-00A1B271A8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56"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7"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8"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559945-D272-4A46-970C-5420F58135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1"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0B1DA1-BA84-47E7-B93A-2E6E45FAD4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4"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5"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6"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026F8E-FA98-42D4-A2CF-0375D27EDE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69"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0"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1"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2"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73"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F00367-A70A-4D2A-9876-F07BB072CB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A008A6-F53B-403E-801B-F65BD22555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5196D-3F56-42B9-946A-30C51F249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0"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7429A3-4CF9-43AA-8082-1B76E29729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2"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ECFE8B-F4F6-4885-BFD0-88A9A57137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4"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5"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C8CF33-DA06-4EE9-B9FB-8A9350F687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DABF27-FE5A-4F2B-9FF3-2668074701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15E9E7-BBD2-470C-BF54-F23A2C4375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0"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1"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B972DD-0951-487E-A4F2-3393ADEAF1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4"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5"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34DC0E-FA97-4A98-9C34-1D96B3B1D0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8"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9"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AD1F8A-778A-46A9-B53A-4049133902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01"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2"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155652-A5FA-40C5-98ED-BC4324E614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04"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5"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6"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07"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805640-4E38-4830-BD3C-396B21A996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2204B-D960-4DA5-830D-680EBBCF5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09"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0"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1"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2"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3"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14"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746DA8-D807-4A63-9074-30C56C843A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51A246-023D-4CB1-B9BD-AAAF1F8B779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1"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012D7D-7D7A-4756-9BAB-E70CE2BD78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C2B9D4-88C4-4AB6-8156-61D18D9E6C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25"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6"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E7668D-41C2-4EBC-9D53-81AB807967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39F69D-1273-451F-9C38-ABFFA289F5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C5C714-2F4D-46F7-A32E-2415682DB8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1"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2"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886C1B-0D6C-4B3E-8F29-E2F1D20C35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4"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5"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6"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316741-CEC2-48D5-9513-EDCA2BCC94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9"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459516-BACF-402F-8BDC-05964B1CCA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4"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9C55-A8BC-4943-B281-069EFC51F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2"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3"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CC0FA8-5A05-4EFD-A8FC-3BBE3CFE16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6"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7"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48"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412BDE-AF5B-4C7F-9FF9-25DF6DE55D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0"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1"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2"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3"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4"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55"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1B4948-62E1-42CC-AF5E-71102EAAF2F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9818CF-E420-4CE8-87CA-6CF30434DC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2"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A0D1A1-B640-4E45-A1D8-92BCC9F882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E5B842-8134-45CF-A470-67B713FF34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66"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7"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8F7B49-F5E6-4647-9773-728A6AB9EC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4BF85B-DC59-4AD3-A12D-A86EBEA2C0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304E1E-E526-41A6-858A-F0E4593D4E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1"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2"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3"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09E6D7-5311-4FF0-88A7-5B83264BAE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8"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9"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C72F-B510-420A-8602-D5FE2F2D7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5"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6"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77"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D9BD83-314F-480C-BFFA-3DE0CA2395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79"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0"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1"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18273A-396D-444D-9260-8239783952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3"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4"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1E427E-BC2F-41E2-ADE5-9FC52AA5A3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6"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7"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8"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89"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64DD18-604B-4DA5-9811-F70E66C215C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91"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2"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3"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4"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5"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6"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22FBAB-9977-499E-AF8B-F8813F8D87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2ACA60-32F6-4387-A58C-F5A88525B65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3"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F59919-B6CA-4BA5-AE43-55644B743A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5"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F0377A-ADED-428A-88F5-539CD8275F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8"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5A9468-BF5E-41EB-A812-0D65D5A8DE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C2D57D-CFFC-4FBB-B449-A777BF5B73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2"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C8863-E24C-43AB-ADBD-7A7E0AF82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D1CCA1-AF4E-4212-A5AA-71C110EE95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3"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4"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D2BAD3-1642-4106-B8A0-731ED87EC2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16"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7"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8"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03010D-F965-4A55-B0FD-9FE5B01FD1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1"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2"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DA6107-480E-4DEC-BCF9-D2CD11C118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24"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5"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431BC6-BFF2-4163-96CF-72B5D8C235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27"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8"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29"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0"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BC5C3D-2EF1-4E8B-8735-974ED1E01C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3"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4"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5"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6"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37"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CFFF54E-33A5-4766-B8EE-E600B8C0ED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100A9-B27B-4CF3-B9F7-4445E5965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9"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1"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9C867-C782-4F9D-8BAD-5E4FD6F45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4"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5"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7"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8"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614B8-D655-4F53-AA5E-9A3BE547F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7"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2"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6"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7"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0"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7"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09"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2"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3"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5"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16"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22"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8"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26"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7"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2"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3"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6"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7"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0"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1"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3"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4"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7"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9"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2"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3"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4"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5"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56"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60"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65"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0"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1"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4"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5"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8"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9"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2"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5"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7"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0"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1"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2"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3"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94"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98"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3"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8"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09"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2"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3"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6"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7"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3"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4"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0"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3"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4"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5"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8"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9"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0"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1"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32"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2"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57"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2"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3"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7"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8"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6"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67"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0"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1"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4"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7"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79"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2"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3"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4"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5"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86"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95F6E-E8D2-4E82-B4AA-A59A2CDEB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3"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273E3-FB4B-4D31-ABB4-A43548A5D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D927E-D81A-41FA-BCFA-11EF62BDF5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98"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2F8D3-D9AC-4709-9284-CFFE9BC35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D07B7-0CF3-4B1D-B524-75E5414A7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1"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22"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838080" y="365040"/>
            <a:ext cx="10522080" cy="6145560"/>
          </a:xfrm>
          <a:prstGeom prst="rect">
            <a:avLst/>
          </a:prstGeom>
          <a:noFill/>
          <a:ln w="0">
            <a:noFill/>
          </a:ln>
        </p:spPr>
        <p:txBody>
          <a:bodyPr lIns="0" rIns="0" tIns="0" bIns="0" anchor="ctr">
            <a:noAutofit/>
          </a:bodyPr>
          <a:p>
            <a:pPr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62CEE-AA49-4A5D-A556-4573BB95D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3" name="PlaceHolder 3"/>
          <p:cNvSpPr>
            <a:spLocks noGrp="1"/>
          </p:cNvSpPr>
          <p:nvPr>
            <p:ph/>
          </p:nvPr>
        </p:nvSpPr>
        <p:spPr>
          <a:xfrm>
            <a:off x="622980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4"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66E33-50EE-4864-B4C0-E9AF32B7B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838080" y="1825200"/>
            <a:ext cx="51346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7"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08" name="PlaceHolder 4"/>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699DD-C9A3-4908-ADA6-635C4BED7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1"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880DC-EF10-480A-8C56-CFD04557B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5" name="PlaceHolder 3"/>
          <p:cNvSpPr>
            <a:spLocks noGrp="1"/>
          </p:cNvSpPr>
          <p:nvPr>
            <p:ph/>
          </p:nvPr>
        </p:nvSpPr>
        <p:spPr>
          <a:xfrm>
            <a:off x="838080" y="4098240"/>
            <a:ext cx="105220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92E0E-D2A8-4167-87D2-2853DDCD7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3808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8" name="PlaceHolder 3"/>
          <p:cNvSpPr>
            <a:spLocks noGrp="1"/>
          </p:cNvSpPr>
          <p:nvPr>
            <p:ph/>
          </p:nvPr>
        </p:nvSpPr>
        <p:spPr>
          <a:xfrm>
            <a:off x="6229800" y="182520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19" name="PlaceHolder 4"/>
          <p:cNvSpPr>
            <a:spLocks noGrp="1"/>
          </p:cNvSpPr>
          <p:nvPr>
            <p:ph/>
          </p:nvPr>
        </p:nvSpPr>
        <p:spPr>
          <a:xfrm>
            <a:off x="83808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0" name="PlaceHolder 5"/>
          <p:cNvSpPr>
            <a:spLocks noGrp="1"/>
          </p:cNvSpPr>
          <p:nvPr>
            <p:ph/>
          </p:nvPr>
        </p:nvSpPr>
        <p:spPr>
          <a:xfrm>
            <a:off x="6229800" y="4098240"/>
            <a:ext cx="51346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BB508-AE84-4C2E-8E70-DE5B2CCB5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3" name="PlaceHolder 3"/>
          <p:cNvSpPr>
            <a:spLocks noGrp="1"/>
          </p:cNvSpPr>
          <p:nvPr>
            <p:ph/>
          </p:nvPr>
        </p:nvSpPr>
        <p:spPr>
          <a:xfrm>
            <a:off x="439596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4" name="PlaceHolder 4"/>
          <p:cNvSpPr>
            <a:spLocks noGrp="1"/>
          </p:cNvSpPr>
          <p:nvPr>
            <p:ph/>
          </p:nvPr>
        </p:nvSpPr>
        <p:spPr>
          <a:xfrm>
            <a:off x="7953480" y="182520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5" name="PlaceHolder 5"/>
          <p:cNvSpPr>
            <a:spLocks noGrp="1"/>
          </p:cNvSpPr>
          <p:nvPr>
            <p:ph/>
          </p:nvPr>
        </p:nvSpPr>
        <p:spPr>
          <a:xfrm>
            <a:off x="8380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6" name="PlaceHolder 6"/>
          <p:cNvSpPr>
            <a:spLocks noGrp="1"/>
          </p:cNvSpPr>
          <p:nvPr>
            <p:ph/>
          </p:nvPr>
        </p:nvSpPr>
        <p:spPr>
          <a:xfrm>
            <a:off x="439596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327" name="PlaceHolder 7"/>
          <p:cNvSpPr>
            <a:spLocks noGrp="1"/>
          </p:cNvSpPr>
          <p:nvPr>
            <p:ph/>
          </p:nvPr>
        </p:nvSpPr>
        <p:spPr>
          <a:xfrm>
            <a:off x="7953480" y="4098240"/>
            <a:ext cx="33879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3913C-42A1-4CB8-963F-1CA47C80A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417F74-9D3A-47E7-9696-31FDCB0613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4" name="PlaceHolder 2"/>
          <p:cNvSpPr>
            <a:spLocks noGrp="1"/>
          </p:cNvSpPr>
          <p:nvPr>
            <p:ph type="subTitle"/>
          </p:nvPr>
        </p:nvSpPr>
        <p:spPr>
          <a:xfrm>
            <a:off x="838080" y="1825200"/>
            <a:ext cx="105220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CF4316-7A51-457F-9A99-1C3D4CB6B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838080" y="1825200"/>
            <a:ext cx="105220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BF4E3-ABFB-40C5-A3DA-8C0BE599E567}"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slideLayout" Target="../slideLayouts/slideLayout73.xml"/><Relationship Id="rId19" Type="http://schemas.openxmlformats.org/officeDocument/2006/relationships/slideLayout" Target="../slideLayouts/slideLayout74.xml"/><Relationship Id="rId20" Type="http://schemas.openxmlformats.org/officeDocument/2006/relationships/slideLayout" Target="../slideLayouts/slideLayout75.xml"/><Relationship Id="rId21" Type="http://schemas.openxmlformats.org/officeDocument/2006/relationships/slideLayout" Target="../slideLayouts/slideLayout76.xml"/><Relationship Id="rId22" Type="http://schemas.openxmlformats.org/officeDocument/2006/relationships/slideLayout" Target="../slideLayouts/slideLayout77.xml"/><Relationship Id="rId23" Type="http://schemas.openxmlformats.org/officeDocument/2006/relationships/slideLayout" Target="../slideLayouts/slideLayout78.xml"/><Relationship Id="rId24" Type="http://schemas.openxmlformats.org/officeDocument/2006/relationships/slideLayout" Target="../slideLayouts/slideLayout79.xml"/><Relationship Id="rId25" Type="http://schemas.openxmlformats.org/officeDocument/2006/relationships/slideLayout" Target="../slideLayouts/slideLayout80.xml"/><Relationship Id="rId26" Type="http://schemas.openxmlformats.org/officeDocument/2006/relationships/slideLayout" Target="../slideLayouts/slideLayout81.xml"/><Relationship Id="rId27" Type="http://schemas.openxmlformats.org/officeDocument/2006/relationships/slideLayout" Target="../slideLayouts/slideLayout82.xml"/><Relationship Id="rId28" Type="http://schemas.openxmlformats.org/officeDocument/2006/relationships/slideLayout" Target="../slideLayouts/slideLayout83.xml"/><Relationship Id="rId2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1320" y="590400"/>
            <a:ext cx="10515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lick to edit the title text format</a:t>
            </a:r>
            <a:endParaRPr b="0" lang="en-US" sz="2400" spc="-1" strike="noStrike">
              <a:solidFill>
                <a:srgbClr val="4d4d4d"/>
              </a:solidFill>
              <a:latin typeface="Arial"/>
            </a:endParaRPr>
          </a:p>
        </p:txBody>
      </p:sp>
      <p:sp>
        <p:nvSpPr>
          <p:cNvPr id="1" name="PlaceHolder 2"/>
          <p:cNvSpPr>
            <a:spLocks noGrp="1"/>
          </p:cNvSpPr>
          <p:nvPr>
            <p:ph type="body"/>
          </p:nvPr>
        </p:nvSpPr>
        <p:spPr>
          <a:xfrm>
            <a:off x="841320" y="1600200"/>
            <a:ext cx="10515600" cy="4276800"/>
          </a:xfrm>
          <a:prstGeom prst="rect">
            <a:avLst/>
          </a:prstGeom>
          <a:noFill/>
          <a:ln w="0">
            <a:noFill/>
          </a:ln>
        </p:spPr>
        <p:txBody>
          <a:bodyPr lIns="90000" rIns="90000" tIns="46800" bIns="46800" anchor="t">
            <a:normAutofit/>
          </a:bodyPr>
          <a:p>
            <a:pPr marL="343080" indent="-34308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Click to edit the outline text format</a:t>
            </a:r>
            <a:endParaRPr b="0" lang="en-US" sz="2000" spc="-1" strike="noStrike">
              <a:solidFill>
                <a:srgbClr val="e96969"/>
              </a:solidFill>
              <a:latin typeface="Arial"/>
            </a:endParaRPr>
          </a:p>
          <a:p>
            <a:pPr lvl="1" marL="743040" indent="-28584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cond Outline Level</a:t>
            </a:r>
            <a:endParaRPr b="0" lang="en-US" sz="2000" spc="-1" strike="noStrike">
              <a:solidFill>
                <a:srgbClr val="e96969"/>
              </a:solidFill>
              <a:latin typeface="Arial"/>
            </a:endParaRPr>
          </a:p>
          <a:p>
            <a:pPr lvl="2" marL="11430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Third Outline Level</a:t>
            </a:r>
            <a:endParaRPr b="0" lang="en-US" sz="2000" spc="-1" strike="noStrike">
              <a:solidFill>
                <a:srgbClr val="e96969"/>
              </a:solidFill>
              <a:latin typeface="Arial"/>
            </a:endParaRPr>
          </a:p>
          <a:p>
            <a:pPr lvl="3" marL="16002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ourth Outline Level</a:t>
            </a:r>
            <a:endParaRPr b="0" lang="en-US" sz="2000" spc="-1" strike="noStrike">
              <a:solidFill>
                <a:srgbClr val="e96969"/>
              </a:solidFill>
              <a:latin typeface="Arial"/>
            </a:endParaRPr>
          </a:p>
          <a:p>
            <a:pPr lvl="4"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ifth Outline Level</a:t>
            </a:r>
            <a:endParaRPr b="0" lang="en-US" sz="2000" spc="-1" strike="noStrike">
              <a:solidFill>
                <a:srgbClr val="e96969"/>
              </a:solidFill>
              <a:latin typeface="Arial"/>
            </a:endParaRPr>
          </a:p>
          <a:p>
            <a:pPr lvl="5"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ixth Outline Level</a:t>
            </a:r>
            <a:endParaRPr b="0" lang="en-US" sz="2000" spc="-1" strike="noStrike">
              <a:solidFill>
                <a:srgbClr val="e96969"/>
              </a:solidFill>
              <a:latin typeface="Arial"/>
            </a:endParaRPr>
          </a:p>
          <a:p>
            <a:pPr lvl="6"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venth Outline Level</a:t>
            </a:r>
            <a:endParaRPr b="0" lang="en-US" sz="2000" spc="-1" strike="noStrike">
              <a:solidFill>
                <a:srgbClr val="e969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0"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1" name="PlaceHolder 3"/>
          <p:cNvSpPr>
            <a:spLocks noGrp="1"/>
          </p:cNvSpPr>
          <p:nvPr>
            <p:ph type="dt" idx="10"/>
          </p:nvPr>
        </p:nvSpPr>
        <p:spPr>
          <a:xfrm>
            <a:off x="837720" y="6356520"/>
            <a:ext cx="2745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11"/>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373" name="PlaceHolder 5"/>
          <p:cNvSpPr>
            <a:spLocks noGrp="1"/>
          </p:cNvSpPr>
          <p:nvPr>
            <p:ph type="sldNum" idx="12"/>
          </p:nvPr>
        </p:nvSpPr>
        <p:spPr>
          <a:xfrm>
            <a:off x="8615520" y="6356520"/>
            <a:ext cx="2744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ABAE-04FC-40CC-BB7A-7C0E764EA74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1"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2" name="PlaceHolder 3"/>
          <p:cNvSpPr>
            <a:spLocks noGrp="1"/>
          </p:cNvSpPr>
          <p:nvPr>
            <p:ph type="dt" idx="13"/>
          </p:nvPr>
        </p:nvSpPr>
        <p:spPr>
          <a:xfrm>
            <a:off x="837720" y="6356520"/>
            <a:ext cx="2745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14"/>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414" name="PlaceHolder 5"/>
          <p:cNvSpPr>
            <a:spLocks noGrp="1"/>
          </p:cNvSpPr>
          <p:nvPr>
            <p:ph type="sldNum" idx="15"/>
          </p:nvPr>
        </p:nvSpPr>
        <p:spPr>
          <a:xfrm>
            <a:off x="8615520" y="6356520"/>
            <a:ext cx="2744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FC2E-24B1-4A6E-8FB0-0EE62FA8306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2"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3" name="PlaceHolder 3"/>
          <p:cNvSpPr>
            <a:spLocks noGrp="1"/>
          </p:cNvSpPr>
          <p:nvPr>
            <p:ph type="dt" idx="16"/>
          </p:nvPr>
        </p:nvSpPr>
        <p:spPr>
          <a:xfrm>
            <a:off x="837720" y="6356520"/>
            <a:ext cx="2745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17"/>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455" name="PlaceHolder 5"/>
          <p:cNvSpPr>
            <a:spLocks noGrp="1"/>
          </p:cNvSpPr>
          <p:nvPr>
            <p:ph type="sldNum" idx="18"/>
          </p:nvPr>
        </p:nvSpPr>
        <p:spPr>
          <a:xfrm>
            <a:off x="8615520" y="6356520"/>
            <a:ext cx="2744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6BFE-93B0-48FC-BA99-6AECD67B17D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3"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4" name="PlaceHolder 3"/>
          <p:cNvSpPr>
            <a:spLocks noGrp="1"/>
          </p:cNvSpPr>
          <p:nvPr>
            <p:ph type="dt" idx="19"/>
          </p:nvPr>
        </p:nvSpPr>
        <p:spPr>
          <a:xfrm>
            <a:off x="837720" y="6356520"/>
            <a:ext cx="2745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5" name="PlaceHolder 4"/>
          <p:cNvSpPr>
            <a:spLocks noGrp="1"/>
          </p:cNvSpPr>
          <p:nvPr>
            <p:ph type="ftr" idx="20"/>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496" name="PlaceHolder 5"/>
          <p:cNvSpPr>
            <a:spLocks noGrp="1"/>
          </p:cNvSpPr>
          <p:nvPr>
            <p:ph type="sldNum" idx="21"/>
          </p:nvPr>
        </p:nvSpPr>
        <p:spPr>
          <a:xfrm>
            <a:off x="8615520" y="6356520"/>
            <a:ext cx="2744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1515-9A62-4FE3-8B31-356D0E4E0EB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4"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35" name="PlaceHolder 3"/>
          <p:cNvSpPr>
            <a:spLocks noGrp="1"/>
          </p:cNvSpPr>
          <p:nvPr>
            <p:ph type="dt" idx="22"/>
          </p:nvPr>
        </p:nvSpPr>
        <p:spPr>
          <a:xfrm>
            <a:off x="837720" y="6356520"/>
            <a:ext cx="2745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6" name="PlaceHolder 4"/>
          <p:cNvSpPr>
            <a:spLocks noGrp="1"/>
          </p:cNvSpPr>
          <p:nvPr>
            <p:ph type="ftr" idx="23"/>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537" name="PlaceHolder 5"/>
          <p:cNvSpPr>
            <a:spLocks noGrp="1"/>
          </p:cNvSpPr>
          <p:nvPr>
            <p:ph type="sldNum" idx="24"/>
          </p:nvPr>
        </p:nvSpPr>
        <p:spPr>
          <a:xfrm>
            <a:off x="8615520" y="6356520"/>
            <a:ext cx="2744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6738-2BC2-40A2-A096-41A9ACDEBE7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5"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6" name="PlaceHolder 3"/>
          <p:cNvSpPr>
            <a:spLocks noGrp="1"/>
          </p:cNvSpPr>
          <p:nvPr>
            <p:ph type="dt" idx="25"/>
          </p:nvPr>
        </p:nvSpPr>
        <p:spPr>
          <a:xfrm>
            <a:off x="837720" y="6356520"/>
            <a:ext cx="2745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7" name="PlaceHolder 4"/>
          <p:cNvSpPr>
            <a:spLocks noGrp="1"/>
          </p:cNvSpPr>
          <p:nvPr>
            <p:ph type="ftr" idx="26"/>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578" name="PlaceHolder 5"/>
          <p:cNvSpPr>
            <a:spLocks noGrp="1"/>
          </p:cNvSpPr>
          <p:nvPr>
            <p:ph type="sldNum" idx="27"/>
          </p:nvPr>
        </p:nvSpPr>
        <p:spPr>
          <a:xfrm>
            <a:off x="8615520" y="6356520"/>
            <a:ext cx="2744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14BE-6FEA-4DA2-8FB0-FB6D0A9D397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6"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17" name="PlaceHolder 3"/>
          <p:cNvSpPr>
            <a:spLocks noGrp="1"/>
          </p:cNvSpPr>
          <p:nvPr>
            <p:ph type="dt" idx="28"/>
          </p:nvPr>
        </p:nvSpPr>
        <p:spPr>
          <a:xfrm>
            <a:off x="837720" y="6356520"/>
            <a:ext cx="2745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18" name="PlaceHolder 4"/>
          <p:cNvSpPr>
            <a:spLocks noGrp="1"/>
          </p:cNvSpPr>
          <p:nvPr>
            <p:ph type="ftr" idx="29"/>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619" name="PlaceHolder 5"/>
          <p:cNvSpPr>
            <a:spLocks noGrp="1"/>
          </p:cNvSpPr>
          <p:nvPr>
            <p:ph type="sldNum" idx="30"/>
          </p:nvPr>
        </p:nvSpPr>
        <p:spPr>
          <a:xfrm>
            <a:off x="8615520" y="6356520"/>
            <a:ext cx="2744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E55D-A6B4-492A-AE39-FFF756A8FDF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7"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58" name="PlaceHolder 3"/>
          <p:cNvSpPr>
            <a:spLocks noGrp="1"/>
          </p:cNvSpPr>
          <p:nvPr>
            <p:ph type="dt" idx="31"/>
          </p:nvPr>
        </p:nvSpPr>
        <p:spPr>
          <a:xfrm>
            <a:off x="837720" y="6356520"/>
            <a:ext cx="2745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59" name="PlaceHolder 4"/>
          <p:cNvSpPr>
            <a:spLocks noGrp="1"/>
          </p:cNvSpPr>
          <p:nvPr>
            <p:ph type="ftr" idx="32"/>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660" name="PlaceHolder 5"/>
          <p:cNvSpPr>
            <a:spLocks noGrp="1"/>
          </p:cNvSpPr>
          <p:nvPr>
            <p:ph type="sldNum" idx="33"/>
          </p:nvPr>
        </p:nvSpPr>
        <p:spPr>
          <a:xfrm>
            <a:off x="8615520" y="6356520"/>
            <a:ext cx="2744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BE0A-42EA-495F-902B-F792EB02515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98"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99" name="PlaceHolder 3"/>
          <p:cNvSpPr>
            <a:spLocks noGrp="1"/>
          </p:cNvSpPr>
          <p:nvPr>
            <p:ph type="dt" idx="34"/>
          </p:nvPr>
        </p:nvSpPr>
        <p:spPr>
          <a:xfrm>
            <a:off x="837720" y="6356520"/>
            <a:ext cx="2745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00" name="PlaceHolder 4"/>
          <p:cNvSpPr>
            <a:spLocks noGrp="1"/>
          </p:cNvSpPr>
          <p:nvPr>
            <p:ph type="ftr" idx="35"/>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701" name="PlaceHolder 5"/>
          <p:cNvSpPr>
            <a:spLocks noGrp="1"/>
          </p:cNvSpPr>
          <p:nvPr>
            <p:ph type="sldNum" idx="36"/>
          </p:nvPr>
        </p:nvSpPr>
        <p:spPr>
          <a:xfrm>
            <a:off x="8615520" y="6356520"/>
            <a:ext cx="2744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4892-DC59-49DC-B47E-0C8A94577FE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 name="PlaceHolder 3"/>
          <p:cNvSpPr>
            <a:spLocks noGrp="1"/>
          </p:cNvSpPr>
          <p:nvPr>
            <p:ph type="dt" idx="1"/>
          </p:nvPr>
        </p:nvSpPr>
        <p:spPr>
          <a:xfrm>
            <a:off x="837720" y="6356520"/>
            <a:ext cx="2745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42" name="PlaceHolder 5"/>
          <p:cNvSpPr>
            <a:spLocks noGrp="1"/>
          </p:cNvSpPr>
          <p:nvPr>
            <p:ph type="sldNum" idx="3"/>
          </p:nvPr>
        </p:nvSpPr>
        <p:spPr>
          <a:xfrm>
            <a:off x="8615520" y="6356520"/>
            <a:ext cx="274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9CA3-014C-4983-BF92-2C11B842E347}"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41320" y="590400"/>
            <a:ext cx="10515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lick to edit the title text format</a:t>
            </a:r>
            <a:endParaRPr b="0" lang="en-US" sz="2400" spc="-1" strike="noStrike">
              <a:solidFill>
                <a:srgbClr val="4d4d4d"/>
              </a:solidFill>
              <a:latin typeface="Arial"/>
            </a:endParaRPr>
          </a:p>
        </p:txBody>
      </p:sp>
      <p:sp>
        <p:nvSpPr>
          <p:cNvPr id="80" name="PlaceHolder 2"/>
          <p:cNvSpPr>
            <a:spLocks noGrp="1"/>
          </p:cNvSpPr>
          <p:nvPr>
            <p:ph type="body"/>
          </p:nvPr>
        </p:nvSpPr>
        <p:spPr>
          <a:xfrm>
            <a:off x="841320" y="1600200"/>
            <a:ext cx="10515600" cy="4276800"/>
          </a:xfrm>
          <a:prstGeom prst="rect">
            <a:avLst/>
          </a:prstGeom>
          <a:noFill/>
          <a:ln w="0">
            <a:noFill/>
          </a:ln>
        </p:spPr>
        <p:txBody>
          <a:bodyPr lIns="90000" rIns="90000" tIns="46800" bIns="46800" anchor="t">
            <a:normAutofit/>
          </a:bodyPr>
          <a:p>
            <a:pPr marL="343080" indent="-34308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Click to edit the outline text format</a:t>
            </a:r>
            <a:endParaRPr b="0" lang="en-US" sz="2000" spc="-1" strike="noStrike">
              <a:solidFill>
                <a:srgbClr val="e96969"/>
              </a:solidFill>
              <a:latin typeface="Arial"/>
            </a:endParaRPr>
          </a:p>
          <a:p>
            <a:pPr lvl="1" marL="743040" indent="-28584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cond Outline Level</a:t>
            </a:r>
            <a:endParaRPr b="0" lang="en-US" sz="2000" spc="-1" strike="noStrike">
              <a:solidFill>
                <a:srgbClr val="e96969"/>
              </a:solidFill>
              <a:latin typeface="Arial"/>
            </a:endParaRPr>
          </a:p>
          <a:p>
            <a:pPr lvl="2" marL="11430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Third Outline Level</a:t>
            </a:r>
            <a:endParaRPr b="0" lang="en-US" sz="2000" spc="-1" strike="noStrike">
              <a:solidFill>
                <a:srgbClr val="e96969"/>
              </a:solidFill>
              <a:latin typeface="Arial"/>
            </a:endParaRPr>
          </a:p>
          <a:p>
            <a:pPr lvl="3" marL="16002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ourth Outline Level</a:t>
            </a:r>
            <a:endParaRPr b="0" lang="en-US" sz="2000" spc="-1" strike="noStrike">
              <a:solidFill>
                <a:srgbClr val="e96969"/>
              </a:solidFill>
              <a:latin typeface="Arial"/>
            </a:endParaRPr>
          </a:p>
          <a:p>
            <a:pPr lvl="4"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ifth Outline Level</a:t>
            </a:r>
            <a:endParaRPr b="0" lang="en-US" sz="2000" spc="-1" strike="noStrike">
              <a:solidFill>
                <a:srgbClr val="e96969"/>
              </a:solidFill>
              <a:latin typeface="Arial"/>
            </a:endParaRPr>
          </a:p>
          <a:p>
            <a:pPr lvl="5"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ixth Outline Level</a:t>
            </a:r>
            <a:endParaRPr b="0" lang="en-US" sz="2000" spc="-1" strike="noStrike">
              <a:solidFill>
                <a:srgbClr val="e96969"/>
              </a:solidFill>
              <a:latin typeface="Arial"/>
            </a:endParaRPr>
          </a:p>
          <a:p>
            <a:pPr lvl="6"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venth Outline Level</a:t>
            </a:r>
            <a:endParaRPr b="0" lang="en-US" sz="2000" spc="-1" strike="noStrike">
              <a:solidFill>
                <a:srgbClr val="e96969"/>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Freeform 5"/>
          <p:cNvSpPr/>
          <p:nvPr/>
        </p:nvSpPr>
        <p:spPr>
          <a:xfrm>
            <a:off x="11047320" y="0"/>
            <a:ext cx="457200" cy="549360"/>
          </a:xfrm>
          <a:custGeom>
            <a:avLst/>
            <a:gdLst>
              <a:gd name="textAreaLeft" fmla="*/ 0 w 457200"/>
              <a:gd name="textAreaRight" fmla="*/ 457560 w 457200"/>
              <a:gd name="textAreaTop" fmla="*/ 0 h 549360"/>
              <a:gd name="textAreaBottom" fmla="*/ 549720 h 549360"/>
            </a:gdLst>
            <a:ahLst/>
            <a:rect l="textAreaLeft" t="textAreaTop" r="textAreaRight" b="textAreaBottom"/>
            <a:pathLst>
              <a:path w="675" h="800">
                <a:moveTo>
                  <a:pt x="675" y="800"/>
                </a:moveTo>
                <a:lnTo>
                  <a:pt x="334" y="666"/>
                </a:lnTo>
                <a:lnTo>
                  <a:pt x="0" y="800"/>
                </a:lnTo>
                <a:lnTo>
                  <a:pt x="0" y="0"/>
                </a:lnTo>
                <a:lnTo>
                  <a:pt x="675" y="0"/>
                </a:lnTo>
                <a:lnTo>
                  <a:pt x="675" y="800"/>
                </a:lnTo>
                <a:close/>
              </a:path>
            </a:pathLst>
          </a:custGeom>
          <a:solidFill>
            <a:srgbClr val="1aa0da"/>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8" name="TextBox 4"/>
          <p:cNvSpPr/>
          <p:nvPr/>
        </p:nvSpPr>
        <p:spPr>
          <a:xfrm>
            <a:off x="11047320" y="95400"/>
            <a:ext cx="4478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327E-8D31-4AA5-9EFA-7D485E2FF5F5}" type="slidenum">
              <a:rPr b="0" lang="zh-CN" sz="1400" spc="-1" strike="noStrike">
                <a:solidFill>
                  <a:srgbClr val="f8f8f8"/>
                </a:solidFill>
                <a:latin typeface="微软雅黑"/>
                <a:ea typeface="微软雅黑"/>
              </a:rPr>
              <a:t>&lt;number&gt;</a:t>
            </a:fld>
            <a:endParaRPr b="0" lang="en-US" sz="1400" spc="-1" strike="noStrike">
              <a:solidFill>
                <a:srgbClr val="54a0d8"/>
              </a:solidFill>
              <a:latin typeface="Arial"/>
            </a:endParaRPr>
          </a:p>
        </p:txBody>
      </p:sp>
      <p:sp>
        <p:nvSpPr>
          <p:cNvPr id="119" name="PlaceHolder 1"/>
          <p:cNvSpPr>
            <a:spLocks noGrp="1"/>
          </p:cNvSpPr>
          <p:nvPr>
            <p:ph type="title"/>
          </p:nvPr>
        </p:nvSpPr>
        <p:spPr>
          <a:xfrm>
            <a:off x="841320" y="590400"/>
            <a:ext cx="10515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lick to edit the title text format</a:t>
            </a:r>
            <a:endParaRPr b="0" lang="en-US" sz="2400" spc="-1" strike="noStrike">
              <a:solidFill>
                <a:srgbClr val="4d4d4d"/>
              </a:solidFill>
              <a:latin typeface="Arial"/>
            </a:endParaRPr>
          </a:p>
        </p:txBody>
      </p:sp>
      <p:sp>
        <p:nvSpPr>
          <p:cNvPr id="120" name="PlaceHolder 2"/>
          <p:cNvSpPr>
            <a:spLocks noGrp="1"/>
          </p:cNvSpPr>
          <p:nvPr>
            <p:ph type="body"/>
          </p:nvPr>
        </p:nvSpPr>
        <p:spPr>
          <a:xfrm>
            <a:off x="841320" y="1600200"/>
            <a:ext cx="10515600" cy="4276800"/>
          </a:xfrm>
          <a:prstGeom prst="rect">
            <a:avLst/>
          </a:prstGeom>
          <a:noFill/>
          <a:ln w="0">
            <a:noFill/>
          </a:ln>
        </p:spPr>
        <p:txBody>
          <a:bodyPr lIns="90000" rIns="90000" tIns="46800" bIns="46800" anchor="t">
            <a:normAutofit/>
          </a:bodyPr>
          <a:p>
            <a:pPr marL="343080" indent="-34308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Click to edit the outline text format</a:t>
            </a:r>
            <a:endParaRPr b="0" lang="en-US" sz="2000" spc="-1" strike="noStrike">
              <a:solidFill>
                <a:srgbClr val="e96969"/>
              </a:solidFill>
              <a:latin typeface="Arial"/>
            </a:endParaRPr>
          </a:p>
          <a:p>
            <a:pPr lvl="1" marL="743040" indent="-28584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cond Outline Level</a:t>
            </a:r>
            <a:endParaRPr b="0" lang="en-US" sz="2000" spc="-1" strike="noStrike">
              <a:solidFill>
                <a:srgbClr val="e96969"/>
              </a:solidFill>
              <a:latin typeface="Arial"/>
            </a:endParaRPr>
          </a:p>
          <a:p>
            <a:pPr lvl="2" marL="11430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Third Outline Level</a:t>
            </a:r>
            <a:endParaRPr b="0" lang="en-US" sz="2000" spc="-1" strike="noStrike">
              <a:solidFill>
                <a:srgbClr val="e96969"/>
              </a:solidFill>
              <a:latin typeface="Arial"/>
            </a:endParaRPr>
          </a:p>
          <a:p>
            <a:pPr lvl="3" marL="16002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ourth Outline Level</a:t>
            </a:r>
            <a:endParaRPr b="0" lang="en-US" sz="2000" spc="-1" strike="noStrike">
              <a:solidFill>
                <a:srgbClr val="e96969"/>
              </a:solidFill>
              <a:latin typeface="Arial"/>
            </a:endParaRPr>
          </a:p>
          <a:p>
            <a:pPr lvl="4"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ifth Outline Level</a:t>
            </a:r>
            <a:endParaRPr b="0" lang="en-US" sz="2000" spc="-1" strike="noStrike">
              <a:solidFill>
                <a:srgbClr val="e96969"/>
              </a:solidFill>
              <a:latin typeface="Arial"/>
            </a:endParaRPr>
          </a:p>
          <a:p>
            <a:pPr lvl="5"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ixth Outline Level</a:t>
            </a:r>
            <a:endParaRPr b="0" lang="en-US" sz="2000" spc="-1" strike="noStrike">
              <a:solidFill>
                <a:srgbClr val="e96969"/>
              </a:solidFill>
              <a:latin typeface="Arial"/>
            </a:endParaRPr>
          </a:p>
          <a:p>
            <a:pPr lvl="6"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venth Outline Level</a:t>
            </a:r>
            <a:endParaRPr b="0" lang="en-US" sz="2000" spc="-1" strike="noStrike">
              <a:solidFill>
                <a:srgbClr val="e9696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41320" y="590400"/>
            <a:ext cx="10515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lick to edit the title text format</a:t>
            </a:r>
            <a:endParaRPr b="0" lang="en-US" sz="2400" spc="-1" strike="noStrike">
              <a:solidFill>
                <a:srgbClr val="4d4d4d"/>
              </a:solidFill>
              <a:latin typeface="Arial"/>
            </a:endParaRPr>
          </a:p>
        </p:txBody>
      </p:sp>
      <p:sp>
        <p:nvSpPr>
          <p:cNvPr id="158" name="PlaceHolder 2"/>
          <p:cNvSpPr>
            <a:spLocks noGrp="1"/>
          </p:cNvSpPr>
          <p:nvPr>
            <p:ph type="body"/>
          </p:nvPr>
        </p:nvSpPr>
        <p:spPr>
          <a:xfrm>
            <a:off x="841320" y="1600200"/>
            <a:ext cx="10515600" cy="4276800"/>
          </a:xfrm>
          <a:prstGeom prst="rect">
            <a:avLst/>
          </a:prstGeom>
          <a:noFill/>
          <a:ln w="0">
            <a:noFill/>
          </a:ln>
        </p:spPr>
        <p:txBody>
          <a:bodyPr lIns="90000" rIns="90000" tIns="46800" bIns="46800" anchor="t">
            <a:normAutofit/>
          </a:bodyPr>
          <a:p>
            <a:pPr marL="343080" indent="-34308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Click to edit the outline text format</a:t>
            </a:r>
            <a:endParaRPr b="0" lang="en-US" sz="2000" spc="-1" strike="noStrike">
              <a:solidFill>
                <a:srgbClr val="e96969"/>
              </a:solidFill>
              <a:latin typeface="Arial"/>
            </a:endParaRPr>
          </a:p>
          <a:p>
            <a:pPr lvl="1" marL="743040" indent="-28584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cond Outline Level</a:t>
            </a:r>
            <a:endParaRPr b="0" lang="en-US" sz="2000" spc="-1" strike="noStrike">
              <a:solidFill>
                <a:srgbClr val="e96969"/>
              </a:solidFill>
              <a:latin typeface="Arial"/>
            </a:endParaRPr>
          </a:p>
          <a:p>
            <a:pPr lvl="2" marL="11430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Third Outline Level</a:t>
            </a:r>
            <a:endParaRPr b="0" lang="en-US" sz="2000" spc="-1" strike="noStrike">
              <a:solidFill>
                <a:srgbClr val="e96969"/>
              </a:solidFill>
              <a:latin typeface="Arial"/>
            </a:endParaRPr>
          </a:p>
          <a:p>
            <a:pPr lvl="3" marL="16002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ourth Outline Level</a:t>
            </a:r>
            <a:endParaRPr b="0" lang="en-US" sz="2000" spc="-1" strike="noStrike">
              <a:solidFill>
                <a:srgbClr val="e96969"/>
              </a:solidFill>
              <a:latin typeface="Arial"/>
            </a:endParaRPr>
          </a:p>
          <a:p>
            <a:pPr lvl="4"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ifth Outline Level</a:t>
            </a:r>
            <a:endParaRPr b="0" lang="en-US" sz="2000" spc="-1" strike="noStrike">
              <a:solidFill>
                <a:srgbClr val="e96969"/>
              </a:solidFill>
              <a:latin typeface="Arial"/>
            </a:endParaRPr>
          </a:p>
          <a:p>
            <a:pPr lvl="5"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ixth Outline Level</a:t>
            </a:r>
            <a:endParaRPr b="0" lang="en-US" sz="2000" spc="-1" strike="noStrike">
              <a:solidFill>
                <a:srgbClr val="e96969"/>
              </a:solidFill>
              <a:latin typeface="Arial"/>
            </a:endParaRPr>
          </a:p>
          <a:p>
            <a:pPr lvl="6"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venth Outline Level</a:t>
            </a:r>
            <a:endParaRPr b="0" lang="en-US" sz="2000" spc="-1" strike="noStrike">
              <a:solidFill>
                <a:srgbClr val="e96969"/>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41320" y="590400"/>
            <a:ext cx="10515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lick to edit the title text format</a:t>
            </a:r>
            <a:endParaRPr b="0" lang="en-US" sz="2400" spc="-1" strike="noStrike">
              <a:solidFill>
                <a:srgbClr val="4d4d4d"/>
              </a:solidFill>
              <a:latin typeface="Arial"/>
            </a:endParaRPr>
          </a:p>
        </p:txBody>
      </p:sp>
      <p:sp>
        <p:nvSpPr>
          <p:cNvPr id="196" name="PlaceHolder 2"/>
          <p:cNvSpPr>
            <a:spLocks noGrp="1"/>
          </p:cNvSpPr>
          <p:nvPr>
            <p:ph type="body"/>
          </p:nvPr>
        </p:nvSpPr>
        <p:spPr>
          <a:xfrm>
            <a:off x="841320" y="1600200"/>
            <a:ext cx="10515600" cy="4276800"/>
          </a:xfrm>
          <a:prstGeom prst="rect">
            <a:avLst/>
          </a:prstGeom>
          <a:noFill/>
          <a:ln w="0">
            <a:noFill/>
          </a:ln>
        </p:spPr>
        <p:txBody>
          <a:bodyPr lIns="90000" rIns="90000" tIns="46800" bIns="46800" anchor="t">
            <a:normAutofit/>
          </a:bodyPr>
          <a:p>
            <a:pPr marL="343080" indent="-34308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Click to edit the outline text format</a:t>
            </a:r>
            <a:endParaRPr b="0" lang="en-US" sz="2000" spc="-1" strike="noStrike">
              <a:solidFill>
                <a:srgbClr val="e96969"/>
              </a:solidFill>
              <a:latin typeface="Arial"/>
            </a:endParaRPr>
          </a:p>
          <a:p>
            <a:pPr lvl="1" marL="743040" indent="-28584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cond Outline Level</a:t>
            </a:r>
            <a:endParaRPr b="0" lang="en-US" sz="2000" spc="-1" strike="noStrike">
              <a:solidFill>
                <a:srgbClr val="e96969"/>
              </a:solidFill>
              <a:latin typeface="Arial"/>
            </a:endParaRPr>
          </a:p>
          <a:p>
            <a:pPr lvl="2" marL="11430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Third Outline Level</a:t>
            </a:r>
            <a:endParaRPr b="0" lang="en-US" sz="2000" spc="-1" strike="noStrike">
              <a:solidFill>
                <a:srgbClr val="e96969"/>
              </a:solidFill>
              <a:latin typeface="Arial"/>
            </a:endParaRPr>
          </a:p>
          <a:p>
            <a:pPr lvl="3" marL="16002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ourth Outline Level</a:t>
            </a:r>
            <a:endParaRPr b="0" lang="en-US" sz="2000" spc="-1" strike="noStrike">
              <a:solidFill>
                <a:srgbClr val="e96969"/>
              </a:solidFill>
              <a:latin typeface="Arial"/>
            </a:endParaRPr>
          </a:p>
          <a:p>
            <a:pPr lvl="4"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ifth Outline Level</a:t>
            </a:r>
            <a:endParaRPr b="0" lang="en-US" sz="2000" spc="-1" strike="noStrike">
              <a:solidFill>
                <a:srgbClr val="e96969"/>
              </a:solidFill>
              <a:latin typeface="Arial"/>
            </a:endParaRPr>
          </a:p>
          <a:p>
            <a:pPr lvl="5"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ixth Outline Level</a:t>
            </a:r>
            <a:endParaRPr b="0" lang="en-US" sz="2000" spc="-1" strike="noStrike">
              <a:solidFill>
                <a:srgbClr val="e96969"/>
              </a:solidFill>
              <a:latin typeface="Arial"/>
            </a:endParaRPr>
          </a:p>
          <a:p>
            <a:pPr lvl="6"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venth Outline Level</a:t>
            </a:r>
            <a:endParaRPr b="0" lang="en-US" sz="2000" spc="-1" strike="noStrike">
              <a:solidFill>
                <a:srgbClr val="e96969"/>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Picture 2" descr="PPECLOGO-eff-0-1"/>
          <p:cNvPicPr/>
          <p:nvPr/>
        </p:nvPicPr>
        <p:blipFill>
          <a:blip r:embed="rId2"/>
          <a:stretch/>
        </p:blipFill>
        <p:spPr>
          <a:xfrm>
            <a:off x="4148280" y="2886120"/>
            <a:ext cx="1060200" cy="799920"/>
          </a:xfrm>
          <a:prstGeom prst="rect">
            <a:avLst/>
          </a:prstGeom>
          <a:ln w="0">
            <a:noFill/>
          </a:ln>
        </p:spPr>
      </p:pic>
      <p:pic>
        <p:nvPicPr>
          <p:cNvPr id="234" name="Picture 3" descr="PPECLOGO-eff-0-2"/>
          <p:cNvPicPr/>
          <p:nvPr/>
        </p:nvPicPr>
        <p:blipFill>
          <a:blip r:embed="rId3"/>
          <a:stretch/>
        </p:blipFill>
        <p:spPr>
          <a:xfrm>
            <a:off x="8431200" y="2757600"/>
            <a:ext cx="1096920" cy="839520"/>
          </a:xfrm>
          <a:prstGeom prst="rect">
            <a:avLst/>
          </a:prstGeom>
          <a:ln w="0">
            <a:noFill/>
          </a:ln>
        </p:spPr>
      </p:pic>
      <p:pic>
        <p:nvPicPr>
          <p:cNvPr id="235" name="Picture 4" descr="PPECLOGO-eff-0-3"/>
          <p:cNvPicPr/>
          <p:nvPr/>
        </p:nvPicPr>
        <p:blipFill>
          <a:blip r:embed="rId4"/>
          <a:stretch/>
        </p:blipFill>
        <p:spPr>
          <a:xfrm>
            <a:off x="1039680" y="1447920"/>
            <a:ext cx="3014640" cy="2376360"/>
          </a:xfrm>
          <a:prstGeom prst="rect">
            <a:avLst/>
          </a:prstGeom>
          <a:ln w="0">
            <a:noFill/>
          </a:ln>
        </p:spPr>
      </p:pic>
      <p:pic>
        <p:nvPicPr>
          <p:cNvPr id="236" name="Picture 5" descr="PPECLOGO-eff-0-1"/>
          <p:cNvPicPr/>
          <p:nvPr/>
        </p:nvPicPr>
        <p:blipFill>
          <a:blip r:embed="rId5"/>
          <a:stretch/>
        </p:blipFill>
        <p:spPr>
          <a:xfrm>
            <a:off x="4467240" y="3770280"/>
            <a:ext cx="525600" cy="397080"/>
          </a:xfrm>
          <a:prstGeom prst="rect">
            <a:avLst/>
          </a:prstGeom>
          <a:ln w="0">
            <a:noFill/>
          </a:ln>
        </p:spPr>
      </p:pic>
      <p:pic>
        <p:nvPicPr>
          <p:cNvPr id="237" name="Picture 6" descr="PPECLOGO-eff-0-1"/>
          <p:cNvPicPr/>
          <p:nvPr/>
        </p:nvPicPr>
        <p:blipFill>
          <a:blip r:embed="rId6"/>
          <a:stretch/>
        </p:blipFill>
        <p:spPr>
          <a:xfrm>
            <a:off x="7377120" y="2903400"/>
            <a:ext cx="401760" cy="303480"/>
          </a:xfrm>
          <a:prstGeom prst="rect">
            <a:avLst/>
          </a:prstGeom>
          <a:ln w="0">
            <a:noFill/>
          </a:ln>
        </p:spPr>
      </p:pic>
      <p:pic>
        <p:nvPicPr>
          <p:cNvPr id="238" name="Picture 8" descr="PPECLOGO-eff-0-2"/>
          <p:cNvPicPr/>
          <p:nvPr/>
        </p:nvPicPr>
        <p:blipFill>
          <a:blip r:embed="rId7"/>
          <a:stretch/>
        </p:blipFill>
        <p:spPr>
          <a:xfrm>
            <a:off x="5278320" y="2575080"/>
            <a:ext cx="982800" cy="750600"/>
          </a:xfrm>
          <a:prstGeom prst="rect">
            <a:avLst/>
          </a:prstGeom>
          <a:ln w="0">
            <a:noFill/>
          </a:ln>
        </p:spPr>
      </p:pic>
      <p:pic>
        <p:nvPicPr>
          <p:cNvPr id="239" name="Picture 9" descr="PPECLOGO-eff-5-4"/>
          <p:cNvPicPr/>
          <p:nvPr/>
        </p:nvPicPr>
        <p:blipFill>
          <a:blip r:embed="rId8"/>
          <a:stretch/>
        </p:blipFill>
        <p:spPr>
          <a:xfrm>
            <a:off x="3262320" y="3206880"/>
            <a:ext cx="1477800" cy="1123920"/>
          </a:xfrm>
          <a:prstGeom prst="rect">
            <a:avLst/>
          </a:prstGeom>
          <a:ln w="0">
            <a:noFill/>
          </a:ln>
        </p:spPr>
      </p:pic>
      <p:pic>
        <p:nvPicPr>
          <p:cNvPr id="240" name="Picture 10" descr="PPECLOGO-eff-5-2"/>
          <p:cNvPicPr/>
          <p:nvPr/>
        </p:nvPicPr>
        <p:blipFill>
          <a:blip r:embed="rId9"/>
          <a:stretch/>
        </p:blipFill>
        <p:spPr>
          <a:xfrm>
            <a:off x="5353200" y="3446640"/>
            <a:ext cx="1834920" cy="1434960"/>
          </a:xfrm>
          <a:prstGeom prst="rect">
            <a:avLst/>
          </a:prstGeom>
          <a:ln w="0">
            <a:noFill/>
          </a:ln>
        </p:spPr>
      </p:pic>
      <p:pic>
        <p:nvPicPr>
          <p:cNvPr id="241" name="Picture 11" descr="PPECLOGO-eff-5-4"/>
          <p:cNvPicPr/>
          <p:nvPr/>
        </p:nvPicPr>
        <p:blipFill>
          <a:blip r:embed="rId10"/>
          <a:stretch/>
        </p:blipFill>
        <p:spPr>
          <a:xfrm>
            <a:off x="9887040" y="2725560"/>
            <a:ext cx="1117440" cy="851040"/>
          </a:xfrm>
          <a:prstGeom prst="rect">
            <a:avLst/>
          </a:prstGeom>
          <a:ln w="0">
            <a:noFill/>
          </a:ln>
        </p:spPr>
      </p:pic>
      <p:pic>
        <p:nvPicPr>
          <p:cNvPr id="242" name="Picture 12" descr="PPECLOGO-eff-0-1"/>
          <p:cNvPicPr/>
          <p:nvPr/>
        </p:nvPicPr>
        <p:blipFill>
          <a:blip r:embed="rId11"/>
          <a:stretch/>
        </p:blipFill>
        <p:spPr>
          <a:xfrm>
            <a:off x="7943760" y="3624120"/>
            <a:ext cx="522360" cy="393840"/>
          </a:xfrm>
          <a:prstGeom prst="rect">
            <a:avLst/>
          </a:prstGeom>
          <a:ln w="0">
            <a:noFill/>
          </a:ln>
        </p:spPr>
      </p:pic>
      <p:pic>
        <p:nvPicPr>
          <p:cNvPr id="243" name="Picture 13" descr="PPECLOGO-eff-0-1"/>
          <p:cNvPicPr/>
          <p:nvPr/>
        </p:nvPicPr>
        <p:blipFill>
          <a:blip r:embed="rId12"/>
          <a:stretch/>
        </p:blipFill>
        <p:spPr>
          <a:xfrm>
            <a:off x="11256840" y="2365200"/>
            <a:ext cx="522360" cy="392400"/>
          </a:xfrm>
          <a:prstGeom prst="rect">
            <a:avLst/>
          </a:prstGeom>
          <a:ln w="0">
            <a:noFill/>
          </a:ln>
        </p:spPr>
      </p:pic>
      <p:pic>
        <p:nvPicPr>
          <p:cNvPr id="244" name="Picture 14" descr="PPECLOGO-eff2-1-2"/>
          <p:cNvPicPr/>
          <p:nvPr/>
        </p:nvPicPr>
        <p:blipFill>
          <a:blip r:embed="rId13"/>
          <a:stretch/>
        </p:blipFill>
        <p:spPr>
          <a:xfrm>
            <a:off x="2054160" y="2795760"/>
            <a:ext cx="1698840" cy="1428480"/>
          </a:xfrm>
          <a:prstGeom prst="rect">
            <a:avLst/>
          </a:prstGeom>
          <a:ln w="0">
            <a:noFill/>
          </a:ln>
        </p:spPr>
      </p:pic>
      <p:pic>
        <p:nvPicPr>
          <p:cNvPr id="245" name="Picture 15" descr="PPECLOGO-eff2-1-3"/>
          <p:cNvPicPr/>
          <p:nvPr/>
        </p:nvPicPr>
        <p:blipFill>
          <a:blip r:embed="rId14"/>
          <a:stretch/>
        </p:blipFill>
        <p:spPr>
          <a:xfrm>
            <a:off x="3984480" y="2786040"/>
            <a:ext cx="436680" cy="365040"/>
          </a:xfrm>
          <a:prstGeom prst="rect">
            <a:avLst/>
          </a:prstGeom>
          <a:ln w="0">
            <a:noFill/>
          </a:ln>
        </p:spPr>
      </p:pic>
      <p:pic>
        <p:nvPicPr>
          <p:cNvPr id="246" name="Picture 16" descr="PPECLOGO-eff2-1-4"/>
          <p:cNvPicPr/>
          <p:nvPr/>
        </p:nvPicPr>
        <p:blipFill>
          <a:blip r:embed="rId15"/>
          <a:stretch/>
        </p:blipFill>
        <p:spPr>
          <a:xfrm>
            <a:off x="8520120" y="3325680"/>
            <a:ext cx="703080" cy="586080"/>
          </a:xfrm>
          <a:prstGeom prst="rect">
            <a:avLst/>
          </a:prstGeom>
          <a:ln w="0">
            <a:noFill/>
          </a:ln>
        </p:spPr>
      </p:pic>
      <p:pic>
        <p:nvPicPr>
          <p:cNvPr id="247" name="Picture 17" descr="PPECLOGO-eff2-1-3"/>
          <p:cNvPicPr/>
          <p:nvPr/>
        </p:nvPicPr>
        <p:blipFill>
          <a:blip r:embed="rId16"/>
          <a:stretch/>
        </p:blipFill>
        <p:spPr>
          <a:xfrm>
            <a:off x="9240840" y="2909880"/>
            <a:ext cx="360360" cy="301680"/>
          </a:xfrm>
          <a:prstGeom prst="rect">
            <a:avLst/>
          </a:prstGeom>
          <a:ln w="0">
            <a:noFill/>
          </a:ln>
        </p:spPr>
      </p:pic>
      <p:pic>
        <p:nvPicPr>
          <p:cNvPr id="248" name="Picture 18" descr="PPECLOGO-eff2-1-3"/>
          <p:cNvPicPr/>
          <p:nvPr/>
        </p:nvPicPr>
        <p:blipFill>
          <a:blip r:embed="rId17"/>
          <a:stretch/>
        </p:blipFill>
        <p:spPr>
          <a:xfrm>
            <a:off x="9745560" y="3446640"/>
            <a:ext cx="282600" cy="236520"/>
          </a:xfrm>
          <a:prstGeom prst="rect">
            <a:avLst/>
          </a:prstGeom>
          <a:ln w="0">
            <a:noFill/>
          </a:ln>
        </p:spPr>
      </p:pic>
      <p:sp>
        <p:nvSpPr>
          <p:cNvPr id="249" name="PlaceHolder 1"/>
          <p:cNvSpPr>
            <a:spLocks noGrp="1"/>
          </p:cNvSpPr>
          <p:nvPr>
            <p:ph type="title"/>
          </p:nvPr>
        </p:nvSpPr>
        <p:spPr>
          <a:xfrm>
            <a:off x="841320" y="590400"/>
            <a:ext cx="10515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lick to edit the title text format</a:t>
            </a:r>
            <a:endParaRPr b="0" lang="en-US" sz="2400" spc="-1" strike="noStrike">
              <a:solidFill>
                <a:srgbClr val="4d4d4d"/>
              </a:solidFill>
              <a:latin typeface="Arial"/>
            </a:endParaRPr>
          </a:p>
        </p:txBody>
      </p:sp>
      <p:sp>
        <p:nvSpPr>
          <p:cNvPr id="250" name="PlaceHolder 2"/>
          <p:cNvSpPr>
            <a:spLocks noGrp="1"/>
          </p:cNvSpPr>
          <p:nvPr>
            <p:ph type="body"/>
          </p:nvPr>
        </p:nvSpPr>
        <p:spPr>
          <a:xfrm>
            <a:off x="841320" y="1600200"/>
            <a:ext cx="10515600" cy="4276800"/>
          </a:xfrm>
          <a:prstGeom prst="rect">
            <a:avLst/>
          </a:prstGeom>
          <a:noFill/>
          <a:ln w="0">
            <a:noFill/>
          </a:ln>
        </p:spPr>
        <p:txBody>
          <a:bodyPr lIns="90000" rIns="90000" tIns="46800" bIns="46800" anchor="t">
            <a:normAutofit/>
          </a:bodyPr>
          <a:p>
            <a:pPr marL="343080" indent="-34308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Click to edit the outline text format</a:t>
            </a:r>
            <a:endParaRPr b="0" lang="en-US" sz="2000" spc="-1" strike="noStrike">
              <a:solidFill>
                <a:srgbClr val="e96969"/>
              </a:solidFill>
              <a:latin typeface="Arial"/>
            </a:endParaRPr>
          </a:p>
          <a:p>
            <a:pPr lvl="1" marL="743040" indent="-285840">
              <a:spcBef>
                <a:spcPts val="499"/>
              </a:spcBef>
              <a:buClr>
                <a:srgbClr val="e969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cond Outline Level</a:t>
            </a:r>
            <a:endParaRPr b="0" lang="en-US" sz="2000" spc="-1" strike="noStrike">
              <a:solidFill>
                <a:srgbClr val="e96969"/>
              </a:solidFill>
              <a:latin typeface="Arial"/>
            </a:endParaRPr>
          </a:p>
          <a:p>
            <a:pPr lvl="2" marL="11430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Third Outline Level</a:t>
            </a:r>
            <a:endParaRPr b="0" lang="en-US" sz="2000" spc="-1" strike="noStrike">
              <a:solidFill>
                <a:srgbClr val="e96969"/>
              </a:solidFill>
              <a:latin typeface="Arial"/>
            </a:endParaRPr>
          </a:p>
          <a:p>
            <a:pPr lvl="3" marL="16002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ourth Outline Level</a:t>
            </a:r>
            <a:endParaRPr b="0" lang="en-US" sz="2000" spc="-1" strike="noStrike">
              <a:solidFill>
                <a:srgbClr val="e96969"/>
              </a:solidFill>
              <a:latin typeface="Arial"/>
            </a:endParaRPr>
          </a:p>
          <a:p>
            <a:pPr lvl="4"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Fifth Outline Level</a:t>
            </a:r>
            <a:endParaRPr b="0" lang="en-US" sz="2000" spc="-1" strike="noStrike">
              <a:solidFill>
                <a:srgbClr val="e96969"/>
              </a:solidFill>
              <a:latin typeface="Arial"/>
            </a:endParaRPr>
          </a:p>
          <a:p>
            <a:pPr lvl="5"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ixth Outline Level</a:t>
            </a:r>
            <a:endParaRPr b="0" lang="en-US" sz="2000" spc="-1" strike="noStrike">
              <a:solidFill>
                <a:srgbClr val="e96969"/>
              </a:solidFill>
              <a:latin typeface="Arial"/>
            </a:endParaRPr>
          </a:p>
          <a:p>
            <a:pPr lvl="6" marL="2057400" indent="-228600">
              <a:spcBef>
                <a:spcPts val="499"/>
              </a:spcBef>
              <a:buClr>
                <a:srgbClr val="54a0d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6969"/>
                </a:solidFill>
                <a:latin typeface="Arial"/>
              </a:rPr>
              <a:t>Seventh Outline Level</a:t>
            </a:r>
            <a:endParaRPr b="0" lang="en-US" sz="2000" spc="-1" strike="noStrike">
              <a:solidFill>
                <a:srgbClr val="e96969"/>
              </a:solidFill>
              <a:latin typeface="Arial"/>
            </a:endParaRPr>
          </a:p>
        </p:txBody>
      </p:sp>
    </p:spTree>
  </p:cSld>
  <p:clrMap bg1="lt1" bg2="lt2" tx1="dk1" tx2="dk2" accent1="accent1" accent2="accent2" accent3="accent3" accent4="accent4" accent5="accent5" accent6="accent6" hlink="hlink" folHlink="folHlink"/>
  <p:sldLayoutIdLst>
    <p:sldLayoutId id="2147483727" r:id="rId18"/>
    <p:sldLayoutId id="2147483728" r:id="rId19"/>
    <p:sldLayoutId id="2147483729" r:id="rId20"/>
    <p:sldLayoutId id="2147483730" r:id="rId21"/>
    <p:sldLayoutId id="2147483731" r:id="rId22"/>
    <p:sldLayoutId id="2147483732" r:id="rId23"/>
    <p:sldLayoutId id="2147483733" r:id="rId24"/>
    <p:sldLayoutId id="2147483734" r:id="rId25"/>
    <p:sldLayoutId id="2147483735" r:id="rId26"/>
    <p:sldLayoutId id="2147483736" r:id="rId27"/>
    <p:sldLayoutId id="2147483737" r:id="rId28"/>
    <p:sldLayoutId id="2147483738" r:id="rId2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8"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89" name="PlaceHolder 3"/>
          <p:cNvSpPr>
            <a:spLocks noGrp="1"/>
          </p:cNvSpPr>
          <p:nvPr>
            <p:ph type="dt" idx="4"/>
          </p:nvPr>
        </p:nvSpPr>
        <p:spPr>
          <a:xfrm>
            <a:off x="837720" y="6356520"/>
            <a:ext cx="2745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5"/>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291" name="PlaceHolder 5"/>
          <p:cNvSpPr>
            <a:spLocks noGrp="1"/>
          </p:cNvSpPr>
          <p:nvPr>
            <p:ph type="sldNum" idx="6"/>
          </p:nvPr>
        </p:nvSpPr>
        <p:spPr>
          <a:xfrm>
            <a:off x="8615520" y="6356520"/>
            <a:ext cx="2744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6C33-840C-4FA9-800E-EE78D6D3C45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22080" cy="1325520"/>
          </a:xfrm>
          <a:prstGeom prst="rect">
            <a:avLst/>
          </a:prstGeom>
          <a:noFill/>
          <a:ln w="0">
            <a:noFill/>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9" name="PlaceHolder 2"/>
          <p:cNvSpPr>
            <a:spLocks noGrp="1"/>
          </p:cNvSpPr>
          <p:nvPr>
            <p:ph type="body"/>
          </p:nvPr>
        </p:nvSpPr>
        <p:spPr>
          <a:xfrm>
            <a:off x="838080" y="1825200"/>
            <a:ext cx="10522080" cy="4351320"/>
          </a:xfrm>
          <a:prstGeom prst="rect">
            <a:avLst/>
          </a:prstGeom>
          <a:noFill/>
          <a:ln w="0">
            <a:noFill/>
          </a:ln>
        </p:spPr>
        <p:txBody>
          <a:bodyPr lIns="90000" rIns="90000" tIns="46800" bIns="46800" anchor="t">
            <a:normAutofit/>
          </a:bodyPr>
          <a:p>
            <a:pPr marL="2271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43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15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5987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5960" indent="-227160">
              <a:lnSpc>
                <a:spcPct val="90000"/>
              </a:lnSpc>
              <a:spcBef>
                <a:spcPts val="10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0" name="PlaceHolder 3"/>
          <p:cNvSpPr>
            <a:spLocks noGrp="1"/>
          </p:cNvSpPr>
          <p:nvPr>
            <p:ph type="dt" idx="7"/>
          </p:nvPr>
        </p:nvSpPr>
        <p:spPr>
          <a:xfrm>
            <a:off x="837720" y="6356520"/>
            <a:ext cx="2745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8"/>
          </p:nvPr>
        </p:nvSpPr>
        <p:spPr>
          <a:xfrm>
            <a:off x="4039920" y="6356520"/>
            <a:ext cx="4118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332" name="PlaceHolder 5"/>
          <p:cNvSpPr>
            <a:spLocks noGrp="1"/>
          </p:cNvSpPr>
          <p:nvPr>
            <p:ph type="sldNum" idx="9"/>
          </p:nvPr>
        </p:nvSpPr>
        <p:spPr>
          <a:xfrm>
            <a:off x="8615520" y="6356520"/>
            <a:ext cx="27446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128A-CB89-4D53-B36F-977F74B4D82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6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0.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0.png"/><Relationship Id="rId3" Type="http://schemas.openxmlformats.org/officeDocument/2006/relationships/slideLayout" Target="../slideLayouts/slideLayout49.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0.png"/><Relationship Id="rId3" Type="http://schemas.openxmlformats.org/officeDocument/2006/relationships/slideLayout" Target="../slideLayouts/slideLayout49.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6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0.pn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0.pn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Freeform 7"/>
          <p:cNvSpPr/>
          <p:nvPr/>
        </p:nvSpPr>
        <p:spPr>
          <a:xfrm>
            <a:off x="3079800" y="5783400"/>
            <a:ext cx="503280" cy="442800"/>
          </a:xfrm>
          <a:custGeom>
            <a:avLst/>
            <a:gdLst>
              <a:gd name="textAreaLeft" fmla="*/ 0 w 503280"/>
              <a:gd name="textAreaRight" fmla="*/ 503640 w 503280"/>
              <a:gd name="textAreaTop" fmla="*/ 0 h 442800"/>
              <a:gd name="textAreaBottom" fmla="*/ 443160 h 442800"/>
            </a:gdLst>
            <a:ahLst/>
            <a:rect l="textAreaLeft" t="textAreaTop" r="textAreaRight" b="textAreaBottom"/>
            <a:pathLst>
              <a:path w="613" h="537">
                <a:moveTo>
                  <a:pt x="472" y="18"/>
                </a:moveTo>
                <a:lnTo>
                  <a:pt x="539" y="134"/>
                </a:lnTo>
                <a:cubicBezTo>
                  <a:pt x="561" y="172"/>
                  <a:pt x="583" y="210"/>
                  <a:pt x="605" y="248"/>
                </a:cubicBezTo>
                <a:cubicBezTo>
                  <a:pt x="612" y="260"/>
                  <a:pt x="613" y="273"/>
                  <a:pt x="606" y="287"/>
                </a:cubicBezTo>
                <a:lnTo>
                  <a:pt x="539" y="403"/>
                </a:lnTo>
                <a:cubicBezTo>
                  <a:pt x="518" y="441"/>
                  <a:pt x="496" y="479"/>
                  <a:pt x="474" y="517"/>
                </a:cubicBezTo>
                <a:cubicBezTo>
                  <a:pt x="466" y="529"/>
                  <a:pt x="456" y="536"/>
                  <a:pt x="440" y="537"/>
                </a:cubicBezTo>
                <a:lnTo>
                  <a:pt x="307" y="537"/>
                </a:lnTo>
                <a:cubicBezTo>
                  <a:pt x="263" y="537"/>
                  <a:pt x="219" y="537"/>
                  <a:pt x="175" y="537"/>
                </a:cubicBezTo>
                <a:cubicBezTo>
                  <a:pt x="161" y="537"/>
                  <a:pt x="149" y="532"/>
                  <a:pt x="141" y="519"/>
                </a:cubicBezTo>
                <a:lnTo>
                  <a:pt x="74" y="403"/>
                </a:lnTo>
                <a:cubicBezTo>
                  <a:pt x="52" y="365"/>
                  <a:pt x="30" y="327"/>
                  <a:pt x="8" y="289"/>
                </a:cubicBezTo>
                <a:cubicBezTo>
                  <a:pt x="1" y="277"/>
                  <a:pt x="0" y="264"/>
                  <a:pt x="7" y="250"/>
                </a:cubicBezTo>
                <a:lnTo>
                  <a:pt x="74" y="134"/>
                </a:lnTo>
                <a:cubicBezTo>
                  <a:pt x="96" y="96"/>
                  <a:pt x="117" y="58"/>
                  <a:pt x="139" y="20"/>
                </a:cubicBezTo>
                <a:cubicBezTo>
                  <a:pt x="147" y="8"/>
                  <a:pt x="157" y="1"/>
                  <a:pt x="173" y="0"/>
                </a:cubicBezTo>
                <a:lnTo>
                  <a:pt x="307" y="0"/>
                </a:lnTo>
                <a:cubicBezTo>
                  <a:pt x="350" y="0"/>
                  <a:pt x="394" y="0"/>
                  <a:pt x="438" y="0"/>
                </a:cubicBezTo>
                <a:cubicBezTo>
                  <a:pt x="452" y="0"/>
                  <a:pt x="464" y="5"/>
                  <a:pt x="472" y="18"/>
                </a:cubicBez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46" name="Freeform 8"/>
          <p:cNvSpPr/>
          <p:nvPr/>
        </p:nvSpPr>
        <p:spPr>
          <a:xfrm>
            <a:off x="3201840" y="5908680"/>
            <a:ext cx="265320" cy="192240"/>
          </a:xfrm>
          <a:custGeom>
            <a:avLst/>
            <a:gdLst>
              <a:gd name="textAreaLeft" fmla="*/ 0 w 265320"/>
              <a:gd name="textAreaRight" fmla="*/ 265680 w 265320"/>
              <a:gd name="textAreaTop" fmla="*/ 0 h 192240"/>
              <a:gd name="textAreaBottom" fmla="*/ 192600 h 192240"/>
            </a:gdLst>
            <a:ahLst/>
            <a:rect l="textAreaLeft" t="textAreaTop" r="textAreaRight" b="textAreaBottom"/>
            <a:pathLst>
              <a:path w="322" h="233">
                <a:moveTo>
                  <a:pt x="269" y="0"/>
                </a:moveTo>
                <a:lnTo>
                  <a:pt x="53" y="0"/>
                </a:lnTo>
                <a:cubicBezTo>
                  <a:pt x="24" y="0"/>
                  <a:pt x="0" y="23"/>
                  <a:pt x="0" y="52"/>
                </a:cubicBezTo>
                <a:lnTo>
                  <a:pt x="0" y="181"/>
                </a:lnTo>
                <a:cubicBezTo>
                  <a:pt x="0" y="210"/>
                  <a:pt x="24" y="233"/>
                  <a:pt x="53" y="233"/>
                </a:cubicBezTo>
                <a:lnTo>
                  <a:pt x="269" y="233"/>
                </a:lnTo>
                <a:cubicBezTo>
                  <a:pt x="298" y="233"/>
                  <a:pt x="322" y="210"/>
                  <a:pt x="322" y="181"/>
                </a:cubicBezTo>
                <a:lnTo>
                  <a:pt x="322" y="52"/>
                </a:lnTo>
                <a:cubicBezTo>
                  <a:pt x="322" y="23"/>
                  <a:pt x="298" y="0"/>
                  <a:pt x="269" y="0"/>
                </a:cubicBezTo>
                <a:close/>
                <a:moveTo>
                  <a:pt x="101" y="101"/>
                </a:moveTo>
                <a:cubicBezTo>
                  <a:pt x="113" y="101"/>
                  <a:pt x="124" y="91"/>
                  <a:pt x="124" y="78"/>
                </a:cubicBezTo>
                <a:cubicBezTo>
                  <a:pt x="124" y="65"/>
                  <a:pt x="113" y="55"/>
                  <a:pt x="101" y="55"/>
                </a:cubicBezTo>
                <a:cubicBezTo>
                  <a:pt x="88" y="55"/>
                  <a:pt x="78" y="65"/>
                  <a:pt x="78" y="78"/>
                </a:cubicBezTo>
                <a:cubicBezTo>
                  <a:pt x="78" y="91"/>
                  <a:pt x="88" y="101"/>
                  <a:pt x="101" y="101"/>
                </a:cubicBezTo>
                <a:close/>
                <a:moveTo>
                  <a:pt x="141" y="166"/>
                </a:moveTo>
                <a:lnTo>
                  <a:pt x="144" y="128"/>
                </a:lnTo>
                <a:cubicBezTo>
                  <a:pt x="145" y="117"/>
                  <a:pt x="134" y="108"/>
                  <a:pt x="121" y="108"/>
                </a:cubicBezTo>
                <a:lnTo>
                  <a:pt x="109" y="108"/>
                </a:lnTo>
                <a:cubicBezTo>
                  <a:pt x="109" y="109"/>
                  <a:pt x="109" y="114"/>
                  <a:pt x="106" y="117"/>
                </a:cubicBezTo>
                <a:cubicBezTo>
                  <a:pt x="106" y="117"/>
                  <a:pt x="111" y="142"/>
                  <a:pt x="109" y="151"/>
                </a:cubicBezTo>
                <a:cubicBezTo>
                  <a:pt x="108" y="154"/>
                  <a:pt x="104" y="163"/>
                  <a:pt x="100" y="163"/>
                </a:cubicBezTo>
                <a:cubicBezTo>
                  <a:pt x="96" y="163"/>
                  <a:pt x="93" y="154"/>
                  <a:pt x="92" y="151"/>
                </a:cubicBezTo>
                <a:cubicBezTo>
                  <a:pt x="91" y="142"/>
                  <a:pt x="97" y="117"/>
                  <a:pt x="97" y="117"/>
                </a:cubicBezTo>
                <a:cubicBezTo>
                  <a:pt x="96" y="116"/>
                  <a:pt x="94" y="115"/>
                  <a:pt x="94" y="108"/>
                </a:cubicBezTo>
                <a:lnTo>
                  <a:pt x="80" y="108"/>
                </a:lnTo>
                <a:cubicBezTo>
                  <a:pt x="68" y="108"/>
                  <a:pt x="56" y="117"/>
                  <a:pt x="57" y="129"/>
                </a:cubicBezTo>
                <a:lnTo>
                  <a:pt x="60" y="166"/>
                </a:lnTo>
                <a:cubicBezTo>
                  <a:pt x="70" y="176"/>
                  <a:pt x="86" y="176"/>
                  <a:pt x="101" y="176"/>
                </a:cubicBezTo>
                <a:cubicBezTo>
                  <a:pt x="115" y="176"/>
                  <a:pt x="132" y="175"/>
                  <a:pt x="141" y="166"/>
                </a:cubicBezTo>
                <a:close/>
                <a:moveTo>
                  <a:pt x="165" y="191"/>
                </a:moveTo>
                <a:lnTo>
                  <a:pt x="165" y="191"/>
                </a:lnTo>
                <a:lnTo>
                  <a:pt x="36" y="191"/>
                </a:lnTo>
                <a:lnTo>
                  <a:pt x="36" y="42"/>
                </a:lnTo>
                <a:lnTo>
                  <a:pt x="165" y="42"/>
                </a:lnTo>
                <a:lnTo>
                  <a:pt x="165" y="191"/>
                </a:lnTo>
                <a:close/>
                <a:moveTo>
                  <a:pt x="249" y="73"/>
                </a:moveTo>
                <a:lnTo>
                  <a:pt x="249" y="73"/>
                </a:lnTo>
                <a:lnTo>
                  <a:pt x="193" y="73"/>
                </a:lnTo>
                <a:cubicBezTo>
                  <a:pt x="186" y="73"/>
                  <a:pt x="181" y="67"/>
                  <a:pt x="181" y="60"/>
                </a:cubicBezTo>
                <a:cubicBezTo>
                  <a:pt x="181" y="54"/>
                  <a:pt x="186" y="48"/>
                  <a:pt x="193" y="48"/>
                </a:cubicBezTo>
                <a:lnTo>
                  <a:pt x="249" y="48"/>
                </a:lnTo>
                <a:cubicBezTo>
                  <a:pt x="256" y="48"/>
                  <a:pt x="261" y="54"/>
                  <a:pt x="261" y="60"/>
                </a:cubicBezTo>
                <a:cubicBezTo>
                  <a:pt x="261" y="67"/>
                  <a:pt x="256" y="73"/>
                  <a:pt x="249" y="73"/>
                </a:cubicBezTo>
                <a:close/>
                <a:moveTo>
                  <a:pt x="302" y="123"/>
                </a:moveTo>
                <a:lnTo>
                  <a:pt x="302" y="123"/>
                </a:lnTo>
                <a:cubicBezTo>
                  <a:pt x="302" y="128"/>
                  <a:pt x="297" y="133"/>
                  <a:pt x="292" y="133"/>
                </a:cubicBezTo>
                <a:lnTo>
                  <a:pt x="191" y="133"/>
                </a:lnTo>
                <a:cubicBezTo>
                  <a:pt x="186" y="133"/>
                  <a:pt x="181" y="128"/>
                  <a:pt x="181" y="123"/>
                </a:cubicBezTo>
                <a:cubicBezTo>
                  <a:pt x="181" y="117"/>
                  <a:pt x="186" y="113"/>
                  <a:pt x="191" y="113"/>
                </a:cubicBezTo>
                <a:lnTo>
                  <a:pt x="292" y="113"/>
                </a:lnTo>
                <a:cubicBezTo>
                  <a:pt x="297" y="113"/>
                  <a:pt x="302" y="117"/>
                  <a:pt x="302" y="123"/>
                </a:cubicBezTo>
                <a:close/>
                <a:moveTo>
                  <a:pt x="302" y="163"/>
                </a:moveTo>
                <a:lnTo>
                  <a:pt x="302" y="163"/>
                </a:lnTo>
                <a:cubicBezTo>
                  <a:pt x="302" y="169"/>
                  <a:pt x="297" y="173"/>
                  <a:pt x="292" y="173"/>
                </a:cubicBezTo>
                <a:lnTo>
                  <a:pt x="191" y="173"/>
                </a:lnTo>
                <a:cubicBezTo>
                  <a:pt x="186" y="173"/>
                  <a:pt x="181" y="169"/>
                  <a:pt x="181" y="163"/>
                </a:cubicBezTo>
                <a:cubicBezTo>
                  <a:pt x="181" y="157"/>
                  <a:pt x="186" y="153"/>
                  <a:pt x="191" y="153"/>
                </a:cubicBezTo>
                <a:lnTo>
                  <a:pt x="292" y="153"/>
                </a:lnTo>
                <a:cubicBezTo>
                  <a:pt x="297" y="153"/>
                  <a:pt x="302" y="157"/>
                  <a:pt x="302" y="163"/>
                </a:cubicBezTo>
                <a:close/>
              </a:path>
            </a:pathLst>
          </a:custGeom>
          <a:solidFill>
            <a:srgbClr val="fefefe"/>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47" name="Freeform 9"/>
          <p:cNvSpPr/>
          <p:nvPr/>
        </p:nvSpPr>
        <p:spPr>
          <a:xfrm>
            <a:off x="6824520" y="5783400"/>
            <a:ext cx="505080" cy="442800"/>
          </a:xfrm>
          <a:custGeom>
            <a:avLst/>
            <a:gdLst>
              <a:gd name="textAreaLeft" fmla="*/ 0 w 505080"/>
              <a:gd name="textAreaRight" fmla="*/ 505440 w 505080"/>
              <a:gd name="textAreaTop" fmla="*/ 0 h 442800"/>
              <a:gd name="textAreaBottom" fmla="*/ 443160 h 442800"/>
            </a:gdLst>
            <a:ahLst/>
            <a:rect l="textAreaLeft" t="textAreaTop" r="textAreaRight" b="textAreaBottom"/>
            <a:pathLst>
              <a:path w="613" h="537">
                <a:moveTo>
                  <a:pt x="472" y="18"/>
                </a:moveTo>
                <a:lnTo>
                  <a:pt x="539" y="134"/>
                </a:lnTo>
                <a:cubicBezTo>
                  <a:pt x="561" y="172"/>
                  <a:pt x="583" y="210"/>
                  <a:pt x="605" y="248"/>
                </a:cubicBezTo>
                <a:cubicBezTo>
                  <a:pt x="612" y="260"/>
                  <a:pt x="613" y="273"/>
                  <a:pt x="606" y="287"/>
                </a:cubicBezTo>
                <a:lnTo>
                  <a:pt x="539" y="403"/>
                </a:lnTo>
                <a:cubicBezTo>
                  <a:pt x="517" y="441"/>
                  <a:pt x="495" y="479"/>
                  <a:pt x="473" y="517"/>
                </a:cubicBezTo>
                <a:cubicBezTo>
                  <a:pt x="466" y="529"/>
                  <a:pt x="455" y="536"/>
                  <a:pt x="440" y="537"/>
                </a:cubicBezTo>
                <a:lnTo>
                  <a:pt x="306" y="537"/>
                </a:lnTo>
                <a:cubicBezTo>
                  <a:pt x="262" y="537"/>
                  <a:pt x="219" y="537"/>
                  <a:pt x="175" y="537"/>
                </a:cubicBezTo>
                <a:cubicBezTo>
                  <a:pt x="160" y="537"/>
                  <a:pt x="149" y="532"/>
                  <a:pt x="140" y="519"/>
                </a:cubicBezTo>
                <a:lnTo>
                  <a:pt x="73" y="403"/>
                </a:lnTo>
                <a:cubicBezTo>
                  <a:pt x="51" y="365"/>
                  <a:pt x="29" y="327"/>
                  <a:pt x="7" y="289"/>
                </a:cubicBezTo>
                <a:cubicBezTo>
                  <a:pt x="1" y="277"/>
                  <a:pt x="0" y="264"/>
                  <a:pt x="6" y="250"/>
                </a:cubicBezTo>
                <a:lnTo>
                  <a:pt x="73" y="134"/>
                </a:lnTo>
                <a:cubicBezTo>
                  <a:pt x="95" y="96"/>
                  <a:pt x="117" y="58"/>
                  <a:pt x="139" y="20"/>
                </a:cubicBezTo>
                <a:cubicBezTo>
                  <a:pt x="146" y="8"/>
                  <a:pt x="157" y="1"/>
                  <a:pt x="172" y="0"/>
                </a:cubicBezTo>
                <a:lnTo>
                  <a:pt x="306" y="0"/>
                </a:lnTo>
                <a:cubicBezTo>
                  <a:pt x="350" y="0"/>
                  <a:pt x="394" y="0"/>
                  <a:pt x="437" y="0"/>
                </a:cubicBezTo>
                <a:cubicBezTo>
                  <a:pt x="452" y="0"/>
                  <a:pt x="464" y="5"/>
                  <a:pt x="472" y="18"/>
                </a:cubicBez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48" name="Freeform 10"/>
          <p:cNvSpPr/>
          <p:nvPr/>
        </p:nvSpPr>
        <p:spPr>
          <a:xfrm>
            <a:off x="6954840" y="5862600"/>
            <a:ext cx="268200" cy="285840"/>
          </a:xfrm>
          <a:custGeom>
            <a:avLst/>
            <a:gdLst>
              <a:gd name="textAreaLeft" fmla="*/ 0 w 268200"/>
              <a:gd name="textAreaRight" fmla="*/ 268560 w 268200"/>
              <a:gd name="textAreaTop" fmla="*/ 0 h 285840"/>
              <a:gd name="textAreaBottom" fmla="*/ 286200 h 285840"/>
            </a:gdLst>
            <a:ahLst/>
            <a:rect l="textAreaLeft" t="textAreaTop" r="textAreaRight" b="textAreaBottom"/>
            <a:pathLst>
              <a:path w="327" h="347">
                <a:moveTo>
                  <a:pt x="153" y="191"/>
                </a:moveTo>
                <a:lnTo>
                  <a:pt x="153" y="329"/>
                </a:lnTo>
                <a:cubicBezTo>
                  <a:pt x="156" y="331"/>
                  <a:pt x="160" y="331"/>
                  <a:pt x="163" y="331"/>
                </a:cubicBezTo>
                <a:cubicBezTo>
                  <a:pt x="167" y="331"/>
                  <a:pt x="171" y="330"/>
                  <a:pt x="174" y="329"/>
                </a:cubicBezTo>
                <a:lnTo>
                  <a:pt x="174" y="191"/>
                </a:lnTo>
                <a:cubicBezTo>
                  <a:pt x="171" y="192"/>
                  <a:pt x="167" y="192"/>
                  <a:pt x="164" y="192"/>
                </a:cubicBezTo>
                <a:cubicBezTo>
                  <a:pt x="160" y="192"/>
                  <a:pt x="157" y="192"/>
                  <a:pt x="153" y="191"/>
                </a:cubicBezTo>
                <a:close/>
                <a:moveTo>
                  <a:pt x="200" y="198"/>
                </a:moveTo>
                <a:lnTo>
                  <a:pt x="261" y="174"/>
                </a:lnTo>
                <a:lnTo>
                  <a:pt x="261" y="199"/>
                </a:lnTo>
                <a:lnTo>
                  <a:pt x="200" y="223"/>
                </a:lnTo>
                <a:lnTo>
                  <a:pt x="200" y="198"/>
                </a:lnTo>
                <a:close/>
                <a:moveTo>
                  <a:pt x="82" y="145"/>
                </a:moveTo>
                <a:lnTo>
                  <a:pt x="57" y="131"/>
                </a:lnTo>
                <a:cubicBezTo>
                  <a:pt x="54" y="130"/>
                  <a:pt x="53" y="126"/>
                  <a:pt x="55" y="124"/>
                </a:cubicBezTo>
                <a:cubicBezTo>
                  <a:pt x="56" y="121"/>
                  <a:pt x="60" y="120"/>
                  <a:pt x="62" y="122"/>
                </a:cubicBezTo>
                <a:lnTo>
                  <a:pt x="86" y="135"/>
                </a:lnTo>
                <a:lnTo>
                  <a:pt x="73" y="126"/>
                </a:lnTo>
                <a:cubicBezTo>
                  <a:pt x="70" y="124"/>
                  <a:pt x="70" y="120"/>
                  <a:pt x="72" y="118"/>
                </a:cubicBezTo>
                <a:cubicBezTo>
                  <a:pt x="73" y="115"/>
                  <a:pt x="77" y="115"/>
                  <a:pt x="80" y="117"/>
                </a:cubicBezTo>
                <a:lnTo>
                  <a:pt x="96" y="128"/>
                </a:lnTo>
                <a:lnTo>
                  <a:pt x="88" y="121"/>
                </a:lnTo>
                <a:cubicBezTo>
                  <a:pt x="86" y="119"/>
                  <a:pt x="86" y="115"/>
                  <a:pt x="88" y="113"/>
                </a:cubicBezTo>
                <a:cubicBezTo>
                  <a:pt x="90" y="111"/>
                  <a:pt x="94" y="110"/>
                  <a:pt x="96" y="113"/>
                </a:cubicBezTo>
                <a:lnTo>
                  <a:pt x="162" y="175"/>
                </a:lnTo>
                <a:cubicBezTo>
                  <a:pt x="163" y="175"/>
                  <a:pt x="163" y="175"/>
                  <a:pt x="163" y="175"/>
                </a:cubicBezTo>
                <a:cubicBezTo>
                  <a:pt x="163" y="175"/>
                  <a:pt x="163" y="175"/>
                  <a:pt x="163" y="175"/>
                </a:cubicBezTo>
                <a:lnTo>
                  <a:pt x="230" y="113"/>
                </a:lnTo>
                <a:cubicBezTo>
                  <a:pt x="232" y="110"/>
                  <a:pt x="236" y="111"/>
                  <a:pt x="238" y="113"/>
                </a:cubicBezTo>
                <a:cubicBezTo>
                  <a:pt x="240" y="115"/>
                  <a:pt x="240" y="119"/>
                  <a:pt x="238" y="121"/>
                </a:cubicBezTo>
                <a:lnTo>
                  <a:pt x="229" y="128"/>
                </a:lnTo>
                <a:lnTo>
                  <a:pt x="246" y="117"/>
                </a:lnTo>
                <a:cubicBezTo>
                  <a:pt x="249" y="115"/>
                  <a:pt x="252" y="115"/>
                  <a:pt x="254" y="118"/>
                </a:cubicBezTo>
                <a:cubicBezTo>
                  <a:pt x="256" y="120"/>
                  <a:pt x="255" y="124"/>
                  <a:pt x="253" y="126"/>
                </a:cubicBezTo>
                <a:lnTo>
                  <a:pt x="240" y="135"/>
                </a:lnTo>
                <a:lnTo>
                  <a:pt x="264" y="122"/>
                </a:lnTo>
                <a:cubicBezTo>
                  <a:pt x="266" y="120"/>
                  <a:pt x="270" y="121"/>
                  <a:pt x="271" y="124"/>
                </a:cubicBezTo>
                <a:cubicBezTo>
                  <a:pt x="273" y="127"/>
                  <a:pt x="272" y="130"/>
                  <a:pt x="269" y="131"/>
                </a:cubicBezTo>
                <a:lnTo>
                  <a:pt x="240" y="148"/>
                </a:lnTo>
                <a:lnTo>
                  <a:pt x="284" y="129"/>
                </a:lnTo>
                <a:lnTo>
                  <a:pt x="284" y="197"/>
                </a:lnTo>
                <a:cubicBezTo>
                  <a:pt x="283" y="197"/>
                  <a:pt x="283" y="197"/>
                  <a:pt x="282" y="197"/>
                </a:cubicBezTo>
                <a:lnTo>
                  <a:pt x="273" y="196"/>
                </a:lnTo>
                <a:lnTo>
                  <a:pt x="269" y="203"/>
                </a:lnTo>
                <a:lnTo>
                  <a:pt x="269" y="152"/>
                </a:lnTo>
                <a:lnTo>
                  <a:pt x="190" y="186"/>
                </a:lnTo>
                <a:lnTo>
                  <a:pt x="190" y="322"/>
                </a:lnTo>
                <a:lnTo>
                  <a:pt x="269" y="289"/>
                </a:lnTo>
                <a:lnTo>
                  <a:pt x="269" y="279"/>
                </a:lnTo>
                <a:cubicBezTo>
                  <a:pt x="272" y="280"/>
                  <a:pt x="275" y="282"/>
                  <a:pt x="277" y="283"/>
                </a:cubicBezTo>
                <a:cubicBezTo>
                  <a:pt x="280" y="284"/>
                  <a:pt x="282" y="284"/>
                  <a:pt x="284" y="285"/>
                </a:cubicBezTo>
                <a:lnTo>
                  <a:pt x="284" y="299"/>
                </a:lnTo>
                <a:lnTo>
                  <a:pt x="185" y="341"/>
                </a:lnTo>
                <a:cubicBezTo>
                  <a:pt x="183" y="342"/>
                  <a:pt x="181" y="343"/>
                  <a:pt x="178" y="343"/>
                </a:cubicBezTo>
                <a:lnTo>
                  <a:pt x="174" y="345"/>
                </a:lnTo>
                <a:lnTo>
                  <a:pt x="174" y="345"/>
                </a:lnTo>
                <a:cubicBezTo>
                  <a:pt x="171" y="346"/>
                  <a:pt x="167" y="346"/>
                  <a:pt x="164" y="346"/>
                </a:cubicBezTo>
                <a:cubicBezTo>
                  <a:pt x="156" y="347"/>
                  <a:pt x="149" y="345"/>
                  <a:pt x="142" y="340"/>
                </a:cubicBezTo>
                <a:lnTo>
                  <a:pt x="43" y="299"/>
                </a:lnTo>
                <a:lnTo>
                  <a:pt x="43" y="285"/>
                </a:lnTo>
                <a:cubicBezTo>
                  <a:pt x="45" y="284"/>
                  <a:pt x="48" y="284"/>
                  <a:pt x="50" y="283"/>
                </a:cubicBezTo>
                <a:cubicBezTo>
                  <a:pt x="53" y="282"/>
                  <a:pt x="55" y="280"/>
                  <a:pt x="58" y="279"/>
                </a:cubicBezTo>
                <a:lnTo>
                  <a:pt x="58" y="289"/>
                </a:lnTo>
                <a:lnTo>
                  <a:pt x="138" y="322"/>
                </a:lnTo>
                <a:lnTo>
                  <a:pt x="138" y="186"/>
                </a:lnTo>
                <a:lnTo>
                  <a:pt x="58" y="152"/>
                </a:lnTo>
                <a:lnTo>
                  <a:pt x="58" y="203"/>
                </a:lnTo>
                <a:lnTo>
                  <a:pt x="55" y="196"/>
                </a:lnTo>
                <a:lnTo>
                  <a:pt x="46" y="197"/>
                </a:lnTo>
                <a:cubicBezTo>
                  <a:pt x="45" y="197"/>
                  <a:pt x="44" y="197"/>
                  <a:pt x="43" y="197"/>
                </a:cubicBezTo>
                <a:lnTo>
                  <a:pt x="43" y="129"/>
                </a:lnTo>
                <a:lnTo>
                  <a:pt x="82" y="145"/>
                </a:lnTo>
                <a:close/>
                <a:moveTo>
                  <a:pt x="49" y="210"/>
                </a:moveTo>
                <a:cubicBezTo>
                  <a:pt x="51" y="213"/>
                  <a:pt x="53" y="216"/>
                  <a:pt x="54" y="220"/>
                </a:cubicBezTo>
                <a:lnTo>
                  <a:pt x="36" y="231"/>
                </a:lnTo>
                <a:lnTo>
                  <a:pt x="56" y="223"/>
                </a:lnTo>
                <a:cubicBezTo>
                  <a:pt x="57" y="227"/>
                  <a:pt x="58" y="230"/>
                  <a:pt x="60" y="234"/>
                </a:cubicBezTo>
                <a:lnTo>
                  <a:pt x="42" y="244"/>
                </a:lnTo>
                <a:lnTo>
                  <a:pt x="61" y="237"/>
                </a:lnTo>
                <a:cubicBezTo>
                  <a:pt x="62" y="241"/>
                  <a:pt x="63" y="245"/>
                  <a:pt x="65" y="249"/>
                </a:cubicBezTo>
                <a:lnTo>
                  <a:pt x="49" y="257"/>
                </a:lnTo>
                <a:lnTo>
                  <a:pt x="65" y="251"/>
                </a:lnTo>
                <a:cubicBezTo>
                  <a:pt x="66" y="254"/>
                  <a:pt x="67" y="257"/>
                  <a:pt x="67" y="260"/>
                </a:cubicBezTo>
                <a:cubicBezTo>
                  <a:pt x="64" y="262"/>
                  <a:pt x="38" y="279"/>
                  <a:pt x="26" y="274"/>
                </a:cubicBezTo>
                <a:cubicBezTo>
                  <a:pt x="13" y="269"/>
                  <a:pt x="1" y="252"/>
                  <a:pt x="0" y="236"/>
                </a:cubicBezTo>
                <a:cubicBezTo>
                  <a:pt x="0" y="221"/>
                  <a:pt x="40" y="211"/>
                  <a:pt x="49" y="210"/>
                </a:cubicBezTo>
                <a:close/>
                <a:moveTo>
                  <a:pt x="16" y="217"/>
                </a:moveTo>
                <a:lnTo>
                  <a:pt x="26" y="213"/>
                </a:lnTo>
                <a:lnTo>
                  <a:pt x="31" y="208"/>
                </a:lnTo>
                <a:lnTo>
                  <a:pt x="31" y="192"/>
                </a:lnTo>
                <a:cubicBezTo>
                  <a:pt x="22" y="196"/>
                  <a:pt x="18" y="206"/>
                  <a:pt x="16" y="217"/>
                </a:cubicBezTo>
                <a:close/>
                <a:moveTo>
                  <a:pt x="277" y="210"/>
                </a:moveTo>
                <a:cubicBezTo>
                  <a:pt x="276" y="213"/>
                  <a:pt x="274" y="216"/>
                  <a:pt x="272" y="220"/>
                </a:cubicBezTo>
                <a:lnTo>
                  <a:pt x="291" y="231"/>
                </a:lnTo>
                <a:lnTo>
                  <a:pt x="271" y="223"/>
                </a:lnTo>
                <a:cubicBezTo>
                  <a:pt x="269" y="227"/>
                  <a:pt x="268" y="230"/>
                  <a:pt x="267" y="234"/>
                </a:cubicBezTo>
                <a:lnTo>
                  <a:pt x="284" y="244"/>
                </a:lnTo>
                <a:lnTo>
                  <a:pt x="266" y="237"/>
                </a:lnTo>
                <a:cubicBezTo>
                  <a:pt x="264" y="241"/>
                  <a:pt x="263" y="245"/>
                  <a:pt x="262" y="249"/>
                </a:cubicBezTo>
                <a:lnTo>
                  <a:pt x="278" y="257"/>
                </a:lnTo>
                <a:lnTo>
                  <a:pt x="261" y="251"/>
                </a:lnTo>
                <a:cubicBezTo>
                  <a:pt x="261" y="254"/>
                  <a:pt x="260" y="257"/>
                  <a:pt x="259" y="260"/>
                </a:cubicBezTo>
                <a:cubicBezTo>
                  <a:pt x="263" y="262"/>
                  <a:pt x="289" y="279"/>
                  <a:pt x="301" y="274"/>
                </a:cubicBezTo>
                <a:cubicBezTo>
                  <a:pt x="313" y="269"/>
                  <a:pt x="326" y="252"/>
                  <a:pt x="326" y="236"/>
                </a:cubicBezTo>
                <a:cubicBezTo>
                  <a:pt x="327" y="221"/>
                  <a:pt x="286" y="211"/>
                  <a:pt x="277" y="210"/>
                </a:cubicBezTo>
                <a:close/>
                <a:moveTo>
                  <a:pt x="311" y="217"/>
                </a:moveTo>
                <a:lnTo>
                  <a:pt x="300" y="213"/>
                </a:lnTo>
                <a:lnTo>
                  <a:pt x="296" y="208"/>
                </a:lnTo>
                <a:lnTo>
                  <a:pt x="295" y="192"/>
                </a:lnTo>
                <a:cubicBezTo>
                  <a:pt x="305" y="196"/>
                  <a:pt x="309" y="206"/>
                  <a:pt x="311" y="217"/>
                </a:cubicBezTo>
                <a:close/>
                <a:moveTo>
                  <a:pt x="162" y="0"/>
                </a:moveTo>
                <a:cubicBezTo>
                  <a:pt x="181" y="0"/>
                  <a:pt x="198" y="10"/>
                  <a:pt x="210" y="24"/>
                </a:cubicBezTo>
                <a:cubicBezTo>
                  <a:pt x="218" y="34"/>
                  <a:pt x="224" y="45"/>
                  <a:pt x="228" y="59"/>
                </a:cubicBezTo>
                <a:cubicBezTo>
                  <a:pt x="232" y="58"/>
                  <a:pt x="239" y="57"/>
                  <a:pt x="241" y="62"/>
                </a:cubicBezTo>
                <a:cubicBezTo>
                  <a:pt x="244" y="70"/>
                  <a:pt x="242" y="87"/>
                  <a:pt x="237" y="89"/>
                </a:cubicBezTo>
                <a:cubicBezTo>
                  <a:pt x="235" y="90"/>
                  <a:pt x="232" y="90"/>
                  <a:pt x="229" y="90"/>
                </a:cubicBezTo>
                <a:cubicBezTo>
                  <a:pt x="229" y="94"/>
                  <a:pt x="228" y="99"/>
                  <a:pt x="227" y="103"/>
                </a:cubicBezTo>
                <a:cubicBezTo>
                  <a:pt x="222" y="104"/>
                  <a:pt x="217" y="105"/>
                  <a:pt x="213" y="106"/>
                </a:cubicBezTo>
                <a:cubicBezTo>
                  <a:pt x="216" y="98"/>
                  <a:pt x="217" y="89"/>
                  <a:pt x="217" y="80"/>
                </a:cubicBezTo>
                <a:cubicBezTo>
                  <a:pt x="217" y="68"/>
                  <a:pt x="215" y="57"/>
                  <a:pt x="210" y="47"/>
                </a:cubicBezTo>
                <a:cubicBezTo>
                  <a:pt x="173" y="76"/>
                  <a:pt x="125" y="55"/>
                  <a:pt x="113" y="50"/>
                </a:cubicBezTo>
                <a:cubicBezTo>
                  <a:pt x="109" y="59"/>
                  <a:pt x="107" y="69"/>
                  <a:pt x="107" y="80"/>
                </a:cubicBezTo>
                <a:cubicBezTo>
                  <a:pt x="107" y="89"/>
                  <a:pt x="109" y="98"/>
                  <a:pt x="112" y="106"/>
                </a:cubicBezTo>
                <a:cubicBezTo>
                  <a:pt x="107" y="105"/>
                  <a:pt x="103" y="104"/>
                  <a:pt x="98" y="103"/>
                </a:cubicBezTo>
                <a:cubicBezTo>
                  <a:pt x="97" y="99"/>
                  <a:pt x="96" y="94"/>
                  <a:pt x="95" y="90"/>
                </a:cubicBezTo>
                <a:cubicBezTo>
                  <a:pt x="93" y="90"/>
                  <a:pt x="90" y="90"/>
                  <a:pt x="88" y="89"/>
                </a:cubicBezTo>
                <a:cubicBezTo>
                  <a:pt x="82" y="87"/>
                  <a:pt x="81" y="70"/>
                  <a:pt x="84" y="62"/>
                </a:cubicBezTo>
                <a:cubicBezTo>
                  <a:pt x="86" y="57"/>
                  <a:pt x="92" y="58"/>
                  <a:pt x="97" y="59"/>
                </a:cubicBezTo>
                <a:cubicBezTo>
                  <a:pt x="100" y="45"/>
                  <a:pt x="106" y="34"/>
                  <a:pt x="114" y="24"/>
                </a:cubicBezTo>
                <a:cubicBezTo>
                  <a:pt x="126" y="10"/>
                  <a:pt x="143" y="0"/>
                  <a:pt x="162" y="0"/>
                </a:cubicBezTo>
                <a:close/>
              </a:path>
            </a:pathLst>
          </a:custGeom>
          <a:solidFill>
            <a:srgbClr val="fefefe"/>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49" name="Rectangle 3"/>
          <p:cNvSpPr/>
          <p:nvPr/>
        </p:nvSpPr>
        <p:spPr>
          <a:xfrm>
            <a:off x="1490760" y="2630520"/>
            <a:ext cx="9217080" cy="86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4d4d4d"/>
                </a:solidFill>
                <a:latin typeface="微软雅黑"/>
                <a:ea typeface="微软雅黑"/>
              </a:rPr>
              <a:t>创意信件风格论文答辩</a:t>
            </a:r>
            <a:r>
              <a:rPr b="1" lang="en-US" sz="4600" spc="-1" strike="noStrike">
                <a:solidFill>
                  <a:srgbClr val="4d4d4d"/>
                </a:solidFill>
                <a:latin typeface="微软雅黑"/>
                <a:ea typeface="微软雅黑"/>
              </a:rPr>
              <a:t>PPT</a:t>
            </a:r>
            <a:endParaRPr b="0" lang="en-US" sz="4600" spc="-1" strike="noStrike">
              <a:solidFill>
                <a:srgbClr val="54a0d8"/>
              </a:solidFill>
              <a:latin typeface="Arial"/>
            </a:endParaRPr>
          </a:p>
        </p:txBody>
      </p:sp>
      <p:sp>
        <p:nvSpPr>
          <p:cNvPr id="750" name="Rectangle 4"/>
          <p:cNvSpPr/>
          <p:nvPr/>
        </p:nvSpPr>
        <p:spPr>
          <a:xfrm>
            <a:off x="2859120" y="3897360"/>
            <a:ext cx="2421000" cy="355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微软雅黑"/>
                <a:ea typeface="微软雅黑"/>
              </a:rPr>
              <a:t>专业：行政管理学</a:t>
            </a:r>
            <a:endParaRPr b="0" lang="en-US" sz="2000" spc="-1" strike="noStrike">
              <a:solidFill>
                <a:srgbClr val="54a0d8"/>
              </a:solidFill>
              <a:latin typeface="Arial"/>
            </a:endParaRPr>
          </a:p>
        </p:txBody>
      </p:sp>
      <p:sp>
        <p:nvSpPr>
          <p:cNvPr id="751" name="Rectangle 4"/>
          <p:cNvSpPr/>
          <p:nvPr/>
        </p:nvSpPr>
        <p:spPr>
          <a:xfrm>
            <a:off x="7338960" y="3897360"/>
            <a:ext cx="2421000" cy="355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微软雅黑"/>
                <a:ea typeface="微软雅黑"/>
              </a:rPr>
              <a:t>指导老师：</a:t>
            </a:r>
            <a:r>
              <a:rPr b="0" lang="en-US" sz="2000" spc="-1" strike="noStrike">
                <a:solidFill>
                  <a:srgbClr val="4d4d4d"/>
                </a:solidFill>
                <a:latin typeface="微软雅黑"/>
                <a:ea typeface="微软雅黑"/>
              </a:rPr>
              <a:t>X</a:t>
            </a:r>
            <a:r>
              <a:rPr b="0" lang="zh-CN" sz="2000" spc="-1" strike="noStrike">
                <a:solidFill>
                  <a:srgbClr val="4d4d4d"/>
                </a:solidFill>
                <a:latin typeface="微软雅黑"/>
                <a:ea typeface="微软雅黑"/>
              </a:rPr>
              <a:t>教授 </a:t>
            </a:r>
            <a:endParaRPr b="0" lang="en-US" sz="2000" spc="-1" strike="noStrike">
              <a:solidFill>
                <a:srgbClr val="54a0d8"/>
              </a:solidFill>
              <a:latin typeface="Arial"/>
            </a:endParaRPr>
          </a:p>
        </p:txBody>
      </p:sp>
      <p:sp>
        <p:nvSpPr>
          <p:cNvPr id="752" name="TextBox 82"/>
          <p:cNvSpPr/>
          <p:nvPr/>
        </p:nvSpPr>
        <p:spPr>
          <a:xfrm>
            <a:off x="3576600" y="5805360"/>
            <a:ext cx="247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微软雅黑"/>
                <a:ea typeface="微软雅黑"/>
              </a:rPr>
              <a:t>学号：</a:t>
            </a:r>
            <a:r>
              <a:rPr b="0" lang="en-US" sz="2000" spc="-1" strike="noStrike">
                <a:solidFill>
                  <a:srgbClr val="4d4d4d"/>
                </a:solidFill>
                <a:latin typeface="微软雅黑"/>
                <a:ea typeface="微软雅黑"/>
              </a:rPr>
              <a:t>2016000075</a:t>
            </a:r>
            <a:endParaRPr b="0" lang="en-US" sz="2000" spc="-1" strike="noStrike">
              <a:solidFill>
                <a:srgbClr val="54a0d8"/>
              </a:solidFill>
              <a:latin typeface="Arial"/>
            </a:endParaRPr>
          </a:p>
        </p:txBody>
      </p:sp>
      <p:sp>
        <p:nvSpPr>
          <p:cNvPr id="753" name="TextBox 82"/>
          <p:cNvSpPr/>
          <p:nvPr/>
        </p:nvSpPr>
        <p:spPr>
          <a:xfrm>
            <a:off x="7359480" y="5805360"/>
            <a:ext cx="247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微软雅黑"/>
                <a:ea typeface="微软雅黑"/>
              </a:rPr>
              <a:t>答辩人：优品</a:t>
            </a:r>
            <a:r>
              <a:rPr b="0" lang="en-US" sz="2000" spc="-1" strike="noStrike">
                <a:solidFill>
                  <a:srgbClr val="4d4d4d"/>
                </a:solidFill>
                <a:latin typeface="微软雅黑"/>
                <a:ea typeface="微软雅黑"/>
              </a:rPr>
              <a:t>PPT</a:t>
            </a:r>
            <a:endParaRPr b="0" lang="en-US" sz="2000" spc="-1" strike="noStrike">
              <a:solidFill>
                <a:srgbClr val="54a0d8"/>
              </a:solidFill>
              <a:latin typeface="Arial"/>
            </a:endParaRPr>
          </a:p>
        </p:txBody>
      </p:sp>
      <p:pic>
        <p:nvPicPr>
          <p:cNvPr id="754" name="组合 25" descr=""/>
          <p:cNvPicPr/>
          <p:nvPr/>
        </p:nvPicPr>
        <p:blipFill>
          <a:blip r:embed="rId2"/>
          <a:stretch/>
        </p:blipFill>
        <p:spPr>
          <a:xfrm>
            <a:off x="4651200" y="1090440"/>
            <a:ext cx="2713320" cy="987480"/>
          </a:xfrm>
          <a:prstGeom prst="rect">
            <a:avLst/>
          </a:prstGeom>
          <a:ln w="0">
            <a:noFill/>
          </a:ln>
        </p:spPr>
      </p:pic>
      <p:sp>
        <p:nvSpPr>
          <p:cNvPr id="755" name="直接连接符 28"/>
          <p:cNvSpPr/>
          <p:nvPr/>
        </p:nvSpPr>
        <p:spPr>
          <a:xfrm>
            <a:off x="1563840" y="3500280"/>
            <a:ext cx="903096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grpSp>
        <p:nvGrpSpPr>
          <p:cNvPr id="756" name="Group 4"/>
          <p:cNvGrpSpPr/>
          <p:nvPr/>
        </p:nvGrpSpPr>
        <p:grpSpPr>
          <a:xfrm>
            <a:off x="5492880" y="3759120"/>
            <a:ext cx="1212840" cy="1214640"/>
            <a:chOff x="5492880" y="3759120"/>
            <a:chExt cx="1212840" cy="1214640"/>
          </a:xfrm>
        </p:grpSpPr>
        <p:sp>
          <p:nvSpPr>
            <p:cNvPr id="757" name="Freeform 5"/>
            <p:cNvSpPr/>
            <p:nvPr/>
          </p:nvSpPr>
          <p:spPr>
            <a:xfrm>
              <a:off x="5492880" y="3759120"/>
              <a:ext cx="1212840" cy="1214640"/>
            </a:xfrm>
            <a:custGeom>
              <a:avLst/>
              <a:gdLst>
                <a:gd name="textAreaLeft" fmla="*/ 0 w 1212840"/>
                <a:gd name="textAreaRight" fmla="*/ 1213200 w 1212840"/>
                <a:gd name="textAreaTop" fmla="*/ 0 h 1214640"/>
                <a:gd name="textAreaBottom" fmla="*/ 1215000 h 1214640"/>
              </a:gdLst>
              <a:ahLst/>
              <a:rect l="textAreaLeft" t="textAreaTop" r="textAreaRight" b="textAreaBottom"/>
              <a:pathLst>
                <a:path w="2046" h="2046">
                  <a:moveTo>
                    <a:pt x="1023" y="0"/>
                  </a:moveTo>
                  <a:cubicBezTo>
                    <a:pt x="1588" y="0"/>
                    <a:pt x="2046" y="458"/>
                    <a:pt x="2046" y="1023"/>
                  </a:cubicBezTo>
                  <a:cubicBezTo>
                    <a:pt x="2046" y="1588"/>
                    <a:pt x="1588" y="2046"/>
                    <a:pt x="1023" y="2046"/>
                  </a:cubicBezTo>
                  <a:cubicBezTo>
                    <a:pt x="458" y="2046"/>
                    <a:pt x="0" y="1588"/>
                    <a:pt x="0" y="1023"/>
                  </a:cubicBezTo>
                  <a:cubicBezTo>
                    <a:pt x="0" y="458"/>
                    <a:pt x="458" y="0"/>
                    <a:pt x="1023" y="0"/>
                  </a:cubicBezTo>
                  <a:close/>
                  <a:moveTo>
                    <a:pt x="1023" y="141"/>
                  </a:moveTo>
                  <a:cubicBezTo>
                    <a:pt x="1510" y="141"/>
                    <a:pt x="1905" y="536"/>
                    <a:pt x="1905" y="1023"/>
                  </a:cubicBezTo>
                  <a:cubicBezTo>
                    <a:pt x="1905" y="1510"/>
                    <a:pt x="1510" y="1905"/>
                    <a:pt x="1023" y="1905"/>
                  </a:cubicBezTo>
                  <a:cubicBezTo>
                    <a:pt x="536" y="1905"/>
                    <a:pt x="141" y="1510"/>
                    <a:pt x="141" y="1023"/>
                  </a:cubicBezTo>
                  <a:cubicBezTo>
                    <a:pt x="141" y="536"/>
                    <a:pt x="536" y="141"/>
                    <a:pt x="1023" y="141"/>
                  </a:cubicBezTo>
                  <a:close/>
                  <a:moveTo>
                    <a:pt x="1023" y="83"/>
                  </a:moveTo>
                  <a:cubicBezTo>
                    <a:pt x="1543" y="83"/>
                    <a:pt x="1964" y="504"/>
                    <a:pt x="1964" y="1023"/>
                  </a:cubicBezTo>
                  <a:cubicBezTo>
                    <a:pt x="1964" y="1543"/>
                    <a:pt x="1543" y="1964"/>
                    <a:pt x="1023" y="1964"/>
                  </a:cubicBezTo>
                  <a:cubicBezTo>
                    <a:pt x="504" y="1964"/>
                    <a:pt x="83" y="1543"/>
                    <a:pt x="83" y="1023"/>
                  </a:cubicBezTo>
                  <a:cubicBezTo>
                    <a:pt x="83" y="504"/>
                    <a:pt x="504" y="83"/>
                    <a:pt x="1023" y="83"/>
                  </a:cubicBez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58" name="Freeform 6"/>
            <p:cNvSpPr/>
            <p:nvPr/>
          </p:nvSpPr>
          <p:spPr>
            <a:xfrm>
              <a:off x="5719680" y="4089600"/>
              <a:ext cx="809640" cy="666720"/>
            </a:xfrm>
            <a:custGeom>
              <a:avLst/>
              <a:gdLst>
                <a:gd name="textAreaLeft" fmla="*/ 0 w 809640"/>
                <a:gd name="textAreaRight" fmla="*/ 810000 w 809640"/>
                <a:gd name="textAreaTop" fmla="*/ 0 h 666720"/>
                <a:gd name="textAreaBottom" fmla="*/ 667080 h 666720"/>
              </a:gdLst>
              <a:ahLst/>
              <a:rect l="textAreaLeft" t="textAreaTop" r="textAreaRight" b="textAreaBottom"/>
              <a:pathLst>
                <a:path w="1364" h="1123">
                  <a:moveTo>
                    <a:pt x="717" y="953"/>
                  </a:moveTo>
                  <a:cubicBezTo>
                    <a:pt x="707" y="917"/>
                    <a:pt x="707" y="881"/>
                    <a:pt x="725" y="847"/>
                  </a:cubicBezTo>
                  <a:lnTo>
                    <a:pt x="54" y="632"/>
                  </a:lnTo>
                  <a:cubicBezTo>
                    <a:pt x="28" y="665"/>
                    <a:pt x="21" y="710"/>
                    <a:pt x="51" y="757"/>
                  </a:cubicBezTo>
                  <a:lnTo>
                    <a:pt x="730" y="975"/>
                  </a:lnTo>
                  <a:lnTo>
                    <a:pt x="1159" y="786"/>
                  </a:lnTo>
                  <a:cubicBezTo>
                    <a:pt x="1170" y="781"/>
                    <a:pt x="1169" y="773"/>
                    <a:pt x="1155" y="768"/>
                  </a:cubicBezTo>
                  <a:lnTo>
                    <a:pt x="1143" y="765"/>
                  </a:lnTo>
                  <a:lnTo>
                    <a:pt x="717" y="953"/>
                  </a:lnTo>
                  <a:close/>
                  <a:moveTo>
                    <a:pt x="720" y="805"/>
                  </a:moveTo>
                  <a:cubicBezTo>
                    <a:pt x="710" y="770"/>
                    <a:pt x="710" y="734"/>
                    <a:pt x="729" y="700"/>
                  </a:cubicBezTo>
                  <a:lnTo>
                    <a:pt x="57" y="484"/>
                  </a:lnTo>
                  <a:cubicBezTo>
                    <a:pt x="31" y="518"/>
                    <a:pt x="24" y="563"/>
                    <a:pt x="55" y="610"/>
                  </a:cubicBezTo>
                  <a:lnTo>
                    <a:pt x="733" y="828"/>
                  </a:lnTo>
                  <a:lnTo>
                    <a:pt x="1162" y="639"/>
                  </a:lnTo>
                  <a:cubicBezTo>
                    <a:pt x="1174" y="633"/>
                    <a:pt x="1172" y="626"/>
                    <a:pt x="1158" y="621"/>
                  </a:cubicBezTo>
                  <a:lnTo>
                    <a:pt x="1146" y="617"/>
                  </a:lnTo>
                  <a:lnTo>
                    <a:pt x="720" y="805"/>
                  </a:lnTo>
                  <a:close/>
                  <a:moveTo>
                    <a:pt x="742" y="694"/>
                  </a:moveTo>
                  <a:lnTo>
                    <a:pt x="1001" y="579"/>
                  </a:lnTo>
                  <a:lnTo>
                    <a:pt x="1021" y="451"/>
                  </a:lnTo>
                  <a:lnTo>
                    <a:pt x="990" y="441"/>
                  </a:lnTo>
                  <a:cubicBezTo>
                    <a:pt x="976" y="548"/>
                    <a:pt x="711" y="556"/>
                    <a:pt x="638" y="556"/>
                  </a:cubicBezTo>
                  <a:cubicBezTo>
                    <a:pt x="562" y="556"/>
                    <a:pt x="284" y="548"/>
                    <a:pt x="284" y="432"/>
                  </a:cubicBezTo>
                  <a:lnTo>
                    <a:pt x="284" y="384"/>
                  </a:lnTo>
                  <a:lnTo>
                    <a:pt x="71" y="478"/>
                  </a:lnTo>
                  <a:lnTo>
                    <a:pt x="742" y="694"/>
                  </a:lnTo>
                  <a:close/>
                  <a:moveTo>
                    <a:pt x="720" y="1101"/>
                  </a:moveTo>
                  <a:cubicBezTo>
                    <a:pt x="710" y="1066"/>
                    <a:pt x="710" y="1030"/>
                    <a:pt x="728" y="995"/>
                  </a:cubicBezTo>
                  <a:lnTo>
                    <a:pt x="57" y="780"/>
                  </a:lnTo>
                  <a:cubicBezTo>
                    <a:pt x="31" y="814"/>
                    <a:pt x="24" y="858"/>
                    <a:pt x="54" y="906"/>
                  </a:cubicBezTo>
                  <a:lnTo>
                    <a:pt x="733" y="1123"/>
                  </a:lnTo>
                  <a:lnTo>
                    <a:pt x="1162" y="934"/>
                  </a:lnTo>
                  <a:cubicBezTo>
                    <a:pt x="1173" y="929"/>
                    <a:pt x="1171" y="921"/>
                    <a:pt x="1158" y="917"/>
                  </a:cubicBezTo>
                  <a:lnTo>
                    <a:pt x="1146" y="913"/>
                  </a:lnTo>
                  <a:lnTo>
                    <a:pt x="720" y="1101"/>
                  </a:lnTo>
                  <a:close/>
                  <a:moveTo>
                    <a:pt x="1067" y="219"/>
                  </a:moveTo>
                  <a:lnTo>
                    <a:pt x="1067" y="344"/>
                  </a:lnTo>
                  <a:cubicBezTo>
                    <a:pt x="1062" y="345"/>
                    <a:pt x="1058" y="348"/>
                    <a:pt x="1058" y="352"/>
                  </a:cubicBezTo>
                  <a:lnTo>
                    <a:pt x="1056" y="368"/>
                  </a:lnTo>
                  <a:cubicBezTo>
                    <a:pt x="1056" y="378"/>
                    <a:pt x="1065" y="382"/>
                    <a:pt x="1064" y="389"/>
                  </a:cubicBezTo>
                  <a:lnTo>
                    <a:pt x="1063" y="404"/>
                  </a:lnTo>
                  <a:cubicBezTo>
                    <a:pt x="1063" y="410"/>
                    <a:pt x="1057" y="415"/>
                    <a:pt x="1056" y="422"/>
                  </a:cubicBezTo>
                  <a:lnTo>
                    <a:pt x="1035" y="562"/>
                  </a:lnTo>
                  <a:cubicBezTo>
                    <a:pt x="1043" y="579"/>
                    <a:pt x="1127" y="579"/>
                    <a:pt x="1136" y="562"/>
                  </a:cubicBezTo>
                  <a:lnTo>
                    <a:pt x="1115" y="422"/>
                  </a:lnTo>
                  <a:cubicBezTo>
                    <a:pt x="1114" y="415"/>
                    <a:pt x="1108" y="410"/>
                    <a:pt x="1107" y="404"/>
                  </a:cubicBezTo>
                  <a:lnTo>
                    <a:pt x="1106" y="389"/>
                  </a:lnTo>
                  <a:cubicBezTo>
                    <a:pt x="1106" y="381"/>
                    <a:pt x="1115" y="379"/>
                    <a:pt x="1115" y="369"/>
                  </a:cubicBezTo>
                  <a:lnTo>
                    <a:pt x="1114" y="352"/>
                  </a:lnTo>
                  <a:cubicBezTo>
                    <a:pt x="1113" y="347"/>
                    <a:pt x="1109" y="344"/>
                    <a:pt x="1104" y="344"/>
                  </a:cubicBezTo>
                  <a:cubicBezTo>
                    <a:pt x="1104" y="218"/>
                    <a:pt x="1104" y="362"/>
                    <a:pt x="1104" y="226"/>
                  </a:cubicBezTo>
                  <a:lnTo>
                    <a:pt x="1356" y="183"/>
                  </a:lnTo>
                  <a:cubicBezTo>
                    <a:pt x="1362" y="182"/>
                    <a:pt x="1364" y="177"/>
                    <a:pt x="1356" y="174"/>
                  </a:cubicBezTo>
                  <a:cubicBezTo>
                    <a:pt x="1235" y="139"/>
                    <a:pt x="1125" y="107"/>
                    <a:pt x="1024" y="77"/>
                  </a:cubicBezTo>
                  <a:cubicBezTo>
                    <a:pt x="934" y="51"/>
                    <a:pt x="850" y="26"/>
                    <a:pt x="773" y="4"/>
                  </a:cubicBezTo>
                  <a:cubicBezTo>
                    <a:pt x="759" y="0"/>
                    <a:pt x="750" y="0"/>
                    <a:pt x="736" y="1"/>
                  </a:cubicBezTo>
                  <a:cubicBezTo>
                    <a:pt x="635" y="9"/>
                    <a:pt x="527" y="18"/>
                    <a:pt x="413" y="28"/>
                  </a:cubicBezTo>
                  <a:cubicBezTo>
                    <a:pt x="289" y="39"/>
                    <a:pt x="155" y="50"/>
                    <a:pt x="12" y="62"/>
                  </a:cubicBezTo>
                  <a:cubicBezTo>
                    <a:pt x="0" y="64"/>
                    <a:pt x="3" y="73"/>
                    <a:pt x="11" y="76"/>
                  </a:cubicBezTo>
                  <a:cubicBezTo>
                    <a:pt x="68" y="106"/>
                    <a:pt x="130" y="139"/>
                    <a:pt x="198" y="175"/>
                  </a:cubicBezTo>
                  <a:cubicBezTo>
                    <a:pt x="281" y="219"/>
                    <a:pt x="374" y="268"/>
                    <a:pt x="480" y="323"/>
                  </a:cubicBezTo>
                  <a:cubicBezTo>
                    <a:pt x="489" y="328"/>
                    <a:pt x="508" y="330"/>
                    <a:pt x="523" y="327"/>
                  </a:cubicBezTo>
                  <a:cubicBezTo>
                    <a:pt x="695" y="298"/>
                    <a:pt x="867" y="268"/>
                    <a:pt x="1039" y="238"/>
                  </a:cubicBezTo>
                  <a:cubicBezTo>
                    <a:pt x="1038" y="232"/>
                    <a:pt x="1036" y="229"/>
                    <a:pt x="1029" y="227"/>
                  </a:cubicBezTo>
                  <a:lnTo>
                    <a:pt x="628" y="161"/>
                  </a:lnTo>
                  <a:cubicBezTo>
                    <a:pt x="593" y="156"/>
                    <a:pt x="599" y="131"/>
                    <a:pt x="619" y="134"/>
                  </a:cubicBezTo>
                  <a:lnTo>
                    <a:pt x="1054" y="204"/>
                  </a:lnTo>
                  <a:cubicBezTo>
                    <a:pt x="1062" y="206"/>
                    <a:pt x="1066" y="211"/>
                    <a:pt x="1067" y="219"/>
                  </a:cubicBezTo>
                  <a:close/>
                  <a:moveTo>
                    <a:pt x="961" y="281"/>
                  </a:moveTo>
                  <a:lnTo>
                    <a:pt x="961" y="432"/>
                  </a:lnTo>
                  <a:cubicBezTo>
                    <a:pt x="961" y="557"/>
                    <a:pt x="315" y="557"/>
                    <a:pt x="315" y="432"/>
                  </a:cubicBezTo>
                  <a:lnTo>
                    <a:pt x="315" y="270"/>
                  </a:lnTo>
                  <a:cubicBezTo>
                    <a:pt x="365" y="296"/>
                    <a:pt x="415" y="323"/>
                    <a:pt x="466" y="350"/>
                  </a:cubicBezTo>
                  <a:cubicBezTo>
                    <a:pt x="483" y="359"/>
                    <a:pt x="509" y="360"/>
                    <a:pt x="528" y="357"/>
                  </a:cubicBezTo>
                  <a:cubicBezTo>
                    <a:pt x="672" y="331"/>
                    <a:pt x="816" y="306"/>
                    <a:pt x="961" y="281"/>
                  </a:cubicBezTo>
                  <a:close/>
                </a:path>
              </a:pathLst>
            </a:custGeom>
            <a:solidFill>
              <a:srgbClr val="fefefe"/>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grpSp>
    </p:spTree>
  </p:cSld>
  <p:transition spd="slow" advTm="6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2.1 </a:t>
            </a:r>
            <a:r>
              <a:rPr b="0" lang="zh-CN" sz="2800" spc="-1" strike="noStrike">
                <a:solidFill>
                  <a:srgbClr val="4d4d4d"/>
                </a:solidFill>
                <a:latin typeface="微软雅黑"/>
                <a:ea typeface="微软雅黑"/>
              </a:rPr>
              <a:t>理论框架</a:t>
            </a:r>
            <a:endParaRPr b="0" lang="en-US" sz="2800" spc="-1" strike="noStrike">
              <a:solidFill>
                <a:srgbClr val="54a0d8"/>
              </a:solidFill>
              <a:latin typeface="Arial"/>
            </a:endParaRPr>
          </a:p>
        </p:txBody>
      </p:sp>
      <p:sp>
        <p:nvSpPr>
          <p:cNvPr id="934"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35" name="直接连接符 26"/>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936" name="Freeform 5"/>
          <p:cNvSpPr/>
          <p:nvPr/>
        </p:nvSpPr>
        <p:spPr>
          <a:xfrm>
            <a:off x="1417680" y="1461960"/>
            <a:ext cx="2268360" cy="2749680"/>
          </a:xfrm>
          <a:custGeom>
            <a:avLst/>
            <a:gdLst>
              <a:gd name="textAreaLeft" fmla="*/ 0 w 2268360"/>
              <a:gd name="textAreaRight" fmla="*/ 2268720 w 2268360"/>
              <a:gd name="textAreaTop" fmla="*/ 0 h 2749680"/>
              <a:gd name="textAreaBottom" fmla="*/ 2750040 h 2749680"/>
            </a:gdLst>
            <a:ahLst/>
            <a:rect l="textAreaLeft" t="textAreaTop" r="textAreaRight" b="textAreaBottom"/>
            <a:pathLst>
              <a:path w="3102" h="3756">
                <a:moveTo>
                  <a:pt x="1551" y="0"/>
                </a:moveTo>
                <a:cubicBezTo>
                  <a:pt x="2407" y="0"/>
                  <a:pt x="3102" y="695"/>
                  <a:pt x="3102" y="1551"/>
                </a:cubicBezTo>
                <a:cubicBezTo>
                  <a:pt x="3102" y="1987"/>
                  <a:pt x="2922" y="2381"/>
                  <a:pt x="2632" y="2662"/>
                </a:cubicBezTo>
                <a:cubicBezTo>
                  <a:pt x="2558" y="2748"/>
                  <a:pt x="1656" y="3650"/>
                  <a:pt x="1551" y="3756"/>
                </a:cubicBezTo>
                <a:cubicBezTo>
                  <a:pt x="1437" y="3642"/>
                  <a:pt x="576" y="2768"/>
                  <a:pt x="507" y="2698"/>
                </a:cubicBezTo>
                <a:cubicBezTo>
                  <a:pt x="195" y="2414"/>
                  <a:pt x="0" y="2006"/>
                  <a:pt x="0" y="1551"/>
                </a:cubicBezTo>
                <a:cubicBezTo>
                  <a:pt x="0" y="695"/>
                  <a:pt x="694" y="0"/>
                  <a:pt x="1551" y="0"/>
                </a:cubicBezTo>
                <a:close/>
              </a:path>
            </a:pathLst>
          </a:custGeom>
          <a:solidFill>
            <a:srgbClr val="f2f2f2"/>
          </a:solidFill>
          <a:ln w="9360">
            <a:solidFill>
              <a:srgbClr val="b7b7b7"/>
            </a:solidFill>
            <a:round/>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37" name="Oval 6"/>
          <p:cNvSpPr/>
          <p:nvPr/>
        </p:nvSpPr>
        <p:spPr>
          <a:xfrm>
            <a:off x="2179800" y="1082520"/>
            <a:ext cx="744480" cy="744840"/>
          </a:xfrm>
          <a:prstGeom prst="ellipse">
            <a:avLst/>
          </a:pr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38" name="Freeform 7"/>
          <p:cNvSpPr/>
          <p:nvPr/>
        </p:nvSpPr>
        <p:spPr>
          <a:xfrm>
            <a:off x="4869000" y="1461960"/>
            <a:ext cx="2268360" cy="2749680"/>
          </a:xfrm>
          <a:custGeom>
            <a:avLst/>
            <a:gdLst>
              <a:gd name="textAreaLeft" fmla="*/ 0 w 2268360"/>
              <a:gd name="textAreaRight" fmla="*/ 2268720 w 2268360"/>
              <a:gd name="textAreaTop" fmla="*/ 0 h 2749680"/>
              <a:gd name="textAreaBottom" fmla="*/ 2750040 h 2749680"/>
            </a:gdLst>
            <a:ahLst/>
            <a:rect l="textAreaLeft" t="textAreaTop" r="textAreaRight" b="textAreaBottom"/>
            <a:pathLst>
              <a:path w="3102" h="3756">
                <a:moveTo>
                  <a:pt x="1551" y="0"/>
                </a:moveTo>
                <a:cubicBezTo>
                  <a:pt x="2408" y="0"/>
                  <a:pt x="3102" y="695"/>
                  <a:pt x="3102" y="1551"/>
                </a:cubicBezTo>
                <a:cubicBezTo>
                  <a:pt x="3102" y="1987"/>
                  <a:pt x="2922" y="2381"/>
                  <a:pt x="2633" y="2662"/>
                </a:cubicBezTo>
                <a:cubicBezTo>
                  <a:pt x="2558" y="2748"/>
                  <a:pt x="1657" y="3650"/>
                  <a:pt x="1551" y="3756"/>
                </a:cubicBezTo>
                <a:cubicBezTo>
                  <a:pt x="1437" y="3642"/>
                  <a:pt x="576" y="2768"/>
                  <a:pt x="507" y="2698"/>
                </a:cubicBezTo>
                <a:cubicBezTo>
                  <a:pt x="196" y="2414"/>
                  <a:pt x="0" y="2006"/>
                  <a:pt x="0" y="1551"/>
                </a:cubicBezTo>
                <a:cubicBezTo>
                  <a:pt x="0" y="695"/>
                  <a:pt x="695" y="0"/>
                  <a:pt x="1551" y="0"/>
                </a:cubicBezTo>
                <a:close/>
              </a:path>
            </a:pathLst>
          </a:custGeom>
          <a:solidFill>
            <a:srgbClr val="f2f2f2"/>
          </a:solidFill>
          <a:ln w="9360">
            <a:solidFill>
              <a:srgbClr val="b7b7b7"/>
            </a:solidFill>
            <a:round/>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39" name="Oval 8"/>
          <p:cNvSpPr/>
          <p:nvPr/>
        </p:nvSpPr>
        <p:spPr>
          <a:xfrm>
            <a:off x="5630760" y="1082520"/>
            <a:ext cx="744480" cy="744840"/>
          </a:xfrm>
          <a:prstGeom prst="ellipse">
            <a:avLst/>
          </a:pr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40" name="Freeform 9"/>
          <p:cNvSpPr/>
          <p:nvPr/>
        </p:nvSpPr>
        <p:spPr>
          <a:xfrm>
            <a:off x="8319960" y="1461960"/>
            <a:ext cx="2268720" cy="2749680"/>
          </a:xfrm>
          <a:custGeom>
            <a:avLst/>
            <a:gdLst>
              <a:gd name="textAreaLeft" fmla="*/ 0 w 2268720"/>
              <a:gd name="textAreaRight" fmla="*/ 2269080 w 2268720"/>
              <a:gd name="textAreaTop" fmla="*/ 0 h 2749680"/>
              <a:gd name="textAreaBottom" fmla="*/ 2750040 h 2749680"/>
            </a:gdLst>
            <a:ahLst/>
            <a:rect l="textAreaLeft" t="textAreaTop" r="textAreaRight" b="textAreaBottom"/>
            <a:pathLst>
              <a:path w="3102" h="3756">
                <a:moveTo>
                  <a:pt x="1551" y="0"/>
                </a:moveTo>
                <a:cubicBezTo>
                  <a:pt x="2408" y="0"/>
                  <a:pt x="3102" y="695"/>
                  <a:pt x="3102" y="1551"/>
                </a:cubicBezTo>
                <a:cubicBezTo>
                  <a:pt x="3102" y="1987"/>
                  <a:pt x="2922" y="2381"/>
                  <a:pt x="2633" y="2662"/>
                </a:cubicBezTo>
                <a:cubicBezTo>
                  <a:pt x="2559" y="2748"/>
                  <a:pt x="1657" y="3650"/>
                  <a:pt x="1551" y="3756"/>
                </a:cubicBezTo>
                <a:cubicBezTo>
                  <a:pt x="1438" y="3642"/>
                  <a:pt x="576" y="2768"/>
                  <a:pt x="507" y="2698"/>
                </a:cubicBezTo>
                <a:cubicBezTo>
                  <a:pt x="196" y="2414"/>
                  <a:pt x="0" y="2006"/>
                  <a:pt x="0" y="1551"/>
                </a:cubicBezTo>
                <a:cubicBezTo>
                  <a:pt x="0" y="695"/>
                  <a:pt x="695" y="0"/>
                  <a:pt x="1551" y="0"/>
                </a:cubicBezTo>
                <a:close/>
              </a:path>
            </a:pathLst>
          </a:custGeom>
          <a:solidFill>
            <a:srgbClr val="f2f2f2"/>
          </a:solidFill>
          <a:ln w="9360">
            <a:solidFill>
              <a:srgbClr val="b7b7b7"/>
            </a:solidFill>
            <a:round/>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41" name="Oval 10"/>
          <p:cNvSpPr/>
          <p:nvPr/>
        </p:nvSpPr>
        <p:spPr>
          <a:xfrm>
            <a:off x="9082080" y="1082520"/>
            <a:ext cx="744480" cy="744840"/>
          </a:xfrm>
          <a:prstGeom prst="ellipse">
            <a:avLst/>
          </a:pr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42" name="Freeform 11"/>
          <p:cNvSpPr/>
          <p:nvPr/>
        </p:nvSpPr>
        <p:spPr>
          <a:xfrm>
            <a:off x="3143160" y="2813040"/>
            <a:ext cx="2268720" cy="2747880"/>
          </a:xfrm>
          <a:custGeom>
            <a:avLst/>
            <a:gdLst>
              <a:gd name="textAreaLeft" fmla="*/ 0 w 2268720"/>
              <a:gd name="textAreaRight" fmla="*/ 2269080 w 2268720"/>
              <a:gd name="textAreaTop" fmla="*/ 0 h 2747880"/>
              <a:gd name="textAreaBottom" fmla="*/ 2748240 h 2747880"/>
            </a:gdLst>
            <a:ahLst/>
            <a:rect l="textAreaLeft" t="textAreaTop" r="textAreaRight" b="textAreaBottom"/>
            <a:pathLst>
              <a:path w="3101" h="3756">
                <a:moveTo>
                  <a:pt x="1550" y="3756"/>
                </a:moveTo>
                <a:cubicBezTo>
                  <a:pt x="2407" y="3756"/>
                  <a:pt x="3101" y="3061"/>
                  <a:pt x="3101" y="2205"/>
                </a:cubicBezTo>
                <a:cubicBezTo>
                  <a:pt x="3101" y="1769"/>
                  <a:pt x="2922" y="1375"/>
                  <a:pt x="2632" y="1093"/>
                </a:cubicBezTo>
                <a:cubicBezTo>
                  <a:pt x="2558" y="1008"/>
                  <a:pt x="1656" y="106"/>
                  <a:pt x="1551" y="0"/>
                </a:cubicBezTo>
                <a:cubicBezTo>
                  <a:pt x="1437" y="114"/>
                  <a:pt x="575" y="988"/>
                  <a:pt x="506" y="1058"/>
                </a:cubicBezTo>
                <a:cubicBezTo>
                  <a:pt x="195" y="1342"/>
                  <a:pt x="0" y="1750"/>
                  <a:pt x="0" y="2205"/>
                </a:cubicBezTo>
                <a:cubicBezTo>
                  <a:pt x="0" y="3061"/>
                  <a:pt x="694" y="3756"/>
                  <a:pt x="1550" y="3756"/>
                </a:cubicBezTo>
                <a:close/>
              </a:path>
            </a:pathLst>
          </a:custGeom>
          <a:solidFill>
            <a:srgbClr val="f2f2f2"/>
          </a:solidFill>
          <a:ln w="9360">
            <a:solidFill>
              <a:srgbClr val="b7b7b7"/>
            </a:solidFill>
            <a:round/>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43" name="Oval 12"/>
          <p:cNvSpPr/>
          <p:nvPr/>
        </p:nvSpPr>
        <p:spPr>
          <a:xfrm>
            <a:off x="3905280" y="5133960"/>
            <a:ext cx="744480" cy="744480"/>
          </a:xfrm>
          <a:prstGeom prst="ellipse">
            <a:avLst/>
          </a:pr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44" name="Freeform 13"/>
          <p:cNvSpPr/>
          <p:nvPr/>
        </p:nvSpPr>
        <p:spPr>
          <a:xfrm>
            <a:off x="6594480" y="2813040"/>
            <a:ext cx="2268360" cy="2747880"/>
          </a:xfrm>
          <a:custGeom>
            <a:avLst/>
            <a:gdLst>
              <a:gd name="textAreaLeft" fmla="*/ 0 w 2268360"/>
              <a:gd name="textAreaRight" fmla="*/ 2268720 w 2268360"/>
              <a:gd name="textAreaTop" fmla="*/ 0 h 2747880"/>
              <a:gd name="textAreaBottom" fmla="*/ 2748240 h 2747880"/>
            </a:gdLst>
            <a:ahLst/>
            <a:rect l="textAreaLeft" t="textAreaTop" r="textAreaRight" b="textAreaBottom"/>
            <a:pathLst>
              <a:path w="3102" h="3756">
                <a:moveTo>
                  <a:pt x="1551" y="3756"/>
                </a:moveTo>
                <a:cubicBezTo>
                  <a:pt x="2407" y="3756"/>
                  <a:pt x="3102" y="3061"/>
                  <a:pt x="3102" y="2205"/>
                </a:cubicBezTo>
                <a:cubicBezTo>
                  <a:pt x="3102" y="1769"/>
                  <a:pt x="2922" y="1375"/>
                  <a:pt x="2632" y="1093"/>
                </a:cubicBezTo>
                <a:cubicBezTo>
                  <a:pt x="2558" y="1008"/>
                  <a:pt x="1656" y="106"/>
                  <a:pt x="1551" y="0"/>
                </a:cubicBezTo>
                <a:cubicBezTo>
                  <a:pt x="1437" y="114"/>
                  <a:pt x="576" y="988"/>
                  <a:pt x="507" y="1058"/>
                </a:cubicBezTo>
                <a:cubicBezTo>
                  <a:pt x="195" y="1342"/>
                  <a:pt x="0" y="1750"/>
                  <a:pt x="0" y="2205"/>
                </a:cubicBezTo>
                <a:cubicBezTo>
                  <a:pt x="0" y="3061"/>
                  <a:pt x="694" y="3756"/>
                  <a:pt x="1551" y="3756"/>
                </a:cubicBezTo>
                <a:close/>
              </a:path>
            </a:pathLst>
          </a:custGeom>
          <a:solidFill>
            <a:srgbClr val="f2f2f2"/>
          </a:solidFill>
          <a:ln w="9360">
            <a:solidFill>
              <a:srgbClr val="b7b7b7"/>
            </a:solidFill>
            <a:round/>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45" name="Oval 14"/>
          <p:cNvSpPr/>
          <p:nvPr/>
        </p:nvSpPr>
        <p:spPr>
          <a:xfrm>
            <a:off x="7356600" y="5133960"/>
            <a:ext cx="744480" cy="744480"/>
          </a:xfrm>
          <a:prstGeom prst="ellipse">
            <a:avLst/>
          </a:pr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46" name="TextBox 14"/>
          <p:cNvSpPr/>
          <p:nvPr/>
        </p:nvSpPr>
        <p:spPr>
          <a:xfrm>
            <a:off x="1677960" y="1914480"/>
            <a:ext cx="174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中国文化概论</a:t>
            </a:r>
            <a:endParaRPr b="0" lang="en-US" sz="1800" spc="-1" strike="noStrike">
              <a:solidFill>
                <a:srgbClr val="54a0d8"/>
              </a:solidFill>
              <a:latin typeface="Arial"/>
            </a:endParaRPr>
          </a:p>
        </p:txBody>
      </p:sp>
      <p:sp>
        <p:nvSpPr>
          <p:cNvPr id="947" name="TextBox 15"/>
          <p:cNvSpPr/>
          <p:nvPr/>
        </p:nvSpPr>
        <p:spPr>
          <a:xfrm>
            <a:off x="1682640" y="2308320"/>
            <a:ext cx="17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请在这里输入段落文本内容请在这里输入段落文本内容</a:t>
            </a:r>
            <a:endParaRPr b="0" lang="en-US" sz="1600" spc="-1" strike="noStrike">
              <a:solidFill>
                <a:srgbClr val="54a0d8"/>
              </a:solidFill>
              <a:latin typeface="Arial"/>
            </a:endParaRPr>
          </a:p>
        </p:txBody>
      </p:sp>
      <p:sp>
        <p:nvSpPr>
          <p:cNvPr id="948" name="文本框 85"/>
          <p:cNvSpPr/>
          <p:nvPr/>
        </p:nvSpPr>
        <p:spPr>
          <a:xfrm>
            <a:off x="2259000" y="11653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feline JL"/>
              </a:rPr>
              <a:t>01</a:t>
            </a:r>
            <a:endParaRPr b="0" lang="en-US" sz="2800" spc="-1" strike="noStrike">
              <a:solidFill>
                <a:srgbClr val="54a0d8"/>
              </a:solidFill>
              <a:latin typeface="Arial"/>
            </a:endParaRPr>
          </a:p>
        </p:txBody>
      </p:sp>
      <p:sp>
        <p:nvSpPr>
          <p:cNvPr id="949" name="TextBox 14"/>
          <p:cNvSpPr/>
          <p:nvPr/>
        </p:nvSpPr>
        <p:spPr>
          <a:xfrm>
            <a:off x="5264280" y="1914480"/>
            <a:ext cx="148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现代管理学</a:t>
            </a:r>
            <a:endParaRPr b="0" lang="en-US" sz="1800" spc="-1" strike="noStrike">
              <a:solidFill>
                <a:srgbClr val="54a0d8"/>
              </a:solidFill>
              <a:latin typeface="Arial"/>
            </a:endParaRPr>
          </a:p>
        </p:txBody>
      </p:sp>
      <p:sp>
        <p:nvSpPr>
          <p:cNvPr id="950" name="TextBox 15"/>
          <p:cNvSpPr/>
          <p:nvPr/>
        </p:nvSpPr>
        <p:spPr>
          <a:xfrm>
            <a:off x="5138640" y="2308320"/>
            <a:ext cx="17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请在这里输入段落文本内容请在这里输入段落文本内容</a:t>
            </a:r>
            <a:endParaRPr b="0" lang="en-US" sz="1600" spc="-1" strike="noStrike">
              <a:solidFill>
                <a:srgbClr val="54a0d8"/>
              </a:solidFill>
              <a:latin typeface="Arial"/>
            </a:endParaRPr>
          </a:p>
        </p:txBody>
      </p:sp>
      <p:sp>
        <p:nvSpPr>
          <p:cNvPr id="951" name="文本框 88"/>
          <p:cNvSpPr/>
          <p:nvPr/>
        </p:nvSpPr>
        <p:spPr>
          <a:xfrm>
            <a:off x="5743440" y="11653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feline JL"/>
              </a:rPr>
              <a:t>03</a:t>
            </a:r>
            <a:endParaRPr b="0" lang="en-US" sz="2800" spc="-1" strike="noStrike">
              <a:solidFill>
                <a:srgbClr val="54a0d8"/>
              </a:solidFill>
              <a:latin typeface="Arial"/>
            </a:endParaRPr>
          </a:p>
        </p:txBody>
      </p:sp>
      <p:sp>
        <p:nvSpPr>
          <p:cNvPr id="952" name="TextBox 14"/>
          <p:cNvSpPr/>
          <p:nvPr/>
        </p:nvSpPr>
        <p:spPr>
          <a:xfrm>
            <a:off x="8553600" y="1914480"/>
            <a:ext cx="17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行政组织理论</a:t>
            </a:r>
            <a:endParaRPr b="0" lang="en-US" sz="1800" spc="-1" strike="noStrike">
              <a:solidFill>
                <a:srgbClr val="54a0d8"/>
              </a:solidFill>
              <a:latin typeface="Arial"/>
            </a:endParaRPr>
          </a:p>
        </p:txBody>
      </p:sp>
      <p:sp>
        <p:nvSpPr>
          <p:cNvPr id="953" name="TextBox 15"/>
          <p:cNvSpPr/>
          <p:nvPr/>
        </p:nvSpPr>
        <p:spPr>
          <a:xfrm>
            <a:off x="8553600" y="2308320"/>
            <a:ext cx="17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请在这里输入段落文本内容请在这里输入段落文本内容</a:t>
            </a:r>
            <a:endParaRPr b="0" lang="en-US" sz="1600" spc="-1" strike="noStrike">
              <a:solidFill>
                <a:srgbClr val="54a0d8"/>
              </a:solidFill>
              <a:latin typeface="Arial"/>
            </a:endParaRPr>
          </a:p>
        </p:txBody>
      </p:sp>
      <p:sp>
        <p:nvSpPr>
          <p:cNvPr id="954" name="文本框 91"/>
          <p:cNvSpPr/>
          <p:nvPr/>
        </p:nvSpPr>
        <p:spPr>
          <a:xfrm>
            <a:off x="9185040" y="11653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feline JL"/>
              </a:rPr>
              <a:t>05</a:t>
            </a:r>
            <a:endParaRPr b="0" lang="en-US" sz="2800" spc="-1" strike="noStrike">
              <a:solidFill>
                <a:srgbClr val="54a0d8"/>
              </a:solidFill>
              <a:latin typeface="Arial"/>
            </a:endParaRPr>
          </a:p>
        </p:txBody>
      </p:sp>
      <p:sp>
        <p:nvSpPr>
          <p:cNvPr id="955" name="文本框 92"/>
          <p:cNvSpPr/>
          <p:nvPr/>
        </p:nvSpPr>
        <p:spPr>
          <a:xfrm>
            <a:off x="3987720" y="52275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feline JL"/>
              </a:rPr>
              <a:t>02</a:t>
            </a:r>
            <a:endParaRPr b="0" lang="en-US" sz="2800" spc="-1" strike="noStrike">
              <a:solidFill>
                <a:srgbClr val="54a0d8"/>
              </a:solidFill>
              <a:latin typeface="Arial"/>
            </a:endParaRPr>
          </a:p>
        </p:txBody>
      </p:sp>
      <p:sp>
        <p:nvSpPr>
          <p:cNvPr id="956" name="文本框 93"/>
          <p:cNvSpPr/>
          <p:nvPr/>
        </p:nvSpPr>
        <p:spPr>
          <a:xfrm>
            <a:off x="7460280" y="5218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feline JL"/>
              </a:rPr>
              <a:t>04</a:t>
            </a:r>
            <a:endParaRPr b="0" lang="en-US" sz="2800" spc="-1" strike="noStrike">
              <a:solidFill>
                <a:srgbClr val="54a0d8"/>
              </a:solidFill>
              <a:latin typeface="Arial"/>
            </a:endParaRPr>
          </a:p>
        </p:txBody>
      </p:sp>
      <p:sp>
        <p:nvSpPr>
          <p:cNvPr id="957" name="TextBox 14"/>
          <p:cNvSpPr/>
          <p:nvPr/>
        </p:nvSpPr>
        <p:spPr>
          <a:xfrm>
            <a:off x="3517920" y="3619440"/>
            <a:ext cx="1490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社会学概论</a:t>
            </a:r>
            <a:endParaRPr b="0" lang="en-US" sz="1800" spc="-1" strike="noStrike">
              <a:solidFill>
                <a:srgbClr val="54a0d8"/>
              </a:solidFill>
              <a:latin typeface="Arial"/>
            </a:endParaRPr>
          </a:p>
        </p:txBody>
      </p:sp>
      <p:sp>
        <p:nvSpPr>
          <p:cNvPr id="958" name="TextBox 15"/>
          <p:cNvSpPr/>
          <p:nvPr/>
        </p:nvSpPr>
        <p:spPr>
          <a:xfrm>
            <a:off x="3394080" y="4013280"/>
            <a:ext cx="1738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请在这里输入段落文本内容请在这里输入段落文本内容</a:t>
            </a:r>
            <a:endParaRPr b="0" lang="en-US" sz="1600" spc="-1" strike="noStrike">
              <a:solidFill>
                <a:srgbClr val="54a0d8"/>
              </a:solidFill>
              <a:latin typeface="Arial"/>
            </a:endParaRPr>
          </a:p>
        </p:txBody>
      </p:sp>
      <p:sp>
        <p:nvSpPr>
          <p:cNvPr id="959" name="TextBox 14"/>
          <p:cNvSpPr/>
          <p:nvPr/>
        </p:nvSpPr>
        <p:spPr>
          <a:xfrm>
            <a:off x="7008840" y="3619440"/>
            <a:ext cx="148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行政法学</a:t>
            </a:r>
            <a:endParaRPr b="0" lang="en-US" sz="1800" spc="-1" strike="noStrike">
              <a:solidFill>
                <a:srgbClr val="54a0d8"/>
              </a:solidFill>
              <a:latin typeface="Arial"/>
            </a:endParaRPr>
          </a:p>
        </p:txBody>
      </p:sp>
      <p:sp>
        <p:nvSpPr>
          <p:cNvPr id="960" name="TextBox 15"/>
          <p:cNvSpPr/>
          <p:nvPr/>
        </p:nvSpPr>
        <p:spPr>
          <a:xfrm>
            <a:off x="6883560" y="4013280"/>
            <a:ext cx="1739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请在这里输入段落文本内容请在这里输入段落文本内容</a:t>
            </a:r>
            <a:endParaRPr b="0" lang="en-US" sz="1600" spc="-1" strike="noStrike">
              <a:solidFill>
                <a:srgbClr val="54a0d8"/>
              </a:solidFill>
              <a:latin typeface="Arial"/>
            </a:endParaRPr>
          </a:p>
        </p:txBody>
      </p:sp>
    </p:spTree>
  </p:cSld>
  <p:transition spd="slow" advTm="6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2.2 </a:t>
            </a:r>
            <a:r>
              <a:rPr b="0" lang="zh-CN" sz="2800" spc="-1" strike="noStrike">
                <a:solidFill>
                  <a:srgbClr val="4d4d4d"/>
                </a:solidFill>
                <a:latin typeface="微软雅黑"/>
                <a:ea typeface="微软雅黑"/>
              </a:rPr>
              <a:t>研究思路</a:t>
            </a:r>
            <a:endParaRPr b="0" lang="en-US" sz="2800" spc="-1" strike="noStrike">
              <a:solidFill>
                <a:srgbClr val="54a0d8"/>
              </a:solidFill>
              <a:latin typeface="Arial"/>
            </a:endParaRPr>
          </a:p>
        </p:txBody>
      </p:sp>
      <p:sp>
        <p:nvSpPr>
          <p:cNvPr id="962"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63" name="直接连接符 46"/>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964" name="Freeform 7"/>
          <p:cNvSpPr/>
          <p:nvPr/>
        </p:nvSpPr>
        <p:spPr>
          <a:xfrm rot="21146400">
            <a:off x="139320" y="2401920"/>
            <a:ext cx="6616800" cy="3139920"/>
          </a:xfrm>
          <a:custGeom>
            <a:avLst/>
            <a:gdLst>
              <a:gd name="textAreaLeft" fmla="*/ 0 w 6616800"/>
              <a:gd name="textAreaRight" fmla="*/ 6617160 w 6616800"/>
              <a:gd name="textAreaTop" fmla="*/ 0 h 3139920"/>
              <a:gd name="textAreaBottom" fmla="*/ 3140280 h 3139920"/>
            </a:gdLst>
            <a:ahLst/>
            <a:rect l="textAreaLeft" t="textAreaTop" r="textAreaRight" b="textAreaBottom"/>
            <a:pathLst>
              <a:path w="1296" h="439">
                <a:moveTo>
                  <a:pt x="0" y="421"/>
                </a:moveTo>
                <a:cubicBezTo>
                  <a:pt x="0" y="421"/>
                  <a:pt x="22" y="424"/>
                  <a:pt x="61" y="427"/>
                </a:cubicBezTo>
                <a:cubicBezTo>
                  <a:pt x="99" y="430"/>
                  <a:pt x="154" y="433"/>
                  <a:pt x="221" y="433"/>
                </a:cubicBezTo>
                <a:cubicBezTo>
                  <a:pt x="287" y="433"/>
                  <a:pt x="365" y="430"/>
                  <a:pt x="447" y="422"/>
                </a:cubicBezTo>
                <a:cubicBezTo>
                  <a:pt x="488" y="417"/>
                  <a:pt x="531" y="412"/>
                  <a:pt x="573" y="404"/>
                </a:cubicBezTo>
                <a:cubicBezTo>
                  <a:pt x="616" y="397"/>
                  <a:pt x="660" y="388"/>
                  <a:pt x="702" y="377"/>
                </a:cubicBezTo>
                <a:cubicBezTo>
                  <a:pt x="745" y="366"/>
                  <a:pt x="787" y="353"/>
                  <a:pt x="828" y="338"/>
                </a:cubicBezTo>
                <a:cubicBezTo>
                  <a:pt x="868" y="323"/>
                  <a:pt x="907" y="306"/>
                  <a:pt x="944" y="288"/>
                </a:cubicBezTo>
                <a:cubicBezTo>
                  <a:pt x="981" y="269"/>
                  <a:pt x="1015" y="249"/>
                  <a:pt x="1047" y="229"/>
                </a:cubicBezTo>
                <a:cubicBezTo>
                  <a:pt x="1078" y="208"/>
                  <a:pt x="1106" y="186"/>
                  <a:pt x="1131" y="165"/>
                </a:cubicBezTo>
                <a:cubicBezTo>
                  <a:pt x="1156" y="143"/>
                  <a:pt x="1177" y="122"/>
                  <a:pt x="1195" y="102"/>
                </a:cubicBezTo>
                <a:cubicBezTo>
                  <a:pt x="1204" y="93"/>
                  <a:pt x="1212" y="83"/>
                  <a:pt x="1219" y="74"/>
                </a:cubicBezTo>
                <a:cubicBezTo>
                  <a:pt x="1226" y="65"/>
                  <a:pt x="1233" y="57"/>
                  <a:pt x="1239" y="50"/>
                </a:cubicBezTo>
                <a:cubicBezTo>
                  <a:pt x="1244" y="42"/>
                  <a:pt x="1249" y="35"/>
                  <a:pt x="1253" y="29"/>
                </a:cubicBezTo>
                <a:cubicBezTo>
                  <a:pt x="1258" y="23"/>
                  <a:pt x="1261" y="18"/>
                  <a:pt x="1264" y="13"/>
                </a:cubicBezTo>
                <a:cubicBezTo>
                  <a:pt x="1270" y="5"/>
                  <a:pt x="1272" y="0"/>
                  <a:pt x="1272" y="0"/>
                </a:cubicBezTo>
                <a:cubicBezTo>
                  <a:pt x="1296" y="16"/>
                  <a:pt x="1296" y="16"/>
                  <a:pt x="1296" y="16"/>
                </a:cubicBezTo>
                <a:cubicBezTo>
                  <a:pt x="1296" y="16"/>
                  <a:pt x="1293" y="20"/>
                  <a:pt x="1287" y="29"/>
                </a:cubicBezTo>
                <a:cubicBezTo>
                  <a:pt x="1284" y="33"/>
                  <a:pt x="1280" y="39"/>
                  <a:pt x="1276" y="45"/>
                </a:cubicBezTo>
                <a:cubicBezTo>
                  <a:pt x="1271" y="51"/>
                  <a:pt x="1266" y="58"/>
                  <a:pt x="1260" y="66"/>
                </a:cubicBezTo>
                <a:cubicBezTo>
                  <a:pt x="1254" y="73"/>
                  <a:pt x="1247" y="82"/>
                  <a:pt x="1239" y="91"/>
                </a:cubicBezTo>
                <a:cubicBezTo>
                  <a:pt x="1231" y="100"/>
                  <a:pt x="1223" y="110"/>
                  <a:pt x="1213" y="120"/>
                </a:cubicBezTo>
                <a:cubicBezTo>
                  <a:pt x="1195" y="140"/>
                  <a:pt x="1172" y="161"/>
                  <a:pt x="1146" y="183"/>
                </a:cubicBezTo>
                <a:cubicBezTo>
                  <a:pt x="1120" y="204"/>
                  <a:pt x="1091" y="226"/>
                  <a:pt x="1058" y="247"/>
                </a:cubicBezTo>
                <a:cubicBezTo>
                  <a:pt x="1026" y="267"/>
                  <a:pt x="990" y="287"/>
                  <a:pt x="953" y="305"/>
                </a:cubicBezTo>
                <a:cubicBezTo>
                  <a:pt x="915" y="323"/>
                  <a:pt x="875" y="339"/>
                  <a:pt x="833" y="354"/>
                </a:cubicBezTo>
                <a:cubicBezTo>
                  <a:pt x="792" y="368"/>
                  <a:pt x="749" y="380"/>
                  <a:pt x="706" y="390"/>
                </a:cubicBezTo>
                <a:cubicBezTo>
                  <a:pt x="662" y="401"/>
                  <a:pt x="619" y="409"/>
                  <a:pt x="575" y="415"/>
                </a:cubicBezTo>
                <a:cubicBezTo>
                  <a:pt x="532" y="422"/>
                  <a:pt x="489" y="427"/>
                  <a:pt x="448" y="430"/>
                </a:cubicBezTo>
                <a:cubicBezTo>
                  <a:pt x="365" y="437"/>
                  <a:pt x="287" y="439"/>
                  <a:pt x="221" y="437"/>
                </a:cubicBezTo>
                <a:cubicBezTo>
                  <a:pt x="154" y="436"/>
                  <a:pt x="99" y="432"/>
                  <a:pt x="60" y="428"/>
                </a:cubicBezTo>
                <a:cubicBezTo>
                  <a:pt x="22" y="424"/>
                  <a:pt x="0" y="421"/>
                  <a:pt x="0" y="421"/>
                </a:cubicBez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pic>
        <p:nvPicPr>
          <p:cNvPr id="965" name="图片 29" descr=""/>
          <p:cNvPicPr/>
          <p:nvPr/>
        </p:nvPicPr>
        <p:blipFill>
          <a:blip r:embed="rId1"/>
          <a:stretch/>
        </p:blipFill>
        <p:spPr>
          <a:xfrm rot="1291200">
            <a:off x="6265440" y="541440"/>
            <a:ext cx="722520" cy="2319120"/>
          </a:xfrm>
          <a:prstGeom prst="rect">
            <a:avLst/>
          </a:prstGeom>
          <a:ln w="0">
            <a:noFill/>
          </a:ln>
        </p:spPr>
      </p:pic>
      <p:sp>
        <p:nvSpPr>
          <p:cNvPr id="966" name="Oval 8"/>
          <p:cNvSpPr/>
          <p:nvPr/>
        </p:nvSpPr>
        <p:spPr>
          <a:xfrm>
            <a:off x="4257720" y="4678200"/>
            <a:ext cx="237960" cy="238320"/>
          </a:xfrm>
          <a:prstGeom prst="ellipse">
            <a:avLst/>
          </a:prstGeom>
          <a:solidFill>
            <a:srgbClr val="4d4d4d"/>
          </a:solidFill>
          <a:ln w="2844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67" name="Oval 10"/>
          <p:cNvSpPr/>
          <p:nvPr/>
        </p:nvSpPr>
        <p:spPr>
          <a:xfrm>
            <a:off x="5208480" y="3849840"/>
            <a:ext cx="249480" cy="250560"/>
          </a:xfrm>
          <a:prstGeom prst="ellipse">
            <a:avLst/>
          </a:prstGeom>
          <a:solidFill>
            <a:srgbClr val="4d4d4d"/>
          </a:solidFill>
          <a:ln w="2844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68" name="Oval 12"/>
          <p:cNvSpPr/>
          <p:nvPr/>
        </p:nvSpPr>
        <p:spPr>
          <a:xfrm>
            <a:off x="5865840" y="2935440"/>
            <a:ext cx="284040" cy="284040"/>
          </a:xfrm>
          <a:prstGeom prst="ellipse">
            <a:avLst/>
          </a:prstGeom>
          <a:solidFill>
            <a:srgbClr val="4d4d4d"/>
          </a:solidFill>
          <a:ln w="2844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69" name="Oval 8"/>
          <p:cNvSpPr/>
          <p:nvPr/>
        </p:nvSpPr>
        <p:spPr>
          <a:xfrm>
            <a:off x="2752560" y="5402160"/>
            <a:ext cx="206640" cy="204840"/>
          </a:xfrm>
          <a:prstGeom prst="ellipse">
            <a:avLst/>
          </a:prstGeom>
          <a:solidFill>
            <a:srgbClr val="4d4d4d"/>
          </a:solidFill>
          <a:ln w="2844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70" name="文本框 58"/>
          <p:cNvSpPr/>
          <p:nvPr/>
        </p:nvSpPr>
        <p:spPr>
          <a:xfrm>
            <a:off x="3168720" y="5464080"/>
            <a:ext cx="804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唯物主义者和实干家们最注重的就是客观务实，这是一种一切从实际出发的工作理念，脱离了实际的行动都是不切实际的。</a:t>
            </a:r>
            <a:endParaRPr b="0" lang="en-US" sz="1600" spc="-1" strike="noStrike">
              <a:solidFill>
                <a:srgbClr val="54a0d8"/>
              </a:solidFill>
              <a:latin typeface="Arial"/>
            </a:endParaRPr>
          </a:p>
        </p:txBody>
      </p:sp>
      <p:sp>
        <p:nvSpPr>
          <p:cNvPr id="971" name="矩形: 圆角 36"/>
          <p:cNvSpPr/>
          <p:nvPr/>
        </p:nvSpPr>
        <p:spPr>
          <a:xfrm>
            <a:off x="1198440" y="5022720"/>
            <a:ext cx="1616040" cy="393840"/>
          </a:xfrm>
          <a:prstGeom prst="roundRect">
            <a:avLst>
              <a:gd name="adj" fmla="val 50000"/>
            </a:avLst>
          </a:pr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499"/>
              </a:spcBef>
              <a:buClr>
                <a:srgbClr val="f4f4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72" name="文本框 60"/>
          <p:cNvSpPr/>
          <p:nvPr/>
        </p:nvSpPr>
        <p:spPr>
          <a:xfrm>
            <a:off x="1699200" y="5018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客观务实</a:t>
            </a:r>
            <a:endParaRPr b="0" lang="en-US" sz="1800" spc="-1" strike="noStrike">
              <a:solidFill>
                <a:srgbClr val="54a0d8"/>
              </a:solidFill>
              <a:latin typeface="Arial"/>
            </a:endParaRPr>
          </a:p>
        </p:txBody>
      </p:sp>
      <p:sp>
        <p:nvSpPr>
          <p:cNvPr id="973" name="文本框 39"/>
          <p:cNvSpPr/>
          <p:nvPr/>
        </p:nvSpPr>
        <p:spPr>
          <a:xfrm>
            <a:off x="4595760" y="4762440"/>
            <a:ext cx="656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在其位谋其政，在新岗位上努力将自身的业绩提升到一个新的层次，将自身的能力提升到一个新的层次。</a:t>
            </a:r>
            <a:endParaRPr b="0" lang="en-US" sz="1800" spc="-1" strike="noStrike">
              <a:solidFill>
                <a:srgbClr val="54a0d8"/>
              </a:solidFill>
              <a:latin typeface="Arial"/>
            </a:endParaRPr>
          </a:p>
        </p:txBody>
      </p:sp>
      <p:sp>
        <p:nvSpPr>
          <p:cNvPr id="974" name="文本框 41"/>
          <p:cNvSpPr/>
          <p:nvPr/>
        </p:nvSpPr>
        <p:spPr>
          <a:xfrm>
            <a:off x="5548320" y="3992400"/>
            <a:ext cx="561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坚决服务公司制定的发展大局，找准部门的位置，摆正自身的位置，做好该做的事，管好该管的人。</a:t>
            </a:r>
            <a:endParaRPr b="0" lang="en-US" sz="1600" spc="-1" strike="noStrike">
              <a:solidFill>
                <a:srgbClr val="54a0d8"/>
              </a:solidFill>
              <a:latin typeface="Arial"/>
            </a:endParaRPr>
          </a:p>
        </p:txBody>
      </p:sp>
      <p:sp>
        <p:nvSpPr>
          <p:cNvPr id="975" name="文本框 43"/>
          <p:cNvSpPr/>
          <p:nvPr/>
        </p:nvSpPr>
        <p:spPr>
          <a:xfrm>
            <a:off x="6292800" y="3067200"/>
            <a:ext cx="487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运用最新的科技手段和管理理念，结合部门现实状况，将部门的管理、业绩提升到一个新的层次。</a:t>
            </a:r>
            <a:endParaRPr b="0" lang="en-US" sz="1600" spc="-1" strike="noStrike">
              <a:solidFill>
                <a:srgbClr val="54a0d8"/>
              </a:solidFill>
              <a:latin typeface="Arial"/>
            </a:endParaRPr>
          </a:p>
        </p:txBody>
      </p:sp>
      <p:sp>
        <p:nvSpPr>
          <p:cNvPr id="976" name="矩形: 圆角 44"/>
          <p:cNvSpPr/>
          <p:nvPr/>
        </p:nvSpPr>
        <p:spPr>
          <a:xfrm>
            <a:off x="2676600" y="4363920"/>
            <a:ext cx="1616040" cy="393840"/>
          </a:xfrm>
          <a:prstGeom prst="roundRect">
            <a:avLst>
              <a:gd name="adj" fmla="val 50000"/>
            </a:avLst>
          </a:pr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499"/>
              </a:spcBef>
              <a:buClr>
                <a:srgbClr val="f4f4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77" name="文本框 65"/>
          <p:cNvSpPr/>
          <p:nvPr/>
        </p:nvSpPr>
        <p:spPr>
          <a:xfrm>
            <a:off x="3148560" y="4361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开拓进取</a:t>
            </a:r>
            <a:endParaRPr b="0" lang="en-US" sz="1800" spc="-1" strike="noStrike">
              <a:solidFill>
                <a:srgbClr val="54a0d8"/>
              </a:solidFill>
              <a:latin typeface="Arial"/>
            </a:endParaRPr>
          </a:p>
        </p:txBody>
      </p:sp>
      <p:sp>
        <p:nvSpPr>
          <p:cNvPr id="978" name="矩形: 圆角 46"/>
          <p:cNvSpPr/>
          <p:nvPr/>
        </p:nvSpPr>
        <p:spPr>
          <a:xfrm>
            <a:off x="3548160" y="3576600"/>
            <a:ext cx="1616040" cy="393840"/>
          </a:xfrm>
          <a:prstGeom prst="roundRect">
            <a:avLst>
              <a:gd name="adj" fmla="val 50000"/>
            </a:avLst>
          </a:pr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499"/>
              </a:spcBef>
              <a:buClr>
                <a:srgbClr val="f4f4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79" name="文本框 67"/>
          <p:cNvSpPr/>
          <p:nvPr/>
        </p:nvSpPr>
        <p:spPr>
          <a:xfrm>
            <a:off x="4021560" y="3575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服务大局</a:t>
            </a:r>
            <a:endParaRPr b="0" lang="en-US" sz="1800" spc="-1" strike="noStrike">
              <a:solidFill>
                <a:srgbClr val="54a0d8"/>
              </a:solidFill>
              <a:latin typeface="Arial"/>
            </a:endParaRPr>
          </a:p>
        </p:txBody>
      </p:sp>
      <p:sp>
        <p:nvSpPr>
          <p:cNvPr id="980" name="矩形: 圆角 48"/>
          <p:cNvSpPr/>
          <p:nvPr/>
        </p:nvSpPr>
        <p:spPr>
          <a:xfrm>
            <a:off x="4208400" y="2673360"/>
            <a:ext cx="1616040" cy="393840"/>
          </a:xfrm>
          <a:prstGeom prst="roundRect">
            <a:avLst>
              <a:gd name="adj" fmla="val 50000"/>
            </a:avLst>
          </a:pr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499"/>
              </a:spcBef>
              <a:buClr>
                <a:srgbClr val="f4f4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81" name="文本框 69"/>
          <p:cNvSpPr/>
          <p:nvPr/>
        </p:nvSpPr>
        <p:spPr>
          <a:xfrm>
            <a:off x="4683600" y="26845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科学管理</a:t>
            </a:r>
            <a:endParaRPr b="0" lang="en-US" sz="1800" spc="-1" strike="noStrike">
              <a:solidFill>
                <a:srgbClr val="54a0d8"/>
              </a:solidFill>
              <a:latin typeface="Arial"/>
            </a:endParaRPr>
          </a:p>
        </p:txBody>
      </p:sp>
      <p:sp>
        <p:nvSpPr>
          <p:cNvPr id="982" name="TextBox 22"/>
          <p:cNvSpPr/>
          <p:nvPr/>
        </p:nvSpPr>
        <p:spPr>
          <a:xfrm>
            <a:off x="909720" y="2212920"/>
            <a:ext cx="2182680" cy="109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d4d4d"/>
                </a:solidFill>
                <a:latin typeface="微软雅黑"/>
                <a:ea typeface="微软雅黑"/>
              </a:rPr>
              <a:t>四个研究思想</a:t>
            </a:r>
            <a:endParaRPr b="0" lang="en-US" sz="2200" spc="-1" strike="noStrike">
              <a:solidFill>
                <a:srgbClr val="54a0d8"/>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d4d4d"/>
                </a:solidFill>
                <a:latin typeface="微软雅黑"/>
                <a:ea typeface="微软雅黑"/>
              </a:rPr>
              <a:t>贯穿全盘工作</a:t>
            </a:r>
            <a:endParaRPr b="0" lang="en-US" sz="2200" spc="-1" strike="noStrike">
              <a:solidFill>
                <a:srgbClr val="54a0d8"/>
              </a:solidFill>
              <a:latin typeface="Arial"/>
            </a:endParaRPr>
          </a:p>
        </p:txBody>
      </p:sp>
    </p:spTree>
  </p:cSld>
  <p:transition spd="slow" advTm="6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矩形 93"/>
          <p:cNvSpPr/>
          <p:nvPr/>
        </p:nvSpPr>
        <p:spPr>
          <a:xfrm>
            <a:off x="6800760" y="1225440"/>
            <a:ext cx="4543560" cy="4397400"/>
          </a:xfrm>
          <a:prstGeom prst="rect">
            <a:avLst/>
          </a:prstGeom>
          <a:solidFill>
            <a:srgbClr val="f2f2f2"/>
          </a:solidFill>
          <a:ln w="14400">
            <a:solidFill>
              <a:srgbClr val="b3b3b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84" name="矩形 94"/>
          <p:cNvSpPr/>
          <p:nvPr/>
        </p:nvSpPr>
        <p:spPr>
          <a:xfrm>
            <a:off x="6991200" y="1533600"/>
            <a:ext cx="4162680" cy="22885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您的文字说明请在这里输入您的文字说明</a:t>
            </a:r>
            <a:endParaRPr b="0" lang="en-US" sz="1800" spc="-1" strike="noStrike">
              <a:solidFill>
                <a:srgbClr val="54a0d8"/>
              </a:solidFill>
              <a:latin typeface="Arial"/>
            </a:endParaRPr>
          </a:p>
          <a:p>
            <a:pPr marL="285840" indent="-285840"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您的文字说明</a:t>
            </a:r>
            <a:endParaRPr b="0" lang="en-US" sz="1800" spc="-1" strike="noStrike">
              <a:solidFill>
                <a:srgbClr val="54a0d8"/>
              </a:solidFill>
              <a:latin typeface="Arial"/>
            </a:endParaRPr>
          </a:p>
          <a:p>
            <a:pPr marL="285840" indent="-285840"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您的文字说明请在这里输入您的文字说明请在这里输入您的文字说明</a:t>
            </a:r>
            <a:endParaRPr b="0" lang="en-US" sz="1800" spc="-1" strike="noStrike">
              <a:solidFill>
                <a:srgbClr val="54a0d8"/>
              </a:solidFill>
              <a:latin typeface="Arial"/>
            </a:endParaRPr>
          </a:p>
          <a:p>
            <a:pPr marL="285840" indent="-285840"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您的文字说明请在这里输入您的文字说明</a:t>
            </a:r>
            <a:endParaRPr b="0" lang="en-US" sz="1800" spc="-1" strike="noStrike">
              <a:solidFill>
                <a:srgbClr val="54a0d8"/>
              </a:solidFill>
              <a:latin typeface="Arial"/>
            </a:endParaRPr>
          </a:p>
          <a:p>
            <a:pPr marL="285840" indent="-285840"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您的文字说明请在这里输入您的文字说明</a:t>
            </a:r>
            <a:endParaRPr b="0" lang="en-US" sz="1800" spc="-1" strike="noStrike">
              <a:solidFill>
                <a:srgbClr val="54a0d8"/>
              </a:solidFill>
              <a:latin typeface="Arial"/>
            </a:endParaRPr>
          </a:p>
          <a:p>
            <a:pPr marL="285840" indent="-285840"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您的文字说明请在这里输入您的文字说请在这里输入您的文字说明请在这里输入您的文字说明</a:t>
            </a:r>
            <a:endParaRPr b="0" lang="en-US" sz="1800" spc="-1" strike="noStrike">
              <a:solidFill>
                <a:srgbClr val="54a0d8"/>
              </a:solidFill>
              <a:latin typeface="Arial"/>
            </a:endParaRPr>
          </a:p>
        </p:txBody>
      </p:sp>
      <p:sp>
        <p:nvSpPr>
          <p:cNvPr id="985" name="Freeform 5"/>
          <p:cNvSpPr/>
          <p:nvPr/>
        </p:nvSpPr>
        <p:spPr>
          <a:xfrm>
            <a:off x="898560" y="1870200"/>
            <a:ext cx="2779560" cy="2765160"/>
          </a:xfrm>
          <a:custGeom>
            <a:avLst/>
            <a:gdLst>
              <a:gd name="textAreaLeft" fmla="*/ 0 w 2779560"/>
              <a:gd name="textAreaRight" fmla="*/ 2779920 w 2779560"/>
              <a:gd name="textAreaTop" fmla="*/ 0 h 2765160"/>
              <a:gd name="textAreaBottom" fmla="*/ 2765520 h 2765160"/>
            </a:gdLst>
            <a:ahLst/>
            <a:rect l="textAreaLeft" t="textAreaTop" r="textAreaRight" b="textAreaBottom"/>
            <a:pathLst>
              <a:path w="4948" h="4921">
                <a:moveTo>
                  <a:pt x="4362" y="2461"/>
                </a:moveTo>
                <a:cubicBezTo>
                  <a:pt x="4362" y="3503"/>
                  <a:pt x="3517" y="4348"/>
                  <a:pt x="2474" y="4348"/>
                </a:cubicBezTo>
                <a:cubicBezTo>
                  <a:pt x="1431" y="4348"/>
                  <a:pt x="586" y="3503"/>
                  <a:pt x="586" y="2461"/>
                </a:cubicBezTo>
                <a:cubicBezTo>
                  <a:pt x="586" y="1418"/>
                  <a:pt x="1431" y="573"/>
                  <a:pt x="2474" y="573"/>
                </a:cubicBezTo>
                <a:cubicBezTo>
                  <a:pt x="3517" y="573"/>
                  <a:pt x="4362" y="1418"/>
                  <a:pt x="4362" y="2461"/>
                </a:cubicBezTo>
                <a:close/>
                <a:moveTo>
                  <a:pt x="2675" y="0"/>
                </a:moveTo>
                <a:lnTo>
                  <a:pt x="2282" y="0"/>
                </a:lnTo>
                <a:lnTo>
                  <a:pt x="2178" y="391"/>
                </a:lnTo>
                <a:cubicBezTo>
                  <a:pt x="2097" y="403"/>
                  <a:pt x="2017" y="420"/>
                  <a:pt x="1939" y="441"/>
                </a:cubicBezTo>
                <a:lnTo>
                  <a:pt x="1696" y="116"/>
                </a:lnTo>
                <a:lnTo>
                  <a:pt x="1334" y="269"/>
                </a:lnTo>
                <a:lnTo>
                  <a:pt x="1393" y="677"/>
                </a:lnTo>
                <a:cubicBezTo>
                  <a:pt x="1334" y="713"/>
                  <a:pt x="1276" y="752"/>
                  <a:pt x="1221" y="794"/>
                </a:cubicBezTo>
                <a:lnTo>
                  <a:pt x="867" y="579"/>
                </a:lnTo>
                <a:lnTo>
                  <a:pt x="588" y="856"/>
                </a:lnTo>
                <a:lnTo>
                  <a:pt x="801" y="1218"/>
                </a:lnTo>
                <a:cubicBezTo>
                  <a:pt x="751" y="1286"/>
                  <a:pt x="704" y="1357"/>
                  <a:pt x="662" y="1431"/>
                </a:cubicBezTo>
                <a:lnTo>
                  <a:pt x="245" y="1374"/>
                </a:lnTo>
                <a:lnTo>
                  <a:pt x="101" y="1738"/>
                </a:lnTo>
                <a:lnTo>
                  <a:pt x="444" y="1988"/>
                </a:lnTo>
                <a:cubicBezTo>
                  <a:pt x="431" y="2045"/>
                  <a:pt x="420" y="2103"/>
                  <a:pt x="412" y="2161"/>
                </a:cubicBezTo>
                <a:lnTo>
                  <a:pt x="0" y="2260"/>
                </a:lnTo>
                <a:lnTo>
                  <a:pt x="0" y="2652"/>
                </a:lnTo>
                <a:lnTo>
                  <a:pt x="412" y="2760"/>
                </a:lnTo>
                <a:cubicBezTo>
                  <a:pt x="421" y="2829"/>
                  <a:pt x="435" y="2897"/>
                  <a:pt x="451" y="2963"/>
                </a:cubicBezTo>
                <a:lnTo>
                  <a:pt x="109" y="3210"/>
                </a:lnTo>
                <a:lnTo>
                  <a:pt x="259" y="3572"/>
                </a:lnTo>
                <a:lnTo>
                  <a:pt x="678" y="3517"/>
                </a:lnTo>
                <a:cubicBezTo>
                  <a:pt x="715" y="3581"/>
                  <a:pt x="756" y="3643"/>
                  <a:pt x="801" y="3703"/>
                </a:cubicBezTo>
                <a:lnTo>
                  <a:pt x="582" y="4059"/>
                </a:lnTo>
                <a:lnTo>
                  <a:pt x="861" y="4336"/>
                </a:lnTo>
                <a:lnTo>
                  <a:pt x="1221" y="4127"/>
                </a:lnTo>
                <a:cubicBezTo>
                  <a:pt x="1275" y="4168"/>
                  <a:pt x="1331" y="4206"/>
                  <a:pt x="1389" y="4242"/>
                </a:cubicBezTo>
                <a:lnTo>
                  <a:pt x="1322" y="4647"/>
                </a:lnTo>
                <a:lnTo>
                  <a:pt x="1684" y="4800"/>
                </a:lnTo>
                <a:lnTo>
                  <a:pt x="1934" y="4479"/>
                </a:lnTo>
                <a:cubicBezTo>
                  <a:pt x="2014" y="4500"/>
                  <a:pt x="2095" y="4518"/>
                  <a:pt x="2178" y="4531"/>
                </a:cubicBezTo>
                <a:lnTo>
                  <a:pt x="2273" y="4921"/>
                </a:lnTo>
                <a:lnTo>
                  <a:pt x="2667" y="4921"/>
                </a:lnTo>
                <a:lnTo>
                  <a:pt x="2768" y="4536"/>
                </a:lnTo>
                <a:cubicBezTo>
                  <a:pt x="2853" y="4525"/>
                  <a:pt x="2936" y="4510"/>
                  <a:pt x="3017" y="4489"/>
                </a:cubicBezTo>
                <a:lnTo>
                  <a:pt x="3252" y="4805"/>
                </a:lnTo>
                <a:lnTo>
                  <a:pt x="3614" y="4653"/>
                </a:lnTo>
                <a:lnTo>
                  <a:pt x="3558" y="4267"/>
                </a:lnTo>
                <a:cubicBezTo>
                  <a:pt x="3625" y="4229"/>
                  <a:pt x="3689" y="4187"/>
                  <a:pt x="3750" y="4141"/>
                </a:cubicBezTo>
                <a:lnTo>
                  <a:pt x="4081" y="4342"/>
                </a:lnTo>
                <a:lnTo>
                  <a:pt x="4360" y="4065"/>
                </a:lnTo>
                <a:lnTo>
                  <a:pt x="4165" y="3735"/>
                </a:lnTo>
                <a:cubicBezTo>
                  <a:pt x="4224" y="3659"/>
                  <a:pt x="4277" y="3579"/>
                  <a:pt x="4325" y="3495"/>
                </a:cubicBezTo>
                <a:lnTo>
                  <a:pt x="4703" y="3547"/>
                </a:lnTo>
                <a:lnTo>
                  <a:pt x="4847" y="3183"/>
                </a:lnTo>
                <a:lnTo>
                  <a:pt x="4540" y="2959"/>
                </a:lnTo>
                <a:cubicBezTo>
                  <a:pt x="4557" y="2891"/>
                  <a:pt x="4570" y="2821"/>
                  <a:pt x="4580" y="2749"/>
                </a:cubicBezTo>
                <a:lnTo>
                  <a:pt x="4948" y="2661"/>
                </a:lnTo>
                <a:lnTo>
                  <a:pt x="4948" y="2269"/>
                </a:lnTo>
                <a:lnTo>
                  <a:pt x="4580" y="2173"/>
                </a:lnTo>
                <a:cubicBezTo>
                  <a:pt x="4569" y="2091"/>
                  <a:pt x="4553" y="2011"/>
                  <a:pt x="4533" y="1932"/>
                </a:cubicBezTo>
                <a:lnTo>
                  <a:pt x="4839" y="1711"/>
                </a:lnTo>
                <a:lnTo>
                  <a:pt x="4690" y="1349"/>
                </a:lnTo>
                <a:lnTo>
                  <a:pt x="4310" y="1399"/>
                </a:lnTo>
                <a:cubicBezTo>
                  <a:pt x="4266" y="1326"/>
                  <a:pt x="4218" y="1255"/>
                  <a:pt x="4166" y="1188"/>
                </a:cubicBezTo>
                <a:lnTo>
                  <a:pt x="4366" y="862"/>
                </a:lnTo>
                <a:lnTo>
                  <a:pt x="4087" y="585"/>
                </a:lnTo>
                <a:lnTo>
                  <a:pt x="3752" y="781"/>
                </a:lnTo>
                <a:cubicBezTo>
                  <a:pt x="3691" y="736"/>
                  <a:pt x="3628" y="695"/>
                  <a:pt x="3563" y="656"/>
                </a:cubicBezTo>
                <a:lnTo>
                  <a:pt x="3626" y="274"/>
                </a:lnTo>
                <a:lnTo>
                  <a:pt x="3264" y="121"/>
                </a:lnTo>
                <a:lnTo>
                  <a:pt x="3022" y="433"/>
                </a:lnTo>
                <a:cubicBezTo>
                  <a:pt x="2939" y="412"/>
                  <a:pt x="2855" y="396"/>
                  <a:pt x="2769" y="385"/>
                </a:cubicBezTo>
                <a:lnTo>
                  <a:pt x="2675" y="0"/>
                </a:lnTo>
                <a:close/>
              </a:path>
            </a:pathLst>
          </a:custGeom>
          <a:solidFill>
            <a:srgbClr val="e96969"/>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86" name="Freeform 6"/>
          <p:cNvSpPr/>
          <p:nvPr/>
        </p:nvSpPr>
        <p:spPr>
          <a:xfrm>
            <a:off x="3795840" y="1863720"/>
            <a:ext cx="2778120" cy="2778120"/>
          </a:xfrm>
          <a:custGeom>
            <a:avLst/>
            <a:gdLst>
              <a:gd name="textAreaLeft" fmla="*/ 0 w 2778120"/>
              <a:gd name="textAreaRight" fmla="*/ 2778480 w 2778120"/>
              <a:gd name="textAreaTop" fmla="*/ 0 h 2778120"/>
              <a:gd name="textAreaBottom" fmla="*/ 2778120 h 2778120"/>
            </a:gdLst>
            <a:ahLst/>
            <a:rect l="textAreaLeft" t="textAreaTop" r="textAreaRight" b="textAreaBottom"/>
            <a:pathLst>
              <a:path w="4950" h="4943">
                <a:moveTo>
                  <a:pt x="4051" y="3529"/>
                </a:moveTo>
                <a:cubicBezTo>
                  <a:pt x="3467" y="4400"/>
                  <a:pt x="2287" y="4632"/>
                  <a:pt x="1417" y="4048"/>
                </a:cubicBezTo>
                <a:cubicBezTo>
                  <a:pt x="546" y="3464"/>
                  <a:pt x="314" y="2284"/>
                  <a:pt x="898" y="1414"/>
                </a:cubicBezTo>
                <a:cubicBezTo>
                  <a:pt x="1482" y="543"/>
                  <a:pt x="2662" y="311"/>
                  <a:pt x="3532" y="895"/>
                </a:cubicBezTo>
                <a:cubicBezTo>
                  <a:pt x="4403" y="1479"/>
                  <a:pt x="4635" y="2659"/>
                  <a:pt x="4051" y="3529"/>
                </a:cubicBezTo>
                <a:close/>
                <a:moveTo>
                  <a:pt x="4021" y="530"/>
                </a:moveTo>
                <a:lnTo>
                  <a:pt x="3693" y="309"/>
                </a:lnTo>
                <a:lnTo>
                  <a:pt x="3388" y="577"/>
                </a:lnTo>
                <a:cubicBezTo>
                  <a:pt x="3313" y="542"/>
                  <a:pt x="3236" y="511"/>
                  <a:pt x="3159" y="486"/>
                </a:cubicBezTo>
                <a:lnTo>
                  <a:pt x="3139" y="78"/>
                </a:lnTo>
                <a:lnTo>
                  <a:pt x="2751" y="2"/>
                </a:lnTo>
                <a:lnTo>
                  <a:pt x="2571" y="376"/>
                </a:lnTo>
                <a:cubicBezTo>
                  <a:pt x="2502" y="373"/>
                  <a:pt x="2432" y="374"/>
                  <a:pt x="2362" y="378"/>
                </a:cubicBezTo>
                <a:lnTo>
                  <a:pt x="2187" y="0"/>
                </a:lnTo>
                <a:lnTo>
                  <a:pt x="1799" y="75"/>
                </a:lnTo>
                <a:lnTo>
                  <a:pt x="1774" y="496"/>
                </a:lnTo>
                <a:cubicBezTo>
                  <a:pt x="1694" y="525"/>
                  <a:pt x="1615" y="558"/>
                  <a:pt x="1539" y="597"/>
                </a:cubicBezTo>
                <a:lnTo>
                  <a:pt x="1222" y="315"/>
                </a:lnTo>
                <a:lnTo>
                  <a:pt x="898" y="539"/>
                </a:lnTo>
                <a:lnTo>
                  <a:pt x="1045" y="940"/>
                </a:lnTo>
                <a:cubicBezTo>
                  <a:pt x="1002" y="980"/>
                  <a:pt x="960" y="1022"/>
                  <a:pt x="920" y="1066"/>
                </a:cubicBezTo>
                <a:lnTo>
                  <a:pt x="521" y="918"/>
                </a:lnTo>
                <a:lnTo>
                  <a:pt x="302" y="1245"/>
                </a:lnTo>
                <a:lnTo>
                  <a:pt x="585" y="1566"/>
                </a:lnTo>
                <a:cubicBezTo>
                  <a:pt x="555" y="1629"/>
                  <a:pt x="528" y="1693"/>
                  <a:pt x="504" y="1758"/>
                </a:cubicBezTo>
                <a:lnTo>
                  <a:pt x="80" y="1772"/>
                </a:lnTo>
                <a:lnTo>
                  <a:pt x="2" y="2158"/>
                </a:lnTo>
                <a:lnTo>
                  <a:pt x="383" y="2347"/>
                </a:lnTo>
                <a:cubicBezTo>
                  <a:pt x="378" y="2422"/>
                  <a:pt x="378" y="2496"/>
                  <a:pt x="381" y="2571"/>
                </a:cubicBezTo>
                <a:lnTo>
                  <a:pt x="0" y="2746"/>
                </a:lnTo>
                <a:lnTo>
                  <a:pt x="77" y="3133"/>
                </a:lnTo>
                <a:lnTo>
                  <a:pt x="494" y="3161"/>
                </a:lnTo>
                <a:cubicBezTo>
                  <a:pt x="517" y="3225"/>
                  <a:pt x="542" y="3289"/>
                  <a:pt x="570" y="3351"/>
                </a:cubicBezTo>
                <a:lnTo>
                  <a:pt x="287" y="3652"/>
                </a:lnTo>
                <a:lnTo>
                  <a:pt x="504" y="3982"/>
                </a:lnTo>
                <a:lnTo>
                  <a:pt x="893" y="3854"/>
                </a:lnTo>
                <a:cubicBezTo>
                  <a:pt x="947" y="3917"/>
                  <a:pt x="1005" y="3977"/>
                  <a:pt x="1067" y="4034"/>
                </a:cubicBezTo>
                <a:lnTo>
                  <a:pt x="928" y="4413"/>
                </a:lnTo>
                <a:lnTo>
                  <a:pt x="1257" y="4634"/>
                </a:lnTo>
                <a:lnTo>
                  <a:pt x="1557" y="4369"/>
                </a:lnTo>
                <a:cubicBezTo>
                  <a:pt x="1634" y="4408"/>
                  <a:pt x="1712" y="4441"/>
                  <a:pt x="1791" y="4470"/>
                </a:cubicBezTo>
                <a:lnTo>
                  <a:pt x="1810" y="4865"/>
                </a:lnTo>
                <a:lnTo>
                  <a:pt x="2199" y="4941"/>
                </a:lnTo>
                <a:lnTo>
                  <a:pt x="2368" y="4588"/>
                </a:lnTo>
                <a:cubicBezTo>
                  <a:pt x="2445" y="4593"/>
                  <a:pt x="2522" y="4594"/>
                  <a:pt x="2599" y="4590"/>
                </a:cubicBezTo>
                <a:lnTo>
                  <a:pt x="2762" y="4943"/>
                </a:lnTo>
                <a:lnTo>
                  <a:pt x="3150" y="4868"/>
                </a:lnTo>
                <a:lnTo>
                  <a:pt x="3173" y="4483"/>
                </a:lnTo>
                <a:cubicBezTo>
                  <a:pt x="3264" y="4452"/>
                  <a:pt x="3354" y="4416"/>
                  <a:pt x="3440" y="4373"/>
                </a:cubicBezTo>
                <a:lnTo>
                  <a:pt x="3727" y="4628"/>
                </a:lnTo>
                <a:lnTo>
                  <a:pt x="4051" y="4404"/>
                </a:lnTo>
                <a:lnTo>
                  <a:pt x="3920" y="4046"/>
                </a:lnTo>
                <a:cubicBezTo>
                  <a:pt x="3973" y="3998"/>
                  <a:pt x="4023" y="3947"/>
                  <a:pt x="4071" y="3893"/>
                </a:cubicBezTo>
                <a:lnTo>
                  <a:pt x="4428" y="4025"/>
                </a:lnTo>
                <a:lnTo>
                  <a:pt x="4648" y="3698"/>
                </a:lnTo>
                <a:lnTo>
                  <a:pt x="4394" y="3412"/>
                </a:lnTo>
                <a:cubicBezTo>
                  <a:pt x="4431" y="3337"/>
                  <a:pt x="4463" y="3261"/>
                  <a:pt x="4489" y="3183"/>
                </a:cubicBezTo>
                <a:lnTo>
                  <a:pt x="4869" y="3171"/>
                </a:lnTo>
                <a:lnTo>
                  <a:pt x="4947" y="2785"/>
                </a:lnTo>
                <a:lnTo>
                  <a:pt x="4602" y="2614"/>
                </a:lnTo>
                <a:cubicBezTo>
                  <a:pt x="4607" y="2528"/>
                  <a:pt x="4606" y="2442"/>
                  <a:pt x="4601" y="2357"/>
                </a:cubicBezTo>
                <a:lnTo>
                  <a:pt x="4950" y="2197"/>
                </a:lnTo>
                <a:lnTo>
                  <a:pt x="4872" y="1810"/>
                </a:lnTo>
                <a:lnTo>
                  <a:pt x="4483" y="1784"/>
                </a:lnTo>
                <a:cubicBezTo>
                  <a:pt x="4457" y="1713"/>
                  <a:pt x="4427" y="1643"/>
                  <a:pt x="4395" y="1575"/>
                </a:cubicBezTo>
                <a:lnTo>
                  <a:pt x="4662" y="1291"/>
                </a:lnTo>
                <a:lnTo>
                  <a:pt x="4445" y="960"/>
                </a:lnTo>
                <a:lnTo>
                  <a:pt x="4068" y="1085"/>
                </a:lnTo>
                <a:cubicBezTo>
                  <a:pt x="4011" y="1022"/>
                  <a:pt x="3949" y="961"/>
                  <a:pt x="3884" y="904"/>
                </a:cubicBezTo>
                <a:lnTo>
                  <a:pt x="4021" y="530"/>
                </a:lnTo>
                <a:close/>
              </a:path>
            </a:pathLst>
          </a:cu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87" name="Freeform 7"/>
          <p:cNvSpPr/>
          <p:nvPr/>
        </p:nvSpPr>
        <p:spPr>
          <a:xfrm>
            <a:off x="3206880" y="1403280"/>
            <a:ext cx="1058760" cy="1058760"/>
          </a:xfrm>
          <a:custGeom>
            <a:avLst/>
            <a:gdLst>
              <a:gd name="textAreaLeft" fmla="*/ 0 w 1058760"/>
              <a:gd name="textAreaRight" fmla="*/ 1059120 w 1058760"/>
              <a:gd name="textAreaTop" fmla="*/ 0 h 1058760"/>
              <a:gd name="textAreaBottom" fmla="*/ 1059120 h 1058760"/>
            </a:gdLst>
            <a:ahLst/>
            <a:rect l="textAreaLeft" t="textAreaTop" r="textAreaRight" b="textAreaBottom"/>
            <a:pathLst>
              <a:path w="1572" h="1571">
                <a:moveTo>
                  <a:pt x="181" y="641"/>
                </a:moveTo>
                <a:cubicBezTo>
                  <a:pt x="260" y="311"/>
                  <a:pt x="592" y="107"/>
                  <a:pt x="922" y="186"/>
                </a:cubicBezTo>
                <a:cubicBezTo>
                  <a:pt x="1253" y="265"/>
                  <a:pt x="1457" y="597"/>
                  <a:pt x="1378" y="927"/>
                </a:cubicBezTo>
                <a:cubicBezTo>
                  <a:pt x="1299" y="1257"/>
                  <a:pt x="967" y="1461"/>
                  <a:pt x="637" y="1382"/>
                </a:cubicBezTo>
                <a:cubicBezTo>
                  <a:pt x="306" y="1303"/>
                  <a:pt x="102" y="971"/>
                  <a:pt x="181" y="641"/>
                </a:cubicBezTo>
                <a:close/>
                <a:moveTo>
                  <a:pt x="541" y="1535"/>
                </a:moveTo>
                <a:lnTo>
                  <a:pt x="663" y="1564"/>
                </a:lnTo>
                <a:lnTo>
                  <a:pt x="724" y="1451"/>
                </a:lnTo>
                <a:cubicBezTo>
                  <a:pt x="750" y="1453"/>
                  <a:pt x="776" y="1453"/>
                  <a:pt x="802" y="1452"/>
                </a:cubicBezTo>
                <a:lnTo>
                  <a:pt x="852" y="1571"/>
                </a:lnTo>
                <a:lnTo>
                  <a:pt x="976" y="1551"/>
                </a:lnTo>
                <a:lnTo>
                  <a:pt x="988" y="1420"/>
                </a:lnTo>
                <a:cubicBezTo>
                  <a:pt x="1009" y="1413"/>
                  <a:pt x="1029" y="1405"/>
                  <a:pt x="1049" y="1396"/>
                </a:cubicBezTo>
                <a:lnTo>
                  <a:pt x="1143" y="1489"/>
                </a:lnTo>
                <a:lnTo>
                  <a:pt x="1249" y="1423"/>
                </a:lnTo>
                <a:lnTo>
                  <a:pt x="1211" y="1295"/>
                </a:lnTo>
                <a:cubicBezTo>
                  <a:pt x="1231" y="1278"/>
                  <a:pt x="1251" y="1259"/>
                  <a:pt x="1269" y="1239"/>
                </a:cubicBezTo>
                <a:lnTo>
                  <a:pt x="1394" y="1288"/>
                </a:lnTo>
                <a:lnTo>
                  <a:pt x="1465" y="1185"/>
                </a:lnTo>
                <a:lnTo>
                  <a:pt x="1378" y="1082"/>
                </a:lnTo>
                <a:cubicBezTo>
                  <a:pt x="1386" y="1066"/>
                  <a:pt x="1394" y="1048"/>
                  <a:pt x="1401" y="1031"/>
                </a:cubicBezTo>
                <a:lnTo>
                  <a:pt x="1536" y="1031"/>
                </a:lnTo>
                <a:lnTo>
                  <a:pt x="1565" y="909"/>
                </a:lnTo>
                <a:lnTo>
                  <a:pt x="1445" y="845"/>
                </a:lnTo>
                <a:cubicBezTo>
                  <a:pt x="1447" y="823"/>
                  <a:pt x="1448" y="801"/>
                  <a:pt x="1448" y="779"/>
                </a:cubicBezTo>
                <a:lnTo>
                  <a:pt x="1572" y="727"/>
                </a:lnTo>
                <a:lnTo>
                  <a:pt x="1553" y="604"/>
                </a:lnTo>
                <a:lnTo>
                  <a:pt x="1419" y="590"/>
                </a:lnTo>
                <a:cubicBezTo>
                  <a:pt x="1412" y="567"/>
                  <a:pt x="1405" y="545"/>
                  <a:pt x="1395" y="523"/>
                </a:cubicBezTo>
                <a:lnTo>
                  <a:pt x="1489" y="429"/>
                </a:lnTo>
                <a:lnTo>
                  <a:pt x="1424" y="322"/>
                </a:lnTo>
                <a:lnTo>
                  <a:pt x="1297" y="361"/>
                </a:lnTo>
                <a:cubicBezTo>
                  <a:pt x="1283" y="344"/>
                  <a:pt x="1269" y="328"/>
                  <a:pt x="1253" y="312"/>
                </a:cubicBezTo>
                <a:lnTo>
                  <a:pt x="1304" y="191"/>
                </a:lnTo>
                <a:lnTo>
                  <a:pt x="1204" y="117"/>
                </a:lnTo>
                <a:lnTo>
                  <a:pt x="1103" y="199"/>
                </a:lnTo>
                <a:cubicBezTo>
                  <a:pt x="1080" y="186"/>
                  <a:pt x="1056" y="174"/>
                  <a:pt x="1031" y="165"/>
                </a:cubicBezTo>
                <a:lnTo>
                  <a:pt x="1031" y="36"/>
                </a:lnTo>
                <a:lnTo>
                  <a:pt x="909" y="7"/>
                </a:lnTo>
                <a:lnTo>
                  <a:pt x="849" y="119"/>
                </a:lnTo>
                <a:cubicBezTo>
                  <a:pt x="822" y="116"/>
                  <a:pt x="795" y="115"/>
                  <a:pt x="769" y="115"/>
                </a:cubicBezTo>
                <a:lnTo>
                  <a:pt x="720" y="0"/>
                </a:lnTo>
                <a:lnTo>
                  <a:pt x="596" y="21"/>
                </a:lnTo>
                <a:lnTo>
                  <a:pt x="585" y="144"/>
                </a:lnTo>
                <a:cubicBezTo>
                  <a:pt x="562" y="152"/>
                  <a:pt x="539" y="160"/>
                  <a:pt x="516" y="169"/>
                </a:cubicBezTo>
                <a:lnTo>
                  <a:pt x="429" y="83"/>
                </a:lnTo>
                <a:lnTo>
                  <a:pt x="323" y="148"/>
                </a:lnTo>
                <a:lnTo>
                  <a:pt x="358" y="265"/>
                </a:lnTo>
                <a:cubicBezTo>
                  <a:pt x="334" y="284"/>
                  <a:pt x="312" y="305"/>
                  <a:pt x="291" y="328"/>
                </a:cubicBezTo>
                <a:lnTo>
                  <a:pt x="178" y="284"/>
                </a:lnTo>
                <a:lnTo>
                  <a:pt x="107" y="386"/>
                </a:lnTo>
                <a:lnTo>
                  <a:pt x="185" y="478"/>
                </a:lnTo>
                <a:cubicBezTo>
                  <a:pt x="175" y="498"/>
                  <a:pt x="165" y="519"/>
                  <a:pt x="157" y="540"/>
                </a:cubicBezTo>
                <a:lnTo>
                  <a:pt x="37" y="541"/>
                </a:lnTo>
                <a:lnTo>
                  <a:pt x="8" y="662"/>
                </a:lnTo>
                <a:lnTo>
                  <a:pt x="114" y="720"/>
                </a:lnTo>
                <a:cubicBezTo>
                  <a:pt x="111" y="746"/>
                  <a:pt x="110" y="772"/>
                  <a:pt x="111" y="798"/>
                </a:cubicBezTo>
                <a:lnTo>
                  <a:pt x="0" y="844"/>
                </a:lnTo>
                <a:lnTo>
                  <a:pt x="19" y="967"/>
                </a:lnTo>
                <a:lnTo>
                  <a:pt x="140" y="980"/>
                </a:lnTo>
                <a:cubicBezTo>
                  <a:pt x="148" y="1006"/>
                  <a:pt x="158" y="1031"/>
                  <a:pt x="169" y="1056"/>
                </a:cubicBezTo>
                <a:lnTo>
                  <a:pt x="83" y="1143"/>
                </a:lnTo>
                <a:lnTo>
                  <a:pt x="148" y="1249"/>
                </a:lnTo>
                <a:lnTo>
                  <a:pt x="267" y="1213"/>
                </a:lnTo>
                <a:cubicBezTo>
                  <a:pt x="282" y="1232"/>
                  <a:pt x="298" y="1249"/>
                  <a:pt x="316" y="1266"/>
                </a:cubicBezTo>
                <a:lnTo>
                  <a:pt x="268" y="1380"/>
                </a:lnTo>
                <a:lnTo>
                  <a:pt x="368" y="1454"/>
                </a:lnTo>
                <a:lnTo>
                  <a:pt x="466" y="1375"/>
                </a:lnTo>
                <a:cubicBezTo>
                  <a:pt x="490" y="1388"/>
                  <a:pt x="515" y="1399"/>
                  <a:pt x="541" y="1409"/>
                </a:cubicBezTo>
                <a:lnTo>
                  <a:pt x="541" y="1535"/>
                </a:lnTo>
                <a:close/>
                <a:moveTo>
                  <a:pt x="720" y="1228"/>
                </a:moveTo>
                <a:cubicBezTo>
                  <a:pt x="729" y="1190"/>
                  <a:pt x="786" y="952"/>
                  <a:pt x="786" y="952"/>
                </a:cubicBezTo>
                <a:cubicBezTo>
                  <a:pt x="845" y="950"/>
                  <a:pt x="899" y="916"/>
                  <a:pt x="927" y="863"/>
                </a:cubicBezTo>
                <a:cubicBezTo>
                  <a:pt x="927" y="863"/>
                  <a:pt x="1174" y="922"/>
                  <a:pt x="1215" y="932"/>
                </a:cubicBezTo>
                <a:cubicBezTo>
                  <a:pt x="1256" y="942"/>
                  <a:pt x="1258" y="966"/>
                  <a:pt x="1247" y="995"/>
                </a:cubicBezTo>
                <a:cubicBezTo>
                  <a:pt x="1162" y="1182"/>
                  <a:pt x="973" y="1301"/>
                  <a:pt x="768" y="1296"/>
                </a:cubicBezTo>
                <a:cubicBezTo>
                  <a:pt x="727" y="1296"/>
                  <a:pt x="711" y="1266"/>
                  <a:pt x="720" y="1228"/>
                </a:cubicBezTo>
                <a:close/>
                <a:moveTo>
                  <a:pt x="560" y="1247"/>
                </a:moveTo>
                <a:cubicBezTo>
                  <a:pt x="379" y="1162"/>
                  <a:pt x="265" y="978"/>
                  <a:pt x="267" y="779"/>
                </a:cubicBezTo>
                <a:cubicBezTo>
                  <a:pt x="267" y="734"/>
                  <a:pt x="295" y="712"/>
                  <a:pt x="339" y="723"/>
                </a:cubicBezTo>
                <a:cubicBezTo>
                  <a:pt x="382" y="733"/>
                  <a:pt x="612" y="788"/>
                  <a:pt x="612" y="788"/>
                </a:cubicBezTo>
                <a:cubicBezTo>
                  <a:pt x="613" y="847"/>
                  <a:pt x="646" y="902"/>
                  <a:pt x="698" y="931"/>
                </a:cubicBezTo>
                <a:cubicBezTo>
                  <a:pt x="698" y="931"/>
                  <a:pt x="650" y="1133"/>
                  <a:pt x="635" y="1196"/>
                </a:cubicBezTo>
                <a:cubicBezTo>
                  <a:pt x="620" y="1259"/>
                  <a:pt x="593" y="1259"/>
                  <a:pt x="560" y="1247"/>
                </a:cubicBezTo>
                <a:close/>
                <a:moveTo>
                  <a:pt x="804" y="682"/>
                </a:moveTo>
                <a:cubicBezTo>
                  <a:pt x="860" y="696"/>
                  <a:pt x="895" y="752"/>
                  <a:pt x="881" y="808"/>
                </a:cubicBezTo>
                <a:cubicBezTo>
                  <a:pt x="868" y="865"/>
                  <a:pt x="811" y="899"/>
                  <a:pt x="755" y="886"/>
                </a:cubicBezTo>
                <a:cubicBezTo>
                  <a:pt x="699" y="872"/>
                  <a:pt x="664" y="816"/>
                  <a:pt x="678" y="760"/>
                </a:cubicBezTo>
                <a:cubicBezTo>
                  <a:pt x="691" y="704"/>
                  <a:pt x="748" y="669"/>
                  <a:pt x="804" y="682"/>
                </a:cubicBezTo>
                <a:close/>
                <a:moveTo>
                  <a:pt x="354" y="633"/>
                </a:moveTo>
                <a:cubicBezTo>
                  <a:pt x="312" y="623"/>
                  <a:pt x="306" y="584"/>
                  <a:pt x="320" y="557"/>
                </a:cubicBezTo>
                <a:cubicBezTo>
                  <a:pt x="409" y="377"/>
                  <a:pt x="597" y="264"/>
                  <a:pt x="798" y="272"/>
                </a:cubicBezTo>
                <a:cubicBezTo>
                  <a:pt x="832" y="272"/>
                  <a:pt x="849" y="298"/>
                  <a:pt x="840" y="336"/>
                </a:cubicBezTo>
                <a:cubicBezTo>
                  <a:pt x="831" y="373"/>
                  <a:pt x="773" y="616"/>
                  <a:pt x="773" y="616"/>
                </a:cubicBezTo>
                <a:cubicBezTo>
                  <a:pt x="716" y="619"/>
                  <a:pt x="663" y="650"/>
                  <a:pt x="634" y="700"/>
                </a:cubicBezTo>
                <a:cubicBezTo>
                  <a:pt x="634" y="700"/>
                  <a:pt x="396" y="643"/>
                  <a:pt x="354" y="633"/>
                </a:cubicBezTo>
                <a:close/>
                <a:moveTo>
                  <a:pt x="1004" y="323"/>
                </a:moveTo>
                <a:cubicBezTo>
                  <a:pt x="1186" y="412"/>
                  <a:pt x="1300" y="601"/>
                  <a:pt x="1292" y="804"/>
                </a:cubicBezTo>
                <a:cubicBezTo>
                  <a:pt x="1289" y="830"/>
                  <a:pt x="1271" y="852"/>
                  <a:pt x="1236" y="844"/>
                </a:cubicBezTo>
                <a:cubicBezTo>
                  <a:pt x="1202" y="836"/>
                  <a:pt x="947" y="775"/>
                  <a:pt x="947" y="775"/>
                </a:cubicBezTo>
                <a:cubicBezTo>
                  <a:pt x="944" y="718"/>
                  <a:pt x="911" y="665"/>
                  <a:pt x="861" y="637"/>
                </a:cubicBezTo>
                <a:cubicBezTo>
                  <a:pt x="861" y="637"/>
                  <a:pt x="918" y="399"/>
                  <a:pt x="929" y="353"/>
                </a:cubicBezTo>
                <a:cubicBezTo>
                  <a:pt x="940" y="308"/>
                  <a:pt x="967" y="308"/>
                  <a:pt x="1004" y="323"/>
                </a:cubicBezTo>
                <a:close/>
                <a:moveTo>
                  <a:pt x="1344" y="919"/>
                </a:moveTo>
                <a:cubicBezTo>
                  <a:pt x="1419" y="607"/>
                  <a:pt x="1226" y="294"/>
                  <a:pt x="914" y="219"/>
                </a:cubicBezTo>
                <a:cubicBezTo>
                  <a:pt x="602" y="145"/>
                  <a:pt x="289" y="337"/>
                  <a:pt x="215" y="649"/>
                </a:cubicBezTo>
                <a:cubicBezTo>
                  <a:pt x="140" y="961"/>
                  <a:pt x="332" y="1274"/>
                  <a:pt x="645" y="1349"/>
                </a:cubicBezTo>
                <a:cubicBezTo>
                  <a:pt x="956" y="1424"/>
                  <a:pt x="1270" y="1231"/>
                  <a:pt x="1344" y="919"/>
                </a:cubicBezTo>
                <a:close/>
              </a:path>
            </a:pathLst>
          </a:custGeom>
          <a:solidFill>
            <a:srgbClr val="949494"/>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88" name="Freeform 8"/>
          <p:cNvSpPr/>
          <p:nvPr/>
        </p:nvSpPr>
        <p:spPr>
          <a:xfrm>
            <a:off x="4637160" y="4711680"/>
            <a:ext cx="662040" cy="662040"/>
          </a:xfrm>
          <a:custGeom>
            <a:avLst/>
            <a:gdLst>
              <a:gd name="textAreaLeft" fmla="*/ 0 w 662040"/>
              <a:gd name="textAreaRight" fmla="*/ 662400 w 662040"/>
              <a:gd name="textAreaTop" fmla="*/ 0 h 662040"/>
              <a:gd name="textAreaBottom" fmla="*/ 662400 h 662040"/>
            </a:gdLst>
            <a:ahLst/>
            <a:rect l="textAreaLeft" t="textAreaTop" r="textAreaRight" b="textAreaBottom"/>
            <a:pathLst>
              <a:path w="983" h="982">
                <a:moveTo>
                  <a:pt x="113" y="401"/>
                </a:moveTo>
                <a:cubicBezTo>
                  <a:pt x="163" y="194"/>
                  <a:pt x="370" y="67"/>
                  <a:pt x="577" y="116"/>
                </a:cubicBezTo>
                <a:cubicBezTo>
                  <a:pt x="783" y="165"/>
                  <a:pt x="911" y="373"/>
                  <a:pt x="861" y="579"/>
                </a:cubicBezTo>
                <a:cubicBezTo>
                  <a:pt x="812" y="786"/>
                  <a:pt x="605" y="913"/>
                  <a:pt x="398" y="864"/>
                </a:cubicBezTo>
                <a:cubicBezTo>
                  <a:pt x="191" y="815"/>
                  <a:pt x="64" y="607"/>
                  <a:pt x="113" y="401"/>
                </a:cubicBezTo>
                <a:close/>
                <a:moveTo>
                  <a:pt x="338" y="959"/>
                </a:moveTo>
                <a:lnTo>
                  <a:pt x="414" y="978"/>
                </a:lnTo>
                <a:lnTo>
                  <a:pt x="453" y="907"/>
                </a:lnTo>
                <a:cubicBezTo>
                  <a:pt x="469" y="908"/>
                  <a:pt x="485" y="908"/>
                  <a:pt x="501" y="908"/>
                </a:cubicBezTo>
                <a:lnTo>
                  <a:pt x="533" y="982"/>
                </a:lnTo>
                <a:lnTo>
                  <a:pt x="610" y="969"/>
                </a:lnTo>
                <a:lnTo>
                  <a:pt x="618" y="887"/>
                </a:lnTo>
                <a:cubicBezTo>
                  <a:pt x="631" y="883"/>
                  <a:pt x="643" y="878"/>
                  <a:pt x="656" y="872"/>
                </a:cubicBezTo>
                <a:lnTo>
                  <a:pt x="715" y="930"/>
                </a:lnTo>
                <a:lnTo>
                  <a:pt x="781" y="890"/>
                </a:lnTo>
                <a:lnTo>
                  <a:pt x="757" y="809"/>
                </a:lnTo>
                <a:cubicBezTo>
                  <a:pt x="770" y="799"/>
                  <a:pt x="782" y="787"/>
                  <a:pt x="794" y="775"/>
                </a:cubicBezTo>
                <a:lnTo>
                  <a:pt x="871" y="805"/>
                </a:lnTo>
                <a:lnTo>
                  <a:pt x="916" y="741"/>
                </a:lnTo>
                <a:lnTo>
                  <a:pt x="862" y="676"/>
                </a:lnTo>
                <a:cubicBezTo>
                  <a:pt x="867" y="666"/>
                  <a:pt x="872" y="655"/>
                  <a:pt x="876" y="644"/>
                </a:cubicBezTo>
                <a:lnTo>
                  <a:pt x="960" y="644"/>
                </a:lnTo>
                <a:lnTo>
                  <a:pt x="978" y="568"/>
                </a:lnTo>
                <a:lnTo>
                  <a:pt x="904" y="528"/>
                </a:lnTo>
                <a:cubicBezTo>
                  <a:pt x="905" y="514"/>
                  <a:pt x="906" y="500"/>
                  <a:pt x="905" y="487"/>
                </a:cubicBezTo>
                <a:lnTo>
                  <a:pt x="983" y="454"/>
                </a:lnTo>
                <a:lnTo>
                  <a:pt x="971" y="377"/>
                </a:lnTo>
                <a:lnTo>
                  <a:pt x="887" y="369"/>
                </a:lnTo>
                <a:cubicBezTo>
                  <a:pt x="883" y="354"/>
                  <a:pt x="878" y="341"/>
                  <a:pt x="872" y="327"/>
                </a:cubicBezTo>
                <a:lnTo>
                  <a:pt x="931" y="268"/>
                </a:lnTo>
                <a:lnTo>
                  <a:pt x="890" y="201"/>
                </a:lnTo>
                <a:lnTo>
                  <a:pt x="811" y="225"/>
                </a:lnTo>
                <a:cubicBezTo>
                  <a:pt x="802" y="215"/>
                  <a:pt x="793" y="205"/>
                  <a:pt x="784" y="195"/>
                </a:cubicBezTo>
                <a:lnTo>
                  <a:pt x="815" y="119"/>
                </a:lnTo>
                <a:lnTo>
                  <a:pt x="753" y="73"/>
                </a:lnTo>
                <a:lnTo>
                  <a:pt x="689" y="124"/>
                </a:lnTo>
                <a:cubicBezTo>
                  <a:pt x="675" y="116"/>
                  <a:pt x="660" y="109"/>
                  <a:pt x="645" y="103"/>
                </a:cubicBezTo>
                <a:lnTo>
                  <a:pt x="644" y="22"/>
                </a:lnTo>
                <a:lnTo>
                  <a:pt x="568" y="4"/>
                </a:lnTo>
                <a:lnTo>
                  <a:pt x="531" y="74"/>
                </a:lnTo>
                <a:cubicBezTo>
                  <a:pt x="514" y="72"/>
                  <a:pt x="497" y="72"/>
                  <a:pt x="481" y="72"/>
                </a:cubicBezTo>
                <a:lnTo>
                  <a:pt x="450" y="0"/>
                </a:lnTo>
                <a:lnTo>
                  <a:pt x="373" y="13"/>
                </a:lnTo>
                <a:lnTo>
                  <a:pt x="366" y="90"/>
                </a:lnTo>
                <a:cubicBezTo>
                  <a:pt x="351" y="94"/>
                  <a:pt x="337" y="100"/>
                  <a:pt x="323" y="106"/>
                </a:cubicBezTo>
                <a:lnTo>
                  <a:pt x="268" y="51"/>
                </a:lnTo>
                <a:lnTo>
                  <a:pt x="202" y="92"/>
                </a:lnTo>
                <a:lnTo>
                  <a:pt x="224" y="165"/>
                </a:lnTo>
                <a:cubicBezTo>
                  <a:pt x="209" y="177"/>
                  <a:pt x="195" y="190"/>
                  <a:pt x="182" y="205"/>
                </a:cubicBezTo>
                <a:lnTo>
                  <a:pt x="111" y="177"/>
                </a:lnTo>
                <a:lnTo>
                  <a:pt x="67" y="241"/>
                </a:lnTo>
                <a:lnTo>
                  <a:pt x="116" y="299"/>
                </a:lnTo>
                <a:cubicBezTo>
                  <a:pt x="109" y="311"/>
                  <a:pt x="103" y="324"/>
                  <a:pt x="98" y="338"/>
                </a:cubicBezTo>
                <a:lnTo>
                  <a:pt x="23" y="338"/>
                </a:lnTo>
                <a:lnTo>
                  <a:pt x="5" y="414"/>
                </a:lnTo>
                <a:lnTo>
                  <a:pt x="71" y="450"/>
                </a:lnTo>
                <a:cubicBezTo>
                  <a:pt x="70" y="466"/>
                  <a:pt x="69" y="482"/>
                  <a:pt x="69" y="499"/>
                </a:cubicBezTo>
                <a:lnTo>
                  <a:pt x="0" y="527"/>
                </a:lnTo>
                <a:lnTo>
                  <a:pt x="12" y="605"/>
                </a:lnTo>
                <a:lnTo>
                  <a:pt x="88" y="612"/>
                </a:lnTo>
                <a:cubicBezTo>
                  <a:pt x="93" y="629"/>
                  <a:pt x="99" y="644"/>
                  <a:pt x="106" y="660"/>
                </a:cubicBezTo>
                <a:lnTo>
                  <a:pt x="52" y="714"/>
                </a:lnTo>
                <a:lnTo>
                  <a:pt x="93" y="781"/>
                </a:lnTo>
                <a:lnTo>
                  <a:pt x="167" y="758"/>
                </a:lnTo>
                <a:cubicBezTo>
                  <a:pt x="176" y="770"/>
                  <a:pt x="187" y="781"/>
                  <a:pt x="197" y="791"/>
                </a:cubicBezTo>
                <a:lnTo>
                  <a:pt x="168" y="862"/>
                </a:lnTo>
                <a:lnTo>
                  <a:pt x="230" y="909"/>
                </a:lnTo>
                <a:lnTo>
                  <a:pt x="292" y="859"/>
                </a:lnTo>
                <a:cubicBezTo>
                  <a:pt x="307" y="867"/>
                  <a:pt x="322" y="874"/>
                  <a:pt x="338" y="880"/>
                </a:cubicBezTo>
                <a:lnTo>
                  <a:pt x="338" y="959"/>
                </a:lnTo>
                <a:close/>
                <a:moveTo>
                  <a:pt x="450" y="768"/>
                </a:moveTo>
                <a:cubicBezTo>
                  <a:pt x="456" y="744"/>
                  <a:pt x="491" y="595"/>
                  <a:pt x="491" y="595"/>
                </a:cubicBezTo>
                <a:cubicBezTo>
                  <a:pt x="529" y="593"/>
                  <a:pt x="562" y="572"/>
                  <a:pt x="580" y="539"/>
                </a:cubicBezTo>
                <a:cubicBezTo>
                  <a:pt x="580" y="539"/>
                  <a:pt x="734" y="576"/>
                  <a:pt x="759" y="582"/>
                </a:cubicBezTo>
                <a:cubicBezTo>
                  <a:pt x="785" y="588"/>
                  <a:pt x="787" y="604"/>
                  <a:pt x="779" y="622"/>
                </a:cubicBezTo>
                <a:cubicBezTo>
                  <a:pt x="727" y="739"/>
                  <a:pt x="608" y="813"/>
                  <a:pt x="480" y="810"/>
                </a:cubicBezTo>
                <a:cubicBezTo>
                  <a:pt x="454" y="810"/>
                  <a:pt x="444" y="791"/>
                  <a:pt x="450" y="768"/>
                </a:cubicBezTo>
                <a:close/>
                <a:moveTo>
                  <a:pt x="350" y="779"/>
                </a:moveTo>
                <a:cubicBezTo>
                  <a:pt x="237" y="726"/>
                  <a:pt x="166" y="611"/>
                  <a:pt x="167" y="487"/>
                </a:cubicBezTo>
                <a:cubicBezTo>
                  <a:pt x="167" y="459"/>
                  <a:pt x="185" y="445"/>
                  <a:pt x="212" y="451"/>
                </a:cubicBezTo>
                <a:cubicBezTo>
                  <a:pt x="239" y="458"/>
                  <a:pt x="383" y="492"/>
                  <a:pt x="383" y="492"/>
                </a:cubicBezTo>
                <a:cubicBezTo>
                  <a:pt x="383" y="529"/>
                  <a:pt x="404" y="564"/>
                  <a:pt x="436" y="582"/>
                </a:cubicBezTo>
                <a:cubicBezTo>
                  <a:pt x="436" y="582"/>
                  <a:pt x="406" y="708"/>
                  <a:pt x="397" y="747"/>
                </a:cubicBezTo>
                <a:cubicBezTo>
                  <a:pt x="387" y="787"/>
                  <a:pt x="371" y="787"/>
                  <a:pt x="350" y="779"/>
                </a:cubicBezTo>
                <a:close/>
                <a:moveTo>
                  <a:pt x="503" y="426"/>
                </a:moveTo>
                <a:cubicBezTo>
                  <a:pt x="538" y="435"/>
                  <a:pt x="559" y="470"/>
                  <a:pt x="551" y="505"/>
                </a:cubicBezTo>
                <a:cubicBezTo>
                  <a:pt x="543" y="540"/>
                  <a:pt x="507" y="562"/>
                  <a:pt x="472" y="554"/>
                </a:cubicBezTo>
                <a:cubicBezTo>
                  <a:pt x="437" y="545"/>
                  <a:pt x="415" y="510"/>
                  <a:pt x="424" y="475"/>
                </a:cubicBezTo>
                <a:cubicBezTo>
                  <a:pt x="432" y="440"/>
                  <a:pt x="467" y="418"/>
                  <a:pt x="503" y="426"/>
                </a:cubicBezTo>
                <a:close/>
                <a:moveTo>
                  <a:pt x="222" y="396"/>
                </a:moveTo>
                <a:cubicBezTo>
                  <a:pt x="195" y="389"/>
                  <a:pt x="191" y="365"/>
                  <a:pt x="200" y="348"/>
                </a:cubicBezTo>
                <a:cubicBezTo>
                  <a:pt x="256" y="235"/>
                  <a:pt x="373" y="165"/>
                  <a:pt x="499" y="170"/>
                </a:cubicBezTo>
                <a:cubicBezTo>
                  <a:pt x="520" y="170"/>
                  <a:pt x="531" y="186"/>
                  <a:pt x="525" y="210"/>
                </a:cubicBezTo>
                <a:cubicBezTo>
                  <a:pt x="520" y="233"/>
                  <a:pt x="483" y="385"/>
                  <a:pt x="483" y="385"/>
                </a:cubicBezTo>
                <a:cubicBezTo>
                  <a:pt x="447" y="386"/>
                  <a:pt x="414" y="406"/>
                  <a:pt x="397" y="437"/>
                </a:cubicBezTo>
                <a:cubicBezTo>
                  <a:pt x="397" y="437"/>
                  <a:pt x="248" y="402"/>
                  <a:pt x="222" y="396"/>
                </a:cubicBezTo>
                <a:close/>
                <a:moveTo>
                  <a:pt x="628" y="202"/>
                </a:moveTo>
                <a:cubicBezTo>
                  <a:pt x="741" y="257"/>
                  <a:pt x="813" y="376"/>
                  <a:pt x="808" y="503"/>
                </a:cubicBezTo>
                <a:cubicBezTo>
                  <a:pt x="806" y="518"/>
                  <a:pt x="795" y="533"/>
                  <a:pt x="773" y="527"/>
                </a:cubicBezTo>
                <a:cubicBezTo>
                  <a:pt x="751" y="522"/>
                  <a:pt x="592" y="484"/>
                  <a:pt x="592" y="484"/>
                </a:cubicBezTo>
                <a:cubicBezTo>
                  <a:pt x="590" y="448"/>
                  <a:pt x="570" y="416"/>
                  <a:pt x="538" y="398"/>
                </a:cubicBezTo>
                <a:cubicBezTo>
                  <a:pt x="538" y="398"/>
                  <a:pt x="574" y="249"/>
                  <a:pt x="581" y="221"/>
                </a:cubicBezTo>
                <a:cubicBezTo>
                  <a:pt x="588" y="192"/>
                  <a:pt x="605" y="192"/>
                  <a:pt x="628" y="202"/>
                </a:cubicBezTo>
                <a:close/>
                <a:moveTo>
                  <a:pt x="841" y="574"/>
                </a:moveTo>
                <a:cubicBezTo>
                  <a:pt x="887" y="379"/>
                  <a:pt x="767" y="183"/>
                  <a:pt x="572" y="137"/>
                </a:cubicBezTo>
                <a:cubicBezTo>
                  <a:pt x="377" y="90"/>
                  <a:pt x="181" y="210"/>
                  <a:pt x="134" y="406"/>
                </a:cubicBezTo>
                <a:cubicBezTo>
                  <a:pt x="88" y="601"/>
                  <a:pt x="208" y="796"/>
                  <a:pt x="403" y="843"/>
                </a:cubicBezTo>
                <a:cubicBezTo>
                  <a:pt x="598" y="890"/>
                  <a:pt x="794" y="769"/>
                  <a:pt x="841" y="574"/>
                </a:cubicBezTo>
                <a:close/>
              </a:path>
            </a:pathLst>
          </a:custGeom>
          <a:solidFill>
            <a:srgbClr val="949494"/>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89" name="Freeform 9"/>
          <p:cNvSpPr/>
          <p:nvPr/>
        </p:nvSpPr>
        <p:spPr>
          <a:xfrm>
            <a:off x="2514600" y="4778280"/>
            <a:ext cx="560520" cy="561960"/>
          </a:xfrm>
          <a:custGeom>
            <a:avLst/>
            <a:gdLst>
              <a:gd name="textAreaLeft" fmla="*/ 0 w 560520"/>
              <a:gd name="textAreaRight" fmla="*/ 560880 w 560520"/>
              <a:gd name="textAreaTop" fmla="*/ 0 h 561960"/>
              <a:gd name="textAreaBottom" fmla="*/ 562320 h 561960"/>
            </a:gdLst>
            <a:ahLst/>
            <a:rect l="textAreaLeft" t="textAreaTop" r="textAreaRight" b="textAreaBottom"/>
            <a:pathLst>
              <a:path w="832" h="832">
                <a:moveTo>
                  <a:pt x="501" y="416"/>
                </a:moveTo>
                <a:cubicBezTo>
                  <a:pt x="501" y="461"/>
                  <a:pt x="464" y="497"/>
                  <a:pt x="419" y="497"/>
                </a:cubicBezTo>
                <a:cubicBezTo>
                  <a:pt x="374" y="497"/>
                  <a:pt x="338" y="461"/>
                  <a:pt x="338" y="416"/>
                </a:cubicBezTo>
                <a:cubicBezTo>
                  <a:pt x="338" y="371"/>
                  <a:pt x="374" y="335"/>
                  <a:pt x="419" y="335"/>
                </a:cubicBezTo>
                <a:cubicBezTo>
                  <a:pt x="464" y="335"/>
                  <a:pt x="501" y="371"/>
                  <a:pt x="501" y="416"/>
                </a:cubicBezTo>
                <a:close/>
                <a:moveTo>
                  <a:pt x="450" y="0"/>
                </a:moveTo>
                <a:lnTo>
                  <a:pt x="383" y="0"/>
                </a:lnTo>
                <a:lnTo>
                  <a:pt x="366" y="66"/>
                </a:lnTo>
                <a:cubicBezTo>
                  <a:pt x="352" y="68"/>
                  <a:pt x="339" y="71"/>
                  <a:pt x="326" y="75"/>
                </a:cubicBezTo>
                <a:lnTo>
                  <a:pt x="285" y="20"/>
                </a:lnTo>
                <a:lnTo>
                  <a:pt x="224" y="46"/>
                </a:lnTo>
                <a:lnTo>
                  <a:pt x="234" y="114"/>
                </a:lnTo>
                <a:cubicBezTo>
                  <a:pt x="224" y="121"/>
                  <a:pt x="214" y="127"/>
                  <a:pt x="205" y="134"/>
                </a:cubicBezTo>
                <a:lnTo>
                  <a:pt x="146" y="98"/>
                </a:lnTo>
                <a:lnTo>
                  <a:pt x="99" y="145"/>
                </a:lnTo>
                <a:lnTo>
                  <a:pt x="135" y="206"/>
                </a:lnTo>
                <a:cubicBezTo>
                  <a:pt x="126" y="217"/>
                  <a:pt x="118" y="229"/>
                  <a:pt x="111" y="242"/>
                </a:cubicBezTo>
                <a:lnTo>
                  <a:pt x="41" y="232"/>
                </a:lnTo>
                <a:lnTo>
                  <a:pt x="17" y="294"/>
                </a:lnTo>
                <a:lnTo>
                  <a:pt x="75" y="336"/>
                </a:lnTo>
                <a:cubicBezTo>
                  <a:pt x="72" y="346"/>
                  <a:pt x="71" y="355"/>
                  <a:pt x="69" y="365"/>
                </a:cubicBezTo>
                <a:lnTo>
                  <a:pt x="0" y="382"/>
                </a:lnTo>
                <a:lnTo>
                  <a:pt x="0" y="448"/>
                </a:lnTo>
                <a:lnTo>
                  <a:pt x="69" y="466"/>
                </a:lnTo>
                <a:cubicBezTo>
                  <a:pt x="71" y="478"/>
                  <a:pt x="73" y="490"/>
                  <a:pt x="76" y="501"/>
                </a:cubicBezTo>
                <a:lnTo>
                  <a:pt x="18" y="543"/>
                </a:lnTo>
                <a:lnTo>
                  <a:pt x="43" y="604"/>
                </a:lnTo>
                <a:lnTo>
                  <a:pt x="114" y="594"/>
                </a:lnTo>
                <a:cubicBezTo>
                  <a:pt x="120" y="605"/>
                  <a:pt x="127" y="616"/>
                  <a:pt x="135" y="626"/>
                </a:cubicBezTo>
                <a:lnTo>
                  <a:pt x="98" y="686"/>
                </a:lnTo>
                <a:lnTo>
                  <a:pt x="145" y="733"/>
                </a:lnTo>
                <a:lnTo>
                  <a:pt x="205" y="697"/>
                </a:lnTo>
                <a:cubicBezTo>
                  <a:pt x="214" y="704"/>
                  <a:pt x="224" y="711"/>
                  <a:pt x="233" y="717"/>
                </a:cubicBezTo>
                <a:lnTo>
                  <a:pt x="222" y="785"/>
                </a:lnTo>
                <a:lnTo>
                  <a:pt x="283" y="811"/>
                </a:lnTo>
                <a:lnTo>
                  <a:pt x="325" y="757"/>
                </a:lnTo>
                <a:cubicBezTo>
                  <a:pt x="338" y="761"/>
                  <a:pt x="352" y="764"/>
                  <a:pt x="366" y="766"/>
                </a:cubicBezTo>
                <a:lnTo>
                  <a:pt x="382" y="832"/>
                </a:lnTo>
                <a:lnTo>
                  <a:pt x="448" y="832"/>
                </a:lnTo>
                <a:lnTo>
                  <a:pt x="465" y="767"/>
                </a:lnTo>
                <a:cubicBezTo>
                  <a:pt x="479" y="765"/>
                  <a:pt x="493" y="762"/>
                  <a:pt x="507" y="759"/>
                </a:cubicBezTo>
                <a:lnTo>
                  <a:pt x="547" y="812"/>
                </a:lnTo>
                <a:lnTo>
                  <a:pt x="607" y="786"/>
                </a:lnTo>
                <a:lnTo>
                  <a:pt x="598" y="721"/>
                </a:lnTo>
                <a:cubicBezTo>
                  <a:pt x="609" y="715"/>
                  <a:pt x="620" y="708"/>
                  <a:pt x="630" y="700"/>
                </a:cubicBezTo>
                <a:lnTo>
                  <a:pt x="686" y="734"/>
                </a:lnTo>
                <a:lnTo>
                  <a:pt x="733" y="687"/>
                </a:lnTo>
                <a:lnTo>
                  <a:pt x="700" y="631"/>
                </a:lnTo>
                <a:cubicBezTo>
                  <a:pt x="710" y="618"/>
                  <a:pt x="719" y="605"/>
                  <a:pt x="727" y="591"/>
                </a:cubicBezTo>
                <a:lnTo>
                  <a:pt x="790" y="600"/>
                </a:lnTo>
                <a:lnTo>
                  <a:pt x="815" y="538"/>
                </a:lnTo>
                <a:lnTo>
                  <a:pt x="763" y="500"/>
                </a:lnTo>
                <a:cubicBezTo>
                  <a:pt x="766" y="489"/>
                  <a:pt x="768" y="477"/>
                  <a:pt x="770" y="465"/>
                </a:cubicBezTo>
                <a:lnTo>
                  <a:pt x="832" y="450"/>
                </a:lnTo>
                <a:lnTo>
                  <a:pt x="832" y="384"/>
                </a:lnTo>
                <a:lnTo>
                  <a:pt x="770" y="367"/>
                </a:lnTo>
                <a:cubicBezTo>
                  <a:pt x="768" y="353"/>
                  <a:pt x="765" y="340"/>
                  <a:pt x="762" y="327"/>
                </a:cubicBezTo>
                <a:lnTo>
                  <a:pt x="813" y="289"/>
                </a:lnTo>
                <a:lnTo>
                  <a:pt x="788" y="228"/>
                </a:lnTo>
                <a:lnTo>
                  <a:pt x="724" y="237"/>
                </a:lnTo>
                <a:cubicBezTo>
                  <a:pt x="717" y="224"/>
                  <a:pt x="709" y="212"/>
                  <a:pt x="700" y="201"/>
                </a:cubicBezTo>
                <a:lnTo>
                  <a:pt x="734" y="146"/>
                </a:lnTo>
                <a:lnTo>
                  <a:pt x="687" y="99"/>
                </a:lnTo>
                <a:lnTo>
                  <a:pt x="630" y="132"/>
                </a:lnTo>
                <a:cubicBezTo>
                  <a:pt x="620" y="124"/>
                  <a:pt x="610" y="117"/>
                  <a:pt x="599" y="111"/>
                </a:cubicBezTo>
                <a:lnTo>
                  <a:pt x="609" y="46"/>
                </a:lnTo>
                <a:lnTo>
                  <a:pt x="549" y="21"/>
                </a:lnTo>
                <a:lnTo>
                  <a:pt x="508" y="73"/>
                </a:lnTo>
                <a:cubicBezTo>
                  <a:pt x="494" y="70"/>
                  <a:pt x="480" y="67"/>
                  <a:pt x="465" y="65"/>
                </a:cubicBezTo>
                <a:lnTo>
                  <a:pt x="450" y="0"/>
                </a:lnTo>
                <a:close/>
              </a:path>
            </a:pathLst>
          </a:custGeom>
          <a:solidFill>
            <a:srgbClr val="949494"/>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90" name="Freeform 10"/>
          <p:cNvSpPr/>
          <p:nvPr/>
        </p:nvSpPr>
        <p:spPr>
          <a:xfrm>
            <a:off x="3076560" y="4119480"/>
            <a:ext cx="1282680" cy="1284480"/>
          </a:xfrm>
          <a:custGeom>
            <a:avLst/>
            <a:gdLst>
              <a:gd name="textAreaLeft" fmla="*/ 0 w 1282680"/>
              <a:gd name="textAreaRight" fmla="*/ 1283040 w 1282680"/>
              <a:gd name="textAreaTop" fmla="*/ 0 h 1284480"/>
              <a:gd name="textAreaBottom" fmla="*/ 1284840 h 1284480"/>
            </a:gdLst>
            <a:ahLst/>
            <a:rect l="textAreaLeft" t="textAreaTop" r="textAreaRight" b="textAreaBottom"/>
            <a:pathLst>
              <a:path w="1904" h="1906">
                <a:moveTo>
                  <a:pt x="1319" y="1582"/>
                </a:moveTo>
                <a:cubicBezTo>
                  <a:pt x="971" y="1784"/>
                  <a:pt x="526" y="1667"/>
                  <a:pt x="323" y="1319"/>
                </a:cubicBezTo>
                <a:cubicBezTo>
                  <a:pt x="121" y="972"/>
                  <a:pt x="239" y="526"/>
                  <a:pt x="586" y="324"/>
                </a:cubicBezTo>
                <a:cubicBezTo>
                  <a:pt x="934" y="122"/>
                  <a:pt x="1379" y="239"/>
                  <a:pt x="1581" y="587"/>
                </a:cubicBezTo>
                <a:cubicBezTo>
                  <a:pt x="1784" y="934"/>
                  <a:pt x="1666" y="1380"/>
                  <a:pt x="1319" y="1582"/>
                </a:cubicBezTo>
                <a:close/>
                <a:moveTo>
                  <a:pt x="1811" y="543"/>
                </a:moveTo>
                <a:lnTo>
                  <a:pt x="1735" y="412"/>
                </a:lnTo>
                <a:lnTo>
                  <a:pt x="1585" y="453"/>
                </a:lnTo>
                <a:cubicBezTo>
                  <a:pt x="1565" y="428"/>
                  <a:pt x="1544" y="405"/>
                  <a:pt x="1521" y="383"/>
                </a:cubicBezTo>
                <a:lnTo>
                  <a:pt x="1583" y="239"/>
                </a:lnTo>
                <a:lnTo>
                  <a:pt x="1461" y="148"/>
                </a:lnTo>
                <a:lnTo>
                  <a:pt x="1337" y="247"/>
                </a:lnTo>
                <a:cubicBezTo>
                  <a:pt x="1313" y="234"/>
                  <a:pt x="1289" y="223"/>
                  <a:pt x="1265" y="212"/>
                </a:cubicBezTo>
                <a:lnTo>
                  <a:pt x="1268" y="53"/>
                </a:lnTo>
                <a:lnTo>
                  <a:pt x="1121" y="14"/>
                </a:lnTo>
                <a:lnTo>
                  <a:pt x="1042" y="154"/>
                </a:lnTo>
                <a:cubicBezTo>
                  <a:pt x="1010" y="151"/>
                  <a:pt x="977" y="149"/>
                  <a:pt x="944" y="150"/>
                </a:cubicBezTo>
                <a:lnTo>
                  <a:pt x="882" y="0"/>
                </a:lnTo>
                <a:lnTo>
                  <a:pt x="733" y="22"/>
                </a:lnTo>
                <a:lnTo>
                  <a:pt x="716" y="185"/>
                </a:lnTo>
                <a:cubicBezTo>
                  <a:pt x="695" y="192"/>
                  <a:pt x="673" y="199"/>
                  <a:pt x="652" y="208"/>
                </a:cubicBezTo>
                <a:lnTo>
                  <a:pt x="539" y="90"/>
                </a:lnTo>
                <a:lnTo>
                  <a:pt x="409" y="166"/>
                </a:lnTo>
                <a:lnTo>
                  <a:pt x="453" y="324"/>
                </a:lnTo>
                <a:cubicBezTo>
                  <a:pt x="432" y="341"/>
                  <a:pt x="412" y="358"/>
                  <a:pt x="393" y="377"/>
                </a:cubicBezTo>
                <a:lnTo>
                  <a:pt x="244" y="310"/>
                </a:lnTo>
                <a:lnTo>
                  <a:pt x="152" y="431"/>
                </a:lnTo>
                <a:lnTo>
                  <a:pt x="252" y="559"/>
                </a:lnTo>
                <a:cubicBezTo>
                  <a:pt x="238" y="584"/>
                  <a:pt x="225" y="610"/>
                  <a:pt x="214" y="636"/>
                </a:cubicBezTo>
                <a:lnTo>
                  <a:pt x="53" y="633"/>
                </a:lnTo>
                <a:lnTo>
                  <a:pt x="15" y="779"/>
                </a:lnTo>
                <a:lnTo>
                  <a:pt x="154" y="859"/>
                </a:lnTo>
                <a:cubicBezTo>
                  <a:pt x="151" y="884"/>
                  <a:pt x="149" y="911"/>
                  <a:pt x="148" y="937"/>
                </a:cubicBezTo>
                <a:lnTo>
                  <a:pt x="0" y="993"/>
                </a:lnTo>
                <a:lnTo>
                  <a:pt x="20" y="1144"/>
                </a:lnTo>
                <a:lnTo>
                  <a:pt x="175" y="1165"/>
                </a:lnTo>
                <a:cubicBezTo>
                  <a:pt x="184" y="1195"/>
                  <a:pt x="193" y="1226"/>
                  <a:pt x="205" y="1256"/>
                </a:cubicBezTo>
                <a:lnTo>
                  <a:pt x="94" y="1363"/>
                </a:lnTo>
                <a:lnTo>
                  <a:pt x="170" y="1494"/>
                </a:lnTo>
                <a:lnTo>
                  <a:pt x="318" y="1454"/>
                </a:lnTo>
                <a:cubicBezTo>
                  <a:pt x="338" y="1480"/>
                  <a:pt x="359" y="1504"/>
                  <a:pt x="382" y="1527"/>
                </a:cubicBezTo>
                <a:lnTo>
                  <a:pt x="322" y="1667"/>
                </a:lnTo>
                <a:lnTo>
                  <a:pt x="443" y="1758"/>
                </a:lnTo>
                <a:lnTo>
                  <a:pt x="561" y="1665"/>
                </a:lnTo>
                <a:cubicBezTo>
                  <a:pt x="587" y="1679"/>
                  <a:pt x="613" y="1693"/>
                  <a:pt x="640" y="1704"/>
                </a:cubicBezTo>
                <a:lnTo>
                  <a:pt x="637" y="1853"/>
                </a:lnTo>
                <a:lnTo>
                  <a:pt x="784" y="1892"/>
                </a:lnTo>
                <a:lnTo>
                  <a:pt x="856" y="1764"/>
                </a:lnTo>
                <a:cubicBezTo>
                  <a:pt x="893" y="1768"/>
                  <a:pt x="930" y="1771"/>
                  <a:pt x="967" y="1770"/>
                </a:cubicBezTo>
                <a:lnTo>
                  <a:pt x="1023" y="1906"/>
                </a:lnTo>
                <a:lnTo>
                  <a:pt x="1172" y="1884"/>
                </a:lnTo>
                <a:lnTo>
                  <a:pt x="1187" y="1738"/>
                </a:lnTo>
                <a:cubicBezTo>
                  <a:pt x="1213" y="1730"/>
                  <a:pt x="1239" y="1721"/>
                  <a:pt x="1265" y="1711"/>
                </a:cubicBezTo>
                <a:lnTo>
                  <a:pt x="1366" y="1816"/>
                </a:lnTo>
                <a:lnTo>
                  <a:pt x="1496" y="1740"/>
                </a:lnTo>
                <a:lnTo>
                  <a:pt x="1457" y="1599"/>
                </a:lnTo>
                <a:cubicBezTo>
                  <a:pt x="1482" y="1579"/>
                  <a:pt x="1506" y="1558"/>
                  <a:pt x="1528" y="1536"/>
                </a:cubicBezTo>
                <a:lnTo>
                  <a:pt x="1661" y="1595"/>
                </a:lnTo>
                <a:lnTo>
                  <a:pt x="1753" y="1475"/>
                </a:lnTo>
                <a:lnTo>
                  <a:pt x="1662" y="1359"/>
                </a:lnTo>
                <a:cubicBezTo>
                  <a:pt x="1678" y="1330"/>
                  <a:pt x="1692" y="1300"/>
                  <a:pt x="1705" y="1270"/>
                </a:cubicBezTo>
                <a:lnTo>
                  <a:pt x="1852" y="1273"/>
                </a:lnTo>
                <a:lnTo>
                  <a:pt x="1890" y="1127"/>
                </a:lnTo>
                <a:lnTo>
                  <a:pt x="1760" y="1053"/>
                </a:lnTo>
                <a:cubicBezTo>
                  <a:pt x="1763" y="1024"/>
                  <a:pt x="1765" y="995"/>
                  <a:pt x="1765" y="966"/>
                </a:cubicBezTo>
                <a:lnTo>
                  <a:pt x="1904" y="913"/>
                </a:lnTo>
                <a:lnTo>
                  <a:pt x="1885" y="762"/>
                </a:lnTo>
                <a:lnTo>
                  <a:pt x="1734" y="742"/>
                </a:lnTo>
                <a:cubicBezTo>
                  <a:pt x="1725" y="710"/>
                  <a:pt x="1714" y="679"/>
                  <a:pt x="1701" y="649"/>
                </a:cubicBezTo>
                <a:lnTo>
                  <a:pt x="1811" y="543"/>
                </a:lnTo>
                <a:close/>
                <a:moveTo>
                  <a:pt x="1350" y="876"/>
                </a:moveTo>
                <a:cubicBezTo>
                  <a:pt x="1291" y="906"/>
                  <a:pt x="1295" y="845"/>
                  <a:pt x="1295" y="845"/>
                </a:cubicBezTo>
                <a:cubicBezTo>
                  <a:pt x="1295" y="845"/>
                  <a:pt x="1299" y="825"/>
                  <a:pt x="1269" y="775"/>
                </a:cubicBezTo>
                <a:cubicBezTo>
                  <a:pt x="1242" y="727"/>
                  <a:pt x="1217" y="715"/>
                  <a:pt x="1217" y="715"/>
                </a:cubicBezTo>
                <a:cubicBezTo>
                  <a:pt x="1217" y="715"/>
                  <a:pt x="1169" y="685"/>
                  <a:pt x="1217" y="646"/>
                </a:cubicBezTo>
                <a:cubicBezTo>
                  <a:pt x="1279" y="597"/>
                  <a:pt x="1321" y="634"/>
                  <a:pt x="1321" y="634"/>
                </a:cubicBezTo>
                <a:cubicBezTo>
                  <a:pt x="1321" y="634"/>
                  <a:pt x="1360" y="662"/>
                  <a:pt x="1383" y="702"/>
                </a:cubicBezTo>
                <a:cubicBezTo>
                  <a:pt x="1412" y="752"/>
                  <a:pt x="1416" y="785"/>
                  <a:pt x="1416" y="785"/>
                </a:cubicBezTo>
                <a:cubicBezTo>
                  <a:pt x="1416" y="785"/>
                  <a:pt x="1430" y="836"/>
                  <a:pt x="1350" y="876"/>
                </a:cubicBezTo>
                <a:close/>
                <a:moveTo>
                  <a:pt x="1446" y="993"/>
                </a:moveTo>
                <a:cubicBezTo>
                  <a:pt x="1446" y="993"/>
                  <a:pt x="1454" y="1040"/>
                  <a:pt x="1442" y="1085"/>
                </a:cubicBezTo>
                <a:cubicBezTo>
                  <a:pt x="1427" y="1141"/>
                  <a:pt x="1407" y="1167"/>
                  <a:pt x="1407" y="1167"/>
                </a:cubicBezTo>
                <a:cubicBezTo>
                  <a:pt x="1407" y="1167"/>
                  <a:pt x="1380" y="1213"/>
                  <a:pt x="1296" y="1184"/>
                </a:cubicBezTo>
                <a:cubicBezTo>
                  <a:pt x="1233" y="1164"/>
                  <a:pt x="1278" y="1124"/>
                  <a:pt x="1278" y="1124"/>
                </a:cubicBezTo>
                <a:cubicBezTo>
                  <a:pt x="1278" y="1124"/>
                  <a:pt x="1295" y="1112"/>
                  <a:pt x="1310" y="1056"/>
                </a:cubicBezTo>
                <a:cubicBezTo>
                  <a:pt x="1324" y="1002"/>
                  <a:pt x="1316" y="977"/>
                  <a:pt x="1316" y="977"/>
                </a:cubicBezTo>
                <a:cubicBezTo>
                  <a:pt x="1316" y="977"/>
                  <a:pt x="1303" y="921"/>
                  <a:pt x="1365" y="928"/>
                </a:cubicBezTo>
                <a:cubicBezTo>
                  <a:pt x="1443" y="937"/>
                  <a:pt x="1446" y="993"/>
                  <a:pt x="1446" y="993"/>
                </a:cubicBezTo>
                <a:close/>
                <a:moveTo>
                  <a:pt x="1272" y="1321"/>
                </a:moveTo>
                <a:cubicBezTo>
                  <a:pt x="1272" y="1321"/>
                  <a:pt x="1244" y="1360"/>
                  <a:pt x="1203" y="1383"/>
                </a:cubicBezTo>
                <a:cubicBezTo>
                  <a:pt x="1153" y="1413"/>
                  <a:pt x="1120" y="1417"/>
                  <a:pt x="1120" y="1417"/>
                </a:cubicBezTo>
                <a:cubicBezTo>
                  <a:pt x="1120" y="1417"/>
                  <a:pt x="1069" y="1430"/>
                  <a:pt x="1030" y="1350"/>
                </a:cubicBezTo>
                <a:cubicBezTo>
                  <a:pt x="999" y="1292"/>
                  <a:pt x="1060" y="1296"/>
                  <a:pt x="1060" y="1296"/>
                </a:cubicBezTo>
                <a:cubicBezTo>
                  <a:pt x="1060" y="1296"/>
                  <a:pt x="1080" y="1299"/>
                  <a:pt x="1130" y="1270"/>
                </a:cubicBezTo>
                <a:cubicBezTo>
                  <a:pt x="1179" y="1242"/>
                  <a:pt x="1190" y="1218"/>
                  <a:pt x="1190" y="1218"/>
                </a:cubicBezTo>
                <a:cubicBezTo>
                  <a:pt x="1190" y="1218"/>
                  <a:pt x="1221" y="1169"/>
                  <a:pt x="1259" y="1218"/>
                </a:cubicBezTo>
                <a:cubicBezTo>
                  <a:pt x="1309" y="1279"/>
                  <a:pt x="1272" y="1321"/>
                  <a:pt x="1272" y="1321"/>
                </a:cubicBezTo>
                <a:close/>
                <a:moveTo>
                  <a:pt x="971" y="1355"/>
                </a:moveTo>
                <a:cubicBezTo>
                  <a:pt x="962" y="1433"/>
                  <a:pt x="906" y="1436"/>
                  <a:pt x="906" y="1436"/>
                </a:cubicBezTo>
                <a:cubicBezTo>
                  <a:pt x="906" y="1436"/>
                  <a:pt x="859" y="1444"/>
                  <a:pt x="814" y="1432"/>
                </a:cubicBezTo>
                <a:cubicBezTo>
                  <a:pt x="758" y="1417"/>
                  <a:pt x="732" y="1397"/>
                  <a:pt x="732" y="1397"/>
                </a:cubicBezTo>
                <a:cubicBezTo>
                  <a:pt x="732" y="1397"/>
                  <a:pt x="686" y="1370"/>
                  <a:pt x="715" y="1286"/>
                </a:cubicBezTo>
                <a:cubicBezTo>
                  <a:pt x="735" y="1223"/>
                  <a:pt x="775" y="1268"/>
                  <a:pt x="775" y="1268"/>
                </a:cubicBezTo>
                <a:cubicBezTo>
                  <a:pt x="775" y="1268"/>
                  <a:pt x="787" y="1285"/>
                  <a:pt x="843" y="1300"/>
                </a:cubicBezTo>
                <a:cubicBezTo>
                  <a:pt x="897" y="1314"/>
                  <a:pt x="922" y="1305"/>
                  <a:pt x="922" y="1305"/>
                </a:cubicBezTo>
                <a:cubicBezTo>
                  <a:pt x="922" y="1305"/>
                  <a:pt x="978" y="1293"/>
                  <a:pt x="971" y="1355"/>
                </a:cubicBezTo>
                <a:close/>
                <a:moveTo>
                  <a:pt x="584" y="1272"/>
                </a:moveTo>
                <a:cubicBezTo>
                  <a:pt x="584" y="1272"/>
                  <a:pt x="545" y="1244"/>
                  <a:pt x="522" y="1204"/>
                </a:cubicBezTo>
                <a:cubicBezTo>
                  <a:pt x="493" y="1154"/>
                  <a:pt x="489" y="1121"/>
                  <a:pt x="489" y="1121"/>
                </a:cubicBezTo>
                <a:cubicBezTo>
                  <a:pt x="489" y="1121"/>
                  <a:pt x="475" y="1070"/>
                  <a:pt x="555" y="1030"/>
                </a:cubicBezTo>
                <a:cubicBezTo>
                  <a:pt x="614" y="1000"/>
                  <a:pt x="610" y="1060"/>
                  <a:pt x="610" y="1060"/>
                </a:cubicBezTo>
                <a:cubicBezTo>
                  <a:pt x="610" y="1060"/>
                  <a:pt x="606" y="1080"/>
                  <a:pt x="636" y="1131"/>
                </a:cubicBezTo>
                <a:cubicBezTo>
                  <a:pt x="663" y="1179"/>
                  <a:pt x="687" y="1191"/>
                  <a:pt x="687" y="1191"/>
                </a:cubicBezTo>
                <a:cubicBezTo>
                  <a:pt x="687" y="1191"/>
                  <a:pt x="736" y="1221"/>
                  <a:pt x="687" y="1260"/>
                </a:cubicBezTo>
                <a:cubicBezTo>
                  <a:pt x="626" y="1309"/>
                  <a:pt x="584" y="1272"/>
                  <a:pt x="584" y="1272"/>
                </a:cubicBezTo>
                <a:close/>
                <a:moveTo>
                  <a:pt x="451" y="917"/>
                </a:moveTo>
                <a:cubicBezTo>
                  <a:pt x="451" y="917"/>
                  <a:pt x="444" y="870"/>
                  <a:pt x="456" y="825"/>
                </a:cubicBezTo>
                <a:cubicBezTo>
                  <a:pt x="470" y="769"/>
                  <a:pt x="491" y="743"/>
                  <a:pt x="491" y="743"/>
                </a:cubicBezTo>
                <a:cubicBezTo>
                  <a:pt x="491" y="743"/>
                  <a:pt x="518" y="697"/>
                  <a:pt x="602" y="726"/>
                </a:cubicBezTo>
                <a:cubicBezTo>
                  <a:pt x="665" y="746"/>
                  <a:pt x="619" y="786"/>
                  <a:pt x="619" y="786"/>
                </a:cubicBezTo>
                <a:cubicBezTo>
                  <a:pt x="619" y="786"/>
                  <a:pt x="603" y="798"/>
                  <a:pt x="588" y="854"/>
                </a:cubicBezTo>
                <a:cubicBezTo>
                  <a:pt x="573" y="908"/>
                  <a:pt x="582" y="933"/>
                  <a:pt x="582" y="933"/>
                </a:cubicBezTo>
                <a:cubicBezTo>
                  <a:pt x="582" y="933"/>
                  <a:pt x="595" y="989"/>
                  <a:pt x="533" y="982"/>
                </a:cubicBezTo>
                <a:cubicBezTo>
                  <a:pt x="455" y="973"/>
                  <a:pt x="451" y="917"/>
                  <a:pt x="451" y="917"/>
                </a:cubicBezTo>
                <a:close/>
                <a:moveTo>
                  <a:pt x="633" y="585"/>
                </a:moveTo>
                <a:cubicBezTo>
                  <a:pt x="633" y="585"/>
                  <a:pt x="661" y="546"/>
                  <a:pt x="702" y="522"/>
                </a:cubicBezTo>
                <a:cubicBezTo>
                  <a:pt x="751" y="493"/>
                  <a:pt x="784" y="489"/>
                  <a:pt x="784" y="489"/>
                </a:cubicBezTo>
                <a:cubicBezTo>
                  <a:pt x="784" y="489"/>
                  <a:pt x="836" y="476"/>
                  <a:pt x="875" y="556"/>
                </a:cubicBezTo>
                <a:cubicBezTo>
                  <a:pt x="906" y="614"/>
                  <a:pt x="845" y="610"/>
                  <a:pt x="845" y="610"/>
                </a:cubicBezTo>
                <a:cubicBezTo>
                  <a:pt x="845" y="610"/>
                  <a:pt x="825" y="607"/>
                  <a:pt x="774" y="636"/>
                </a:cubicBezTo>
                <a:cubicBezTo>
                  <a:pt x="726" y="664"/>
                  <a:pt x="715" y="688"/>
                  <a:pt x="715" y="688"/>
                </a:cubicBezTo>
                <a:cubicBezTo>
                  <a:pt x="715" y="688"/>
                  <a:pt x="684" y="737"/>
                  <a:pt x="645" y="688"/>
                </a:cubicBezTo>
                <a:cubicBezTo>
                  <a:pt x="596" y="626"/>
                  <a:pt x="633" y="585"/>
                  <a:pt x="633" y="585"/>
                </a:cubicBezTo>
                <a:close/>
                <a:moveTo>
                  <a:pt x="1190" y="824"/>
                </a:moveTo>
                <a:cubicBezTo>
                  <a:pt x="1266" y="954"/>
                  <a:pt x="1223" y="1120"/>
                  <a:pt x="1094" y="1195"/>
                </a:cubicBezTo>
                <a:cubicBezTo>
                  <a:pt x="964" y="1271"/>
                  <a:pt x="798" y="1226"/>
                  <a:pt x="723" y="1096"/>
                </a:cubicBezTo>
                <a:cubicBezTo>
                  <a:pt x="647" y="966"/>
                  <a:pt x="690" y="800"/>
                  <a:pt x="820" y="725"/>
                </a:cubicBezTo>
                <a:cubicBezTo>
                  <a:pt x="949" y="649"/>
                  <a:pt x="1115" y="694"/>
                  <a:pt x="1190" y="824"/>
                </a:cubicBezTo>
                <a:close/>
                <a:moveTo>
                  <a:pt x="917" y="539"/>
                </a:moveTo>
                <a:cubicBezTo>
                  <a:pt x="926" y="460"/>
                  <a:pt x="982" y="457"/>
                  <a:pt x="982" y="457"/>
                </a:cubicBezTo>
                <a:cubicBezTo>
                  <a:pt x="982" y="457"/>
                  <a:pt x="1029" y="449"/>
                  <a:pt x="1074" y="461"/>
                </a:cubicBezTo>
                <a:cubicBezTo>
                  <a:pt x="1130" y="476"/>
                  <a:pt x="1156" y="497"/>
                  <a:pt x="1156" y="497"/>
                </a:cubicBezTo>
                <a:cubicBezTo>
                  <a:pt x="1156" y="497"/>
                  <a:pt x="1202" y="523"/>
                  <a:pt x="1173" y="608"/>
                </a:cubicBezTo>
                <a:cubicBezTo>
                  <a:pt x="1153" y="671"/>
                  <a:pt x="1113" y="625"/>
                  <a:pt x="1113" y="625"/>
                </a:cubicBezTo>
                <a:cubicBezTo>
                  <a:pt x="1113" y="625"/>
                  <a:pt x="1102" y="609"/>
                  <a:pt x="1045" y="593"/>
                </a:cubicBezTo>
                <a:cubicBezTo>
                  <a:pt x="991" y="579"/>
                  <a:pt x="966" y="588"/>
                  <a:pt x="966" y="588"/>
                </a:cubicBezTo>
                <a:cubicBezTo>
                  <a:pt x="966" y="588"/>
                  <a:pt x="910" y="601"/>
                  <a:pt x="917" y="539"/>
                </a:cubicBezTo>
                <a:close/>
                <a:moveTo>
                  <a:pt x="619" y="380"/>
                </a:moveTo>
                <a:cubicBezTo>
                  <a:pt x="303" y="564"/>
                  <a:pt x="196" y="970"/>
                  <a:pt x="380" y="1286"/>
                </a:cubicBezTo>
                <a:cubicBezTo>
                  <a:pt x="564" y="1603"/>
                  <a:pt x="970" y="1710"/>
                  <a:pt x="1286" y="1526"/>
                </a:cubicBezTo>
                <a:cubicBezTo>
                  <a:pt x="1602" y="1342"/>
                  <a:pt x="1709" y="936"/>
                  <a:pt x="1525" y="620"/>
                </a:cubicBezTo>
                <a:cubicBezTo>
                  <a:pt x="1341" y="303"/>
                  <a:pt x="935" y="196"/>
                  <a:pt x="619" y="380"/>
                </a:cubicBezTo>
                <a:close/>
              </a:path>
            </a:pathLst>
          </a:custGeom>
          <a:solidFill>
            <a:srgbClr val="949494"/>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91" name="矩形 101"/>
          <p:cNvSpPr/>
          <p:nvPr/>
        </p:nvSpPr>
        <p:spPr>
          <a:xfrm>
            <a:off x="1690200" y="32590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团队建设</a:t>
            </a:r>
            <a:endParaRPr b="0" lang="en-US" sz="2800" spc="-1" strike="noStrike">
              <a:solidFill>
                <a:srgbClr val="54a0d8"/>
              </a:solidFill>
              <a:latin typeface="Arial"/>
            </a:endParaRPr>
          </a:p>
        </p:txBody>
      </p:sp>
      <p:sp>
        <p:nvSpPr>
          <p:cNvPr id="992" name="矩形 102"/>
          <p:cNvSpPr/>
          <p:nvPr/>
        </p:nvSpPr>
        <p:spPr>
          <a:xfrm>
            <a:off x="4652280" y="32590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专业能力</a:t>
            </a:r>
            <a:endParaRPr b="0" lang="en-US" sz="2800" spc="-1" strike="noStrike">
              <a:solidFill>
                <a:srgbClr val="54a0d8"/>
              </a:solidFill>
              <a:latin typeface="Arial"/>
            </a:endParaRPr>
          </a:p>
        </p:txBody>
      </p:sp>
      <p:sp>
        <p:nvSpPr>
          <p:cNvPr id="993" name="Freeform 19"/>
          <p:cNvSpPr/>
          <p:nvPr/>
        </p:nvSpPr>
        <p:spPr>
          <a:xfrm>
            <a:off x="4900680" y="2556000"/>
            <a:ext cx="795240" cy="650880"/>
          </a:xfrm>
          <a:custGeom>
            <a:avLst/>
            <a:gdLst>
              <a:gd name="textAreaLeft" fmla="*/ 0 w 795240"/>
              <a:gd name="textAreaRight" fmla="*/ 795600 w 795240"/>
              <a:gd name="textAreaTop" fmla="*/ 0 h 650880"/>
              <a:gd name="textAreaBottom" fmla="*/ 651240 h 650880"/>
            </a:gdLst>
            <a:ahLst/>
            <a:rect l="textAreaLeft" t="textAreaTop" r="textAreaRight" b="textAreaBottom"/>
            <a:pathLst>
              <a:path w="1020" h="812">
                <a:moveTo>
                  <a:pt x="0" y="751"/>
                </a:moveTo>
                <a:lnTo>
                  <a:pt x="787" y="751"/>
                </a:lnTo>
                <a:lnTo>
                  <a:pt x="787" y="779"/>
                </a:lnTo>
                <a:cubicBezTo>
                  <a:pt x="787" y="797"/>
                  <a:pt x="772" y="812"/>
                  <a:pt x="754" y="812"/>
                </a:cubicBezTo>
                <a:lnTo>
                  <a:pt x="33" y="812"/>
                </a:lnTo>
                <a:cubicBezTo>
                  <a:pt x="15" y="812"/>
                  <a:pt x="0" y="797"/>
                  <a:pt x="0" y="779"/>
                </a:cubicBezTo>
                <a:lnTo>
                  <a:pt x="0" y="751"/>
                </a:lnTo>
                <a:close/>
                <a:moveTo>
                  <a:pt x="394" y="286"/>
                </a:moveTo>
                <a:cubicBezTo>
                  <a:pt x="402" y="286"/>
                  <a:pt x="408" y="292"/>
                  <a:pt x="408" y="300"/>
                </a:cubicBezTo>
                <a:cubicBezTo>
                  <a:pt x="408" y="308"/>
                  <a:pt x="402" y="315"/>
                  <a:pt x="394" y="315"/>
                </a:cubicBezTo>
                <a:cubicBezTo>
                  <a:pt x="386" y="315"/>
                  <a:pt x="379" y="308"/>
                  <a:pt x="379" y="300"/>
                </a:cubicBezTo>
                <a:cubicBezTo>
                  <a:pt x="379" y="292"/>
                  <a:pt x="386" y="286"/>
                  <a:pt x="394" y="286"/>
                </a:cubicBezTo>
                <a:close/>
                <a:moveTo>
                  <a:pt x="44" y="274"/>
                </a:moveTo>
                <a:lnTo>
                  <a:pt x="485" y="274"/>
                </a:lnTo>
                <a:cubicBezTo>
                  <a:pt x="576" y="280"/>
                  <a:pt x="662" y="297"/>
                  <a:pt x="744" y="335"/>
                </a:cubicBezTo>
                <a:lnTo>
                  <a:pt x="744" y="733"/>
                </a:lnTo>
                <a:lnTo>
                  <a:pt x="44" y="733"/>
                </a:lnTo>
                <a:lnTo>
                  <a:pt x="44" y="274"/>
                </a:lnTo>
                <a:close/>
                <a:moveTo>
                  <a:pt x="134" y="557"/>
                </a:moveTo>
                <a:lnTo>
                  <a:pt x="280" y="557"/>
                </a:lnTo>
                <a:lnTo>
                  <a:pt x="280" y="588"/>
                </a:lnTo>
                <a:lnTo>
                  <a:pt x="134" y="588"/>
                </a:lnTo>
                <a:lnTo>
                  <a:pt x="134" y="557"/>
                </a:lnTo>
                <a:close/>
                <a:moveTo>
                  <a:pt x="134" y="495"/>
                </a:moveTo>
                <a:lnTo>
                  <a:pt x="427" y="495"/>
                </a:lnTo>
                <a:lnTo>
                  <a:pt x="427" y="527"/>
                </a:lnTo>
                <a:lnTo>
                  <a:pt x="134" y="527"/>
                </a:lnTo>
                <a:lnTo>
                  <a:pt x="134" y="495"/>
                </a:lnTo>
                <a:close/>
                <a:moveTo>
                  <a:pt x="134" y="434"/>
                </a:moveTo>
                <a:lnTo>
                  <a:pt x="427" y="434"/>
                </a:lnTo>
                <a:lnTo>
                  <a:pt x="427" y="465"/>
                </a:lnTo>
                <a:lnTo>
                  <a:pt x="134" y="465"/>
                </a:lnTo>
                <a:lnTo>
                  <a:pt x="134" y="434"/>
                </a:lnTo>
                <a:close/>
                <a:moveTo>
                  <a:pt x="134" y="373"/>
                </a:moveTo>
                <a:lnTo>
                  <a:pt x="427" y="373"/>
                </a:lnTo>
                <a:lnTo>
                  <a:pt x="427" y="404"/>
                </a:lnTo>
                <a:lnTo>
                  <a:pt x="134" y="404"/>
                </a:lnTo>
                <a:lnTo>
                  <a:pt x="134" y="373"/>
                </a:lnTo>
                <a:close/>
                <a:moveTo>
                  <a:pt x="755" y="340"/>
                </a:moveTo>
                <a:cubicBezTo>
                  <a:pt x="766" y="345"/>
                  <a:pt x="793" y="358"/>
                  <a:pt x="800" y="362"/>
                </a:cubicBezTo>
                <a:cubicBezTo>
                  <a:pt x="818" y="375"/>
                  <a:pt x="771" y="381"/>
                  <a:pt x="755" y="383"/>
                </a:cubicBezTo>
                <a:lnTo>
                  <a:pt x="755" y="340"/>
                </a:lnTo>
                <a:close/>
                <a:moveTo>
                  <a:pt x="924" y="211"/>
                </a:moveTo>
                <a:cubicBezTo>
                  <a:pt x="881" y="164"/>
                  <a:pt x="838" y="116"/>
                  <a:pt x="796" y="68"/>
                </a:cubicBezTo>
                <a:cubicBezTo>
                  <a:pt x="781" y="53"/>
                  <a:pt x="775" y="53"/>
                  <a:pt x="756" y="51"/>
                </a:cubicBezTo>
                <a:lnTo>
                  <a:pt x="311" y="2"/>
                </a:lnTo>
                <a:cubicBezTo>
                  <a:pt x="302" y="0"/>
                  <a:pt x="299" y="6"/>
                  <a:pt x="305" y="12"/>
                </a:cubicBezTo>
                <a:lnTo>
                  <a:pt x="463" y="183"/>
                </a:lnTo>
                <a:cubicBezTo>
                  <a:pt x="489" y="133"/>
                  <a:pt x="506" y="106"/>
                  <a:pt x="587" y="116"/>
                </a:cubicBezTo>
                <a:cubicBezTo>
                  <a:pt x="641" y="122"/>
                  <a:pt x="682" y="134"/>
                  <a:pt x="733" y="154"/>
                </a:cubicBezTo>
                <a:cubicBezTo>
                  <a:pt x="766" y="166"/>
                  <a:pt x="783" y="177"/>
                  <a:pt x="798" y="202"/>
                </a:cubicBezTo>
                <a:cubicBezTo>
                  <a:pt x="785" y="185"/>
                  <a:pt x="764" y="174"/>
                  <a:pt x="741" y="165"/>
                </a:cubicBezTo>
                <a:cubicBezTo>
                  <a:pt x="693" y="146"/>
                  <a:pt x="642" y="134"/>
                  <a:pt x="591" y="128"/>
                </a:cubicBezTo>
                <a:cubicBezTo>
                  <a:pt x="561" y="124"/>
                  <a:pt x="531" y="124"/>
                  <a:pt x="511" y="140"/>
                </a:cubicBezTo>
                <a:cubicBezTo>
                  <a:pt x="492" y="154"/>
                  <a:pt x="465" y="217"/>
                  <a:pt x="454" y="240"/>
                </a:cubicBezTo>
                <a:cubicBezTo>
                  <a:pt x="447" y="255"/>
                  <a:pt x="455" y="261"/>
                  <a:pt x="468" y="261"/>
                </a:cubicBezTo>
                <a:cubicBezTo>
                  <a:pt x="587" y="266"/>
                  <a:pt x="703" y="297"/>
                  <a:pt x="808" y="353"/>
                </a:cubicBezTo>
                <a:lnTo>
                  <a:pt x="810" y="292"/>
                </a:lnTo>
                <a:cubicBezTo>
                  <a:pt x="848" y="297"/>
                  <a:pt x="886" y="303"/>
                  <a:pt x="924" y="308"/>
                </a:cubicBezTo>
                <a:lnTo>
                  <a:pt x="924" y="211"/>
                </a:lnTo>
                <a:close/>
                <a:moveTo>
                  <a:pt x="1010" y="320"/>
                </a:moveTo>
                <a:cubicBezTo>
                  <a:pt x="1016" y="321"/>
                  <a:pt x="1020" y="314"/>
                  <a:pt x="1014" y="309"/>
                </a:cubicBezTo>
                <a:cubicBezTo>
                  <a:pt x="994" y="288"/>
                  <a:pt x="974" y="266"/>
                  <a:pt x="955" y="244"/>
                </a:cubicBezTo>
                <a:lnTo>
                  <a:pt x="955" y="216"/>
                </a:lnTo>
                <a:cubicBezTo>
                  <a:pt x="955" y="211"/>
                  <a:pt x="950" y="208"/>
                  <a:pt x="946" y="208"/>
                </a:cubicBezTo>
                <a:lnTo>
                  <a:pt x="938" y="208"/>
                </a:lnTo>
                <a:lnTo>
                  <a:pt x="937" y="379"/>
                </a:lnTo>
                <a:cubicBezTo>
                  <a:pt x="934" y="380"/>
                  <a:pt x="933" y="382"/>
                  <a:pt x="933" y="385"/>
                </a:cubicBezTo>
                <a:lnTo>
                  <a:pt x="932" y="397"/>
                </a:lnTo>
                <a:cubicBezTo>
                  <a:pt x="931" y="404"/>
                  <a:pt x="934" y="405"/>
                  <a:pt x="934" y="410"/>
                </a:cubicBezTo>
                <a:lnTo>
                  <a:pt x="933" y="424"/>
                </a:lnTo>
                <a:cubicBezTo>
                  <a:pt x="933" y="428"/>
                  <a:pt x="930" y="430"/>
                  <a:pt x="930" y="436"/>
                </a:cubicBezTo>
                <a:lnTo>
                  <a:pt x="918" y="537"/>
                </a:lnTo>
                <a:cubicBezTo>
                  <a:pt x="924" y="549"/>
                  <a:pt x="967" y="549"/>
                  <a:pt x="974" y="537"/>
                </a:cubicBezTo>
                <a:lnTo>
                  <a:pt x="962" y="436"/>
                </a:lnTo>
                <a:cubicBezTo>
                  <a:pt x="962" y="430"/>
                  <a:pt x="959" y="429"/>
                  <a:pt x="958" y="424"/>
                </a:cubicBezTo>
                <a:lnTo>
                  <a:pt x="958" y="410"/>
                </a:lnTo>
                <a:cubicBezTo>
                  <a:pt x="957" y="404"/>
                  <a:pt x="961" y="405"/>
                  <a:pt x="960" y="397"/>
                </a:cubicBezTo>
                <a:lnTo>
                  <a:pt x="960" y="385"/>
                </a:lnTo>
                <a:cubicBezTo>
                  <a:pt x="959" y="382"/>
                  <a:pt x="958" y="380"/>
                  <a:pt x="954" y="379"/>
                </a:cubicBezTo>
                <a:lnTo>
                  <a:pt x="954" y="313"/>
                </a:lnTo>
                <a:cubicBezTo>
                  <a:pt x="973" y="315"/>
                  <a:pt x="991" y="318"/>
                  <a:pt x="1010" y="320"/>
                </a:cubicBezTo>
                <a:close/>
                <a:moveTo>
                  <a:pt x="481" y="435"/>
                </a:moveTo>
                <a:lnTo>
                  <a:pt x="470" y="437"/>
                </a:lnTo>
                <a:lnTo>
                  <a:pt x="506" y="622"/>
                </a:lnTo>
                <a:lnTo>
                  <a:pt x="517" y="620"/>
                </a:lnTo>
                <a:lnTo>
                  <a:pt x="515" y="611"/>
                </a:lnTo>
                <a:lnTo>
                  <a:pt x="524" y="609"/>
                </a:lnTo>
                <a:lnTo>
                  <a:pt x="522" y="599"/>
                </a:lnTo>
                <a:lnTo>
                  <a:pt x="532" y="597"/>
                </a:lnTo>
                <a:lnTo>
                  <a:pt x="531" y="587"/>
                </a:lnTo>
                <a:lnTo>
                  <a:pt x="540" y="585"/>
                </a:lnTo>
                <a:lnTo>
                  <a:pt x="539" y="575"/>
                </a:lnTo>
                <a:lnTo>
                  <a:pt x="548" y="573"/>
                </a:lnTo>
                <a:lnTo>
                  <a:pt x="551" y="590"/>
                </a:lnTo>
                <a:lnTo>
                  <a:pt x="560" y="589"/>
                </a:lnTo>
                <a:lnTo>
                  <a:pt x="563" y="606"/>
                </a:lnTo>
                <a:lnTo>
                  <a:pt x="572" y="604"/>
                </a:lnTo>
                <a:lnTo>
                  <a:pt x="575" y="622"/>
                </a:lnTo>
                <a:lnTo>
                  <a:pt x="584" y="620"/>
                </a:lnTo>
                <a:lnTo>
                  <a:pt x="587" y="637"/>
                </a:lnTo>
                <a:lnTo>
                  <a:pt x="594" y="636"/>
                </a:lnTo>
                <a:lnTo>
                  <a:pt x="596" y="646"/>
                </a:lnTo>
                <a:lnTo>
                  <a:pt x="625" y="640"/>
                </a:lnTo>
                <a:lnTo>
                  <a:pt x="623" y="632"/>
                </a:lnTo>
                <a:lnTo>
                  <a:pt x="630" y="631"/>
                </a:lnTo>
                <a:lnTo>
                  <a:pt x="626" y="613"/>
                </a:lnTo>
                <a:lnTo>
                  <a:pt x="618" y="615"/>
                </a:lnTo>
                <a:lnTo>
                  <a:pt x="614" y="598"/>
                </a:lnTo>
                <a:lnTo>
                  <a:pt x="606" y="599"/>
                </a:lnTo>
                <a:lnTo>
                  <a:pt x="603" y="582"/>
                </a:lnTo>
                <a:lnTo>
                  <a:pt x="594" y="583"/>
                </a:lnTo>
                <a:lnTo>
                  <a:pt x="591" y="566"/>
                </a:lnTo>
                <a:lnTo>
                  <a:pt x="582" y="568"/>
                </a:lnTo>
                <a:lnTo>
                  <a:pt x="580" y="559"/>
                </a:lnTo>
                <a:lnTo>
                  <a:pt x="636" y="548"/>
                </a:lnTo>
                <a:lnTo>
                  <a:pt x="634" y="540"/>
                </a:lnTo>
                <a:lnTo>
                  <a:pt x="625" y="541"/>
                </a:lnTo>
                <a:lnTo>
                  <a:pt x="623" y="532"/>
                </a:lnTo>
                <a:lnTo>
                  <a:pt x="613" y="534"/>
                </a:lnTo>
                <a:lnTo>
                  <a:pt x="611" y="524"/>
                </a:lnTo>
                <a:lnTo>
                  <a:pt x="601" y="526"/>
                </a:lnTo>
                <a:lnTo>
                  <a:pt x="599" y="516"/>
                </a:lnTo>
                <a:lnTo>
                  <a:pt x="589" y="517"/>
                </a:lnTo>
                <a:lnTo>
                  <a:pt x="587" y="508"/>
                </a:lnTo>
                <a:lnTo>
                  <a:pt x="577" y="509"/>
                </a:lnTo>
                <a:lnTo>
                  <a:pt x="575" y="499"/>
                </a:lnTo>
                <a:lnTo>
                  <a:pt x="565" y="501"/>
                </a:lnTo>
                <a:lnTo>
                  <a:pt x="563" y="491"/>
                </a:lnTo>
                <a:lnTo>
                  <a:pt x="553" y="493"/>
                </a:lnTo>
                <a:lnTo>
                  <a:pt x="551" y="483"/>
                </a:lnTo>
                <a:lnTo>
                  <a:pt x="541" y="485"/>
                </a:lnTo>
                <a:lnTo>
                  <a:pt x="539" y="475"/>
                </a:lnTo>
                <a:lnTo>
                  <a:pt x="529" y="477"/>
                </a:lnTo>
                <a:lnTo>
                  <a:pt x="527" y="467"/>
                </a:lnTo>
                <a:lnTo>
                  <a:pt x="517" y="469"/>
                </a:lnTo>
                <a:lnTo>
                  <a:pt x="515" y="459"/>
                </a:lnTo>
                <a:lnTo>
                  <a:pt x="505" y="461"/>
                </a:lnTo>
                <a:lnTo>
                  <a:pt x="503" y="451"/>
                </a:lnTo>
                <a:lnTo>
                  <a:pt x="493" y="453"/>
                </a:lnTo>
                <a:lnTo>
                  <a:pt x="491" y="443"/>
                </a:lnTo>
                <a:lnTo>
                  <a:pt x="483" y="445"/>
                </a:lnTo>
                <a:lnTo>
                  <a:pt x="481" y="435"/>
                </a:lnTo>
                <a:close/>
                <a:moveTo>
                  <a:pt x="95" y="327"/>
                </a:moveTo>
                <a:lnTo>
                  <a:pt x="693" y="327"/>
                </a:lnTo>
                <a:lnTo>
                  <a:pt x="693" y="680"/>
                </a:lnTo>
                <a:lnTo>
                  <a:pt x="95" y="680"/>
                </a:lnTo>
                <a:lnTo>
                  <a:pt x="95" y="327"/>
                </a:lnTo>
                <a:close/>
              </a:path>
            </a:pathLst>
          </a:custGeom>
          <a:solidFill>
            <a:srgbClr val="54a0d8"/>
          </a:solidFill>
          <a:ln w="0">
            <a:noFill/>
          </a:ln>
        </p:spPr>
        <p:style>
          <a:lnRef idx="0"/>
          <a:fillRef idx="0"/>
          <a:effectRef idx="0"/>
          <a:fontRef idx="minor"/>
        </p:style>
        <p:txBody>
          <a:bodyPr lIns="91080" rIns="91080" tIns="45360" bIns="45360" anchor="t">
            <a:noAutofit/>
          </a:bodyPr>
          <a:p>
            <a:endParaRPr b="0" lang="en-US" sz="1800" spc="-1" strike="noStrike">
              <a:solidFill>
                <a:srgbClr val="54a0d8"/>
              </a:solidFill>
              <a:latin typeface="Arial"/>
            </a:endParaRPr>
          </a:p>
        </p:txBody>
      </p:sp>
      <p:sp>
        <p:nvSpPr>
          <p:cNvPr id="994" name="矩形 104"/>
          <p:cNvSpPr/>
          <p:nvPr/>
        </p:nvSpPr>
        <p:spPr>
          <a:xfrm>
            <a:off x="7412040" y="1154160"/>
            <a:ext cx="3321000" cy="141120"/>
          </a:xfrm>
          <a:prstGeom prst="rect">
            <a:avLst/>
          </a:prstGeom>
          <a:solidFill>
            <a:srgbClr val="54a0d8"/>
          </a:solid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995" name="Freeform 11"/>
          <p:cNvSpPr/>
          <p:nvPr/>
        </p:nvSpPr>
        <p:spPr>
          <a:xfrm>
            <a:off x="1828800" y="2602080"/>
            <a:ext cx="960480" cy="603000"/>
          </a:xfrm>
          <a:custGeom>
            <a:avLst/>
            <a:gdLst>
              <a:gd name="textAreaLeft" fmla="*/ 0 w 960480"/>
              <a:gd name="textAreaRight" fmla="*/ 960840 w 960480"/>
              <a:gd name="textAreaTop" fmla="*/ 0 h 603000"/>
              <a:gd name="textAreaBottom" fmla="*/ 603360 h 603000"/>
            </a:gdLst>
            <a:ahLst/>
            <a:rect l="textAreaLeft" t="textAreaTop" r="textAreaRight" b="textAreaBottom"/>
            <a:pathLst>
              <a:path w="1051" h="660">
                <a:moveTo>
                  <a:pt x="44" y="282"/>
                </a:moveTo>
                <a:cubicBezTo>
                  <a:pt x="57" y="282"/>
                  <a:pt x="68" y="282"/>
                  <a:pt x="79" y="281"/>
                </a:cubicBezTo>
                <a:cubicBezTo>
                  <a:pt x="89" y="282"/>
                  <a:pt x="96" y="280"/>
                  <a:pt x="102" y="274"/>
                </a:cubicBezTo>
                <a:cubicBezTo>
                  <a:pt x="106" y="267"/>
                  <a:pt x="109" y="259"/>
                  <a:pt x="111" y="248"/>
                </a:cubicBezTo>
                <a:cubicBezTo>
                  <a:pt x="103" y="239"/>
                  <a:pt x="96" y="228"/>
                  <a:pt x="92" y="215"/>
                </a:cubicBezTo>
                <a:cubicBezTo>
                  <a:pt x="87" y="212"/>
                  <a:pt x="83" y="208"/>
                  <a:pt x="81" y="202"/>
                </a:cubicBezTo>
                <a:cubicBezTo>
                  <a:pt x="78" y="196"/>
                  <a:pt x="77" y="187"/>
                  <a:pt x="77" y="177"/>
                </a:cubicBezTo>
                <a:lnTo>
                  <a:pt x="77" y="174"/>
                </a:lnTo>
                <a:lnTo>
                  <a:pt x="80" y="172"/>
                </a:lnTo>
                <a:cubicBezTo>
                  <a:pt x="80" y="172"/>
                  <a:pt x="81" y="172"/>
                  <a:pt x="81" y="171"/>
                </a:cubicBezTo>
                <a:cubicBezTo>
                  <a:pt x="75" y="129"/>
                  <a:pt x="80" y="110"/>
                  <a:pt x="99" y="95"/>
                </a:cubicBezTo>
                <a:cubicBezTo>
                  <a:pt x="127" y="71"/>
                  <a:pt x="182" y="71"/>
                  <a:pt x="211" y="92"/>
                </a:cubicBezTo>
                <a:cubicBezTo>
                  <a:pt x="230" y="107"/>
                  <a:pt x="238" y="132"/>
                  <a:pt x="232" y="170"/>
                </a:cubicBezTo>
                <a:cubicBezTo>
                  <a:pt x="233" y="171"/>
                  <a:pt x="234" y="172"/>
                  <a:pt x="235" y="172"/>
                </a:cubicBezTo>
                <a:lnTo>
                  <a:pt x="238" y="174"/>
                </a:lnTo>
                <a:lnTo>
                  <a:pt x="238" y="177"/>
                </a:lnTo>
                <a:cubicBezTo>
                  <a:pt x="238" y="187"/>
                  <a:pt x="237" y="195"/>
                  <a:pt x="234" y="202"/>
                </a:cubicBezTo>
                <a:cubicBezTo>
                  <a:pt x="232" y="207"/>
                  <a:pt x="229" y="212"/>
                  <a:pt x="224" y="214"/>
                </a:cubicBezTo>
                <a:cubicBezTo>
                  <a:pt x="220" y="227"/>
                  <a:pt x="214" y="237"/>
                  <a:pt x="206" y="246"/>
                </a:cubicBezTo>
                <a:cubicBezTo>
                  <a:pt x="208" y="260"/>
                  <a:pt x="212" y="270"/>
                  <a:pt x="219" y="277"/>
                </a:cubicBezTo>
                <a:cubicBezTo>
                  <a:pt x="224" y="280"/>
                  <a:pt x="231" y="280"/>
                  <a:pt x="240" y="280"/>
                </a:cubicBezTo>
                <a:cubicBezTo>
                  <a:pt x="250" y="280"/>
                  <a:pt x="260" y="280"/>
                  <a:pt x="272" y="280"/>
                </a:cubicBezTo>
                <a:cubicBezTo>
                  <a:pt x="276" y="284"/>
                  <a:pt x="281" y="291"/>
                  <a:pt x="285" y="300"/>
                </a:cubicBezTo>
                <a:cubicBezTo>
                  <a:pt x="288" y="276"/>
                  <a:pt x="292" y="256"/>
                  <a:pt x="298" y="249"/>
                </a:cubicBezTo>
                <a:cubicBezTo>
                  <a:pt x="302" y="240"/>
                  <a:pt x="356" y="237"/>
                  <a:pt x="364" y="237"/>
                </a:cubicBezTo>
                <a:cubicBezTo>
                  <a:pt x="366" y="228"/>
                  <a:pt x="369" y="220"/>
                  <a:pt x="370" y="211"/>
                </a:cubicBezTo>
                <a:cubicBezTo>
                  <a:pt x="358" y="203"/>
                  <a:pt x="349" y="191"/>
                  <a:pt x="344" y="178"/>
                </a:cubicBezTo>
                <a:cubicBezTo>
                  <a:pt x="338" y="177"/>
                  <a:pt x="323" y="178"/>
                  <a:pt x="318" y="177"/>
                </a:cubicBezTo>
                <a:cubicBezTo>
                  <a:pt x="310" y="132"/>
                  <a:pt x="321" y="65"/>
                  <a:pt x="339" y="50"/>
                </a:cubicBezTo>
                <a:cubicBezTo>
                  <a:pt x="367" y="28"/>
                  <a:pt x="434" y="27"/>
                  <a:pt x="462" y="47"/>
                </a:cubicBezTo>
                <a:cubicBezTo>
                  <a:pt x="482" y="62"/>
                  <a:pt x="495" y="134"/>
                  <a:pt x="488" y="175"/>
                </a:cubicBezTo>
                <a:cubicBezTo>
                  <a:pt x="485" y="177"/>
                  <a:pt x="465" y="176"/>
                  <a:pt x="461" y="178"/>
                </a:cubicBezTo>
                <a:cubicBezTo>
                  <a:pt x="455" y="191"/>
                  <a:pt x="446" y="202"/>
                  <a:pt x="433" y="211"/>
                </a:cubicBezTo>
                <a:cubicBezTo>
                  <a:pt x="436" y="224"/>
                  <a:pt x="438" y="229"/>
                  <a:pt x="442" y="237"/>
                </a:cubicBezTo>
                <a:cubicBezTo>
                  <a:pt x="450" y="237"/>
                  <a:pt x="504" y="240"/>
                  <a:pt x="508" y="249"/>
                </a:cubicBezTo>
                <a:cubicBezTo>
                  <a:pt x="509" y="251"/>
                  <a:pt x="510" y="253"/>
                  <a:pt x="512" y="256"/>
                </a:cubicBezTo>
                <a:cubicBezTo>
                  <a:pt x="518" y="225"/>
                  <a:pt x="526" y="199"/>
                  <a:pt x="537" y="189"/>
                </a:cubicBezTo>
                <a:cubicBezTo>
                  <a:pt x="548" y="189"/>
                  <a:pt x="559" y="189"/>
                  <a:pt x="568" y="189"/>
                </a:cubicBezTo>
                <a:cubicBezTo>
                  <a:pt x="577" y="190"/>
                  <a:pt x="584" y="188"/>
                  <a:pt x="589" y="182"/>
                </a:cubicBezTo>
                <a:cubicBezTo>
                  <a:pt x="593" y="176"/>
                  <a:pt x="596" y="169"/>
                  <a:pt x="598" y="159"/>
                </a:cubicBezTo>
                <a:cubicBezTo>
                  <a:pt x="590" y="151"/>
                  <a:pt x="584" y="141"/>
                  <a:pt x="580" y="129"/>
                </a:cubicBezTo>
                <a:cubicBezTo>
                  <a:pt x="576" y="127"/>
                  <a:pt x="572" y="123"/>
                  <a:pt x="570" y="118"/>
                </a:cubicBezTo>
                <a:cubicBezTo>
                  <a:pt x="568" y="112"/>
                  <a:pt x="567" y="104"/>
                  <a:pt x="567" y="95"/>
                </a:cubicBezTo>
                <a:lnTo>
                  <a:pt x="567" y="93"/>
                </a:lnTo>
                <a:lnTo>
                  <a:pt x="569" y="91"/>
                </a:lnTo>
                <a:cubicBezTo>
                  <a:pt x="570" y="91"/>
                  <a:pt x="570" y="90"/>
                  <a:pt x="571" y="90"/>
                </a:cubicBezTo>
                <a:cubicBezTo>
                  <a:pt x="565" y="52"/>
                  <a:pt x="570" y="35"/>
                  <a:pt x="586" y="21"/>
                </a:cubicBezTo>
                <a:cubicBezTo>
                  <a:pt x="612" y="0"/>
                  <a:pt x="661" y="0"/>
                  <a:pt x="687" y="19"/>
                </a:cubicBezTo>
                <a:cubicBezTo>
                  <a:pt x="705" y="32"/>
                  <a:pt x="711" y="55"/>
                  <a:pt x="706" y="89"/>
                </a:cubicBezTo>
                <a:cubicBezTo>
                  <a:pt x="707" y="90"/>
                  <a:pt x="708" y="90"/>
                  <a:pt x="709" y="91"/>
                </a:cubicBezTo>
                <a:lnTo>
                  <a:pt x="712" y="93"/>
                </a:lnTo>
                <a:lnTo>
                  <a:pt x="712" y="95"/>
                </a:lnTo>
                <a:cubicBezTo>
                  <a:pt x="712" y="104"/>
                  <a:pt x="711" y="112"/>
                  <a:pt x="708" y="117"/>
                </a:cubicBezTo>
                <a:cubicBezTo>
                  <a:pt x="706" y="123"/>
                  <a:pt x="703" y="126"/>
                  <a:pt x="699" y="129"/>
                </a:cubicBezTo>
                <a:cubicBezTo>
                  <a:pt x="695" y="140"/>
                  <a:pt x="690" y="150"/>
                  <a:pt x="683" y="157"/>
                </a:cubicBezTo>
                <a:cubicBezTo>
                  <a:pt x="685" y="169"/>
                  <a:pt x="688" y="179"/>
                  <a:pt x="694" y="185"/>
                </a:cubicBezTo>
                <a:cubicBezTo>
                  <a:pt x="699" y="188"/>
                  <a:pt x="706" y="188"/>
                  <a:pt x="713" y="188"/>
                </a:cubicBezTo>
                <a:cubicBezTo>
                  <a:pt x="722" y="188"/>
                  <a:pt x="732" y="188"/>
                  <a:pt x="742" y="188"/>
                </a:cubicBezTo>
                <a:cubicBezTo>
                  <a:pt x="747" y="192"/>
                  <a:pt x="752" y="202"/>
                  <a:pt x="756" y="215"/>
                </a:cubicBezTo>
                <a:lnTo>
                  <a:pt x="512" y="432"/>
                </a:lnTo>
                <a:lnTo>
                  <a:pt x="301" y="310"/>
                </a:lnTo>
                <a:lnTo>
                  <a:pt x="0" y="473"/>
                </a:lnTo>
                <a:cubicBezTo>
                  <a:pt x="1" y="427"/>
                  <a:pt x="10" y="312"/>
                  <a:pt x="44" y="282"/>
                </a:cubicBezTo>
                <a:close/>
                <a:moveTo>
                  <a:pt x="16" y="520"/>
                </a:moveTo>
                <a:lnTo>
                  <a:pt x="16" y="520"/>
                </a:lnTo>
                <a:lnTo>
                  <a:pt x="82" y="640"/>
                </a:lnTo>
                <a:lnTo>
                  <a:pt x="298" y="523"/>
                </a:lnTo>
                <a:lnTo>
                  <a:pt x="492" y="635"/>
                </a:lnTo>
                <a:lnTo>
                  <a:pt x="536" y="660"/>
                </a:lnTo>
                <a:lnTo>
                  <a:pt x="574" y="625"/>
                </a:lnTo>
                <a:lnTo>
                  <a:pt x="918" y="317"/>
                </a:lnTo>
                <a:lnTo>
                  <a:pt x="971" y="369"/>
                </a:lnTo>
                <a:lnTo>
                  <a:pt x="1051" y="96"/>
                </a:lnTo>
                <a:lnTo>
                  <a:pt x="769" y="171"/>
                </a:lnTo>
                <a:lnTo>
                  <a:pt x="820" y="221"/>
                </a:lnTo>
                <a:lnTo>
                  <a:pt x="516" y="491"/>
                </a:lnTo>
                <a:lnTo>
                  <a:pt x="333" y="386"/>
                </a:lnTo>
                <a:lnTo>
                  <a:pt x="300" y="366"/>
                </a:lnTo>
                <a:lnTo>
                  <a:pt x="266" y="385"/>
                </a:lnTo>
                <a:lnTo>
                  <a:pt x="16" y="520"/>
                </a:lnTo>
                <a:close/>
              </a:path>
            </a:pathLst>
          </a:custGeom>
          <a:solidFill>
            <a:srgbClr val="54a0d8"/>
          </a:solidFill>
          <a:ln w="0">
            <a:noFill/>
          </a:ln>
        </p:spPr>
        <p:style>
          <a:lnRef idx="0"/>
          <a:fillRef idx="0"/>
          <a:effectRef idx="0"/>
          <a:fontRef idx="minor"/>
        </p:style>
        <p:txBody>
          <a:bodyPr lIns="91080" rIns="91080" tIns="45360" bIns="45360" anchor="t">
            <a:noAutofit/>
          </a:bodyPr>
          <a:p>
            <a:endParaRPr b="0" lang="en-US" sz="1800" spc="-1" strike="noStrike">
              <a:solidFill>
                <a:srgbClr val="54a0d8"/>
              </a:solidFill>
              <a:latin typeface="Arial"/>
            </a:endParaRPr>
          </a:p>
        </p:txBody>
      </p:sp>
      <p:sp>
        <p:nvSpPr>
          <p:cNvPr id="996"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2.3 </a:t>
            </a:r>
            <a:r>
              <a:rPr b="0" lang="zh-CN" sz="2800" spc="-1" strike="noStrike">
                <a:solidFill>
                  <a:srgbClr val="4d4d4d"/>
                </a:solidFill>
                <a:latin typeface="微软雅黑"/>
                <a:ea typeface="微软雅黑"/>
              </a:rPr>
              <a:t>采用某某研究方案</a:t>
            </a:r>
            <a:endParaRPr b="0" lang="en-US" sz="2800" spc="-1" strike="noStrike">
              <a:solidFill>
                <a:srgbClr val="54a0d8"/>
              </a:solidFill>
              <a:latin typeface="Arial"/>
            </a:endParaRPr>
          </a:p>
        </p:txBody>
      </p:sp>
      <p:sp>
        <p:nvSpPr>
          <p:cNvPr id="997"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98" name="直接连接符 19"/>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TextBox 76"/>
          <p:cNvSpPr/>
          <p:nvPr/>
        </p:nvSpPr>
        <p:spPr>
          <a:xfrm>
            <a:off x="7631280" y="4873680"/>
            <a:ext cx="192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rPr>
              <a:t>消费者日趋理性</a:t>
            </a:r>
            <a:endParaRPr b="0" lang="en-US" sz="1800" spc="-1" strike="noStrike">
              <a:solidFill>
                <a:srgbClr val="54a0d8"/>
              </a:solidFill>
              <a:latin typeface="Arial"/>
            </a:endParaRPr>
          </a:p>
        </p:txBody>
      </p:sp>
      <p:sp>
        <p:nvSpPr>
          <p:cNvPr id="1000" name="文本框 22"/>
          <p:cNvSpPr/>
          <p:nvPr/>
        </p:nvSpPr>
        <p:spPr>
          <a:xfrm>
            <a:off x="7631280" y="5234040"/>
            <a:ext cx="3051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近两年由于媒体的宣传，消费者日趋理性，选择做某项目的人越来越多。</a:t>
            </a:r>
            <a:endParaRPr b="0" lang="en-US" sz="1600" spc="-1" strike="noStrike">
              <a:solidFill>
                <a:srgbClr val="54a0d8"/>
              </a:solidFill>
              <a:latin typeface="Arial"/>
            </a:endParaRPr>
          </a:p>
        </p:txBody>
      </p:sp>
      <p:sp>
        <p:nvSpPr>
          <p:cNvPr id="1001" name="TextBox 76"/>
          <p:cNvSpPr/>
          <p:nvPr/>
        </p:nvSpPr>
        <p:spPr>
          <a:xfrm>
            <a:off x="2825640" y="1328760"/>
            <a:ext cx="2224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使用群体的壮大</a:t>
            </a:r>
            <a:endParaRPr b="0" lang="en-US" sz="1800" spc="-1" strike="noStrike">
              <a:solidFill>
                <a:srgbClr val="54a0d8"/>
              </a:solidFill>
              <a:latin typeface="Arial"/>
            </a:endParaRPr>
          </a:p>
        </p:txBody>
      </p:sp>
      <p:sp>
        <p:nvSpPr>
          <p:cNvPr id="1002" name="文本框 24"/>
          <p:cNvSpPr/>
          <p:nvPr/>
        </p:nvSpPr>
        <p:spPr>
          <a:xfrm>
            <a:off x="1333440" y="1689120"/>
            <a:ext cx="371628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根据某某管理所提供的权威信息，近年新车登记量以每年</a:t>
            </a:r>
            <a:r>
              <a:rPr b="0" lang="en-US" sz="1600" spc="-1" strike="noStrike">
                <a:solidFill>
                  <a:srgbClr val="4d4d4d"/>
                </a:solidFill>
                <a:latin typeface="微软雅黑"/>
                <a:ea typeface="微软雅黑"/>
              </a:rPr>
              <a:t>8%</a:t>
            </a:r>
            <a:r>
              <a:rPr b="0" lang="zh-CN" sz="1600" spc="-1" strike="noStrike">
                <a:solidFill>
                  <a:srgbClr val="4d4d4d"/>
                </a:solidFill>
                <a:latin typeface="微软雅黑"/>
                <a:ea typeface="微软雅黑"/>
              </a:rPr>
              <a:t>数量增长，年登记量</a:t>
            </a:r>
            <a:r>
              <a:rPr b="0" lang="en-US" sz="1600" spc="-1" strike="noStrike">
                <a:solidFill>
                  <a:srgbClr val="4d4d4d"/>
                </a:solidFill>
                <a:latin typeface="微软雅黑"/>
                <a:ea typeface="微软雅黑"/>
              </a:rPr>
              <a:t>1.2</a:t>
            </a:r>
            <a:r>
              <a:rPr b="0" lang="zh-CN" sz="1600" spc="-1" strike="noStrike">
                <a:solidFill>
                  <a:srgbClr val="4d4d4d"/>
                </a:solidFill>
                <a:latin typeface="微软雅黑"/>
                <a:ea typeface="微软雅黑"/>
              </a:rPr>
              <a:t>万台以上。</a:t>
            </a:r>
            <a:endParaRPr b="0" lang="en-US" sz="1600" spc="-1" strike="noStrike">
              <a:solidFill>
                <a:srgbClr val="54a0d8"/>
              </a:solidFill>
              <a:latin typeface="Arial"/>
            </a:endParaRPr>
          </a:p>
        </p:txBody>
      </p:sp>
      <p:sp>
        <p:nvSpPr>
          <p:cNvPr id="1003" name="TextBox 76"/>
          <p:cNvSpPr/>
          <p:nvPr/>
        </p:nvSpPr>
        <p:spPr>
          <a:xfrm>
            <a:off x="7631280" y="1328760"/>
            <a:ext cx="209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rPr>
              <a:t>细分市场存在空白</a:t>
            </a:r>
            <a:endParaRPr b="0" lang="en-US" sz="1800" spc="-1" strike="noStrike">
              <a:solidFill>
                <a:srgbClr val="54a0d8"/>
              </a:solidFill>
              <a:latin typeface="Arial"/>
            </a:endParaRPr>
          </a:p>
        </p:txBody>
      </p:sp>
      <p:sp>
        <p:nvSpPr>
          <p:cNvPr id="1004" name="文本框 26"/>
          <p:cNvSpPr/>
          <p:nvPr/>
        </p:nvSpPr>
        <p:spPr>
          <a:xfrm>
            <a:off x="7631280" y="1689120"/>
            <a:ext cx="3051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海东市虽然同行众多，但是专做某某项目的商家却很少，而客户均需到省城才能享受该服务。</a:t>
            </a:r>
            <a:endParaRPr b="0" lang="en-US" sz="1600" spc="-1" strike="noStrike">
              <a:solidFill>
                <a:srgbClr val="54a0d8"/>
              </a:solidFill>
              <a:latin typeface="Arial"/>
            </a:endParaRPr>
          </a:p>
        </p:txBody>
      </p:sp>
      <p:sp>
        <p:nvSpPr>
          <p:cNvPr id="1005" name="TextBox 76"/>
          <p:cNvSpPr/>
          <p:nvPr/>
        </p:nvSpPr>
        <p:spPr>
          <a:xfrm>
            <a:off x="2570040" y="4873680"/>
            <a:ext cx="247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rPr>
              <a:t>地理位置较好</a:t>
            </a:r>
            <a:endParaRPr b="0" lang="en-US" sz="1800" spc="-1" strike="noStrike">
              <a:solidFill>
                <a:srgbClr val="54a0d8"/>
              </a:solidFill>
              <a:latin typeface="Arial"/>
            </a:endParaRPr>
          </a:p>
        </p:txBody>
      </p:sp>
      <p:sp>
        <p:nvSpPr>
          <p:cNvPr id="1006" name="文本框 28"/>
          <p:cNvSpPr/>
          <p:nvPr/>
        </p:nvSpPr>
        <p:spPr>
          <a:xfrm>
            <a:off x="1370160" y="5234040"/>
            <a:ext cx="36795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本市距省城最近的服务店也需要</a:t>
            </a:r>
            <a:r>
              <a:rPr b="0" lang="en-US" sz="1600" spc="-1" strike="noStrike">
                <a:solidFill>
                  <a:srgbClr val="4d4d4d"/>
                </a:solidFill>
                <a:latin typeface="微软雅黑"/>
                <a:ea typeface="微软雅黑"/>
              </a:rPr>
              <a:t>120</a:t>
            </a:r>
            <a:r>
              <a:rPr b="0" lang="zh-CN" sz="1600" spc="-1" strike="noStrike">
                <a:solidFill>
                  <a:srgbClr val="4d4d4d"/>
                </a:solidFill>
                <a:latin typeface="微软雅黑"/>
                <a:ea typeface="微软雅黑"/>
              </a:rPr>
              <a:t>公里，本地建一个将享有较好的地理位置条件。</a:t>
            </a:r>
            <a:endParaRPr b="0" lang="en-US" sz="1600" spc="-1" strike="noStrike">
              <a:solidFill>
                <a:srgbClr val="54a0d8"/>
              </a:solidFill>
              <a:latin typeface="Arial"/>
            </a:endParaRPr>
          </a:p>
        </p:txBody>
      </p:sp>
      <p:sp>
        <p:nvSpPr>
          <p:cNvPr id="1007" name="任意多边形 23"/>
          <p:cNvSpPr/>
          <p:nvPr/>
        </p:nvSpPr>
        <p:spPr>
          <a:xfrm flipV="1" rot="5400000">
            <a:off x="6047640" y="1315080"/>
            <a:ext cx="2681280" cy="2679840"/>
          </a:xfrm>
          <a:custGeom>
            <a:avLst/>
            <a:gdLst/>
            <a:ahLst/>
            <a:rect l="l" t="t" r="r" b="b"/>
            <a:pathLst>
              <a:path w="2286000" h="2286000">
                <a:moveTo>
                  <a:pt x="0" y="0"/>
                </a:moveTo>
                <a:cubicBezTo>
                  <a:pt x="1262523" y="0"/>
                  <a:pt x="2286000" y="1023477"/>
                  <a:pt x="2286000" y="2286000"/>
                </a:cubicBezTo>
                <a:lnTo>
                  <a:pt x="1638300" y="2286000"/>
                </a:lnTo>
                <a:cubicBezTo>
                  <a:pt x="1638300" y="1381192"/>
                  <a:pt x="904808" y="647700"/>
                  <a:pt x="0" y="647700"/>
                </a:cubicBezTo>
                <a:close/>
              </a:path>
            </a:pathLst>
          </a:cu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08" name="任意多边形 24"/>
          <p:cNvSpPr/>
          <p:nvPr/>
        </p:nvSpPr>
        <p:spPr>
          <a:xfrm flipH="1" flipV="1" rot="16200000">
            <a:off x="4122000" y="1315080"/>
            <a:ext cx="2681280" cy="2679840"/>
          </a:xfrm>
          <a:custGeom>
            <a:avLst/>
            <a:gdLst/>
            <a:ahLst/>
            <a:rect l="l" t="t" r="r" b="b"/>
            <a:pathLst>
              <a:path w="2286000" h="2286000">
                <a:moveTo>
                  <a:pt x="0" y="0"/>
                </a:moveTo>
                <a:cubicBezTo>
                  <a:pt x="1262523" y="0"/>
                  <a:pt x="2286000" y="1023477"/>
                  <a:pt x="2286000" y="2286000"/>
                </a:cubicBezTo>
                <a:lnTo>
                  <a:pt x="1638300" y="2286000"/>
                </a:lnTo>
                <a:cubicBezTo>
                  <a:pt x="1638300" y="1381192"/>
                  <a:pt x="904808" y="647700"/>
                  <a:pt x="0" y="647700"/>
                </a:cubicBezTo>
                <a:close/>
              </a:path>
            </a:pathLst>
          </a:cu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09" name="任意多边形 25"/>
          <p:cNvSpPr/>
          <p:nvPr/>
        </p:nvSpPr>
        <p:spPr>
          <a:xfrm flipH="1" flipV="1" rot="5400000">
            <a:off x="6048360" y="3255840"/>
            <a:ext cx="2679840" cy="2679840"/>
          </a:xfrm>
          <a:custGeom>
            <a:avLst/>
            <a:gdLst/>
            <a:ahLst/>
            <a:rect l="l" t="t" r="r" b="b"/>
            <a:pathLst>
              <a:path w="2286000" h="2286000">
                <a:moveTo>
                  <a:pt x="0" y="0"/>
                </a:moveTo>
                <a:cubicBezTo>
                  <a:pt x="1262523" y="0"/>
                  <a:pt x="2286000" y="1023477"/>
                  <a:pt x="2286000" y="2286000"/>
                </a:cubicBezTo>
                <a:lnTo>
                  <a:pt x="1638300" y="2286000"/>
                </a:lnTo>
                <a:cubicBezTo>
                  <a:pt x="1638300" y="1381192"/>
                  <a:pt x="904808" y="647700"/>
                  <a:pt x="0" y="647700"/>
                </a:cubicBezTo>
                <a:close/>
              </a:path>
            </a:pathLst>
          </a:cu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10" name="任意多边形 26"/>
          <p:cNvSpPr/>
          <p:nvPr/>
        </p:nvSpPr>
        <p:spPr>
          <a:xfrm flipV="1" rot="16200000">
            <a:off x="4122720" y="3255840"/>
            <a:ext cx="2679840" cy="2679840"/>
          </a:xfrm>
          <a:custGeom>
            <a:avLst/>
            <a:gdLst/>
            <a:ahLst/>
            <a:rect l="l" t="t" r="r" b="b"/>
            <a:pathLst>
              <a:path w="2286000" h="2286000">
                <a:moveTo>
                  <a:pt x="0" y="0"/>
                </a:moveTo>
                <a:cubicBezTo>
                  <a:pt x="1262523" y="0"/>
                  <a:pt x="2286000" y="1023477"/>
                  <a:pt x="2286000" y="2286000"/>
                </a:cubicBezTo>
                <a:lnTo>
                  <a:pt x="1638300" y="2286000"/>
                </a:lnTo>
                <a:cubicBezTo>
                  <a:pt x="1638300" y="1381192"/>
                  <a:pt x="904808" y="647700"/>
                  <a:pt x="0" y="647700"/>
                </a:cubicBezTo>
                <a:close/>
              </a:path>
            </a:pathLst>
          </a:cu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11" name="TextBox 83"/>
          <p:cNvSpPr/>
          <p:nvPr/>
        </p:nvSpPr>
        <p:spPr>
          <a:xfrm>
            <a:off x="5848200" y="3146400"/>
            <a:ext cx="1114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时机成熟</a:t>
            </a:r>
            <a:endParaRPr b="0" lang="en-US" sz="2800" spc="-1" strike="noStrike">
              <a:solidFill>
                <a:srgbClr val="54a0d8"/>
              </a:solidFill>
              <a:latin typeface="Arial"/>
            </a:endParaRPr>
          </a:p>
        </p:txBody>
      </p:sp>
      <p:sp>
        <p:nvSpPr>
          <p:cNvPr id="1012" name="Oval 10"/>
          <p:cNvSpPr/>
          <p:nvPr/>
        </p:nvSpPr>
        <p:spPr>
          <a:xfrm>
            <a:off x="6124680" y="1446120"/>
            <a:ext cx="463320" cy="463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Lifeline JL"/>
                <a:ea typeface="微软雅黑"/>
              </a:rPr>
              <a:t>1</a:t>
            </a:r>
            <a:endParaRPr b="0" lang="en-US" sz="1800" spc="-1" strike="noStrike">
              <a:solidFill>
                <a:srgbClr val="54a0d8"/>
              </a:solidFill>
              <a:latin typeface="Arial"/>
            </a:endParaRPr>
          </a:p>
        </p:txBody>
      </p:sp>
      <p:sp>
        <p:nvSpPr>
          <p:cNvPr id="1013" name="Oval 10"/>
          <p:cNvSpPr/>
          <p:nvPr/>
        </p:nvSpPr>
        <p:spPr>
          <a:xfrm>
            <a:off x="8097840" y="3403440"/>
            <a:ext cx="463680" cy="463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Lifeline JL"/>
                <a:ea typeface="微软雅黑"/>
              </a:rPr>
              <a:t>2</a:t>
            </a:r>
            <a:endParaRPr b="0" lang="en-US" sz="1800" spc="-1" strike="noStrike">
              <a:solidFill>
                <a:srgbClr val="54a0d8"/>
              </a:solidFill>
              <a:latin typeface="Arial"/>
            </a:endParaRPr>
          </a:p>
        </p:txBody>
      </p:sp>
      <p:sp>
        <p:nvSpPr>
          <p:cNvPr id="1014" name="Oval 10"/>
          <p:cNvSpPr/>
          <p:nvPr/>
        </p:nvSpPr>
        <p:spPr>
          <a:xfrm>
            <a:off x="6189840" y="5327640"/>
            <a:ext cx="463320" cy="463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Lifeline JL"/>
                <a:ea typeface="微软雅黑"/>
              </a:rPr>
              <a:t>3</a:t>
            </a:r>
            <a:endParaRPr b="0" lang="en-US" sz="1800" spc="-1" strike="noStrike">
              <a:solidFill>
                <a:srgbClr val="54a0d8"/>
              </a:solidFill>
              <a:latin typeface="Arial"/>
            </a:endParaRPr>
          </a:p>
        </p:txBody>
      </p:sp>
      <p:sp>
        <p:nvSpPr>
          <p:cNvPr id="1015" name="Oval 10"/>
          <p:cNvSpPr/>
          <p:nvPr/>
        </p:nvSpPr>
        <p:spPr>
          <a:xfrm>
            <a:off x="4264200" y="3403440"/>
            <a:ext cx="463320" cy="463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Lifeline JL"/>
                <a:ea typeface="微软雅黑"/>
              </a:rPr>
              <a:t>4</a:t>
            </a:r>
            <a:endParaRPr b="0" lang="en-US" sz="1800" spc="-1" strike="noStrike">
              <a:solidFill>
                <a:srgbClr val="54a0d8"/>
              </a:solidFill>
              <a:latin typeface="Arial"/>
            </a:endParaRPr>
          </a:p>
        </p:txBody>
      </p:sp>
      <p:sp>
        <p:nvSpPr>
          <p:cNvPr id="1016"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2.4 </a:t>
            </a:r>
            <a:r>
              <a:rPr b="0" lang="zh-CN" sz="2800" spc="-1" strike="noStrike">
                <a:solidFill>
                  <a:srgbClr val="4d4d4d"/>
                </a:solidFill>
                <a:latin typeface="微软雅黑"/>
                <a:ea typeface="微软雅黑"/>
              </a:rPr>
              <a:t>可行性说明</a:t>
            </a:r>
            <a:endParaRPr b="0" lang="en-US" sz="2800" spc="-1" strike="noStrike">
              <a:solidFill>
                <a:srgbClr val="54a0d8"/>
              </a:solidFill>
              <a:latin typeface="Arial"/>
            </a:endParaRPr>
          </a:p>
        </p:txBody>
      </p:sp>
      <p:sp>
        <p:nvSpPr>
          <p:cNvPr id="1017"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18" name="直接连接符 38"/>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TextBox 12"/>
          <p:cNvSpPr/>
          <p:nvPr/>
        </p:nvSpPr>
        <p:spPr>
          <a:xfrm>
            <a:off x="1995480" y="3119400"/>
            <a:ext cx="8207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d4d4d"/>
                </a:solidFill>
                <a:latin typeface="微软雅黑"/>
                <a:ea typeface="微软雅黑"/>
              </a:rPr>
              <a:t>关键技术和实践难点</a:t>
            </a:r>
            <a:endParaRPr b="0" lang="en-US" sz="6600" spc="-1" strike="noStrike">
              <a:solidFill>
                <a:srgbClr val="54a0d8"/>
              </a:solidFill>
              <a:latin typeface="Arial"/>
            </a:endParaRPr>
          </a:p>
        </p:txBody>
      </p:sp>
      <p:sp>
        <p:nvSpPr>
          <p:cNvPr id="1020" name="文本框 42"/>
          <p:cNvSpPr/>
          <p:nvPr/>
        </p:nvSpPr>
        <p:spPr>
          <a:xfrm>
            <a:off x="5506920" y="276552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微软雅黑"/>
                <a:ea typeface="微软雅黑"/>
              </a:rPr>
              <a:t>Part 3</a:t>
            </a:r>
            <a:endParaRPr b="0" lang="en-US" sz="2000" spc="-1" strike="noStrike">
              <a:solidFill>
                <a:srgbClr val="54a0d8"/>
              </a:solidFill>
              <a:latin typeface="Arial"/>
            </a:endParaRPr>
          </a:p>
        </p:txBody>
      </p:sp>
      <p:sp>
        <p:nvSpPr>
          <p:cNvPr id="1021" name="Line 5"/>
          <p:cNvSpPr/>
          <p:nvPr/>
        </p:nvSpPr>
        <p:spPr>
          <a:xfrm flipH="1">
            <a:off x="1850760" y="4218120"/>
            <a:ext cx="8496360" cy="0"/>
          </a:xfrm>
          <a:prstGeom prst="line">
            <a:avLst/>
          </a:prstGeom>
          <a:ln w="12600">
            <a:solidFill>
              <a:srgbClr val="b8b8b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pic>
        <p:nvPicPr>
          <p:cNvPr id="1022" name="图片 1" descr=""/>
          <p:cNvPicPr/>
          <p:nvPr/>
        </p:nvPicPr>
        <p:blipFill>
          <a:blip r:embed="rId2"/>
          <a:stretch/>
        </p:blipFill>
        <p:spPr>
          <a:xfrm>
            <a:off x="4514760" y="839880"/>
            <a:ext cx="3040200" cy="1947600"/>
          </a:xfrm>
          <a:prstGeom prst="rect">
            <a:avLst/>
          </a:prstGeom>
          <a:ln w="0">
            <a:noFill/>
          </a:ln>
        </p:spPr>
      </p:pic>
      <p:sp>
        <p:nvSpPr>
          <p:cNvPr id="1023" name="Freeform 13"/>
          <p:cNvSpPr/>
          <p:nvPr/>
        </p:nvSpPr>
        <p:spPr>
          <a:xfrm>
            <a:off x="5724360" y="1414440"/>
            <a:ext cx="866880" cy="798480"/>
          </a:xfrm>
          <a:custGeom>
            <a:avLst/>
            <a:gdLst>
              <a:gd name="textAreaLeft" fmla="*/ 0 w 866880"/>
              <a:gd name="textAreaRight" fmla="*/ 866880 w 866880"/>
              <a:gd name="textAreaTop" fmla="*/ 0 h 798480"/>
              <a:gd name="textAreaBottom" fmla="*/ 798840 h 798480"/>
            </a:gdLst>
            <a:ahLst/>
            <a:rect l="textAreaLeft" t="textAreaTop" r="textAreaRight" b="textAreaBottom"/>
            <a:pathLst>
              <a:path w="565" h="523">
                <a:moveTo>
                  <a:pt x="0" y="92"/>
                </a:moveTo>
                <a:cubicBezTo>
                  <a:pt x="0" y="164"/>
                  <a:pt x="0" y="237"/>
                  <a:pt x="0" y="310"/>
                </a:cubicBezTo>
                <a:cubicBezTo>
                  <a:pt x="0" y="315"/>
                  <a:pt x="95" y="406"/>
                  <a:pt x="107" y="418"/>
                </a:cubicBezTo>
                <a:cubicBezTo>
                  <a:pt x="119" y="430"/>
                  <a:pt x="210" y="523"/>
                  <a:pt x="218" y="523"/>
                </a:cubicBezTo>
                <a:cubicBezTo>
                  <a:pt x="261" y="523"/>
                  <a:pt x="305" y="523"/>
                  <a:pt x="348" y="523"/>
                </a:cubicBezTo>
                <a:cubicBezTo>
                  <a:pt x="367" y="523"/>
                  <a:pt x="373" y="506"/>
                  <a:pt x="381" y="495"/>
                </a:cubicBezTo>
                <a:cubicBezTo>
                  <a:pt x="381" y="405"/>
                  <a:pt x="381" y="315"/>
                  <a:pt x="381" y="225"/>
                </a:cubicBezTo>
                <a:cubicBezTo>
                  <a:pt x="373" y="228"/>
                  <a:pt x="349" y="218"/>
                  <a:pt x="344" y="231"/>
                </a:cubicBezTo>
                <a:cubicBezTo>
                  <a:pt x="341" y="237"/>
                  <a:pt x="344" y="339"/>
                  <a:pt x="344" y="360"/>
                </a:cubicBezTo>
                <a:cubicBezTo>
                  <a:pt x="344" y="380"/>
                  <a:pt x="350" y="486"/>
                  <a:pt x="335" y="486"/>
                </a:cubicBezTo>
                <a:cubicBezTo>
                  <a:pt x="299" y="486"/>
                  <a:pt x="264" y="486"/>
                  <a:pt x="228" y="486"/>
                </a:cubicBezTo>
                <a:cubicBezTo>
                  <a:pt x="217" y="486"/>
                  <a:pt x="222" y="450"/>
                  <a:pt x="222" y="438"/>
                </a:cubicBezTo>
                <a:cubicBezTo>
                  <a:pt x="222" y="420"/>
                  <a:pt x="222" y="402"/>
                  <a:pt x="222" y="384"/>
                </a:cubicBezTo>
                <a:cubicBezTo>
                  <a:pt x="222" y="334"/>
                  <a:pt x="222" y="326"/>
                  <a:pt x="191" y="305"/>
                </a:cubicBezTo>
                <a:cubicBezTo>
                  <a:pt x="177" y="305"/>
                  <a:pt x="178" y="301"/>
                  <a:pt x="165" y="301"/>
                </a:cubicBezTo>
                <a:cubicBezTo>
                  <a:pt x="123" y="301"/>
                  <a:pt x="81" y="301"/>
                  <a:pt x="39" y="301"/>
                </a:cubicBezTo>
                <a:cubicBezTo>
                  <a:pt x="39" y="235"/>
                  <a:pt x="39" y="170"/>
                  <a:pt x="39" y="105"/>
                </a:cubicBezTo>
                <a:cubicBezTo>
                  <a:pt x="39" y="100"/>
                  <a:pt x="41" y="100"/>
                  <a:pt x="43" y="96"/>
                </a:cubicBezTo>
                <a:cubicBezTo>
                  <a:pt x="91" y="96"/>
                  <a:pt x="139" y="96"/>
                  <a:pt x="187" y="96"/>
                </a:cubicBezTo>
                <a:cubicBezTo>
                  <a:pt x="197" y="90"/>
                  <a:pt x="222" y="68"/>
                  <a:pt x="222" y="55"/>
                </a:cubicBezTo>
                <a:cubicBezTo>
                  <a:pt x="162" y="55"/>
                  <a:pt x="101" y="55"/>
                  <a:pt x="41" y="55"/>
                </a:cubicBezTo>
                <a:cubicBezTo>
                  <a:pt x="25" y="55"/>
                  <a:pt x="0" y="78"/>
                  <a:pt x="0" y="92"/>
                </a:cubicBezTo>
                <a:close/>
                <a:moveTo>
                  <a:pt x="298" y="128"/>
                </a:moveTo>
                <a:lnTo>
                  <a:pt x="318" y="108"/>
                </a:lnTo>
                <a:lnTo>
                  <a:pt x="298" y="89"/>
                </a:lnTo>
                <a:cubicBezTo>
                  <a:pt x="298" y="88"/>
                  <a:pt x="298" y="87"/>
                  <a:pt x="298" y="86"/>
                </a:cubicBezTo>
                <a:lnTo>
                  <a:pt x="311" y="73"/>
                </a:lnTo>
                <a:cubicBezTo>
                  <a:pt x="312" y="72"/>
                  <a:pt x="313" y="72"/>
                  <a:pt x="314" y="73"/>
                </a:cubicBezTo>
                <a:lnTo>
                  <a:pt x="333" y="93"/>
                </a:lnTo>
                <a:lnTo>
                  <a:pt x="353" y="73"/>
                </a:lnTo>
                <a:cubicBezTo>
                  <a:pt x="354" y="72"/>
                  <a:pt x="355" y="72"/>
                  <a:pt x="356" y="73"/>
                </a:cubicBezTo>
                <a:lnTo>
                  <a:pt x="368" y="86"/>
                </a:lnTo>
                <a:cubicBezTo>
                  <a:pt x="369" y="87"/>
                  <a:pt x="369" y="88"/>
                  <a:pt x="368" y="89"/>
                </a:cubicBezTo>
                <a:lnTo>
                  <a:pt x="349" y="108"/>
                </a:lnTo>
                <a:lnTo>
                  <a:pt x="368" y="128"/>
                </a:lnTo>
                <a:cubicBezTo>
                  <a:pt x="369" y="128"/>
                  <a:pt x="369" y="129"/>
                  <a:pt x="368" y="130"/>
                </a:cubicBezTo>
                <a:lnTo>
                  <a:pt x="356" y="143"/>
                </a:lnTo>
                <a:cubicBezTo>
                  <a:pt x="355" y="144"/>
                  <a:pt x="354" y="144"/>
                  <a:pt x="353" y="143"/>
                </a:cubicBezTo>
                <a:lnTo>
                  <a:pt x="333" y="124"/>
                </a:lnTo>
                <a:lnTo>
                  <a:pt x="314" y="143"/>
                </a:lnTo>
                <a:cubicBezTo>
                  <a:pt x="313" y="144"/>
                  <a:pt x="312" y="144"/>
                  <a:pt x="311" y="143"/>
                </a:cubicBezTo>
                <a:lnTo>
                  <a:pt x="298" y="130"/>
                </a:lnTo>
                <a:cubicBezTo>
                  <a:pt x="298" y="129"/>
                  <a:pt x="298" y="128"/>
                  <a:pt x="298" y="128"/>
                </a:cubicBezTo>
                <a:close/>
                <a:moveTo>
                  <a:pt x="461" y="196"/>
                </a:moveTo>
                <a:lnTo>
                  <a:pt x="558" y="293"/>
                </a:lnTo>
                <a:cubicBezTo>
                  <a:pt x="565" y="301"/>
                  <a:pt x="565" y="313"/>
                  <a:pt x="558" y="321"/>
                </a:cubicBezTo>
                <a:lnTo>
                  <a:pt x="546" y="332"/>
                </a:lnTo>
                <a:cubicBezTo>
                  <a:pt x="539" y="340"/>
                  <a:pt x="526" y="340"/>
                  <a:pt x="518" y="332"/>
                </a:cubicBezTo>
                <a:lnTo>
                  <a:pt x="422" y="236"/>
                </a:lnTo>
                <a:lnTo>
                  <a:pt x="461" y="196"/>
                </a:lnTo>
                <a:close/>
                <a:moveTo>
                  <a:pt x="264" y="38"/>
                </a:moveTo>
                <a:cubicBezTo>
                  <a:pt x="302" y="0"/>
                  <a:pt x="365" y="0"/>
                  <a:pt x="403" y="38"/>
                </a:cubicBezTo>
                <a:cubicBezTo>
                  <a:pt x="437" y="73"/>
                  <a:pt x="441" y="126"/>
                  <a:pt x="414" y="165"/>
                </a:cubicBezTo>
                <a:lnTo>
                  <a:pt x="445" y="196"/>
                </a:lnTo>
                <a:cubicBezTo>
                  <a:pt x="447" y="197"/>
                  <a:pt x="447" y="199"/>
                  <a:pt x="445" y="201"/>
                </a:cubicBezTo>
                <a:lnTo>
                  <a:pt x="426" y="220"/>
                </a:lnTo>
                <a:cubicBezTo>
                  <a:pt x="425" y="221"/>
                  <a:pt x="423" y="221"/>
                  <a:pt x="421" y="220"/>
                </a:cubicBezTo>
                <a:lnTo>
                  <a:pt x="390" y="189"/>
                </a:lnTo>
                <a:cubicBezTo>
                  <a:pt x="352" y="216"/>
                  <a:pt x="298" y="212"/>
                  <a:pt x="264" y="178"/>
                </a:cubicBezTo>
                <a:cubicBezTo>
                  <a:pt x="225" y="139"/>
                  <a:pt x="225" y="77"/>
                  <a:pt x="264" y="38"/>
                </a:cubicBezTo>
                <a:close/>
                <a:moveTo>
                  <a:pt x="287" y="62"/>
                </a:moveTo>
                <a:cubicBezTo>
                  <a:pt x="313" y="36"/>
                  <a:pt x="354" y="36"/>
                  <a:pt x="380" y="62"/>
                </a:cubicBezTo>
                <a:cubicBezTo>
                  <a:pt x="406" y="87"/>
                  <a:pt x="406" y="129"/>
                  <a:pt x="380" y="155"/>
                </a:cubicBezTo>
                <a:cubicBezTo>
                  <a:pt x="354" y="180"/>
                  <a:pt x="313" y="180"/>
                  <a:pt x="287" y="155"/>
                </a:cubicBezTo>
                <a:cubicBezTo>
                  <a:pt x="261" y="129"/>
                  <a:pt x="261" y="87"/>
                  <a:pt x="287" y="62"/>
                </a:cubicBezTo>
                <a:close/>
                <a:moveTo>
                  <a:pt x="181" y="455"/>
                </a:moveTo>
                <a:cubicBezTo>
                  <a:pt x="180" y="418"/>
                  <a:pt x="179" y="380"/>
                  <a:pt x="178" y="342"/>
                </a:cubicBezTo>
                <a:cubicBezTo>
                  <a:pt x="142" y="342"/>
                  <a:pt x="106" y="342"/>
                  <a:pt x="70" y="342"/>
                </a:cubicBezTo>
                <a:cubicBezTo>
                  <a:pt x="69" y="343"/>
                  <a:pt x="68" y="343"/>
                  <a:pt x="68" y="344"/>
                </a:cubicBezTo>
                <a:cubicBezTo>
                  <a:pt x="105" y="381"/>
                  <a:pt x="143" y="418"/>
                  <a:pt x="181" y="455"/>
                </a:cubicBezTo>
                <a:close/>
                <a:moveTo>
                  <a:pt x="65" y="133"/>
                </a:moveTo>
                <a:cubicBezTo>
                  <a:pt x="65" y="138"/>
                  <a:pt x="65" y="143"/>
                  <a:pt x="65" y="148"/>
                </a:cubicBezTo>
                <a:cubicBezTo>
                  <a:pt x="65" y="153"/>
                  <a:pt x="69" y="157"/>
                  <a:pt x="74" y="157"/>
                </a:cubicBezTo>
                <a:cubicBezTo>
                  <a:pt x="123" y="157"/>
                  <a:pt x="173" y="157"/>
                  <a:pt x="222" y="157"/>
                </a:cubicBezTo>
                <a:cubicBezTo>
                  <a:pt x="236" y="157"/>
                  <a:pt x="232" y="135"/>
                  <a:pt x="228" y="127"/>
                </a:cubicBezTo>
                <a:cubicBezTo>
                  <a:pt x="199" y="127"/>
                  <a:pt x="170" y="127"/>
                  <a:pt x="141" y="127"/>
                </a:cubicBezTo>
                <a:cubicBezTo>
                  <a:pt x="123" y="127"/>
                  <a:pt x="65" y="122"/>
                  <a:pt x="65" y="133"/>
                </a:cubicBezTo>
                <a:close/>
                <a:moveTo>
                  <a:pt x="65" y="240"/>
                </a:moveTo>
                <a:cubicBezTo>
                  <a:pt x="65" y="246"/>
                  <a:pt x="65" y="253"/>
                  <a:pt x="65" y="259"/>
                </a:cubicBezTo>
                <a:cubicBezTo>
                  <a:pt x="65" y="264"/>
                  <a:pt x="67" y="266"/>
                  <a:pt x="72" y="266"/>
                </a:cubicBezTo>
                <a:cubicBezTo>
                  <a:pt x="125" y="266"/>
                  <a:pt x="178" y="266"/>
                  <a:pt x="231" y="266"/>
                </a:cubicBezTo>
                <a:cubicBezTo>
                  <a:pt x="232" y="260"/>
                  <a:pt x="236" y="238"/>
                  <a:pt x="224" y="238"/>
                </a:cubicBezTo>
                <a:cubicBezTo>
                  <a:pt x="175" y="238"/>
                  <a:pt x="125" y="238"/>
                  <a:pt x="76" y="238"/>
                </a:cubicBezTo>
                <a:cubicBezTo>
                  <a:pt x="73" y="238"/>
                  <a:pt x="68" y="239"/>
                  <a:pt x="65" y="240"/>
                </a:cubicBezTo>
                <a:close/>
                <a:moveTo>
                  <a:pt x="65" y="194"/>
                </a:moveTo>
                <a:cubicBezTo>
                  <a:pt x="65" y="197"/>
                  <a:pt x="65" y="200"/>
                  <a:pt x="65" y="203"/>
                </a:cubicBezTo>
                <a:cubicBezTo>
                  <a:pt x="65" y="208"/>
                  <a:pt x="67" y="208"/>
                  <a:pt x="70" y="211"/>
                </a:cubicBezTo>
                <a:cubicBezTo>
                  <a:pt x="121" y="211"/>
                  <a:pt x="173" y="211"/>
                  <a:pt x="224" y="212"/>
                </a:cubicBezTo>
                <a:cubicBezTo>
                  <a:pt x="227" y="210"/>
                  <a:pt x="230" y="209"/>
                  <a:pt x="233" y="207"/>
                </a:cubicBezTo>
                <a:cubicBezTo>
                  <a:pt x="233" y="203"/>
                  <a:pt x="233" y="200"/>
                  <a:pt x="233" y="196"/>
                </a:cubicBezTo>
                <a:cubicBezTo>
                  <a:pt x="233" y="190"/>
                  <a:pt x="231" y="187"/>
                  <a:pt x="228" y="183"/>
                </a:cubicBezTo>
                <a:cubicBezTo>
                  <a:pt x="199" y="183"/>
                  <a:pt x="169" y="183"/>
                  <a:pt x="139" y="183"/>
                </a:cubicBezTo>
                <a:cubicBezTo>
                  <a:pt x="125" y="183"/>
                  <a:pt x="110" y="183"/>
                  <a:pt x="96" y="183"/>
                </a:cubicBezTo>
                <a:cubicBezTo>
                  <a:pt x="77" y="183"/>
                  <a:pt x="65" y="177"/>
                  <a:pt x="65" y="19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24" name="Freeform 21"/>
          <p:cNvSpPr/>
          <p:nvPr/>
        </p:nvSpPr>
        <p:spPr>
          <a:xfrm>
            <a:off x="3014640" y="460224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25" name="TextBox 28"/>
          <p:cNvSpPr/>
          <p:nvPr/>
        </p:nvSpPr>
        <p:spPr>
          <a:xfrm>
            <a:off x="3309840" y="4551480"/>
            <a:ext cx="113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关建技术</a:t>
            </a:r>
            <a:endParaRPr b="0" lang="en-US" sz="1800" spc="-1" strike="noStrike">
              <a:solidFill>
                <a:srgbClr val="54a0d8"/>
              </a:solidFill>
              <a:latin typeface="Arial"/>
            </a:endParaRPr>
          </a:p>
        </p:txBody>
      </p:sp>
      <p:sp>
        <p:nvSpPr>
          <p:cNvPr id="1026" name="Freeform 21"/>
          <p:cNvSpPr/>
          <p:nvPr/>
        </p:nvSpPr>
        <p:spPr>
          <a:xfrm>
            <a:off x="6946920" y="460224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27" name="TextBox 44"/>
          <p:cNvSpPr/>
          <p:nvPr/>
        </p:nvSpPr>
        <p:spPr>
          <a:xfrm>
            <a:off x="7242120" y="4551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案例对比分析</a:t>
            </a:r>
            <a:endParaRPr b="0" lang="en-US" sz="1800" spc="-1" strike="noStrike">
              <a:solidFill>
                <a:srgbClr val="54a0d8"/>
              </a:solidFill>
              <a:latin typeface="Arial"/>
            </a:endParaRPr>
          </a:p>
        </p:txBody>
      </p:sp>
      <p:sp>
        <p:nvSpPr>
          <p:cNvPr id="1028" name="Freeform 21"/>
          <p:cNvSpPr/>
          <p:nvPr/>
        </p:nvSpPr>
        <p:spPr>
          <a:xfrm>
            <a:off x="4960800" y="460224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29" name="TextBox 46"/>
          <p:cNvSpPr/>
          <p:nvPr/>
        </p:nvSpPr>
        <p:spPr>
          <a:xfrm>
            <a:off x="5256360" y="4551480"/>
            <a:ext cx="147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实践难点</a:t>
            </a:r>
            <a:endParaRPr b="0" lang="en-US" sz="1800" spc="-1" strike="noStrike">
              <a:solidFill>
                <a:srgbClr val="54a0d8"/>
              </a:solidFill>
              <a:latin typeface="Arial"/>
            </a:endParaRPr>
          </a:p>
        </p:txBody>
      </p:sp>
    </p:spTree>
  </p:cSld>
  <p:transition spd="slow" advTm="10000">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Oval 5"/>
          <p:cNvSpPr/>
          <p:nvPr/>
        </p:nvSpPr>
        <p:spPr>
          <a:xfrm>
            <a:off x="5477040" y="1022400"/>
            <a:ext cx="1066680" cy="1058760"/>
          </a:xfrm>
          <a:prstGeom prst="ellipse">
            <a:avLst/>
          </a:pr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499"/>
              </a:spcBef>
              <a:buClr>
                <a:srgbClr val="f4f4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31" name="Oval 6"/>
          <p:cNvSpPr/>
          <p:nvPr/>
        </p:nvSpPr>
        <p:spPr>
          <a:xfrm>
            <a:off x="5931000" y="1887480"/>
            <a:ext cx="1066680" cy="1058760"/>
          </a:xfrm>
          <a:prstGeom prst="ellipse">
            <a:avLst/>
          </a:pr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499"/>
              </a:spcBef>
              <a:buClr>
                <a:srgbClr val="f4f4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32" name="Oval 7"/>
          <p:cNvSpPr/>
          <p:nvPr/>
        </p:nvSpPr>
        <p:spPr>
          <a:xfrm>
            <a:off x="5477040" y="2755800"/>
            <a:ext cx="1066680" cy="1059120"/>
          </a:xfrm>
          <a:prstGeom prst="ellipse">
            <a:avLst/>
          </a:pr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499"/>
              </a:spcBef>
              <a:buClr>
                <a:srgbClr val="f4f4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33" name="Oval 8"/>
          <p:cNvSpPr/>
          <p:nvPr/>
        </p:nvSpPr>
        <p:spPr>
          <a:xfrm>
            <a:off x="5931000" y="3641760"/>
            <a:ext cx="1066680" cy="1058760"/>
          </a:xfrm>
          <a:prstGeom prst="ellipse">
            <a:avLst/>
          </a:pr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499"/>
              </a:spcBef>
              <a:buClr>
                <a:srgbClr val="f4f4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34" name="Oval 9"/>
          <p:cNvSpPr/>
          <p:nvPr/>
        </p:nvSpPr>
        <p:spPr>
          <a:xfrm>
            <a:off x="5477040" y="4538520"/>
            <a:ext cx="1066680" cy="1059120"/>
          </a:xfrm>
          <a:prstGeom prst="ellipse">
            <a:avLst/>
          </a:pr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spcBef>
                <a:spcPts val="499"/>
              </a:spcBef>
              <a:buClr>
                <a:srgbClr val="f4f4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35" name="Freeform 10"/>
          <p:cNvSpPr/>
          <p:nvPr/>
        </p:nvSpPr>
        <p:spPr>
          <a:xfrm flipH="1">
            <a:off x="5207040" y="1382760"/>
            <a:ext cx="247680" cy="245880"/>
          </a:xfrm>
          <a:custGeom>
            <a:avLst/>
            <a:gdLst>
              <a:gd name="textAreaLeft" fmla="*/ 360 w 247680"/>
              <a:gd name="textAreaRight" fmla="*/ 248400 w 247680"/>
              <a:gd name="textAreaTop" fmla="*/ 0 h 245880"/>
              <a:gd name="textAreaBottom" fmla="*/ 246240 h 245880"/>
            </a:gdLst>
            <a:ahLst/>
            <a:rect l="textAreaLeft" t="textAreaTop" r="textAreaRight" b="textAreaBottom"/>
            <a:pathLst>
              <a:path w="346" h="346">
                <a:moveTo>
                  <a:pt x="173" y="0"/>
                </a:moveTo>
                <a:cubicBezTo>
                  <a:pt x="268" y="0"/>
                  <a:pt x="346" y="77"/>
                  <a:pt x="346" y="173"/>
                </a:cubicBezTo>
                <a:cubicBezTo>
                  <a:pt x="346" y="268"/>
                  <a:pt x="268" y="346"/>
                  <a:pt x="173" y="346"/>
                </a:cubicBezTo>
                <a:cubicBezTo>
                  <a:pt x="77" y="346"/>
                  <a:pt x="0" y="268"/>
                  <a:pt x="0" y="173"/>
                </a:cubicBezTo>
                <a:cubicBezTo>
                  <a:pt x="0" y="77"/>
                  <a:pt x="77" y="0"/>
                  <a:pt x="173" y="0"/>
                </a:cubicBezTo>
                <a:close/>
                <a:moveTo>
                  <a:pt x="277" y="176"/>
                </a:moveTo>
                <a:lnTo>
                  <a:pt x="204" y="218"/>
                </a:lnTo>
                <a:lnTo>
                  <a:pt x="131" y="260"/>
                </a:lnTo>
                <a:lnTo>
                  <a:pt x="131" y="176"/>
                </a:lnTo>
                <a:lnTo>
                  <a:pt x="131" y="92"/>
                </a:lnTo>
                <a:lnTo>
                  <a:pt x="204" y="134"/>
                </a:lnTo>
                <a:lnTo>
                  <a:pt x="277" y="176"/>
                </a:lnTo>
                <a:close/>
              </a:path>
            </a:pathLst>
          </a:custGeom>
          <a:solidFill>
            <a:srgbClr val="505153"/>
          </a:solidFill>
          <a:ln w="0">
            <a:noFill/>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036" name="Freeform 11"/>
          <p:cNvSpPr/>
          <p:nvPr/>
        </p:nvSpPr>
        <p:spPr>
          <a:xfrm flipH="1">
            <a:off x="7020000" y="2279520"/>
            <a:ext cx="247680" cy="246240"/>
          </a:xfrm>
          <a:custGeom>
            <a:avLst/>
            <a:gdLst>
              <a:gd name="textAreaLeft" fmla="*/ 360 w 247680"/>
              <a:gd name="textAreaRight" fmla="*/ 248400 w 247680"/>
              <a:gd name="textAreaTop" fmla="*/ 0 h 246240"/>
              <a:gd name="textAreaBottom" fmla="*/ 246600 h 246240"/>
            </a:gdLst>
            <a:ahLst/>
            <a:rect l="textAreaLeft" t="textAreaTop" r="textAreaRight" b="textAreaBottom"/>
            <a:pathLst>
              <a:path w="346" h="346">
                <a:moveTo>
                  <a:pt x="173" y="0"/>
                </a:moveTo>
                <a:cubicBezTo>
                  <a:pt x="78" y="0"/>
                  <a:pt x="0" y="78"/>
                  <a:pt x="0" y="173"/>
                </a:cubicBezTo>
                <a:cubicBezTo>
                  <a:pt x="0" y="269"/>
                  <a:pt x="78" y="346"/>
                  <a:pt x="173" y="346"/>
                </a:cubicBezTo>
                <a:cubicBezTo>
                  <a:pt x="269" y="346"/>
                  <a:pt x="346" y="269"/>
                  <a:pt x="346" y="173"/>
                </a:cubicBezTo>
                <a:cubicBezTo>
                  <a:pt x="346" y="78"/>
                  <a:pt x="269" y="0"/>
                  <a:pt x="173" y="0"/>
                </a:cubicBezTo>
                <a:close/>
                <a:moveTo>
                  <a:pt x="69" y="177"/>
                </a:moveTo>
                <a:lnTo>
                  <a:pt x="142" y="219"/>
                </a:lnTo>
                <a:lnTo>
                  <a:pt x="215" y="261"/>
                </a:lnTo>
                <a:lnTo>
                  <a:pt x="215" y="177"/>
                </a:lnTo>
                <a:lnTo>
                  <a:pt x="215" y="93"/>
                </a:lnTo>
                <a:lnTo>
                  <a:pt x="142" y="135"/>
                </a:lnTo>
                <a:lnTo>
                  <a:pt x="69" y="177"/>
                </a:lnTo>
                <a:close/>
              </a:path>
            </a:pathLst>
          </a:custGeom>
          <a:solidFill>
            <a:srgbClr val="505153"/>
          </a:solidFill>
          <a:ln w="0">
            <a:noFill/>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037" name="Freeform 12"/>
          <p:cNvSpPr/>
          <p:nvPr/>
        </p:nvSpPr>
        <p:spPr>
          <a:xfrm flipH="1">
            <a:off x="5207040" y="3174840"/>
            <a:ext cx="247680" cy="246240"/>
          </a:xfrm>
          <a:custGeom>
            <a:avLst/>
            <a:gdLst>
              <a:gd name="textAreaLeft" fmla="*/ 360 w 247680"/>
              <a:gd name="textAreaRight" fmla="*/ 248400 w 247680"/>
              <a:gd name="textAreaTop" fmla="*/ 0 h 246240"/>
              <a:gd name="textAreaBottom" fmla="*/ 246600 h 246240"/>
            </a:gdLst>
            <a:ahLst/>
            <a:rect l="textAreaLeft" t="textAreaTop" r="textAreaRight" b="textAreaBottom"/>
            <a:pathLst>
              <a:path w="346" h="346">
                <a:moveTo>
                  <a:pt x="173" y="0"/>
                </a:moveTo>
                <a:cubicBezTo>
                  <a:pt x="268" y="0"/>
                  <a:pt x="346" y="77"/>
                  <a:pt x="346" y="173"/>
                </a:cubicBezTo>
                <a:cubicBezTo>
                  <a:pt x="346" y="268"/>
                  <a:pt x="268" y="346"/>
                  <a:pt x="173" y="346"/>
                </a:cubicBezTo>
                <a:cubicBezTo>
                  <a:pt x="77" y="346"/>
                  <a:pt x="0" y="268"/>
                  <a:pt x="0" y="173"/>
                </a:cubicBezTo>
                <a:cubicBezTo>
                  <a:pt x="0" y="77"/>
                  <a:pt x="77" y="0"/>
                  <a:pt x="173" y="0"/>
                </a:cubicBezTo>
                <a:close/>
                <a:moveTo>
                  <a:pt x="277" y="176"/>
                </a:moveTo>
                <a:lnTo>
                  <a:pt x="204" y="218"/>
                </a:lnTo>
                <a:lnTo>
                  <a:pt x="131" y="260"/>
                </a:lnTo>
                <a:lnTo>
                  <a:pt x="131" y="176"/>
                </a:lnTo>
                <a:lnTo>
                  <a:pt x="131" y="92"/>
                </a:lnTo>
                <a:lnTo>
                  <a:pt x="204" y="134"/>
                </a:lnTo>
                <a:lnTo>
                  <a:pt x="277" y="176"/>
                </a:lnTo>
                <a:close/>
              </a:path>
            </a:pathLst>
          </a:custGeom>
          <a:solidFill>
            <a:srgbClr val="505153"/>
          </a:solidFill>
          <a:ln w="0">
            <a:noFill/>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038" name="Freeform 13"/>
          <p:cNvSpPr/>
          <p:nvPr/>
        </p:nvSpPr>
        <p:spPr>
          <a:xfrm flipH="1">
            <a:off x="7020000" y="4048200"/>
            <a:ext cx="247680" cy="245880"/>
          </a:xfrm>
          <a:custGeom>
            <a:avLst/>
            <a:gdLst>
              <a:gd name="textAreaLeft" fmla="*/ 360 w 247680"/>
              <a:gd name="textAreaRight" fmla="*/ 248400 w 247680"/>
              <a:gd name="textAreaTop" fmla="*/ 0 h 245880"/>
              <a:gd name="textAreaBottom" fmla="*/ 246240 h 245880"/>
            </a:gdLst>
            <a:ahLst/>
            <a:rect l="textAreaLeft" t="textAreaTop" r="textAreaRight" b="textAreaBottom"/>
            <a:pathLst>
              <a:path w="346" h="346">
                <a:moveTo>
                  <a:pt x="173" y="0"/>
                </a:moveTo>
                <a:cubicBezTo>
                  <a:pt x="78" y="0"/>
                  <a:pt x="0" y="78"/>
                  <a:pt x="0" y="173"/>
                </a:cubicBezTo>
                <a:cubicBezTo>
                  <a:pt x="0" y="269"/>
                  <a:pt x="78" y="346"/>
                  <a:pt x="173" y="346"/>
                </a:cubicBezTo>
                <a:cubicBezTo>
                  <a:pt x="269" y="346"/>
                  <a:pt x="346" y="269"/>
                  <a:pt x="346" y="173"/>
                </a:cubicBezTo>
                <a:cubicBezTo>
                  <a:pt x="346" y="78"/>
                  <a:pt x="269" y="0"/>
                  <a:pt x="173" y="0"/>
                </a:cubicBezTo>
                <a:close/>
                <a:moveTo>
                  <a:pt x="69" y="177"/>
                </a:moveTo>
                <a:lnTo>
                  <a:pt x="142" y="219"/>
                </a:lnTo>
                <a:lnTo>
                  <a:pt x="215" y="261"/>
                </a:lnTo>
                <a:lnTo>
                  <a:pt x="215" y="177"/>
                </a:lnTo>
                <a:lnTo>
                  <a:pt x="215" y="93"/>
                </a:lnTo>
                <a:lnTo>
                  <a:pt x="142" y="135"/>
                </a:lnTo>
                <a:lnTo>
                  <a:pt x="69" y="177"/>
                </a:lnTo>
                <a:close/>
              </a:path>
            </a:pathLst>
          </a:custGeom>
          <a:solidFill>
            <a:srgbClr val="505153"/>
          </a:solidFill>
          <a:ln w="0">
            <a:noFill/>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039" name="Freeform 14"/>
          <p:cNvSpPr/>
          <p:nvPr/>
        </p:nvSpPr>
        <p:spPr>
          <a:xfrm flipH="1">
            <a:off x="5207040" y="5079960"/>
            <a:ext cx="247680" cy="246240"/>
          </a:xfrm>
          <a:custGeom>
            <a:avLst/>
            <a:gdLst>
              <a:gd name="textAreaLeft" fmla="*/ 360 w 247680"/>
              <a:gd name="textAreaRight" fmla="*/ 248400 w 247680"/>
              <a:gd name="textAreaTop" fmla="*/ 0 h 246240"/>
              <a:gd name="textAreaBottom" fmla="*/ 246600 h 246240"/>
            </a:gdLst>
            <a:ahLst/>
            <a:rect l="textAreaLeft" t="textAreaTop" r="textAreaRight" b="textAreaBottom"/>
            <a:pathLst>
              <a:path w="346" h="346">
                <a:moveTo>
                  <a:pt x="173" y="0"/>
                </a:moveTo>
                <a:cubicBezTo>
                  <a:pt x="268" y="0"/>
                  <a:pt x="346" y="78"/>
                  <a:pt x="346" y="173"/>
                </a:cubicBezTo>
                <a:cubicBezTo>
                  <a:pt x="346" y="269"/>
                  <a:pt x="268" y="346"/>
                  <a:pt x="173" y="346"/>
                </a:cubicBezTo>
                <a:cubicBezTo>
                  <a:pt x="77" y="346"/>
                  <a:pt x="0" y="269"/>
                  <a:pt x="0" y="173"/>
                </a:cubicBezTo>
                <a:cubicBezTo>
                  <a:pt x="0" y="78"/>
                  <a:pt x="77" y="0"/>
                  <a:pt x="173" y="0"/>
                </a:cubicBezTo>
                <a:close/>
                <a:moveTo>
                  <a:pt x="277" y="177"/>
                </a:moveTo>
                <a:lnTo>
                  <a:pt x="204" y="219"/>
                </a:lnTo>
                <a:lnTo>
                  <a:pt x="131" y="261"/>
                </a:lnTo>
                <a:lnTo>
                  <a:pt x="131" y="177"/>
                </a:lnTo>
                <a:lnTo>
                  <a:pt x="131" y="93"/>
                </a:lnTo>
                <a:lnTo>
                  <a:pt x="204" y="135"/>
                </a:lnTo>
                <a:lnTo>
                  <a:pt x="277" y="177"/>
                </a:lnTo>
                <a:close/>
              </a:path>
            </a:pathLst>
          </a:custGeom>
          <a:solidFill>
            <a:srgbClr val="505153"/>
          </a:solidFill>
          <a:ln w="0">
            <a:noFill/>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040" name="TextBox 20"/>
          <p:cNvSpPr/>
          <p:nvPr/>
        </p:nvSpPr>
        <p:spPr>
          <a:xfrm flipH="1">
            <a:off x="5644440" y="1192320"/>
            <a:ext cx="7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ifeline JL"/>
                <a:ea typeface="微软雅黑"/>
              </a:rPr>
              <a:t>01</a:t>
            </a:r>
            <a:endParaRPr b="0" lang="en-US" sz="3600" spc="-1" strike="noStrike">
              <a:solidFill>
                <a:srgbClr val="54a0d8"/>
              </a:solidFill>
              <a:latin typeface="Arial"/>
            </a:endParaRPr>
          </a:p>
        </p:txBody>
      </p:sp>
      <p:sp>
        <p:nvSpPr>
          <p:cNvPr id="1041" name="TextBox 21"/>
          <p:cNvSpPr/>
          <p:nvPr/>
        </p:nvSpPr>
        <p:spPr>
          <a:xfrm flipH="1">
            <a:off x="6077880" y="2036880"/>
            <a:ext cx="75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ifeline JL"/>
                <a:ea typeface="微软雅黑"/>
              </a:rPr>
              <a:t>02</a:t>
            </a:r>
            <a:endParaRPr b="0" lang="en-US" sz="3600" spc="-1" strike="noStrike">
              <a:solidFill>
                <a:srgbClr val="54a0d8"/>
              </a:solidFill>
              <a:latin typeface="Arial"/>
            </a:endParaRPr>
          </a:p>
        </p:txBody>
      </p:sp>
      <p:sp>
        <p:nvSpPr>
          <p:cNvPr id="1042" name="TextBox 22"/>
          <p:cNvSpPr/>
          <p:nvPr/>
        </p:nvSpPr>
        <p:spPr>
          <a:xfrm flipH="1">
            <a:off x="5614920" y="2901960"/>
            <a:ext cx="7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ifeline JL"/>
                <a:ea typeface="微软雅黑"/>
              </a:rPr>
              <a:t>03</a:t>
            </a:r>
            <a:endParaRPr b="0" lang="en-US" sz="3600" spc="-1" strike="noStrike">
              <a:solidFill>
                <a:srgbClr val="54a0d8"/>
              </a:solidFill>
              <a:latin typeface="Arial"/>
            </a:endParaRPr>
          </a:p>
        </p:txBody>
      </p:sp>
      <p:sp>
        <p:nvSpPr>
          <p:cNvPr id="1043" name="TextBox 23"/>
          <p:cNvSpPr/>
          <p:nvPr/>
        </p:nvSpPr>
        <p:spPr>
          <a:xfrm flipH="1">
            <a:off x="6064200" y="3817800"/>
            <a:ext cx="7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ifeline JL"/>
                <a:ea typeface="微软雅黑"/>
              </a:rPr>
              <a:t>04</a:t>
            </a:r>
            <a:endParaRPr b="0" lang="en-US" sz="3600" spc="-1" strike="noStrike">
              <a:solidFill>
                <a:srgbClr val="54a0d8"/>
              </a:solidFill>
              <a:latin typeface="Arial"/>
            </a:endParaRPr>
          </a:p>
        </p:txBody>
      </p:sp>
      <p:sp>
        <p:nvSpPr>
          <p:cNvPr id="1044" name="TextBox 24"/>
          <p:cNvSpPr/>
          <p:nvPr/>
        </p:nvSpPr>
        <p:spPr>
          <a:xfrm flipH="1">
            <a:off x="5604840" y="4710240"/>
            <a:ext cx="75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ifeline JL"/>
                <a:ea typeface="微软雅黑"/>
              </a:rPr>
              <a:t>05</a:t>
            </a:r>
            <a:endParaRPr b="0" lang="en-US" sz="3600" spc="-1" strike="noStrike">
              <a:solidFill>
                <a:srgbClr val="54a0d8"/>
              </a:solidFill>
              <a:latin typeface="Arial"/>
            </a:endParaRPr>
          </a:p>
        </p:txBody>
      </p:sp>
      <p:sp>
        <p:nvSpPr>
          <p:cNvPr id="1045" name="矩形 25"/>
          <p:cNvSpPr/>
          <p:nvPr/>
        </p:nvSpPr>
        <p:spPr>
          <a:xfrm>
            <a:off x="1406520" y="143352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段落文本内容请在这里输入段落文本内容请</a:t>
            </a:r>
            <a:endParaRPr b="0" lang="en-US" sz="1800" spc="-1" strike="noStrike">
              <a:solidFill>
                <a:srgbClr val="54a0d8"/>
              </a:solidFill>
              <a:latin typeface="Arial"/>
            </a:endParaRPr>
          </a:p>
        </p:txBody>
      </p:sp>
      <p:sp>
        <p:nvSpPr>
          <p:cNvPr id="1046" name="矩形 55"/>
          <p:cNvSpPr/>
          <p:nvPr/>
        </p:nvSpPr>
        <p:spPr>
          <a:xfrm>
            <a:off x="7346880" y="2236680"/>
            <a:ext cx="37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段落文本内容请在这里输入段落文本内容请</a:t>
            </a:r>
            <a:endParaRPr b="0" lang="en-US" sz="1800" spc="-1" strike="noStrike">
              <a:solidFill>
                <a:srgbClr val="54a0d8"/>
              </a:solidFill>
              <a:latin typeface="Arial"/>
            </a:endParaRPr>
          </a:p>
        </p:txBody>
      </p:sp>
      <p:sp>
        <p:nvSpPr>
          <p:cNvPr id="1047" name="矩形 56"/>
          <p:cNvSpPr/>
          <p:nvPr/>
        </p:nvSpPr>
        <p:spPr>
          <a:xfrm>
            <a:off x="1346040" y="32544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段落文本内容请在这里输入段落文本内容请</a:t>
            </a:r>
            <a:endParaRPr b="0" lang="en-US" sz="1800" spc="-1" strike="noStrike">
              <a:solidFill>
                <a:srgbClr val="54a0d8"/>
              </a:solidFill>
              <a:latin typeface="Arial"/>
            </a:endParaRPr>
          </a:p>
        </p:txBody>
      </p:sp>
      <p:sp>
        <p:nvSpPr>
          <p:cNvPr id="1048" name="矩形 57"/>
          <p:cNvSpPr/>
          <p:nvPr/>
        </p:nvSpPr>
        <p:spPr>
          <a:xfrm>
            <a:off x="7346880" y="3962520"/>
            <a:ext cx="370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段落文本内容请在这里输入段落文本内容请</a:t>
            </a:r>
            <a:endParaRPr b="0" lang="en-US" sz="1800" spc="-1" strike="noStrike">
              <a:solidFill>
                <a:srgbClr val="54a0d8"/>
              </a:solidFill>
              <a:latin typeface="Arial"/>
            </a:endParaRPr>
          </a:p>
        </p:txBody>
      </p:sp>
      <p:sp>
        <p:nvSpPr>
          <p:cNvPr id="1049" name="矩形 58"/>
          <p:cNvSpPr/>
          <p:nvPr/>
        </p:nvSpPr>
        <p:spPr>
          <a:xfrm>
            <a:off x="1406520" y="504828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段落文本内容请在这里输入段落文本内容请</a:t>
            </a:r>
            <a:endParaRPr b="0" lang="en-US" sz="1800" spc="-1" strike="noStrike">
              <a:solidFill>
                <a:srgbClr val="54a0d8"/>
              </a:solidFill>
              <a:latin typeface="Arial"/>
            </a:endParaRPr>
          </a:p>
        </p:txBody>
      </p:sp>
      <p:sp>
        <p:nvSpPr>
          <p:cNvPr id="1050" name="矩形 3"/>
          <p:cNvSpPr/>
          <p:nvPr/>
        </p:nvSpPr>
        <p:spPr>
          <a:xfrm>
            <a:off x="1841400" y="1127160"/>
            <a:ext cx="3238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关键技术一</a:t>
            </a:r>
            <a:endParaRPr b="0" lang="en-US" sz="2000" spc="-1" strike="noStrike">
              <a:solidFill>
                <a:srgbClr val="54a0d8"/>
              </a:solidFill>
              <a:latin typeface="Arial"/>
            </a:endParaRPr>
          </a:p>
        </p:txBody>
      </p:sp>
      <p:sp>
        <p:nvSpPr>
          <p:cNvPr id="1051" name="矩形 33"/>
          <p:cNvSpPr/>
          <p:nvPr/>
        </p:nvSpPr>
        <p:spPr>
          <a:xfrm>
            <a:off x="7318440" y="1974960"/>
            <a:ext cx="389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关键技术二</a:t>
            </a:r>
            <a:endParaRPr b="0" lang="en-US" sz="2000" spc="-1" strike="noStrike">
              <a:solidFill>
                <a:srgbClr val="54a0d8"/>
              </a:solidFill>
              <a:latin typeface="Arial"/>
            </a:endParaRPr>
          </a:p>
        </p:txBody>
      </p:sp>
      <p:sp>
        <p:nvSpPr>
          <p:cNvPr id="1052" name="矩形 34"/>
          <p:cNvSpPr/>
          <p:nvPr/>
        </p:nvSpPr>
        <p:spPr>
          <a:xfrm>
            <a:off x="1841400" y="2990880"/>
            <a:ext cx="3238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关键技术三</a:t>
            </a:r>
            <a:endParaRPr b="0" lang="en-US" sz="2000" spc="-1" strike="noStrike">
              <a:solidFill>
                <a:srgbClr val="54a0d8"/>
              </a:solidFill>
              <a:latin typeface="Arial"/>
            </a:endParaRPr>
          </a:p>
        </p:txBody>
      </p:sp>
      <p:sp>
        <p:nvSpPr>
          <p:cNvPr id="1053" name="矩形 35"/>
          <p:cNvSpPr/>
          <p:nvPr/>
        </p:nvSpPr>
        <p:spPr>
          <a:xfrm>
            <a:off x="7346880" y="3687840"/>
            <a:ext cx="349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关键技术四</a:t>
            </a:r>
            <a:endParaRPr b="0" lang="en-US" sz="2000" spc="-1" strike="noStrike">
              <a:solidFill>
                <a:srgbClr val="54a0d8"/>
              </a:solidFill>
              <a:latin typeface="Arial"/>
            </a:endParaRPr>
          </a:p>
        </p:txBody>
      </p:sp>
      <p:sp>
        <p:nvSpPr>
          <p:cNvPr id="1054" name="矩形 36"/>
          <p:cNvSpPr/>
          <p:nvPr/>
        </p:nvSpPr>
        <p:spPr>
          <a:xfrm>
            <a:off x="1841400" y="4734000"/>
            <a:ext cx="3238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关键技术五</a:t>
            </a:r>
            <a:endParaRPr b="0" lang="en-US" sz="2000" spc="-1" strike="noStrike">
              <a:solidFill>
                <a:srgbClr val="54a0d8"/>
              </a:solidFill>
              <a:latin typeface="Arial"/>
            </a:endParaRPr>
          </a:p>
        </p:txBody>
      </p:sp>
      <p:sp>
        <p:nvSpPr>
          <p:cNvPr id="1055"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3.1 </a:t>
            </a:r>
            <a:r>
              <a:rPr b="0" lang="zh-CN" sz="2800" spc="-1" strike="noStrike">
                <a:solidFill>
                  <a:srgbClr val="4d4d4d"/>
                </a:solidFill>
                <a:latin typeface="微软雅黑"/>
                <a:ea typeface="微软雅黑"/>
              </a:rPr>
              <a:t>关键技术</a:t>
            </a:r>
            <a:endParaRPr b="0" lang="en-US" sz="2800" spc="-1" strike="noStrike">
              <a:solidFill>
                <a:srgbClr val="54a0d8"/>
              </a:solidFill>
              <a:latin typeface="Arial"/>
            </a:endParaRPr>
          </a:p>
        </p:txBody>
      </p:sp>
      <p:sp>
        <p:nvSpPr>
          <p:cNvPr id="1056"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57" name="直接连接符 33"/>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8" name="Picture 2" descr="D:\快盘\培训PPT\咸安PPT制作培训教程\导出\平板.png"/>
          <p:cNvPicPr/>
          <p:nvPr/>
        </p:nvPicPr>
        <p:blipFill>
          <a:blip r:embed="rId1"/>
          <a:stretch/>
        </p:blipFill>
        <p:spPr>
          <a:xfrm>
            <a:off x="6000840" y="1389240"/>
            <a:ext cx="4827600" cy="4425840"/>
          </a:xfrm>
          <a:prstGeom prst="rect">
            <a:avLst/>
          </a:prstGeom>
          <a:ln w="0">
            <a:noFill/>
          </a:ln>
        </p:spPr>
      </p:pic>
      <p:sp>
        <p:nvSpPr>
          <p:cNvPr id="1059" name="Oval 17"/>
          <p:cNvSpPr/>
          <p:nvPr/>
        </p:nvSpPr>
        <p:spPr>
          <a:xfrm>
            <a:off x="1006560" y="1373040"/>
            <a:ext cx="681120" cy="677880"/>
          </a:xfrm>
          <a:prstGeom prst="ellipse">
            <a:avLst/>
          </a:pr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feline JL"/>
                <a:ea typeface="微软雅黑"/>
              </a:rPr>
              <a:t>1</a:t>
            </a:r>
            <a:endParaRPr b="0" lang="en-US" sz="2800" spc="-1" strike="noStrike">
              <a:solidFill>
                <a:srgbClr val="54a0d8"/>
              </a:solidFill>
              <a:latin typeface="Arial"/>
            </a:endParaRPr>
          </a:p>
        </p:txBody>
      </p:sp>
      <p:sp>
        <p:nvSpPr>
          <p:cNvPr id="1060" name="Oval 17"/>
          <p:cNvSpPr/>
          <p:nvPr/>
        </p:nvSpPr>
        <p:spPr>
          <a:xfrm>
            <a:off x="1006560" y="2925720"/>
            <a:ext cx="681120" cy="677880"/>
          </a:xfrm>
          <a:prstGeom prst="ellipse">
            <a:avLst/>
          </a:pr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feline JL"/>
                <a:ea typeface="微软雅黑"/>
              </a:rPr>
              <a:t>2</a:t>
            </a:r>
            <a:endParaRPr b="0" lang="en-US" sz="2800" spc="-1" strike="noStrike">
              <a:solidFill>
                <a:srgbClr val="54a0d8"/>
              </a:solidFill>
              <a:latin typeface="Arial"/>
            </a:endParaRPr>
          </a:p>
        </p:txBody>
      </p:sp>
      <p:sp>
        <p:nvSpPr>
          <p:cNvPr id="1061" name="Oval 17"/>
          <p:cNvSpPr/>
          <p:nvPr/>
        </p:nvSpPr>
        <p:spPr>
          <a:xfrm>
            <a:off x="1006560" y="4484520"/>
            <a:ext cx="681120" cy="677880"/>
          </a:xfrm>
          <a:prstGeom prst="ellipse">
            <a:avLst/>
          </a:pr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feline JL"/>
                <a:ea typeface="微软雅黑"/>
              </a:rPr>
              <a:t>3</a:t>
            </a:r>
            <a:endParaRPr b="0" lang="en-US" sz="2800" spc="-1" strike="noStrike">
              <a:solidFill>
                <a:srgbClr val="54a0d8"/>
              </a:solidFill>
              <a:latin typeface="Arial"/>
            </a:endParaRPr>
          </a:p>
        </p:txBody>
      </p:sp>
      <p:sp>
        <p:nvSpPr>
          <p:cNvPr id="1062" name="矩形 22"/>
          <p:cNvSpPr/>
          <p:nvPr/>
        </p:nvSpPr>
        <p:spPr>
          <a:xfrm>
            <a:off x="1808280" y="1373040"/>
            <a:ext cx="36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坚持入门、中端、高端三款产品同步发力，满足不同层次需求的消费者的理念。</a:t>
            </a:r>
            <a:endParaRPr b="0" lang="en-US" sz="1800" spc="-1" strike="noStrike">
              <a:solidFill>
                <a:srgbClr val="54a0d8"/>
              </a:solidFill>
              <a:latin typeface="Arial"/>
            </a:endParaRPr>
          </a:p>
        </p:txBody>
      </p:sp>
      <p:sp>
        <p:nvSpPr>
          <p:cNvPr id="1063" name="矩形 23"/>
          <p:cNvSpPr/>
          <p:nvPr/>
        </p:nvSpPr>
        <p:spPr>
          <a:xfrm>
            <a:off x="1808280" y="2860560"/>
            <a:ext cx="36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在某某市场方面继续发力，在未来三年培养成公司主要收入来源。</a:t>
            </a:r>
            <a:endParaRPr b="0" lang="en-US" sz="1800" spc="-1" strike="noStrike">
              <a:solidFill>
                <a:srgbClr val="54a0d8"/>
              </a:solidFill>
              <a:latin typeface="Arial"/>
            </a:endParaRPr>
          </a:p>
        </p:txBody>
      </p:sp>
      <p:sp>
        <p:nvSpPr>
          <p:cNvPr id="1064" name="矩形 24"/>
          <p:cNvSpPr/>
          <p:nvPr/>
        </p:nvSpPr>
        <p:spPr>
          <a:xfrm>
            <a:off x="1808280" y="4484520"/>
            <a:ext cx="36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加大到网络渠道的投入，天猫和京东旗舰店销售额力争上升到</a:t>
            </a:r>
            <a:r>
              <a:rPr b="0" lang="en-US" sz="1800" spc="-1" strike="noStrike">
                <a:solidFill>
                  <a:srgbClr val="4d4d4d"/>
                </a:solidFill>
                <a:latin typeface="微软雅黑"/>
                <a:ea typeface="微软雅黑"/>
              </a:rPr>
              <a:t>30%</a:t>
            </a:r>
            <a:r>
              <a:rPr b="0" lang="zh-CN" sz="1800" spc="-1" strike="noStrike">
                <a:solidFill>
                  <a:srgbClr val="4d4d4d"/>
                </a:solidFill>
                <a:latin typeface="微软雅黑"/>
                <a:ea typeface="微软雅黑"/>
              </a:rPr>
              <a:t>。</a:t>
            </a:r>
            <a:endParaRPr b="0" lang="en-US" sz="1800" spc="-1" strike="noStrike">
              <a:solidFill>
                <a:srgbClr val="54a0d8"/>
              </a:solidFill>
              <a:latin typeface="Arial"/>
            </a:endParaRPr>
          </a:p>
        </p:txBody>
      </p:sp>
      <p:sp>
        <p:nvSpPr>
          <p:cNvPr id="1065" name="文本框 25"/>
          <p:cNvSpPr/>
          <p:nvPr/>
        </p:nvSpPr>
        <p:spPr>
          <a:xfrm>
            <a:off x="7270920" y="5450040"/>
            <a:ext cx="225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这里可以用来展示相关图片或视频文件</a:t>
            </a:r>
            <a:endParaRPr b="0" lang="en-US" sz="1600" spc="-1" strike="noStrike">
              <a:solidFill>
                <a:srgbClr val="54a0d8"/>
              </a:solidFill>
              <a:latin typeface="Arial"/>
            </a:endParaRPr>
          </a:p>
        </p:txBody>
      </p:sp>
      <p:pic>
        <p:nvPicPr>
          <p:cNvPr id="1066" name="图片 1" descr=""/>
          <p:cNvPicPr/>
          <p:nvPr/>
        </p:nvPicPr>
        <p:blipFill>
          <a:blip r:embed="rId2"/>
          <a:srcRect l="15726" t="0" r="11939" b="6863"/>
          <a:stretch/>
        </p:blipFill>
        <p:spPr>
          <a:xfrm>
            <a:off x="6238800" y="1622520"/>
            <a:ext cx="4318200" cy="3243240"/>
          </a:xfrm>
          <a:prstGeom prst="rect">
            <a:avLst/>
          </a:prstGeom>
          <a:ln w="0">
            <a:noFill/>
          </a:ln>
        </p:spPr>
      </p:pic>
      <p:sp>
        <p:nvSpPr>
          <p:cNvPr id="1067"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3.2 </a:t>
            </a:r>
            <a:r>
              <a:rPr b="0" lang="zh-CN" sz="2800" spc="-1" strike="noStrike">
                <a:solidFill>
                  <a:srgbClr val="4d4d4d"/>
                </a:solidFill>
                <a:latin typeface="微软雅黑"/>
                <a:ea typeface="微软雅黑"/>
              </a:rPr>
              <a:t>实践难点</a:t>
            </a:r>
            <a:endParaRPr b="0" lang="en-US" sz="2800" spc="-1" strike="noStrike">
              <a:solidFill>
                <a:srgbClr val="54a0d8"/>
              </a:solidFill>
              <a:latin typeface="Arial"/>
            </a:endParaRPr>
          </a:p>
        </p:txBody>
      </p:sp>
      <p:sp>
        <p:nvSpPr>
          <p:cNvPr id="1068"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69" name="直接连接符 18"/>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五边形 2"/>
          <p:cNvSpPr/>
          <p:nvPr/>
        </p:nvSpPr>
        <p:spPr>
          <a:xfrm flipH="1">
            <a:off x="3201120" y="3371760"/>
            <a:ext cx="2251080" cy="455760"/>
          </a:xfrm>
          <a:custGeom>
            <a:avLst/>
            <a:gdLst>
              <a:gd name="textAreaLeft" fmla="*/ -360 w 2251080"/>
              <a:gd name="textAreaRight" fmla="*/ 2251080 w 2251080"/>
              <a:gd name="textAreaTop" fmla="*/ 0 h 455760"/>
              <a:gd name="textAreaBottom" fmla="*/ 456120 h 455760"/>
            </a:gdLst>
            <a:ahLst/>
            <a:rect l="textAreaLeft" t="textAreaTop" r="textAreaRight" b="textAreaBottom"/>
            <a:pathLst>
              <a:path w="21600" h="21600">
                <a:moveTo>
                  <a:pt x="0" y="0"/>
                </a:moveTo>
                <a:lnTo>
                  <a:pt x="19416" y="0"/>
                </a:lnTo>
                <a:lnTo>
                  <a:pt x="21600" y="10800"/>
                </a:lnTo>
                <a:lnTo>
                  <a:pt x="19416" y="21600"/>
                </a:lnTo>
                <a:lnTo>
                  <a:pt x="0" y="21600"/>
                </a:lnTo>
                <a:close/>
              </a:path>
            </a:pathLst>
          </a:cu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71" name="五边形 3"/>
          <p:cNvSpPr/>
          <p:nvPr/>
        </p:nvSpPr>
        <p:spPr>
          <a:xfrm flipH="1">
            <a:off x="4068000" y="3933720"/>
            <a:ext cx="1384200" cy="455760"/>
          </a:xfrm>
          <a:custGeom>
            <a:avLst/>
            <a:gdLst>
              <a:gd name="textAreaLeft" fmla="*/ -360 w 1384200"/>
              <a:gd name="textAreaRight" fmla="*/ 1384200 w 1384200"/>
              <a:gd name="textAreaTop" fmla="*/ 0 h 455760"/>
              <a:gd name="textAreaBottom" fmla="*/ 456120 h 455760"/>
            </a:gdLst>
            <a:ahLst/>
            <a:rect l="textAreaLeft" t="textAreaTop" r="textAreaRight" b="textAreaBottom"/>
            <a:pathLst>
              <a:path w="21600" h="21600">
                <a:moveTo>
                  <a:pt x="0" y="0"/>
                </a:moveTo>
                <a:lnTo>
                  <a:pt x="18049" y="0"/>
                </a:lnTo>
                <a:lnTo>
                  <a:pt x="21600" y="10800"/>
                </a:lnTo>
                <a:lnTo>
                  <a:pt x="18049" y="21600"/>
                </a:lnTo>
                <a:lnTo>
                  <a:pt x="0" y="21600"/>
                </a:lnTo>
                <a:close/>
              </a:path>
            </a:pathLst>
          </a:cu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72" name="五边形 4"/>
          <p:cNvSpPr/>
          <p:nvPr/>
        </p:nvSpPr>
        <p:spPr>
          <a:xfrm flipH="1">
            <a:off x="3540960" y="4484520"/>
            <a:ext cx="1911240" cy="455760"/>
          </a:xfrm>
          <a:custGeom>
            <a:avLst/>
            <a:gdLst>
              <a:gd name="textAreaLeft" fmla="*/ -360 w 1911240"/>
              <a:gd name="textAreaRight" fmla="*/ 1911240 w 1911240"/>
              <a:gd name="textAreaTop" fmla="*/ 0 h 455760"/>
              <a:gd name="textAreaBottom" fmla="*/ 456120 h 455760"/>
            </a:gdLst>
            <a:ahLst/>
            <a:rect l="textAreaLeft" t="textAreaTop" r="textAreaRight" b="textAreaBottom"/>
            <a:pathLst>
              <a:path w="21600" h="21600">
                <a:moveTo>
                  <a:pt x="0" y="0"/>
                </a:moveTo>
                <a:lnTo>
                  <a:pt x="19028" y="0"/>
                </a:lnTo>
                <a:lnTo>
                  <a:pt x="21600" y="10800"/>
                </a:lnTo>
                <a:lnTo>
                  <a:pt x="19028" y="21600"/>
                </a:lnTo>
                <a:lnTo>
                  <a:pt x="0" y="21600"/>
                </a:lnTo>
                <a:close/>
              </a:path>
            </a:pathLst>
          </a:cu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73" name="五边形 5"/>
          <p:cNvSpPr/>
          <p:nvPr/>
        </p:nvSpPr>
        <p:spPr>
          <a:xfrm flipH="1">
            <a:off x="2696400" y="5035680"/>
            <a:ext cx="2755800" cy="455400"/>
          </a:xfrm>
          <a:custGeom>
            <a:avLst/>
            <a:gdLst>
              <a:gd name="textAreaLeft" fmla="*/ -360 w 2755800"/>
              <a:gd name="textAreaRight" fmla="*/ 2755800 w 2755800"/>
              <a:gd name="textAreaTop" fmla="*/ 0 h 455400"/>
              <a:gd name="textAreaBottom" fmla="*/ 455760 h 455400"/>
            </a:gdLst>
            <a:ahLst/>
            <a:rect l="textAreaLeft" t="textAreaTop" r="textAreaRight" b="textAreaBottom"/>
            <a:pathLst>
              <a:path w="21600" h="21600">
                <a:moveTo>
                  <a:pt x="0" y="0"/>
                </a:moveTo>
                <a:lnTo>
                  <a:pt x="19816" y="0"/>
                </a:lnTo>
                <a:lnTo>
                  <a:pt x="21600" y="10800"/>
                </a:lnTo>
                <a:lnTo>
                  <a:pt x="19816" y="21600"/>
                </a:lnTo>
                <a:lnTo>
                  <a:pt x="0" y="21600"/>
                </a:lnTo>
                <a:close/>
              </a:path>
            </a:pathLst>
          </a:cu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74" name="TextBox 159"/>
          <p:cNvSpPr/>
          <p:nvPr/>
        </p:nvSpPr>
        <p:spPr>
          <a:xfrm>
            <a:off x="4820040" y="3409920"/>
            <a:ext cx="590040" cy="3430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ffffff"/>
                </a:solidFill>
                <a:latin typeface="Lifeline JL"/>
              </a:rPr>
              <a:t>73%</a:t>
            </a:r>
            <a:endParaRPr b="0" lang="en-US" sz="1800" spc="-1" strike="noStrike">
              <a:solidFill>
                <a:srgbClr val="54a0d8"/>
              </a:solidFill>
              <a:latin typeface="Arial"/>
            </a:endParaRPr>
          </a:p>
        </p:txBody>
      </p:sp>
      <p:sp>
        <p:nvSpPr>
          <p:cNvPr id="1075" name="TextBox 160"/>
          <p:cNvSpPr/>
          <p:nvPr/>
        </p:nvSpPr>
        <p:spPr>
          <a:xfrm>
            <a:off x="4812840" y="3975120"/>
            <a:ext cx="590040" cy="3430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ffffff"/>
                </a:solidFill>
                <a:latin typeface="Lifeline JL"/>
              </a:rPr>
              <a:t>30%</a:t>
            </a:r>
            <a:endParaRPr b="0" lang="en-US" sz="1800" spc="-1" strike="noStrike">
              <a:solidFill>
                <a:srgbClr val="54a0d8"/>
              </a:solidFill>
              <a:latin typeface="Arial"/>
            </a:endParaRPr>
          </a:p>
        </p:txBody>
      </p:sp>
      <p:sp>
        <p:nvSpPr>
          <p:cNvPr id="1076" name="TextBox 161"/>
          <p:cNvSpPr/>
          <p:nvPr/>
        </p:nvSpPr>
        <p:spPr>
          <a:xfrm>
            <a:off x="4812840" y="4525920"/>
            <a:ext cx="590040" cy="3430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ffffff"/>
                </a:solidFill>
                <a:latin typeface="Lifeline JL"/>
              </a:rPr>
              <a:t>50%</a:t>
            </a:r>
            <a:endParaRPr b="0" lang="en-US" sz="1800" spc="-1" strike="noStrike">
              <a:solidFill>
                <a:srgbClr val="54a0d8"/>
              </a:solidFill>
              <a:latin typeface="Arial"/>
            </a:endParaRPr>
          </a:p>
        </p:txBody>
      </p:sp>
      <p:sp>
        <p:nvSpPr>
          <p:cNvPr id="1077" name="TextBox 162"/>
          <p:cNvSpPr/>
          <p:nvPr/>
        </p:nvSpPr>
        <p:spPr>
          <a:xfrm>
            <a:off x="4831920" y="5081760"/>
            <a:ext cx="590040" cy="3430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ffffff"/>
                </a:solidFill>
                <a:latin typeface="Lifeline JL"/>
              </a:rPr>
              <a:t>75%</a:t>
            </a:r>
            <a:endParaRPr b="0" lang="en-US" sz="1800" spc="-1" strike="noStrike">
              <a:solidFill>
                <a:srgbClr val="54a0d8"/>
              </a:solidFill>
              <a:latin typeface="Arial"/>
            </a:endParaRPr>
          </a:p>
        </p:txBody>
      </p:sp>
      <p:sp>
        <p:nvSpPr>
          <p:cNvPr id="1078" name="五边形 11"/>
          <p:cNvSpPr/>
          <p:nvPr/>
        </p:nvSpPr>
        <p:spPr>
          <a:xfrm>
            <a:off x="6531120" y="3373560"/>
            <a:ext cx="1149120" cy="455400"/>
          </a:xfrm>
          <a:custGeom>
            <a:avLst/>
            <a:gdLst>
              <a:gd name="textAreaLeft" fmla="*/ 0 w 1149120"/>
              <a:gd name="textAreaRight" fmla="*/ 1149480 w 1149120"/>
              <a:gd name="textAreaTop" fmla="*/ 0 h 455400"/>
              <a:gd name="textAreaBottom" fmla="*/ 455760 h 455400"/>
            </a:gdLst>
            <a:ahLst/>
            <a:rect l="textAreaLeft" t="textAreaTop" r="textAreaRight" b="textAreaBottom"/>
            <a:pathLst>
              <a:path w="21600" h="21600">
                <a:moveTo>
                  <a:pt x="0" y="0"/>
                </a:moveTo>
                <a:lnTo>
                  <a:pt x="17322" y="0"/>
                </a:lnTo>
                <a:lnTo>
                  <a:pt x="21600" y="10800"/>
                </a:lnTo>
                <a:lnTo>
                  <a:pt x="17322" y="21600"/>
                </a:lnTo>
                <a:lnTo>
                  <a:pt x="0" y="21600"/>
                </a:lnTo>
                <a:close/>
              </a:path>
            </a:pathLst>
          </a:custGeom>
          <a:solidFill>
            <a:srgbClr val="e96969"/>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79" name="五边形 12"/>
          <p:cNvSpPr/>
          <p:nvPr/>
        </p:nvSpPr>
        <p:spPr>
          <a:xfrm>
            <a:off x="6531120" y="3936960"/>
            <a:ext cx="2170080" cy="453960"/>
          </a:xfrm>
          <a:custGeom>
            <a:avLst/>
            <a:gdLst>
              <a:gd name="textAreaLeft" fmla="*/ 0 w 2170080"/>
              <a:gd name="textAreaRight" fmla="*/ 2170440 w 2170080"/>
              <a:gd name="textAreaTop" fmla="*/ 0 h 453960"/>
              <a:gd name="textAreaBottom" fmla="*/ 454320 h 453960"/>
            </a:gdLst>
            <a:ahLst/>
            <a:rect l="textAreaLeft" t="textAreaTop" r="textAreaRight" b="textAreaBottom"/>
            <a:pathLst>
              <a:path w="21600" h="21600">
                <a:moveTo>
                  <a:pt x="0" y="0"/>
                </a:moveTo>
                <a:lnTo>
                  <a:pt x="19334" y="0"/>
                </a:lnTo>
                <a:lnTo>
                  <a:pt x="21600" y="10800"/>
                </a:lnTo>
                <a:lnTo>
                  <a:pt x="19334" y="21600"/>
                </a:lnTo>
                <a:lnTo>
                  <a:pt x="0" y="21600"/>
                </a:lnTo>
                <a:close/>
              </a:path>
            </a:pathLst>
          </a:custGeom>
          <a:solidFill>
            <a:srgbClr val="e96969"/>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80" name="五边形 13"/>
          <p:cNvSpPr/>
          <p:nvPr/>
        </p:nvSpPr>
        <p:spPr>
          <a:xfrm>
            <a:off x="6531120" y="4486320"/>
            <a:ext cx="1360440" cy="455400"/>
          </a:xfrm>
          <a:custGeom>
            <a:avLst/>
            <a:gdLst>
              <a:gd name="textAreaLeft" fmla="*/ 0 w 1360440"/>
              <a:gd name="textAreaRight" fmla="*/ 1360440 w 1360440"/>
              <a:gd name="textAreaTop" fmla="*/ 0 h 455400"/>
              <a:gd name="textAreaBottom" fmla="*/ 455760 h 455400"/>
            </a:gdLst>
            <a:ahLst/>
            <a:rect l="textAreaLeft" t="textAreaTop" r="textAreaRight" b="textAreaBottom"/>
            <a:pathLst>
              <a:path w="21600" h="21600">
                <a:moveTo>
                  <a:pt x="0" y="0"/>
                </a:moveTo>
                <a:lnTo>
                  <a:pt x="17985" y="0"/>
                </a:lnTo>
                <a:lnTo>
                  <a:pt x="21600" y="10800"/>
                </a:lnTo>
                <a:lnTo>
                  <a:pt x="17985" y="21600"/>
                </a:lnTo>
                <a:lnTo>
                  <a:pt x="0" y="21600"/>
                </a:lnTo>
                <a:close/>
              </a:path>
            </a:pathLst>
          </a:custGeom>
          <a:solidFill>
            <a:srgbClr val="e96969"/>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81" name="五边形 14"/>
          <p:cNvSpPr/>
          <p:nvPr/>
        </p:nvSpPr>
        <p:spPr>
          <a:xfrm>
            <a:off x="6531120" y="5038560"/>
            <a:ext cx="2901960" cy="454320"/>
          </a:xfrm>
          <a:custGeom>
            <a:avLst/>
            <a:gdLst>
              <a:gd name="textAreaLeft" fmla="*/ 0 w 2901960"/>
              <a:gd name="textAreaRight" fmla="*/ 2902320 w 2901960"/>
              <a:gd name="textAreaTop" fmla="*/ 0 h 454320"/>
              <a:gd name="textAreaBottom" fmla="*/ 454680 h 454320"/>
            </a:gdLst>
            <a:ahLst/>
            <a:rect l="textAreaLeft" t="textAreaTop" r="textAreaRight" b="textAreaBottom"/>
            <a:pathLst>
              <a:path w="21600" h="21600">
                <a:moveTo>
                  <a:pt x="0" y="0"/>
                </a:moveTo>
                <a:lnTo>
                  <a:pt x="19904" y="0"/>
                </a:lnTo>
                <a:lnTo>
                  <a:pt x="21600" y="10800"/>
                </a:lnTo>
                <a:lnTo>
                  <a:pt x="19904" y="21600"/>
                </a:lnTo>
                <a:lnTo>
                  <a:pt x="0" y="21600"/>
                </a:lnTo>
                <a:close/>
              </a:path>
            </a:pathLst>
          </a:custGeom>
          <a:solidFill>
            <a:srgbClr val="e96969"/>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082" name="TextBox 173"/>
          <p:cNvSpPr/>
          <p:nvPr/>
        </p:nvSpPr>
        <p:spPr>
          <a:xfrm>
            <a:off x="6597000" y="3416400"/>
            <a:ext cx="590040" cy="3430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ffffff"/>
                </a:solidFill>
                <a:latin typeface="Lifeline JL"/>
              </a:rPr>
              <a:t>20%</a:t>
            </a:r>
            <a:endParaRPr b="0" lang="en-US" sz="1800" spc="-1" strike="noStrike">
              <a:solidFill>
                <a:srgbClr val="54a0d8"/>
              </a:solidFill>
              <a:latin typeface="Arial"/>
            </a:endParaRPr>
          </a:p>
        </p:txBody>
      </p:sp>
      <p:sp>
        <p:nvSpPr>
          <p:cNvPr id="1083" name="TextBox 174"/>
          <p:cNvSpPr/>
          <p:nvPr/>
        </p:nvSpPr>
        <p:spPr>
          <a:xfrm>
            <a:off x="6597360" y="3971880"/>
            <a:ext cx="590040" cy="3430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ffffff"/>
                </a:solidFill>
                <a:latin typeface="Lifeline JL"/>
              </a:rPr>
              <a:t>56%</a:t>
            </a:r>
            <a:endParaRPr b="0" lang="en-US" sz="1800" spc="-1" strike="noStrike">
              <a:solidFill>
                <a:srgbClr val="54a0d8"/>
              </a:solidFill>
              <a:latin typeface="Arial"/>
            </a:endParaRPr>
          </a:p>
        </p:txBody>
      </p:sp>
      <p:sp>
        <p:nvSpPr>
          <p:cNvPr id="1084" name="TextBox 175"/>
          <p:cNvSpPr/>
          <p:nvPr/>
        </p:nvSpPr>
        <p:spPr>
          <a:xfrm>
            <a:off x="6597360" y="4525920"/>
            <a:ext cx="590040" cy="3430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ffffff"/>
                </a:solidFill>
                <a:latin typeface="Lifeline JL"/>
              </a:rPr>
              <a:t>29%</a:t>
            </a:r>
            <a:endParaRPr b="0" lang="en-US" sz="1800" spc="-1" strike="noStrike">
              <a:solidFill>
                <a:srgbClr val="54a0d8"/>
              </a:solidFill>
              <a:latin typeface="Arial"/>
            </a:endParaRPr>
          </a:p>
        </p:txBody>
      </p:sp>
      <p:sp>
        <p:nvSpPr>
          <p:cNvPr id="1085" name="TextBox 176"/>
          <p:cNvSpPr/>
          <p:nvPr/>
        </p:nvSpPr>
        <p:spPr>
          <a:xfrm>
            <a:off x="6610680" y="5079960"/>
            <a:ext cx="590040" cy="3430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ffffff"/>
                </a:solidFill>
                <a:latin typeface="Lifeline JL"/>
              </a:rPr>
              <a:t>77%</a:t>
            </a:r>
            <a:endParaRPr b="0" lang="en-US" sz="1800" spc="-1" strike="noStrike">
              <a:solidFill>
                <a:srgbClr val="54a0d8"/>
              </a:solidFill>
              <a:latin typeface="Arial"/>
            </a:endParaRPr>
          </a:p>
        </p:txBody>
      </p:sp>
      <p:sp>
        <p:nvSpPr>
          <p:cNvPr id="1086" name="TextBox 180"/>
          <p:cNvSpPr/>
          <p:nvPr/>
        </p:nvSpPr>
        <p:spPr>
          <a:xfrm>
            <a:off x="6010200" y="3451320"/>
            <a:ext cx="31572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1400" spc="-1" strike="noStrike">
                <a:solidFill>
                  <a:srgbClr val="4d4d4d"/>
                </a:solidFill>
                <a:latin typeface="Lifeline JL"/>
                <a:ea typeface="微软雅黑"/>
              </a:rPr>
              <a:t>项目一</a:t>
            </a:r>
            <a:endParaRPr b="0" lang="en-US" sz="1400" spc="-1" strike="noStrike">
              <a:solidFill>
                <a:srgbClr val="54a0d8"/>
              </a:solidFill>
              <a:latin typeface="Arial"/>
            </a:endParaRPr>
          </a:p>
        </p:txBody>
      </p:sp>
      <p:sp>
        <p:nvSpPr>
          <p:cNvPr id="1087" name="TextBox 181"/>
          <p:cNvSpPr/>
          <p:nvPr/>
        </p:nvSpPr>
        <p:spPr>
          <a:xfrm>
            <a:off x="5939280" y="4010040"/>
            <a:ext cx="45756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1400" spc="-1" strike="noStrike">
                <a:solidFill>
                  <a:srgbClr val="4d4d4d"/>
                </a:solidFill>
                <a:latin typeface="Lifeline JL"/>
                <a:ea typeface="微软雅黑"/>
              </a:rPr>
              <a:t>项目二</a:t>
            </a:r>
            <a:endParaRPr b="0" lang="en-US" sz="1400" spc="-1" strike="noStrike">
              <a:solidFill>
                <a:srgbClr val="54a0d8"/>
              </a:solidFill>
              <a:latin typeface="Arial"/>
            </a:endParaRPr>
          </a:p>
        </p:txBody>
      </p:sp>
      <p:sp>
        <p:nvSpPr>
          <p:cNvPr id="1088" name="TextBox 182"/>
          <p:cNvSpPr/>
          <p:nvPr/>
        </p:nvSpPr>
        <p:spPr>
          <a:xfrm>
            <a:off x="5939280" y="4560840"/>
            <a:ext cx="45756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1400" spc="-1" strike="noStrike">
                <a:solidFill>
                  <a:srgbClr val="4d4d4d"/>
                </a:solidFill>
                <a:latin typeface="Lifeline JL"/>
                <a:ea typeface="微软雅黑"/>
              </a:rPr>
              <a:t>项目三</a:t>
            </a:r>
            <a:endParaRPr b="0" lang="en-US" sz="1400" spc="-1" strike="noStrike">
              <a:solidFill>
                <a:srgbClr val="54a0d8"/>
              </a:solidFill>
              <a:latin typeface="Arial"/>
            </a:endParaRPr>
          </a:p>
        </p:txBody>
      </p:sp>
      <p:sp>
        <p:nvSpPr>
          <p:cNvPr id="1089" name="TextBox 183"/>
          <p:cNvSpPr/>
          <p:nvPr/>
        </p:nvSpPr>
        <p:spPr>
          <a:xfrm>
            <a:off x="5939280" y="5113440"/>
            <a:ext cx="457560" cy="2818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1400" spc="-1" strike="noStrike">
                <a:solidFill>
                  <a:srgbClr val="4d4d4d"/>
                </a:solidFill>
                <a:latin typeface="Lifeline JL"/>
                <a:ea typeface="微软雅黑"/>
              </a:rPr>
              <a:t>项目四</a:t>
            </a:r>
            <a:endParaRPr b="0" lang="en-US" sz="1400" spc="-1" strike="noStrike">
              <a:solidFill>
                <a:srgbClr val="54a0d8"/>
              </a:solidFill>
              <a:latin typeface="Arial"/>
            </a:endParaRPr>
          </a:p>
        </p:txBody>
      </p:sp>
      <p:sp>
        <p:nvSpPr>
          <p:cNvPr id="1090" name="Oval 4"/>
          <p:cNvSpPr/>
          <p:nvPr/>
        </p:nvSpPr>
        <p:spPr>
          <a:xfrm>
            <a:off x="6426360" y="1057320"/>
            <a:ext cx="1044360" cy="985680"/>
          </a:xfrm>
          <a:prstGeom prst="ellipse">
            <a:avLst/>
          </a:pr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4f4"/>
                </a:solidFill>
                <a:latin typeface="Lifeline JL"/>
                <a:ea typeface="微软雅黑"/>
              </a:rPr>
              <a:t>2016</a:t>
            </a:r>
            <a:endParaRPr b="0" lang="en-US" sz="2000" spc="-1" strike="noStrike">
              <a:solidFill>
                <a:srgbClr val="54a0d8"/>
              </a:solidFill>
              <a:latin typeface="Arial"/>
            </a:endParaRPr>
          </a:p>
        </p:txBody>
      </p:sp>
      <p:sp>
        <p:nvSpPr>
          <p:cNvPr id="1091" name="Oval 5"/>
          <p:cNvSpPr/>
          <p:nvPr/>
        </p:nvSpPr>
        <p:spPr>
          <a:xfrm>
            <a:off x="4529160" y="1057320"/>
            <a:ext cx="1044720" cy="985680"/>
          </a:xfrm>
          <a:prstGeom prst="ellipse">
            <a:avLst/>
          </a:pr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f4f4"/>
                </a:solidFill>
                <a:latin typeface="Lifeline JL"/>
                <a:ea typeface="微软雅黑"/>
              </a:rPr>
              <a:t>2015</a:t>
            </a:r>
            <a:endParaRPr b="0" lang="en-US" sz="2000" spc="-1" strike="noStrike">
              <a:solidFill>
                <a:srgbClr val="54a0d8"/>
              </a:solidFill>
              <a:latin typeface="Arial"/>
            </a:endParaRPr>
          </a:p>
        </p:txBody>
      </p:sp>
      <p:sp>
        <p:nvSpPr>
          <p:cNvPr id="1092" name="Text Box 10"/>
          <p:cNvSpPr/>
          <p:nvPr/>
        </p:nvSpPr>
        <p:spPr>
          <a:xfrm>
            <a:off x="6531120" y="2043000"/>
            <a:ext cx="4670280" cy="983160"/>
          </a:xfrm>
          <a:prstGeom prst="rect">
            <a:avLst/>
          </a:prstGeom>
          <a:noFill/>
          <a:ln w="0">
            <a:noFill/>
          </a:ln>
        </p:spPr>
        <p:style>
          <a:lnRef idx="0"/>
          <a:fillRef idx="0"/>
          <a:effectRef idx="0"/>
          <a:fontRef idx="minor"/>
        </p:style>
        <p:txBody>
          <a:bodyPr lIns="34200" rIns="34200" tIns="17280" bIns="17280" anchor="t">
            <a:spAutoFit/>
          </a:bodyPr>
          <a:p>
            <a:pPr>
              <a:lnSpc>
                <a:spcPct val="13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600" spc="-1" strike="noStrike">
                <a:solidFill>
                  <a:srgbClr val="4d4d4d"/>
                </a:solidFill>
                <a:latin typeface="Lifeline JL"/>
                <a:ea typeface="微软雅黑"/>
              </a:rPr>
              <a:t>单击此处添加标题</a:t>
            </a:r>
            <a:endParaRPr b="0" lang="en-US" sz="1600" spc="-1" strike="noStrike">
              <a:solidFill>
                <a:srgbClr val="54a0d8"/>
              </a:solidFill>
              <a:latin typeface="Arial"/>
            </a:endParaRPr>
          </a:p>
          <a:p>
            <a:pPr>
              <a:lnSpc>
                <a:spcPct val="13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zh-CN" sz="1600" spc="-1" strike="noStrike">
                <a:solidFill>
                  <a:srgbClr val="4d4d4d"/>
                </a:solidFill>
                <a:latin typeface="Lifeline JL"/>
                <a:ea typeface="微软雅黑"/>
              </a:rPr>
              <a:t>您的内容打在这里，或者通过复制您的文本后，在此框中选择粘贴，并选择只保留文字。</a:t>
            </a:r>
            <a:endParaRPr b="0" lang="en-US" sz="1600" spc="-1" strike="noStrike">
              <a:solidFill>
                <a:srgbClr val="54a0d8"/>
              </a:solidFill>
              <a:latin typeface="Arial"/>
            </a:endParaRPr>
          </a:p>
        </p:txBody>
      </p:sp>
      <p:sp>
        <p:nvSpPr>
          <p:cNvPr id="1093" name="Text Box 10"/>
          <p:cNvSpPr/>
          <p:nvPr/>
        </p:nvSpPr>
        <p:spPr>
          <a:xfrm>
            <a:off x="1417680" y="2043000"/>
            <a:ext cx="4046400" cy="983160"/>
          </a:xfrm>
          <a:prstGeom prst="rect">
            <a:avLst/>
          </a:prstGeom>
          <a:noFill/>
          <a:ln w="0">
            <a:noFill/>
          </a:ln>
        </p:spPr>
        <p:style>
          <a:lnRef idx="0"/>
          <a:fillRef idx="0"/>
          <a:effectRef idx="0"/>
          <a:fontRef idx="minor"/>
        </p:style>
        <p:txBody>
          <a:bodyPr lIns="34200" rIns="34200" tIns="17280" bIns="17280" anchor="t">
            <a:spAutoFit/>
          </a:bodyPr>
          <a:p>
            <a:pPr algn="r">
              <a:lnSpc>
                <a:spcPct val="13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zh-CN" sz="1600" spc="-1" strike="noStrike">
                <a:solidFill>
                  <a:srgbClr val="4d4d4d"/>
                </a:solidFill>
                <a:latin typeface="Lifeline JL"/>
                <a:ea typeface="微软雅黑"/>
              </a:rPr>
              <a:t>单击此处添加标题</a:t>
            </a:r>
            <a:endParaRPr b="0" lang="en-US" sz="1600" spc="-1" strike="noStrike">
              <a:solidFill>
                <a:srgbClr val="54a0d8"/>
              </a:solidFill>
              <a:latin typeface="Arial"/>
            </a:endParaRPr>
          </a:p>
          <a:p>
            <a:pPr algn="r">
              <a:lnSpc>
                <a:spcPct val="13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zh-CN" sz="1600" spc="-1" strike="noStrike">
                <a:solidFill>
                  <a:srgbClr val="4d4d4d"/>
                </a:solidFill>
                <a:latin typeface="Lifeline JL"/>
                <a:ea typeface="微软雅黑"/>
              </a:rPr>
              <a:t>您的内容打在这里，或者通过复制您的文本后，在此框中选择粘贴，并选择只保留文字。</a:t>
            </a:r>
            <a:endParaRPr b="0" lang="en-US" sz="1600" spc="-1" strike="noStrike">
              <a:solidFill>
                <a:srgbClr val="54a0d8"/>
              </a:solidFill>
              <a:latin typeface="Arial"/>
            </a:endParaRPr>
          </a:p>
        </p:txBody>
      </p:sp>
      <p:sp>
        <p:nvSpPr>
          <p:cNvPr id="1094"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3.2 </a:t>
            </a:r>
            <a:r>
              <a:rPr b="0" lang="zh-CN" sz="2800" spc="-1" strike="noStrike">
                <a:solidFill>
                  <a:srgbClr val="4d4d4d"/>
                </a:solidFill>
                <a:latin typeface="微软雅黑"/>
                <a:ea typeface="微软雅黑"/>
              </a:rPr>
              <a:t>案例对比分析</a:t>
            </a:r>
            <a:endParaRPr b="0" lang="en-US" sz="2800" spc="-1" strike="noStrike">
              <a:solidFill>
                <a:srgbClr val="54a0d8"/>
              </a:solidFill>
              <a:latin typeface="Arial"/>
            </a:endParaRPr>
          </a:p>
        </p:txBody>
      </p:sp>
      <p:sp>
        <p:nvSpPr>
          <p:cNvPr id="1095"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096" name="直接连接符 49"/>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7" name="TextBox 12"/>
          <p:cNvSpPr/>
          <p:nvPr/>
        </p:nvSpPr>
        <p:spPr>
          <a:xfrm>
            <a:off x="1995480" y="3119400"/>
            <a:ext cx="8207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d4d4d"/>
                </a:solidFill>
                <a:latin typeface="微软雅黑"/>
                <a:ea typeface="微软雅黑"/>
              </a:rPr>
              <a:t>研究成果与应用前景</a:t>
            </a:r>
            <a:endParaRPr b="0" lang="en-US" sz="6600" spc="-1" strike="noStrike">
              <a:solidFill>
                <a:srgbClr val="54a0d8"/>
              </a:solidFill>
              <a:latin typeface="Arial"/>
            </a:endParaRPr>
          </a:p>
        </p:txBody>
      </p:sp>
      <p:sp>
        <p:nvSpPr>
          <p:cNvPr id="1098" name="文本框 42"/>
          <p:cNvSpPr/>
          <p:nvPr/>
        </p:nvSpPr>
        <p:spPr>
          <a:xfrm>
            <a:off x="5506920" y="276552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微软雅黑"/>
                <a:ea typeface="微软雅黑"/>
              </a:rPr>
              <a:t>Part 4</a:t>
            </a:r>
            <a:endParaRPr b="0" lang="en-US" sz="2000" spc="-1" strike="noStrike">
              <a:solidFill>
                <a:srgbClr val="54a0d8"/>
              </a:solidFill>
              <a:latin typeface="Arial"/>
            </a:endParaRPr>
          </a:p>
        </p:txBody>
      </p:sp>
      <p:sp>
        <p:nvSpPr>
          <p:cNvPr id="1099" name="Line 5"/>
          <p:cNvSpPr/>
          <p:nvPr/>
        </p:nvSpPr>
        <p:spPr>
          <a:xfrm flipH="1">
            <a:off x="1850760" y="4218120"/>
            <a:ext cx="8496360" cy="0"/>
          </a:xfrm>
          <a:prstGeom prst="line">
            <a:avLst/>
          </a:prstGeom>
          <a:ln w="12600">
            <a:solidFill>
              <a:srgbClr val="b8b8b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pic>
        <p:nvPicPr>
          <p:cNvPr id="1100" name="图片 1" descr=""/>
          <p:cNvPicPr/>
          <p:nvPr/>
        </p:nvPicPr>
        <p:blipFill>
          <a:blip r:embed="rId2"/>
          <a:stretch/>
        </p:blipFill>
        <p:spPr>
          <a:xfrm>
            <a:off x="4514760" y="839880"/>
            <a:ext cx="3040200" cy="1947600"/>
          </a:xfrm>
          <a:prstGeom prst="rect">
            <a:avLst/>
          </a:prstGeom>
          <a:ln w="0">
            <a:noFill/>
          </a:ln>
        </p:spPr>
      </p:pic>
      <p:sp>
        <p:nvSpPr>
          <p:cNvPr id="1101" name="Freeform 24"/>
          <p:cNvSpPr/>
          <p:nvPr/>
        </p:nvSpPr>
        <p:spPr>
          <a:xfrm>
            <a:off x="5784840" y="1446120"/>
            <a:ext cx="747720" cy="708120"/>
          </a:xfrm>
          <a:custGeom>
            <a:avLst/>
            <a:gdLst>
              <a:gd name="textAreaLeft" fmla="*/ 0 w 747720"/>
              <a:gd name="textAreaRight" fmla="*/ 748080 w 747720"/>
              <a:gd name="textAreaTop" fmla="*/ 0 h 708120"/>
              <a:gd name="textAreaBottom" fmla="*/ 708480 h 708120"/>
            </a:gdLst>
            <a:ahLst/>
            <a:rect l="textAreaLeft" t="textAreaTop" r="textAreaRight" b="textAreaBottom"/>
            <a:pathLst>
              <a:path w="532" h="526">
                <a:moveTo>
                  <a:pt x="453" y="426"/>
                </a:moveTo>
                <a:cubicBezTo>
                  <a:pt x="469" y="426"/>
                  <a:pt x="481" y="438"/>
                  <a:pt x="481" y="453"/>
                </a:cubicBezTo>
                <a:cubicBezTo>
                  <a:pt x="481" y="468"/>
                  <a:pt x="469" y="481"/>
                  <a:pt x="453" y="481"/>
                </a:cubicBezTo>
                <a:cubicBezTo>
                  <a:pt x="438" y="481"/>
                  <a:pt x="426" y="468"/>
                  <a:pt x="426" y="453"/>
                </a:cubicBezTo>
                <a:cubicBezTo>
                  <a:pt x="426" y="438"/>
                  <a:pt x="438" y="426"/>
                  <a:pt x="453" y="426"/>
                </a:cubicBezTo>
                <a:close/>
                <a:moveTo>
                  <a:pt x="513" y="51"/>
                </a:moveTo>
                <a:lnTo>
                  <a:pt x="476" y="14"/>
                </a:lnTo>
                <a:cubicBezTo>
                  <a:pt x="467" y="5"/>
                  <a:pt x="454" y="0"/>
                  <a:pt x="441" y="0"/>
                </a:cubicBezTo>
                <a:cubicBezTo>
                  <a:pt x="428" y="0"/>
                  <a:pt x="416" y="5"/>
                  <a:pt x="406" y="14"/>
                </a:cubicBezTo>
                <a:lnTo>
                  <a:pt x="250" y="170"/>
                </a:lnTo>
                <a:cubicBezTo>
                  <a:pt x="255" y="180"/>
                  <a:pt x="251" y="194"/>
                  <a:pt x="244" y="201"/>
                </a:cubicBezTo>
                <a:cubicBezTo>
                  <a:pt x="239" y="206"/>
                  <a:pt x="230" y="209"/>
                  <a:pt x="223" y="209"/>
                </a:cubicBezTo>
                <a:cubicBezTo>
                  <a:pt x="219" y="209"/>
                  <a:pt x="216" y="209"/>
                  <a:pt x="213" y="207"/>
                </a:cubicBezTo>
                <a:lnTo>
                  <a:pt x="199" y="221"/>
                </a:lnTo>
                <a:cubicBezTo>
                  <a:pt x="180" y="240"/>
                  <a:pt x="180" y="272"/>
                  <a:pt x="199" y="291"/>
                </a:cubicBezTo>
                <a:lnTo>
                  <a:pt x="202" y="294"/>
                </a:lnTo>
                <a:lnTo>
                  <a:pt x="80" y="416"/>
                </a:lnTo>
                <a:lnTo>
                  <a:pt x="48" y="428"/>
                </a:lnTo>
                <a:lnTo>
                  <a:pt x="0" y="495"/>
                </a:lnTo>
                <a:lnTo>
                  <a:pt x="31" y="526"/>
                </a:lnTo>
                <a:lnTo>
                  <a:pt x="98" y="479"/>
                </a:lnTo>
                <a:lnTo>
                  <a:pt x="110" y="446"/>
                </a:lnTo>
                <a:lnTo>
                  <a:pt x="232" y="324"/>
                </a:lnTo>
                <a:lnTo>
                  <a:pt x="236" y="328"/>
                </a:lnTo>
                <a:cubicBezTo>
                  <a:pt x="246" y="337"/>
                  <a:pt x="258" y="342"/>
                  <a:pt x="271" y="342"/>
                </a:cubicBezTo>
                <a:cubicBezTo>
                  <a:pt x="284" y="342"/>
                  <a:pt x="296" y="337"/>
                  <a:pt x="306" y="328"/>
                </a:cubicBezTo>
                <a:lnTo>
                  <a:pt x="320" y="314"/>
                </a:lnTo>
                <a:cubicBezTo>
                  <a:pt x="315" y="305"/>
                  <a:pt x="319" y="291"/>
                  <a:pt x="326" y="283"/>
                </a:cubicBezTo>
                <a:cubicBezTo>
                  <a:pt x="331" y="278"/>
                  <a:pt x="339" y="275"/>
                  <a:pt x="347" y="275"/>
                </a:cubicBezTo>
                <a:cubicBezTo>
                  <a:pt x="351" y="275"/>
                  <a:pt x="354" y="276"/>
                  <a:pt x="357" y="277"/>
                </a:cubicBezTo>
                <a:lnTo>
                  <a:pt x="513" y="121"/>
                </a:lnTo>
                <a:cubicBezTo>
                  <a:pt x="532" y="102"/>
                  <a:pt x="532" y="70"/>
                  <a:pt x="513" y="51"/>
                </a:cubicBezTo>
                <a:close/>
                <a:moveTo>
                  <a:pt x="192" y="187"/>
                </a:moveTo>
                <a:lnTo>
                  <a:pt x="207" y="171"/>
                </a:lnTo>
                <a:lnTo>
                  <a:pt x="221" y="179"/>
                </a:lnTo>
                <a:lnTo>
                  <a:pt x="214" y="165"/>
                </a:lnTo>
                <a:lnTo>
                  <a:pt x="229" y="150"/>
                </a:lnTo>
                <a:lnTo>
                  <a:pt x="231" y="148"/>
                </a:lnTo>
                <a:cubicBezTo>
                  <a:pt x="234" y="139"/>
                  <a:pt x="236" y="131"/>
                  <a:pt x="236" y="123"/>
                </a:cubicBezTo>
                <a:cubicBezTo>
                  <a:pt x="236" y="60"/>
                  <a:pt x="176" y="0"/>
                  <a:pt x="114" y="0"/>
                </a:cubicBezTo>
                <a:cubicBezTo>
                  <a:pt x="114" y="0"/>
                  <a:pt x="106" y="8"/>
                  <a:pt x="103" y="11"/>
                </a:cubicBezTo>
                <a:cubicBezTo>
                  <a:pt x="153" y="61"/>
                  <a:pt x="149" y="53"/>
                  <a:pt x="149" y="84"/>
                </a:cubicBezTo>
                <a:cubicBezTo>
                  <a:pt x="149" y="109"/>
                  <a:pt x="109" y="148"/>
                  <a:pt x="84" y="148"/>
                </a:cubicBezTo>
                <a:cubicBezTo>
                  <a:pt x="53" y="148"/>
                  <a:pt x="63" y="154"/>
                  <a:pt x="12" y="102"/>
                </a:cubicBezTo>
                <a:cubicBezTo>
                  <a:pt x="8" y="106"/>
                  <a:pt x="0" y="113"/>
                  <a:pt x="0" y="114"/>
                </a:cubicBezTo>
                <a:cubicBezTo>
                  <a:pt x="1" y="176"/>
                  <a:pt x="60" y="236"/>
                  <a:pt x="123" y="236"/>
                </a:cubicBezTo>
                <a:cubicBezTo>
                  <a:pt x="134" y="236"/>
                  <a:pt x="146" y="232"/>
                  <a:pt x="158" y="226"/>
                </a:cubicBezTo>
                <a:lnTo>
                  <a:pt x="160" y="229"/>
                </a:lnTo>
                <a:cubicBezTo>
                  <a:pt x="164" y="218"/>
                  <a:pt x="170" y="209"/>
                  <a:pt x="179" y="200"/>
                </a:cubicBezTo>
                <a:lnTo>
                  <a:pt x="192" y="187"/>
                </a:lnTo>
                <a:close/>
                <a:moveTo>
                  <a:pt x="348" y="306"/>
                </a:moveTo>
                <a:lnTo>
                  <a:pt x="355" y="320"/>
                </a:lnTo>
                <a:lnTo>
                  <a:pt x="341" y="335"/>
                </a:lnTo>
                <a:lnTo>
                  <a:pt x="327" y="348"/>
                </a:lnTo>
                <a:cubicBezTo>
                  <a:pt x="319" y="357"/>
                  <a:pt x="309" y="363"/>
                  <a:pt x="298" y="367"/>
                </a:cubicBezTo>
                <a:lnTo>
                  <a:pt x="392" y="460"/>
                </a:lnTo>
                <a:lnTo>
                  <a:pt x="436" y="519"/>
                </a:lnTo>
                <a:lnTo>
                  <a:pt x="460" y="526"/>
                </a:lnTo>
                <a:lnTo>
                  <a:pt x="525" y="460"/>
                </a:lnTo>
                <a:lnTo>
                  <a:pt x="518" y="436"/>
                </a:lnTo>
                <a:lnTo>
                  <a:pt x="460" y="392"/>
                </a:lnTo>
                <a:lnTo>
                  <a:pt x="371" y="304"/>
                </a:lnTo>
                <a:lnTo>
                  <a:pt x="363" y="313"/>
                </a:lnTo>
                <a:lnTo>
                  <a:pt x="348" y="30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02" name="Freeform 21"/>
          <p:cNvSpPr/>
          <p:nvPr/>
        </p:nvSpPr>
        <p:spPr>
          <a:xfrm>
            <a:off x="3040200" y="4630680"/>
            <a:ext cx="266400" cy="268200"/>
          </a:xfrm>
          <a:custGeom>
            <a:avLst/>
            <a:gdLst>
              <a:gd name="textAreaLeft" fmla="*/ 0 w 266400"/>
              <a:gd name="textAreaRight" fmla="*/ 266760 w 26640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03" name="TextBox 28"/>
          <p:cNvSpPr/>
          <p:nvPr/>
        </p:nvSpPr>
        <p:spPr>
          <a:xfrm>
            <a:off x="3335400" y="4579920"/>
            <a:ext cx="19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研究最终目标</a:t>
            </a:r>
            <a:endParaRPr b="0" lang="en-US" sz="1800" spc="-1" strike="noStrike">
              <a:solidFill>
                <a:srgbClr val="54a0d8"/>
              </a:solidFill>
              <a:latin typeface="Arial"/>
            </a:endParaRPr>
          </a:p>
        </p:txBody>
      </p:sp>
      <p:sp>
        <p:nvSpPr>
          <p:cNvPr id="1104" name="Freeform 21"/>
          <p:cNvSpPr/>
          <p:nvPr/>
        </p:nvSpPr>
        <p:spPr>
          <a:xfrm>
            <a:off x="7493040" y="463068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05" name="TextBox 44"/>
          <p:cNvSpPr/>
          <p:nvPr/>
        </p:nvSpPr>
        <p:spPr>
          <a:xfrm>
            <a:off x="7788240" y="4579920"/>
            <a:ext cx="162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成果形式</a:t>
            </a:r>
            <a:endParaRPr b="0" lang="en-US" sz="1800" spc="-1" strike="noStrike">
              <a:solidFill>
                <a:srgbClr val="54a0d8"/>
              </a:solidFill>
              <a:latin typeface="Arial"/>
            </a:endParaRPr>
          </a:p>
        </p:txBody>
      </p:sp>
      <p:sp>
        <p:nvSpPr>
          <p:cNvPr id="1106" name="Freeform 21"/>
          <p:cNvSpPr/>
          <p:nvPr/>
        </p:nvSpPr>
        <p:spPr>
          <a:xfrm>
            <a:off x="5522760" y="463068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07" name="TextBox 46"/>
          <p:cNvSpPr/>
          <p:nvPr/>
        </p:nvSpPr>
        <p:spPr>
          <a:xfrm>
            <a:off x="5818320" y="4579920"/>
            <a:ext cx="149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应用前景</a:t>
            </a:r>
            <a:endParaRPr b="0" lang="en-US" sz="1800" spc="-1" strike="noStrike">
              <a:solidFill>
                <a:srgbClr val="54a0d8"/>
              </a:solidFill>
              <a:latin typeface="Arial"/>
            </a:endParaRPr>
          </a:p>
        </p:txBody>
      </p:sp>
    </p:spTree>
  </p:cSld>
  <p:transition spd="slow" advTm="10000">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椭圆 23"/>
          <p:cNvSpPr/>
          <p:nvPr/>
        </p:nvSpPr>
        <p:spPr>
          <a:xfrm>
            <a:off x="2506680" y="2546280"/>
            <a:ext cx="6991200" cy="2156040"/>
          </a:xfrm>
          <a:prstGeom prst="ellipse">
            <a:avLst/>
          </a:prstGeom>
          <a:noFill/>
          <a:ln w="9360">
            <a:solidFill>
              <a:srgbClr val="7f7f7f"/>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109" name="Freeform 6"/>
          <p:cNvSpPr/>
          <p:nvPr/>
        </p:nvSpPr>
        <p:spPr>
          <a:xfrm>
            <a:off x="3726000" y="2906640"/>
            <a:ext cx="4541760" cy="1400400"/>
          </a:xfrm>
          <a:custGeom>
            <a:avLst/>
            <a:gdLst/>
            <a:ahLst/>
            <a:rect l="l" t="t" r="r" b="b"/>
            <a:pathLst>
              <a:path w="3043" h="935">
                <a:moveTo>
                  <a:pt x="541" y="166"/>
                </a:moveTo>
                <a:cubicBezTo>
                  <a:pt x="1082" y="0"/>
                  <a:pt x="1960" y="0"/>
                  <a:pt x="2502" y="166"/>
                </a:cubicBezTo>
                <a:cubicBezTo>
                  <a:pt x="3043" y="333"/>
                  <a:pt x="3043" y="603"/>
                  <a:pt x="2502" y="769"/>
                </a:cubicBezTo>
                <a:cubicBezTo>
                  <a:pt x="1960" y="935"/>
                  <a:pt x="1082" y="935"/>
                  <a:pt x="541" y="769"/>
                </a:cubicBezTo>
                <a:cubicBezTo>
                  <a:pt x="0" y="603"/>
                  <a:pt x="0" y="333"/>
                  <a:pt x="541" y="166"/>
                </a:cubicBezTo>
                <a:close/>
              </a:path>
            </a:pathLst>
          </a:custGeom>
          <a:solidFill>
            <a:srgbClr val="dbdbdb">
              <a:alpha val="70000"/>
            </a:srgbClr>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10" name="TextBox 52"/>
          <p:cNvSpPr/>
          <p:nvPr/>
        </p:nvSpPr>
        <p:spPr>
          <a:xfrm>
            <a:off x="1787400" y="1536840"/>
            <a:ext cx="1533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分支目标一</a:t>
            </a:r>
            <a:endParaRPr b="0" lang="en-US" sz="2000" spc="-1" strike="noStrike">
              <a:solidFill>
                <a:srgbClr val="54a0d8"/>
              </a:solidFill>
              <a:latin typeface="Arial"/>
            </a:endParaRPr>
          </a:p>
        </p:txBody>
      </p:sp>
      <p:sp>
        <p:nvSpPr>
          <p:cNvPr id="1111" name="TextBox 53"/>
          <p:cNvSpPr/>
          <p:nvPr/>
        </p:nvSpPr>
        <p:spPr>
          <a:xfrm>
            <a:off x="1066680" y="1852560"/>
            <a:ext cx="21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理清理论上的逻辑关系，克服关键技术难点。</a:t>
            </a:r>
            <a:endParaRPr b="0" lang="en-US" sz="1600" spc="-1" strike="noStrike">
              <a:solidFill>
                <a:srgbClr val="54a0d8"/>
              </a:solidFill>
              <a:latin typeface="Arial"/>
            </a:endParaRPr>
          </a:p>
        </p:txBody>
      </p:sp>
      <p:sp>
        <p:nvSpPr>
          <p:cNvPr id="1112" name="TextBox 54"/>
          <p:cNvSpPr/>
          <p:nvPr/>
        </p:nvSpPr>
        <p:spPr>
          <a:xfrm>
            <a:off x="8937720" y="1484280"/>
            <a:ext cx="1476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分支目标二</a:t>
            </a:r>
            <a:endParaRPr b="0" lang="en-US" sz="2000" spc="-1" strike="noStrike">
              <a:solidFill>
                <a:srgbClr val="54a0d8"/>
              </a:solidFill>
              <a:latin typeface="Arial"/>
            </a:endParaRPr>
          </a:p>
        </p:txBody>
      </p:sp>
      <p:sp>
        <p:nvSpPr>
          <p:cNvPr id="1113" name="TextBox 55"/>
          <p:cNvSpPr/>
          <p:nvPr/>
        </p:nvSpPr>
        <p:spPr>
          <a:xfrm>
            <a:off x="8972640" y="1784520"/>
            <a:ext cx="215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rPr>
              <a:t>完成论文设计方案并通过评审。</a:t>
            </a:r>
            <a:endParaRPr b="0" lang="en-US" sz="1600" spc="-1" strike="noStrike">
              <a:solidFill>
                <a:srgbClr val="54a0d8"/>
              </a:solidFill>
              <a:latin typeface="Arial"/>
            </a:endParaRPr>
          </a:p>
        </p:txBody>
      </p:sp>
      <p:sp>
        <p:nvSpPr>
          <p:cNvPr id="1114" name="TextBox 56"/>
          <p:cNvSpPr/>
          <p:nvPr/>
        </p:nvSpPr>
        <p:spPr>
          <a:xfrm>
            <a:off x="1787400" y="4589640"/>
            <a:ext cx="15987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分支目标三</a:t>
            </a:r>
            <a:endParaRPr b="0" lang="en-US" sz="2000" spc="-1" strike="noStrike">
              <a:solidFill>
                <a:srgbClr val="54a0d8"/>
              </a:solidFill>
              <a:latin typeface="Arial"/>
            </a:endParaRPr>
          </a:p>
        </p:txBody>
      </p:sp>
      <p:sp>
        <p:nvSpPr>
          <p:cNvPr id="1115" name="TextBox 57"/>
          <p:cNvSpPr/>
          <p:nvPr/>
        </p:nvSpPr>
        <p:spPr>
          <a:xfrm>
            <a:off x="1108080" y="4983120"/>
            <a:ext cx="29005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设计出工程样品，实现</a:t>
            </a:r>
            <a:r>
              <a:rPr b="0" lang="en-US" sz="1600" spc="-1" strike="noStrike">
                <a:solidFill>
                  <a:srgbClr val="4d4d4d"/>
                </a:solidFill>
                <a:latin typeface="微软雅黑"/>
                <a:ea typeface="微软雅黑"/>
              </a:rPr>
              <a:t>80%</a:t>
            </a:r>
            <a:r>
              <a:rPr b="0" lang="zh-CN" sz="1600" spc="-1" strike="noStrike">
                <a:solidFill>
                  <a:srgbClr val="4d4d4d"/>
                </a:solidFill>
                <a:latin typeface="微软雅黑"/>
                <a:ea typeface="微软雅黑"/>
              </a:rPr>
              <a:t>功能的设计功能。</a:t>
            </a:r>
            <a:endParaRPr b="0" lang="en-US" sz="1600" spc="-1" strike="noStrike">
              <a:solidFill>
                <a:srgbClr val="54a0d8"/>
              </a:solidFill>
              <a:latin typeface="Arial"/>
            </a:endParaRPr>
          </a:p>
        </p:txBody>
      </p:sp>
      <p:sp>
        <p:nvSpPr>
          <p:cNvPr id="1116" name="TextBox 61"/>
          <p:cNvSpPr/>
          <p:nvPr/>
        </p:nvSpPr>
        <p:spPr>
          <a:xfrm>
            <a:off x="9083520" y="4591080"/>
            <a:ext cx="1460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分支目标四</a:t>
            </a:r>
            <a:endParaRPr b="0" lang="en-US" sz="2000" spc="-1" strike="noStrike">
              <a:solidFill>
                <a:srgbClr val="54a0d8"/>
              </a:solidFill>
              <a:latin typeface="Arial"/>
            </a:endParaRPr>
          </a:p>
        </p:txBody>
      </p:sp>
      <p:sp>
        <p:nvSpPr>
          <p:cNvPr id="1117" name="TextBox 62"/>
          <p:cNvSpPr/>
          <p:nvPr/>
        </p:nvSpPr>
        <p:spPr>
          <a:xfrm>
            <a:off x="8267760" y="4965840"/>
            <a:ext cx="286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设计出工程样品，实现</a:t>
            </a:r>
            <a:r>
              <a:rPr b="0" lang="en-US" sz="1600" spc="-1" strike="noStrike">
                <a:solidFill>
                  <a:srgbClr val="4d4d4d"/>
                </a:solidFill>
                <a:latin typeface="微软雅黑"/>
                <a:ea typeface="微软雅黑"/>
              </a:rPr>
              <a:t>80%</a:t>
            </a:r>
            <a:r>
              <a:rPr b="0" lang="zh-CN" sz="1600" spc="-1" strike="noStrike">
                <a:solidFill>
                  <a:srgbClr val="4d4d4d"/>
                </a:solidFill>
                <a:latin typeface="微软雅黑"/>
                <a:ea typeface="微软雅黑"/>
              </a:rPr>
              <a:t>功能的设计功能。</a:t>
            </a:r>
            <a:endParaRPr b="0" lang="en-US" sz="1600" spc="-1" strike="noStrike">
              <a:solidFill>
                <a:srgbClr val="54a0d8"/>
              </a:solidFill>
              <a:latin typeface="Arial"/>
            </a:endParaRPr>
          </a:p>
        </p:txBody>
      </p:sp>
      <p:sp>
        <p:nvSpPr>
          <p:cNvPr id="1118" name="Freeform 6"/>
          <p:cNvSpPr/>
          <p:nvPr/>
        </p:nvSpPr>
        <p:spPr>
          <a:xfrm>
            <a:off x="5072040" y="3332160"/>
            <a:ext cx="1881360" cy="581040"/>
          </a:xfrm>
          <a:custGeom>
            <a:avLst/>
            <a:gdLst>
              <a:gd name="textAreaLeft" fmla="*/ 0 w 1881360"/>
              <a:gd name="textAreaRight" fmla="*/ 1881720 w 1881360"/>
              <a:gd name="textAreaTop" fmla="*/ 0 h 581040"/>
              <a:gd name="textAreaBottom" fmla="*/ 581400 h 581040"/>
            </a:gdLst>
            <a:ahLst/>
            <a:rect l="textAreaLeft" t="textAreaTop" r="textAreaRight" b="textAreaBottom"/>
            <a:pathLst>
              <a:path w="3043" h="935">
                <a:moveTo>
                  <a:pt x="541" y="166"/>
                </a:moveTo>
                <a:cubicBezTo>
                  <a:pt x="1082" y="0"/>
                  <a:pt x="1960" y="0"/>
                  <a:pt x="2502" y="166"/>
                </a:cubicBezTo>
                <a:cubicBezTo>
                  <a:pt x="3043" y="333"/>
                  <a:pt x="3043" y="603"/>
                  <a:pt x="2502" y="769"/>
                </a:cubicBezTo>
                <a:cubicBezTo>
                  <a:pt x="1960" y="935"/>
                  <a:pt x="1082" y="935"/>
                  <a:pt x="541" y="769"/>
                </a:cubicBezTo>
                <a:cubicBezTo>
                  <a:pt x="0" y="603"/>
                  <a:pt x="0" y="333"/>
                  <a:pt x="541" y="166"/>
                </a:cubicBezTo>
                <a:close/>
              </a:path>
            </a:pathLst>
          </a:custGeom>
          <a:solidFill>
            <a:srgbClr val="999999">
              <a:alpha val="50000"/>
            </a:srgbClr>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19" name="Freeform 7"/>
          <p:cNvSpPr/>
          <p:nvPr/>
        </p:nvSpPr>
        <p:spPr>
          <a:xfrm>
            <a:off x="3089160" y="2720880"/>
            <a:ext cx="919440" cy="284400"/>
          </a:xfrm>
          <a:custGeom>
            <a:avLst/>
            <a:gdLst>
              <a:gd name="textAreaLeft" fmla="*/ 0 w 919440"/>
              <a:gd name="textAreaRight" fmla="*/ 919800 w 919440"/>
              <a:gd name="textAreaTop" fmla="*/ 0 h 284400"/>
              <a:gd name="textAreaBottom" fmla="*/ 284760 h 284400"/>
            </a:gdLst>
            <a:ahLst/>
            <a:rect l="textAreaLeft" t="textAreaTop" r="textAreaRight" b="textAreaBottom"/>
            <a:pathLst>
              <a:path w="1301" h="400">
                <a:moveTo>
                  <a:pt x="232" y="71"/>
                </a:moveTo>
                <a:cubicBezTo>
                  <a:pt x="463" y="0"/>
                  <a:pt x="838" y="0"/>
                  <a:pt x="1070" y="71"/>
                </a:cubicBezTo>
                <a:cubicBezTo>
                  <a:pt x="1301" y="142"/>
                  <a:pt x="1301" y="258"/>
                  <a:pt x="1070" y="329"/>
                </a:cubicBezTo>
                <a:cubicBezTo>
                  <a:pt x="838" y="400"/>
                  <a:pt x="463" y="400"/>
                  <a:pt x="232" y="329"/>
                </a:cubicBezTo>
                <a:cubicBezTo>
                  <a:pt x="0" y="258"/>
                  <a:pt x="0" y="142"/>
                  <a:pt x="232" y="71"/>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20" name="Freeform 8"/>
          <p:cNvSpPr/>
          <p:nvPr/>
        </p:nvSpPr>
        <p:spPr>
          <a:xfrm>
            <a:off x="3089160" y="4241880"/>
            <a:ext cx="919440" cy="280800"/>
          </a:xfrm>
          <a:custGeom>
            <a:avLst/>
            <a:gdLst>
              <a:gd name="textAreaLeft" fmla="*/ 0 w 919440"/>
              <a:gd name="textAreaRight" fmla="*/ 919800 w 919440"/>
              <a:gd name="textAreaTop" fmla="*/ 0 h 280800"/>
              <a:gd name="textAreaBottom" fmla="*/ 281160 h 280800"/>
            </a:gdLst>
            <a:ahLst/>
            <a:rect l="textAreaLeft" t="textAreaTop" r="textAreaRight" b="textAreaBottom"/>
            <a:pathLst>
              <a:path w="1301" h="399">
                <a:moveTo>
                  <a:pt x="232" y="71"/>
                </a:moveTo>
                <a:cubicBezTo>
                  <a:pt x="463" y="0"/>
                  <a:pt x="838" y="0"/>
                  <a:pt x="1070" y="71"/>
                </a:cubicBezTo>
                <a:cubicBezTo>
                  <a:pt x="1301" y="142"/>
                  <a:pt x="1301" y="257"/>
                  <a:pt x="1070" y="328"/>
                </a:cubicBezTo>
                <a:cubicBezTo>
                  <a:pt x="838" y="399"/>
                  <a:pt x="463" y="399"/>
                  <a:pt x="232" y="328"/>
                </a:cubicBezTo>
                <a:cubicBezTo>
                  <a:pt x="0" y="257"/>
                  <a:pt x="0" y="142"/>
                  <a:pt x="232" y="71"/>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21" name="Freeform 9"/>
          <p:cNvSpPr/>
          <p:nvPr/>
        </p:nvSpPr>
        <p:spPr>
          <a:xfrm>
            <a:off x="8016840" y="4241880"/>
            <a:ext cx="920880" cy="280800"/>
          </a:xfrm>
          <a:custGeom>
            <a:avLst/>
            <a:gdLst>
              <a:gd name="textAreaLeft" fmla="*/ 0 w 920880"/>
              <a:gd name="textAreaRight" fmla="*/ 921240 w 920880"/>
              <a:gd name="textAreaTop" fmla="*/ 0 h 280800"/>
              <a:gd name="textAreaBottom" fmla="*/ 281160 h 280800"/>
            </a:gdLst>
            <a:ahLst/>
            <a:rect l="textAreaLeft" t="textAreaTop" r="textAreaRight" b="textAreaBottom"/>
            <a:pathLst>
              <a:path w="1302" h="399">
                <a:moveTo>
                  <a:pt x="232" y="71"/>
                </a:moveTo>
                <a:cubicBezTo>
                  <a:pt x="463" y="0"/>
                  <a:pt x="839" y="0"/>
                  <a:pt x="1070" y="71"/>
                </a:cubicBezTo>
                <a:cubicBezTo>
                  <a:pt x="1302" y="142"/>
                  <a:pt x="1302" y="257"/>
                  <a:pt x="1070" y="328"/>
                </a:cubicBezTo>
                <a:cubicBezTo>
                  <a:pt x="839" y="399"/>
                  <a:pt x="463" y="399"/>
                  <a:pt x="232" y="328"/>
                </a:cubicBezTo>
                <a:cubicBezTo>
                  <a:pt x="0" y="257"/>
                  <a:pt x="0" y="142"/>
                  <a:pt x="232" y="71"/>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22" name="Freeform 10"/>
          <p:cNvSpPr/>
          <p:nvPr/>
        </p:nvSpPr>
        <p:spPr>
          <a:xfrm>
            <a:off x="8016840" y="2720880"/>
            <a:ext cx="920880" cy="284400"/>
          </a:xfrm>
          <a:custGeom>
            <a:avLst/>
            <a:gdLst>
              <a:gd name="textAreaLeft" fmla="*/ 0 w 920880"/>
              <a:gd name="textAreaRight" fmla="*/ 921240 w 920880"/>
              <a:gd name="textAreaTop" fmla="*/ 0 h 284400"/>
              <a:gd name="textAreaBottom" fmla="*/ 284760 h 284400"/>
            </a:gdLst>
            <a:ahLst/>
            <a:rect l="textAreaLeft" t="textAreaTop" r="textAreaRight" b="textAreaBottom"/>
            <a:pathLst>
              <a:path w="1302" h="400">
                <a:moveTo>
                  <a:pt x="232" y="71"/>
                </a:moveTo>
                <a:cubicBezTo>
                  <a:pt x="463" y="0"/>
                  <a:pt x="839" y="0"/>
                  <a:pt x="1070" y="71"/>
                </a:cubicBezTo>
                <a:cubicBezTo>
                  <a:pt x="1302" y="142"/>
                  <a:pt x="1302" y="258"/>
                  <a:pt x="1070" y="329"/>
                </a:cubicBezTo>
                <a:cubicBezTo>
                  <a:pt x="839" y="400"/>
                  <a:pt x="463" y="400"/>
                  <a:pt x="232" y="329"/>
                </a:cubicBezTo>
                <a:cubicBezTo>
                  <a:pt x="0" y="258"/>
                  <a:pt x="0" y="142"/>
                  <a:pt x="232" y="71"/>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23" name="Line 11"/>
          <p:cNvSpPr/>
          <p:nvPr/>
        </p:nvSpPr>
        <p:spPr>
          <a:xfrm flipH="1">
            <a:off x="3892320" y="3862440"/>
            <a:ext cx="1346040" cy="414360"/>
          </a:xfrm>
          <a:prstGeom prst="line">
            <a:avLst/>
          </a:prstGeom>
          <a:ln w="9360">
            <a:solidFill>
              <a:srgbClr val="7f7f7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124" name="Line 12"/>
          <p:cNvSpPr/>
          <p:nvPr/>
        </p:nvSpPr>
        <p:spPr>
          <a:xfrm flipH="1">
            <a:off x="6814800" y="2975040"/>
            <a:ext cx="1298520" cy="399960"/>
          </a:xfrm>
          <a:prstGeom prst="line">
            <a:avLst/>
          </a:prstGeom>
          <a:ln w="9360">
            <a:solidFill>
              <a:srgbClr val="7f7f7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125" name="Line 13"/>
          <p:cNvSpPr/>
          <p:nvPr/>
        </p:nvSpPr>
        <p:spPr>
          <a:xfrm flipH="1" flipV="1">
            <a:off x="3892320" y="2974680"/>
            <a:ext cx="1346040" cy="415800"/>
          </a:xfrm>
          <a:prstGeom prst="line">
            <a:avLst/>
          </a:prstGeom>
          <a:ln w="9360">
            <a:solidFill>
              <a:srgbClr val="7f7f7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126" name="Line 14"/>
          <p:cNvSpPr/>
          <p:nvPr/>
        </p:nvSpPr>
        <p:spPr>
          <a:xfrm flipH="1" flipV="1">
            <a:off x="6814800" y="3876480"/>
            <a:ext cx="1298520" cy="399960"/>
          </a:xfrm>
          <a:prstGeom prst="line">
            <a:avLst/>
          </a:prstGeom>
          <a:ln w="9360">
            <a:solidFill>
              <a:srgbClr val="7f7f7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pic>
        <p:nvPicPr>
          <p:cNvPr id="1127" name="组合 43" descr=""/>
          <p:cNvPicPr/>
          <p:nvPr/>
        </p:nvPicPr>
        <p:blipFill>
          <a:blip r:embed="rId1"/>
          <a:stretch/>
        </p:blipFill>
        <p:spPr>
          <a:xfrm>
            <a:off x="5254560" y="1944720"/>
            <a:ext cx="2109960" cy="1762200"/>
          </a:xfrm>
          <a:prstGeom prst="rect">
            <a:avLst/>
          </a:prstGeom>
          <a:ln w="0">
            <a:noFill/>
          </a:ln>
        </p:spPr>
      </p:pic>
      <p:pic>
        <p:nvPicPr>
          <p:cNvPr id="1128" name="组合 46" descr=""/>
          <p:cNvPicPr/>
          <p:nvPr/>
        </p:nvPicPr>
        <p:blipFill>
          <a:blip r:embed="rId2"/>
          <a:stretch/>
        </p:blipFill>
        <p:spPr>
          <a:xfrm>
            <a:off x="2901960" y="1816200"/>
            <a:ext cx="1011240" cy="1139760"/>
          </a:xfrm>
          <a:prstGeom prst="rect">
            <a:avLst/>
          </a:prstGeom>
          <a:ln w="0">
            <a:noFill/>
          </a:ln>
        </p:spPr>
      </p:pic>
      <p:sp>
        <p:nvSpPr>
          <p:cNvPr id="1129" name="矩形 49"/>
          <p:cNvSpPr/>
          <p:nvPr/>
        </p:nvSpPr>
        <p:spPr>
          <a:xfrm>
            <a:off x="6146640" y="2022480"/>
            <a:ext cx="773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四个意义</a:t>
            </a:r>
            <a:endParaRPr b="0" lang="en-US" sz="2000" spc="-1" strike="noStrike">
              <a:solidFill>
                <a:srgbClr val="54a0d8"/>
              </a:solidFill>
              <a:latin typeface="Arial"/>
            </a:endParaRPr>
          </a:p>
        </p:txBody>
      </p:sp>
      <p:grpSp>
        <p:nvGrpSpPr>
          <p:cNvPr id="1130" name="组合 50"/>
          <p:cNvGrpSpPr/>
          <p:nvPr/>
        </p:nvGrpSpPr>
        <p:grpSpPr>
          <a:xfrm>
            <a:off x="8183520" y="1828800"/>
            <a:ext cx="615960" cy="1019160"/>
            <a:chOff x="8183520" y="1828800"/>
            <a:chExt cx="615960" cy="1019160"/>
          </a:xfrm>
        </p:grpSpPr>
        <p:sp>
          <p:nvSpPr>
            <p:cNvPr id="1131" name="Freeform 23"/>
            <p:cNvSpPr/>
            <p:nvPr/>
          </p:nvSpPr>
          <p:spPr>
            <a:xfrm>
              <a:off x="8183520" y="1828800"/>
              <a:ext cx="615960" cy="1019160"/>
            </a:xfrm>
            <a:custGeom>
              <a:avLst/>
              <a:gdLst>
                <a:gd name="textAreaLeft" fmla="*/ 0 w 615960"/>
                <a:gd name="textAreaRight" fmla="*/ 616320 w 615960"/>
                <a:gd name="textAreaTop" fmla="*/ 0 h 1019160"/>
                <a:gd name="textAreaBottom" fmla="*/ 1019520 h 1019160"/>
              </a:gdLst>
              <a:ahLst/>
              <a:rect l="textAreaLeft" t="textAreaTop" r="textAreaRight" b="textAreaBottom"/>
              <a:pathLst>
                <a:path w="840" h="1380">
                  <a:moveTo>
                    <a:pt x="420" y="0"/>
                  </a:moveTo>
                  <a:cubicBezTo>
                    <a:pt x="652" y="0"/>
                    <a:pt x="840" y="188"/>
                    <a:pt x="840" y="420"/>
                  </a:cubicBezTo>
                  <a:cubicBezTo>
                    <a:pt x="840" y="536"/>
                    <a:pt x="779" y="686"/>
                    <a:pt x="717" y="802"/>
                  </a:cubicBezTo>
                  <a:lnTo>
                    <a:pt x="420" y="1380"/>
                  </a:lnTo>
                  <a:lnTo>
                    <a:pt x="122" y="800"/>
                  </a:lnTo>
                  <a:cubicBezTo>
                    <a:pt x="74" y="708"/>
                    <a:pt x="9" y="531"/>
                    <a:pt x="0" y="420"/>
                  </a:cubicBezTo>
                  <a:cubicBezTo>
                    <a:pt x="0" y="188"/>
                    <a:pt x="188" y="0"/>
                    <a:pt x="420" y="0"/>
                  </a:cubicBezTo>
                  <a:close/>
                </a:path>
              </a:pathLst>
            </a:custGeom>
            <a:solidFill>
              <a:srgbClr val="54a0d8"/>
            </a:solidFill>
            <a:ln w="1908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32" name="矩形 52"/>
            <p:cNvSpPr/>
            <p:nvPr/>
          </p:nvSpPr>
          <p:spPr>
            <a:xfrm>
              <a:off x="8318520" y="19184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feline JL"/>
                  <a:ea typeface="微软雅黑"/>
                </a:rPr>
                <a:t>2</a:t>
              </a:r>
              <a:endParaRPr b="0" lang="en-US" sz="2800" spc="-1" strike="noStrike">
                <a:solidFill>
                  <a:srgbClr val="54a0d8"/>
                </a:solidFill>
                <a:latin typeface="Arial"/>
              </a:endParaRPr>
            </a:p>
          </p:txBody>
        </p:sp>
      </p:grpSp>
      <p:grpSp>
        <p:nvGrpSpPr>
          <p:cNvPr id="1133" name="组合 53"/>
          <p:cNvGrpSpPr/>
          <p:nvPr/>
        </p:nvGrpSpPr>
        <p:grpSpPr>
          <a:xfrm>
            <a:off x="3281400" y="3324240"/>
            <a:ext cx="617400" cy="1019160"/>
            <a:chOff x="3281400" y="3324240"/>
            <a:chExt cx="617400" cy="1019160"/>
          </a:xfrm>
        </p:grpSpPr>
        <p:sp>
          <p:nvSpPr>
            <p:cNvPr id="1134" name="Freeform 23"/>
            <p:cNvSpPr/>
            <p:nvPr/>
          </p:nvSpPr>
          <p:spPr>
            <a:xfrm>
              <a:off x="3281400" y="3324240"/>
              <a:ext cx="617400" cy="1019160"/>
            </a:xfrm>
            <a:custGeom>
              <a:avLst/>
              <a:gdLst>
                <a:gd name="textAreaLeft" fmla="*/ 0 w 617400"/>
                <a:gd name="textAreaRight" fmla="*/ 617400 w 617400"/>
                <a:gd name="textAreaTop" fmla="*/ 0 h 1019160"/>
                <a:gd name="textAreaBottom" fmla="*/ 1019520 h 1019160"/>
              </a:gdLst>
              <a:ahLst/>
              <a:rect l="textAreaLeft" t="textAreaTop" r="textAreaRight" b="textAreaBottom"/>
              <a:pathLst>
                <a:path w="840" h="1380">
                  <a:moveTo>
                    <a:pt x="420" y="0"/>
                  </a:moveTo>
                  <a:cubicBezTo>
                    <a:pt x="652" y="0"/>
                    <a:pt x="840" y="188"/>
                    <a:pt x="840" y="420"/>
                  </a:cubicBezTo>
                  <a:cubicBezTo>
                    <a:pt x="840" y="536"/>
                    <a:pt x="779" y="686"/>
                    <a:pt x="717" y="802"/>
                  </a:cubicBezTo>
                  <a:lnTo>
                    <a:pt x="420" y="1380"/>
                  </a:lnTo>
                  <a:lnTo>
                    <a:pt x="122" y="800"/>
                  </a:lnTo>
                  <a:cubicBezTo>
                    <a:pt x="74" y="708"/>
                    <a:pt x="9" y="531"/>
                    <a:pt x="0" y="420"/>
                  </a:cubicBezTo>
                  <a:cubicBezTo>
                    <a:pt x="0" y="188"/>
                    <a:pt x="188" y="0"/>
                    <a:pt x="420" y="0"/>
                  </a:cubicBezTo>
                  <a:close/>
                </a:path>
              </a:pathLst>
            </a:custGeom>
            <a:solidFill>
              <a:srgbClr val="54a0d8"/>
            </a:solidFill>
            <a:ln w="1908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35" name="矩形 55"/>
            <p:cNvSpPr/>
            <p:nvPr/>
          </p:nvSpPr>
          <p:spPr>
            <a:xfrm>
              <a:off x="3399480" y="3413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feline JL"/>
                  <a:ea typeface="微软雅黑"/>
                </a:rPr>
                <a:t>3</a:t>
              </a:r>
              <a:endParaRPr b="0" lang="en-US" sz="2800" spc="-1" strike="noStrike">
                <a:solidFill>
                  <a:srgbClr val="54a0d8"/>
                </a:solidFill>
                <a:latin typeface="Arial"/>
              </a:endParaRPr>
            </a:p>
          </p:txBody>
        </p:sp>
      </p:grpSp>
      <p:grpSp>
        <p:nvGrpSpPr>
          <p:cNvPr id="1136" name="组合 56"/>
          <p:cNvGrpSpPr/>
          <p:nvPr/>
        </p:nvGrpSpPr>
        <p:grpSpPr>
          <a:xfrm>
            <a:off x="8183520" y="3324240"/>
            <a:ext cx="615960" cy="1019160"/>
            <a:chOff x="8183520" y="3324240"/>
            <a:chExt cx="615960" cy="1019160"/>
          </a:xfrm>
        </p:grpSpPr>
        <p:sp>
          <p:nvSpPr>
            <p:cNvPr id="1137" name="Freeform 23"/>
            <p:cNvSpPr/>
            <p:nvPr/>
          </p:nvSpPr>
          <p:spPr>
            <a:xfrm>
              <a:off x="8183520" y="3324240"/>
              <a:ext cx="615960" cy="1019160"/>
            </a:xfrm>
            <a:custGeom>
              <a:avLst/>
              <a:gdLst>
                <a:gd name="textAreaLeft" fmla="*/ 0 w 615960"/>
                <a:gd name="textAreaRight" fmla="*/ 616320 w 615960"/>
                <a:gd name="textAreaTop" fmla="*/ 0 h 1019160"/>
                <a:gd name="textAreaBottom" fmla="*/ 1019520 h 1019160"/>
              </a:gdLst>
              <a:ahLst/>
              <a:rect l="textAreaLeft" t="textAreaTop" r="textAreaRight" b="textAreaBottom"/>
              <a:pathLst>
                <a:path w="840" h="1380">
                  <a:moveTo>
                    <a:pt x="420" y="0"/>
                  </a:moveTo>
                  <a:cubicBezTo>
                    <a:pt x="652" y="0"/>
                    <a:pt x="840" y="188"/>
                    <a:pt x="840" y="420"/>
                  </a:cubicBezTo>
                  <a:cubicBezTo>
                    <a:pt x="840" y="536"/>
                    <a:pt x="779" y="686"/>
                    <a:pt x="717" y="802"/>
                  </a:cubicBezTo>
                  <a:lnTo>
                    <a:pt x="420" y="1380"/>
                  </a:lnTo>
                  <a:lnTo>
                    <a:pt x="122" y="800"/>
                  </a:lnTo>
                  <a:cubicBezTo>
                    <a:pt x="74" y="708"/>
                    <a:pt x="9" y="531"/>
                    <a:pt x="0" y="420"/>
                  </a:cubicBezTo>
                  <a:cubicBezTo>
                    <a:pt x="0" y="188"/>
                    <a:pt x="188" y="0"/>
                    <a:pt x="420" y="0"/>
                  </a:cubicBezTo>
                  <a:close/>
                </a:path>
              </a:pathLst>
            </a:custGeom>
            <a:solidFill>
              <a:srgbClr val="54a0d8"/>
            </a:solidFill>
            <a:ln w="19080">
              <a:solidFill>
                <a:srgbClr val="ffffff"/>
              </a:solidFill>
              <a:miter/>
            </a:ln>
            <a:effectLst>
              <a:outerShdw dist="153753" dir="2700000" blurRad="0" rotWithShape="0">
                <a:srgbClr val="000000">
                  <a:alpha val="2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38" name="矩形 58"/>
            <p:cNvSpPr/>
            <p:nvPr/>
          </p:nvSpPr>
          <p:spPr>
            <a:xfrm>
              <a:off x="8303040" y="3413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feline JL"/>
                  <a:ea typeface="微软雅黑"/>
                </a:rPr>
                <a:t>4</a:t>
              </a:r>
              <a:endParaRPr b="0" lang="en-US" sz="2800" spc="-1" strike="noStrike">
                <a:solidFill>
                  <a:srgbClr val="54a0d8"/>
                </a:solidFill>
                <a:latin typeface="Arial"/>
              </a:endParaRPr>
            </a:p>
          </p:txBody>
        </p:sp>
      </p:grpSp>
      <p:sp>
        <p:nvSpPr>
          <p:cNvPr id="1139"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4.1 </a:t>
            </a:r>
            <a:r>
              <a:rPr b="0" lang="zh-CN" sz="2800" spc="-1" strike="noStrike">
                <a:solidFill>
                  <a:srgbClr val="4d4d4d"/>
                </a:solidFill>
                <a:latin typeface="微软雅黑"/>
                <a:ea typeface="微软雅黑"/>
              </a:rPr>
              <a:t>研究目标</a:t>
            </a:r>
            <a:endParaRPr b="0" lang="en-US" sz="2800" spc="-1" strike="noStrike">
              <a:solidFill>
                <a:srgbClr val="54a0d8"/>
              </a:solidFill>
              <a:latin typeface="Arial"/>
            </a:endParaRPr>
          </a:p>
        </p:txBody>
      </p:sp>
      <p:sp>
        <p:nvSpPr>
          <p:cNvPr id="1140"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41" name="直接连接符 63"/>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Freeform 6"/>
          <p:cNvSpPr/>
          <p:nvPr/>
        </p:nvSpPr>
        <p:spPr>
          <a:xfrm>
            <a:off x="4253040" y="1584360"/>
            <a:ext cx="680760" cy="598320"/>
          </a:xfrm>
          <a:custGeom>
            <a:avLst/>
            <a:gdLst>
              <a:gd name="textAreaLeft" fmla="*/ 0 w 680760"/>
              <a:gd name="textAreaRight" fmla="*/ 681120 w 680760"/>
              <a:gd name="textAreaTop" fmla="*/ 0 h 598320"/>
              <a:gd name="textAreaBottom" fmla="*/ 598680 h 598320"/>
            </a:gdLst>
            <a:ahLst/>
            <a:rect l="textAreaLeft" t="textAreaTop" r="textAreaRight" b="textAreaBottom"/>
            <a:pathLst>
              <a:path w="1021" h="896">
                <a:moveTo>
                  <a:pt x="787" y="31"/>
                </a:moveTo>
                <a:lnTo>
                  <a:pt x="899" y="224"/>
                </a:lnTo>
                <a:cubicBezTo>
                  <a:pt x="935" y="287"/>
                  <a:pt x="972" y="351"/>
                  <a:pt x="1008" y="414"/>
                </a:cubicBezTo>
                <a:cubicBezTo>
                  <a:pt x="1020" y="435"/>
                  <a:pt x="1021" y="456"/>
                  <a:pt x="1010" y="479"/>
                </a:cubicBezTo>
                <a:lnTo>
                  <a:pt x="899" y="672"/>
                </a:lnTo>
                <a:cubicBezTo>
                  <a:pt x="862" y="736"/>
                  <a:pt x="826" y="799"/>
                  <a:pt x="789" y="862"/>
                </a:cubicBezTo>
                <a:cubicBezTo>
                  <a:pt x="777" y="882"/>
                  <a:pt x="759" y="895"/>
                  <a:pt x="734" y="896"/>
                </a:cubicBezTo>
                <a:lnTo>
                  <a:pt x="511" y="896"/>
                </a:lnTo>
                <a:cubicBezTo>
                  <a:pt x="438" y="896"/>
                  <a:pt x="365" y="896"/>
                  <a:pt x="292" y="896"/>
                </a:cubicBezTo>
                <a:cubicBezTo>
                  <a:pt x="268" y="896"/>
                  <a:pt x="248" y="887"/>
                  <a:pt x="234" y="866"/>
                </a:cubicBezTo>
                <a:lnTo>
                  <a:pt x="123" y="672"/>
                </a:lnTo>
                <a:cubicBezTo>
                  <a:pt x="86" y="609"/>
                  <a:pt x="50" y="546"/>
                  <a:pt x="13" y="483"/>
                </a:cubicBezTo>
                <a:cubicBezTo>
                  <a:pt x="2" y="462"/>
                  <a:pt x="0" y="440"/>
                  <a:pt x="11" y="417"/>
                </a:cubicBezTo>
                <a:lnTo>
                  <a:pt x="123" y="224"/>
                </a:lnTo>
                <a:cubicBezTo>
                  <a:pt x="159" y="161"/>
                  <a:pt x="196" y="98"/>
                  <a:pt x="232" y="35"/>
                </a:cubicBezTo>
                <a:cubicBezTo>
                  <a:pt x="244" y="14"/>
                  <a:pt x="262" y="2"/>
                  <a:pt x="288" y="0"/>
                </a:cubicBezTo>
                <a:lnTo>
                  <a:pt x="511" y="0"/>
                </a:lnTo>
                <a:cubicBezTo>
                  <a:pt x="584" y="0"/>
                  <a:pt x="657" y="0"/>
                  <a:pt x="730" y="0"/>
                </a:cubicBezTo>
                <a:cubicBezTo>
                  <a:pt x="754" y="1"/>
                  <a:pt x="773" y="10"/>
                  <a:pt x="787" y="31"/>
                </a:cubicBezTo>
                <a:close/>
              </a:path>
            </a:pathLst>
          </a:custGeom>
          <a:solidFill>
            <a:srgbClr val="e96969"/>
          </a:solidFill>
          <a:ln w="38160">
            <a:solidFill>
              <a:srgbClr val="f4f4f4"/>
            </a:solidFill>
            <a:miter/>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60" name="Freeform 7"/>
          <p:cNvSpPr/>
          <p:nvPr/>
        </p:nvSpPr>
        <p:spPr>
          <a:xfrm>
            <a:off x="4253040" y="2374920"/>
            <a:ext cx="680760" cy="598320"/>
          </a:xfrm>
          <a:custGeom>
            <a:avLst/>
            <a:gdLst>
              <a:gd name="textAreaLeft" fmla="*/ 0 w 680760"/>
              <a:gd name="textAreaRight" fmla="*/ 681120 w 680760"/>
              <a:gd name="textAreaTop" fmla="*/ 0 h 598320"/>
              <a:gd name="textAreaBottom" fmla="*/ 598680 h 598320"/>
            </a:gdLst>
            <a:ahLst/>
            <a:rect l="textAreaLeft" t="textAreaTop" r="textAreaRight" b="textAreaBottom"/>
            <a:pathLst>
              <a:path w="1021" h="896">
                <a:moveTo>
                  <a:pt x="787" y="31"/>
                </a:moveTo>
                <a:lnTo>
                  <a:pt x="899" y="224"/>
                </a:lnTo>
                <a:cubicBezTo>
                  <a:pt x="935" y="287"/>
                  <a:pt x="972" y="350"/>
                  <a:pt x="1008" y="413"/>
                </a:cubicBezTo>
                <a:cubicBezTo>
                  <a:pt x="1020" y="434"/>
                  <a:pt x="1021" y="456"/>
                  <a:pt x="1010" y="479"/>
                </a:cubicBezTo>
                <a:lnTo>
                  <a:pt x="899" y="672"/>
                </a:lnTo>
                <a:cubicBezTo>
                  <a:pt x="862" y="735"/>
                  <a:pt x="826" y="798"/>
                  <a:pt x="789" y="861"/>
                </a:cubicBezTo>
                <a:cubicBezTo>
                  <a:pt x="777" y="882"/>
                  <a:pt x="759" y="894"/>
                  <a:pt x="734" y="896"/>
                </a:cubicBezTo>
                <a:lnTo>
                  <a:pt x="511" y="896"/>
                </a:lnTo>
                <a:cubicBezTo>
                  <a:pt x="438" y="896"/>
                  <a:pt x="365" y="896"/>
                  <a:pt x="292" y="896"/>
                </a:cubicBezTo>
                <a:cubicBezTo>
                  <a:pt x="268" y="896"/>
                  <a:pt x="248" y="886"/>
                  <a:pt x="234" y="865"/>
                </a:cubicBezTo>
                <a:lnTo>
                  <a:pt x="123" y="672"/>
                </a:lnTo>
                <a:cubicBezTo>
                  <a:pt x="86" y="609"/>
                  <a:pt x="50" y="546"/>
                  <a:pt x="13" y="482"/>
                </a:cubicBezTo>
                <a:cubicBezTo>
                  <a:pt x="2" y="462"/>
                  <a:pt x="0" y="440"/>
                  <a:pt x="11" y="417"/>
                </a:cubicBezTo>
                <a:lnTo>
                  <a:pt x="123" y="224"/>
                </a:lnTo>
                <a:cubicBezTo>
                  <a:pt x="159" y="161"/>
                  <a:pt x="196" y="97"/>
                  <a:pt x="232" y="34"/>
                </a:cubicBezTo>
                <a:cubicBezTo>
                  <a:pt x="244" y="14"/>
                  <a:pt x="262" y="2"/>
                  <a:pt x="288" y="0"/>
                </a:cubicBezTo>
                <a:lnTo>
                  <a:pt x="511" y="0"/>
                </a:lnTo>
                <a:cubicBezTo>
                  <a:pt x="584" y="0"/>
                  <a:pt x="657" y="0"/>
                  <a:pt x="730" y="0"/>
                </a:cubicBezTo>
                <a:cubicBezTo>
                  <a:pt x="754" y="0"/>
                  <a:pt x="773" y="10"/>
                  <a:pt x="787" y="31"/>
                </a:cubicBezTo>
                <a:close/>
              </a:path>
            </a:pathLst>
          </a:custGeom>
          <a:solidFill>
            <a:srgbClr val="e96969"/>
          </a:solidFill>
          <a:ln w="38160">
            <a:solidFill>
              <a:srgbClr val="f4f4f4"/>
            </a:solidFill>
            <a:miter/>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61" name="Freeform 8"/>
          <p:cNvSpPr/>
          <p:nvPr/>
        </p:nvSpPr>
        <p:spPr>
          <a:xfrm>
            <a:off x="4253040" y="3122640"/>
            <a:ext cx="680760" cy="598320"/>
          </a:xfrm>
          <a:custGeom>
            <a:avLst/>
            <a:gdLst>
              <a:gd name="textAreaLeft" fmla="*/ 0 w 680760"/>
              <a:gd name="textAreaRight" fmla="*/ 681120 w 680760"/>
              <a:gd name="textAreaTop" fmla="*/ 0 h 598320"/>
              <a:gd name="textAreaBottom" fmla="*/ 598680 h 598320"/>
            </a:gdLst>
            <a:ahLst/>
            <a:rect l="textAreaLeft" t="textAreaTop" r="textAreaRight" b="textAreaBottom"/>
            <a:pathLst>
              <a:path w="1021" h="897">
                <a:moveTo>
                  <a:pt x="787" y="31"/>
                </a:moveTo>
                <a:lnTo>
                  <a:pt x="899" y="224"/>
                </a:lnTo>
                <a:cubicBezTo>
                  <a:pt x="935" y="288"/>
                  <a:pt x="972" y="351"/>
                  <a:pt x="1008" y="414"/>
                </a:cubicBezTo>
                <a:cubicBezTo>
                  <a:pt x="1020" y="435"/>
                  <a:pt x="1021" y="457"/>
                  <a:pt x="1010" y="479"/>
                </a:cubicBezTo>
                <a:lnTo>
                  <a:pt x="899" y="673"/>
                </a:lnTo>
                <a:cubicBezTo>
                  <a:pt x="862" y="736"/>
                  <a:pt x="826" y="799"/>
                  <a:pt x="789" y="862"/>
                </a:cubicBezTo>
                <a:cubicBezTo>
                  <a:pt x="777" y="883"/>
                  <a:pt x="759" y="895"/>
                  <a:pt x="734" y="897"/>
                </a:cubicBezTo>
                <a:lnTo>
                  <a:pt x="511" y="897"/>
                </a:lnTo>
                <a:cubicBezTo>
                  <a:pt x="438" y="897"/>
                  <a:pt x="365" y="897"/>
                  <a:pt x="292" y="897"/>
                </a:cubicBezTo>
                <a:cubicBezTo>
                  <a:pt x="268" y="896"/>
                  <a:pt x="248" y="887"/>
                  <a:pt x="234" y="866"/>
                </a:cubicBezTo>
                <a:lnTo>
                  <a:pt x="123" y="673"/>
                </a:lnTo>
                <a:cubicBezTo>
                  <a:pt x="86" y="609"/>
                  <a:pt x="50" y="546"/>
                  <a:pt x="13" y="483"/>
                </a:cubicBezTo>
                <a:cubicBezTo>
                  <a:pt x="2" y="462"/>
                  <a:pt x="0" y="440"/>
                  <a:pt x="11" y="418"/>
                </a:cubicBezTo>
                <a:lnTo>
                  <a:pt x="123" y="224"/>
                </a:lnTo>
                <a:cubicBezTo>
                  <a:pt x="159" y="161"/>
                  <a:pt x="196" y="98"/>
                  <a:pt x="232" y="35"/>
                </a:cubicBezTo>
                <a:cubicBezTo>
                  <a:pt x="244" y="14"/>
                  <a:pt x="262" y="2"/>
                  <a:pt x="288" y="0"/>
                </a:cubicBezTo>
                <a:lnTo>
                  <a:pt x="511" y="0"/>
                </a:lnTo>
                <a:cubicBezTo>
                  <a:pt x="584" y="0"/>
                  <a:pt x="657" y="0"/>
                  <a:pt x="730" y="0"/>
                </a:cubicBezTo>
                <a:cubicBezTo>
                  <a:pt x="754" y="1"/>
                  <a:pt x="773" y="10"/>
                  <a:pt x="787" y="31"/>
                </a:cubicBezTo>
                <a:close/>
              </a:path>
            </a:pathLst>
          </a:custGeom>
          <a:solidFill>
            <a:srgbClr val="e96969"/>
          </a:solidFill>
          <a:ln w="38160">
            <a:solidFill>
              <a:srgbClr val="f4f4f4"/>
            </a:solidFill>
            <a:miter/>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62" name="Freeform 9"/>
          <p:cNvSpPr/>
          <p:nvPr/>
        </p:nvSpPr>
        <p:spPr>
          <a:xfrm>
            <a:off x="4253040" y="3860640"/>
            <a:ext cx="680760" cy="598680"/>
          </a:xfrm>
          <a:custGeom>
            <a:avLst/>
            <a:gdLst>
              <a:gd name="textAreaLeft" fmla="*/ 0 w 680760"/>
              <a:gd name="textAreaRight" fmla="*/ 681120 w 680760"/>
              <a:gd name="textAreaTop" fmla="*/ 0 h 598680"/>
              <a:gd name="textAreaBottom" fmla="*/ 599040 h 598680"/>
            </a:gdLst>
            <a:ahLst/>
            <a:rect l="textAreaLeft" t="textAreaTop" r="textAreaRight" b="textAreaBottom"/>
            <a:pathLst>
              <a:path w="1021" h="896">
                <a:moveTo>
                  <a:pt x="787" y="31"/>
                </a:moveTo>
                <a:lnTo>
                  <a:pt x="899" y="224"/>
                </a:lnTo>
                <a:cubicBezTo>
                  <a:pt x="935" y="287"/>
                  <a:pt x="972" y="350"/>
                  <a:pt x="1008" y="414"/>
                </a:cubicBezTo>
                <a:cubicBezTo>
                  <a:pt x="1020" y="434"/>
                  <a:pt x="1021" y="456"/>
                  <a:pt x="1010" y="479"/>
                </a:cubicBezTo>
                <a:lnTo>
                  <a:pt x="899" y="672"/>
                </a:lnTo>
                <a:cubicBezTo>
                  <a:pt x="862" y="735"/>
                  <a:pt x="826" y="799"/>
                  <a:pt x="789" y="862"/>
                </a:cubicBezTo>
                <a:cubicBezTo>
                  <a:pt x="777" y="882"/>
                  <a:pt x="759" y="894"/>
                  <a:pt x="734" y="896"/>
                </a:cubicBezTo>
                <a:lnTo>
                  <a:pt x="511" y="896"/>
                </a:lnTo>
                <a:cubicBezTo>
                  <a:pt x="438" y="896"/>
                  <a:pt x="365" y="896"/>
                  <a:pt x="292" y="896"/>
                </a:cubicBezTo>
                <a:cubicBezTo>
                  <a:pt x="268" y="896"/>
                  <a:pt x="248" y="886"/>
                  <a:pt x="234" y="865"/>
                </a:cubicBezTo>
                <a:lnTo>
                  <a:pt x="123" y="672"/>
                </a:lnTo>
                <a:cubicBezTo>
                  <a:pt x="86" y="609"/>
                  <a:pt x="50" y="546"/>
                  <a:pt x="13" y="483"/>
                </a:cubicBezTo>
                <a:cubicBezTo>
                  <a:pt x="2" y="462"/>
                  <a:pt x="0" y="440"/>
                  <a:pt x="11" y="417"/>
                </a:cubicBezTo>
                <a:lnTo>
                  <a:pt x="123" y="224"/>
                </a:lnTo>
                <a:cubicBezTo>
                  <a:pt x="159" y="161"/>
                  <a:pt x="196" y="98"/>
                  <a:pt x="232" y="35"/>
                </a:cubicBezTo>
                <a:cubicBezTo>
                  <a:pt x="244" y="14"/>
                  <a:pt x="262" y="2"/>
                  <a:pt x="288" y="0"/>
                </a:cubicBezTo>
                <a:lnTo>
                  <a:pt x="511" y="0"/>
                </a:lnTo>
                <a:cubicBezTo>
                  <a:pt x="584" y="0"/>
                  <a:pt x="657" y="0"/>
                  <a:pt x="730" y="0"/>
                </a:cubicBezTo>
                <a:cubicBezTo>
                  <a:pt x="754" y="0"/>
                  <a:pt x="773" y="10"/>
                  <a:pt x="787" y="31"/>
                </a:cubicBezTo>
                <a:close/>
              </a:path>
            </a:pathLst>
          </a:custGeom>
          <a:solidFill>
            <a:srgbClr val="e96969"/>
          </a:solidFill>
          <a:ln w="38160">
            <a:solidFill>
              <a:srgbClr val="f4f4f4"/>
            </a:solidFill>
            <a:miter/>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63" name="Freeform 10"/>
          <p:cNvSpPr/>
          <p:nvPr/>
        </p:nvSpPr>
        <p:spPr>
          <a:xfrm>
            <a:off x="4253040" y="4562640"/>
            <a:ext cx="680760" cy="598320"/>
          </a:xfrm>
          <a:custGeom>
            <a:avLst/>
            <a:gdLst>
              <a:gd name="textAreaLeft" fmla="*/ 0 w 680760"/>
              <a:gd name="textAreaRight" fmla="*/ 681120 w 680760"/>
              <a:gd name="textAreaTop" fmla="*/ 0 h 598320"/>
              <a:gd name="textAreaBottom" fmla="*/ 598680 h 598320"/>
            </a:gdLst>
            <a:ahLst/>
            <a:rect l="textAreaLeft" t="textAreaTop" r="textAreaRight" b="textAreaBottom"/>
            <a:pathLst>
              <a:path w="1021" h="896">
                <a:moveTo>
                  <a:pt x="787" y="30"/>
                </a:moveTo>
                <a:lnTo>
                  <a:pt x="899" y="224"/>
                </a:lnTo>
                <a:cubicBezTo>
                  <a:pt x="935" y="287"/>
                  <a:pt x="972" y="350"/>
                  <a:pt x="1008" y="413"/>
                </a:cubicBezTo>
                <a:cubicBezTo>
                  <a:pt x="1020" y="434"/>
                  <a:pt x="1021" y="456"/>
                  <a:pt x="1010" y="479"/>
                </a:cubicBezTo>
                <a:lnTo>
                  <a:pt x="899" y="672"/>
                </a:lnTo>
                <a:cubicBezTo>
                  <a:pt x="862" y="735"/>
                  <a:pt x="826" y="798"/>
                  <a:pt x="789" y="861"/>
                </a:cubicBezTo>
                <a:cubicBezTo>
                  <a:pt x="777" y="882"/>
                  <a:pt x="759" y="894"/>
                  <a:pt x="734" y="896"/>
                </a:cubicBezTo>
                <a:lnTo>
                  <a:pt x="511" y="896"/>
                </a:lnTo>
                <a:cubicBezTo>
                  <a:pt x="438" y="896"/>
                  <a:pt x="365" y="896"/>
                  <a:pt x="292" y="896"/>
                </a:cubicBezTo>
                <a:cubicBezTo>
                  <a:pt x="268" y="895"/>
                  <a:pt x="248" y="886"/>
                  <a:pt x="234" y="865"/>
                </a:cubicBezTo>
                <a:lnTo>
                  <a:pt x="123" y="672"/>
                </a:lnTo>
                <a:cubicBezTo>
                  <a:pt x="86" y="609"/>
                  <a:pt x="50" y="545"/>
                  <a:pt x="13" y="482"/>
                </a:cubicBezTo>
                <a:cubicBezTo>
                  <a:pt x="2" y="461"/>
                  <a:pt x="0" y="440"/>
                  <a:pt x="11" y="417"/>
                </a:cubicBezTo>
                <a:lnTo>
                  <a:pt x="123" y="224"/>
                </a:lnTo>
                <a:cubicBezTo>
                  <a:pt x="159" y="160"/>
                  <a:pt x="196" y="97"/>
                  <a:pt x="232" y="34"/>
                </a:cubicBezTo>
                <a:cubicBezTo>
                  <a:pt x="244" y="14"/>
                  <a:pt x="262" y="1"/>
                  <a:pt x="288" y="0"/>
                </a:cubicBezTo>
                <a:lnTo>
                  <a:pt x="511" y="0"/>
                </a:lnTo>
                <a:cubicBezTo>
                  <a:pt x="584" y="0"/>
                  <a:pt x="657" y="0"/>
                  <a:pt x="730" y="0"/>
                </a:cubicBezTo>
                <a:cubicBezTo>
                  <a:pt x="754" y="0"/>
                  <a:pt x="773" y="9"/>
                  <a:pt x="787" y="30"/>
                </a:cubicBezTo>
                <a:close/>
              </a:path>
            </a:pathLst>
          </a:custGeom>
          <a:solidFill>
            <a:srgbClr val="e96969"/>
          </a:solidFill>
          <a:ln w="38160">
            <a:solidFill>
              <a:srgbClr val="f4f4f4"/>
            </a:solidFill>
            <a:miter/>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64" name="TextBox 47"/>
          <p:cNvSpPr/>
          <p:nvPr/>
        </p:nvSpPr>
        <p:spPr>
          <a:xfrm>
            <a:off x="4970520" y="158904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绪 论</a:t>
            </a:r>
            <a:endParaRPr b="0" lang="en-US" sz="2800" spc="-1" strike="noStrike">
              <a:solidFill>
                <a:srgbClr val="54a0d8"/>
              </a:solidFill>
              <a:latin typeface="Arial"/>
            </a:endParaRPr>
          </a:p>
        </p:txBody>
      </p:sp>
      <p:sp>
        <p:nvSpPr>
          <p:cNvPr id="765" name="TextBox 48"/>
          <p:cNvSpPr/>
          <p:nvPr/>
        </p:nvSpPr>
        <p:spPr>
          <a:xfrm>
            <a:off x="4970520" y="236844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研究思路与方法</a:t>
            </a:r>
            <a:endParaRPr b="0" lang="en-US" sz="2800" spc="-1" strike="noStrike">
              <a:solidFill>
                <a:srgbClr val="54a0d8"/>
              </a:solidFill>
              <a:latin typeface="Arial"/>
            </a:endParaRPr>
          </a:p>
        </p:txBody>
      </p:sp>
      <p:sp>
        <p:nvSpPr>
          <p:cNvPr id="766" name="TextBox 55"/>
          <p:cNvSpPr/>
          <p:nvPr/>
        </p:nvSpPr>
        <p:spPr>
          <a:xfrm>
            <a:off x="4970520" y="31068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关键技术和实践难点</a:t>
            </a:r>
            <a:endParaRPr b="0" lang="en-US" sz="2800" spc="-1" strike="noStrike">
              <a:solidFill>
                <a:srgbClr val="54a0d8"/>
              </a:solidFill>
              <a:latin typeface="Arial"/>
            </a:endParaRPr>
          </a:p>
        </p:txBody>
      </p:sp>
      <p:sp>
        <p:nvSpPr>
          <p:cNvPr id="767" name="TextBox 56"/>
          <p:cNvSpPr/>
          <p:nvPr/>
        </p:nvSpPr>
        <p:spPr>
          <a:xfrm>
            <a:off x="4970520" y="390852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研究成果与应用前景</a:t>
            </a:r>
            <a:endParaRPr b="0" lang="en-US" sz="2800" spc="-1" strike="noStrike">
              <a:solidFill>
                <a:srgbClr val="54a0d8"/>
              </a:solidFill>
              <a:latin typeface="Arial"/>
            </a:endParaRPr>
          </a:p>
        </p:txBody>
      </p:sp>
      <p:sp>
        <p:nvSpPr>
          <p:cNvPr id="768" name="TextBox 57"/>
          <p:cNvSpPr/>
          <p:nvPr/>
        </p:nvSpPr>
        <p:spPr>
          <a:xfrm>
            <a:off x="4970520" y="45864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相关建议与论文结论</a:t>
            </a:r>
            <a:endParaRPr b="0" lang="en-US" sz="2800" spc="-1" strike="noStrike">
              <a:solidFill>
                <a:srgbClr val="54a0d8"/>
              </a:solidFill>
              <a:latin typeface="Arial"/>
            </a:endParaRPr>
          </a:p>
        </p:txBody>
      </p:sp>
      <p:sp>
        <p:nvSpPr>
          <p:cNvPr id="769" name="Freeform 21"/>
          <p:cNvSpPr/>
          <p:nvPr/>
        </p:nvSpPr>
        <p:spPr>
          <a:xfrm>
            <a:off x="4375080" y="1725480"/>
            <a:ext cx="355680" cy="360360"/>
          </a:xfrm>
          <a:custGeom>
            <a:avLst/>
            <a:gdLst>
              <a:gd name="textAreaLeft" fmla="*/ 0 w 355680"/>
              <a:gd name="textAreaRight" fmla="*/ 356040 w 355680"/>
              <a:gd name="textAreaTop" fmla="*/ 0 h 360360"/>
              <a:gd name="textAreaBottom" fmla="*/ 360720 h 360360"/>
            </a:gdLst>
            <a:ahLst/>
            <a:rect l="textAreaLeft" t="textAreaTop" r="textAreaRight" b="textAreaBottom"/>
            <a:pathLst>
              <a:path w="563" h="595">
                <a:moveTo>
                  <a:pt x="486" y="130"/>
                </a:moveTo>
                <a:lnTo>
                  <a:pt x="429" y="130"/>
                </a:lnTo>
                <a:cubicBezTo>
                  <a:pt x="424" y="130"/>
                  <a:pt x="419" y="125"/>
                  <a:pt x="419" y="120"/>
                </a:cubicBezTo>
                <a:lnTo>
                  <a:pt x="419" y="63"/>
                </a:lnTo>
                <a:lnTo>
                  <a:pt x="486" y="130"/>
                </a:lnTo>
                <a:close/>
                <a:moveTo>
                  <a:pt x="460" y="170"/>
                </a:moveTo>
                <a:lnTo>
                  <a:pt x="229" y="170"/>
                </a:lnTo>
                <a:lnTo>
                  <a:pt x="229" y="200"/>
                </a:lnTo>
                <a:lnTo>
                  <a:pt x="460" y="200"/>
                </a:lnTo>
                <a:lnTo>
                  <a:pt x="460" y="170"/>
                </a:lnTo>
                <a:close/>
                <a:moveTo>
                  <a:pt x="460" y="234"/>
                </a:moveTo>
                <a:lnTo>
                  <a:pt x="229" y="234"/>
                </a:lnTo>
                <a:lnTo>
                  <a:pt x="229" y="264"/>
                </a:lnTo>
                <a:lnTo>
                  <a:pt x="460" y="264"/>
                </a:lnTo>
                <a:lnTo>
                  <a:pt x="460" y="234"/>
                </a:lnTo>
                <a:close/>
                <a:moveTo>
                  <a:pt x="460" y="303"/>
                </a:moveTo>
                <a:lnTo>
                  <a:pt x="384" y="303"/>
                </a:lnTo>
                <a:lnTo>
                  <a:pt x="384" y="333"/>
                </a:lnTo>
                <a:lnTo>
                  <a:pt x="460" y="333"/>
                </a:lnTo>
                <a:lnTo>
                  <a:pt x="460" y="303"/>
                </a:lnTo>
                <a:close/>
                <a:moveTo>
                  <a:pt x="359" y="104"/>
                </a:moveTo>
                <a:lnTo>
                  <a:pt x="229" y="104"/>
                </a:lnTo>
                <a:lnTo>
                  <a:pt x="229" y="134"/>
                </a:lnTo>
                <a:lnTo>
                  <a:pt x="359" y="134"/>
                </a:lnTo>
                <a:lnTo>
                  <a:pt x="359" y="104"/>
                </a:lnTo>
                <a:close/>
                <a:moveTo>
                  <a:pt x="174" y="490"/>
                </a:moveTo>
                <a:cubicBezTo>
                  <a:pt x="226" y="553"/>
                  <a:pt x="279" y="595"/>
                  <a:pt x="291" y="588"/>
                </a:cubicBezTo>
                <a:cubicBezTo>
                  <a:pt x="303" y="581"/>
                  <a:pt x="293" y="515"/>
                  <a:pt x="265" y="438"/>
                </a:cubicBezTo>
                <a:cubicBezTo>
                  <a:pt x="250" y="448"/>
                  <a:pt x="236" y="457"/>
                  <a:pt x="220" y="466"/>
                </a:cubicBezTo>
                <a:cubicBezTo>
                  <a:pt x="205" y="475"/>
                  <a:pt x="190" y="483"/>
                  <a:pt x="174" y="490"/>
                </a:cubicBezTo>
                <a:close/>
                <a:moveTo>
                  <a:pt x="54" y="274"/>
                </a:moveTo>
                <a:cubicBezTo>
                  <a:pt x="64" y="309"/>
                  <a:pt x="85" y="353"/>
                  <a:pt x="113" y="402"/>
                </a:cubicBezTo>
                <a:cubicBezTo>
                  <a:pt x="127" y="427"/>
                  <a:pt x="144" y="451"/>
                  <a:pt x="161" y="473"/>
                </a:cubicBezTo>
                <a:cubicBezTo>
                  <a:pt x="176" y="465"/>
                  <a:pt x="192" y="457"/>
                  <a:pt x="208" y="448"/>
                </a:cubicBezTo>
                <a:cubicBezTo>
                  <a:pt x="225" y="439"/>
                  <a:pt x="241" y="428"/>
                  <a:pt x="256" y="417"/>
                </a:cubicBezTo>
                <a:cubicBezTo>
                  <a:pt x="246" y="392"/>
                  <a:pt x="234" y="366"/>
                  <a:pt x="219" y="341"/>
                </a:cubicBezTo>
                <a:cubicBezTo>
                  <a:pt x="191" y="292"/>
                  <a:pt x="163" y="252"/>
                  <a:pt x="138" y="226"/>
                </a:cubicBezTo>
                <a:cubicBezTo>
                  <a:pt x="125" y="234"/>
                  <a:pt x="112" y="244"/>
                  <a:pt x="98" y="252"/>
                </a:cubicBezTo>
                <a:cubicBezTo>
                  <a:pt x="83" y="260"/>
                  <a:pt x="69" y="267"/>
                  <a:pt x="54" y="274"/>
                </a:cubicBezTo>
                <a:close/>
                <a:moveTo>
                  <a:pt x="63" y="192"/>
                </a:moveTo>
                <a:cubicBezTo>
                  <a:pt x="55" y="197"/>
                  <a:pt x="50" y="205"/>
                  <a:pt x="48" y="215"/>
                </a:cubicBezTo>
                <a:cubicBezTo>
                  <a:pt x="33" y="219"/>
                  <a:pt x="18" y="229"/>
                  <a:pt x="7" y="249"/>
                </a:cubicBezTo>
                <a:cubicBezTo>
                  <a:pt x="0" y="265"/>
                  <a:pt x="2" y="289"/>
                  <a:pt x="12" y="307"/>
                </a:cubicBezTo>
                <a:cubicBezTo>
                  <a:pt x="29" y="338"/>
                  <a:pt x="52" y="377"/>
                  <a:pt x="73" y="408"/>
                </a:cubicBezTo>
                <a:cubicBezTo>
                  <a:pt x="86" y="413"/>
                  <a:pt x="83" y="386"/>
                  <a:pt x="78" y="379"/>
                </a:cubicBezTo>
                <a:cubicBezTo>
                  <a:pt x="62" y="354"/>
                  <a:pt x="48" y="331"/>
                  <a:pt x="35" y="286"/>
                </a:cubicBezTo>
                <a:cubicBezTo>
                  <a:pt x="32" y="265"/>
                  <a:pt x="41" y="256"/>
                  <a:pt x="48" y="246"/>
                </a:cubicBezTo>
                <a:cubicBezTo>
                  <a:pt x="48" y="248"/>
                  <a:pt x="48" y="250"/>
                  <a:pt x="49" y="252"/>
                </a:cubicBezTo>
                <a:cubicBezTo>
                  <a:pt x="61" y="247"/>
                  <a:pt x="73" y="240"/>
                  <a:pt x="86" y="234"/>
                </a:cubicBezTo>
                <a:cubicBezTo>
                  <a:pt x="98" y="227"/>
                  <a:pt x="110" y="218"/>
                  <a:pt x="122" y="210"/>
                </a:cubicBezTo>
                <a:cubicBezTo>
                  <a:pt x="99" y="190"/>
                  <a:pt x="79" y="183"/>
                  <a:pt x="63" y="192"/>
                </a:cubicBezTo>
                <a:close/>
                <a:moveTo>
                  <a:pt x="439" y="0"/>
                </a:moveTo>
                <a:lnTo>
                  <a:pt x="211" y="0"/>
                </a:lnTo>
                <a:cubicBezTo>
                  <a:pt x="168" y="0"/>
                  <a:pt x="133" y="35"/>
                  <a:pt x="133" y="78"/>
                </a:cubicBezTo>
                <a:lnTo>
                  <a:pt x="133" y="183"/>
                </a:lnTo>
                <a:cubicBezTo>
                  <a:pt x="158" y="203"/>
                  <a:pt x="173" y="221"/>
                  <a:pt x="192" y="247"/>
                </a:cubicBezTo>
                <a:lnTo>
                  <a:pt x="192" y="78"/>
                </a:lnTo>
                <a:cubicBezTo>
                  <a:pt x="192" y="68"/>
                  <a:pt x="201" y="59"/>
                  <a:pt x="211" y="59"/>
                </a:cubicBezTo>
                <a:lnTo>
                  <a:pt x="392" y="59"/>
                </a:lnTo>
                <a:lnTo>
                  <a:pt x="392" y="142"/>
                </a:lnTo>
                <a:cubicBezTo>
                  <a:pt x="392" y="150"/>
                  <a:pt x="399" y="157"/>
                  <a:pt x="407" y="157"/>
                </a:cubicBezTo>
                <a:lnTo>
                  <a:pt x="504" y="157"/>
                </a:lnTo>
                <a:lnTo>
                  <a:pt x="504" y="446"/>
                </a:lnTo>
                <a:cubicBezTo>
                  <a:pt x="504" y="457"/>
                  <a:pt x="495" y="465"/>
                  <a:pt x="484" y="465"/>
                </a:cubicBezTo>
                <a:lnTo>
                  <a:pt x="303" y="465"/>
                </a:lnTo>
                <a:cubicBezTo>
                  <a:pt x="309" y="485"/>
                  <a:pt x="315" y="505"/>
                  <a:pt x="318" y="524"/>
                </a:cubicBezTo>
                <a:lnTo>
                  <a:pt x="484" y="524"/>
                </a:lnTo>
                <a:cubicBezTo>
                  <a:pt x="528" y="524"/>
                  <a:pt x="563" y="489"/>
                  <a:pt x="563" y="446"/>
                </a:cubicBezTo>
                <a:lnTo>
                  <a:pt x="563" y="124"/>
                </a:lnTo>
                <a:lnTo>
                  <a:pt x="439"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70" name="Freeform 22"/>
          <p:cNvSpPr/>
          <p:nvPr/>
        </p:nvSpPr>
        <p:spPr>
          <a:xfrm>
            <a:off x="4408560" y="2498760"/>
            <a:ext cx="374400" cy="360360"/>
          </a:xfrm>
          <a:custGeom>
            <a:avLst/>
            <a:gdLst>
              <a:gd name="textAreaLeft" fmla="*/ 0 w 374400"/>
              <a:gd name="textAreaRight" fmla="*/ 374760 w 374400"/>
              <a:gd name="textAreaTop" fmla="*/ 0 h 360360"/>
              <a:gd name="textAreaBottom" fmla="*/ 360720 h 360360"/>
            </a:gdLst>
            <a:ahLst/>
            <a:rect l="textAreaLeft" t="textAreaTop" r="textAreaRight" b="textAreaBottom"/>
            <a:pathLst>
              <a:path w="595" h="595">
                <a:moveTo>
                  <a:pt x="529" y="469"/>
                </a:moveTo>
                <a:lnTo>
                  <a:pt x="410" y="351"/>
                </a:lnTo>
                <a:cubicBezTo>
                  <a:pt x="418" y="334"/>
                  <a:pt x="422" y="317"/>
                  <a:pt x="422" y="297"/>
                </a:cubicBezTo>
                <a:cubicBezTo>
                  <a:pt x="422" y="229"/>
                  <a:pt x="366" y="173"/>
                  <a:pt x="298" y="173"/>
                </a:cubicBezTo>
                <a:cubicBezTo>
                  <a:pt x="286" y="173"/>
                  <a:pt x="275" y="175"/>
                  <a:pt x="265" y="178"/>
                </a:cubicBezTo>
                <a:lnTo>
                  <a:pt x="318" y="231"/>
                </a:lnTo>
                <a:cubicBezTo>
                  <a:pt x="340" y="253"/>
                  <a:pt x="338" y="290"/>
                  <a:pt x="314" y="314"/>
                </a:cubicBezTo>
                <a:cubicBezTo>
                  <a:pt x="290" y="338"/>
                  <a:pt x="253" y="339"/>
                  <a:pt x="231" y="317"/>
                </a:cubicBezTo>
                <a:lnTo>
                  <a:pt x="178" y="264"/>
                </a:lnTo>
                <a:cubicBezTo>
                  <a:pt x="175" y="275"/>
                  <a:pt x="174" y="286"/>
                  <a:pt x="174" y="297"/>
                </a:cubicBezTo>
                <a:cubicBezTo>
                  <a:pt x="174" y="366"/>
                  <a:pt x="229" y="422"/>
                  <a:pt x="298" y="422"/>
                </a:cubicBezTo>
                <a:cubicBezTo>
                  <a:pt x="317" y="422"/>
                  <a:pt x="335" y="417"/>
                  <a:pt x="351" y="410"/>
                </a:cubicBezTo>
                <a:lnTo>
                  <a:pt x="470" y="528"/>
                </a:lnTo>
                <a:cubicBezTo>
                  <a:pt x="485" y="543"/>
                  <a:pt x="511" y="542"/>
                  <a:pt x="527" y="526"/>
                </a:cubicBezTo>
                <a:cubicBezTo>
                  <a:pt x="543" y="509"/>
                  <a:pt x="544" y="484"/>
                  <a:pt x="529" y="469"/>
                </a:cubicBezTo>
                <a:close/>
                <a:moveTo>
                  <a:pt x="558" y="242"/>
                </a:moveTo>
                <a:lnTo>
                  <a:pt x="546" y="242"/>
                </a:lnTo>
                <a:lnTo>
                  <a:pt x="518" y="242"/>
                </a:lnTo>
                <a:cubicBezTo>
                  <a:pt x="512" y="242"/>
                  <a:pt x="506" y="240"/>
                  <a:pt x="502" y="237"/>
                </a:cubicBezTo>
                <a:cubicBezTo>
                  <a:pt x="502" y="236"/>
                  <a:pt x="501" y="236"/>
                  <a:pt x="501" y="236"/>
                </a:cubicBezTo>
                <a:cubicBezTo>
                  <a:pt x="491" y="230"/>
                  <a:pt x="485" y="218"/>
                  <a:pt x="485" y="205"/>
                </a:cubicBezTo>
                <a:cubicBezTo>
                  <a:pt x="485" y="201"/>
                  <a:pt x="485" y="197"/>
                  <a:pt x="486" y="194"/>
                </a:cubicBezTo>
                <a:cubicBezTo>
                  <a:pt x="488" y="189"/>
                  <a:pt x="490" y="186"/>
                  <a:pt x="493" y="182"/>
                </a:cubicBezTo>
                <a:lnTo>
                  <a:pt x="499" y="176"/>
                </a:lnTo>
                <a:lnTo>
                  <a:pt x="513" y="162"/>
                </a:lnTo>
                <a:lnTo>
                  <a:pt x="521" y="154"/>
                </a:lnTo>
                <a:cubicBezTo>
                  <a:pt x="533" y="138"/>
                  <a:pt x="533" y="116"/>
                  <a:pt x="521" y="100"/>
                </a:cubicBezTo>
                <a:lnTo>
                  <a:pt x="496" y="75"/>
                </a:lnTo>
                <a:cubicBezTo>
                  <a:pt x="481" y="63"/>
                  <a:pt x="459" y="63"/>
                  <a:pt x="443" y="75"/>
                </a:cubicBezTo>
                <a:lnTo>
                  <a:pt x="434" y="83"/>
                </a:lnTo>
                <a:lnTo>
                  <a:pt x="414" y="103"/>
                </a:lnTo>
                <a:lnTo>
                  <a:pt x="414" y="103"/>
                </a:lnTo>
                <a:cubicBezTo>
                  <a:pt x="403" y="112"/>
                  <a:pt x="389" y="113"/>
                  <a:pt x="376" y="108"/>
                </a:cubicBezTo>
                <a:cubicBezTo>
                  <a:pt x="372" y="106"/>
                  <a:pt x="368" y="104"/>
                  <a:pt x="365" y="100"/>
                </a:cubicBezTo>
                <a:cubicBezTo>
                  <a:pt x="358" y="94"/>
                  <a:pt x="355" y="86"/>
                  <a:pt x="354" y="78"/>
                </a:cubicBezTo>
                <a:lnTo>
                  <a:pt x="354" y="69"/>
                </a:lnTo>
                <a:lnTo>
                  <a:pt x="354" y="50"/>
                </a:lnTo>
                <a:lnTo>
                  <a:pt x="354" y="38"/>
                </a:lnTo>
                <a:cubicBezTo>
                  <a:pt x="351" y="18"/>
                  <a:pt x="336" y="2"/>
                  <a:pt x="316" y="0"/>
                </a:cubicBezTo>
                <a:lnTo>
                  <a:pt x="281" y="0"/>
                </a:lnTo>
                <a:cubicBezTo>
                  <a:pt x="261" y="2"/>
                  <a:pt x="245" y="18"/>
                  <a:pt x="243" y="37"/>
                </a:cubicBezTo>
                <a:lnTo>
                  <a:pt x="243" y="49"/>
                </a:lnTo>
                <a:lnTo>
                  <a:pt x="243" y="69"/>
                </a:lnTo>
                <a:lnTo>
                  <a:pt x="243" y="78"/>
                </a:lnTo>
                <a:lnTo>
                  <a:pt x="243" y="78"/>
                </a:lnTo>
                <a:lnTo>
                  <a:pt x="243" y="78"/>
                </a:lnTo>
                <a:cubicBezTo>
                  <a:pt x="242" y="79"/>
                  <a:pt x="242" y="80"/>
                  <a:pt x="242" y="81"/>
                </a:cubicBezTo>
                <a:cubicBezTo>
                  <a:pt x="242" y="81"/>
                  <a:pt x="242" y="81"/>
                  <a:pt x="242" y="81"/>
                </a:cubicBezTo>
                <a:cubicBezTo>
                  <a:pt x="242" y="82"/>
                  <a:pt x="242" y="83"/>
                  <a:pt x="241" y="84"/>
                </a:cubicBezTo>
                <a:cubicBezTo>
                  <a:pt x="241" y="84"/>
                  <a:pt x="241" y="84"/>
                  <a:pt x="241" y="84"/>
                </a:cubicBezTo>
                <a:cubicBezTo>
                  <a:pt x="241" y="85"/>
                  <a:pt x="240" y="86"/>
                  <a:pt x="240" y="87"/>
                </a:cubicBezTo>
                <a:cubicBezTo>
                  <a:pt x="240" y="87"/>
                  <a:pt x="240" y="87"/>
                  <a:pt x="240" y="87"/>
                </a:cubicBezTo>
                <a:cubicBezTo>
                  <a:pt x="240" y="89"/>
                  <a:pt x="239" y="90"/>
                  <a:pt x="239" y="90"/>
                </a:cubicBezTo>
                <a:cubicBezTo>
                  <a:pt x="239" y="90"/>
                  <a:pt x="239" y="91"/>
                  <a:pt x="239" y="91"/>
                </a:cubicBezTo>
                <a:cubicBezTo>
                  <a:pt x="236" y="95"/>
                  <a:pt x="233" y="99"/>
                  <a:pt x="230" y="102"/>
                </a:cubicBezTo>
                <a:cubicBezTo>
                  <a:pt x="223" y="107"/>
                  <a:pt x="215" y="111"/>
                  <a:pt x="206" y="111"/>
                </a:cubicBezTo>
                <a:cubicBezTo>
                  <a:pt x="197" y="111"/>
                  <a:pt x="189" y="108"/>
                  <a:pt x="183" y="103"/>
                </a:cubicBezTo>
                <a:lnTo>
                  <a:pt x="176" y="96"/>
                </a:lnTo>
                <a:lnTo>
                  <a:pt x="162" y="82"/>
                </a:lnTo>
                <a:lnTo>
                  <a:pt x="154" y="74"/>
                </a:lnTo>
                <a:cubicBezTo>
                  <a:pt x="138" y="62"/>
                  <a:pt x="116" y="62"/>
                  <a:pt x="100" y="74"/>
                </a:cubicBezTo>
                <a:lnTo>
                  <a:pt x="76" y="99"/>
                </a:lnTo>
                <a:cubicBezTo>
                  <a:pt x="63" y="114"/>
                  <a:pt x="63" y="137"/>
                  <a:pt x="75" y="152"/>
                </a:cubicBezTo>
                <a:lnTo>
                  <a:pt x="83" y="161"/>
                </a:lnTo>
                <a:lnTo>
                  <a:pt x="103" y="181"/>
                </a:lnTo>
                <a:cubicBezTo>
                  <a:pt x="104" y="182"/>
                  <a:pt x="104" y="182"/>
                  <a:pt x="104" y="182"/>
                </a:cubicBezTo>
                <a:cubicBezTo>
                  <a:pt x="105" y="183"/>
                  <a:pt x="105" y="183"/>
                  <a:pt x="105" y="184"/>
                </a:cubicBezTo>
                <a:cubicBezTo>
                  <a:pt x="106" y="184"/>
                  <a:pt x="106" y="185"/>
                  <a:pt x="106" y="186"/>
                </a:cubicBezTo>
                <a:cubicBezTo>
                  <a:pt x="107" y="186"/>
                  <a:pt x="107" y="186"/>
                  <a:pt x="107" y="187"/>
                </a:cubicBezTo>
                <a:cubicBezTo>
                  <a:pt x="107" y="187"/>
                  <a:pt x="108" y="188"/>
                  <a:pt x="108" y="189"/>
                </a:cubicBezTo>
                <a:cubicBezTo>
                  <a:pt x="108" y="189"/>
                  <a:pt x="108" y="189"/>
                  <a:pt x="109" y="190"/>
                </a:cubicBezTo>
                <a:cubicBezTo>
                  <a:pt x="109" y="191"/>
                  <a:pt x="109" y="191"/>
                  <a:pt x="109" y="192"/>
                </a:cubicBezTo>
                <a:cubicBezTo>
                  <a:pt x="109" y="192"/>
                  <a:pt x="110" y="193"/>
                  <a:pt x="110" y="193"/>
                </a:cubicBezTo>
                <a:cubicBezTo>
                  <a:pt x="110" y="194"/>
                  <a:pt x="110" y="195"/>
                  <a:pt x="111" y="196"/>
                </a:cubicBezTo>
                <a:cubicBezTo>
                  <a:pt x="111" y="196"/>
                  <a:pt x="111" y="196"/>
                  <a:pt x="111" y="196"/>
                </a:cubicBezTo>
                <a:cubicBezTo>
                  <a:pt x="111" y="197"/>
                  <a:pt x="111" y="198"/>
                  <a:pt x="111" y="200"/>
                </a:cubicBezTo>
                <a:cubicBezTo>
                  <a:pt x="111" y="200"/>
                  <a:pt x="111" y="200"/>
                  <a:pt x="111" y="200"/>
                </a:cubicBezTo>
                <a:cubicBezTo>
                  <a:pt x="112" y="211"/>
                  <a:pt x="109" y="222"/>
                  <a:pt x="100" y="231"/>
                </a:cubicBezTo>
                <a:cubicBezTo>
                  <a:pt x="94" y="237"/>
                  <a:pt x="87" y="240"/>
                  <a:pt x="78" y="241"/>
                </a:cubicBezTo>
                <a:lnTo>
                  <a:pt x="70" y="241"/>
                </a:lnTo>
                <a:lnTo>
                  <a:pt x="50" y="241"/>
                </a:lnTo>
                <a:lnTo>
                  <a:pt x="38" y="241"/>
                </a:lnTo>
                <a:cubicBezTo>
                  <a:pt x="18" y="244"/>
                  <a:pt x="3" y="259"/>
                  <a:pt x="0" y="279"/>
                </a:cubicBezTo>
                <a:lnTo>
                  <a:pt x="0" y="314"/>
                </a:lnTo>
                <a:cubicBezTo>
                  <a:pt x="2" y="334"/>
                  <a:pt x="18" y="350"/>
                  <a:pt x="38" y="352"/>
                </a:cubicBezTo>
                <a:lnTo>
                  <a:pt x="50" y="353"/>
                </a:lnTo>
                <a:lnTo>
                  <a:pt x="78" y="353"/>
                </a:lnTo>
                <a:cubicBezTo>
                  <a:pt x="79" y="353"/>
                  <a:pt x="80" y="353"/>
                  <a:pt x="81" y="353"/>
                </a:cubicBezTo>
                <a:cubicBezTo>
                  <a:pt x="82" y="353"/>
                  <a:pt x="82" y="353"/>
                  <a:pt x="82" y="353"/>
                </a:cubicBezTo>
                <a:cubicBezTo>
                  <a:pt x="83" y="354"/>
                  <a:pt x="84" y="354"/>
                  <a:pt x="85" y="354"/>
                </a:cubicBezTo>
                <a:cubicBezTo>
                  <a:pt x="100" y="359"/>
                  <a:pt x="111" y="373"/>
                  <a:pt x="111" y="390"/>
                </a:cubicBezTo>
                <a:lnTo>
                  <a:pt x="111" y="390"/>
                </a:lnTo>
                <a:cubicBezTo>
                  <a:pt x="111" y="398"/>
                  <a:pt x="108" y="406"/>
                  <a:pt x="103" y="413"/>
                </a:cubicBezTo>
                <a:lnTo>
                  <a:pt x="97" y="419"/>
                </a:lnTo>
                <a:lnTo>
                  <a:pt x="97" y="419"/>
                </a:lnTo>
                <a:lnTo>
                  <a:pt x="83" y="433"/>
                </a:lnTo>
                <a:lnTo>
                  <a:pt x="74" y="441"/>
                </a:lnTo>
                <a:cubicBezTo>
                  <a:pt x="62" y="457"/>
                  <a:pt x="62" y="479"/>
                  <a:pt x="75" y="495"/>
                </a:cubicBezTo>
                <a:lnTo>
                  <a:pt x="99" y="520"/>
                </a:lnTo>
                <a:cubicBezTo>
                  <a:pt x="115" y="532"/>
                  <a:pt x="137" y="532"/>
                  <a:pt x="153" y="520"/>
                </a:cubicBezTo>
                <a:lnTo>
                  <a:pt x="161" y="512"/>
                </a:lnTo>
                <a:lnTo>
                  <a:pt x="181" y="492"/>
                </a:lnTo>
                <a:lnTo>
                  <a:pt x="181" y="492"/>
                </a:lnTo>
                <a:cubicBezTo>
                  <a:pt x="181" y="492"/>
                  <a:pt x="182" y="492"/>
                  <a:pt x="182" y="492"/>
                </a:cubicBezTo>
                <a:cubicBezTo>
                  <a:pt x="183" y="491"/>
                  <a:pt x="183" y="490"/>
                  <a:pt x="184" y="490"/>
                </a:cubicBezTo>
                <a:cubicBezTo>
                  <a:pt x="185" y="490"/>
                  <a:pt x="185" y="489"/>
                  <a:pt x="185" y="489"/>
                </a:cubicBezTo>
                <a:cubicBezTo>
                  <a:pt x="186" y="489"/>
                  <a:pt x="187" y="488"/>
                  <a:pt x="187" y="488"/>
                </a:cubicBezTo>
                <a:cubicBezTo>
                  <a:pt x="188" y="488"/>
                  <a:pt x="189" y="487"/>
                  <a:pt x="189" y="487"/>
                </a:cubicBezTo>
                <a:cubicBezTo>
                  <a:pt x="189" y="487"/>
                  <a:pt x="190" y="487"/>
                  <a:pt x="190" y="487"/>
                </a:cubicBezTo>
                <a:cubicBezTo>
                  <a:pt x="191" y="486"/>
                  <a:pt x="192" y="486"/>
                  <a:pt x="193" y="486"/>
                </a:cubicBezTo>
                <a:cubicBezTo>
                  <a:pt x="193" y="486"/>
                  <a:pt x="193" y="486"/>
                  <a:pt x="193" y="486"/>
                </a:cubicBezTo>
                <a:cubicBezTo>
                  <a:pt x="193" y="486"/>
                  <a:pt x="193" y="485"/>
                  <a:pt x="193" y="485"/>
                </a:cubicBezTo>
                <a:cubicBezTo>
                  <a:pt x="194" y="485"/>
                  <a:pt x="195" y="485"/>
                  <a:pt x="196" y="485"/>
                </a:cubicBezTo>
                <a:cubicBezTo>
                  <a:pt x="196" y="485"/>
                  <a:pt x="197" y="485"/>
                  <a:pt x="197" y="485"/>
                </a:cubicBezTo>
                <a:cubicBezTo>
                  <a:pt x="197" y="484"/>
                  <a:pt x="198" y="484"/>
                  <a:pt x="199" y="484"/>
                </a:cubicBezTo>
                <a:cubicBezTo>
                  <a:pt x="200" y="484"/>
                  <a:pt x="200" y="484"/>
                  <a:pt x="200" y="484"/>
                </a:cubicBezTo>
                <a:cubicBezTo>
                  <a:pt x="201" y="484"/>
                  <a:pt x="202" y="484"/>
                  <a:pt x="203" y="484"/>
                </a:cubicBezTo>
                <a:cubicBezTo>
                  <a:pt x="213" y="483"/>
                  <a:pt x="223" y="487"/>
                  <a:pt x="231" y="495"/>
                </a:cubicBezTo>
                <a:cubicBezTo>
                  <a:pt x="237" y="501"/>
                  <a:pt x="240" y="509"/>
                  <a:pt x="241" y="517"/>
                </a:cubicBezTo>
                <a:lnTo>
                  <a:pt x="241" y="525"/>
                </a:lnTo>
                <a:lnTo>
                  <a:pt x="241" y="545"/>
                </a:lnTo>
                <a:lnTo>
                  <a:pt x="241" y="557"/>
                </a:lnTo>
                <a:cubicBezTo>
                  <a:pt x="244" y="577"/>
                  <a:pt x="260" y="593"/>
                  <a:pt x="280" y="595"/>
                </a:cubicBezTo>
                <a:lnTo>
                  <a:pt x="314" y="595"/>
                </a:lnTo>
                <a:cubicBezTo>
                  <a:pt x="334" y="593"/>
                  <a:pt x="350" y="577"/>
                  <a:pt x="353" y="558"/>
                </a:cubicBezTo>
                <a:lnTo>
                  <a:pt x="353" y="546"/>
                </a:lnTo>
                <a:lnTo>
                  <a:pt x="353" y="525"/>
                </a:lnTo>
                <a:lnTo>
                  <a:pt x="353" y="517"/>
                </a:lnTo>
                <a:lnTo>
                  <a:pt x="353" y="517"/>
                </a:lnTo>
                <a:cubicBezTo>
                  <a:pt x="354" y="510"/>
                  <a:pt x="356" y="504"/>
                  <a:pt x="361" y="499"/>
                </a:cubicBezTo>
                <a:cubicBezTo>
                  <a:pt x="361" y="498"/>
                  <a:pt x="361" y="498"/>
                  <a:pt x="362" y="497"/>
                </a:cubicBezTo>
                <a:cubicBezTo>
                  <a:pt x="362" y="497"/>
                  <a:pt x="362" y="496"/>
                  <a:pt x="363" y="496"/>
                </a:cubicBezTo>
                <a:cubicBezTo>
                  <a:pt x="365" y="494"/>
                  <a:pt x="367" y="492"/>
                  <a:pt x="370" y="490"/>
                </a:cubicBezTo>
                <a:lnTo>
                  <a:pt x="370" y="490"/>
                </a:lnTo>
                <a:cubicBezTo>
                  <a:pt x="371" y="489"/>
                  <a:pt x="372" y="489"/>
                  <a:pt x="373" y="489"/>
                </a:cubicBezTo>
                <a:cubicBezTo>
                  <a:pt x="373" y="488"/>
                  <a:pt x="373" y="488"/>
                  <a:pt x="373" y="488"/>
                </a:cubicBezTo>
                <a:cubicBezTo>
                  <a:pt x="374" y="488"/>
                  <a:pt x="374" y="488"/>
                  <a:pt x="374" y="488"/>
                </a:cubicBezTo>
                <a:cubicBezTo>
                  <a:pt x="375" y="488"/>
                  <a:pt x="375" y="487"/>
                  <a:pt x="376" y="487"/>
                </a:cubicBezTo>
                <a:lnTo>
                  <a:pt x="343" y="454"/>
                </a:lnTo>
                <a:cubicBezTo>
                  <a:pt x="328" y="458"/>
                  <a:pt x="313" y="460"/>
                  <a:pt x="297" y="460"/>
                </a:cubicBezTo>
                <a:cubicBezTo>
                  <a:pt x="207" y="460"/>
                  <a:pt x="135" y="387"/>
                  <a:pt x="135" y="297"/>
                </a:cubicBezTo>
                <a:cubicBezTo>
                  <a:pt x="135" y="207"/>
                  <a:pt x="208" y="134"/>
                  <a:pt x="298" y="134"/>
                </a:cubicBezTo>
                <a:cubicBezTo>
                  <a:pt x="388" y="135"/>
                  <a:pt x="461" y="208"/>
                  <a:pt x="461" y="298"/>
                </a:cubicBezTo>
                <a:cubicBezTo>
                  <a:pt x="461" y="313"/>
                  <a:pt x="458" y="328"/>
                  <a:pt x="454" y="342"/>
                </a:cubicBezTo>
                <a:lnTo>
                  <a:pt x="488" y="375"/>
                </a:lnTo>
                <a:cubicBezTo>
                  <a:pt x="489" y="371"/>
                  <a:pt x="492" y="368"/>
                  <a:pt x="495" y="364"/>
                </a:cubicBezTo>
                <a:cubicBezTo>
                  <a:pt x="499" y="361"/>
                  <a:pt x="503" y="358"/>
                  <a:pt x="507" y="356"/>
                </a:cubicBezTo>
                <a:cubicBezTo>
                  <a:pt x="511" y="355"/>
                  <a:pt x="514" y="354"/>
                  <a:pt x="517" y="354"/>
                </a:cubicBezTo>
                <a:lnTo>
                  <a:pt x="526" y="354"/>
                </a:lnTo>
                <a:lnTo>
                  <a:pt x="545" y="354"/>
                </a:lnTo>
                <a:lnTo>
                  <a:pt x="558" y="354"/>
                </a:lnTo>
                <a:cubicBezTo>
                  <a:pt x="577" y="351"/>
                  <a:pt x="593" y="336"/>
                  <a:pt x="595" y="316"/>
                </a:cubicBezTo>
                <a:lnTo>
                  <a:pt x="595" y="281"/>
                </a:lnTo>
                <a:cubicBezTo>
                  <a:pt x="593" y="261"/>
                  <a:pt x="578" y="245"/>
                  <a:pt x="558" y="242"/>
                </a:cubicBezTo>
                <a:close/>
                <a:moveTo>
                  <a:pt x="497" y="517"/>
                </a:moveTo>
                <a:lnTo>
                  <a:pt x="497" y="517"/>
                </a:lnTo>
                <a:cubicBezTo>
                  <a:pt x="486" y="517"/>
                  <a:pt x="476" y="508"/>
                  <a:pt x="476" y="496"/>
                </a:cubicBezTo>
                <a:cubicBezTo>
                  <a:pt x="476" y="484"/>
                  <a:pt x="486" y="475"/>
                  <a:pt x="497" y="475"/>
                </a:cubicBezTo>
                <a:cubicBezTo>
                  <a:pt x="509" y="475"/>
                  <a:pt x="518" y="484"/>
                  <a:pt x="518" y="496"/>
                </a:cubicBezTo>
                <a:cubicBezTo>
                  <a:pt x="518" y="508"/>
                  <a:pt x="509" y="517"/>
                  <a:pt x="497" y="51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71" name="Freeform 23"/>
          <p:cNvSpPr/>
          <p:nvPr/>
        </p:nvSpPr>
        <p:spPr>
          <a:xfrm>
            <a:off x="4457880" y="3235320"/>
            <a:ext cx="403200" cy="357120"/>
          </a:xfrm>
          <a:custGeom>
            <a:avLst/>
            <a:gdLst>
              <a:gd name="textAreaLeft" fmla="*/ 0 w 403200"/>
              <a:gd name="textAreaRight" fmla="*/ 403560 w 403200"/>
              <a:gd name="textAreaTop" fmla="*/ 0 h 357120"/>
              <a:gd name="textAreaBottom" fmla="*/ 357480 h 357120"/>
            </a:gdLst>
            <a:ahLst/>
            <a:rect l="textAreaLeft" t="textAreaTop" r="textAreaRight" b="textAreaBottom"/>
            <a:pathLst>
              <a:path w="638" h="590">
                <a:moveTo>
                  <a:pt x="0" y="103"/>
                </a:moveTo>
                <a:cubicBezTo>
                  <a:pt x="0" y="185"/>
                  <a:pt x="0" y="267"/>
                  <a:pt x="0" y="349"/>
                </a:cubicBezTo>
                <a:cubicBezTo>
                  <a:pt x="0" y="355"/>
                  <a:pt x="108" y="458"/>
                  <a:pt x="121" y="471"/>
                </a:cubicBezTo>
                <a:cubicBezTo>
                  <a:pt x="135" y="485"/>
                  <a:pt x="237" y="590"/>
                  <a:pt x="245" y="590"/>
                </a:cubicBezTo>
                <a:cubicBezTo>
                  <a:pt x="295" y="590"/>
                  <a:pt x="344" y="590"/>
                  <a:pt x="393" y="590"/>
                </a:cubicBezTo>
                <a:cubicBezTo>
                  <a:pt x="413" y="590"/>
                  <a:pt x="421" y="571"/>
                  <a:pt x="430" y="558"/>
                </a:cubicBezTo>
                <a:cubicBezTo>
                  <a:pt x="430" y="456"/>
                  <a:pt x="430" y="355"/>
                  <a:pt x="430" y="253"/>
                </a:cubicBezTo>
                <a:cubicBezTo>
                  <a:pt x="420" y="257"/>
                  <a:pt x="393" y="246"/>
                  <a:pt x="388" y="260"/>
                </a:cubicBezTo>
                <a:cubicBezTo>
                  <a:pt x="384" y="268"/>
                  <a:pt x="388" y="382"/>
                  <a:pt x="388" y="405"/>
                </a:cubicBezTo>
                <a:cubicBezTo>
                  <a:pt x="388" y="429"/>
                  <a:pt x="395" y="548"/>
                  <a:pt x="378" y="548"/>
                </a:cubicBezTo>
                <a:cubicBezTo>
                  <a:pt x="338" y="548"/>
                  <a:pt x="298" y="548"/>
                  <a:pt x="258" y="548"/>
                </a:cubicBezTo>
                <a:cubicBezTo>
                  <a:pt x="245" y="548"/>
                  <a:pt x="250" y="507"/>
                  <a:pt x="250" y="494"/>
                </a:cubicBezTo>
                <a:cubicBezTo>
                  <a:pt x="250" y="473"/>
                  <a:pt x="250" y="453"/>
                  <a:pt x="250" y="432"/>
                </a:cubicBezTo>
                <a:cubicBezTo>
                  <a:pt x="250" y="376"/>
                  <a:pt x="251" y="367"/>
                  <a:pt x="216" y="344"/>
                </a:cubicBezTo>
                <a:cubicBezTo>
                  <a:pt x="200" y="344"/>
                  <a:pt x="200" y="339"/>
                  <a:pt x="187" y="339"/>
                </a:cubicBezTo>
                <a:cubicBezTo>
                  <a:pt x="139" y="339"/>
                  <a:pt x="92" y="339"/>
                  <a:pt x="44" y="339"/>
                </a:cubicBezTo>
                <a:cubicBezTo>
                  <a:pt x="44" y="265"/>
                  <a:pt x="44" y="192"/>
                  <a:pt x="44" y="118"/>
                </a:cubicBezTo>
                <a:cubicBezTo>
                  <a:pt x="44" y="112"/>
                  <a:pt x="46" y="113"/>
                  <a:pt x="49" y="108"/>
                </a:cubicBezTo>
                <a:cubicBezTo>
                  <a:pt x="103" y="108"/>
                  <a:pt x="157" y="108"/>
                  <a:pt x="211" y="108"/>
                </a:cubicBezTo>
                <a:cubicBezTo>
                  <a:pt x="222" y="101"/>
                  <a:pt x="250" y="77"/>
                  <a:pt x="250" y="61"/>
                </a:cubicBezTo>
                <a:cubicBezTo>
                  <a:pt x="182" y="61"/>
                  <a:pt x="115" y="61"/>
                  <a:pt x="47" y="61"/>
                </a:cubicBezTo>
                <a:cubicBezTo>
                  <a:pt x="28" y="61"/>
                  <a:pt x="0" y="88"/>
                  <a:pt x="0" y="103"/>
                </a:cubicBezTo>
                <a:close/>
                <a:moveTo>
                  <a:pt x="337" y="144"/>
                </a:moveTo>
                <a:lnTo>
                  <a:pt x="359" y="122"/>
                </a:lnTo>
                <a:lnTo>
                  <a:pt x="337" y="100"/>
                </a:lnTo>
                <a:cubicBezTo>
                  <a:pt x="336" y="99"/>
                  <a:pt x="336" y="98"/>
                  <a:pt x="337" y="97"/>
                </a:cubicBezTo>
                <a:lnTo>
                  <a:pt x="351" y="82"/>
                </a:lnTo>
                <a:cubicBezTo>
                  <a:pt x="352" y="81"/>
                  <a:pt x="353" y="81"/>
                  <a:pt x="354" y="82"/>
                </a:cubicBezTo>
                <a:lnTo>
                  <a:pt x="376" y="104"/>
                </a:lnTo>
                <a:lnTo>
                  <a:pt x="398" y="82"/>
                </a:lnTo>
                <a:cubicBezTo>
                  <a:pt x="399" y="81"/>
                  <a:pt x="400" y="81"/>
                  <a:pt x="401" y="82"/>
                </a:cubicBezTo>
                <a:lnTo>
                  <a:pt x="416" y="97"/>
                </a:lnTo>
                <a:cubicBezTo>
                  <a:pt x="416" y="98"/>
                  <a:pt x="416" y="99"/>
                  <a:pt x="416" y="100"/>
                </a:cubicBezTo>
                <a:lnTo>
                  <a:pt x="394" y="122"/>
                </a:lnTo>
                <a:lnTo>
                  <a:pt x="416" y="144"/>
                </a:lnTo>
                <a:cubicBezTo>
                  <a:pt x="416" y="145"/>
                  <a:pt x="416" y="146"/>
                  <a:pt x="416" y="147"/>
                </a:cubicBezTo>
                <a:lnTo>
                  <a:pt x="401" y="161"/>
                </a:lnTo>
                <a:cubicBezTo>
                  <a:pt x="400" y="162"/>
                  <a:pt x="399" y="162"/>
                  <a:pt x="398" y="161"/>
                </a:cubicBezTo>
                <a:lnTo>
                  <a:pt x="376" y="139"/>
                </a:lnTo>
                <a:lnTo>
                  <a:pt x="354" y="161"/>
                </a:lnTo>
                <a:cubicBezTo>
                  <a:pt x="353" y="162"/>
                  <a:pt x="352" y="162"/>
                  <a:pt x="351" y="161"/>
                </a:cubicBezTo>
                <a:lnTo>
                  <a:pt x="337" y="147"/>
                </a:lnTo>
                <a:cubicBezTo>
                  <a:pt x="336" y="146"/>
                  <a:pt x="336" y="145"/>
                  <a:pt x="337" y="144"/>
                </a:cubicBezTo>
                <a:close/>
                <a:moveTo>
                  <a:pt x="520" y="221"/>
                </a:moveTo>
                <a:lnTo>
                  <a:pt x="629" y="330"/>
                </a:lnTo>
                <a:cubicBezTo>
                  <a:pt x="638" y="339"/>
                  <a:pt x="638" y="353"/>
                  <a:pt x="629" y="362"/>
                </a:cubicBezTo>
                <a:lnTo>
                  <a:pt x="616" y="375"/>
                </a:lnTo>
                <a:cubicBezTo>
                  <a:pt x="608" y="383"/>
                  <a:pt x="593" y="383"/>
                  <a:pt x="585" y="375"/>
                </a:cubicBezTo>
                <a:lnTo>
                  <a:pt x="476" y="266"/>
                </a:lnTo>
                <a:lnTo>
                  <a:pt x="520" y="221"/>
                </a:lnTo>
                <a:close/>
                <a:moveTo>
                  <a:pt x="298" y="43"/>
                </a:moveTo>
                <a:cubicBezTo>
                  <a:pt x="341" y="0"/>
                  <a:pt x="411" y="0"/>
                  <a:pt x="455" y="43"/>
                </a:cubicBezTo>
                <a:cubicBezTo>
                  <a:pt x="493" y="82"/>
                  <a:pt x="497" y="142"/>
                  <a:pt x="467" y="185"/>
                </a:cubicBezTo>
                <a:lnTo>
                  <a:pt x="502" y="221"/>
                </a:lnTo>
                <a:cubicBezTo>
                  <a:pt x="504" y="222"/>
                  <a:pt x="504" y="225"/>
                  <a:pt x="502" y="226"/>
                </a:cubicBezTo>
                <a:lnTo>
                  <a:pt x="481" y="248"/>
                </a:lnTo>
                <a:cubicBezTo>
                  <a:pt x="479" y="249"/>
                  <a:pt x="477" y="249"/>
                  <a:pt x="475" y="248"/>
                </a:cubicBezTo>
                <a:lnTo>
                  <a:pt x="440" y="213"/>
                </a:lnTo>
                <a:cubicBezTo>
                  <a:pt x="397" y="243"/>
                  <a:pt x="336" y="239"/>
                  <a:pt x="298" y="200"/>
                </a:cubicBezTo>
                <a:cubicBezTo>
                  <a:pt x="254" y="157"/>
                  <a:pt x="254" y="87"/>
                  <a:pt x="298" y="43"/>
                </a:cubicBezTo>
                <a:close/>
                <a:moveTo>
                  <a:pt x="324" y="69"/>
                </a:moveTo>
                <a:cubicBezTo>
                  <a:pt x="353" y="40"/>
                  <a:pt x="400" y="40"/>
                  <a:pt x="429" y="69"/>
                </a:cubicBezTo>
                <a:cubicBezTo>
                  <a:pt x="458" y="98"/>
                  <a:pt x="458" y="145"/>
                  <a:pt x="429" y="174"/>
                </a:cubicBezTo>
                <a:cubicBezTo>
                  <a:pt x="400" y="203"/>
                  <a:pt x="353" y="203"/>
                  <a:pt x="324" y="174"/>
                </a:cubicBezTo>
                <a:cubicBezTo>
                  <a:pt x="295" y="145"/>
                  <a:pt x="295" y="98"/>
                  <a:pt x="324" y="69"/>
                </a:cubicBezTo>
                <a:close/>
                <a:moveTo>
                  <a:pt x="204" y="513"/>
                </a:moveTo>
                <a:cubicBezTo>
                  <a:pt x="203" y="471"/>
                  <a:pt x="202" y="428"/>
                  <a:pt x="201" y="386"/>
                </a:cubicBezTo>
                <a:cubicBezTo>
                  <a:pt x="160" y="386"/>
                  <a:pt x="119" y="386"/>
                  <a:pt x="79" y="386"/>
                </a:cubicBezTo>
                <a:cubicBezTo>
                  <a:pt x="78" y="386"/>
                  <a:pt x="77" y="387"/>
                  <a:pt x="77" y="388"/>
                </a:cubicBezTo>
                <a:cubicBezTo>
                  <a:pt x="119" y="430"/>
                  <a:pt x="161" y="472"/>
                  <a:pt x="204" y="513"/>
                </a:cubicBezTo>
                <a:close/>
                <a:moveTo>
                  <a:pt x="74" y="150"/>
                </a:moveTo>
                <a:cubicBezTo>
                  <a:pt x="74" y="156"/>
                  <a:pt x="74" y="161"/>
                  <a:pt x="74" y="167"/>
                </a:cubicBezTo>
                <a:cubicBezTo>
                  <a:pt x="74" y="173"/>
                  <a:pt x="78" y="177"/>
                  <a:pt x="83" y="177"/>
                </a:cubicBezTo>
                <a:cubicBezTo>
                  <a:pt x="139" y="177"/>
                  <a:pt x="195" y="177"/>
                  <a:pt x="250" y="177"/>
                </a:cubicBezTo>
                <a:cubicBezTo>
                  <a:pt x="266" y="177"/>
                  <a:pt x="262" y="152"/>
                  <a:pt x="258" y="143"/>
                </a:cubicBezTo>
                <a:cubicBezTo>
                  <a:pt x="225" y="143"/>
                  <a:pt x="192" y="143"/>
                  <a:pt x="160" y="143"/>
                </a:cubicBezTo>
                <a:cubicBezTo>
                  <a:pt x="139" y="143"/>
                  <a:pt x="74" y="137"/>
                  <a:pt x="74" y="150"/>
                </a:cubicBezTo>
                <a:close/>
                <a:moveTo>
                  <a:pt x="74" y="270"/>
                </a:moveTo>
                <a:cubicBezTo>
                  <a:pt x="74" y="278"/>
                  <a:pt x="74" y="285"/>
                  <a:pt x="74" y="292"/>
                </a:cubicBezTo>
                <a:cubicBezTo>
                  <a:pt x="74" y="298"/>
                  <a:pt x="75" y="300"/>
                  <a:pt x="81" y="300"/>
                </a:cubicBezTo>
                <a:cubicBezTo>
                  <a:pt x="141" y="300"/>
                  <a:pt x="200" y="300"/>
                  <a:pt x="260" y="300"/>
                </a:cubicBezTo>
                <a:cubicBezTo>
                  <a:pt x="262" y="294"/>
                  <a:pt x="266" y="268"/>
                  <a:pt x="253" y="268"/>
                </a:cubicBezTo>
                <a:cubicBezTo>
                  <a:pt x="197" y="268"/>
                  <a:pt x="142" y="268"/>
                  <a:pt x="86" y="268"/>
                </a:cubicBezTo>
                <a:cubicBezTo>
                  <a:pt x="82" y="268"/>
                  <a:pt x="77" y="269"/>
                  <a:pt x="74" y="270"/>
                </a:cubicBezTo>
                <a:close/>
                <a:moveTo>
                  <a:pt x="74" y="219"/>
                </a:moveTo>
                <a:cubicBezTo>
                  <a:pt x="74" y="222"/>
                  <a:pt x="74" y="225"/>
                  <a:pt x="74" y="229"/>
                </a:cubicBezTo>
                <a:cubicBezTo>
                  <a:pt x="74" y="234"/>
                  <a:pt x="76" y="234"/>
                  <a:pt x="79" y="238"/>
                </a:cubicBezTo>
                <a:cubicBezTo>
                  <a:pt x="137" y="238"/>
                  <a:pt x="195" y="238"/>
                  <a:pt x="253" y="238"/>
                </a:cubicBezTo>
                <a:cubicBezTo>
                  <a:pt x="256" y="237"/>
                  <a:pt x="259" y="235"/>
                  <a:pt x="263" y="233"/>
                </a:cubicBezTo>
                <a:cubicBezTo>
                  <a:pt x="263" y="229"/>
                  <a:pt x="263" y="225"/>
                  <a:pt x="263" y="221"/>
                </a:cubicBezTo>
                <a:cubicBezTo>
                  <a:pt x="263" y="214"/>
                  <a:pt x="260" y="211"/>
                  <a:pt x="258" y="206"/>
                </a:cubicBezTo>
                <a:cubicBezTo>
                  <a:pt x="224" y="206"/>
                  <a:pt x="191" y="206"/>
                  <a:pt x="157" y="206"/>
                </a:cubicBezTo>
                <a:cubicBezTo>
                  <a:pt x="141" y="206"/>
                  <a:pt x="124" y="206"/>
                  <a:pt x="108" y="206"/>
                </a:cubicBezTo>
                <a:cubicBezTo>
                  <a:pt x="87" y="206"/>
                  <a:pt x="74" y="200"/>
                  <a:pt x="74" y="21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72" name="Freeform 24"/>
          <p:cNvSpPr/>
          <p:nvPr/>
        </p:nvSpPr>
        <p:spPr>
          <a:xfrm>
            <a:off x="4424400" y="4005360"/>
            <a:ext cx="334800" cy="318960"/>
          </a:xfrm>
          <a:custGeom>
            <a:avLst/>
            <a:gdLst>
              <a:gd name="textAreaLeft" fmla="*/ 0 w 334800"/>
              <a:gd name="textAreaRight" fmla="*/ 335160 w 334800"/>
              <a:gd name="textAreaTop" fmla="*/ 0 h 318960"/>
              <a:gd name="textAreaBottom" fmla="*/ 319320 h 318960"/>
            </a:gdLst>
            <a:ahLst/>
            <a:rect l="textAreaLeft" t="textAreaTop" r="textAreaRight" b="textAreaBottom"/>
            <a:pathLst>
              <a:path w="532" h="526">
                <a:moveTo>
                  <a:pt x="453" y="426"/>
                </a:moveTo>
                <a:cubicBezTo>
                  <a:pt x="469" y="426"/>
                  <a:pt x="481" y="438"/>
                  <a:pt x="481" y="453"/>
                </a:cubicBezTo>
                <a:cubicBezTo>
                  <a:pt x="481" y="468"/>
                  <a:pt x="469" y="481"/>
                  <a:pt x="453" y="481"/>
                </a:cubicBezTo>
                <a:cubicBezTo>
                  <a:pt x="438" y="481"/>
                  <a:pt x="426" y="468"/>
                  <a:pt x="426" y="453"/>
                </a:cubicBezTo>
                <a:cubicBezTo>
                  <a:pt x="426" y="438"/>
                  <a:pt x="438" y="426"/>
                  <a:pt x="453" y="426"/>
                </a:cubicBezTo>
                <a:close/>
                <a:moveTo>
                  <a:pt x="513" y="51"/>
                </a:moveTo>
                <a:lnTo>
                  <a:pt x="476" y="14"/>
                </a:lnTo>
                <a:cubicBezTo>
                  <a:pt x="467" y="5"/>
                  <a:pt x="454" y="0"/>
                  <a:pt x="441" y="0"/>
                </a:cubicBezTo>
                <a:cubicBezTo>
                  <a:pt x="428" y="0"/>
                  <a:pt x="416" y="5"/>
                  <a:pt x="406" y="14"/>
                </a:cubicBezTo>
                <a:lnTo>
                  <a:pt x="250" y="170"/>
                </a:lnTo>
                <a:cubicBezTo>
                  <a:pt x="255" y="180"/>
                  <a:pt x="251" y="194"/>
                  <a:pt x="244" y="201"/>
                </a:cubicBezTo>
                <a:cubicBezTo>
                  <a:pt x="239" y="206"/>
                  <a:pt x="230" y="209"/>
                  <a:pt x="223" y="209"/>
                </a:cubicBezTo>
                <a:cubicBezTo>
                  <a:pt x="219" y="209"/>
                  <a:pt x="216" y="209"/>
                  <a:pt x="213" y="207"/>
                </a:cubicBezTo>
                <a:lnTo>
                  <a:pt x="199" y="221"/>
                </a:lnTo>
                <a:cubicBezTo>
                  <a:pt x="180" y="240"/>
                  <a:pt x="180" y="272"/>
                  <a:pt x="199" y="291"/>
                </a:cubicBezTo>
                <a:lnTo>
                  <a:pt x="202" y="294"/>
                </a:lnTo>
                <a:lnTo>
                  <a:pt x="80" y="416"/>
                </a:lnTo>
                <a:lnTo>
                  <a:pt x="48" y="428"/>
                </a:lnTo>
                <a:lnTo>
                  <a:pt x="0" y="495"/>
                </a:lnTo>
                <a:lnTo>
                  <a:pt x="31" y="526"/>
                </a:lnTo>
                <a:lnTo>
                  <a:pt x="98" y="479"/>
                </a:lnTo>
                <a:lnTo>
                  <a:pt x="110" y="446"/>
                </a:lnTo>
                <a:lnTo>
                  <a:pt x="232" y="324"/>
                </a:lnTo>
                <a:lnTo>
                  <a:pt x="236" y="328"/>
                </a:lnTo>
                <a:cubicBezTo>
                  <a:pt x="246" y="337"/>
                  <a:pt x="258" y="342"/>
                  <a:pt x="271" y="342"/>
                </a:cubicBezTo>
                <a:cubicBezTo>
                  <a:pt x="284" y="342"/>
                  <a:pt x="296" y="337"/>
                  <a:pt x="306" y="328"/>
                </a:cubicBezTo>
                <a:lnTo>
                  <a:pt x="320" y="314"/>
                </a:lnTo>
                <a:cubicBezTo>
                  <a:pt x="315" y="305"/>
                  <a:pt x="319" y="291"/>
                  <a:pt x="326" y="283"/>
                </a:cubicBezTo>
                <a:cubicBezTo>
                  <a:pt x="331" y="278"/>
                  <a:pt x="339" y="275"/>
                  <a:pt x="347" y="275"/>
                </a:cubicBezTo>
                <a:cubicBezTo>
                  <a:pt x="351" y="275"/>
                  <a:pt x="354" y="276"/>
                  <a:pt x="357" y="277"/>
                </a:cubicBezTo>
                <a:lnTo>
                  <a:pt x="513" y="121"/>
                </a:lnTo>
                <a:cubicBezTo>
                  <a:pt x="532" y="102"/>
                  <a:pt x="532" y="70"/>
                  <a:pt x="513" y="51"/>
                </a:cubicBezTo>
                <a:close/>
                <a:moveTo>
                  <a:pt x="192" y="187"/>
                </a:moveTo>
                <a:lnTo>
                  <a:pt x="207" y="171"/>
                </a:lnTo>
                <a:lnTo>
                  <a:pt x="221" y="179"/>
                </a:lnTo>
                <a:lnTo>
                  <a:pt x="214" y="165"/>
                </a:lnTo>
                <a:lnTo>
                  <a:pt x="229" y="150"/>
                </a:lnTo>
                <a:lnTo>
                  <a:pt x="231" y="148"/>
                </a:lnTo>
                <a:cubicBezTo>
                  <a:pt x="234" y="139"/>
                  <a:pt x="236" y="131"/>
                  <a:pt x="236" y="123"/>
                </a:cubicBezTo>
                <a:cubicBezTo>
                  <a:pt x="236" y="60"/>
                  <a:pt x="176" y="0"/>
                  <a:pt x="114" y="0"/>
                </a:cubicBezTo>
                <a:cubicBezTo>
                  <a:pt x="114" y="0"/>
                  <a:pt x="106" y="8"/>
                  <a:pt x="103" y="11"/>
                </a:cubicBezTo>
                <a:cubicBezTo>
                  <a:pt x="153" y="61"/>
                  <a:pt x="149" y="53"/>
                  <a:pt x="149" y="84"/>
                </a:cubicBezTo>
                <a:cubicBezTo>
                  <a:pt x="149" y="109"/>
                  <a:pt x="109" y="148"/>
                  <a:pt x="84" y="148"/>
                </a:cubicBezTo>
                <a:cubicBezTo>
                  <a:pt x="53" y="148"/>
                  <a:pt x="63" y="154"/>
                  <a:pt x="12" y="102"/>
                </a:cubicBezTo>
                <a:cubicBezTo>
                  <a:pt x="8" y="106"/>
                  <a:pt x="0" y="113"/>
                  <a:pt x="0" y="114"/>
                </a:cubicBezTo>
                <a:cubicBezTo>
                  <a:pt x="1" y="176"/>
                  <a:pt x="60" y="236"/>
                  <a:pt x="123" y="236"/>
                </a:cubicBezTo>
                <a:cubicBezTo>
                  <a:pt x="134" y="236"/>
                  <a:pt x="146" y="232"/>
                  <a:pt x="158" y="226"/>
                </a:cubicBezTo>
                <a:lnTo>
                  <a:pt x="160" y="229"/>
                </a:lnTo>
                <a:cubicBezTo>
                  <a:pt x="164" y="218"/>
                  <a:pt x="170" y="209"/>
                  <a:pt x="179" y="200"/>
                </a:cubicBezTo>
                <a:lnTo>
                  <a:pt x="192" y="187"/>
                </a:lnTo>
                <a:close/>
                <a:moveTo>
                  <a:pt x="348" y="306"/>
                </a:moveTo>
                <a:lnTo>
                  <a:pt x="355" y="320"/>
                </a:lnTo>
                <a:lnTo>
                  <a:pt x="341" y="335"/>
                </a:lnTo>
                <a:lnTo>
                  <a:pt x="327" y="348"/>
                </a:lnTo>
                <a:cubicBezTo>
                  <a:pt x="319" y="357"/>
                  <a:pt x="309" y="363"/>
                  <a:pt x="298" y="367"/>
                </a:cubicBezTo>
                <a:lnTo>
                  <a:pt x="392" y="460"/>
                </a:lnTo>
                <a:lnTo>
                  <a:pt x="436" y="519"/>
                </a:lnTo>
                <a:lnTo>
                  <a:pt x="460" y="526"/>
                </a:lnTo>
                <a:lnTo>
                  <a:pt x="525" y="460"/>
                </a:lnTo>
                <a:lnTo>
                  <a:pt x="518" y="436"/>
                </a:lnTo>
                <a:lnTo>
                  <a:pt x="460" y="392"/>
                </a:lnTo>
                <a:lnTo>
                  <a:pt x="371" y="304"/>
                </a:lnTo>
                <a:lnTo>
                  <a:pt x="363" y="313"/>
                </a:lnTo>
                <a:lnTo>
                  <a:pt x="348" y="30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73" name="Freeform 25"/>
          <p:cNvSpPr/>
          <p:nvPr/>
        </p:nvSpPr>
        <p:spPr>
          <a:xfrm>
            <a:off x="4416480" y="4665600"/>
            <a:ext cx="382680" cy="349200"/>
          </a:xfrm>
          <a:custGeom>
            <a:avLst/>
            <a:gdLst>
              <a:gd name="textAreaLeft" fmla="*/ 0 w 382680"/>
              <a:gd name="textAreaRight" fmla="*/ 383040 w 382680"/>
              <a:gd name="textAreaTop" fmla="*/ 0 h 349200"/>
              <a:gd name="textAreaBottom" fmla="*/ 349560 h 349200"/>
            </a:gdLst>
            <a:ahLst/>
            <a:rect l="textAreaLeft" t="textAreaTop" r="textAreaRight" b="textAreaBottom"/>
            <a:pathLst>
              <a:path w="606" h="576">
                <a:moveTo>
                  <a:pt x="353" y="522"/>
                </a:moveTo>
                <a:lnTo>
                  <a:pt x="252" y="522"/>
                </a:lnTo>
                <a:cubicBezTo>
                  <a:pt x="245" y="522"/>
                  <a:pt x="239" y="528"/>
                  <a:pt x="239" y="535"/>
                </a:cubicBezTo>
                <a:cubicBezTo>
                  <a:pt x="239" y="543"/>
                  <a:pt x="245" y="548"/>
                  <a:pt x="252" y="548"/>
                </a:cubicBezTo>
                <a:lnTo>
                  <a:pt x="353" y="548"/>
                </a:lnTo>
                <a:cubicBezTo>
                  <a:pt x="361" y="548"/>
                  <a:pt x="366" y="543"/>
                  <a:pt x="366" y="535"/>
                </a:cubicBezTo>
                <a:cubicBezTo>
                  <a:pt x="366" y="528"/>
                  <a:pt x="361" y="522"/>
                  <a:pt x="353" y="522"/>
                </a:cubicBezTo>
                <a:close/>
                <a:moveTo>
                  <a:pt x="353" y="481"/>
                </a:moveTo>
                <a:lnTo>
                  <a:pt x="353" y="481"/>
                </a:lnTo>
                <a:lnTo>
                  <a:pt x="252" y="481"/>
                </a:lnTo>
                <a:cubicBezTo>
                  <a:pt x="245" y="481"/>
                  <a:pt x="239" y="487"/>
                  <a:pt x="239" y="494"/>
                </a:cubicBezTo>
                <a:cubicBezTo>
                  <a:pt x="239" y="502"/>
                  <a:pt x="245" y="508"/>
                  <a:pt x="252" y="508"/>
                </a:cubicBezTo>
                <a:lnTo>
                  <a:pt x="353" y="508"/>
                </a:lnTo>
                <a:cubicBezTo>
                  <a:pt x="361" y="508"/>
                  <a:pt x="366" y="502"/>
                  <a:pt x="366" y="494"/>
                </a:cubicBezTo>
                <a:cubicBezTo>
                  <a:pt x="366" y="487"/>
                  <a:pt x="361" y="481"/>
                  <a:pt x="353" y="481"/>
                </a:cubicBezTo>
                <a:close/>
                <a:moveTo>
                  <a:pt x="303" y="576"/>
                </a:moveTo>
                <a:lnTo>
                  <a:pt x="303" y="576"/>
                </a:lnTo>
                <a:lnTo>
                  <a:pt x="346" y="560"/>
                </a:lnTo>
                <a:lnTo>
                  <a:pt x="259" y="560"/>
                </a:lnTo>
                <a:lnTo>
                  <a:pt x="303" y="576"/>
                </a:lnTo>
                <a:close/>
                <a:moveTo>
                  <a:pt x="304" y="154"/>
                </a:moveTo>
                <a:lnTo>
                  <a:pt x="304" y="154"/>
                </a:lnTo>
                <a:lnTo>
                  <a:pt x="301" y="154"/>
                </a:lnTo>
                <a:cubicBezTo>
                  <a:pt x="227" y="154"/>
                  <a:pt x="161" y="214"/>
                  <a:pt x="161" y="288"/>
                </a:cubicBezTo>
                <a:cubicBezTo>
                  <a:pt x="161" y="361"/>
                  <a:pt x="223" y="404"/>
                  <a:pt x="230" y="426"/>
                </a:cubicBezTo>
                <a:cubicBezTo>
                  <a:pt x="236" y="449"/>
                  <a:pt x="230" y="461"/>
                  <a:pt x="246" y="466"/>
                </a:cubicBezTo>
                <a:cubicBezTo>
                  <a:pt x="263" y="471"/>
                  <a:pt x="301" y="470"/>
                  <a:pt x="301" y="470"/>
                </a:cubicBezTo>
                <a:lnTo>
                  <a:pt x="304" y="470"/>
                </a:lnTo>
                <a:cubicBezTo>
                  <a:pt x="304" y="470"/>
                  <a:pt x="342" y="471"/>
                  <a:pt x="359" y="466"/>
                </a:cubicBezTo>
                <a:cubicBezTo>
                  <a:pt x="376" y="461"/>
                  <a:pt x="370" y="449"/>
                  <a:pt x="376" y="426"/>
                </a:cubicBezTo>
                <a:cubicBezTo>
                  <a:pt x="382" y="404"/>
                  <a:pt x="444" y="361"/>
                  <a:pt x="444" y="288"/>
                </a:cubicBezTo>
                <a:cubicBezTo>
                  <a:pt x="444" y="214"/>
                  <a:pt x="378" y="154"/>
                  <a:pt x="304" y="154"/>
                </a:cubicBezTo>
                <a:close/>
                <a:moveTo>
                  <a:pt x="119" y="312"/>
                </a:moveTo>
                <a:lnTo>
                  <a:pt x="119" y="312"/>
                </a:lnTo>
                <a:cubicBezTo>
                  <a:pt x="119" y="301"/>
                  <a:pt x="108" y="293"/>
                  <a:pt x="96" y="293"/>
                </a:cubicBezTo>
                <a:lnTo>
                  <a:pt x="23" y="293"/>
                </a:lnTo>
                <a:cubicBezTo>
                  <a:pt x="10" y="293"/>
                  <a:pt x="0" y="301"/>
                  <a:pt x="0" y="312"/>
                </a:cubicBezTo>
                <a:cubicBezTo>
                  <a:pt x="0" y="322"/>
                  <a:pt x="10" y="330"/>
                  <a:pt x="23" y="330"/>
                </a:cubicBezTo>
                <a:lnTo>
                  <a:pt x="96" y="330"/>
                </a:lnTo>
                <a:cubicBezTo>
                  <a:pt x="108" y="330"/>
                  <a:pt x="119" y="322"/>
                  <a:pt x="119" y="312"/>
                </a:cubicBezTo>
                <a:close/>
                <a:moveTo>
                  <a:pt x="583" y="293"/>
                </a:moveTo>
                <a:lnTo>
                  <a:pt x="583" y="293"/>
                </a:lnTo>
                <a:lnTo>
                  <a:pt x="510" y="293"/>
                </a:lnTo>
                <a:cubicBezTo>
                  <a:pt x="497" y="293"/>
                  <a:pt x="487" y="301"/>
                  <a:pt x="487" y="312"/>
                </a:cubicBezTo>
                <a:cubicBezTo>
                  <a:pt x="487" y="322"/>
                  <a:pt x="497" y="330"/>
                  <a:pt x="510" y="330"/>
                </a:cubicBezTo>
                <a:lnTo>
                  <a:pt x="583" y="330"/>
                </a:lnTo>
                <a:cubicBezTo>
                  <a:pt x="595" y="330"/>
                  <a:pt x="606" y="322"/>
                  <a:pt x="606" y="312"/>
                </a:cubicBezTo>
                <a:cubicBezTo>
                  <a:pt x="606" y="301"/>
                  <a:pt x="595" y="293"/>
                  <a:pt x="583" y="293"/>
                </a:cubicBezTo>
                <a:close/>
                <a:moveTo>
                  <a:pt x="464" y="175"/>
                </a:moveTo>
                <a:lnTo>
                  <a:pt x="464" y="175"/>
                </a:lnTo>
                <a:lnTo>
                  <a:pt x="515" y="124"/>
                </a:lnTo>
                <a:cubicBezTo>
                  <a:pt x="524" y="115"/>
                  <a:pt x="525" y="101"/>
                  <a:pt x="518" y="94"/>
                </a:cubicBezTo>
                <a:cubicBezTo>
                  <a:pt x="511" y="86"/>
                  <a:pt x="497" y="88"/>
                  <a:pt x="488" y="97"/>
                </a:cubicBezTo>
                <a:lnTo>
                  <a:pt x="437" y="148"/>
                </a:lnTo>
                <a:cubicBezTo>
                  <a:pt x="428" y="157"/>
                  <a:pt x="427" y="171"/>
                  <a:pt x="434" y="178"/>
                </a:cubicBezTo>
                <a:cubicBezTo>
                  <a:pt x="441" y="185"/>
                  <a:pt x="455" y="184"/>
                  <a:pt x="464" y="175"/>
                </a:cubicBezTo>
                <a:close/>
                <a:moveTo>
                  <a:pt x="301" y="119"/>
                </a:moveTo>
                <a:lnTo>
                  <a:pt x="301" y="119"/>
                </a:lnTo>
                <a:cubicBezTo>
                  <a:pt x="312" y="119"/>
                  <a:pt x="320" y="108"/>
                  <a:pt x="320" y="96"/>
                </a:cubicBezTo>
                <a:lnTo>
                  <a:pt x="320" y="23"/>
                </a:lnTo>
                <a:cubicBezTo>
                  <a:pt x="320" y="10"/>
                  <a:pt x="312" y="0"/>
                  <a:pt x="301" y="0"/>
                </a:cubicBezTo>
                <a:cubicBezTo>
                  <a:pt x="291" y="0"/>
                  <a:pt x="282" y="10"/>
                  <a:pt x="282" y="23"/>
                </a:cubicBezTo>
                <a:lnTo>
                  <a:pt x="282" y="96"/>
                </a:lnTo>
                <a:cubicBezTo>
                  <a:pt x="282" y="108"/>
                  <a:pt x="291" y="119"/>
                  <a:pt x="301" y="119"/>
                </a:cubicBezTo>
                <a:close/>
                <a:moveTo>
                  <a:pt x="136" y="167"/>
                </a:moveTo>
                <a:lnTo>
                  <a:pt x="136" y="167"/>
                </a:lnTo>
                <a:cubicBezTo>
                  <a:pt x="145" y="176"/>
                  <a:pt x="158" y="178"/>
                  <a:pt x="165" y="170"/>
                </a:cubicBezTo>
                <a:cubicBezTo>
                  <a:pt x="173" y="163"/>
                  <a:pt x="171" y="150"/>
                  <a:pt x="162" y="141"/>
                </a:cubicBezTo>
                <a:lnTo>
                  <a:pt x="111" y="89"/>
                </a:lnTo>
                <a:cubicBezTo>
                  <a:pt x="102" y="80"/>
                  <a:pt x="89" y="79"/>
                  <a:pt x="81" y="86"/>
                </a:cubicBezTo>
                <a:cubicBezTo>
                  <a:pt x="74" y="94"/>
                  <a:pt x="75" y="107"/>
                  <a:pt x="84" y="116"/>
                </a:cubicBezTo>
                <a:lnTo>
                  <a:pt x="136" y="167"/>
                </a:lnTo>
                <a:close/>
                <a:moveTo>
                  <a:pt x="142" y="448"/>
                </a:moveTo>
                <a:lnTo>
                  <a:pt x="142" y="448"/>
                </a:lnTo>
                <a:lnTo>
                  <a:pt x="90" y="499"/>
                </a:lnTo>
                <a:cubicBezTo>
                  <a:pt x="81" y="508"/>
                  <a:pt x="80" y="522"/>
                  <a:pt x="87" y="529"/>
                </a:cubicBezTo>
                <a:cubicBezTo>
                  <a:pt x="95" y="536"/>
                  <a:pt x="108" y="535"/>
                  <a:pt x="117" y="526"/>
                </a:cubicBezTo>
                <a:lnTo>
                  <a:pt x="169" y="474"/>
                </a:lnTo>
                <a:cubicBezTo>
                  <a:pt x="178" y="465"/>
                  <a:pt x="179" y="452"/>
                  <a:pt x="172" y="445"/>
                </a:cubicBezTo>
                <a:cubicBezTo>
                  <a:pt x="164" y="437"/>
                  <a:pt x="151" y="439"/>
                  <a:pt x="142" y="448"/>
                </a:cubicBezTo>
                <a:close/>
                <a:moveTo>
                  <a:pt x="470" y="455"/>
                </a:moveTo>
                <a:lnTo>
                  <a:pt x="470" y="455"/>
                </a:lnTo>
                <a:cubicBezTo>
                  <a:pt x="461" y="446"/>
                  <a:pt x="447" y="445"/>
                  <a:pt x="440" y="452"/>
                </a:cubicBezTo>
                <a:cubicBezTo>
                  <a:pt x="433" y="460"/>
                  <a:pt x="434" y="473"/>
                  <a:pt x="443" y="482"/>
                </a:cubicBezTo>
                <a:lnTo>
                  <a:pt x="495" y="534"/>
                </a:lnTo>
                <a:cubicBezTo>
                  <a:pt x="504" y="543"/>
                  <a:pt x="517" y="544"/>
                  <a:pt x="524" y="536"/>
                </a:cubicBezTo>
                <a:cubicBezTo>
                  <a:pt x="532" y="529"/>
                  <a:pt x="530" y="516"/>
                  <a:pt x="521" y="507"/>
                </a:cubicBezTo>
                <a:lnTo>
                  <a:pt x="470" y="455"/>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pic>
        <p:nvPicPr>
          <p:cNvPr id="774" name="图片 1" descr=""/>
          <p:cNvPicPr/>
          <p:nvPr/>
        </p:nvPicPr>
        <p:blipFill>
          <a:blip r:embed="rId2"/>
          <a:stretch/>
        </p:blipFill>
        <p:spPr>
          <a:xfrm>
            <a:off x="866880" y="2498760"/>
            <a:ext cx="2706480" cy="1736640"/>
          </a:xfrm>
          <a:prstGeom prst="rect">
            <a:avLst/>
          </a:prstGeom>
          <a:ln w="0">
            <a:noFill/>
          </a:ln>
        </p:spPr>
      </p:pic>
      <p:sp>
        <p:nvSpPr>
          <p:cNvPr id="775" name="直接连接符 3"/>
          <p:cNvSpPr/>
          <p:nvPr/>
        </p:nvSpPr>
        <p:spPr>
          <a:xfrm>
            <a:off x="5084640" y="2173320"/>
            <a:ext cx="4392720" cy="0"/>
          </a:xfrm>
          <a:prstGeom prst="line">
            <a:avLst/>
          </a:prstGeom>
          <a:ln w="9360">
            <a:solidFill>
              <a:srgbClr val="b8b8b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776" name="直接连接符 24"/>
          <p:cNvSpPr/>
          <p:nvPr/>
        </p:nvSpPr>
        <p:spPr>
          <a:xfrm>
            <a:off x="5084640" y="2975040"/>
            <a:ext cx="4392720" cy="0"/>
          </a:xfrm>
          <a:prstGeom prst="line">
            <a:avLst/>
          </a:prstGeom>
          <a:ln w="9360">
            <a:solidFill>
              <a:srgbClr val="b8b8b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777" name="直接连接符 25"/>
          <p:cNvSpPr/>
          <p:nvPr/>
        </p:nvSpPr>
        <p:spPr>
          <a:xfrm>
            <a:off x="5084640" y="3728880"/>
            <a:ext cx="4392720" cy="0"/>
          </a:xfrm>
          <a:prstGeom prst="line">
            <a:avLst/>
          </a:prstGeom>
          <a:ln w="9360">
            <a:solidFill>
              <a:srgbClr val="b8b8b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778" name="直接连接符 26"/>
          <p:cNvSpPr/>
          <p:nvPr/>
        </p:nvSpPr>
        <p:spPr>
          <a:xfrm>
            <a:off x="5084640" y="4457880"/>
            <a:ext cx="4392720" cy="0"/>
          </a:xfrm>
          <a:prstGeom prst="line">
            <a:avLst/>
          </a:prstGeom>
          <a:ln w="9360">
            <a:solidFill>
              <a:srgbClr val="b8b8b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779" name="直接连接符 27"/>
          <p:cNvSpPr/>
          <p:nvPr/>
        </p:nvSpPr>
        <p:spPr>
          <a:xfrm>
            <a:off x="5084640" y="5162400"/>
            <a:ext cx="4392720" cy="0"/>
          </a:xfrm>
          <a:prstGeom prst="line">
            <a:avLst/>
          </a:prstGeom>
          <a:ln w="9360">
            <a:solidFill>
              <a:srgbClr val="b8b8b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10000">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4.2 </a:t>
            </a:r>
            <a:r>
              <a:rPr b="0" lang="zh-CN" sz="2800" spc="-1" strike="noStrike">
                <a:solidFill>
                  <a:srgbClr val="4d4d4d"/>
                </a:solidFill>
                <a:latin typeface="微软雅黑"/>
                <a:ea typeface="微软雅黑"/>
              </a:rPr>
              <a:t>成果形式</a:t>
            </a:r>
            <a:endParaRPr b="0" lang="en-US" sz="2800" spc="-1" strike="noStrike">
              <a:solidFill>
                <a:srgbClr val="54a0d8"/>
              </a:solidFill>
              <a:latin typeface="Arial"/>
            </a:endParaRPr>
          </a:p>
        </p:txBody>
      </p:sp>
      <p:sp>
        <p:nvSpPr>
          <p:cNvPr id="1143"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44" name="直接连接符 22"/>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145" name="Oval 6"/>
          <p:cNvSpPr/>
          <p:nvPr/>
        </p:nvSpPr>
        <p:spPr>
          <a:xfrm flipH="1">
            <a:off x="984960" y="2585880"/>
            <a:ext cx="1908360" cy="1906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146" name="Freeform 7"/>
          <p:cNvSpPr/>
          <p:nvPr/>
        </p:nvSpPr>
        <p:spPr>
          <a:xfrm flipH="1">
            <a:off x="3755880" y="1461960"/>
            <a:ext cx="1292400" cy="4079880"/>
          </a:xfrm>
          <a:custGeom>
            <a:avLst/>
            <a:gdLst>
              <a:gd name="textAreaLeft" fmla="*/ 360 w 1292400"/>
              <a:gd name="textAreaRight" fmla="*/ 1293120 w 1292400"/>
              <a:gd name="textAreaTop" fmla="*/ 0 h 4079880"/>
              <a:gd name="textAreaBottom" fmla="*/ 4080240 h 4079880"/>
            </a:gdLst>
            <a:ahLst/>
            <a:rect l="textAreaLeft" t="textAreaTop" r="textAreaRight" b="textAreaBottom"/>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47" name="Oval 8"/>
          <p:cNvSpPr/>
          <p:nvPr/>
        </p:nvSpPr>
        <p:spPr>
          <a:xfrm flipH="1">
            <a:off x="3428280" y="1023840"/>
            <a:ext cx="1219320" cy="1220760"/>
          </a:xfrm>
          <a:prstGeom prst="ellipse">
            <a:avLst/>
          </a:prstGeom>
          <a:solidFill>
            <a:srgbClr val="e96969"/>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148" name="Oval 9"/>
          <p:cNvSpPr/>
          <p:nvPr/>
        </p:nvSpPr>
        <p:spPr>
          <a:xfrm flipH="1">
            <a:off x="4303080" y="2882880"/>
            <a:ext cx="1220760" cy="1219320"/>
          </a:xfrm>
          <a:prstGeom prst="ellipse">
            <a:avLst/>
          </a:prstGeom>
          <a:solidFill>
            <a:srgbClr val="e96969"/>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149" name="Oval 10"/>
          <p:cNvSpPr/>
          <p:nvPr/>
        </p:nvSpPr>
        <p:spPr>
          <a:xfrm flipH="1">
            <a:off x="3303000" y="4684680"/>
            <a:ext cx="1220760" cy="1219320"/>
          </a:xfrm>
          <a:prstGeom prst="ellipse">
            <a:avLst/>
          </a:prstGeom>
          <a:solidFill>
            <a:srgbClr val="e96969"/>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150" name="Line 11"/>
          <p:cNvSpPr/>
          <p:nvPr/>
        </p:nvSpPr>
        <p:spPr>
          <a:xfrm flipH="1">
            <a:off x="2658960" y="2106720"/>
            <a:ext cx="873360" cy="6411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151" name="Line 13"/>
          <p:cNvSpPr/>
          <p:nvPr/>
        </p:nvSpPr>
        <p:spPr>
          <a:xfrm flipH="1">
            <a:off x="3009960" y="3475080"/>
            <a:ext cx="116352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152" name="Oval 14"/>
          <p:cNvSpPr/>
          <p:nvPr/>
        </p:nvSpPr>
        <p:spPr>
          <a:xfrm flipH="1">
            <a:off x="1126440" y="2725560"/>
            <a:ext cx="1625400" cy="1625760"/>
          </a:xfrm>
          <a:prstGeom prst="ellipse">
            <a:avLst/>
          </a:prstGeom>
          <a:solidFill>
            <a:srgbClr val="54a0d8"/>
          </a:solidFill>
          <a:ln w="572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153" name="TextBox 11"/>
          <p:cNvSpPr/>
          <p:nvPr/>
        </p:nvSpPr>
        <p:spPr>
          <a:xfrm flipH="1">
            <a:off x="3600360" y="1219320"/>
            <a:ext cx="87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设计论文</a:t>
            </a:r>
            <a:endParaRPr b="0" lang="en-US" sz="2400" spc="-1" strike="noStrike">
              <a:solidFill>
                <a:srgbClr val="54a0d8"/>
              </a:solidFill>
              <a:latin typeface="Arial"/>
            </a:endParaRPr>
          </a:p>
        </p:txBody>
      </p:sp>
      <p:sp>
        <p:nvSpPr>
          <p:cNvPr id="1154" name="TextBox 12"/>
          <p:cNvSpPr/>
          <p:nvPr/>
        </p:nvSpPr>
        <p:spPr>
          <a:xfrm flipH="1">
            <a:off x="4480920" y="3087720"/>
            <a:ext cx="873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工程样机</a:t>
            </a:r>
            <a:endParaRPr b="0" lang="en-US" sz="2400" spc="-1" strike="noStrike">
              <a:solidFill>
                <a:srgbClr val="54a0d8"/>
              </a:solidFill>
              <a:latin typeface="Arial"/>
            </a:endParaRPr>
          </a:p>
        </p:txBody>
      </p:sp>
      <p:sp>
        <p:nvSpPr>
          <p:cNvPr id="1155" name="TextBox 13"/>
          <p:cNvSpPr/>
          <p:nvPr/>
        </p:nvSpPr>
        <p:spPr>
          <a:xfrm flipH="1">
            <a:off x="3476520" y="4879800"/>
            <a:ext cx="873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设计报告</a:t>
            </a:r>
            <a:endParaRPr b="0" lang="en-US" sz="2400" spc="-1" strike="noStrike">
              <a:solidFill>
                <a:srgbClr val="54a0d8"/>
              </a:solidFill>
              <a:latin typeface="Arial"/>
            </a:endParaRPr>
          </a:p>
        </p:txBody>
      </p:sp>
      <p:sp>
        <p:nvSpPr>
          <p:cNvPr id="1156" name="TextBox 14"/>
          <p:cNvSpPr/>
          <p:nvPr/>
        </p:nvSpPr>
        <p:spPr>
          <a:xfrm flipH="1">
            <a:off x="1422360" y="2984400"/>
            <a:ext cx="104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研究成果</a:t>
            </a:r>
            <a:endParaRPr b="0" lang="en-US" sz="3200" spc="-1" strike="noStrike">
              <a:solidFill>
                <a:srgbClr val="54a0d8"/>
              </a:solidFill>
              <a:latin typeface="Arial"/>
            </a:endParaRPr>
          </a:p>
        </p:txBody>
      </p:sp>
      <p:sp>
        <p:nvSpPr>
          <p:cNvPr id="1157" name="TextBox 15"/>
          <p:cNvSpPr/>
          <p:nvPr/>
        </p:nvSpPr>
        <p:spPr>
          <a:xfrm flipH="1">
            <a:off x="4679280" y="1139760"/>
            <a:ext cx="59547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完成论文的设计工作完成论文的设计工作完成论文的设计工作完成论文的设计工作完成论文的设计工作</a:t>
            </a:r>
            <a:endParaRPr b="0" lang="en-US" sz="1800" spc="-1" strike="noStrike">
              <a:solidFill>
                <a:srgbClr val="54a0d8"/>
              </a:solidFill>
              <a:latin typeface="Arial"/>
            </a:endParaRPr>
          </a:p>
        </p:txBody>
      </p:sp>
      <p:sp>
        <p:nvSpPr>
          <p:cNvPr id="1158" name="TextBox 16"/>
          <p:cNvSpPr/>
          <p:nvPr/>
        </p:nvSpPr>
        <p:spPr>
          <a:xfrm flipH="1">
            <a:off x="5580000" y="3186000"/>
            <a:ext cx="52372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试制出测试样机试制出测试样机试制出测试样机试制出测试样机试制出测试样机试制出测试样机试制出测试样机</a:t>
            </a:r>
            <a:endParaRPr b="0" lang="en-US" sz="1800" spc="-1" strike="noStrike">
              <a:solidFill>
                <a:srgbClr val="54a0d8"/>
              </a:solidFill>
              <a:latin typeface="Arial"/>
            </a:endParaRPr>
          </a:p>
        </p:txBody>
      </p:sp>
      <p:sp>
        <p:nvSpPr>
          <p:cNvPr id="1159" name="TextBox 17"/>
          <p:cNvSpPr/>
          <p:nvPr/>
        </p:nvSpPr>
        <p:spPr>
          <a:xfrm flipH="1">
            <a:off x="4569840" y="5019840"/>
            <a:ext cx="6064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制作出设计报告制作出设计报告制作出设计报告制作出设计报告制作出设计报告制作出设计报告</a:t>
            </a:r>
            <a:endParaRPr b="0" lang="en-US" sz="1800" spc="-1" strike="noStrike">
              <a:solidFill>
                <a:srgbClr val="54a0d8"/>
              </a:solidFill>
              <a:latin typeface="Arial"/>
            </a:endParaRPr>
          </a:p>
        </p:txBody>
      </p:sp>
      <p:sp>
        <p:nvSpPr>
          <p:cNvPr id="1160" name="Line 11"/>
          <p:cNvSpPr/>
          <p:nvPr/>
        </p:nvSpPr>
        <p:spPr>
          <a:xfrm flipH="1" flipV="1">
            <a:off x="2644920" y="4303440"/>
            <a:ext cx="723600" cy="5871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矩形 20"/>
          <p:cNvSpPr/>
          <p:nvPr/>
        </p:nvSpPr>
        <p:spPr>
          <a:xfrm>
            <a:off x="712800" y="5140440"/>
            <a:ext cx="5587920" cy="610920"/>
          </a:xfrm>
          <a:prstGeom prst="rect">
            <a:avLst/>
          </a:prstGeom>
          <a:solidFill>
            <a:srgbClr val="e9696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162" name="矩形 21"/>
          <p:cNvSpPr/>
          <p:nvPr/>
        </p:nvSpPr>
        <p:spPr>
          <a:xfrm>
            <a:off x="1428840" y="4280040"/>
            <a:ext cx="4174920" cy="612720"/>
          </a:xfrm>
          <a:prstGeom prst="rect">
            <a:avLst/>
          </a:prstGeom>
          <a:solidFill>
            <a:srgbClr val="e9696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163" name="矩形 22"/>
          <p:cNvSpPr/>
          <p:nvPr/>
        </p:nvSpPr>
        <p:spPr>
          <a:xfrm>
            <a:off x="2076480" y="3430440"/>
            <a:ext cx="2879640" cy="613080"/>
          </a:xfrm>
          <a:prstGeom prst="rect">
            <a:avLst/>
          </a:prstGeom>
          <a:solidFill>
            <a:srgbClr val="e9696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164" name="任意多边形 5"/>
          <p:cNvSpPr/>
          <p:nvPr/>
        </p:nvSpPr>
        <p:spPr>
          <a:xfrm>
            <a:off x="722160" y="4886280"/>
            <a:ext cx="5588280" cy="257400"/>
          </a:xfrm>
          <a:custGeom>
            <a:avLst/>
            <a:gdLst/>
            <a:ahLst/>
            <a:rect l="l" t="t" r="r" b="b"/>
            <a:pathLst>
              <a:path w="8800" h="405">
                <a:moveTo>
                  <a:pt x="1138" y="0"/>
                </a:moveTo>
                <a:lnTo>
                  <a:pt x="7738" y="0"/>
                </a:lnTo>
                <a:lnTo>
                  <a:pt x="8800" y="405"/>
                </a:lnTo>
                <a:lnTo>
                  <a:pt x="0" y="405"/>
                </a:lnTo>
                <a:lnTo>
                  <a:pt x="1138" y="0"/>
                </a:lnTo>
                <a:close/>
              </a:path>
            </a:pathLst>
          </a:custGeom>
          <a:solidFill>
            <a:srgbClr val="706460"/>
          </a:solidFill>
          <a:ln w="0">
            <a:noFill/>
          </a:ln>
        </p:spPr>
        <p:style>
          <a:lnRef idx="0"/>
          <a:fillRef idx="0"/>
          <a:effectRef idx="0"/>
          <a:fontRef idx="minor"/>
        </p:style>
        <p:txBody>
          <a:bodyPr lIns="90000" rIns="90000" tIns="46800" bIns="46800" anchor="ctr">
            <a:noAutofit/>
          </a:bodyPr>
          <a:p>
            <a:endParaRPr b="0" lang="en-US" sz="1800" spc="-1" strike="noStrike">
              <a:solidFill>
                <a:srgbClr val="54a0d8"/>
              </a:solidFill>
              <a:latin typeface="Arial"/>
            </a:endParaRPr>
          </a:p>
        </p:txBody>
      </p:sp>
      <p:sp>
        <p:nvSpPr>
          <p:cNvPr id="1165" name="任意多边形 6"/>
          <p:cNvSpPr/>
          <p:nvPr/>
        </p:nvSpPr>
        <p:spPr>
          <a:xfrm>
            <a:off x="1413000" y="4025880"/>
            <a:ext cx="4211640" cy="254160"/>
          </a:xfrm>
          <a:custGeom>
            <a:avLst/>
            <a:gdLst/>
            <a:ahLst/>
            <a:rect l="l" t="t" r="r" b="b"/>
            <a:pathLst>
              <a:path w="6633" h="400">
                <a:moveTo>
                  <a:pt x="1075" y="25"/>
                </a:moveTo>
                <a:lnTo>
                  <a:pt x="5575" y="0"/>
                </a:lnTo>
                <a:lnTo>
                  <a:pt x="6633" y="400"/>
                </a:lnTo>
                <a:lnTo>
                  <a:pt x="0" y="400"/>
                </a:lnTo>
                <a:lnTo>
                  <a:pt x="1075" y="25"/>
                </a:lnTo>
                <a:close/>
              </a:path>
            </a:pathLst>
          </a:custGeom>
          <a:solidFill>
            <a:srgbClr val="706460"/>
          </a:solidFill>
          <a:ln w="0">
            <a:noFill/>
          </a:ln>
        </p:spPr>
        <p:style>
          <a:lnRef idx="0"/>
          <a:fillRef idx="0"/>
          <a:effectRef idx="0"/>
          <a:fontRef idx="minor"/>
        </p:style>
        <p:txBody>
          <a:bodyPr lIns="90000" rIns="90000" tIns="46800" bIns="46800" anchor="ctr">
            <a:noAutofit/>
          </a:bodyPr>
          <a:p>
            <a:endParaRPr b="0" lang="en-US" sz="1800" spc="-1" strike="noStrike">
              <a:solidFill>
                <a:srgbClr val="54a0d8"/>
              </a:solidFill>
              <a:latin typeface="Arial"/>
            </a:endParaRPr>
          </a:p>
        </p:txBody>
      </p:sp>
      <p:sp>
        <p:nvSpPr>
          <p:cNvPr id="1166" name="右箭头 8"/>
          <p:cNvSpPr/>
          <p:nvPr/>
        </p:nvSpPr>
        <p:spPr>
          <a:xfrm rot="16200000">
            <a:off x="2308320" y="588600"/>
            <a:ext cx="2398680" cy="2808360"/>
          </a:xfrm>
          <a:prstGeom prst="rightArrow">
            <a:avLst>
              <a:gd name="adj1" fmla="val 71176"/>
              <a:gd name="adj2" fmla="val 66352"/>
            </a:avLst>
          </a:prstGeom>
          <a:solidFill>
            <a:srgbClr val="e9696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167" name="任意多边形 9"/>
          <p:cNvSpPr/>
          <p:nvPr/>
        </p:nvSpPr>
        <p:spPr>
          <a:xfrm>
            <a:off x="2076480" y="3176640"/>
            <a:ext cx="2843280" cy="253800"/>
          </a:xfrm>
          <a:custGeom>
            <a:avLst/>
            <a:gdLst/>
            <a:ahLst/>
            <a:rect l="l" t="t" r="r" b="b"/>
            <a:pathLst>
              <a:path w="6633" h="400">
                <a:moveTo>
                  <a:pt x="1075" y="25"/>
                </a:moveTo>
                <a:lnTo>
                  <a:pt x="5575" y="0"/>
                </a:lnTo>
                <a:lnTo>
                  <a:pt x="6633" y="400"/>
                </a:lnTo>
                <a:lnTo>
                  <a:pt x="0" y="400"/>
                </a:lnTo>
                <a:lnTo>
                  <a:pt x="1075" y="25"/>
                </a:lnTo>
                <a:close/>
              </a:path>
            </a:pathLst>
          </a:custGeom>
          <a:solidFill>
            <a:srgbClr val="706460"/>
          </a:solidFill>
          <a:ln w="0">
            <a:noFill/>
          </a:ln>
        </p:spPr>
        <p:style>
          <a:lnRef idx="0"/>
          <a:fillRef idx="0"/>
          <a:effectRef idx="0"/>
          <a:fontRef idx="minor"/>
        </p:style>
        <p:txBody>
          <a:bodyPr lIns="90000" rIns="90000" tIns="46800" bIns="46800" anchor="ctr">
            <a:noAutofit/>
          </a:bodyPr>
          <a:p>
            <a:endParaRPr b="0" lang="en-US" sz="1800" spc="-1" strike="noStrike">
              <a:solidFill>
                <a:srgbClr val="54a0d8"/>
              </a:solidFill>
              <a:latin typeface="Arial"/>
            </a:endParaRPr>
          </a:p>
        </p:txBody>
      </p:sp>
      <p:sp>
        <p:nvSpPr>
          <p:cNvPr id="1168" name="文本框 20"/>
          <p:cNvSpPr/>
          <p:nvPr/>
        </p:nvSpPr>
        <p:spPr>
          <a:xfrm flipH="1">
            <a:off x="2751840" y="2189160"/>
            <a:ext cx="1581480" cy="398880"/>
          </a:xfrm>
          <a:prstGeom prst="rect">
            <a:avLst/>
          </a:prstGeom>
          <a:no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企业品牌影响力提升</a:t>
            </a:r>
            <a:endParaRPr b="0" lang="en-US" sz="2000" spc="-1" strike="noStrike">
              <a:solidFill>
                <a:srgbClr val="54a0d8"/>
              </a:solidFill>
              <a:latin typeface="Arial"/>
            </a:endParaRPr>
          </a:p>
        </p:txBody>
      </p:sp>
      <p:sp>
        <p:nvSpPr>
          <p:cNvPr id="1169" name="文本框 20"/>
          <p:cNvSpPr/>
          <p:nvPr/>
        </p:nvSpPr>
        <p:spPr>
          <a:xfrm flipH="1">
            <a:off x="2564640" y="3517920"/>
            <a:ext cx="1995480" cy="398880"/>
          </a:xfrm>
          <a:prstGeom prst="rect">
            <a:avLst/>
          </a:prstGeom>
          <a:no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产品曝光度增加</a:t>
            </a:r>
            <a:endParaRPr b="0" lang="en-US" sz="2000" spc="-1" strike="noStrike">
              <a:solidFill>
                <a:srgbClr val="54a0d8"/>
              </a:solidFill>
              <a:latin typeface="Arial"/>
            </a:endParaRPr>
          </a:p>
        </p:txBody>
      </p:sp>
      <p:sp>
        <p:nvSpPr>
          <p:cNvPr id="1170" name="文本框 20"/>
          <p:cNvSpPr/>
          <p:nvPr/>
        </p:nvSpPr>
        <p:spPr>
          <a:xfrm flipH="1">
            <a:off x="2552040" y="4362480"/>
            <a:ext cx="1995480" cy="398880"/>
          </a:xfrm>
          <a:prstGeom prst="rect">
            <a:avLst/>
          </a:prstGeom>
          <a:no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间接收益</a:t>
            </a:r>
            <a:endParaRPr b="0" lang="en-US" sz="2000" spc="-1" strike="noStrike">
              <a:solidFill>
                <a:srgbClr val="54a0d8"/>
              </a:solidFill>
              <a:latin typeface="Arial"/>
            </a:endParaRPr>
          </a:p>
        </p:txBody>
      </p:sp>
      <p:sp>
        <p:nvSpPr>
          <p:cNvPr id="1171" name="文本框 20"/>
          <p:cNvSpPr/>
          <p:nvPr/>
        </p:nvSpPr>
        <p:spPr>
          <a:xfrm flipH="1">
            <a:off x="2537640" y="5218200"/>
            <a:ext cx="1995480" cy="398880"/>
          </a:xfrm>
          <a:prstGeom prst="rect">
            <a:avLst/>
          </a:prstGeom>
          <a:no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直接收益</a:t>
            </a:r>
            <a:endParaRPr b="0" lang="en-US" sz="2000" spc="-1" strike="noStrike">
              <a:solidFill>
                <a:srgbClr val="54a0d8"/>
              </a:solidFill>
              <a:latin typeface="Arial"/>
            </a:endParaRPr>
          </a:p>
        </p:txBody>
      </p:sp>
      <p:sp>
        <p:nvSpPr>
          <p:cNvPr id="1172" name="直接连接符 31"/>
          <p:cNvSpPr/>
          <p:nvPr/>
        </p:nvSpPr>
        <p:spPr>
          <a:xfrm>
            <a:off x="6316560" y="5446800"/>
            <a:ext cx="1368360" cy="0"/>
          </a:xfrm>
          <a:prstGeom prst="line">
            <a:avLst/>
          </a:prstGeom>
          <a:ln w="9360">
            <a:solidFill>
              <a:srgbClr val="7f7f7f"/>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173" name="直接连接符 32"/>
          <p:cNvSpPr/>
          <p:nvPr/>
        </p:nvSpPr>
        <p:spPr>
          <a:xfrm>
            <a:off x="5624640" y="4532400"/>
            <a:ext cx="2060280" cy="0"/>
          </a:xfrm>
          <a:prstGeom prst="line">
            <a:avLst/>
          </a:prstGeom>
          <a:ln w="9360">
            <a:solidFill>
              <a:srgbClr val="7f7f7f"/>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174" name="直接连接符 33"/>
          <p:cNvSpPr/>
          <p:nvPr/>
        </p:nvSpPr>
        <p:spPr>
          <a:xfrm>
            <a:off x="5056200" y="3689280"/>
            <a:ext cx="2628720" cy="0"/>
          </a:xfrm>
          <a:prstGeom prst="line">
            <a:avLst/>
          </a:prstGeom>
          <a:ln w="9360">
            <a:solidFill>
              <a:srgbClr val="7f7f7f"/>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175" name="直接连接符 34"/>
          <p:cNvSpPr/>
          <p:nvPr/>
        </p:nvSpPr>
        <p:spPr>
          <a:xfrm>
            <a:off x="4695840" y="2330280"/>
            <a:ext cx="2989080" cy="0"/>
          </a:xfrm>
          <a:prstGeom prst="line">
            <a:avLst/>
          </a:prstGeom>
          <a:ln w="9360">
            <a:solidFill>
              <a:srgbClr val="7f7f7f"/>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176" name="文本框 35"/>
          <p:cNvSpPr/>
          <p:nvPr/>
        </p:nvSpPr>
        <p:spPr>
          <a:xfrm>
            <a:off x="7751880" y="5218200"/>
            <a:ext cx="349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本资活动预计带来的广告收益、门票收入</a:t>
            </a:r>
            <a:r>
              <a:rPr b="0" lang="en-US" sz="1600" spc="-1" strike="noStrike">
                <a:solidFill>
                  <a:srgbClr val="404040"/>
                </a:solidFill>
                <a:latin typeface="微软雅黑"/>
                <a:ea typeface="微软雅黑"/>
              </a:rPr>
              <a:t>20</a:t>
            </a:r>
            <a:r>
              <a:rPr b="0" lang="zh-CN" sz="1600" spc="-1" strike="noStrike">
                <a:solidFill>
                  <a:srgbClr val="404040"/>
                </a:solidFill>
                <a:latin typeface="微软雅黑"/>
                <a:ea typeface="微软雅黑"/>
              </a:rPr>
              <a:t>万元。</a:t>
            </a:r>
            <a:endParaRPr b="0" lang="en-US" sz="1600" spc="-1" strike="noStrike">
              <a:solidFill>
                <a:srgbClr val="54a0d8"/>
              </a:solidFill>
              <a:latin typeface="Arial"/>
            </a:endParaRPr>
          </a:p>
        </p:txBody>
      </p:sp>
      <p:sp>
        <p:nvSpPr>
          <p:cNvPr id="1177" name="文本框 36"/>
          <p:cNvSpPr/>
          <p:nvPr/>
        </p:nvSpPr>
        <p:spPr>
          <a:xfrm>
            <a:off x="7751880" y="4267080"/>
            <a:ext cx="349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借助了合作伙伴和政府的影响力，为公司形象带来正面影响。</a:t>
            </a:r>
            <a:endParaRPr b="0" lang="en-US" sz="1600" spc="-1" strike="noStrike">
              <a:solidFill>
                <a:srgbClr val="54a0d8"/>
              </a:solidFill>
              <a:latin typeface="Arial"/>
            </a:endParaRPr>
          </a:p>
        </p:txBody>
      </p:sp>
      <p:sp>
        <p:nvSpPr>
          <p:cNvPr id="1178" name="文本框 37"/>
          <p:cNvSpPr/>
          <p:nvPr/>
        </p:nvSpPr>
        <p:spPr>
          <a:xfrm>
            <a:off x="7751880" y="3438360"/>
            <a:ext cx="349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新产品的推出，产品曝光度的增加，将大力提升产品销量。</a:t>
            </a:r>
            <a:endParaRPr b="0" lang="en-US" sz="1600" spc="-1" strike="noStrike">
              <a:solidFill>
                <a:srgbClr val="54a0d8"/>
              </a:solidFill>
              <a:latin typeface="Arial"/>
            </a:endParaRPr>
          </a:p>
        </p:txBody>
      </p:sp>
      <p:sp>
        <p:nvSpPr>
          <p:cNvPr id="1179" name="文本框 38"/>
          <p:cNvSpPr/>
          <p:nvPr/>
        </p:nvSpPr>
        <p:spPr>
          <a:xfrm>
            <a:off x="7751880" y="2041560"/>
            <a:ext cx="349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通过举办这次活动，使得企业的品牌形象得到提升，为公司的发展带来巨大的机遇。</a:t>
            </a:r>
            <a:endParaRPr b="0" lang="en-US" sz="1600" spc="-1" strike="noStrike">
              <a:solidFill>
                <a:srgbClr val="54a0d8"/>
              </a:solidFill>
              <a:latin typeface="Arial"/>
            </a:endParaRPr>
          </a:p>
        </p:txBody>
      </p:sp>
      <p:sp>
        <p:nvSpPr>
          <p:cNvPr id="1180"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4.3 </a:t>
            </a:r>
            <a:r>
              <a:rPr b="0" lang="zh-CN" sz="2800" spc="-1" strike="noStrike">
                <a:solidFill>
                  <a:srgbClr val="4d4d4d"/>
                </a:solidFill>
                <a:latin typeface="微软雅黑"/>
                <a:ea typeface="微软雅黑"/>
              </a:rPr>
              <a:t>应用前景</a:t>
            </a:r>
            <a:endParaRPr b="0" lang="en-US" sz="2800" spc="-1" strike="noStrike">
              <a:solidFill>
                <a:srgbClr val="54a0d8"/>
              </a:solidFill>
              <a:latin typeface="Arial"/>
            </a:endParaRPr>
          </a:p>
        </p:txBody>
      </p:sp>
      <p:sp>
        <p:nvSpPr>
          <p:cNvPr id="1181"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82" name="直接连接符 44"/>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3" name="TextBox 12"/>
          <p:cNvSpPr/>
          <p:nvPr/>
        </p:nvSpPr>
        <p:spPr>
          <a:xfrm>
            <a:off x="1995480" y="3119400"/>
            <a:ext cx="82072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d4d4d"/>
                </a:solidFill>
                <a:latin typeface="微软雅黑"/>
                <a:ea typeface="微软雅黑"/>
              </a:rPr>
              <a:t>相关建议与论文结论</a:t>
            </a:r>
            <a:endParaRPr b="0" lang="en-US" sz="6600" spc="-1" strike="noStrike">
              <a:solidFill>
                <a:srgbClr val="54a0d8"/>
              </a:solidFill>
              <a:latin typeface="Arial"/>
            </a:endParaRPr>
          </a:p>
        </p:txBody>
      </p:sp>
      <p:sp>
        <p:nvSpPr>
          <p:cNvPr id="1184" name="文本框 42"/>
          <p:cNvSpPr/>
          <p:nvPr/>
        </p:nvSpPr>
        <p:spPr>
          <a:xfrm>
            <a:off x="5559480" y="2765520"/>
            <a:ext cx="107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微软雅黑"/>
                <a:ea typeface="微软雅黑"/>
              </a:rPr>
              <a:t>Part 5</a:t>
            </a:r>
            <a:endParaRPr b="0" lang="en-US" sz="2000" spc="-1" strike="noStrike">
              <a:solidFill>
                <a:srgbClr val="54a0d8"/>
              </a:solidFill>
              <a:latin typeface="Arial"/>
            </a:endParaRPr>
          </a:p>
        </p:txBody>
      </p:sp>
      <p:sp>
        <p:nvSpPr>
          <p:cNvPr id="1185" name="Line 5"/>
          <p:cNvSpPr/>
          <p:nvPr/>
        </p:nvSpPr>
        <p:spPr>
          <a:xfrm flipH="1">
            <a:off x="1850760" y="4218120"/>
            <a:ext cx="8496360" cy="0"/>
          </a:xfrm>
          <a:prstGeom prst="line">
            <a:avLst/>
          </a:prstGeom>
          <a:ln w="12600">
            <a:solidFill>
              <a:srgbClr val="b8b8b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pic>
        <p:nvPicPr>
          <p:cNvPr id="1186" name="图片 1" descr=""/>
          <p:cNvPicPr/>
          <p:nvPr/>
        </p:nvPicPr>
        <p:blipFill>
          <a:blip r:embed="rId2"/>
          <a:stretch/>
        </p:blipFill>
        <p:spPr>
          <a:xfrm>
            <a:off x="4514760" y="839880"/>
            <a:ext cx="3040200" cy="1947600"/>
          </a:xfrm>
          <a:prstGeom prst="rect">
            <a:avLst/>
          </a:prstGeom>
          <a:ln w="0">
            <a:noFill/>
          </a:ln>
        </p:spPr>
      </p:pic>
      <p:sp>
        <p:nvSpPr>
          <p:cNvPr id="1187" name="Freeform 25"/>
          <p:cNvSpPr/>
          <p:nvPr/>
        </p:nvSpPr>
        <p:spPr>
          <a:xfrm>
            <a:off x="5646600" y="1333440"/>
            <a:ext cx="992160" cy="905040"/>
          </a:xfrm>
          <a:custGeom>
            <a:avLst/>
            <a:gdLst>
              <a:gd name="textAreaLeft" fmla="*/ 0 w 992160"/>
              <a:gd name="textAreaRight" fmla="*/ 992520 w 992160"/>
              <a:gd name="textAreaTop" fmla="*/ 0 h 905040"/>
              <a:gd name="textAreaBottom" fmla="*/ 905400 h 905040"/>
            </a:gdLst>
            <a:ahLst/>
            <a:rect l="textAreaLeft" t="textAreaTop" r="textAreaRight" b="textAreaBottom"/>
            <a:pathLst>
              <a:path w="606" h="576">
                <a:moveTo>
                  <a:pt x="353" y="522"/>
                </a:moveTo>
                <a:lnTo>
                  <a:pt x="252" y="522"/>
                </a:lnTo>
                <a:cubicBezTo>
                  <a:pt x="245" y="522"/>
                  <a:pt x="239" y="528"/>
                  <a:pt x="239" y="535"/>
                </a:cubicBezTo>
                <a:cubicBezTo>
                  <a:pt x="239" y="543"/>
                  <a:pt x="245" y="548"/>
                  <a:pt x="252" y="548"/>
                </a:cubicBezTo>
                <a:lnTo>
                  <a:pt x="353" y="548"/>
                </a:lnTo>
                <a:cubicBezTo>
                  <a:pt x="361" y="548"/>
                  <a:pt x="366" y="543"/>
                  <a:pt x="366" y="535"/>
                </a:cubicBezTo>
                <a:cubicBezTo>
                  <a:pt x="366" y="528"/>
                  <a:pt x="361" y="522"/>
                  <a:pt x="353" y="522"/>
                </a:cubicBezTo>
                <a:close/>
                <a:moveTo>
                  <a:pt x="353" y="481"/>
                </a:moveTo>
                <a:lnTo>
                  <a:pt x="353" y="481"/>
                </a:lnTo>
                <a:lnTo>
                  <a:pt x="252" y="481"/>
                </a:lnTo>
                <a:cubicBezTo>
                  <a:pt x="245" y="481"/>
                  <a:pt x="239" y="487"/>
                  <a:pt x="239" y="494"/>
                </a:cubicBezTo>
                <a:cubicBezTo>
                  <a:pt x="239" y="502"/>
                  <a:pt x="245" y="508"/>
                  <a:pt x="252" y="508"/>
                </a:cubicBezTo>
                <a:lnTo>
                  <a:pt x="353" y="508"/>
                </a:lnTo>
                <a:cubicBezTo>
                  <a:pt x="361" y="508"/>
                  <a:pt x="366" y="502"/>
                  <a:pt x="366" y="494"/>
                </a:cubicBezTo>
                <a:cubicBezTo>
                  <a:pt x="366" y="487"/>
                  <a:pt x="361" y="481"/>
                  <a:pt x="353" y="481"/>
                </a:cubicBezTo>
                <a:close/>
                <a:moveTo>
                  <a:pt x="303" y="576"/>
                </a:moveTo>
                <a:lnTo>
                  <a:pt x="303" y="576"/>
                </a:lnTo>
                <a:lnTo>
                  <a:pt x="346" y="560"/>
                </a:lnTo>
                <a:lnTo>
                  <a:pt x="259" y="560"/>
                </a:lnTo>
                <a:lnTo>
                  <a:pt x="303" y="576"/>
                </a:lnTo>
                <a:close/>
                <a:moveTo>
                  <a:pt x="304" y="154"/>
                </a:moveTo>
                <a:lnTo>
                  <a:pt x="304" y="154"/>
                </a:lnTo>
                <a:lnTo>
                  <a:pt x="301" y="154"/>
                </a:lnTo>
                <a:cubicBezTo>
                  <a:pt x="227" y="154"/>
                  <a:pt x="161" y="214"/>
                  <a:pt x="161" y="288"/>
                </a:cubicBezTo>
                <a:cubicBezTo>
                  <a:pt x="161" y="361"/>
                  <a:pt x="223" y="404"/>
                  <a:pt x="230" y="426"/>
                </a:cubicBezTo>
                <a:cubicBezTo>
                  <a:pt x="236" y="449"/>
                  <a:pt x="230" y="461"/>
                  <a:pt x="246" y="466"/>
                </a:cubicBezTo>
                <a:cubicBezTo>
                  <a:pt x="263" y="471"/>
                  <a:pt x="301" y="470"/>
                  <a:pt x="301" y="470"/>
                </a:cubicBezTo>
                <a:lnTo>
                  <a:pt x="304" y="470"/>
                </a:lnTo>
                <a:cubicBezTo>
                  <a:pt x="304" y="470"/>
                  <a:pt x="342" y="471"/>
                  <a:pt x="359" y="466"/>
                </a:cubicBezTo>
                <a:cubicBezTo>
                  <a:pt x="376" y="461"/>
                  <a:pt x="370" y="449"/>
                  <a:pt x="376" y="426"/>
                </a:cubicBezTo>
                <a:cubicBezTo>
                  <a:pt x="382" y="404"/>
                  <a:pt x="444" y="361"/>
                  <a:pt x="444" y="288"/>
                </a:cubicBezTo>
                <a:cubicBezTo>
                  <a:pt x="444" y="214"/>
                  <a:pt x="378" y="154"/>
                  <a:pt x="304" y="154"/>
                </a:cubicBezTo>
                <a:close/>
                <a:moveTo>
                  <a:pt x="119" y="312"/>
                </a:moveTo>
                <a:lnTo>
                  <a:pt x="119" y="312"/>
                </a:lnTo>
                <a:cubicBezTo>
                  <a:pt x="119" y="301"/>
                  <a:pt x="108" y="293"/>
                  <a:pt x="96" y="293"/>
                </a:cubicBezTo>
                <a:lnTo>
                  <a:pt x="23" y="293"/>
                </a:lnTo>
                <a:cubicBezTo>
                  <a:pt x="10" y="293"/>
                  <a:pt x="0" y="301"/>
                  <a:pt x="0" y="312"/>
                </a:cubicBezTo>
                <a:cubicBezTo>
                  <a:pt x="0" y="322"/>
                  <a:pt x="10" y="330"/>
                  <a:pt x="23" y="330"/>
                </a:cubicBezTo>
                <a:lnTo>
                  <a:pt x="96" y="330"/>
                </a:lnTo>
                <a:cubicBezTo>
                  <a:pt x="108" y="330"/>
                  <a:pt x="119" y="322"/>
                  <a:pt x="119" y="312"/>
                </a:cubicBezTo>
                <a:close/>
                <a:moveTo>
                  <a:pt x="583" y="293"/>
                </a:moveTo>
                <a:lnTo>
                  <a:pt x="583" y="293"/>
                </a:lnTo>
                <a:lnTo>
                  <a:pt x="510" y="293"/>
                </a:lnTo>
                <a:cubicBezTo>
                  <a:pt x="497" y="293"/>
                  <a:pt x="487" y="301"/>
                  <a:pt x="487" y="312"/>
                </a:cubicBezTo>
                <a:cubicBezTo>
                  <a:pt x="487" y="322"/>
                  <a:pt x="497" y="330"/>
                  <a:pt x="510" y="330"/>
                </a:cubicBezTo>
                <a:lnTo>
                  <a:pt x="583" y="330"/>
                </a:lnTo>
                <a:cubicBezTo>
                  <a:pt x="595" y="330"/>
                  <a:pt x="606" y="322"/>
                  <a:pt x="606" y="312"/>
                </a:cubicBezTo>
                <a:cubicBezTo>
                  <a:pt x="606" y="301"/>
                  <a:pt x="595" y="293"/>
                  <a:pt x="583" y="293"/>
                </a:cubicBezTo>
                <a:close/>
                <a:moveTo>
                  <a:pt x="464" y="175"/>
                </a:moveTo>
                <a:lnTo>
                  <a:pt x="464" y="175"/>
                </a:lnTo>
                <a:lnTo>
                  <a:pt x="515" y="124"/>
                </a:lnTo>
                <a:cubicBezTo>
                  <a:pt x="524" y="115"/>
                  <a:pt x="525" y="101"/>
                  <a:pt x="518" y="94"/>
                </a:cubicBezTo>
                <a:cubicBezTo>
                  <a:pt x="511" y="86"/>
                  <a:pt x="497" y="88"/>
                  <a:pt x="488" y="97"/>
                </a:cubicBezTo>
                <a:lnTo>
                  <a:pt x="437" y="148"/>
                </a:lnTo>
                <a:cubicBezTo>
                  <a:pt x="428" y="157"/>
                  <a:pt x="427" y="171"/>
                  <a:pt x="434" y="178"/>
                </a:cubicBezTo>
                <a:cubicBezTo>
                  <a:pt x="441" y="185"/>
                  <a:pt x="455" y="184"/>
                  <a:pt x="464" y="175"/>
                </a:cubicBezTo>
                <a:close/>
                <a:moveTo>
                  <a:pt x="301" y="119"/>
                </a:moveTo>
                <a:lnTo>
                  <a:pt x="301" y="119"/>
                </a:lnTo>
                <a:cubicBezTo>
                  <a:pt x="312" y="119"/>
                  <a:pt x="320" y="108"/>
                  <a:pt x="320" y="96"/>
                </a:cubicBezTo>
                <a:lnTo>
                  <a:pt x="320" y="23"/>
                </a:lnTo>
                <a:cubicBezTo>
                  <a:pt x="320" y="10"/>
                  <a:pt x="312" y="0"/>
                  <a:pt x="301" y="0"/>
                </a:cubicBezTo>
                <a:cubicBezTo>
                  <a:pt x="291" y="0"/>
                  <a:pt x="282" y="10"/>
                  <a:pt x="282" y="23"/>
                </a:cubicBezTo>
                <a:lnTo>
                  <a:pt x="282" y="96"/>
                </a:lnTo>
                <a:cubicBezTo>
                  <a:pt x="282" y="108"/>
                  <a:pt x="291" y="119"/>
                  <a:pt x="301" y="119"/>
                </a:cubicBezTo>
                <a:close/>
                <a:moveTo>
                  <a:pt x="136" y="167"/>
                </a:moveTo>
                <a:lnTo>
                  <a:pt x="136" y="167"/>
                </a:lnTo>
                <a:cubicBezTo>
                  <a:pt x="145" y="176"/>
                  <a:pt x="158" y="178"/>
                  <a:pt x="165" y="170"/>
                </a:cubicBezTo>
                <a:cubicBezTo>
                  <a:pt x="173" y="163"/>
                  <a:pt x="171" y="150"/>
                  <a:pt x="162" y="141"/>
                </a:cubicBezTo>
                <a:lnTo>
                  <a:pt x="111" y="89"/>
                </a:lnTo>
                <a:cubicBezTo>
                  <a:pt x="102" y="80"/>
                  <a:pt x="89" y="79"/>
                  <a:pt x="81" y="86"/>
                </a:cubicBezTo>
                <a:cubicBezTo>
                  <a:pt x="74" y="94"/>
                  <a:pt x="75" y="107"/>
                  <a:pt x="84" y="116"/>
                </a:cubicBezTo>
                <a:lnTo>
                  <a:pt x="136" y="167"/>
                </a:lnTo>
                <a:close/>
                <a:moveTo>
                  <a:pt x="142" y="448"/>
                </a:moveTo>
                <a:lnTo>
                  <a:pt x="142" y="448"/>
                </a:lnTo>
                <a:lnTo>
                  <a:pt x="90" y="499"/>
                </a:lnTo>
                <a:cubicBezTo>
                  <a:pt x="81" y="508"/>
                  <a:pt x="80" y="522"/>
                  <a:pt x="87" y="529"/>
                </a:cubicBezTo>
                <a:cubicBezTo>
                  <a:pt x="95" y="536"/>
                  <a:pt x="108" y="535"/>
                  <a:pt x="117" y="526"/>
                </a:cubicBezTo>
                <a:lnTo>
                  <a:pt x="169" y="474"/>
                </a:lnTo>
                <a:cubicBezTo>
                  <a:pt x="178" y="465"/>
                  <a:pt x="179" y="452"/>
                  <a:pt x="172" y="445"/>
                </a:cubicBezTo>
                <a:cubicBezTo>
                  <a:pt x="164" y="437"/>
                  <a:pt x="151" y="439"/>
                  <a:pt x="142" y="448"/>
                </a:cubicBezTo>
                <a:close/>
                <a:moveTo>
                  <a:pt x="470" y="455"/>
                </a:moveTo>
                <a:lnTo>
                  <a:pt x="470" y="455"/>
                </a:lnTo>
                <a:cubicBezTo>
                  <a:pt x="461" y="446"/>
                  <a:pt x="447" y="445"/>
                  <a:pt x="440" y="452"/>
                </a:cubicBezTo>
                <a:cubicBezTo>
                  <a:pt x="433" y="460"/>
                  <a:pt x="434" y="473"/>
                  <a:pt x="443" y="482"/>
                </a:cubicBezTo>
                <a:lnTo>
                  <a:pt x="495" y="534"/>
                </a:lnTo>
                <a:cubicBezTo>
                  <a:pt x="504" y="543"/>
                  <a:pt x="517" y="544"/>
                  <a:pt x="524" y="536"/>
                </a:cubicBezTo>
                <a:cubicBezTo>
                  <a:pt x="532" y="529"/>
                  <a:pt x="530" y="516"/>
                  <a:pt x="521" y="507"/>
                </a:cubicBezTo>
                <a:lnTo>
                  <a:pt x="470" y="455"/>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88" name="Freeform 21"/>
          <p:cNvSpPr/>
          <p:nvPr/>
        </p:nvSpPr>
        <p:spPr>
          <a:xfrm>
            <a:off x="3435480" y="4559400"/>
            <a:ext cx="266400" cy="268200"/>
          </a:xfrm>
          <a:custGeom>
            <a:avLst/>
            <a:gdLst>
              <a:gd name="textAreaLeft" fmla="*/ 0 w 266400"/>
              <a:gd name="textAreaRight" fmla="*/ 266760 w 26640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89" name="TextBox 28"/>
          <p:cNvSpPr/>
          <p:nvPr/>
        </p:nvSpPr>
        <p:spPr>
          <a:xfrm>
            <a:off x="3730680" y="450864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主要问题分析</a:t>
            </a:r>
            <a:endParaRPr b="0" lang="en-US" sz="1800" spc="-1" strike="noStrike">
              <a:solidFill>
                <a:srgbClr val="54a0d8"/>
              </a:solidFill>
              <a:latin typeface="Arial"/>
            </a:endParaRPr>
          </a:p>
        </p:txBody>
      </p:sp>
      <p:sp>
        <p:nvSpPr>
          <p:cNvPr id="1190" name="Freeform 21"/>
          <p:cNvSpPr/>
          <p:nvPr/>
        </p:nvSpPr>
        <p:spPr>
          <a:xfrm>
            <a:off x="7561440" y="4559400"/>
            <a:ext cx="266400" cy="268200"/>
          </a:xfrm>
          <a:custGeom>
            <a:avLst/>
            <a:gdLst>
              <a:gd name="textAreaLeft" fmla="*/ 0 w 266400"/>
              <a:gd name="textAreaRight" fmla="*/ 266760 w 26640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91" name="TextBox 44"/>
          <p:cNvSpPr/>
          <p:nvPr/>
        </p:nvSpPr>
        <p:spPr>
          <a:xfrm>
            <a:off x="7856640" y="4508640"/>
            <a:ext cx="148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相关建议</a:t>
            </a:r>
            <a:endParaRPr b="0" lang="en-US" sz="1800" spc="-1" strike="noStrike">
              <a:solidFill>
                <a:srgbClr val="54a0d8"/>
              </a:solidFill>
              <a:latin typeface="Arial"/>
            </a:endParaRPr>
          </a:p>
        </p:txBody>
      </p:sp>
      <p:sp>
        <p:nvSpPr>
          <p:cNvPr id="1192" name="Freeform 21"/>
          <p:cNvSpPr/>
          <p:nvPr/>
        </p:nvSpPr>
        <p:spPr>
          <a:xfrm>
            <a:off x="5508720" y="455940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93" name="TextBox 46"/>
          <p:cNvSpPr/>
          <p:nvPr/>
        </p:nvSpPr>
        <p:spPr>
          <a:xfrm>
            <a:off x="5803920" y="4508640"/>
            <a:ext cx="167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问题评估</a:t>
            </a:r>
            <a:endParaRPr b="0" lang="en-US" sz="1800" spc="-1" strike="noStrike">
              <a:solidFill>
                <a:srgbClr val="54a0d8"/>
              </a:solidFill>
              <a:latin typeface="Arial"/>
            </a:endParaRPr>
          </a:p>
        </p:txBody>
      </p:sp>
      <p:sp>
        <p:nvSpPr>
          <p:cNvPr id="1194" name="Freeform 21"/>
          <p:cNvSpPr/>
          <p:nvPr/>
        </p:nvSpPr>
        <p:spPr>
          <a:xfrm>
            <a:off x="3435480" y="4964040"/>
            <a:ext cx="266400" cy="268200"/>
          </a:xfrm>
          <a:custGeom>
            <a:avLst/>
            <a:gdLst>
              <a:gd name="textAreaLeft" fmla="*/ 0 w 266400"/>
              <a:gd name="textAreaRight" fmla="*/ 266760 w 26640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95" name="TextBox 32"/>
          <p:cNvSpPr/>
          <p:nvPr/>
        </p:nvSpPr>
        <p:spPr>
          <a:xfrm>
            <a:off x="3730680" y="491328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研究总结</a:t>
            </a:r>
            <a:endParaRPr b="0" lang="en-US" sz="1800" spc="-1" strike="noStrike">
              <a:solidFill>
                <a:srgbClr val="54a0d8"/>
              </a:solidFill>
              <a:latin typeface="Arial"/>
            </a:endParaRPr>
          </a:p>
        </p:txBody>
      </p:sp>
      <p:sp>
        <p:nvSpPr>
          <p:cNvPr id="1196" name="Freeform 21"/>
          <p:cNvSpPr/>
          <p:nvPr/>
        </p:nvSpPr>
        <p:spPr>
          <a:xfrm>
            <a:off x="5508720" y="496404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197" name="TextBox 36"/>
          <p:cNvSpPr/>
          <p:nvPr/>
        </p:nvSpPr>
        <p:spPr>
          <a:xfrm>
            <a:off x="5803920" y="4913280"/>
            <a:ext cx="167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亮点与不足</a:t>
            </a:r>
            <a:endParaRPr b="0" lang="en-US" sz="1800" spc="-1" strike="noStrike">
              <a:solidFill>
                <a:srgbClr val="54a0d8"/>
              </a:solidFill>
              <a:latin typeface="Arial"/>
            </a:endParaRPr>
          </a:p>
        </p:txBody>
      </p:sp>
    </p:spTree>
  </p:cSld>
  <p:transition spd="slow" advTm="10000">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5.1 </a:t>
            </a:r>
            <a:r>
              <a:rPr b="0" lang="zh-CN" sz="2800" spc="-1" strike="noStrike">
                <a:solidFill>
                  <a:srgbClr val="4d4d4d"/>
                </a:solidFill>
                <a:latin typeface="微软雅黑"/>
                <a:ea typeface="微软雅黑"/>
              </a:rPr>
              <a:t>主要问题分析</a:t>
            </a:r>
            <a:endParaRPr b="0" lang="en-US" sz="2800" spc="-1" strike="noStrike">
              <a:solidFill>
                <a:srgbClr val="54a0d8"/>
              </a:solidFill>
              <a:latin typeface="Arial"/>
            </a:endParaRPr>
          </a:p>
        </p:txBody>
      </p:sp>
      <p:sp>
        <p:nvSpPr>
          <p:cNvPr id="1199"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00" name="直接连接符 33"/>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201" name="圆角右箭头 41"/>
          <p:cNvSpPr/>
          <p:nvPr/>
        </p:nvSpPr>
        <p:spPr>
          <a:xfrm>
            <a:off x="6297480" y="2825640"/>
            <a:ext cx="1366920" cy="3598920"/>
          </a:xfrm>
          <a:custGeom>
            <a:avLst/>
            <a:gdLst/>
            <a:ahLst/>
            <a:rect l="l" t="t" r="r" b="b"/>
            <a:pathLst>
              <a:path w="1367389" h="3598747">
                <a:moveTo>
                  <a:pt x="0" y="3598747"/>
                </a:moveTo>
                <a:lnTo>
                  <a:pt x="0" y="1196465"/>
                </a:lnTo>
                <a:lnTo>
                  <a:pt x="0" y="1196465"/>
                </a:lnTo>
                <a:arcTo wR="1025542" hR="1025542" stAng="-10799997" swAng="5400003"/>
                <a:lnTo>
                  <a:pt x="1025542" y="170924"/>
                </a:lnTo>
                <a:lnTo>
                  <a:pt x="1025542" y="0"/>
                </a:lnTo>
                <a:lnTo>
                  <a:pt x="1367389" y="341847"/>
                </a:lnTo>
                <a:lnTo>
                  <a:pt x="1025542" y="683695"/>
                </a:lnTo>
                <a:lnTo>
                  <a:pt x="1025542" y="512771"/>
                </a:lnTo>
                <a:lnTo>
                  <a:pt x="1025542" y="512771"/>
                </a:lnTo>
                <a:lnTo>
                  <a:pt x="1025542" y="512771"/>
                </a:lnTo>
                <a:arcTo wR="683695" hR="683695" stAng="-5399995" swAng="-5400000"/>
                <a:lnTo>
                  <a:pt x="341847" y="3598747"/>
                </a:lnTo>
                <a:close/>
              </a:path>
            </a:pathLst>
          </a:custGeom>
          <a:solidFill>
            <a:srgbClr val="e96969"/>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02" name="圆角右箭头 52"/>
          <p:cNvSpPr/>
          <p:nvPr/>
        </p:nvSpPr>
        <p:spPr>
          <a:xfrm flipH="1">
            <a:off x="4353840" y="2825640"/>
            <a:ext cx="1366920" cy="3598920"/>
          </a:xfrm>
          <a:custGeom>
            <a:avLst/>
            <a:gdLst/>
            <a:ahLst/>
            <a:rect l="l" t="t" r="r" b="b"/>
            <a:pathLst>
              <a:path w="1367389" h="3598747">
                <a:moveTo>
                  <a:pt x="0" y="3598747"/>
                </a:moveTo>
                <a:lnTo>
                  <a:pt x="0" y="1196465"/>
                </a:lnTo>
                <a:lnTo>
                  <a:pt x="0" y="1196465"/>
                </a:lnTo>
                <a:arcTo wR="1025542" hR="1025542" stAng="-10799997" swAng="5400003"/>
                <a:lnTo>
                  <a:pt x="1025542" y="170924"/>
                </a:lnTo>
                <a:lnTo>
                  <a:pt x="1025542" y="0"/>
                </a:lnTo>
                <a:lnTo>
                  <a:pt x="1367389" y="341847"/>
                </a:lnTo>
                <a:lnTo>
                  <a:pt x="1025542" y="683695"/>
                </a:lnTo>
                <a:lnTo>
                  <a:pt x="1025542" y="512771"/>
                </a:lnTo>
                <a:lnTo>
                  <a:pt x="1025542" y="512771"/>
                </a:lnTo>
                <a:lnTo>
                  <a:pt x="1025542" y="512771"/>
                </a:lnTo>
                <a:arcTo wR="683695" hR="683695" stAng="-5399995" swAng="-5400000"/>
                <a:lnTo>
                  <a:pt x="341847" y="3598747"/>
                </a:lnTo>
                <a:close/>
              </a:path>
            </a:pathLst>
          </a:custGeom>
          <a:solidFill>
            <a:srgbClr val="e96969"/>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03" name="圆角右箭头 61"/>
          <p:cNvSpPr/>
          <p:nvPr/>
        </p:nvSpPr>
        <p:spPr>
          <a:xfrm>
            <a:off x="6711840" y="3900600"/>
            <a:ext cx="1360440" cy="2523960"/>
          </a:xfrm>
          <a:custGeom>
            <a:avLst/>
            <a:gdLst/>
            <a:ahLst/>
            <a:rect l="l" t="t" r="r" b="b"/>
            <a:pathLst>
              <a:path w="1360585" h="2523884">
                <a:moveTo>
                  <a:pt x="0" y="2523884"/>
                </a:moveTo>
                <a:lnTo>
                  <a:pt x="0" y="1190512"/>
                </a:lnTo>
                <a:lnTo>
                  <a:pt x="0" y="1190512"/>
                </a:lnTo>
                <a:arcTo wR="1020439" hR="1020439" stAng="-10799997" swAng="5400003"/>
                <a:lnTo>
                  <a:pt x="1020439" y="170073"/>
                </a:lnTo>
                <a:lnTo>
                  <a:pt x="1020439" y="0"/>
                </a:lnTo>
                <a:lnTo>
                  <a:pt x="1360585" y="340146"/>
                </a:lnTo>
                <a:lnTo>
                  <a:pt x="1020439" y="680293"/>
                </a:lnTo>
                <a:lnTo>
                  <a:pt x="1020439" y="510219"/>
                </a:lnTo>
                <a:lnTo>
                  <a:pt x="1020439" y="510219"/>
                </a:lnTo>
                <a:lnTo>
                  <a:pt x="1020439" y="510219"/>
                </a:lnTo>
                <a:arcTo wR="680293" hR="680293" stAng="-5399995" swAng="-5400000"/>
                <a:lnTo>
                  <a:pt x="340146" y="2523884"/>
                </a:lnTo>
                <a:close/>
              </a:path>
            </a:pathLst>
          </a:cu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04" name="圆角右箭头 83"/>
          <p:cNvSpPr/>
          <p:nvPr/>
        </p:nvSpPr>
        <p:spPr>
          <a:xfrm flipH="1">
            <a:off x="3940920" y="3900600"/>
            <a:ext cx="1360440" cy="2523960"/>
          </a:xfrm>
          <a:custGeom>
            <a:avLst/>
            <a:gdLst/>
            <a:ahLst/>
            <a:rect l="l" t="t" r="r" b="b"/>
            <a:pathLst>
              <a:path w="1360585" h="2523884">
                <a:moveTo>
                  <a:pt x="0" y="2523884"/>
                </a:moveTo>
                <a:lnTo>
                  <a:pt x="0" y="1190512"/>
                </a:lnTo>
                <a:lnTo>
                  <a:pt x="0" y="1190512"/>
                </a:lnTo>
                <a:arcTo wR="1020439" hR="1020439" stAng="-10799997" swAng="5400003"/>
                <a:lnTo>
                  <a:pt x="1020439" y="170073"/>
                </a:lnTo>
                <a:lnTo>
                  <a:pt x="1020439" y="0"/>
                </a:lnTo>
                <a:lnTo>
                  <a:pt x="1360585" y="340146"/>
                </a:lnTo>
                <a:lnTo>
                  <a:pt x="1020439" y="680293"/>
                </a:lnTo>
                <a:lnTo>
                  <a:pt x="1020439" y="510219"/>
                </a:lnTo>
                <a:lnTo>
                  <a:pt x="1020439" y="510219"/>
                </a:lnTo>
                <a:lnTo>
                  <a:pt x="1020439" y="510219"/>
                </a:lnTo>
                <a:arcTo wR="680293" hR="680293" stAng="-5399995" swAng="-5400000"/>
                <a:lnTo>
                  <a:pt x="340146" y="2523884"/>
                </a:lnTo>
                <a:close/>
              </a:path>
            </a:pathLst>
          </a:cu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05" name="上箭头 45"/>
          <p:cNvSpPr/>
          <p:nvPr/>
        </p:nvSpPr>
        <p:spPr>
          <a:xfrm>
            <a:off x="5678640" y="2320920"/>
            <a:ext cx="693720" cy="4103640"/>
          </a:xfrm>
          <a:prstGeom prst="upArrow">
            <a:avLst>
              <a:gd name="adj1" fmla="val 50000"/>
              <a:gd name="adj2" fmla="val 50007"/>
            </a:avLst>
          </a:pr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06" name="TextBox 9"/>
          <p:cNvSpPr/>
          <p:nvPr/>
        </p:nvSpPr>
        <p:spPr>
          <a:xfrm>
            <a:off x="2093400" y="38926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添加您的标题</a:t>
            </a:r>
            <a:endParaRPr b="0" lang="en-US" sz="1800" spc="-1" strike="noStrike">
              <a:solidFill>
                <a:srgbClr val="54a0d8"/>
              </a:solidFill>
              <a:latin typeface="Arial"/>
            </a:endParaRPr>
          </a:p>
        </p:txBody>
      </p:sp>
      <p:sp>
        <p:nvSpPr>
          <p:cNvPr id="1207" name="TextBox 10"/>
          <p:cNvSpPr/>
          <p:nvPr/>
        </p:nvSpPr>
        <p:spPr>
          <a:xfrm>
            <a:off x="1546200" y="4249800"/>
            <a:ext cx="2162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编辑您要的内容，建议您在展示时采用微软雅黑字体，</a:t>
            </a:r>
            <a:endParaRPr b="0" lang="en-US" sz="1400" spc="-1" strike="noStrike">
              <a:solidFill>
                <a:srgbClr val="54a0d8"/>
              </a:solidFill>
              <a:latin typeface="Arial"/>
            </a:endParaRPr>
          </a:p>
        </p:txBody>
      </p:sp>
      <p:sp>
        <p:nvSpPr>
          <p:cNvPr id="1208" name="TextBox 9"/>
          <p:cNvSpPr/>
          <p:nvPr/>
        </p:nvSpPr>
        <p:spPr>
          <a:xfrm>
            <a:off x="2738880" y="2260440"/>
            <a:ext cx="1003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添加您的标题</a:t>
            </a:r>
            <a:endParaRPr b="0" lang="en-US" sz="1800" spc="-1" strike="noStrike">
              <a:solidFill>
                <a:srgbClr val="54a0d8"/>
              </a:solidFill>
              <a:latin typeface="Arial"/>
            </a:endParaRPr>
          </a:p>
        </p:txBody>
      </p:sp>
      <p:sp>
        <p:nvSpPr>
          <p:cNvPr id="1209" name="TextBox 10"/>
          <p:cNvSpPr/>
          <p:nvPr/>
        </p:nvSpPr>
        <p:spPr>
          <a:xfrm>
            <a:off x="2192400" y="2617920"/>
            <a:ext cx="2162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编辑您要的内容，建议您在展示时采用微软雅黑字体，</a:t>
            </a:r>
            <a:endParaRPr b="0" lang="en-US" sz="1400" spc="-1" strike="noStrike">
              <a:solidFill>
                <a:srgbClr val="54a0d8"/>
              </a:solidFill>
              <a:latin typeface="Arial"/>
            </a:endParaRPr>
          </a:p>
        </p:txBody>
      </p:sp>
      <p:sp>
        <p:nvSpPr>
          <p:cNvPr id="1210" name="TextBox 9"/>
          <p:cNvSpPr/>
          <p:nvPr/>
        </p:nvSpPr>
        <p:spPr>
          <a:xfrm>
            <a:off x="5520240" y="1050840"/>
            <a:ext cx="1003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添加您的标题</a:t>
            </a:r>
            <a:endParaRPr b="0" lang="en-US" sz="1800" spc="-1" strike="noStrike">
              <a:solidFill>
                <a:srgbClr val="54a0d8"/>
              </a:solidFill>
              <a:latin typeface="Arial"/>
            </a:endParaRPr>
          </a:p>
        </p:txBody>
      </p:sp>
      <p:sp>
        <p:nvSpPr>
          <p:cNvPr id="1211" name="TextBox 10"/>
          <p:cNvSpPr/>
          <p:nvPr/>
        </p:nvSpPr>
        <p:spPr>
          <a:xfrm>
            <a:off x="4973760" y="1406520"/>
            <a:ext cx="216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编辑您要的内容，建议您在展示时采用微软雅黑字体，</a:t>
            </a:r>
            <a:endParaRPr b="0" lang="en-US" sz="1400" spc="-1" strike="noStrike">
              <a:solidFill>
                <a:srgbClr val="54a0d8"/>
              </a:solidFill>
              <a:latin typeface="Arial"/>
            </a:endParaRPr>
          </a:p>
        </p:txBody>
      </p:sp>
      <p:sp>
        <p:nvSpPr>
          <p:cNvPr id="1212" name="TextBox 9"/>
          <p:cNvSpPr/>
          <p:nvPr/>
        </p:nvSpPr>
        <p:spPr>
          <a:xfrm>
            <a:off x="8249040" y="2247840"/>
            <a:ext cx="1003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添加您的标题</a:t>
            </a:r>
            <a:endParaRPr b="0" lang="en-US" sz="1800" spc="-1" strike="noStrike">
              <a:solidFill>
                <a:srgbClr val="54a0d8"/>
              </a:solidFill>
              <a:latin typeface="Arial"/>
            </a:endParaRPr>
          </a:p>
        </p:txBody>
      </p:sp>
      <p:sp>
        <p:nvSpPr>
          <p:cNvPr id="1213" name="TextBox 10"/>
          <p:cNvSpPr/>
          <p:nvPr/>
        </p:nvSpPr>
        <p:spPr>
          <a:xfrm>
            <a:off x="7702560" y="2604960"/>
            <a:ext cx="216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编辑您要的内容，建议您在展示时采用微软雅黑字体，</a:t>
            </a:r>
            <a:endParaRPr b="0" lang="en-US" sz="1400" spc="-1" strike="noStrike">
              <a:solidFill>
                <a:srgbClr val="54a0d8"/>
              </a:solidFill>
              <a:latin typeface="Arial"/>
            </a:endParaRPr>
          </a:p>
        </p:txBody>
      </p:sp>
      <p:sp>
        <p:nvSpPr>
          <p:cNvPr id="1214" name="TextBox 9"/>
          <p:cNvSpPr/>
          <p:nvPr/>
        </p:nvSpPr>
        <p:spPr>
          <a:xfrm>
            <a:off x="8923680" y="38926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添加您的标题</a:t>
            </a:r>
            <a:endParaRPr b="0" lang="en-US" sz="1800" spc="-1" strike="noStrike">
              <a:solidFill>
                <a:srgbClr val="54a0d8"/>
              </a:solidFill>
              <a:latin typeface="Arial"/>
            </a:endParaRPr>
          </a:p>
        </p:txBody>
      </p:sp>
      <p:sp>
        <p:nvSpPr>
          <p:cNvPr id="1215" name="TextBox 10"/>
          <p:cNvSpPr/>
          <p:nvPr/>
        </p:nvSpPr>
        <p:spPr>
          <a:xfrm>
            <a:off x="8377200" y="4249800"/>
            <a:ext cx="216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编辑您要的内容，建议您在展示时采用微软雅黑字体，</a:t>
            </a:r>
            <a:endParaRPr b="0" lang="en-US" sz="1400" spc="-1" strike="noStrike">
              <a:solidFill>
                <a:srgbClr val="54a0d8"/>
              </a:solidFill>
              <a:latin typeface="Arial"/>
            </a:endParaRPr>
          </a:p>
        </p:txBody>
      </p:sp>
    </p:spTree>
  </p:cSld>
  <p:transition spd="slow" advTm="6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ie 10"/>
          <p:cNvSpPr/>
          <p:nvPr/>
        </p:nvSpPr>
        <p:spPr>
          <a:xfrm>
            <a:off x="3871800" y="2081160"/>
            <a:ext cx="1878120" cy="1879560"/>
          </a:xfrm>
          <a:custGeom>
            <a:avLst/>
            <a:gdLst>
              <a:gd name="textAreaLeft" fmla="*/ 275040 w 1878120"/>
              <a:gd name="textAreaRight" fmla="*/ 1603080 w 1878120"/>
              <a:gd name="textAreaTop" fmla="*/ 275040 h 1879560"/>
              <a:gd name="textAreaBottom" fmla="*/ 1604520 h 1879560"/>
            </a:gdLst>
            <a:ahLst/>
            <a:rect l="textAreaLeft" t="textAreaTop" r="textAreaRight" b="textAreaBottom"/>
            <a:pathLst>
              <a:path w="1878745" h="1878745">
                <a:moveTo>
                  <a:pt x="1566178" y="1639040"/>
                </a:moveTo>
                <a:lnTo>
                  <a:pt x="1566178" y="1639040"/>
                </a:lnTo>
                <a:arcTo wR="939373" hR="939373" stAng="2888643" swAng="13311361"/>
                <a:lnTo>
                  <a:pt x="939373" y="939373"/>
                </a:lnTo>
                <a:close/>
              </a:path>
            </a:pathLst>
          </a:custGeom>
          <a:solidFill>
            <a:srgbClr val="e96969"/>
          </a:solidFill>
          <a:ln w="0">
            <a:noFill/>
          </a:ln>
        </p:spPr>
        <p:style>
          <a:lnRef idx="0"/>
          <a:fillRef idx="0"/>
          <a:effectRef idx="0"/>
          <a:fontRef idx="minor"/>
        </p:style>
        <p:txBody>
          <a:bodyPr lIns="90000" rIns="90000" tIns="46800" bIns="46800" anchor="ctr">
            <a:noAutofit/>
          </a:bodyPr>
          <a:p>
            <a:endParaRPr b="0" lang="en-US" sz="1800" spc="-1" strike="noStrike">
              <a:solidFill>
                <a:srgbClr val="54a0d8"/>
              </a:solidFill>
              <a:latin typeface="Arial"/>
            </a:endParaRPr>
          </a:p>
        </p:txBody>
      </p:sp>
      <p:sp>
        <p:nvSpPr>
          <p:cNvPr id="1217" name="Pie 11"/>
          <p:cNvSpPr/>
          <p:nvPr/>
        </p:nvSpPr>
        <p:spPr>
          <a:xfrm>
            <a:off x="6442200" y="2081160"/>
            <a:ext cx="1877760" cy="1879560"/>
          </a:xfrm>
          <a:custGeom>
            <a:avLst/>
            <a:gdLst>
              <a:gd name="textAreaLeft" fmla="*/ 275040 w 1877760"/>
              <a:gd name="textAreaRight" fmla="*/ 1602720 w 1877760"/>
              <a:gd name="textAreaTop" fmla="*/ 275040 h 1879560"/>
              <a:gd name="textAreaBottom" fmla="*/ 1604520 h 1879560"/>
            </a:gdLst>
            <a:ahLst/>
            <a:rect l="textAreaLeft" t="textAreaTop" r="textAreaRight" b="textAreaBottom"/>
            <a:pathLst>
              <a:path w="1878745" h="1878745">
                <a:moveTo>
                  <a:pt x="1073" y="984253"/>
                </a:moveTo>
                <a:lnTo>
                  <a:pt x="1073" y="984253"/>
                </a:lnTo>
                <a:arcTo wR="939373" hR="939373" stAng="10635694" swAng="4310200"/>
                <a:lnTo>
                  <a:pt x="939373" y="939373"/>
                </a:lnTo>
                <a:close/>
              </a:path>
            </a:pathLst>
          </a:custGeom>
          <a:solidFill>
            <a:srgbClr val="e96969"/>
          </a:solidFill>
          <a:ln w="0">
            <a:noFill/>
          </a:ln>
        </p:spPr>
        <p:style>
          <a:lnRef idx="0"/>
          <a:fillRef idx="0"/>
          <a:effectRef idx="0"/>
          <a:fontRef idx="minor"/>
        </p:style>
        <p:txBody>
          <a:bodyPr lIns="90000" rIns="90000" tIns="46800" bIns="46800" anchor="ctr">
            <a:noAutofit/>
          </a:bodyPr>
          <a:p>
            <a:endParaRPr b="0" lang="en-US" sz="1800" spc="-1" strike="noStrike">
              <a:solidFill>
                <a:srgbClr val="54a0d8"/>
              </a:solidFill>
              <a:latin typeface="Arial"/>
            </a:endParaRPr>
          </a:p>
        </p:txBody>
      </p:sp>
      <p:sp>
        <p:nvSpPr>
          <p:cNvPr id="1218" name="Pie 12"/>
          <p:cNvSpPr/>
          <p:nvPr/>
        </p:nvSpPr>
        <p:spPr>
          <a:xfrm>
            <a:off x="9010800" y="2081160"/>
            <a:ext cx="1879560" cy="1879560"/>
          </a:xfrm>
          <a:custGeom>
            <a:avLst/>
            <a:gdLst>
              <a:gd name="textAreaLeft" fmla="*/ 275040 w 1879560"/>
              <a:gd name="textAreaRight" fmla="*/ 1604520 w 1879560"/>
              <a:gd name="textAreaTop" fmla="*/ 275040 h 1879560"/>
              <a:gd name="textAreaBottom" fmla="*/ 1604520 h 1879560"/>
            </a:gdLst>
            <a:ahLst/>
            <a:rect l="textAreaLeft" t="textAreaTop" r="textAreaRight" b="textAreaBottom"/>
            <a:pathLst>
              <a:path w="1878745" h="1878745">
                <a:moveTo>
                  <a:pt x="1826101" y="629319"/>
                </a:moveTo>
                <a:lnTo>
                  <a:pt x="1826101" y="629319"/>
                </a:lnTo>
                <a:arcTo wR="939373" hR="939373" stAng="-1156359" swAng="17356370"/>
                <a:lnTo>
                  <a:pt x="939373" y="939373"/>
                </a:lnTo>
                <a:close/>
              </a:path>
            </a:pathLst>
          </a:custGeom>
          <a:solidFill>
            <a:srgbClr val="e96969"/>
          </a:solidFill>
          <a:ln w="0">
            <a:noFill/>
          </a:ln>
        </p:spPr>
        <p:style>
          <a:lnRef idx="0"/>
          <a:fillRef idx="0"/>
          <a:effectRef idx="0"/>
          <a:fontRef idx="minor"/>
        </p:style>
        <p:txBody>
          <a:bodyPr lIns="90000" rIns="90000" tIns="46800" bIns="46800" anchor="ctr">
            <a:noAutofit/>
          </a:bodyPr>
          <a:p>
            <a:endParaRPr b="0" lang="en-US" sz="1800" spc="-1" strike="noStrike">
              <a:solidFill>
                <a:srgbClr val="54a0d8"/>
              </a:solidFill>
              <a:latin typeface="Arial"/>
            </a:endParaRPr>
          </a:p>
        </p:txBody>
      </p:sp>
      <p:sp>
        <p:nvSpPr>
          <p:cNvPr id="1219" name="Pie 9"/>
          <p:cNvSpPr/>
          <p:nvPr/>
        </p:nvSpPr>
        <p:spPr>
          <a:xfrm>
            <a:off x="1301760" y="2081160"/>
            <a:ext cx="1879560" cy="1879560"/>
          </a:xfrm>
          <a:custGeom>
            <a:avLst/>
            <a:gdLst>
              <a:gd name="textAreaLeft" fmla="*/ 275040 w 1879560"/>
              <a:gd name="textAreaRight" fmla="*/ 1604520 w 1879560"/>
              <a:gd name="textAreaTop" fmla="*/ 275040 h 1879560"/>
              <a:gd name="textAreaBottom" fmla="*/ 1604520 h 1879560"/>
            </a:gdLst>
            <a:ahLst/>
            <a:rect l="textAreaLeft" t="textAreaTop" r="textAreaRight" b="textAreaBottom"/>
            <a:pathLst>
              <a:path w="1878745" h="1878745">
                <a:moveTo>
                  <a:pt x="7015" y="824782"/>
                </a:moveTo>
                <a:lnTo>
                  <a:pt x="7015" y="824782"/>
                </a:lnTo>
                <a:arcTo wR="939373" hR="939373" stAng="-10379597" swAng="4979601"/>
                <a:lnTo>
                  <a:pt x="939373" y="939373"/>
                </a:lnTo>
                <a:close/>
              </a:path>
            </a:pathLst>
          </a:custGeom>
          <a:solidFill>
            <a:srgbClr val="e96969"/>
          </a:solidFill>
          <a:ln w="0">
            <a:noFill/>
          </a:ln>
        </p:spPr>
        <p:style>
          <a:lnRef idx="0"/>
          <a:fillRef idx="0"/>
          <a:effectRef idx="0"/>
          <a:fontRef idx="minor"/>
        </p:style>
        <p:txBody>
          <a:bodyPr lIns="90000" rIns="90000" tIns="46800" bIns="46800" anchor="ctr">
            <a:noAutofit/>
          </a:bodyPr>
          <a:p>
            <a:endParaRPr b="0" lang="en-US" sz="1800" spc="-1" strike="noStrike">
              <a:solidFill>
                <a:srgbClr val="54a0d8"/>
              </a:solidFill>
              <a:latin typeface="Arial"/>
            </a:endParaRPr>
          </a:p>
        </p:txBody>
      </p:sp>
      <p:sp>
        <p:nvSpPr>
          <p:cNvPr id="1220" name="Oval 1"/>
          <p:cNvSpPr/>
          <p:nvPr/>
        </p:nvSpPr>
        <p:spPr>
          <a:xfrm>
            <a:off x="1638360" y="2417760"/>
            <a:ext cx="1206360" cy="1206360"/>
          </a:xfrm>
          <a:prstGeom prst="ellipse">
            <a:avLst/>
          </a:pr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21" name="Oval 2"/>
          <p:cNvSpPr/>
          <p:nvPr/>
        </p:nvSpPr>
        <p:spPr>
          <a:xfrm>
            <a:off x="4208400" y="2417760"/>
            <a:ext cx="1204920" cy="1206360"/>
          </a:xfrm>
          <a:prstGeom prst="ellipse">
            <a:avLst/>
          </a:pr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22" name="Oval 3"/>
          <p:cNvSpPr/>
          <p:nvPr/>
        </p:nvSpPr>
        <p:spPr>
          <a:xfrm>
            <a:off x="6778800" y="2417760"/>
            <a:ext cx="1204560" cy="1206360"/>
          </a:xfrm>
          <a:prstGeom prst="ellipse">
            <a:avLst/>
          </a:pr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23" name="Oval 7"/>
          <p:cNvSpPr/>
          <p:nvPr/>
        </p:nvSpPr>
        <p:spPr>
          <a:xfrm>
            <a:off x="9347040" y="2417760"/>
            <a:ext cx="1206720" cy="1206360"/>
          </a:xfrm>
          <a:prstGeom prst="ellipse">
            <a:avLst/>
          </a:prstGeom>
          <a:solidFill>
            <a:srgbClr val="54a0d8"/>
          </a:solidFill>
          <a:ln w="2844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24" name="TextBox 29"/>
          <p:cNvSpPr/>
          <p:nvPr/>
        </p:nvSpPr>
        <p:spPr>
          <a:xfrm>
            <a:off x="1748880" y="2708280"/>
            <a:ext cx="985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ifeline JL"/>
                <a:ea typeface="微软雅黑"/>
              </a:rPr>
              <a:t>22%</a:t>
            </a:r>
            <a:endParaRPr b="0" lang="en-US" sz="3200" spc="-1" strike="noStrike">
              <a:solidFill>
                <a:srgbClr val="54a0d8"/>
              </a:solidFill>
              <a:latin typeface="Arial"/>
            </a:endParaRPr>
          </a:p>
        </p:txBody>
      </p:sp>
      <p:sp>
        <p:nvSpPr>
          <p:cNvPr id="1225" name="TextBox 30"/>
          <p:cNvSpPr/>
          <p:nvPr/>
        </p:nvSpPr>
        <p:spPr>
          <a:xfrm>
            <a:off x="4318560" y="2708280"/>
            <a:ext cx="985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ifeline JL"/>
                <a:ea typeface="微软雅黑"/>
              </a:rPr>
              <a:t>60%</a:t>
            </a:r>
            <a:endParaRPr b="0" lang="en-US" sz="3200" spc="-1" strike="noStrike">
              <a:solidFill>
                <a:srgbClr val="54a0d8"/>
              </a:solidFill>
              <a:latin typeface="Arial"/>
            </a:endParaRPr>
          </a:p>
        </p:txBody>
      </p:sp>
      <p:sp>
        <p:nvSpPr>
          <p:cNvPr id="1226" name="TextBox 31"/>
          <p:cNvSpPr/>
          <p:nvPr/>
        </p:nvSpPr>
        <p:spPr>
          <a:xfrm>
            <a:off x="6888600" y="2708280"/>
            <a:ext cx="985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ifeline JL"/>
                <a:ea typeface="微软雅黑"/>
              </a:rPr>
              <a:t>20%</a:t>
            </a:r>
            <a:endParaRPr b="0" lang="en-US" sz="3200" spc="-1" strike="noStrike">
              <a:solidFill>
                <a:srgbClr val="54a0d8"/>
              </a:solidFill>
              <a:latin typeface="Arial"/>
            </a:endParaRPr>
          </a:p>
        </p:txBody>
      </p:sp>
      <p:sp>
        <p:nvSpPr>
          <p:cNvPr id="1227" name="TextBox 32"/>
          <p:cNvSpPr/>
          <p:nvPr/>
        </p:nvSpPr>
        <p:spPr>
          <a:xfrm>
            <a:off x="9457920" y="2708280"/>
            <a:ext cx="985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ifeline JL"/>
                <a:ea typeface="微软雅黑"/>
              </a:rPr>
              <a:t>83%</a:t>
            </a:r>
            <a:endParaRPr b="0" lang="en-US" sz="3200" spc="-1" strike="noStrike">
              <a:solidFill>
                <a:srgbClr val="54a0d8"/>
              </a:solidFill>
              <a:latin typeface="Arial"/>
            </a:endParaRPr>
          </a:p>
        </p:txBody>
      </p:sp>
      <p:sp>
        <p:nvSpPr>
          <p:cNvPr id="1228" name="TextBox 76"/>
          <p:cNvSpPr/>
          <p:nvPr/>
        </p:nvSpPr>
        <p:spPr>
          <a:xfrm>
            <a:off x="1122480" y="4175280"/>
            <a:ext cx="205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活动安排是否周到</a:t>
            </a:r>
            <a:endParaRPr b="0" lang="en-US" sz="1800" spc="-1" strike="noStrike">
              <a:solidFill>
                <a:srgbClr val="54a0d8"/>
              </a:solidFill>
              <a:latin typeface="Arial"/>
            </a:endParaRPr>
          </a:p>
        </p:txBody>
      </p:sp>
      <p:sp>
        <p:nvSpPr>
          <p:cNvPr id="1229" name="文本框 52"/>
          <p:cNvSpPr/>
          <p:nvPr/>
        </p:nvSpPr>
        <p:spPr>
          <a:xfrm>
            <a:off x="868320" y="4535640"/>
            <a:ext cx="256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此项评分占比</a:t>
            </a:r>
            <a:r>
              <a:rPr b="0" lang="en-US" sz="1600" spc="-1" strike="noStrike">
                <a:solidFill>
                  <a:srgbClr val="4d4d4d"/>
                </a:solidFill>
                <a:latin typeface="微软雅黑"/>
                <a:ea typeface="微软雅黑"/>
              </a:rPr>
              <a:t>20%</a:t>
            </a:r>
            <a:r>
              <a:rPr b="0" lang="zh-CN" sz="1600" spc="-1" strike="noStrike">
                <a:solidFill>
                  <a:srgbClr val="4d4d4d"/>
                </a:solidFill>
                <a:latin typeface="微软雅黑"/>
                <a:ea typeface="微软雅黑"/>
              </a:rPr>
              <a:t>，包含来宾接待、会场安排、安保措施、后勤等。</a:t>
            </a:r>
            <a:endParaRPr b="0" lang="en-US" sz="1600" spc="-1" strike="noStrike">
              <a:solidFill>
                <a:srgbClr val="54a0d8"/>
              </a:solidFill>
              <a:latin typeface="Arial"/>
            </a:endParaRPr>
          </a:p>
        </p:txBody>
      </p:sp>
      <p:sp>
        <p:nvSpPr>
          <p:cNvPr id="1230" name="TextBox 76"/>
          <p:cNvSpPr/>
          <p:nvPr/>
        </p:nvSpPr>
        <p:spPr>
          <a:xfrm>
            <a:off x="3855960" y="4175280"/>
            <a:ext cx="2025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活动内容质量</a:t>
            </a:r>
            <a:endParaRPr b="0" lang="en-US" sz="1800" spc="-1" strike="noStrike">
              <a:solidFill>
                <a:srgbClr val="54a0d8"/>
              </a:solidFill>
              <a:latin typeface="Arial"/>
            </a:endParaRPr>
          </a:p>
        </p:txBody>
      </p:sp>
      <p:sp>
        <p:nvSpPr>
          <p:cNvPr id="1231" name="文本框 54"/>
          <p:cNvSpPr/>
          <p:nvPr/>
        </p:nvSpPr>
        <p:spPr>
          <a:xfrm>
            <a:off x="3586320" y="4535640"/>
            <a:ext cx="256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此项评分占比</a:t>
            </a:r>
            <a:r>
              <a:rPr b="0" lang="en-US" sz="1600" spc="-1" strike="noStrike">
                <a:solidFill>
                  <a:srgbClr val="4d4d4d"/>
                </a:solidFill>
                <a:latin typeface="微软雅黑"/>
                <a:ea typeface="微软雅黑"/>
              </a:rPr>
              <a:t>50%</a:t>
            </a:r>
            <a:r>
              <a:rPr b="0" lang="zh-CN" sz="1600" spc="-1" strike="noStrike">
                <a:solidFill>
                  <a:srgbClr val="4d4d4d"/>
                </a:solidFill>
                <a:latin typeface="微软雅黑"/>
                <a:ea typeface="微软雅黑"/>
              </a:rPr>
              <a:t>，包含嘉宾演讲质量、文艺演出质量、现场气氛、参与者感受等。</a:t>
            </a:r>
            <a:endParaRPr b="0" lang="en-US" sz="1600" spc="-1" strike="noStrike">
              <a:solidFill>
                <a:srgbClr val="54a0d8"/>
              </a:solidFill>
              <a:latin typeface="Arial"/>
            </a:endParaRPr>
          </a:p>
        </p:txBody>
      </p:sp>
      <p:sp>
        <p:nvSpPr>
          <p:cNvPr id="1232" name="TextBox 76"/>
          <p:cNvSpPr/>
          <p:nvPr/>
        </p:nvSpPr>
        <p:spPr>
          <a:xfrm>
            <a:off x="6653160" y="4175280"/>
            <a:ext cx="166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宣传推广</a:t>
            </a:r>
            <a:endParaRPr b="0" lang="en-US" sz="1800" spc="-1" strike="noStrike">
              <a:solidFill>
                <a:srgbClr val="54a0d8"/>
              </a:solidFill>
              <a:latin typeface="Arial"/>
            </a:endParaRPr>
          </a:p>
        </p:txBody>
      </p:sp>
      <p:sp>
        <p:nvSpPr>
          <p:cNvPr id="1233" name="文本框 56"/>
          <p:cNvSpPr/>
          <p:nvPr/>
        </p:nvSpPr>
        <p:spPr>
          <a:xfrm>
            <a:off x="6283440" y="4535640"/>
            <a:ext cx="2406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此项评分占</a:t>
            </a:r>
            <a:r>
              <a:rPr b="0" lang="en-US" sz="1600" spc="-1" strike="noStrike">
                <a:solidFill>
                  <a:srgbClr val="4d4d4d"/>
                </a:solidFill>
                <a:latin typeface="微软雅黑"/>
                <a:ea typeface="微软雅黑"/>
              </a:rPr>
              <a:t>20%</a:t>
            </a:r>
            <a:r>
              <a:rPr b="0" lang="zh-CN" sz="1600" spc="-1" strike="noStrike">
                <a:solidFill>
                  <a:srgbClr val="4d4d4d"/>
                </a:solidFill>
                <a:latin typeface="微软雅黑"/>
                <a:ea typeface="微软雅黑"/>
              </a:rPr>
              <a:t>，包含宣传是否及时、内容是否有感染力，方法方式是否多样等。</a:t>
            </a:r>
            <a:endParaRPr b="0" lang="en-US" sz="1600" spc="-1" strike="noStrike">
              <a:solidFill>
                <a:srgbClr val="54a0d8"/>
              </a:solidFill>
              <a:latin typeface="Arial"/>
            </a:endParaRPr>
          </a:p>
        </p:txBody>
      </p:sp>
      <p:sp>
        <p:nvSpPr>
          <p:cNvPr id="1234" name="TextBox 76"/>
          <p:cNvSpPr/>
          <p:nvPr/>
        </p:nvSpPr>
        <p:spPr>
          <a:xfrm>
            <a:off x="9613800" y="4175280"/>
            <a:ext cx="109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应急措施</a:t>
            </a:r>
            <a:endParaRPr b="0" lang="en-US" sz="1800" spc="-1" strike="noStrike">
              <a:solidFill>
                <a:srgbClr val="54a0d8"/>
              </a:solidFill>
              <a:latin typeface="Arial"/>
            </a:endParaRPr>
          </a:p>
        </p:txBody>
      </p:sp>
      <p:sp>
        <p:nvSpPr>
          <p:cNvPr id="1235" name="文本框 58"/>
          <p:cNvSpPr/>
          <p:nvPr/>
        </p:nvSpPr>
        <p:spPr>
          <a:xfrm>
            <a:off x="8880480" y="4535640"/>
            <a:ext cx="256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此项评分占比</a:t>
            </a:r>
            <a:r>
              <a:rPr b="0" lang="en-US" sz="1600" spc="-1" strike="noStrike">
                <a:solidFill>
                  <a:srgbClr val="4d4d4d"/>
                </a:solidFill>
                <a:latin typeface="微软雅黑"/>
                <a:ea typeface="微软雅黑"/>
              </a:rPr>
              <a:t>10%</a:t>
            </a:r>
            <a:r>
              <a:rPr b="0" lang="zh-CN" sz="1600" spc="-1" strike="noStrike">
                <a:solidFill>
                  <a:srgbClr val="4d4d4d"/>
                </a:solidFill>
                <a:latin typeface="微软雅黑"/>
                <a:ea typeface="微软雅黑"/>
              </a:rPr>
              <a:t>，包含安保、消防、应急措施等是否周到。</a:t>
            </a:r>
            <a:endParaRPr b="0" lang="en-US" sz="1600" spc="-1" strike="noStrike">
              <a:solidFill>
                <a:srgbClr val="54a0d8"/>
              </a:solidFill>
              <a:latin typeface="Arial"/>
            </a:endParaRPr>
          </a:p>
        </p:txBody>
      </p:sp>
      <p:sp>
        <p:nvSpPr>
          <p:cNvPr id="1236" name="TextBox 76"/>
          <p:cNvSpPr/>
          <p:nvPr/>
        </p:nvSpPr>
        <p:spPr>
          <a:xfrm>
            <a:off x="2616120" y="1236600"/>
            <a:ext cx="6964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活动评估标准主要参照以下四项指标</a:t>
            </a:r>
            <a:endParaRPr b="0" lang="en-US" sz="2800" spc="-1" strike="noStrike">
              <a:solidFill>
                <a:srgbClr val="54a0d8"/>
              </a:solidFill>
              <a:latin typeface="Arial"/>
            </a:endParaRPr>
          </a:p>
        </p:txBody>
      </p:sp>
      <p:sp>
        <p:nvSpPr>
          <p:cNvPr id="1237"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5.2 </a:t>
            </a:r>
            <a:r>
              <a:rPr b="0" lang="zh-CN" sz="2800" spc="-1" strike="noStrike">
                <a:solidFill>
                  <a:srgbClr val="4d4d4d"/>
                </a:solidFill>
                <a:latin typeface="微软雅黑"/>
                <a:ea typeface="微软雅黑"/>
              </a:rPr>
              <a:t>问题评估</a:t>
            </a:r>
            <a:endParaRPr b="0" lang="en-US" sz="2800" spc="-1" strike="noStrike">
              <a:solidFill>
                <a:srgbClr val="54a0d8"/>
              </a:solidFill>
              <a:latin typeface="Arial"/>
            </a:endParaRPr>
          </a:p>
        </p:txBody>
      </p:sp>
      <p:sp>
        <p:nvSpPr>
          <p:cNvPr id="1238"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39" name="直接连接符 32"/>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矩形 4"/>
          <p:cNvSpPr/>
          <p:nvPr/>
        </p:nvSpPr>
        <p:spPr>
          <a:xfrm>
            <a:off x="3441600" y="1287360"/>
            <a:ext cx="7851960" cy="800280"/>
          </a:xfrm>
          <a:prstGeom prst="rect">
            <a:avLst/>
          </a:prstGeom>
          <a:solidFill>
            <a:srgbClr val="ffffff"/>
          </a:solidFill>
          <a:ln w="9360">
            <a:solidFill>
              <a:srgbClr val="d9d9d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41" name="右箭头 7"/>
          <p:cNvSpPr/>
          <p:nvPr/>
        </p:nvSpPr>
        <p:spPr>
          <a:xfrm>
            <a:off x="3219480" y="1487520"/>
            <a:ext cx="576360" cy="461880"/>
          </a:xfrm>
          <a:prstGeom prst="rightArrow">
            <a:avLst>
              <a:gd name="adj1" fmla="val 50000"/>
              <a:gd name="adj2" fmla="val 50018"/>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42" name="矩形 6"/>
          <p:cNvSpPr/>
          <p:nvPr/>
        </p:nvSpPr>
        <p:spPr>
          <a:xfrm>
            <a:off x="1006560" y="1287360"/>
            <a:ext cx="2481120" cy="800280"/>
          </a:xfrm>
          <a:prstGeom prst="rect">
            <a:avLst/>
          </a:prstGeom>
          <a:solidFill>
            <a:srgbClr val="e96969"/>
          </a:solidFill>
          <a:ln w="93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43" name="矩形 7"/>
          <p:cNvSpPr/>
          <p:nvPr/>
        </p:nvSpPr>
        <p:spPr>
          <a:xfrm>
            <a:off x="3441600" y="2376360"/>
            <a:ext cx="7851960" cy="801720"/>
          </a:xfrm>
          <a:prstGeom prst="rect">
            <a:avLst/>
          </a:prstGeom>
          <a:solidFill>
            <a:srgbClr val="ffffff"/>
          </a:solidFill>
          <a:ln w="9360">
            <a:solidFill>
              <a:srgbClr val="d9d9d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44" name="右箭头 10"/>
          <p:cNvSpPr/>
          <p:nvPr/>
        </p:nvSpPr>
        <p:spPr>
          <a:xfrm>
            <a:off x="3219480" y="2577960"/>
            <a:ext cx="576360" cy="462240"/>
          </a:xfrm>
          <a:prstGeom prst="rightArrow">
            <a:avLst>
              <a:gd name="adj1" fmla="val 50000"/>
              <a:gd name="adj2" fmla="val 49979"/>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45" name="矩形 9"/>
          <p:cNvSpPr/>
          <p:nvPr/>
        </p:nvSpPr>
        <p:spPr>
          <a:xfrm>
            <a:off x="1006560" y="2376360"/>
            <a:ext cx="2481120" cy="801720"/>
          </a:xfrm>
          <a:prstGeom prst="rect">
            <a:avLst/>
          </a:prstGeom>
          <a:solidFill>
            <a:srgbClr val="54a0d8"/>
          </a:solidFill>
          <a:ln w="93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46" name="矩形 10"/>
          <p:cNvSpPr/>
          <p:nvPr/>
        </p:nvSpPr>
        <p:spPr>
          <a:xfrm>
            <a:off x="3441600" y="3471840"/>
            <a:ext cx="7851960" cy="800280"/>
          </a:xfrm>
          <a:prstGeom prst="rect">
            <a:avLst/>
          </a:prstGeom>
          <a:solidFill>
            <a:srgbClr val="ffffff"/>
          </a:solidFill>
          <a:ln w="9360">
            <a:solidFill>
              <a:srgbClr val="d9d9d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47" name="右箭头 13"/>
          <p:cNvSpPr/>
          <p:nvPr/>
        </p:nvSpPr>
        <p:spPr>
          <a:xfrm>
            <a:off x="3219480" y="3672000"/>
            <a:ext cx="576360" cy="461880"/>
          </a:xfrm>
          <a:prstGeom prst="rightArrow">
            <a:avLst>
              <a:gd name="adj1" fmla="val 50000"/>
              <a:gd name="adj2" fmla="val 50018"/>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48" name="矩形 12"/>
          <p:cNvSpPr/>
          <p:nvPr/>
        </p:nvSpPr>
        <p:spPr>
          <a:xfrm>
            <a:off x="1006560" y="3471840"/>
            <a:ext cx="2481120" cy="800280"/>
          </a:xfrm>
          <a:prstGeom prst="rect">
            <a:avLst/>
          </a:prstGeom>
          <a:solidFill>
            <a:srgbClr val="e96969"/>
          </a:solidFill>
          <a:ln w="93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49" name="矩形 13"/>
          <p:cNvSpPr/>
          <p:nvPr/>
        </p:nvSpPr>
        <p:spPr>
          <a:xfrm>
            <a:off x="3441600" y="4608360"/>
            <a:ext cx="7851960" cy="801720"/>
          </a:xfrm>
          <a:prstGeom prst="rect">
            <a:avLst/>
          </a:prstGeom>
          <a:solidFill>
            <a:srgbClr val="ffffff"/>
          </a:solidFill>
          <a:ln w="9360">
            <a:solidFill>
              <a:srgbClr val="d9d9d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50" name="右箭头 16"/>
          <p:cNvSpPr/>
          <p:nvPr/>
        </p:nvSpPr>
        <p:spPr>
          <a:xfrm>
            <a:off x="3219480" y="4809960"/>
            <a:ext cx="576360" cy="462240"/>
          </a:xfrm>
          <a:prstGeom prst="rightArrow">
            <a:avLst>
              <a:gd name="adj1" fmla="val 50000"/>
              <a:gd name="adj2" fmla="val 49979"/>
            </a:avLst>
          </a:prstGeom>
          <a:solidFill>
            <a:srgbClr val="4d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51" name="矩形 15"/>
          <p:cNvSpPr/>
          <p:nvPr/>
        </p:nvSpPr>
        <p:spPr>
          <a:xfrm>
            <a:off x="1006560" y="4608360"/>
            <a:ext cx="2481120" cy="801720"/>
          </a:xfrm>
          <a:prstGeom prst="rect">
            <a:avLst/>
          </a:prstGeom>
          <a:solidFill>
            <a:srgbClr val="54a0d8"/>
          </a:solidFill>
          <a:ln w="936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52" name="TextBox 18"/>
          <p:cNvSpPr/>
          <p:nvPr/>
        </p:nvSpPr>
        <p:spPr>
          <a:xfrm>
            <a:off x="1111320" y="148752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前台接待人员招聘</a:t>
            </a:r>
            <a:endParaRPr b="0" lang="en-US" sz="2000" spc="-1" strike="noStrike">
              <a:solidFill>
                <a:srgbClr val="54a0d8"/>
              </a:solidFill>
              <a:latin typeface="Arial"/>
            </a:endParaRPr>
          </a:p>
        </p:txBody>
      </p:sp>
      <p:sp>
        <p:nvSpPr>
          <p:cNvPr id="1253" name="TextBox 19"/>
          <p:cNvSpPr/>
          <p:nvPr/>
        </p:nvSpPr>
        <p:spPr>
          <a:xfrm>
            <a:off x="3876840" y="1349280"/>
            <a:ext cx="720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在开业前两个月招聘形象气质佳的人员，送往海东市关系较好的店进行标准化学习，再进行考核筛选。</a:t>
            </a:r>
            <a:endParaRPr b="0" lang="en-US" sz="1800" spc="-1" strike="noStrike">
              <a:solidFill>
                <a:srgbClr val="54a0d8"/>
              </a:solidFill>
              <a:latin typeface="Arial"/>
            </a:endParaRPr>
          </a:p>
        </p:txBody>
      </p:sp>
      <p:sp>
        <p:nvSpPr>
          <p:cNvPr id="1254" name="TextBox 20"/>
          <p:cNvSpPr/>
          <p:nvPr/>
        </p:nvSpPr>
        <p:spPr>
          <a:xfrm>
            <a:off x="1111320" y="258588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技术人员招聘渠道</a:t>
            </a:r>
            <a:endParaRPr b="0" lang="en-US" sz="2000" spc="-1" strike="noStrike">
              <a:solidFill>
                <a:srgbClr val="54a0d8"/>
              </a:solidFill>
              <a:latin typeface="Arial"/>
            </a:endParaRPr>
          </a:p>
        </p:txBody>
      </p:sp>
      <p:sp>
        <p:nvSpPr>
          <p:cNvPr id="1255" name="TextBox 21"/>
          <p:cNvSpPr/>
          <p:nvPr/>
        </p:nvSpPr>
        <p:spPr>
          <a:xfrm>
            <a:off x="3876840" y="2422440"/>
            <a:ext cx="720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在开业前一个月将人员招聘到位。管理人员和技术人员来自高端品牌店技术人员。</a:t>
            </a:r>
            <a:endParaRPr b="0" lang="en-US" sz="1800" spc="-1" strike="noStrike">
              <a:solidFill>
                <a:srgbClr val="54a0d8"/>
              </a:solidFill>
              <a:latin typeface="Arial"/>
            </a:endParaRPr>
          </a:p>
        </p:txBody>
      </p:sp>
      <p:sp>
        <p:nvSpPr>
          <p:cNvPr id="1256" name="TextBox 22"/>
          <p:cNvSpPr/>
          <p:nvPr/>
        </p:nvSpPr>
        <p:spPr>
          <a:xfrm>
            <a:off x="1111320" y="367200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零配件供应渠道</a:t>
            </a:r>
            <a:endParaRPr b="0" lang="en-US" sz="2000" spc="-1" strike="noStrike">
              <a:solidFill>
                <a:srgbClr val="54a0d8"/>
              </a:solidFill>
              <a:latin typeface="Arial"/>
            </a:endParaRPr>
          </a:p>
        </p:txBody>
      </p:sp>
      <p:sp>
        <p:nvSpPr>
          <p:cNvPr id="1257" name="TextBox 23"/>
          <p:cNvSpPr/>
          <p:nvPr/>
        </p:nvSpPr>
        <p:spPr>
          <a:xfrm>
            <a:off x="3876840" y="3517920"/>
            <a:ext cx="72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一部分从成都大经销商处购买，另一部分则根据以前积累的供应商，从全国范围采购，然后以空运的方式托运。</a:t>
            </a:r>
            <a:endParaRPr b="0" lang="en-US" sz="1800" spc="-1" strike="noStrike">
              <a:solidFill>
                <a:srgbClr val="54a0d8"/>
              </a:solidFill>
              <a:latin typeface="Arial"/>
            </a:endParaRPr>
          </a:p>
        </p:txBody>
      </p:sp>
      <p:sp>
        <p:nvSpPr>
          <p:cNvPr id="1258" name="TextBox 24"/>
          <p:cNvSpPr/>
          <p:nvPr/>
        </p:nvSpPr>
        <p:spPr>
          <a:xfrm>
            <a:off x="1111320" y="4809960"/>
            <a:ext cx="236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零配件供应时间</a:t>
            </a:r>
            <a:endParaRPr b="0" lang="en-US" sz="2000" spc="-1" strike="noStrike">
              <a:solidFill>
                <a:srgbClr val="54a0d8"/>
              </a:solidFill>
              <a:latin typeface="Arial"/>
            </a:endParaRPr>
          </a:p>
        </p:txBody>
      </p:sp>
      <p:sp>
        <p:nvSpPr>
          <p:cNvPr id="1259" name="TextBox 25"/>
          <p:cNvSpPr/>
          <p:nvPr/>
        </p:nvSpPr>
        <p:spPr>
          <a:xfrm>
            <a:off x="3876840" y="4651200"/>
            <a:ext cx="7200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很多零配件要第二天才能到货，这会造成满意度的降低。在前期做口碑期间，物流无法当天送达的公司自行到成都取货。</a:t>
            </a:r>
            <a:endParaRPr b="0" lang="en-US" sz="1800" spc="-1" strike="noStrike">
              <a:solidFill>
                <a:srgbClr val="54a0d8"/>
              </a:solidFill>
              <a:latin typeface="Arial"/>
            </a:endParaRPr>
          </a:p>
        </p:txBody>
      </p:sp>
      <p:sp>
        <p:nvSpPr>
          <p:cNvPr id="1260"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5.3 </a:t>
            </a:r>
            <a:r>
              <a:rPr b="0" lang="zh-CN" sz="2800" spc="-1" strike="noStrike">
                <a:solidFill>
                  <a:srgbClr val="4d4d4d"/>
                </a:solidFill>
                <a:latin typeface="微软雅黑"/>
                <a:ea typeface="微软雅黑"/>
              </a:rPr>
              <a:t>相关建议</a:t>
            </a:r>
            <a:endParaRPr b="0" lang="en-US" sz="2800" spc="-1" strike="noStrike">
              <a:solidFill>
                <a:srgbClr val="54a0d8"/>
              </a:solidFill>
              <a:latin typeface="Arial"/>
            </a:endParaRPr>
          </a:p>
        </p:txBody>
      </p:sp>
      <p:sp>
        <p:nvSpPr>
          <p:cNvPr id="1261"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62" name="直接连接符 32"/>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5.4 </a:t>
            </a:r>
            <a:r>
              <a:rPr b="0" lang="zh-CN" sz="2800" spc="-1" strike="noStrike">
                <a:solidFill>
                  <a:srgbClr val="4d4d4d"/>
                </a:solidFill>
                <a:latin typeface="微软雅黑"/>
                <a:ea typeface="微软雅黑"/>
              </a:rPr>
              <a:t>研究总结</a:t>
            </a:r>
            <a:endParaRPr b="0" lang="en-US" sz="2800" spc="-1" strike="noStrike">
              <a:solidFill>
                <a:srgbClr val="54a0d8"/>
              </a:solidFill>
              <a:latin typeface="Arial"/>
            </a:endParaRPr>
          </a:p>
        </p:txBody>
      </p:sp>
      <p:sp>
        <p:nvSpPr>
          <p:cNvPr id="1264"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65" name="直接连接符 25"/>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1266" name="泪滴形 26"/>
          <p:cNvSpPr/>
          <p:nvPr/>
        </p:nvSpPr>
        <p:spPr>
          <a:xfrm>
            <a:off x="6027840" y="1514520"/>
            <a:ext cx="1757160" cy="1757160"/>
          </a:xfrm>
          <a:custGeom>
            <a:avLst/>
            <a:gdLst>
              <a:gd name="textAreaLeft" fmla="*/ 257040 w 1757160"/>
              <a:gd name="textAreaRight" fmla="*/ 1500120 w 1757160"/>
              <a:gd name="textAreaTop" fmla="*/ 257040 h 1757160"/>
              <a:gd name="textAreaBottom" fmla="*/ 1500120 h 1757160"/>
            </a:gdLst>
            <a:ahLst/>
            <a:rect l="textAreaLeft" t="textAreaTop" r="textAreaRight" b="textAreaBottom"/>
            <a:pathLst>
              <a:path w="1757290" h="1757290">
                <a:moveTo>
                  <a:pt x="0" y="878645"/>
                </a:moveTo>
                <a:lnTo>
                  <a:pt x="0" y="878645"/>
                </a:lnTo>
                <a:arcTo wR="878645" hR="878645" stAng="-10799996" swAng="5400004"/>
                <a:lnTo>
                  <a:pt x="1317967" y="0"/>
                </a:lnTo>
                <a:lnTo>
                  <a:pt x="1757290" y="0"/>
                </a:lnTo>
                <a:lnTo>
                  <a:pt x="1757290" y="658984"/>
                </a:lnTo>
                <a:arcTo wR="0" hR="219662" stAng="0" swAng="0"/>
                <a:lnTo>
                  <a:pt x="1628615" y="1628616"/>
                </a:lnTo>
                <a:arcTo wR="-439323" hR="439323" stAng="2700001" swAng="10799997"/>
                <a:close/>
              </a:path>
            </a:pathLst>
          </a:cu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67" name="泪滴形 27"/>
          <p:cNvSpPr/>
          <p:nvPr/>
        </p:nvSpPr>
        <p:spPr>
          <a:xfrm flipH="1">
            <a:off x="4065480" y="1514520"/>
            <a:ext cx="1757520" cy="1757160"/>
          </a:xfrm>
          <a:custGeom>
            <a:avLst/>
            <a:gdLst>
              <a:gd name="textAreaLeft" fmla="*/ 257400 w 1757520"/>
              <a:gd name="textAreaRight" fmla="*/ 1500120 w 1757520"/>
              <a:gd name="textAreaTop" fmla="*/ 257040 h 1757160"/>
              <a:gd name="textAreaBottom" fmla="*/ 1500120 h 1757160"/>
            </a:gdLst>
            <a:ahLst/>
            <a:rect l="textAreaLeft" t="textAreaTop" r="textAreaRight" b="textAreaBottom"/>
            <a:pathLst>
              <a:path w="1757290" h="1757290">
                <a:moveTo>
                  <a:pt x="0" y="878645"/>
                </a:moveTo>
                <a:lnTo>
                  <a:pt x="0" y="878645"/>
                </a:lnTo>
                <a:arcTo wR="878645" hR="878645" stAng="-10799996" swAng="5400004"/>
                <a:lnTo>
                  <a:pt x="1317967" y="0"/>
                </a:lnTo>
                <a:lnTo>
                  <a:pt x="1757290" y="0"/>
                </a:lnTo>
                <a:lnTo>
                  <a:pt x="1757290" y="658984"/>
                </a:lnTo>
                <a:arcTo wR="0" hR="219662" stAng="0" swAng="0"/>
                <a:lnTo>
                  <a:pt x="1628615" y="1628616"/>
                </a:lnTo>
                <a:arcTo wR="-439323" hR="439323" stAng="2700001" swAng="10799997"/>
                <a:close/>
              </a:path>
            </a:pathLst>
          </a:cu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68" name="泪滴形 28"/>
          <p:cNvSpPr/>
          <p:nvPr/>
        </p:nvSpPr>
        <p:spPr>
          <a:xfrm flipH="1" flipV="1">
            <a:off x="4065480" y="3438360"/>
            <a:ext cx="1757520" cy="1757520"/>
          </a:xfrm>
          <a:custGeom>
            <a:avLst/>
            <a:gdLst>
              <a:gd name="textAreaLeft" fmla="*/ 257400 w 1757520"/>
              <a:gd name="textAreaRight" fmla="*/ 1500120 w 1757520"/>
              <a:gd name="textAreaTop" fmla="*/ 257400 h 1757520"/>
              <a:gd name="textAreaBottom" fmla="*/ 1500120 h 1757520"/>
            </a:gdLst>
            <a:ahLst/>
            <a:rect l="textAreaLeft" t="textAreaTop" r="textAreaRight" b="textAreaBottom"/>
            <a:pathLst>
              <a:path w="1757290" h="1757290">
                <a:moveTo>
                  <a:pt x="0" y="878645"/>
                </a:moveTo>
                <a:lnTo>
                  <a:pt x="0" y="878645"/>
                </a:lnTo>
                <a:arcTo wR="878645" hR="878645" stAng="-10799996" swAng="5400004"/>
                <a:lnTo>
                  <a:pt x="1317967" y="0"/>
                </a:lnTo>
                <a:lnTo>
                  <a:pt x="1757290" y="0"/>
                </a:lnTo>
                <a:lnTo>
                  <a:pt x="1757290" y="658984"/>
                </a:lnTo>
                <a:arcTo wR="0" hR="219662" stAng="0" swAng="0"/>
                <a:lnTo>
                  <a:pt x="1628615" y="1628616"/>
                </a:lnTo>
                <a:arcTo wR="-439323" hR="439323" stAng="2700001" swAng="10799997"/>
                <a:close/>
              </a:path>
            </a:pathLst>
          </a:cu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69" name="泪滴形 29"/>
          <p:cNvSpPr/>
          <p:nvPr/>
        </p:nvSpPr>
        <p:spPr>
          <a:xfrm flipV="1">
            <a:off x="6027840" y="3438360"/>
            <a:ext cx="1757160" cy="1757520"/>
          </a:xfrm>
          <a:custGeom>
            <a:avLst/>
            <a:gdLst>
              <a:gd name="textAreaLeft" fmla="*/ 257040 w 1757160"/>
              <a:gd name="textAreaRight" fmla="*/ 1500120 w 1757160"/>
              <a:gd name="textAreaTop" fmla="*/ 257400 h 1757520"/>
              <a:gd name="textAreaBottom" fmla="*/ 1500120 h 1757520"/>
            </a:gdLst>
            <a:ahLst/>
            <a:rect l="textAreaLeft" t="textAreaTop" r="textAreaRight" b="textAreaBottom"/>
            <a:pathLst>
              <a:path w="1757290" h="1757290">
                <a:moveTo>
                  <a:pt x="0" y="878645"/>
                </a:moveTo>
                <a:lnTo>
                  <a:pt x="0" y="878645"/>
                </a:lnTo>
                <a:arcTo wR="878645" hR="878645" stAng="-10799996" swAng="5400004"/>
                <a:lnTo>
                  <a:pt x="1317967" y="0"/>
                </a:lnTo>
                <a:lnTo>
                  <a:pt x="1757290" y="0"/>
                </a:lnTo>
                <a:lnTo>
                  <a:pt x="1757290" y="658984"/>
                </a:lnTo>
                <a:arcTo wR="0" hR="219662" stAng="0" swAng="0"/>
                <a:lnTo>
                  <a:pt x="1628615" y="1628616"/>
                </a:lnTo>
                <a:arcTo wR="-439323" hR="439323" stAng="2700001" swAng="10799997"/>
                <a:close/>
              </a:path>
            </a:pathLst>
          </a:cu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70" name="Oval 6"/>
          <p:cNvSpPr/>
          <p:nvPr/>
        </p:nvSpPr>
        <p:spPr>
          <a:xfrm>
            <a:off x="4535640" y="1954080"/>
            <a:ext cx="744480" cy="744840"/>
          </a:xfrm>
          <a:prstGeom prst="ellipse">
            <a:avLst/>
          </a:prstGeom>
          <a:solidFill>
            <a:srgbClr val="ffffff"/>
          </a:solidFill>
          <a:ln w="14400">
            <a:solidFill>
              <a:srgbClr val="fefef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71" name="文本框 32"/>
          <p:cNvSpPr/>
          <p:nvPr/>
        </p:nvSpPr>
        <p:spPr>
          <a:xfrm>
            <a:off x="4614840" y="203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Lifeline JL"/>
              </a:rPr>
              <a:t>01</a:t>
            </a:r>
            <a:endParaRPr b="0" lang="en-US" sz="2800" spc="-1" strike="noStrike">
              <a:solidFill>
                <a:srgbClr val="54a0d8"/>
              </a:solidFill>
              <a:latin typeface="Arial"/>
            </a:endParaRPr>
          </a:p>
        </p:txBody>
      </p:sp>
      <p:sp>
        <p:nvSpPr>
          <p:cNvPr id="1272" name="Oval 6"/>
          <p:cNvSpPr/>
          <p:nvPr/>
        </p:nvSpPr>
        <p:spPr>
          <a:xfrm>
            <a:off x="6541920" y="1954080"/>
            <a:ext cx="744840" cy="744840"/>
          </a:xfrm>
          <a:prstGeom prst="ellipse">
            <a:avLst/>
          </a:prstGeom>
          <a:solidFill>
            <a:srgbClr val="ffffff"/>
          </a:solidFill>
          <a:ln w="14400">
            <a:solidFill>
              <a:srgbClr val="fefef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73" name="文本框 34"/>
          <p:cNvSpPr/>
          <p:nvPr/>
        </p:nvSpPr>
        <p:spPr>
          <a:xfrm>
            <a:off x="6663600" y="20368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Lifeline JL"/>
              </a:rPr>
              <a:t>02</a:t>
            </a:r>
            <a:endParaRPr b="0" lang="en-US" sz="2800" spc="-1" strike="noStrike">
              <a:solidFill>
                <a:srgbClr val="54a0d8"/>
              </a:solidFill>
              <a:latin typeface="Arial"/>
            </a:endParaRPr>
          </a:p>
        </p:txBody>
      </p:sp>
      <p:sp>
        <p:nvSpPr>
          <p:cNvPr id="1274" name="Oval 6"/>
          <p:cNvSpPr/>
          <p:nvPr/>
        </p:nvSpPr>
        <p:spPr>
          <a:xfrm>
            <a:off x="4535640" y="3927600"/>
            <a:ext cx="744480" cy="744480"/>
          </a:xfrm>
          <a:prstGeom prst="ellipse">
            <a:avLst/>
          </a:prstGeom>
          <a:solidFill>
            <a:srgbClr val="ffffff"/>
          </a:solidFill>
          <a:ln w="14400">
            <a:solidFill>
              <a:srgbClr val="fefef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75" name="文本框 36"/>
          <p:cNvSpPr/>
          <p:nvPr/>
        </p:nvSpPr>
        <p:spPr>
          <a:xfrm>
            <a:off x="4615560" y="4010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Lifeline JL"/>
              </a:rPr>
              <a:t>03</a:t>
            </a:r>
            <a:endParaRPr b="0" lang="en-US" sz="2800" spc="-1" strike="noStrike">
              <a:solidFill>
                <a:srgbClr val="54a0d8"/>
              </a:solidFill>
              <a:latin typeface="Arial"/>
            </a:endParaRPr>
          </a:p>
        </p:txBody>
      </p:sp>
      <p:sp>
        <p:nvSpPr>
          <p:cNvPr id="1276" name="Oval 6"/>
          <p:cNvSpPr/>
          <p:nvPr/>
        </p:nvSpPr>
        <p:spPr>
          <a:xfrm>
            <a:off x="6541920" y="3927600"/>
            <a:ext cx="744840" cy="744480"/>
          </a:xfrm>
          <a:prstGeom prst="ellipse">
            <a:avLst/>
          </a:prstGeom>
          <a:solidFill>
            <a:srgbClr val="ffffff"/>
          </a:solidFill>
          <a:ln w="14400">
            <a:solidFill>
              <a:srgbClr val="fefef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77" name="文本框 38"/>
          <p:cNvSpPr/>
          <p:nvPr/>
        </p:nvSpPr>
        <p:spPr>
          <a:xfrm>
            <a:off x="6642720" y="4010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Lifeline JL"/>
              </a:rPr>
              <a:t>04</a:t>
            </a:r>
            <a:endParaRPr b="0" lang="en-US" sz="2800" spc="-1" strike="noStrike">
              <a:solidFill>
                <a:srgbClr val="54a0d8"/>
              </a:solidFill>
              <a:latin typeface="Arial"/>
            </a:endParaRPr>
          </a:p>
        </p:txBody>
      </p:sp>
      <p:sp>
        <p:nvSpPr>
          <p:cNvPr id="1278" name="TextBox 52"/>
          <p:cNvSpPr/>
          <p:nvPr/>
        </p:nvSpPr>
        <p:spPr>
          <a:xfrm>
            <a:off x="2454120" y="1436760"/>
            <a:ext cx="1533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得出结论一</a:t>
            </a:r>
            <a:endParaRPr b="0" lang="en-US" sz="2000" spc="-1" strike="noStrike">
              <a:solidFill>
                <a:srgbClr val="54a0d8"/>
              </a:solidFill>
              <a:latin typeface="Arial"/>
            </a:endParaRPr>
          </a:p>
        </p:txBody>
      </p:sp>
      <p:sp>
        <p:nvSpPr>
          <p:cNvPr id="1279" name="TextBox 53"/>
          <p:cNvSpPr/>
          <p:nvPr/>
        </p:nvSpPr>
        <p:spPr>
          <a:xfrm>
            <a:off x="914400" y="1752480"/>
            <a:ext cx="3000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请在这里输入您的文字内容请在这里输入您的文字内容请在这里输入您的</a:t>
            </a:r>
            <a:endParaRPr b="0" lang="en-US" sz="1600" spc="-1" strike="noStrike">
              <a:solidFill>
                <a:srgbClr val="54a0d8"/>
              </a:solidFill>
              <a:latin typeface="Arial"/>
            </a:endParaRPr>
          </a:p>
        </p:txBody>
      </p:sp>
      <p:sp>
        <p:nvSpPr>
          <p:cNvPr id="1280" name="TextBox 52"/>
          <p:cNvSpPr/>
          <p:nvPr/>
        </p:nvSpPr>
        <p:spPr>
          <a:xfrm>
            <a:off x="7878600" y="1436760"/>
            <a:ext cx="1533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得出结论二</a:t>
            </a:r>
            <a:endParaRPr b="0" lang="en-US" sz="2000" spc="-1" strike="noStrike">
              <a:solidFill>
                <a:srgbClr val="54a0d8"/>
              </a:solidFill>
              <a:latin typeface="Arial"/>
            </a:endParaRPr>
          </a:p>
        </p:txBody>
      </p:sp>
      <p:sp>
        <p:nvSpPr>
          <p:cNvPr id="1281" name="TextBox 53"/>
          <p:cNvSpPr/>
          <p:nvPr/>
        </p:nvSpPr>
        <p:spPr>
          <a:xfrm>
            <a:off x="8021520" y="1752480"/>
            <a:ext cx="3000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请在这里输入您的文字内容请在这里输入您的文字内容请在这里输入您的文字内容请在这里输入您的文字</a:t>
            </a:r>
            <a:endParaRPr b="0" lang="en-US" sz="1600" spc="-1" strike="noStrike">
              <a:solidFill>
                <a:srgbClr val="54a0d8"/>
              </a:solidFill>
              <a:latin typeface="Arial"/>
            </a:endParaRPr>
          </a:p>
        </p:txBody>
      </p:sp>
      <p:sp>
        <p:nvSpPr>
          <p:cNvPr id="1282" name="TextBox 52"/>
          <p:cNvSpPr/>
          <p:nvPr/>
        </p:nvSpPr>
        <p:spPr>
          <a:xfrm>
            <a:off x="2454120" y="4083120"/>
            <a:ext cx="1533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得出结论三</a:t>
            </a:r>
            <a:endParaRPr b="0" lang="en-US" sz="2000" spc="-1" strike="noStrike">
              <a:solidFill>
                <a:srgbClr val="54a0d8"/>
              </a:solidFill>
              <a:latin typeface="Arial"/>
            </a:endParaRPr>
          </a:p>
        </p:txBody>
      </p:sp>
      <p:sp>
        <p:nvSpPr>
          <p:cNvPr id="1283" name="TextBox 53"/>
          <p:cNvSpPr/>
          <p:nvPr/>
        </p:nvSpPr>
        <p:spPr>
          <a:xfrm>
            <a:off x="914400" y="4398840"/>
            <a:ext cx="3000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请在这里输入您的文字内容请在这里输入您的文字内容请在这里输入您的文字内容请在这里输入您的文字</a:t>
            </a:r>
            <a:endParaRPr b="0" lang="en-US" sz="1600" spc="-1" strike="noStrike">
              <a:solidFill>
                <a:srgbClr val="54a0d8"/>
              </a:solidFill>
              <a:latin typeface="Arial"/>
            </a:endParaRPr>
          </a:p>
        </p:txBody>
      </p:sp>
      <p:sp>
        <p:nvSpPr>
          <p:cNvPr id="1284" name="TextBox 52"/>
          <p:cNvSpPr/>
          <p:nvPr/>
        </p:nvSpPr>
        <p:spPr>
          <a:xfrm>
            <a:off x="7878600" y="4083120"/>
            <a:ext cx="1533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得出结论四</a:t>
            </a:r>
            <a:endParaRPr b="0" lang="en-US" sz="2000" spc="-1" strike="noStrike">
              <a:solidFill>
                <a:srgbClr val="54a0d8"/>
              </a:solidFill>
              <a:latin typeface="Arial"/>
            </a:endParaRPr>
          </a:p>
        </p:txBody>
      </p:sp>
      <p:sp>
        <p:nvSpPr>
          <p:cNvPr id="1285" name="TextBox 53"/>
          <p:cNvSpPr/>
          <p:nvPr/>
        </p:nvSpPr>
        <p:spPr>
          <a:xfrm>
            <a:off x="8021520" y="4398840"/>
            <a:ext cx="3000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请在这里输入您的文字内容请在这里输入您的文字内容请在这里输入您的文字内容请在这里输入您的文字</a:t>
            </a:r>
            <a:endParaRPr b="0" lang="en-US" sz="1600" spc="-1" strike="noStrike">
              <a:solidFill>
                <a:srgbClr val="54a0d8"/>
              </a:solidFill>
              <a:latin typeface="Arial"/>
            </a:endParaRPr>
          </a:p>
        </p:txBody>
      </p:sp>
    </p:spTree>
  </p:cSld>
  <p:transition spd="slow" advTm="6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矩形 14"/>
          <p:cNvSpPr/>
          <p:nvPr/>
        </p:nvSpPr>
        <p:spPr>
          <a:xfrm>
            <a:off x="900000" y="1319040"/>
            <a:ext cx="4973760" cy="4264200"/>
          </a:xfrm>
          <a:prstGeom prst="rect">
            <a:avLst/>
          </a:prstGeom>
          <a:solidFill>
            <a:srgbClr val="f2f2f2"/>
          </a:solidFill>
          <a:ln w="9360">
            <a:solidFill>
              <a:srgbClr val="d9d9d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87" name="矩形 15"/>
          <p:cNvSpPr/>
          <p:nvPr/>
        </p:nvSpPr>
        <p:spPr>
          <a:xfrm>
            <a:off x="6218280" y="1319040"/>
            <a:ext cx="4973760" cy="4264200"/>
          </a:xfrm>
          <a:prstGeom prst="rect">
            <a:avLst/>
          </a:prstGeom>
          <a:solidFill>
            <a:srgbClr val="f2f2f2"/>
          </a:solidFill>
          <a:ln w="9360">
            <a:solidFill>
              <a:srgbClr val="d9d9d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288" name="Freeform 6"/>
          <p:cNvSpPr/>
          <p:nvPr/>
        </p:nvSpPr>
        <p:spPr>
          <a:xfrm>
            <a:off x="1204920" y="1168560"/>
            <a:ext cx="4200480" cy="150480"/>
          </a:xfrm>
          <a:custGeom>
            <a:avLst/>
            <a:gdLst>
              <a:gd name="textAreaLeft" fmla="*/ 0 w 4200480"/>
              <a:gd name="textAreaRight" fmla="*/ 4200840 w 4200480"/>
              <a:gd name="textAreaTop" fmla="*/ 0 h 150480"/>
              <a:gd name="textAreaBottom" fmla="*/ 150840 h 150480"/>
            </a:gdLst>
            <a:ahLst/>
            <a:rect l="textAreaLeft" t="textAreaTop" r="textAreaRight" b="textAreaBottom"/>
            <a:pathLst>
              <a:path w="4236" h="186">
                <a:moveTo>
                  <a:pt x="285" y="0"/>
                </a:moveTo>
                <a:lnTo>
                  <a:pt x="3967" y="0"/>
                </a:lnTo>
                <a:lnTo>
                  <a:pt x="4236" y="186"/>
                </a:lnTo>
                <a:lnTo>
                  <a:pt x="0" y="186"/>
                </a:lnTo>
                <a:lnTo>
                  <a:pt x="285" y="0"/>
                </a:lnTo>
                <a:close/>
              </a:path>
            </a:pathLst>
          </a:custGeom>
          <a:solidFill>
            <a:srgbClr val="41464a"/>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89" name="Freeform 7"/>
          <p:cNvSpPr/>
          <p:nvPr/>
        </p:nvSpPr>
        <p:spPr>
          <a:xfrm>
            <a:off x="1486080" y="1168560"/>
            <a:ext cx="3651120" cy="879480"/>
          </a:xfrm>
          <a:custGeom>
            <a:avLst/>
            <a:gdLst>
              <a:gd name="textAreaLeft" fmla="*/ 0 w 3651120"/>
              <a:gd name="textAreaRight" fmla="*/ 3651480 w 3651120"/>
              <a:gd name="textAreaTop" fmla="*/ 0 h 879480"/>
              <a:gd name="textAreaBottom" fmla="*/ 879840 h 879480"/>
            </a:gdLst>
            <a:ahLst/>
            <a:rect l="textAreaLeft" t="textAreaTop" r="textAreaRight" b="textAreaBottom"/>
            <a:pathLst>
              <a:path w="3682" h="786">
                <a:moveTo>
                  <a:pt x="0" y="0"/>
                </a:moveTo>
                <a:lnTo>
                  <a:pt x="3682" y="0"/>
                </a:lnTo>
                <a:lnTo>
                  <a:pt x="3682" y="637"/>
                </a:lnTo>
                <a:lnTo>
                  <a:pt x="1823" y="786"/>
                </a:lnTo>
                <a:lnTo>
                  <a:pt x="0" y="637"/>
                </a:lnTo>
                <a:lnTo>
                  <a:pt x="0" y="0"/>
                </a:lnTo>
                <a:close/>
              </a:path>
            </a:pathLst>
          </a:custGeom>
          <a:solidFill>
            <a:srgbClr val="54a0d8"/>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90" name="矩形 18"/>
          <p:cNvSpPr/>
          <p:nvPr/>
        </p:nvSpPr>
        <p:spPr>
          <a:xfrm>
            <a:off x="2741400" y="13539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收获的成绩</a:t>
            </a:r>
            <a:endParaRPr b="0" lang="en-US" sz="2400" spc="-1" strike="noStrike">
              <a:solidFill>
                <a:srgbClr val="54a0d8"/>
              </a:solidFill>
              <a:latin typeface="Arial"/>
            </a:endParaRPr>
          </a:p>
        </p:txBody>
      </p:sp>
      <p:sp>
        <p:nvSpPr>
          <p:cNvPr id="1291" name="Freeform 6"/>
          <p:cNvSpPr/>
          <p:nvPr/>
        </p:nvSpPr>
        <p:spPr>
          <a:xfrm>
            <a:off x="6607080" y="1168560"/>
            <a:ext cx="4200480" cy="150480"/>
          </a:xfrm>
          <a:custGeom>
            <a:avLst/>
            <a:gdLst>
              <a:gd name="textAreaLeft" fmla="*/ 0 w 4200480"/>
              <a:gd name="textAreaRight" fmla="*/ 4200840 w 4200480"/>
              <a:gd name="textAreaTop" fmla="*/ 0 h 150480"/>
              <a:gd name="textAreaBottom" fmla="*/ 150840 h 150480"/>
            </a:gdLst>
            <a:ahLst/>
            <a:rect l="textAreaLeft" t="textAreaTop" r="textAreaRight" b="textAreaBottom"/>
            <a:pathLst>
              <a:path w="4236" h="186">
                <a:moveTo>
                  <a:pt x="285" y="0"/>
                </a:moveTo>
                <a:lnTo>
                  <a:pt x="3967" y="0"/>
                </a:lnTo>
                <a:lnTo>
                  <a:pt x="4236" y="186"/>
                </a:lnTo>
                <a:lnTo>
                  <a:pt x="0" y="186"/>
                </a:lnTo>
                <a:lnTo>
                  <a:pt x="285" y="0"/>
                </a:lnTo>
                <a:close/>
              </a:path>
            </a:pathLst>
          </a:custGeom>
          <a:solidFill>
            <a:srgbClr val="41464a"/>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92" name="Freeform 7"/>
          <p:cNvSpPr/>
          <p:nvPr/>
        </p:nvSpPr>
        <p:spPr>
          <a:xfrm>
            <a:off x="6888240" y="1168560"/>
            <a:ext cx="3651120" cy="879480"/>
          </a:xfrm>
          <a:custGeom>
            <a:avLst/>
            <a:gdLst>
              <a:gd name="textAreaLeft" fmla="*/ 0 w 3651120"/>
              <a:gd name="textAreaRight" fmla="*/ 3651480 w 3651120"/>
              <a:gd name="textAreaTop" fmla="*/ 0 h 879480"/>
              <a:gd name="textAreaBottom" fmla="*/ 879840 h 879480"/>
            </a:gdLst>
            <a:ahLst/>
            <a:rect l="textAreaLeft" t="textAreaTop" r="textAreaRight" b="textAreaBottom"/>
            <a:pathLst>
              <a:path w="3682" h="786">
                <a:moveTo>
                  <a:pt x="0" y="0"/>
                </a:moveTo>
                <a:lnTo>
                  <a:pt x="3682" y="0"/>
                </a:lnTo>
                <a:lnTo>
                  <a:pt x="3682" y="637"/>
                </a:lnTo>
                <a:lnTo>
                  <a:pt x="1823" y="786"/>
                </a:lnTo>
                <a:lnTo>
                  <a:pt x="0" y="637"/>
                </a:lnTo>
                <a:lnTo>
                  <a:pt x="0" y="0"/>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93" name="矩形 22"/>
          <p:cNvSpPr/>
          <p:nvPr/>
        </p:nvSpPr>
        <p:spPr>
          <a:xfrm>
            <a:off x="7520040" y="1349280"/>
            <a:ext cx="24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存在的不足</a:t>
            </a:r>
            <a:endParaRPr b="0" lang="en-US" sz="2400" spc="-1" strike="noStrike">
              <a:solidFill>
                <a:srgbClr val="54a0d8"/>
              </a:solidFill>
              <a:latin typeface="Arial"/>
            </a:endParaRPr>
          </a:p>
        </p:txBody>
      </p:sp>
      <p:sp>
        <p:nvSpPr>
          <p:cNvPr id="1294" name="TextBox 10"/>
          <p:cNvSpPr/>
          <p:nvPr/>
        </p:nvSpPr>
        <p:spPr>
          <a:xfrm>
            <a:off x="1384200" y="2239920"/>
            <a:ext cx="4178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成绩一</a:t>
            </a:r>
            <a:r>
              <a:rPr b="0" lang="zh-CN" sz="1800" spc="-1" strike="noStrike">
                <a:solidFill>
                  <a:srgbClr val="4d4d4d"/>
                </a:solidFill>
                <a:latin typeface="微软雅黑"/>
                <a:ea typeface="微软雅黑"/>
              </a:rPr>
              <a:t>：这里输入您的成绩这里输入您的成绩这里输入您的成绩这里输入您的成绩这里输入您的成绩</a:t>
            </a:r>
            <a:endParaRPr b="0" lang="en-US" sz="1800" spc="-1" strike="noStrike">
              <a:solidFill>
                <a:srgbClr val="54a0d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成绩二</a:t>
            </a:r>
            <a:r>
              <a:rPr b="0" lang="zh-CN" sz="1800" spc="-1" strike="noStrike">
                <a:solidFill>
                  <a:srgbClr val="4d4d4d"/>
                </a:solidFill>
                <a:latin typeface="微软雅黑"/>
                <a:ea typeface="微软雅黑"/>
              </a:rPr>
              <a:t>：这里输入您的成绩这里输入您的成绩这里输入您的成绩这里输入您的成绩这里输入您的成绩</a:t>
            </a:r>
            <a:endParaRPr b="0" lang="en-US" sz="1800" spc="-1" strike="noStrike">
              <a:solidFill>
                <a:srgbClr val="54a0d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成绩三</a:t>
            </a:r>
            <a:r>
              <a:rPr b="0" lang="zh-CN" sz="1800" spc="-1" strike="noStrike">
                <a:solidFill>
                  <a:srgbClr val="4d4d4d"/>
                </a:solidFill>
                <a:latin typeface="微软雅黑"/>
                <a:ea typeface="微软雅黑"/>
              </a:rPr>
              <a:t>：这里输入您的成绩这里输入您的成绩这里输入您的成绩这里输入您的成绩这里输入您的成绩</a:t>
            </a:r>
            <a:endParaRPr b="0" lang="en-US" sz="1800" spc="-1" strike="noStrike">
              <a:solidFill>
                <a:srgbClr val="54a0d8"/>
              </a:solidFill>
              <a:latin typeface="Arial"/>
            </a:endParaRPr>
          </a:p>
        </p:txBody>
      </p:sp>
      <p:sp>
        <p:nvSpPr>
          <p:cNvPr id="1295" name="TextBox 15"/>
          <p:cNvSpPr/>
          <p:nvPr/>
        </p:nvSpPr>
        <p:spPr>
          <a:xfrm>
            <a:off x="6761160" y="2239920"/>
            <a:ext cx="41799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不足一</a:t>
            </a:r>
            <a:r>
              <a:rPr b="0" lang="zh-CN" sz="1800" spc="-1" strike="noStrike">
                <a:solidFill>
                  <a:srgbClr val="4d4d4d"/>
                </a:solidFill>
                <a:latin typeface="微软雅黑"/>
                <a:ea typeface="微软雅黑"/>
              </a:rPr>
              <a:t>：这里输入您的成绩这里输入您的成绩这里输入您的成绩这里输入您的成绩这里输入您的成绩</a:t>
            </a:r>
            <a:endParaRPr b="0" lang="en-US" sz="1800" spc="-1" strike="noStrike">
              <a:solidFill>
                <a:srgbClr val="54a0d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不足二</a:t>
            </a:r>
            <a:r>
              <a:rPr b="0" lang="zh-CN" sz="1800" spc="-1" strike="noStrike">
                <a:solidFill>
                  <a:srgbClr val="4d4d4d"/>
                </a:solidFill>
                <a:latin typeface="微软雅黑"/>
                <a:ea typeface="微软雅黑"/>
              </a:rPr>
              <a:t>：这里输入您的成绩这里输入您的成绩这里输入您的成绩这里输入您的成绩这里输入您的成绩</a:t>
            </a:r>
            <a:endParaRPr b="0" lang="en-US" sz="1800" spc="-1" strike="noStrike">
              <a:solidFill>
                <a:srgbClr val="54a0d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不足三</a:t>
            </a:r>
            <a:r>
              <a:rPr b="0" lang="zh-CN" sz="1800" spc="-1" strike="noStrike">
                <a:solidFill>
                  <a:srgbClr val="4d4d4d"/>
                </a:solidFill>
                <a:latin typeface="微软雅黑"/>
                <a:ea typeface="微软雅黑"/>
              </a:rPr>
              <a:t>：这里输入您的成绩这里输入您的成绩这里输入您的成绩这里输入您的成绩这里输入您的成绩</a:t>
            </a:r>
            <a:endParaRPr b="0" lang="en-US" sz="1800" spc="-1" strike="noStrike">
              <a:solidFill>
                <a:srgbClr val="54a0d8"/>
              </a:solidFill>
              <a:latin typeface="Arial"/>
            </a:endParaRPr>
          </a:p>
        </p:txBody>
      </p:sp>
      <p:sp>
        <p:nvSpPr>
          <p:cNvPr id="1296"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5.5 </a:t>
            </a:r>
            <a:r>
              <a:rPr b="0" lang="zh-CN" sz="2800" spc="-1" strike="noStrike">
                <a:solidFill>
                  <a:srgbClr val="4d4d4d"/>
                </a:solidFill>
                <a:latin typeface="微软雅黑"/>
                <a:ea typeface="微软雅黑"/>
              </a:rPr>
              <a:t>亮点与不足</a:t>
            </a:r>
            <a:endParaRPr b="0" lang="en-US" sz="2800" spc="-1" strike="noStrike">
              <a:solidFill>
                <a:srgbClr val="54a0d8"/>
              </a:solidFill>
              <a:latin typeface="Arial"/>
            </a:endParaRPr>
          </a:p>
        </p:txBody>
      </p:sp>
      <p:sp>
        <p:nvSpPr>
          <p:cNvPr id="1297"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298" name="直接连接符 27"/>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TextBox 16"/>
          <p:cNvSpPr/>
          <p:nvPr/>
        </p:nvSpPr>
        <p:spPr>
          <a:xfrm>
            <a:off x="5816160" y="127008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d4d4d"/>
                </a:solidFill>
                <a:latin typeface="微软雅黑"/>
                <a:ea typeface="微软雅黑"/>
              </a:rPr>
              <a:t>致  谢</a:t>
            </a:r>
            <a:endParaRPr b="0" lang="en-US" sz="4800" spc="-1" strike="noStrike">
              <a:solidFill>
                <a:srgbClr val="54a0d8"/>
              </a:solidFill>
              <a:latin typeface="Arial"/>
            </a:endParaRPr>
          </a:p>
        </p:txBody>
      </p:sp>
      <p:sp>
        <p:nvSpPr>
          <p:cNvPr id="1300" name="TextBox 17"/>
          <p:cNvSpPr/>
          <p:nvPr/>
        </p:nvSpPr>
        <p:spPr>
          <a:xfrm>
            <a:off x="1119240" y="2349360"/>
            <a:ext cx="1052496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感谢母校提供的学习与实践的机会；</a:t>
            </a:r>
            <a:endParaRPr b="0" lang="en-US" sz="2800" spc="-1" strike="noStrike">
              <a:solidFill>
                <a:srgbClr val="54a0d8"/>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感谢导师团队，特别感谢某某教授给予的耐心指导；</a:t>
            </a:r>
            <a:endParaRPr b="0" lang="en-US" sz="2800" spc="-1" strike="noStrike">
              <a:solidFill>
                <a:srgbClr val="54a0d8"/>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感谢同学及舍友的帮助；</a:t>
            </a:r>
            <a:endParaRPr b="0" lang="en-US" sz="2800" spc="-1" strike="noStrike">
              <a:solidFill>
                <a:srgbClr val="54a0d8"/>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感谢答辩评审！</a:t>
            </a:r>
            <a:endParaRPr b="0" lang="en-US" sz="2800" spc="-1" strike="noStrike">
              <a:solidFill>
                <a:srgbClr val="54a0d8"/>
              </a:solidFill>
              <a:latin typeface="Arial"/>
            </a:endParaRPr>
          </a:p>
        </p:txBody>
      </p:sp>
    </p:spTree>
  </p:cSld>
  <p:transition spd="slow" advTm="6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Freeform 7"/>
          <p:cNvSpPr/>
          <p:nvPr/>
        </p:nvSpPr>
        <p:spPr>
          <a:xfrm>
            <a:off x="3079800" y="5783400"/>
            <a:ext cx="503280" cy="442800"/>
          </a:xfrm>
          <a:custGeom>
            <a:avLst/>
            <a:gdLst>
              <a:gd name="textAreaLeft" fmla="*/ 0 w 503280"/>
              <a:gd name="textAreaRight" fmla="*/ 503640 w 503280"/>
              <a:gd name="textAreaTop" fmla="*/ 0 h 442800"/>
              <a:gd name="textAreaBottom" fmla="*/ 443160 h 442800"/>
            </a:gdLst>
            <a:ahLst/>
            <a:rect l="textAreaLeft" t="textAreaTop" r="textAreaRight" b="textAreaBottom"/>
            <a:pathLst>
              <a:path w="613" h="537">
                <a:moveTo>
                  <a:pt x="472" y="18"/>
                </a:moveTo>
                <a:lnTo>
                  <a:pt x="539" y="134"/>
                </a:lnTo>
                <a:cubicBezTo>
                  <a:pt x="561" y="172"/>
                  <a:pt x="583" y="210"/>
                  <a:pt x="605" y="248"/>
                </a:cubicBezTo>
                <a:cubicBezTo>
                  <a:pt x="612" y="260"/>
                  <a:pt x="613" y="273"/>
                  <a:pt x="606" y="287"/>
                </a:cubicBezTo>
                <a:lnTo>
                  <a:pt x="539" y="403"/>
                </a:lnTo>
                <a:cubicBezTo>
                  <a:pt x="518" y="441"/>
                  <a:pt x="496" y="479"/>
                  <a:pt x="474" y="517"/>
                </a:cubicBezTo>
                <a:cubicBezTo>
                  <a:pt x="466" y="529"/>
                  <a:pt x="456" y="536"/>
                  <a:pt x="440" y="537"/>
                </a:cubicBezTo>
                <a:lnTo>
                  <a:pt x="307" y="537"/>
                </a:lnTo>
                <a:cubicBezTo>
                  <a:pt x="263" y="537"/>
                  <a:pt x="219" y="537"/>
                  <a:pt x="175" y="537"/>
                </a:cubicBezTo>
                <a:cubicBezTo>
                  <a:pt x="161" y="537"/>
                  <a:pt x="149" y="532"/>
                  <a:pt x="141" y="519"/>
                </a:cubicBezTo>
                <a:lnTo>
                  <a:pt x="74" y="403"/>
                </a:lnTo>
                <a:cubicBezTo>
                  <a:pt x="52" y="365"/>
                  <a:pt x="30" y="327"/>
                  <a:pt x="8" y="289"/>
                </a:cubicBezTo>
                <a:cubicBezTo>
                  <a:pt x="1" y="277"/>
                  <a:pt x="0" y="264"/>
                  <a:pt x="7" y="250"/>
                </a:cubicBezTo>
                <a:lnTo>
                  <a:pt x="74" y="134"/>
                </a:lnTo>
                <a:cubicBezTo>
                  <a:pt x="96" y="96"/>
                  <a:pt x="117" y="58"/>
                  <a:pt x="139" y="20"/>
                </a:cubicBezTo>
                <a:cubicBezTo>
                  <a:pt x="147" y="8"/>
                  <a:pt x="157" y="1"/>
                  <a:pt x="173" y="0"/>
                </a:cubicBezTo>
                <a:lnTo>
                  <a:pt x="307" y="0"/>
                </a:lnTo>
                <a:cubicBezTo>
                  <a:pt x="350" y="0"/>
                  <a:pt x="394" y="0"/>
                  <a:pt x="438" y="0"/>
                </a:cubicBezTo>
                <a:cubicBezTo>
                  <a:pt x="452" y="0"/>
                  <a:pt x="464" y="5"/>
                  <a:pt x="472" y="18"/>
                </a:cubicBez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02" name="Freeform 8"/>
          <p:cNvSpPr/>
          <p:nvPr/>
        </p:nvSpPr>
        <p:spPr>
          <a:xfrm>
            <a:off x="3201840" y="5908680"/>
            <a:ext cx="265320" cy="192240"/>
          </a:xfrm>
          <a:custGeom>
            <a:avLst/>
            <a:gdLst>
              <a:gd name="textAreaLeft" fmla="*/ 0 w 265320"/>
              <a:gd name="textAreaRight" fmla="*/ 265680 w 265320"/>
              <a:gd name="textAreaTop" fmla="*/ 0 h 192240"/>
              <a:gd name="textAreaBottom" fmla="*/ 192600 h 192240"/>
            </a:gdLst>
            <a:ahLst/>
            <a:rect l="textAreaLeft" t="textAreaTop" r="textAreaRight" b="textAreaBottom"/>
            <a:pathLst>
              <a:path w="322" h="233">
                <a:moveTo>
                  <a:pt x="269" y="0"/>
                </a:moveTo>
                <a:lnTo>
                  <a:pt x="53" y="0"/>
                </a:lnTo>
                <a:cubicBezTo>
                  <a:pt x="24" y="0"/>
                  <a:pt x="0" y="23"/>
                  <a:pt x="0" y="52"/>
                </a:cubicBezTo>
                <a:lnTo>
                  <a:pt x="0" y="181"/>
                </a:lnTo>
                <a:cubicBezTo>
                  <a:pt x="0" y="210"/>
                  <a:pt x="24" y="233"/>
                  <a:pt x="53" y="233"/>
                </a:cubicBezTo>
                <a:lnTo>
                  <a:pt x="269" y="233"/>
                </a:lnTo>
                <a:cubicBezTo>
                  <a:pt x="298" y="233"/>
                  <a:pt x="322" y="210"/>
                  <a:pt x="322" y="181"/>
                </a:cubicBezTo>
                <a:lnTo>
                  <a:pt x="322" y="52"/>
                </a:lnTo>
                <a:cubicBezTo>
                  <a:pt x="322" y="23"/>
                  <a:pt x="298" y="0"/>
                  <a:pt x="269" y="0"/>
                </a:cubicBezTo>
                <a:close/>
                <a:moveTo>
                  <a:pt x="101" y="101"/>
                </a:moveTo>
                <a:cubicBezTo>
                  <a:pt x="113" y="101"/>
                  <a:pt x="124" y="91"/>
                  <a:pt x="124" y="78"/>
                </a:cubicBezTo>
                <a:cubicBezTo>
                  <a:pt x="124" y="65"/>
                  <a:pt x="113" y="55"/>
                  <a:pt x="101" y="55"/>
                </a:cubicBezTo>
                <a:cubicBezTo>
                  <a:pt x="88" y="55"/>
                  <a:pt x="78" y="65"/>
                  <a:pt x="78" y="78"/>
                </a:cubicBezTo>
                <a:cubicBezTo>
                  <a:pt x="78" y="91"/>
                  <a:pt x="88" y="101"/>
                  <a:pt x="101" y="101"/>
                </a:cubicBezTo>
                <a:close/>
                <a:moveTo>
                  <a:pt x="141" y="166"/>
                </a:moveTo>
                <a:lnTo>
                  <a:pt x="144" y="128"/>
                </a:lnTo>
                <a:cubicBezTo>
                  <a:pt x="145" y="117"/>
                  <a:pt x="134" y="108"/>
                  <a:pt x="121" y="108"/>
                </a:cubicBezTo>
                <a:lnTo>
                  <a:pt x="109" y="108"/>
                </a:lnTo>
                <a:cubicBezTo>
                  <a:pt x="109" y="109"/>
                  <a:pt x="109" y="114"/>
                  <a:pt x="106" y="117"/>
                </a:cubicBezTo>
                <a:cubicBezTo>
                  <a:pt x="106" y="117"/>
                  <a:pt x="111" y="142"/>
                  <a:pt x="109" y="151"/>
                </a:cubicBezTo>
                <a:cubicBezTo>
                  <a:pt x="108" y="154"/>
                  <a:pt x="104" y="163"/>
                  <a:pt x="100" y="163"/>
                </a:cubicBezTo>
                <a:cubicBezTo>
                  <a:pt x="96" y="163"/>
                  <a:pt x="93" y="154"/>
                  <a:pt x="92" y="151"/>
                </a:cubicBezTo>
                <a:cubicBezTo>
                  <a:pt x="91" y="142"/>
                  <a:pt x="97" y="117"/>
                  <a:pt x="97" y="117"/>
                </a:cubicBezTo>
                <a:cubicBezTo>
                  <a:pt x="96" y="116"/>
                  <a:pt x="94" y="115"/>
                  <a:pt x="94" y="108"/>
                </a:cubicBezTo>
                <a:lnTo>
                  <a:pt x="80" y="108"/>
                </a:lnTo>
                <a:cubicBezTo>
                  <a:pt x="68" y="108"/>
                  <a:pt x="56" y="117"/>
                  <a:pt x="57" y="129"/>
                </a:cubicBezTo>
                <a:lnTo>
                  <a:pt x="60" y="166"/>
                </a:lnTo>
                <a:cubicBezTo>
                  <a:pt x="70" y="176"/>
                  <a:pt x="86" y="176"/>
                  <a:pt x="101" y="176"/>
                </a:cubicBezTo>
                <a:cubicBezTo>
                  <a:pt x="115" y="176"/>
                  <a:pt x="132" y="175"/>
                  <a:pt x="141" y="166"/>
                </a:cubicBezTo>
                <a:close/>
                <a:moveTo>
                  <a:pt x="165" y="191"/>
                </a:moveTo>
                <a:lnTo>
                  <a:pt x="165" y="191"/>
                </a:lnTo>
                <a:lnTo>
                  <a:pt x="36" y="191"/>
                </a:lnTo>
                <a:lnTo>
                  <a:pt x="36" y="42"/>
                </a:lnTo>
                <a:lnTo>
                  <a:pt x="165" y="42"/>
                </a:lnTo>
                <a:lnTo>
                  <a:pt x="165" y="191"/>
                </a:lnTo>
                <a:close/>
                <a:moveTo>
                  <a:pt x="249" y="73"/>
                </a:moveTo>
                <a:lnTo>
                  <a:pt x="249" y="73"/>
                </a:lnTo>
                <a:lnTo>
                  <a:pt x="193" y="73"/>
                </a:lnTo>
                <a:cubicBezTo>
                  <a:pt x="186" y="73"/>
                  <a:pt x="181" y="67"/>
                  <a:pt x="181" y="60"/>
                </a:cubicBezTo>
                <a:cubicBezTo>
                  <a:pt x="181" y="54"/>
                  <a:pt x="186" y="48"/>
                  <a:pt x="193" y="48"/>
                </a:cubicBezTo>
                <a:lnTo>
                  <a:pt x="249" y="48"/>
                </a:lnTo>
                <a:cubicBezTo>
                  <a:pt x="256" y="48"/>
                  <a:pt x="261" y="54"/>
                  <a:pt x="261" y="60"/>
                </a:cubicBezTo>
                <a:cubicBezTo>
                  <a:pt x="261" y="67"/>
                  <a:pt x="256" y="73"/>
                  <a:pt x="249" y="73"/>
                </a:cubicBezTo>
                <a:close/>
                <a:moveTo>
                  <a:pt x="302" y="123"/>
                </a:moveTo>
                <a:lnTo>
                  <a:pt x="302" y="123"/>
                </a:lnTo>
                <a:cubicBezTo>
                  <a:pt x="302" y="128"/>
                  <a:pt x="297" y="133"/>
                  <a:pt x="292" y="133"/>
                </a:cubicBezTo>
                <a:lnTo>
                  <a:pt x="191" y="133"/>
                </a:lnTo>
                <a:cubicBezTo>
                  <a:pt x="186" y="133"/>
                  <a:pt x="181" y="128"/>
                  <a:pt x="181" y="123"/>
                </a:cubicBezTo>
                <a:cubicBezTo>
                  <a:pt x="181" y="117"/>
                  <a:pt x="186" y="113"/>
                  <a:pt x="191" y="113"/>
                </a:cubicBezTo>
                <a:lnTo>
                  <a:pt x="292" y="113"/>
                </a:lnTo>
                <a:cubicBezTo>
                  <a:pt x="297" y="113"/>
                  <a:pt x="302" y="117"/>
                  <a:pt x="302" y="123"/>
                </a:cubicBezTo>
                <a:close/>
                <a:moveTo>
                  <a:pt x="302" y="163"/>
                </a:moveTo>
                <a:lnTo>
                  <a:pt x="302" y="163"/>
                </a:lnTo>
                <a:cubicBezTo>
                  <a:pt x="302" y="169"/>
                  <a:pt x="297" y="173"/>
                  <a:pt x="292" y="173"/>
                </a:cubicBezTo>
                <a:lnTo>
                  <a:pt x="191" y="173"/>
                </a:lnTo>
                <a:cubicBezTo>
                  <a:pt x="186" y="173"/>
                  <a:pt x="181" y="169"/>
                  <a:pt x="181" y="163"/>
                </a:cubicBezTo>
                <a:cubicBezTo>
                  <a:pt x="181" y="157"/>
                  <a:pt x="186" y="153"/>
                  <a:pt x="191" y="153"/>
                </a:cubicBezTo>
                <a:lnTo>
                  <a:pt x="292" y="153"/>
                </a:lnTo>
                <a:cubicBezTo>
                  <a:pt x="297" y="153"/>
                  <a:pt x="302" y="157"/>
                  <a:pt x="302" y="163"/>
                </a:cubicBezTo>
                <a:close/>
              </a:path>
            </a:pathLst>
          </a:custGeom>
          <a:solidFill>
            <a:srgbClr val="fefefe"/>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03" name="Freeform 9"/>
          <p:cNvSpPr/>
          <p:nvPr/>
        </p:nvSpPr>
        <p:spPr>
          <a:xfrm>
            <a:off x="6824520" y="5783400"/>
            <a:ext cx="505080" cy="442800"/>
          </a:xfrm>
          <a:custGeom>
            <a:avLst/>
            <a:gdLst>
              <a:gd name="textAreaLeft" fmla="*/ 0 w 505080"/>
              <a:gd name="textAreaRight" fmla="*/ 505440 w 505080"/>
              <a:gd name="textAreaTop" fmla="*/ 0 h 442800"/>
              <a:gd name="textAreaBottom" fmla="*/ 443160 h 442800"/>
            </a:gdLst>
            <a:ahLst/>
            <a:rect l="textAreaLeft" t="textAreaTop" r="textAreaRight" b="textAreaBottom"/>
            <a:pathLst>
              <a:path w="613" h="537">
                <a:moveTo>
                  <a:pt x="472" y="18"/>
                </a:moveTo>
                <a:lnTo>
                  <a:pt x="539" y="134"/>
                </a:lnTo>
                <a:cubicBezTo>
                  <a:pt x="561" y="172"/>
                  <a:pt x="583" y="210"/>
                  <a:pt x="605" y="248"/>
                </a:cubicBezTo>
                <a:cubicBezTo>
                  <a:pt x="612" y="260"/>
                  <a:pt x="613" y="273"/>
                  <a:pt x="606" y="287"/>
                </a:cubicBezTo>
                <a:lnTo>
                  <a:pt x="539" y="403"/>
                </a:lnTo>
                <a:cubicBezTo>
                  <a:pt x="517" y="441"/>
                  <a:pt x="495" y="479"/>
                  <a:pt x="473" y="517"/>
                </a:cubicBezTo>
                <a:cubicBezTo>
                  <a:pt x="466" y="529"/>
                  <a:pt x="455" y="536"/>
                  <a:pt x="440" y="537"/>
                </a:cubicBezTo>
                <a:lnTo>
                  <a:pt x="306" y="537"/>
                </a:lnTo>
                <a:cubicBezTo>
                  <a:pt x="262" y="537"/>
                  <a:pt x="219" y="537"/>
                  <a:pt x="175" y="537"/>
                </a:cubicBezTo>
                <a:cubicBezTo>
                  <a:pt x="160" y="537"/>
                  <a:pt x="149" y="532"/>
                  <a:pt x="140" y="519"/>
                </a:cubicBezTo>
                <a:lnTo>
                  <a:pt x="73" y="403"/>
                </a:lnTo>
                <a:cubicBezTo>
                  <a:pt x="51" y="365"/>
                  <a:pt x="29" y="327"/>
                  <a:pt x="7" y="289"/>
                </a:cubicBezTo>
                <a:cubicBezTo>
                  <a:pt x="1" y="277"/>
                  <a:pt x="0" y="264"/>
                  <a:pt x="6" y="250"/>
                </a:cubicBezTo>
                <a:lnTo>
                  <a:pt x="73" y="134"/>
                </a:lnTo>
                <a:cubicBezTo>
                  <a:pt x="95" y="96"/>
                  <a:pt x="117" y="58"/>
                  <a:pt x="139" y="20"/>
                </a:cubicBezTo>
                <a:cubicBezTo>
                  <a:pt x="146" y="8"/>
                  <a:pt x="157" y="1"/>
                  <a:pt x="172" y="0"/>
                </a:cubicBezTo>
                <a:lnTo>
                  <a:pt x="306" y="0"/>
                </a:lnTo>
                <a:cubicBezTo>
                  <a:pt x="350" y="0"/>
                  <a:pt x="394" y="0"/>
                  <a:pt x="437" y="0"/>
                </a:cubicBezTo>
                <a:cubicBezTo>
                  <a:pt x="452" y="0"/>
                  <a:pt x="464" y="5"/>
                  <a:pt x="472" y="18"/>
                </a:cubicBez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04" name="Freeform 10"/>
          <p:cNvSpPr/>
          <p:nvPr/>
        </p:nvSpPr>
        <p:spPr>
          <a:xfrm>
            <a:off x="6954840" y="5862600"/>
            <a:ext cx="268200" cy="285840"/>
          </a:xfrm>
          <a:custGeom>
            <a:avLst/>
            <a:gdLst>
              <a:gd name="textAreaLeft" fmla="*/ 0 w 268200"/>
              <a:gd name="textAreaRight" fmla="*/ 268560 w 268200"/>
              <a:gd name="textAreaTop" fmla="*/ 0 h 285840"/>
              <a:gd name="textAreaBottom" fmla="*/ 286200 h 285840"/>
            </a:gdLst>
            <a:ahLst/>
            <a:rect l="textAreaLeft" t="textAreaTop" r="textAreaRight" b="textAreaBottom"/>
            <a:pathLst>
              <a:path w="327" h="347">
                <a:moveTo>
                  <a:pt x="153" y="191"/>
                </a:moveTo>
                <a:lnTo>
                  <a:pt x="153" y="329"/>
                </a:lnTo>
                <a:cubicBezTo>
                  <a:pt x="156" y="331"/>
                  <a:pt x="160" y="331"/>
                  <a:pt x="163" y="331"/>
                </a:cubicBezTo>
                <a:cubicBezTo>
                  <a:pt x="167" y="331"/>
                  <a:pt x="171" y="330"/>
                  <a:pt x="174" y="329"/>
                </a:cubicBezTo>
                <a:lnTo>
                  <a:pt x="174" y="191"/>
                </a:lnTo>
                <a:cubicBezTo>
                  <a:pt x="171" y="192"/>
                  <a:pt x="167" y="192"/>
                  <a:pt x="164" y="192"/>
                </a:cubicBezTo>
                <a:cubicBezTo>
                  <a:pt x="160" y="192"/>
                  <a:pt x="157" y="192"/>
                  <a:pt x="153" y="191"/>
                </a:cubicBezTo>
                <a:close/>
                <a:moveTo>
                  <a:pt x="200" y="198"/>
                </a:moveTo>
                <a:lnTo>
                  <a:pt x="261" y="174"/>
                </a:lnTo>
                <a:lnTo>
                  <a:pt x="261" y="199"/>
                </a:lnTo>
                <a:lnTo>
                  <a:pt x="200" y="223"/>
                </a:lnTo>
                <a:lnTo>
                  <a:pt x="200" y="198"/>
                </a:lnTo>
                <a:close/>
                <a:moveTo>
                  <a:pt x="82" y="145"/>
                </a:moveTo>
                <a:lnTo>
                  <a:pt x="57" y="131"/>
                </a:lnTo>
                <a:cubicBezTo>
                  <a:pt x="54" y="130"/>
                  <a:pt x="53" y="126"/>
                  <a:pt x="55" y="124"/>
                </a:cubicBezTo>
                <a:cubicBezTo>
                  <a:pt x="56" y="121"/>
                  <a:pt x="60" y="120"/>
                  <a:pt x="62" y="122"/>
                </a:cubicBezTo>
                <a:lnTo>
                  <a:pt x="86" y="135"/>
                </a:lnTo>
                <a:lnTo>
                  <a:pt x="73" y="126"/>
                </a:lnTo>
                <a:cubicBezTo>
                  <a:pt x="70" y="124"/>
                  <a:pt x="70" y="120"/>
                  <a:pt x="72" y="118"/>
                </a:cubicBezTo>
                <a:cubicBezTo>
                  <a:pt x="73" y="115"/>
                  <a:pt x="77" y="115"/>
                  <a:pt x="80" y="117"/>
                </a:cubicBezTo>
                <a:lnTo>
                  <a:pt x="96" y="128"/>
                </a:lnTo>
                <a:lnTo>
                  <a:pt x="88" y="121"/>
                </a:lnTo>
                <a:cubicBezTo>
                  <a:pt x="86" y="119"/>
                  <a:pt x="86" y="115"/>
                  <a:pt x="88" y="113"/>
                </a:cubicBezTo>
                <a:cubicBezTo>
                  <a:pt x="90" y="111"/>
                  <a:pt x="94" y="110"/>
                  <a:pt x="96" y="113"/>
                </a:cubicBezTo>
                <a:lnTo>
                  <a:pt x="162" y="175"/>
                </a:lnTo>
                <a:cubicBezTo>
                  <a:pt x="163" y="175"/>
                  <a:pt x="163" y="175"/>
                  <a:pt x="163" y="175"/>
                </a:cubicBezTo>
                <a:cubicBezTo>
                  <a:pt x="163" y="175"/>
                  <a:pt x="163" y="175"/>
                  <a:pt x="163" y="175"/>
                </a:cubicBezTo>
                <a:lnTo>
                  <a:pt x="230" y="113"/>
                </a:lnTo>
                <a:cubicBezTo>
                  <a:pt x="232" y="110"/>
                  <a:pt x="236" y="111"/>
                  <a:pt x="238" y="113"/>
                </a:cubicBezTo>
                <a:cubicBezTo>
                  <a:pt x="240" y="115"/>
                  <a:pt x="240" y="119"/>
                  <a:pt x="238" y="121"/>
                </a:cubicBezTo>
                <a:lnTo>
                  <a:pt x="229" y="128"/>
                </a:lnTo>
                <a:lnTo>
                  <a:pt x="246" y="117"/>
                </a:lnTo>
                <a:cubicBezTo>
                  <a:pt x="249" y="115"/>
                  <a:pt x="252" y="115"/>
                  <a:pt x="254" y="118"/>
                </a:cubicBezTo>
                <a:cubicBezTo>
                  <a:pt x="256" y="120"/>
                  <a:pt x="255" y="124"/>
                  <a:pt x="253" y="126"/>
                </a:cubicBezTo>
                <a:lnTo>
                  <a:pt x="240" y="135"/>
                </a:lnTo>
                <a:lnTo>
                  <a:pt x="264" y="122"/>
                </a:lnTo>
                <a:cubicBezTo>
                  <a:pt x="266" y="120"/>
                  <a:pt x="270" y="121"/>
                  <a:pt x="271" y="124"/>
                </a:cubicBezTo>
                <a:cubicBezTo>
                  <a:pt x="273" y="127"/>
                  <a:pt x="272" y="130"/>
                  <a:pt x="269" y="131"/>
                </a:cubicBezTo>
                <a:lnTo>
                  <a:pt x="240" y="148"/>
                </a:lnTo>
                <a:lnTo>
                  <a:pt x="284" y="129"/>
                </a:lnTo>
                <a:lnTo>
                  <a:pt x="284" y="197"/>
                </a:lnTo>
                <a:cubicBezTo>
                  <a:pt x="283" y="197"/>
                  <a:pt x="283" y="197"/>
                  <a:pt x="282" y="197"/>
                </a:cubicBezTo>
                <a:lnTo>
                  <a:pt x="273" y="196"/>
                </a:lnTo>
                <a:lnTo>
                  <a:pt x="269" y="203"/>
                </a:lnTo>
                <a:lnTo>
                  <a:pt x="269" y="152"/>
                </a:lnTo>
                <a:lnTo>
                  <a:pt x="190" y="186"/>
                </a:lnTo>
                <a:lnTo>
                  <a:pt x="190" y="322"/>
                </a:lnTo>
                <a:lnTo>
                  <a:pt x="269" y="289"/>
                </a:lnTo>
                <a:lnTo>
                  <a:pt x="269" y="279"/>
                </a:lnTo>
                <a:cubicBezTo>
                  <a:pt x="272" y="280"/>
                  <a:pt x="275" y="282"/>
                  <a:pt x="277" y="283"/>
                </a:cubicBezTo>
                <a:cubicBezTo>
                  <a:pt x="280" y="284"/>
                  <a:pt x="282" y="284"/>
                  <a:pt x="284" y="285"/>
                </a:cubicBezTo>
                <a:lnTo>
                  <a:pt x="284" y="299"/>
                </a:lnTo>
                <a:lnTo>
                  <a:pt x="185" y="341"/>
                </a:lnTo>
                <a:cubicBezTo>
                  <a:pt x="183" y="342"/>
                  <a:pt x="181" y="343"/>
                  <a:pt x="178" y="343"/>
                </a:cubicBezTo>
                <a:lnTo>
                  <a:pt x="174" y="345"/>
                </a:lnTo>
                <a:lnTo>
                  <a:pt x="174" y="345"/>
                </a:lnTo>
                <a:cubicBezTo>
                  <a:pt x="171" y="346"/>
                  <a:pt x="167" y="346"/>
                  <a:pt x="164" y="346"/>
                </a:cubicBezTo>
                <a:cubicBezTo>
                  <a:pt x="156" y="347"/>
                  <a:pt x="149" y="345"/>
                  <a:pt x="142" y="340"/>
                </a:cubicBezTo>
                <a:lnTo>
                  <a:pt x="43" y="299"/>
                </a:lnTo>
                <a:lnTo>
                  <a:pt x="43" y="285"/>
                </a:lnTo>
                <a:cubicBezTo>
                  <a:pt x="45" y="284"/>
                  <a:pt x="48" y="284"/>
                  <a:pt x="50" y="283"/>
                </a:cubicBezTo>
                <a:cubicBezTo>
                  <a:pt x="53" y="282"/>
                  <a:pt x="55" y="280"/>
                  <a:pt x="58" y="279"/>
                </a:cubicBezTo>
                <a:lnTo>
                  <a:pt x="58" y="289"/>
                </a:lnTo>
                <a:lnTo>
                  <a:pt x="138" y="322"/>
                </a:lnTo>
                <a:lnTo>
                  <a:pt x="138" y="186"/>
                </a:lnTo>
                <a:lnTo>
                  <a:pt x="58" y="152"/>
                </a:lnTo>
                <a:lnTo>
                  <a:pt x="58" y="203"/>
                </a:lnTo>
                <a:lnTo>
                  <a:pt x="55" y="196"/>
                </a:lnTo>
                <a:lnTo>
                  <a:pt x="46" y="197"/>
                </a:lnTo>
                <a:cubicBezTo>
                  <a:pt x="45" y="197"/>
                  <a:pt x="44" y="197"/>
                  <a:pt x="43" y="197"/>
                </a:cubicBezTo>
                <a:lnTo>
                  <a:pt x="43" y="129"/>
                </a:lnTo>
                <a:lnTo>
                  <a:pt x="82" y="145"/>
                </a:lnTo>
                <a:close/>
                <a:moveTo>
                  <a:pt x="49" y="210"/>
                </a:moveTo>
                <a:cubicBezTo>
                  <a:pt x="51" y="213"/>
                  <a:pt x="53" y="216"/>
                  <a:pt x="54" y="220"/>
                </a:cubicBezTo>
                <a:lnTo>
                  <a:pt x="36" y="231"/>
                </a:lnTo>
                <a:lnTo>
                  <a:pt x="56" y="223"/>
                </a:lnTo>
                <a:cubicBezTo>
                  <a:pt x="57" y="227"/>
                  <a:pt x="58" y="230"/>
                  <a:pt x="60" y="234"/>
                </a:cubicBezTo>
                <a:lnTo>
                  <a:pt x="42" y="244"/>
                </a:lnTo>
                <a:lnTo>
                  <a:pt x="61" y="237"/>
                </a:lnTo>
                <a:cubicBezTo>
                  <a:pt x="62" y="241"/>
                  <a:pt x="63" y="245"/>
                  <a:pt x="65" y="249"/>
                </a:cubicBezTo>
                <a:lnTo>
                  <a:pt x="49" y="257"/>
                </a:lnTo>
                <a:lnTo>
                  <a:pt x="65" y="251"/>
                </a:lnTo>
                <a:cubicBezTo>
                  <a:pt x="66" y="254"/>
                  <a:pt x="67" y="257"/>
                  <a:pt x="67" y="260"/>
                </a:cubicBezTo>
                <a:cubicBezTo>
                  <a:pt x="64" y="262"/>
                  <a:pt x="38" y="279"/>
                  <a:pt x="26" y="274"/>
                </a:cubicBezTo>
                <a:cubicBezTo>
                  <a:pt x="13" y="269"/>
                  <a:pt x="1" y="252"/>
                  <a:pt x="0" y="236"/>
                </a:cubicBezTo>
                <a:cubicBezTo>
                  <a:pt x="0" y="221"/>
                  <a:pt x="40" y="211"/>
                  <a:pt x="49" y="210"/>
                </a:cubicBezTo>
                <a:close/>
                <a:moveTo>
                  <a:pt x="16" y="217"/>
                </a:moveTo>
                <a:lnTo>
                  <a:pt x="26" y="213"/>
                </a:lnTo>
                <a:lnTo>
                  <a:pt x="31" y="208"/>
                </a:lnTo>
                <a:lnTo>
                  <a:pt x="31" y="192"/>
                </a:lnTo>
                <a:cubicBezTo>
                  <a:pt x="22" y="196"/>
                  <a:pt x="18" y="206"/>
                  <a:pt x="16" y="217"/>
                </a:cubicBezTo>
                <a:close/>
                <a:moveTo>
                  <a:pt x="277" y="210"/>
                </a:moveTo>
                <a:cubicBezTo>
                  <a:pt x="276" y="213"/>
                  <a:pt x="274" y="216"/>
                  <a:pt x="272" y="220"/>
                </a:cubicBezTo>
                <a:lnTo>
                  <a:pt x="291" y="231"/>
                </a:lnTo>
                <a:lnTo>
                  <a:pt x="271" y="223"/>
                </a:lnTo>
                <a:cubicBezTo>
                  <a:pt x="269" y="227"/>
                  <a:pt x="268" y="230"/>
                  <a:pt x="267" y="234"/>
                </a:cubicBezTo>
                <a:lnTo>
                  <a:pt x="284" y="244"/>
                </a:lnTo>
                <a:lnTo>
                  <a:pt x="266" y="237"/>
                </a:lnTo>
                <a:cubicBezTo>
                  <a:pt x="264" y="241"/>
                  <a:pt x="263" y="245"/>
                  <a:pt x="262" y="249"/>
                </a:cubicBezTo>
                <a:lnTo>
                  <a:pt x="278" y="257"/>
                </a:lnTo>
                <a:lnTo>
                  <a:pt x="261" y="251"/>
                </a:lnTo>
                <a:cubicBezTo>
                  <a:pt x="261" y="254"/>
                  <a:pt x="260" y="257"/>
                  <a:pt x="259" y="260"/>
                </a:cubicBezTo>
                <a:cubicBezTo>
                  <a:pt x="263" y="262"/>
                  <a:pt x="289" y="279"/>
                  <a:pt x="301" y="274"/>
                </a:cubicBezTo>
                <a:cubicBezTo>
                  <a:pt x="313" y="269"/>
                  <a:pt x="326" y="252"/>
                  <a:pt x="326" y="236"/>
                </a:cubicBezTo>
                <a:cubicBezTo>
                  <a:pt x="327" y="221"/>
                  <a:pt x="286" y="211"/>
                  <a:pt x="277" y="210"/>
                </a:cubicBezTo>
                <a:close/>
                <a:moveTo>
                  <a:pt x="311" y="217"/>
                </a:moveTo>
                <a:lnTo>
                  <a:pt x="300" y="213"/>
                </a:lnTo>
                <a:lnTo>
                  <a:pt x="296" y="208"/>
                </a:lnTo>
                <a:lnTo>
                  <a:pt x="295" y="192"/>
                </a:lnTo>
                <a:cubicBezTo>
                  <a:pt x="305" y="196"/>
                  <a:pt x="309" y="206"/>
                  <a:pt x="311" y="217"/>
                </a:cubicBezTo>
                <a:close/>
                <a:moveTo>
                  <a:pt x="162" y="0"/>
                </a:moveTo>
                <a:cubicBezTo>
                  <a:pt x="181" y="0"/>
                  <a:pt x="198" y="10"/>
                  <a:pt x="210" y="24"/>
                </a:cubicBezTo>
                <a:cubicBezTo>
                  <a:pt x="218" y="34"/>
                  <a:pt x="224" y="45"/>
                  <a:pt x="228" y="59"/>
                </a:cubicBezTo>
                <a:cubicBezTo>
                  <a:pt x="232" y="58"/>
                  <a:pt x="239" y="57"/>
                  <a:pt x="241" y="62"/>
                </a:cubicBezTo>
                <a:cubicBezTo>
                  <a:pt x="244" y="70"/>
                  <a:pt x="242" y="87"/>
                  <a:pt x="237" y="89"/>
                </a:cubicBezTo>
                <a:cubicBezTo>
                  <a:pt x="235" y="90"/>
                  <a:pt x="232" y="90"/>
                  <a:pt x="229" y="90"/>
                </a:cubicBezTo>
                <a:cubicBezTo>
                  <a:pt x="229" y="94"/>
                  <a:pt x="228" y="99"/>
                  <a:pt x="227" y="103"/>
                </a:cubicBezTo>
                <a:cubicBezTo>
                  <a:pt x="222" y="104"/>
                  <a:pt x="217" y="105"/>
                  <a:pt x="213" y="106"/>
                </a:cubicBezTo>
                <a:cubicBezTo>
                  <a:pt x="216" y="98"/>
                  <a:pt x="217" y="89"/>
                  <a:pt x="217" y="80"/>
                </a:cubicBezTo>
                <a:cubicBezTo>
                  <a:pt x="217" y="68"/>
                  <a:pt x="215" y="57"/>
                  <a:pt x="210" y="47"/>
                </a:cubicBezTo>
                <a:cubicBezTo>
                  <a:pt x="173" y="76"/>
                  <a:pt x="125" y="55"/>
                  <a:pt x="113" y="50"/>
                </a:cubicBezTo>
                <a:cubicBezTo>
                  <a:pt x="109" y="59"/>
                  <a:pt x="107" y="69"/>
                  <a:pt x="107" y="80"/>
                </a:cubicBezTo>
                <a:cubicBezTo>
                  <a:pt x="107" y="89"/>
                  <a:pt x="109" y="98"/>
                  <a:pt x="112" y="106"/>
                </a:cubicBezTo>
                <a:cubicBezTo>
                  <a:pt x="107" y="105"/>
                  <a:pt x="103" y="104"/>
                  <a:pt x="98" y="103"/>
                </a:cubicBezTo>
                <a:cubicBezTo>
                  <a:pt x="97" y="99"/>
                  <a:pt x="96" y="94"/>
                  <a:pt x="95" y="90"/>
                </a:cubicBezTo>
                <a:cubicBezTo>
                  <a:pt x="93" y="90"/>
                  <a:pt x="90" y="90"/>
                  <a:pt x="88" y="89"/>
                </a:cubicBezTo>
                <a:cubicBezTo>
                  <a:pt x="82" y="87"/>
                  <a:pt x="81" y="70"/>
                  <a:pt x="84" y="62"/>
                </a:cubicBezTo>
                <a:cubicBezTo>
                  <a:pt x="86" y="57"/>
                  <a:pt x="92" y="58"/>
                  <a:pt x="97" y="59"/>
                </a:cubicBezTo>
                <a:cubicBezTo>
                  <a:pt x="100" y="45"/>
                  <a:pt x="106" y="34"/>
                  <a:pt x="114" y="24"/>
                </a:cubicBezTo>
                <a:cubicBezTo>
                  <a:pt x="126" y="10"/>
                  <a:pt x="143" y="0"/>
                  <a:pt x="162" y="0"/>
                </a:cubicBezTo>
                <a:close/>
              </a:path>
            </a:pathLst>
          </a:custGeom>
          <a:solidFill>
            <a:srgbClr val="fefefe"/>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05" name="Rectangle 3"/>
          <p:cNvSpPr/>
          <p:nvPr/>
        </p:nvSpPr>
        <p:spPr>
          <a:xfrm>
            <a:off x="1490760" y="2381400"/>
            <a:ext cx="9217080" cy="86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d4d4d"/>
                </a:solidFill>
                <a:latin typeface="微软雅黑"/>
                <a:ea typeface="微软雅黑"/>
              </a:rPr>
              <a:t>恳请老师批评指正</a:t>
            </a:r>
            <a:endParaRPr b="0" lang="en-US" sz="6000" spc="-1" strike="noStrike">
              <a:solidFill>
                <a:srgbClr val="54a0d8"/>
              </a:solidFill>
              <a:latin typeface="Arial"/>
            </a:endParaRPr>
          </a:p>
        </p:txBody>
      </p:sp>
      <p:sp>
        <p:nvSpPr>
          <p:cNvPr id="1306" name="Rectangle 4"/>
          <p:cNvSpPr/>
          <p:nvPr/>
        </p:nvSpPr>
        <p:spPr>
          <a:xfrm>
            <a:off x="3433680" y="3456000"/>
            <a:ext cx="2421000" cy="355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微软雅黑"/>
                <a:ea typeface="微软雅黑"/>
              </a:rPr>
              <a:t>专业：行政管理学</a:t>
            </a:r>
            <a:endParaRPr b="0" lang="en-US" sz="2000" spc="-1" strike="noStrike">
              <a:solidFill>
                <a:srgbClr val="54a0d8"/>
              </a:solidFill>
              <a:latin typeface="Arial"/>
            </a:endParaRPr>
          </a:p>
        </p:txBody>
      </p:sp>
      <p:sp>
        <p:nvSpPr>
          <p:cNvPr id="1307" name="Rectangle 4"/>
          <p:cNvSpPr/>
          <p:nvPr/>
        </p:nvSpPr>
        <p:spPr>
          <a:xfrm>
            <a:off x="6705720" y="3456000"/>
            <a:ext cx="2420640" cy="355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微软雅黑"/>
                <a:ea typeface="微软雅黑"/>
              </a:rPr>
              <a:t>指导老师：</a:t>
            </a:r>
            <a:r>
              <a:rPr b="0" lang="en-US" sz="2000" spc="-1" strike="noStrike">
                <a:solidFill>
                  <a:srgbClr val="4d4d4d"/>
                </a:solidFill>
                <a:latin typeface="微软雅黑"/>
                <a:ea typeface="微软雅黑"/>
              </a:rPr>
              <a:t>X</a:t>
            </a:r>
            <a:r>
              <a:rPr b="0" lang="zh-CN" sz="2000" spc="-1" strike="noStrike">
                <a:solidFill>
                  <a:srgbClr val="4d4d4d"/>
                </a:solidFill>
                <a:latin typeface="微软雅黑"/>
                <a:ea typeface="微软雅黑"/>
              </a:rPr>
              <a:t>教授 </a:t>
            </a:r>
            <a:endParaRPr b="0" lang="en-US" sz="2000" spc="-1" strike="noStrike">
              <a:solidFill>
                <a:srgbClr val="54a0d8"/>
              </a:solidFill>
              <a:latin typeface="Arial"/>
            </a:endParaRPr>
          </a:p>
        </p:txBody>
      </p:sp>
      <p:sp>
        <p:nvSpPr>
          <p:cNvPr id="1308" name="TextBox 82"/>
          <p:cNvSpPr/>
          <p:nvPr/>
        </p:nvSpPr>
        <p:spPr>
          <a:xfrm>
            <a:off x="3576600" y="5805360"/>
            <a:ext cx="247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微软雅黑"/>
                <a:ea typeface="微软雅黑"/>
              </a:rPr>
              <a:t>学号：</a:t>
            </a:r>
            <a:r>
              <a:rPr b="0" lang="en-US" sz="2000" spc="-1" strike="noStrike">
                <a:solidFill>
                  <a:srgbClr val="4d4d4d"/>
                </a:solidFill>
                <a:latin typeface="微软雅黑"/>
                <a:ea typeface="微软雅黑"/>
              </a:rPr>
              <a:t>2016000075</a:t>
            </a:r>
            <a:endParaRPr b="0" lang="en-US" sz="2000" spc="-1" strike="noStrike">
              <a:solidFill>
                <a:srgbClr val="54a0d8"/>
              </a:solidFill>
              <a:latin typeface="Arial"/>
            </a:endParaRPr>
          </a:p>
        </p:txBody>
      </p:sp>
      <p:sp>
        <p:nvSpPr>
          <p:cNvPr id="1309" name="TextBox 82"/>
          <p:cNvSpPr/>
          <p:nvPr/>
        </p:nvSpPr>
        <p:spPr>
          <a:xfrm>
            <a:off x="7359480" y="5805360"/>
            <a:ext cx="247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微软雅黑"/>
                <a:ea typeface="微软雅黑"/>
              </a:rPr>
              <a:t>答辩人：优品</a:t>
            </a:r>
            <a:r>
              <a:rPr b="0" lang="en-US" sz="2000" spc="-1" strike="noStrike">
                <a:solidFill>
                  <a:srgbClr val="4d4d4d"/>
                </a:solidFill>
                <a:latin typeface="微软雅黑"/>
                <a:ea typeface="微软雅黑"/>
              </a:rPr>
              <a:t>PPT</a:t>
            </a:r>
            <a:endParaRPr b="0" lang="en-US" sz="2000" spc="-1" strike="noStrike">
              <a:solidFill>
                <a:srgbClr val="54a0d8"/>
              </a:solidFill>
              <a:latin typeface="Arial"/>
            </a:endParaRPr>
          </a:p>
        </p:txBody>
      </p:sp>
      <p:pic>
        <p:nvPicPr>
          <p:cNvPr id="1310" name="组合 25" descr=""/>
          <p:cNvPicPr/>
          <p:nvPr/>
        </p:nvPicPr>
        <p:blipFill>
          <a:blip r:embed="rId2"/>
          <a:stretch/>
        </p:blipFill>
        <p:spPr>
          <a:xfrm>
            <a:off x="4651200" y="1090440"/>
            <a:ext cx="2713320" cy="987480"/>
          </a:xfrm>
          <a:prstGeom prst="rect">
            <a:avLst/>
          </a:prstGeom>
          <a:ln w="0">
            <a:noFill/>
          </a:ln>
        </p:spPr>
      </p:pic>
      <p:grpSp>
        <p:nvGrpSpPr>
          <p:cNvPr id="1311" name="Group 4"/>
          <p:cNvGrpSpPr/>
          <p:nvPr/>
        </p:nvGrpSpPr>
        <p:grpSpPr>
          <a:xfrm>
            <a:off x="5492880" y="3759120"/>
            <a:ext cx="1212840" cy="1214640"/>
            <a:chOff x="5492880" y="3759120"/>
            <a:chExt cx="1212840" cy="1214640"/>
          </a:xfrm>
        </p:grpSpPr>
        <p:sp>
          <p:nvSpPr>
            <p:cNvPr id="1312" name="Freeform 5"/>
            <p:cNvSpPr/>
            <p:nvPr/>
          </p:nvSpPr>
          <p:spPr>
            <a:xfrm>
              <a:off x="5492880" y="3759120"/>
              <a:ext cx="1212840" cy="1214640"/>
            </a:xfrm>
            <a:custGeom>
              <a:avLst/>
              <a:gdLst>
                <a:gd name="textAreaLeft" fmla="*/ 0 w 1212840"/>
                <a:gd name="textAreaRight" fmla="*/ 1213200 w 1212840"/>
                <a:gd name="textAreaTop" fmla="*/ 0 h 1214640"/>
                <a:gd name="textAreaBottom" fmla="*/ 1215000 h 1214640"/>
              </a:gdLst>
              <a:ahLst/>
              <a:rect l="textAreaLeft" t="textAreaTop" r="textAreaRight" b="textAreaBottom"/>
              <a:pathLst>
                <a:path w="2046" h="2046">
                  <a:moveTo>
                    <a:pt x="1023" y="0"/>
                  </a:moveTo>
                  <a:cubicBezTo>
                    <a:pt x="1588" y="0"/>
                    <a:pt x="2046" y="458"/>
                    <a:pt x="2046" y="1023"/>
                  </a:cubicBezTo>
                  <a:cubicBezTo>
                    <a:pt x="2046" y="1588"/>
                    <a:pt x="1588" y="2046"/>
                    <a:pt x="1023" y="2046"/>
                  </a:cubicBezTo>
                  <a:cubicBezTo>
                    <a:pt x="458" y="2046"/>
                    <a:pt x="0" y="1588"/>
                    <a:pt x="0" y="1023"/>
                  </a:cubicBezTo>
                  <a:cubicBezTo>
                    <a:pt x="0" y="458"/>
                    <a:pt x="458" y="0"/>
                    <a:pt x="1023" y="0"/>
                  </a:cubicBezTo>
                  <a:close/>
                  <a:moveTo>
                    <a:pt x="1023" y="141"/>
                  </a:moveTo>
                  <a:cubicBezTo>
                    <a:pt x="1510" y="141"/>
                    <a:pt x="1905" y="536"/>
                    <a:pt x="1905" y="1023"/>
                  </a:cubicBezTo>
                  <a:cubicBezTo>
                    <a:pt x="1905" y="1510"/>
                    <a:pt x="1510" y="1905"/>
                    <a:pt x="1023" y="1905"/>
                  </a:cubicBezTo>
                  <a:cubicBezTo>
                    <a:pt x="536" y="1905"/>
                    <a:pt x="141" y="1510"/>
                    <a:pt x="141" y="1023"/>
                  </a:cubicBezTo>
                  <a:cubicBezTo>
                    <a:pt x="141" y="536"/>
                    <a:pt x="536" y="141"/>
                    <a:pt x="1023" y="141"/>
                  </a:cubicBezTo>
                  <a:close/>
                  <a:moveTo>
                    <a:pt x="1023" y="83"/>
                  </a:moveTo>
                  <a:cubicBezTo>
                    <a:pt x="1543" y="83"/>
                    <a:pt x="1964" y="504"/>
                    <a:pt x="1964" y="1023"/>
                  </a:cubicBezTo>
                  <a:cubicBezTo>
                    <a:pt x="1964" y="1543"/>
                    <a:pt x="1543" y="1964"/>
                    <a:pt x="1023" y="1964"/>
                  </a:cubicBezTo>
                  <a:cubicBezTo>
                    <a:pt x="504" y="1964"/>
                    <a:pt x="83" y="1543"/>
                    <a:pt x="83" y="1023"/>
                  </a:cubicBezTo>
                  <a:cubicBezTo>
                    <a:pt x="83" y="504"/>
                    <a:pt x="504" y="83"/>
                    <a:pt x="1023" y="83"/>
                  </a:cubicBez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13" name="Freeform 6"/>
            <p:cNvSpPr/>
            <p:nvPr/>
          </p:nvSpPr>
          <p:spPr>
            <a:xfrm>
              <a:off x="5719680" y="4089600"/>
              <a:ext cx="809640" cy="666720"/>
            </a:xfrm>
            <a:custGeom>
              <a:avLst/>
              <a:gdLst>
                <a:gd name="textAreaLeft" fmla="*/ 0 w 809640"/>
                <a:gd name="textAreaRight" fmla="*/ 810000 w 809640"/>
                <a:gd name="textAreaTop" fmla="*/ 0 h 666720"/>
                <a:gd name="textAreaBottom" fmla="*/ 667080 h 666720"/>
              </a:gdLst>
              <a:ahLst/>
              <a:rect l="textAreaLeft" t="textAreaTop" r="textAreaRight" b="textAreaBottom"/>
              <a:pathLst>
                <a:path w="1364" h="1123">
                  <a:moveTo>
                    <a:pt x="717" y="953"/>
                  </a:moveTo>
                  <a:cubicBezTo>
                    <a:pt x="707" y="917"/>
                    <a:pt x="707" y="881"/>
                    <a:pt x="725" y="847"/>
                  </a:cubicBezTo>
                  <a:lnTo>
                    <a:pt x="54" y="632"/>
                  </a:lnTo>
                  <a:cubicBezTo>
                    <a:pt x="28" y="665"/>
                    <a:pt x="21" y="710"/>
                    <a:pt x="51" y="757"/>
                  </a:cubicBezTo>
                  <a:lnTo>
                    <a:pt x="730" y="975"/>
                  </a:lnTo>
                  <a:lnTo>
                    <a:pt x="1159" y="786"/>
                  </a:lnTo>
                  <a:cubicBezTo>
                    <a:pt x="1170" y="781"/>
                    <a:pt x="1169" y="773"/>
                    <a:pt x="1155" y="768"/>
                  </a:cubicBezTo>
                  <a:lnTo>
                    <a:pt x="1143" y="765"/>
                  </a:lnTo>
                  <a:lnTo>
                    <a:pt x="717" y="953"/>
                  </a:lnTo>
                  <a:close/>
                  <a:moveTo>
                    <a:pt x="720" y="805"/>
                  </a:moveTo>
                  <a:cubicBezTo>
                    <a:pt x="710" y="770"/>
                    <a:pt x="710" y="734"/>
                    <a:pt x="729" y="700"/>
                  </a:cubicBezTo>
                  <a:lnTo>
                    <a:pt x="57" y="484"/>
                  </a:lnTo>
                  <a:cubicBezTo>
                    <a:pt x="31" y="518"/>
                    <a:pt x="24" y="563"/>
                    <a:pt x="55" y="610"/>
                  </a:cubicBezTo>
                  <a:lnTo>
                    <a:pt x="733" y="828"/>
                  </a:lnTo>
                  <a:lnTo>
                    <a:pt x="1162" y="639"/>
                  </a:lnTo>
                  <a:cubicBezTo>
                    <a:pt x="1174" y="633"/>
                    <a:pt x="1172" y="626"/>
                    <a:pt x="1158" y="621"/>
                  </a:cubicBezTo>
                  <a:lnTo>
                    <a:pt x="1146" y="617"/>
                  </a:lnTo>
                  <a:lnTo>
                    <a:pt x="720" y="805"/>
                  </a:lnTo>
                  <a:close/>
                  <a:moveTo>
                    <a:pt x="742" y="694"/>
                  </a:moveTo>
                  <a:lnTo>
                    <a:pt x="1001" y="579"/>
                  </a:lnTo>
                  <a:lnTo>
                    <a:pt x="1021" y="451"/>
                  </a:lnTo>
                  <a:lnTo>
                    <a:pt x="990" y="441"/>
                  </a:lnTo>
                  <a:cubicBezTo>
                    <a:pt x="976" y="548"/>
                    <a:pt x="711" y="556"/>
                    <a:pt x="638" y="556"/>
                  </a:cubicBezTo>
                  <a:cubicBezTo>
                    <a:pt x="562" y="556"/>
                    <a:pt x="284" y="548"/>
                    <a:pt x="284" y="432"/>
                  </a:cubicBezTo>
                  <a:lnTo>
                    <a:pt x="284" y="384"/>
                  </a:lnTo>
                  <a:lnTo>
                    <a:pt x="71" y="478"/>
                  </a:lnTo>
                  <a:lnTo>
                    <a:pt x="742" y="694"/>
                  </a:lnTo>
                  <a:close/>
                  <a:moveTo>
                    <a:pt x="720" y="1101"/>
                  </a:moveTo>
                  <a:cubicBezTo>
                    <a:pt x="710" y="1066"/>
                    <a:pt x="710" y="1030"/>
                    <a:pt x="728" y="995"/>
                  </a:cubicBezTo>
                  <a:lnTo>
                    <a:pt x="57" y="780"/>
                  </a:lnTo>
                  <a:cubicBezTo>
                    <a:pt x="31" y="814"/>
                    <a:pt x="24" y="858"/>
                    <a:pt x="54" y="906"/>
                  </a:cubicBezTo>
                  <a:lnTo>
                    <a:pt x="733" y="1123"/>
                  </a:lnTo>
                  <a:lnTo>
                    <a:pt x="1162" y="934"/>
                  </a:lnTo>
                  <a:cubicBezTo>
                    <a:pt x="1173" y="929"/>
                    <a:pt x="1171" y="921"/>
                    <a:pt x="1158" y="917"/>
                  </a:cubicBezTo>
                  <a:lnTo>
                    <a:pt x="1146" y="913"/>
                  </a:lnTo>
                  <a:lnTo>
                    <a:pt x="720" y="1101"/>
                  </a:lnTo>
                  <a:close/>
                  <a:moveTo>
                    <a:pt x="1067" y="219"/>
                  </a:moveTo>
                  <a:lnTo>
                    <a:pt x="1067" y="344"/>
                  </a:lnTo>
                  <a:cubicBezTo>
                    <a:pt x="1062" y="345"/>
                    <a:pt x="1058" y="348"/>
                    <a:pt x="1058" y="352"/>
                  </a:cubicBezTo>
                  <a:lnTo>
                    <a:pt x="1056" y="368"/>
                  </a:lnTo>
                  <a:cubicBezTo>
                    <a:pt x="1056" y="378"/>
                    <a:pt x="1065" y="382"/>
                    <a:pt x="1064" y="389"/>
                  </a:cubicBezTo>
                  <a:lnTo>
                    <a:pt x="1063" y="404"/>
                  </a:lnTo>
                  <a:cubicBezTo>
                    <a:pt x="1063" y="410"/>
                    <a:pt x="1057" y="415"/>
                    <a:pt x="1056" y="422"/>
                  </a:cubicBezTo>
                  <a:lnTo>
                    <a:pt x="1035" y="562"/>
                  </a:lnTo>
                  <a:cubicBezTo>
                    <a:pt x="1043" y="579"/>
                    <a:pt x="1127" y="579"/>
                    <a:pt x="1136" y="562"/>
                  </a:cubicBezTo>
                  <a:lnTo>
                    <a:pt x="1115" y="422"/>
                  </a:lnTo>
                  <a:cubicBezTo>
                    <a:pt x="1114" y="415"/>
                    <a:pt x="1108" y="410"/>
                    <a:pt x="1107" y="404"/>
                  </a:cubicBezTo>
                  <a:lnTo>
                    <a:pt x="1106" y="389"/>
                  </a:lnTo>
                  <a:cubicBezTo>
                    <a:pt x="1106" y="381"/>
                    <a:pt x="1115" y="379"/>
                    <a:pt x="1115" y="369"/>
                  </a:cubicBezTo>
                  <a:lnTo>
                    <a:pt x="1114" y="352"/>
                  </a:lnTo>
                  <a:cubicBezTo>
                    <a:pt x="1113" y="347"/>
                    <a:pt x="1109" y="344"/>
                    <a:pt x="1104" y="344"/>
                  </a:cubicBezTo>
                  <a:cubicBezTo>
                    <a:pt x="1104" y="218"/>
                    <a:pt x="1104" y="362"/>
                    <a:pt x="1104" y="226"/>
                  </a:cubicBezTo>
                  <a:lnTo>
                    <a:pt x="1356" y="183"/>
                  </a:lnTo>
                  <a:cubicBezTo>
                    <a:pt x="1362" y="182"/>
                    <a:pt x="1364" y="177"/>
                    <a:pt x="1356" y="174"/>
                  </a:cubicBezTo>
                  <a:cubicBezTo>
                    <a:pt x="1235" y="139"/>
                    <a:pt x="1125" y="107"/>
                    <a:pt x="1024" y="77"/>
                  </a:cubicBezTo>
                  <a:cubicBezTo>
                    <a:pt x="934" y="51"/>
                    <a:pt x="850" y="26"/>
                    <a:pt x="773" y="4"/>
                  </a:cubicBezTo>
                  <a:cubicBezTo>
                    <a:pt x="759" y="0"/>
                    <a:pt x="750" y="0"/>
                    <a:pt x="736" y="1"/>
                  </a:cubicBezTo>
                  <a:cubicBezTo>
                    <a:pt x="635" y="9"/>
                    <a:pt x="527" y="18"/>
                    <a:pt x="413" y="28"/>
                  </a:cubicBezTo>
                  <a:cubicBezTo>
                    <a:pt x="289" y="39"/>
                    <a:pt x="155" y="50"/>
                    <a:pt x="12" y="62"/>
                  </a:cubicBezTo>
                  <a:cubicBezTo>
                    <a:pt x="0" y="64"/>
                    <a:pt x="3" y="73"/>
                    <a:pt x="11" y="76"/>
                  </a:cubicBezTo>
                  <a:cubicBezTo>
                    <a:pt x="68" y="106"/>
                    <a:pt x="130" y="139"/>
                    <a:pt x="198" y="175"/>
                  </a:cubicBezTo>
                  <a:cubicBezTo>
                    <a:pt x="281" y="219"/>
                    <a:pt x="374" y="268"/>
                    <a:pt x="480" y="323"/>
                  </a:cubicBezTo>
                  <a:cubicBezTo>
                    <a:pt x="489" y="328"/>
                    <a:pt x="508" y="330"/>
                    <a:pt x="523" y="327"/>
                  </a:cubicBezTo>
                  <a:cubicBezTo>
                    <a:pt x="695" y="298"/>
                    <a:pt x="867" y="268"/>
                    <a:pt x="1039" y="238"/>
                  </a:cubicBezTo>
                  <a:cubicBezTo>
                    <a:pt x="1038" y="232"/>
                    <a:pt x="1036" y="229"/>
                    <a:pt x="1029" y="227"/>
                  </a:cubicBezTo>
                  <a:lnTo>
                    <a:pt x="628" y="161"/>
                  </a:lnTo>
                  <a:cubicBezTo>
                    <a:pt x="593" y="156"/>
                    <a:pt x="599" y="131"/>
                    <a:pt x="619" y="134"/>
                  </a:cubicBezTo>
                  <a:lnTo>
                    <a:pt x="1054" y="204"/>
                  </a:lnTo>
                  <a:cubicBezTo>
                    <a:pt x="1062" y="206"/>
                    <a:pt x="1066" y="211"/>
                    <a:pt x="1067" y="219"/>
                  </a:cubicBezTo>
                  <a:close/>
                  <a:moveTo>
                    <a:pt x="961" y="281"/>
                  </a:moveTo>
                  <a:lnTo>
                    <a:pt x="961" y="432"/>
                  </a:lnTo>
                  <a:cubicBezTo>
                    <a:pt x="961" y="557"/>
                    <a:pt x="315" y="557"/>
                    <a:pt x="315" y="432"/>
                  </a:cubicBezTo>
                  <a:lnTo>
                    <a:pt x="315" y="270"/>
                  </a:lnTo>
                  <a:cubicBezTo>
                    <a:pt x="365" y="296"/>
                    <a:pt x="415" y="323"/>
                    <a:pt x="466" y="350"/>
                  </a:cubicBezTo>
                  <a:cubicBezTo>
                    <a:pt x="483" y="359"/>
                    <a:pt x="509" y="360"/>
                    <a:pt x="528" y="357"/>
                  </a:cubicBezTo>
                  <a:cubicBezTo>
                    <a:pt x="672" y="331"/>
                    <a:pt x="816" y="306"/>
                    <a:pt x="961" y="281"/>
                  </a:cubicBezTo>
                  <a:close/>
                </a:path>
              </a:pathLst>
            </a:custGeom>
            <a:solidFill>
              <a:srgbClr val="fefefe"/>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grpSp>
    </p:spTree>
  </p:cSld>
  <p:transition spd="slow" advTm="6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TextBox 12"/>
          <p:cNvSpPr/>
          <p:nvPr/>
        </p:nvSpPr>
        <p:spPr>
          <a:xfrm>
            <a:off x="2970360" y="3119400"/>
            <a:ext cx="6257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d4d4d"/>
                </a:solidFill>
                <a:latin typeface="微软雅黑"/>
                <a:ea typeface="微软雅黑"/>
              </a:rPr>
              <a:t>绪     论</a:t>
            </a:r>
            <a:endParaRPr b="0" lang="en-US" sz="6600" spc="-1" strike="noStrike">
              <a:solidFill>
                <a:srgbClr val="54a0d8"/>
              </a:solidFill>
              <a:latin typeface="Arial"/>
            </a:endParaRPr>
          </a:p>
        </p:txBody>
      </p:sp>
      <p:sp>
        <p:nvSpPr>
          <p:cNvPr id="781" name="Freeform 21"/>
          <p:cNvSpPr/>
          <p:nvPr/>
        </p:nvSpPr>
        <p:spPr>
          <a:xfrm>
            <a:off x="3643200" y="451332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82" name="TextBox 28"/>
          <p:cNvSpPr/>
          <p:nvPr/>
        </p:nvSpPr>
        <p:spPr>
          <a:xfrm>
            <a:off x="3938760" y="446400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研究背景</a:t>
            </a:r>
            <a:endParaRPr b="0" lang="en-US" sz="1800" spc="-1" strike="noStrike">
              <a:solidFill>
                <a:srgbClr val="54a0d8"/>
              </a:solidFill>
              <a:latin typeface="Arial"/>
            </a:endParaRPr>
          </a:p>
        </p:txBody>
      </p:sp>
      <p:sp>
        <p:nvSpPr>
          <p:cNvPr id="783" name="Freeform 21"/>
          <p:cNvSpPr/>
          <p:nvPr/>
        </p:nvSpPr>
        <p:spPr>
          <a:xfrm>
            <a:off x="6429240" y="451332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84" name="TextBox 44"/>
          <p:cNvSpPr/>
          <p:nvPr/>
        </p:nvSpPr>
        <p:spPr>
          <a:xfrm>
            <a:off x="6724800" y="4464000"/>
            <a:ext cx="227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参考文献</a:t>
            </a:r>
            <a:endParaRPr b="0" lang="en-US" sz="1800" spc="-1" strike="noStrike">
              <a:solidFill>
                <a:srgbClr val="54a0d8"/>
              </a:solidFill>
              <a:latin typeface="Arial"/>
            </a:endParaRPr>
          </a:p>
        </p:txBody>
      </p:sp>
      <p:sp>
        <p:nvSpPr>
          <p:cNvPr id="785" name="Freeform 21"/>
          <p:cNvSpPr/>
          <p:nvPr/>
        </p:nvSpPr>
        <p:spPr>
          <a:xfrm>
            <a:off x="3643200" y="488160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86" name="TextBox 46"/>
          <p:cNvSpPr/>
          <p:nvPr/>
        </p:nvSpPr>
        <p:spPr>
          <a:xfrm>
            <a:off x="3938760" y="483228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国内外相关研究状况</a:t>
            </a:r>
            <a:endParaRPr b="0" lang="en-US" sz="1800" spc="-1" strike="noStrike">
              <a:solidFill>
                <a:srgbClr val="54a0d8"/>
              </a:solidFill>
              <a:latin typeface="Arial"/>
            </a:endParaRPr>
          </a:p>
        </p:txBody>
      </p:sp>
      <p:sp>
        <p:nvSpPr>
          <p:cNvPr id="787" name="Freeform 21"/>
          <p:cNvSpPr/>
          <p:nvPr/>
        </p:nvSpPr>
        <p:spPr>
          <a:xfrm>
            <a:off x="6429240" y="488160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88" name="TextBox 48"/>
          <p:cNvSpPr/>
          <p:nvPr/>
        </p:nvSpPr>
        <p:spPr>
          <a:xfrm>
            <a:off x="6724800" y="4832280"/>
            <a:ext cx="227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主要贡献与创新</a:t>
            </a:r>
            <a:endParaRPr b="0" lang="en-US" sz="1800" spc="-1" strike="noStrike">
              <a:solidFill>
                <a:srgbClr val="54a0d8"/>
              </a:solidFill>
              <a:latin typeface="Arial"/>
            </a:endParaRPr>
          </a:p>
        </p:txBody>
      </p:sp>
      <p:sp>
        <p:nvSpPr>
          <p:cNvPr id="789" name="Freeform 21"/>
          <p:cNvSpPr/>
          <p:nvPr/>
        </p:nvSpPr>
        <p:spPr>
          <a:xfrm>
            <a:off x="3643200" y="529128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90" name="TextBox 50"/>
          <p:cNvSpPr/>
          <p:nvPr/>
        </p:nvSpPr>
        <p:spPr>
          <a:xfrm>
            <a:off x="3938760" y="52419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研究意义</a:t>
            </a:r>
            <a:endParaRPr b="0" lang="en-US" sz="1800" spc="-1" strike="noStrike">
              <a:solidFill>
                <a:srgbClr val="54a0d8"/>
              </a:solidFill>
              <a:latin typeface="Arial"/>
            </a:endParaRPr>
          </a:p>
        </p:txBody>
      </p:sp>
      <p:sp>
        <p:nvSpPr>
          <p:cNvPr id="791" name="文本框 42"/>
          <p:cNvSpPr/>
          <p:nvPr/>
        </p:nvSpPr>
        <p:spPr>
          <a:xfrm>
            <a:off x="5506920" y="276552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微软雅黑"/>
                <a:ea typeface="微软雅黑"/>
              </a:rPr>
              <a:t>Part 1</a:t>
            </a:r>
            <a:endParaRPr b="0" lang="en-US" sz="2000" spc="-1" strike="noStrike">
              <a:solidFill>
                <a:srgbClr val="54a0d8"/>
              </a:solidFill>
              <a:latin typeface="Arial"/>
            </a:endParaRPr>
          </a:p>
        </p:txBody>
      </p:sp>
      <p:sp>
        <p:nvSpPr>
          <p:cNvPr id="792" name="Line 5"/>
          <p:cNvSpPr/>
          <p:nvPr/>
        </p:nvSpPr>
        <p:spPr>
          <a:xfrm flipH="1">
            <a:off x="1850760" y="4218120"/>
            <a:ext cx="8496360" cy="0"/>
          </a:xfrm>
          <a:prstGeom prst="line">
            <a:avLst/>
          </a:prstGeom>
          <a:ln w="12600">
            <a:solidFill>
              <a:srgbClr val="b8b8b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pic>
        <p:nvPicPr>
          <p:cNvPr id="793" name="图片 1" descr=""/>
          <p:cNvPicPr/>
          <p:nvPr/>
        </p:nvPicPr>
        <p:blipFill>
          <a:blip r:embed="rId2"/>
          <a:stretch/>
        </p:blipFill>
        <p:spPr>
          <a:xfrm>
            <a:off x="4514760" y="839880"/>
            <a:ext cx="3040200" cy="1947600"/>
          </a:xfrm>
          <a:prstGeom prst="rect">
            <a:avLst/>
          </a:prstGeom>
          <a:ln w="0">
            <a:noFill/>
          </a:ln>
        </p:spPr>
      </p:pic>
      <p:sp>
        <p:nvSpPr>
          <p:cNvPr id="794" name="Freeform 21"/>
          <p:cNvSpPr/>
          <p:nvPr/>
        </p:nvSpPr>
        <p:spPr>
          <a:xfrm>
            <a:off x="5626080" y="1433520"/>
            <a:ext cx="843120" cy="853920"/>
          </a:xfrm>
          <a:custGeom>
            <a:avLst/>
            <a:gdLst>
              <a:gd name="textAreaLeft" fmla="*/ 0 w 843120"/>
              <a:gd name="textAreaRight" fmla="*/ 843480 w 843120"/>
              <a:gd name="textAreaTop" fmla="*/ 0 h 853920"/>
              <a:gd name="textAreaBottom" fmla="*/ 854280 h 853920"/>
            </a:gdLst>
            <a:ahLst/>
            <a:rect l="textAreaLeft" t="textAreaTop" r="textAreaRight" b="textAreaBottom"/>
            <a:pathLst>
              <a:path w="563" h="595">
                <a:moveTo>
                  <a:pt x="486" y="130"/>
                </a:moveTo>
                <a:lnTo>
                  <a:pt x="429" y="130"/>
                </a:lnTo>
                <a:cubicBezTo>
                  <a:pt x="424" y="130"/>
                  <a:pt x="419" y="125"/>
                  <a:pt x="419" y="120"/>
                </a:cubicBezTo>
                <a:lnTo>
                  <a:pt x="419" y="63"/>
                </a:lnTo>
                <a:lnTo>
                  <a:pt x="486" y="130"/>
                </a:lnTo>
                <a:close/>
                <a:moveTo>
                  <a:pt x="460" y="170"/>
                </a:moveTo>
                <a:lnTo>
                  <a:pt x="229" y="170"/>
                </a:lnTo>
                <a:lnTo>
                  <a:pt x="229" y="200"/>
                </a:lnTo>
                <a:lnTo>
                  <a:pt x="460" y="200"/>
                </a:lnTo>
                <a:lnTo>
                  <a:pt x="460" y="170"/>
                </a:lnTo>
                <a:close/>
                <a:moveTo>
                  <a:pt x="460" y="234"/>
                </a:moveTo>
                <a:lnTo>
                  <a:pt x="229" y="234"/>
                </a:lnTo>
                <a:lnTo>
                  <a:pt x="229" y="264"/>
                </a:lnTo>
                <a:lnTo>
                  <a:pt x="460" y="264"/>
                </a:lnTo>
                <a:lnTo>
                  <a:pt x="460" y="234"/>
                </a:lnTo>
                <a:close/>
                <a:moveTo>
                  <a:pt x="460" y="303"/>
                </a:moveTo>
                <a:lnTo>
                  <a:pt x="384" y="303"/>
                </a:lnTo>
                <a:lnTo>
                  <a:pt x="384" y="333"/>
                </a:lnTo>
                <a:lnTo>
                  <a:pt x="460" y="333"/>
                </a:lnTo>
                <a:lnTo>
                  <a:pt x="460" y="303"/>
                </a:lnTo>
                <a:close/>
                <a:moveTo>
                  <a:pt x="359" y="104"/>
                </a:moveTo>
                <a:lnTo>
                  <a:pt x="229" y="104"/>
                </a:lnTo>
                <a:lnTo>
                  <a:pt x="229" y="134"/>
                </a:lnTo>
                <a:lnTo>
                  <a:pt x="359" y="134"/>
                </a:lnTo>
                <a:lnTo>
                  <a:pt x="359" y="104"/>
                </a:lnTo>
                <a:close/>
                <a:moveTo>
                  <a:pt x="174" y="490"/>
                </a:moveTo>
                <a:cubicBezTo>
                  <a:pt x="226" y="553"/>
                  <a:pt x="279" y="595"/>
                  <a:pt x="291" y="588"/>
                </a:cubicBezTo>
                <a:cubicBezTo>
                  <a:pt x="303" y="581"/>
                  <a:pt x="293" y="515"/>
                  <a:pt x="265" y="438"/>
                </a:cubicBezTo>
                <a:cubicBezTo>
                  <a:pt x="250" y="448"/>
                  <a:pt x="236" y="457"/>
                  <a:pt x="220" y="466"/>
                </a:cubicBezTo>
                <a:cubicBezTo>
                  <a:pt x="205" y="475"/>
                  <a:pt x="190" y="483"/>
                  <a:pt x="174" y="490"/>
                </a:cubicBezTo>
                <a:close/>
                <a:moveTo>
                  <a:pt x="54" y="274"/>
                </a:moveTo>
                <a:cubicBezTo>
                  <a:pt x="64" y="309"/>
                  <a:pt x="85" y="353"/>
                  <a:pt x="113" y="402"/>
                </a:cubicBezTo>
                <a:cubicBezTo>
                  <a:pt x="127" y="427"/>
                  <a:pt x="144" y="451"/>
                  <a:pt x="161" y="473"/>
                </a:cubicBezTo>
                <a:cubicBezTo>
                  <a:pt x="176" y="465"/>
                  <a:pt x="192" y="457"/>
                  <a:pt x="208" y="448"/>
                </a:cubicBezTo>
                <a:cubicBezTo>
                  <a:pt x="225" y="439"/>
                  <a:pt x="241" y="428"/>
                  <a:pt x="256" y="417"/>
                </a:cubicBezTo>
                <a:cubicBezTo>
                  <a:pt x="246" y="392"/>
                  <a:pt x="234" y="366"/>
                  <a:pt x="219" y="341"/>
                </a:cubicBezTo>
                <a:cubicBezTo>
                  <a:pt x="191" y="292"/>
                  <a:pt x="163" y="252"/>
                  <a:pt x="138" y="226"/>
                </a:cubicBezTo>
                <a:cubicBezTo>
                  <a:pt x="125" y="234"/>
                  <a:pt x="112" y="244"/>
                  <a:pt x="98" y="252"/>
                </a:cubicBezTo>
                <a:cubicBezTo>
                  <a:pt x="83" y="260"/>
                  <a:pt x="69" y="267"/>
                  <a:pt x="54" y="274"/>
                </a:cubicBezTo>
                <a:close/>
                <a:moveTo>
                  <a:pt x="63" y="192"/>
                </a:moveTo>
                <a:cubicBezTo>
                  <a:pt x="55" y="197"/>
                  <a:pt x="50" y="205"/>
                  <a:pt x="48" y="215"/>
                </a:cubicBezTo>
                <a:cubicBezTo>
                  <a:pt x="33" y="219"/>
                  <a:pt x="18" y="229"/>
                  <a:pt x="7" y="249"/>
                </a:cubicBezTo>
                <a:cubicBezTo>
                  <a:pt x="0" y="265"/>
                  <a:pt x="2" y="289"/>
                  <a:pt x="12" y="307"/>
                </a:cubicBezTo>
                <a:cubicBezTo>
                  <a:pt x="29" y="338"/>
                  <a:pt x="52" y="377"/>
                  <a:pt x="73" y="408"/>
                </a:cubicBezTo>
                <a:cubicBezTo>
                  <a:pt x="86" y="413"/>
                  <a:pt x="83" y="386"/>
                  <a:pt x="78" y="379"/>
                </a:cubicBezTo>
                <a:cubicBezTo>
                  <a:pt x="62" y="354"/>
                  <a:pt x="48" y="331"/>
                  <a:pt x="35" y="286"/>
                </a:cubicBezTo>
                <a:cubicBezTo>
                  <a:pt x="32" y="265"/>
                  <a:pt x="41" y="256"/>
                  <a:pt x="48" y="246"/>
                </a:cubicBezTo>
                <a:cubicBezTo>
                  <a:pt x="48" y="248"/>
                  <a:pt x="48" y="250"/>
                  <a:pt x="49" y="252"/>
                </a:cubicBezTo>
                <a:cubicBezTo>
                  <a:pt x="61" y="247"/>
                  <a:pt x="73" y="240"/>
                  <a:pt x="86" y="234"/>
                </a:cubicBezTo>
                <a:cubicBezTo>
                  <a:pt x="98" y="227"/>
                  <a:pt x="110" y="218"/>
                  <a:pt x="122" y="210"/>
                </a:cubicBezTo>
                <a:cubicBezTo>
                  <a:pt x="99" y="190"/>
                  <a:pt x="79" y="183"/>
                  <a:pt x="63" y="192"/>
                </a:cubicBezTo>
                <a:close/>
                <a:moveTo>
                  <a:pt x="439" y="0"/>
                </a:moveTo>
                <a:lnTo>
                  <a:pt x="211" y="0"/>
                </a:lnTo>
                <a:cubicBezTo>
                  <a:pt x="168" y="0"/>
                  <a:pt x="133" y="35"/>
                  <a:pt x="133" y="78"/>
                </a:cubicBezTo>
                <a:lnTo>
                  <a:pt x="133" y="183"/>
                </a:lnTo>
                <a:cubicBezTo>
                  <a:pt x="158" y="203"/>
                  <a:pt x="173" y="221"/>
                  <a:pt x="192" y="247"/>
                </a:cubicBezTo>
                <a:lnTo>
                  <a:pt x="192" y="78"/>
                </a:lnTo>
                <a:cubicBezTo>
                  <a:pt x="192" y="68"/>
                  <a:pt x="201" y="59"/>
                  <a:pt x="211" y="59"/>
                </a:cubicBezTo>
                <a:lnTo>
                  <a:pt x="392" y="59"/>
                </a:lnTo>
                <a:lnTo>
                  <a:pt x="392" y="142"/>
                </a:lnTo>
                <a:cubicBezTo>
                  <a:pt x="392" y="150"/>
                  <a:pt x="399" y="157"/>
                  <a:pt x="407" y="157"/>
                </a:cubicBezTo>
                <a:lnTo>
                  <a:pt x="504" y="157"/>
                </a:lnTo>
                <a:lnTo>
                  <a:pt x="504" y="446"/>
                </a:lnTo>
                <a:cubicBezTo>
                  <a:pt x="504" y="457"/>
                  <a:pt x="495" y="465"/>
                  <a:pt x="484" y="465"/>
                </a:cubicBezTo>
                <a:lnTo>
                  <a:pt x="303" y="465"/>
                </a:lnTo>
                <a:cubicBezTo>
                  <a:pt x="309" y="485"/>
                  <a:pt x="315" y="505"/>
                  <a:pt x="318" y="524"/>
                </a:cubicBezTo>
                <a:lnTo>
                  <a:pt x="484" y="524"/>
                </a:lnTo>
                <a:cubicBezTo>
                  <a:pt x="528" y="524"/>
                  <a:pt x="563" y="489"/>
                  <a:pt x="563" y="446"/>
                </a:cubicBezTo>
                <a:lnTo>
                  <a:pt x="563" y="124"/>
                </a:lnTo>
                <a:lnTo>
                  <a:pt x="439" y="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Tree>
  </p:cSld>
  <p:transition spd="slow" advTm="10000">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Freeform 8"/>
          <p:cNvSpPr/>
          <p:nvPr/>
        </p:nvSpPr>
        <p:spPr>
          <a:xfrm>
            <a:off x="3444840" y="2028960"/>
            <a:ext cx="622440" cy="581040"/>
          </a:xfrm>
          <a:custGeom>
            <a:avLst/>
            <a:gdLst>
              <a:gd name="textAreaLeft" fmla="*/ 0 w 622440"/>
              <a:gd name="textAreaRight" fmla="*/ 622800 w 622440"/>
              <a:gd name="textAreaTop" fmla="*/ 0 h 581040"/>
              <a:gd name="textAreaBottom" fmla="*/ 581400 h 581040"/>
            </a:gdLst>
            <a:ahLst/>
            <a:rect l="textAreaLeft" t="textAreaTop" r="textAreaRight" b="textAreaBottom"/>
            <a:pathLst>
              <a:path w="872" h="811">
                <a:moveTo>
                  <a:pt x="612" y="521"/>
                </a:moveTo>
                <a:lnTo>
                  <a:pt x="580" y="513"/>
                </a:lnTo>
                <a:cubicBezTo>
                  <a:pt x="578" y="513"/>
                  <a:pt x="577" y="513"/>
                  <a:pt x="575" y="513"/>
                </a:cubicBezTo>
                <a:cubicBezTo>
                  <a:pt x="542" y="508"/>
                  <a:pt x="511" y="534"/>
                  <a:pt x="503" y="571"/>
                </a:cubicBezTo>
                <a:cubicBezTo>
                  <a:pt x="495" y="608"/>
                  <a:pt x="513" y="644"/>
                  <a:pt x="544" y="655"/>
                </a:cubicBezTo>
                <a:cubicBezTo>
                  <a:pt x="546" y="656"/>
                  <a:pt x="547" y="656"/>
                  <a:pt x="548" y="657"/>
                </a:cubicBezTo>
                <a:lnTo>
                  <a:pt x="612" y="672"/>
                </a:lnTo>
                <a:lnTo>
                  <a:pt x="612" y="699"/>
                </a:lnTo>
                <a:cubicBezTo>
                  <a:pt x="612" y="709"/>
                  <a:pt x="605" y="718"/>
                  <a:pt x="596" y="721"/>
                </a:cubicBezTo>
                <a:lnTo>
                  <a:pt x="443" y="763"/>
                </a:lnTo>
                <a:cubicBezTo>
                  <a:pt x="442" y="763"/>
                  <a:pt x="440" y="763"/>
                  <a:pt x="438" y="763"/>
                </a:cubicBezTo>
                <a:cubicBezTo>
                  <a:pt x="435" y="763"/>
                  <a:pt x="433" y="763"/>
                  <a:pt x="430" y="762"/>
                </a:cubicBezTo>
                <a:cubicBezTo>
                  <a:pt x="429" y="762"/>
                  <a:pt x="429" y="762"/>
                  <a:pt x="428" y="761"/>
                </a:cubicBezTo>
                <a:lnTo>
                  <a:pt x="275" y="720"/>
                </a:lnTo>
                <a:cubicBezTo>
                  <a:pt x="266" y="717"/>
                  <a:pt x="260" y="708"/>
                  <a:pt x="260" y="698"/>
                </a:cubicBezTo>
                <a:lnTo>
                  <a:pt x="260" y="672"/>
                </a:lnTo>
                <a:lnTo>
                  <a:pt x="322" y="657"/>
                </a:lnTo>
                <a:cubicBezTo>
                  <a:pt x="323" y="656"/>
                  <a:pt x="325" y="656"/>
                  <a:pt x="326" y="655"/>
                </a:cubicBezTo>
                <a:cubicBezTo>
                  <a:pt x="357" y="644"/>
                  <a:pt x="375" y="608"/>
                  <a:pt x="368" y="571"/>
                </a:cubicBezTo>
                <a:cubicBezTo>
                  <a:pt x="360" y="534"/>
                  <a:pt x="328" y="508"/>
                  <a:pt x="295" y="513"/>
                </a:cubicBezTo>
                <a:cubicBezTo>
                  <a:pt x="294" y="513"/>
                  <a:pt x="292" y="513"/>
                  <a:pt x="291" y="513"/>
                </a:cubicBezTo>
                <a:lnTo>
                  <a:pt x="260" y="521"/>
                </a:lnTo>
                <a:lnTo>
                  <a:pt x="260" y="450"/>
                </a:lnTo>
                <a:cubicBezTo>
                  <a:pt x="260" y="443"/>
                  <a:pt x="263" y="436"/>
                  <a:pt x="268" y="432"/>
                </a:cubicBezTo>
                <a:cubicBezTo>
                  <a:pt x="273" y="427"/>
                  <a:pt x="280" y="426"/>
                  <a:pt x="286" y="428"/>
                </a:cubicBezTo>
                <a:lnTo>
                  <a:pt x="438" y="469"/>
                </a:lnTo>
                <a:lnTo>
                  <a:pt x="585" y="429"/>
                </a:lnTo>
                <a:cubicBezTo>
                  <a:pt x="591" y="427"/>
                  <a:pt x="598" y="429"/>
                  <a:pt x="603" y="433"/>
                </a:cubicBezTo>
                <a:cubicBezTo>
                  <a:pt x="609" y="437"/>
                  <a:pt x="612" y="444"/>
                  <a:pt x="612" y="451"/>
                </a:cubicBezTo>
                <a:lnTo>
                  <a:pt x="612" y="521"/>
                </a:lnTo>
                <a:close/>
                <a:moveTo>
                  <a:pt x="852" y="594"/>
                </a:moveTo>
                <a:cubicBezTo>
                  <a:pt x="852" y="593"/>
                  <a:pt x="851" y="592"/>
                  <a:pt x="850" y="591"/>
                </a:cubicBezTo>
                <a:lnTo>
                  <a:pt x="665" y="392"/>
                </a:lnTo>
                <a:cubicBezTo>
                  <a:pt x="664" y="391"/>
                  <a:pt x="663" y="390"/>
                  <a:pt x="662" y="389"/>
                </a:cubicBezTo>
                <a:cubicBezTo>
                  <a:pt x="654" y="382"/>
                  <a:pt x="644" y="378"/>
                  <a:pt x="635" y="375"/>
                </a:cubicBezTo>
                <a:cubicBezTo>
                  <a:pt x="632" y="374"/>
                  <a:pt x="629" y="373"/>
                  <a:pt x="626" y="373"/>
                </a:cubicBezTo>
                <a:lnTo>
                  <a:pt x="247" y="373"/>
                </a:lnTo>
                <a:cubicBezTo>
                  <a:pt x="246" y="373"/>
                  <a:pt x="246" y="374"/>
                  <a:pt x="245" y="374"/>
                </a:cubicBezTo>
                <a:cubicBezTo>
                  <a:pt x="232" y="375"/>
                  <a:pt x="219" y="380"/>
                  <a:pt x="209" y="389"/>
                </a:cubicBezTo>
                <a:cubicBezTo>
                  <a:pt x="208" y="390"/>
                  <a:pt x="207" y="391"/>
                  <a:pt x="206" y="392"/>
                </a:cubicBezTo>
                <a:lnTo>
                  <a:pt x="21" y="591"/>
                </a:lnTo>
                <a:cubicBezTo>
                  <a:pt x="20" y="592"/>
                  <a:pt x="20" y="593"/>
                  <a:pt x="19" y="594"/>
                </a:cubicBezTo>
                <a:cubicBezTo>
                  <a:pt x="1" y="617"/>
                  <a:pt x="0" y="648"/>
                  <a:pt x="12" y="673"/>
                </a:cubicBezTo>
                <a:cubicBezTo>
                  <a:pt x="24" y="699"/>
                  <a:pt x="47" y="716"/>
                  <a:pt x="72" y="716"/>
                </a:cubicBezTo>
                <a:cubicBezTo>
                  <a:pt x="74" y="716"/>
                  <a:pt x="77" y="715"/>
                  <a:pt x="79" y="715"/>
                </a:cubicBezTo>
                <a:cubicBezTo>
                  <a:pt x="81" y="715"/>
                  <a:pt x="82" y="715"/>
                  <a:pt x="84" y="714"/>
                </a:cubicBezTo>
                <a:lnTo>
                  <a:pt x="227" y="680"/>
                </a:lnTo>
                <a:lnTo>
                  <a:pt x="227" y="791"/>
                </a:lnTo>
                <a:cubicBezTo>
                  <a:pt x="227" y="802"/>
                  <a:pt x="236" y="811"/>
                  <a:pt x="247" y="811"/>
                </a:cubicBezTo>
                <a:lnTo>
                  <a:pt x="626" y="811"/>
                </a:lnTo>
                <a:cubicBezTo>
                  <a:pt x="637" y="811"/>
                  <a:pt x="646" y="802"/>
                  <a:pt x="646" y="791"/>
                </a:cubicBezTo>
                <a:lnTo>
                  <a:pt x="646" y="680"/>
                </a:lnTo>
                <a:lnTo>
                  <a:pt x="787" y="714"/>
                </a:lnTo>
                <a:cubicBezTo>
                  <a:pt x="788" y="715"/>
                  <a:pt x="790" y="715"/>
                  <a:pt x="791" y="715"/>
                </a:cubicBezTo>
                <a:cubicBezTo>
                  <a:pt x="794" y="715"/>
                  <a:pt x="796" y="716"/>
                  <a:pt x="799" y="716"/>
                </a:cubicBezTo>
                <a:cubicBezTo>
                  <a:pt x="820" y="716"/>
                  <a:pt x="840" y="703"/>
                  <a:pt x="853" y="683"/>
                </a:cubicBezTo>
                <a:cubicBezTo>
                  <a:pt x="872" y="657"/>
                  <a:pt x="872" y="620"/>
                  <a:pt x="852" y="594"/>
                </a:cubicBezTo>
                <a:close/>
                <a:moveTo>
                  <a:pt x="436" y="362"/>
                </a:moveTo>
                <a:cubicBezTo>
                  <a:pt x="529" y="362"/>
                  <a:pt x="605" y="281"/>
                  <a:pt x="605" y="181"/>
                </a:cubicBezTo>
                <a:cubicBezTo>
                  <a:pt x="605" y="81"/>
                  <a:pt x="529" y="0"/>
                  <a:pt x="436" y="0"/>
                </a:cubicBezTo>
                <a:cubicBezTo>
                  <a:pt x="342" y="0"/>
                  <a:pt x="266" y="81"/>
                  <a:pt x="266" y="181"/>
                </a:cubicBezTo>
                <a:cubicBezTo>
                  <a:pt x="266" y="281"/>
                  <a:pt x="342" y="362"/>
                  <a:pt x="436" y="362"/>
                </a:cubicBezTo>
                <a:close/>
                <a:moveTo>
                  <a:pt x="377" y="588"/>
                </a:moveTo>
                <a:lnTo>
                  <a:pt x="385" y="580"/>
                </a:lnTo>
                <a:cubicBezTo>
                  <a:pt x="402" y="594"/>
                  <a:pt x="421" y="603"/>
                  <a:pt x="446" y="591"/>
                </a:cubicBezTo>
                <a:lnTo>
                  <a:pt x="410" y="555"/>
                </a:lnTo>
                <a:lnTo>
                  <a:pt x="400" y="565"/>
                </a:lnTo>
                <a:lnTo>
                  <a:pt x="384" y="549"/>
                </a:lnTo>
                <a:lnTo>
                  <a:pt x="411" y="522"/>
                </a:lnTo>
                <a:cubicBezTo>
                  <a:pt x="415" y="524"/>
                  <a:pt x="422" y="524"/>
                  <a:pt x="429" y="519"/>
                </a:cubicBezTo>
                <a:lnTo>
                  <a:pt x="437" y="527"/>
                </a:lnTo>
                <a:lnTo>
                  <a:pt x="423" y="541"/>
                </a:lnTo>
                <a:lnTo>
                  <a:pt x="460" y="578"/>
                </a:lnTo>
                <a:cubicBezTo>
                  <a:pt x="474" y="555"/>
                  <a:pt x="462" y="520"/>
                  <a:pt x="431" y="505"/>
                </a:cubicBezTo>
                <a:cubicBezTo>
                  <a:pt x="462" y="506"/>
                  <a:pt x="502" y="542"/>
                  <a:pt x="474" y="591"/>
                </a:cubicBezTo>
                <a:lnTo>
                  <a:pt x="484" y="602"/>
                </a:lnTo>
                <a:lnTo>
                  <a:pt x="471" y="614"/>
                </a:lnTo>
                <a:lnTo>
                  <a:pt x="460" y="605"/>
                </a:lnTo>
                <a:cubicBezTo>
                  <a:pt x="434" y="619"/>
                  <a:pt x="410" y="617"/>
                  <a:pt x="391" y="602"/>
                </a:cubicBezTo>
                <a:cubicBezTo>
                  <a:pt x="392" y="606"/>
                  <a:pt x="390" y="610"/>
                  <a:pt x="387" y="612"/>
                </a:cubicBezTo>
                <a:cubicBezTo>
                  <a:pt x="383" y="615"/>
                  <a:pt x="378" y="614"/>
                  <a:pt x="375" y="610"/>
                </a:cubicBezTo>
                <a:cubicBezTo>
                  <a:pt x="371" y="604"/>
                  <a:pt x="378" y="596"/>
                  <a:pt x="385" y="597"/>
                </a:cubicBezTo>
                <a:cubicBezTo>
                  <a:pt x="382" y="594"/>
                  <a:pt x="380" y="591"/>
                  <a:pt x="377" y="588"/>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15" name="Freeform 9"/>
          <p:cNvSpPr/>
          <p:nvPr/>
        </p:nvSpPr>
        <p:spPr>
          <a:xfrm>
            <a:off x="1217520" y="2043000"/>
            <a:ext cx="609840" cy="517680"/>
          </a:xfrm>
          <a:custGeom>
            <a:avLst/>
            <a:gdLst>
              <a:gd name="textAreaLeft" fmla="*/ 0 w 609840"/>
              <a:gd name="textAreaRight" fmla="*/ 610200 w 609840"/>
              <a:gd name="textAreaTop" fmla="*/ 0 h 517680"/>
              <a:gd name="textAreaBottom" fmla="*/ 518040 h 517680"/>
            </a:gdLst>
            <a:ahLst/>
            <a:rect l="textAreaLeft" t="textAreaTop" r="textAreaRight" b="textAreaBottom"/>
            <a:pathLst>
              <a:path w="857" h="724">
                <a:moveTo>
                  <a:pt x="601" y="449"/>
                </a:moveTo>
                <a:lnTo>
                  <a:pt x="475" y="449"/>
                </a:lnTo>
                <a:lnTo>
                  <a:pt x="475" y="576"/>
                </a:lnTo>
                <a:lnTo>
                  <a:pt x="382" y="576"/>
                </a:lnTo>
                <a:lnTo>
                  <a:pt x="382" y="449"/>
                </a:lnTo>
                <a:lnTo>
                  <a:pt x="256" y="449"/>
                </a:lnTo>
                <a:lnTo>
                  <a:pt x="256" y="356"/>
                </a:lnTo>
                <a:lnTo>
                  <a:pt x="382" y="356"/>
                </a:lnTo>
                <a:lnTo>
                  <a:pt x="382" y="230"/>
                </a:lnTo>
                <a:lnTo>
                  <a:pt x="475" y="230"/>
                </a:lnTo>
                <a:lnTo>
                  <a:pt x="475" y="356"/>
                </a:lnTo>
                <a:lnTo>
                  <a:pt x="601" y="356"/>
                </a:lnTo>
                <a:lnTo>
                  <a:pt x="601" y="449"/>
                </a:lnTo>
                <a:close/>
                <a:moveTo>
                  <a:pt x="787" y="232"/>
                </a:moveTo>
                <a:cubicBezTo>
                  <a:pt x="725" y="0"/>
                  <a:pt x="470" y="147"/>
                  <a:pt x="428" y="172"/>
                </a:cubicBezTo>
                <a:cubicBezTo>
                  <a:pt x="385" y="145"/>
                  <a:pt x="131" y="1"/>
                  <a:pt x="70" y="233"/>
                </a:cubicBezTo>
                <a:cubicBezTo>
                  <a:pt x="0" y="500"/>
                  <a:pt x="427" y="721"/>
                  <a:pt x="429" y="724"/>
                </a:cubicBezTo>
                <a:cubicBezTo>
                  <a:pt x="429" y="724"/>
                  <a:pt x="857" y="497"/>
                  <a:pt x="787" y="232"/>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16" name="Freeform 10"/>
          <p:cNvSpPr/>
          <p:nvPr/>
        </p:nvSpPr>
        <p:spPr>
          <a:xfrm>
            <a:off x="3549600" y="1225440"/>
            <a:ext cx="558720" cy="559080"/>
          </a:xfrm>
          <a:custGeom>
            <a:avLst/>
            <a:gdLst>
              <a:gd name="textAreaLeft" fmla="*/ 0 w 558720"/>
              <a:gd name="textAreaRight" fmla="*/ 559080 w 558720"/>
              <a:gd name="textAreaTop" fmla="*/ 0 h 559080"/>
              <a:gd name="textAreaBottom" fmla="*/ 559440 h 559080"/>
            </a:gdLst>
            <a:ahLst/>
            <a:rect l="textAreaLeft" t="textAreaTop" r="textAreaRight" b="textAreaBottom"/>
            <a:pathLst>
              <a:path w="782" h="782">
                <a:moveTo>
                  <a:pt x="391" y="281"/>
                </a:moveTo>
                <a:cubicBezTo>
                  <a:pt x="331" y="281"/>
                  <a:pt x="281" y="330"/>
                  <a:pt x="281" y="391"/>
                </a:cubicBezTo>
                <a:cubicBezTo>
                  <a:pt x="281" y="452"/>
                  <a:pt x="331" y="501"/>
                  <a:pt x="391" y="501"/>
                </a:cubicBezTo>
                <a:cubicBezTo>
                  <a:pt x="452" y="501"/>
                  <a:pt x="501" y="452"/>
                  <a:pt x="501" y="391"/>
                </a:cubicBezTo>
                <a:cubicBezTo>
                  <a:pt x="501" y="330"/>
                  <a:pt x="452" y="281"/>
                  <a:pt x="391" y="281"/>
                </a:cubicBezTo>
                <a:close/>
                <a:moveTo>
                  <a:pt x="682" y="100"/>
                </a:moveTo>
                <a:lnTo>
                  <a:pt x="679" y="0"/>
                </a:lnTo>
                <a:lnTo>
                  <a:pt x="575" y="104"/>
                </a:lnTo>
                <a:lnTo>
                  <a:pt x="575" y="173"/>
                </a:lnTo>
                <a:lnTo>
                  <a:pt x="368" y="380"/>
                </a:lnTo>
                <a:lnTo>
                  <a:pt x="402" y="415"/>
                </a:lnTo>
                <a:lnTo>
                  <a:pt x="610" y="208"/>
                </a:lnTo>
                <a:lnTo>
                  <a:pt x="679" y="208"/>
                </a:lnTo>
                <a:lnTo>
                  <a:pt x="782" y="104"/>
                </a:lnTo>
                <a:lnTo>
                  <a:pt x="682" y="100"/>
                </a:lnTo>
                <a:close/>
                <a:moveTo>
                  <a:pt x="679" y="256"/>
                </a:moveTo>
                <a:cubicBezTo>
                  <a:pt x="698" y="297"/>
                  <a:pt x="709" y="343"/>
                  <a:pt x="709" y="391"/>
                </a:cubicBezTo>
                <a:cubicBezTo>
                  <a:pt x="709" y="566"/>
                  <a:pt x="567" y="709"/>
                  <a:pt x="391" y="709"/>
                </a:cubicBezTo>
                <a:cubicBezTo>
                  <a:pt x="216" y="709"/>
                  <a:pt x="74" y="566"/>
                  <a:pt x="74" y="391"/>
                </a:cubicBezTo>
                <a:cubicBezTo>
                  <a:pt x="74" y="216"/>
                  <a:pt x="216" y="74"/>
                  <a:pt x="391" y="74"/>
                </a:cubicBezTo>
                <a:cubicBezTo>
                  <a:pt x="440" y="74"/>
                  <a:pt x="485" y="84"/>
                  <a:pt x="526" y="104"/>
                </a:cubicBezTo>
                <a:cubicBezTo>
                  <a:pt x="526" y="91"/>
                  <a:pt x="531" y="78"/>
                  <a:pt x="540" y="69"/>
                </a:cubicBezTo>
                <a:lnTo>
                  <a:pt x="567" y="42"/>
                </a:lnTo>
                <a:cubicBezTo>
                  <a:pt x="515" y="15"/>
                  <a:pt x="455" y="0"/>
                  <a:pt x="391" y="0"/>
                </a:cubicBezTo>
                <a:cubicBezTo>
                  <a:pt x="175" y="0"/>
                  <a:pt x="0" y="175"/>
                  <a:pt x="0" y="391"/>
                </a:cubicBezTo>
                <a:cubicBezTo>
                  <a:pt x="0" y="607"/>
                  <a:pt x="175" y="782"/>
                  <a:pt x="391" y="782"/>
                </a:cubicBezTo>
                <a:cubicBezTo>
                  <a:pt x="607" y="782"/>
                  <a:pt x="782" y="607"/>
                  <a:pt x="782" y="391"/>
                </a:cubicBezTo>
                <a:cubicBezTo>
                  <a:pt x="782" y="328"/>
                  <a:pt x="767" y="268"/>
                  <a:pt x="740" y="215"/>
                </a:cubicBezTo>
                <a:lnTo>
                  <a:pt x="713" y="242"/>
                </a:lnTo>
                <a:cubicBezTo>
                  <a:pt x="704" y="251"/>
                  <a:pt x="692" y="256"/>
                  <a:pt x="679" y="256"/>
                </a:cubicBezTo>
                <a:close/>
                <a:moveTo>
                  <a:pt x="569" y="391"/>
                </a:moveTo>
                <a:cubicBezTo>
                  <a:pt x="569" y="489"/>
                  <a:pt x="489" y="568"/>
                  <a:pt x="391" y="568"/>
                </a:cubicBezTo>
                <a:cubicBezTo>
                  <a:pt x="294" y="568"/>
                  <a:pt x="214" y="489"/>
                  <a:pt x="214" y="391"/>
                </a:cubicBezTo>
                <a:cubicBezTo>
                  <a:pt x="214" y="294"/>
                  <a:pt x="294" y="214"/>
                  <a:pt x="391" y="214"/>
                </a:cubicBezTo>
                <a:cubicBezTo>
                  <a:pt x="413" y="214"/>
                  <a:pt x="434" y="218"/>
                  <a:pt x="454" y="225"/>
                </a:cubicBezTo>
                <a:lnTo>
                  <a:pt x="504" y="175"/>
                </a:lnTo>
                <a:cubicBezTo>
                  <a:pt x="471" y="157"/>
                  <a:pt x="432" y="147"/>
                  <a:pt x="391" y="147"/>
                </a:cubicBezTo>
                <a:cubicBezTo>
                  <a:pt x="256" y="147"/>
                  <a:pt x="147" y="256"/>
                  <a:pt x="147" y="391"/>
                </a:cubicBezTo>
                <a:cubicBezTo>
                  <a:pt x="147" y="526"/>
                  <a:pt x="256" y="636"/>
                  <a:pt x="391" y="636"/>
                </a:cubicBezTo>
                <a:cubicBezTo>
                  <a:pt x="526" y="636"/>
                  <a:pt x="636" y="526"/>
                  <a:pt x="636" y="391"/>
                </a:cubicBezTo>
                <a:cubicBezTo>
                  <a:pt x="636" y="350"/>
                  <a:pt x="626" y="312"/>
                  <a:pt x="608" y="278"/>
                </a:cubicBezTo>
                <a:lnTo>
                  <a:pt x="557" y="329"/>
                </a:lnTo>
                <a:cubicBezTo>
                  <a:pt x="565" y="348"/>
                  <a:pt x="569" y="369"/>
                  <a:pt x="569" y="391"/>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17" name="Freeform 11"/>
          <p:cNvSpPr/>
          <p:nvPr/>
        </p:nvSpPr>
        <p:spPr>
          <a:xfrm>
            <a:off x="4654440" y="1306440"/>
            <a:ext cx="750960" cy="471600"/>
          </a:xfrm>
          <a:custGeom>
            <a:avLst/>
            <a:gdLst>
              <a:gd name="textAreaLeft" fmla="*/ 0 w 750960"/>
              <a:gd name="textAreaRight" fmla="*/ 751320 w 750960"/>
              <a:gd name="textAreaTop" fmla="*/ 0 h 471600"/>
              <a:gd name="textAreaBottom" fmla="*/ 471960 h 471600"/>
            </a:gdLst>
            <a:ahLst/>
            <a:rect l="textAreaLeft" t="textAreaTop" r="textAreaRight" b="textAreaBottom"/>
            <a:pathLst>
              <a:path w="1051" h="660">
                <a:moveTo>
                  <a:pt x="44" y="282"/>
                </a:moveTo>
                <a:cubicBezTo>
                  <a:pt x="57" y="282"/>
                  <a:pt x="68" y="282"/>
                  <a:pt x="79" y="281"/>
                </a:cubicBezTo>
                <a:cubicBezTo>
                  <a:pt x="89" y="282"/>
                  <a:pt x="96" y="280"/>
                  <a:pt x="102" y="274"/>
                </a:cubicBezTo>
                <a:cubicBezTo>
                  <a:pt x="106" y="267"/>
                  <a:pt x="109" y="259"/>
                  <a:pt x="111" y="248"/>
                </a:cubicBezTo>
                <a:cubicBezTo>
                  <a:pt x="103" y="239"/>
                  <a:pt x="96" y="228"/>
                  <a:pt x="92" y="215"/>
                </a:cubicBezTo>
                <a:cubicBezTo>
                  <a:pt x="87" y="212"/>
                  <a:pt x="83" y="208"/>
                  <a:pt x="81" y="202"/>
                </a:cubicBezTo>
                <a:cubicBezTo>
                  <a:pt x="78" y="196"/>
                  <a:pt x="77" y="187"/>
                  <a:pt x="77" y="177"/>
                </a:cubicBezTo>
                <a:lnTo>
                  <a:pt x="77" y="174"/>
                </a:lnTo>
                <a:lnTo>
                  <a:pt x="80" y="172"/>
                </a:lnTo>
                <a:cubicBezTo>
                  <a:pt x="80" y="172"/>
                  <a:pt x="81" y="172"/>
                  <a:pt x="81" y="171"/>
                </a:cubicBezTo>
                <a:cubicBezTo>
                  <a:pt x="75" y="129"/>
                  <a:pt x="80" y="110"/>
                  <a:pt x="99" y="95"/>
                </a:cubicBezTo>
                <a:cubicBezTo>
                  <a:pt x="127" y="71"/>
                  <a:pt x="182" y="71"/>
                  <a:pt x="211" y="92"/>
                </a:cubicBezTo>
                <a:cubicBezTo>
                  <a:pt x="230" y="107"/>
                  <a:pt x="238" y="132"/>
                  <a:pt x="232" y="170"/>
                </a:cubicBezTo>
                <a:cubicBezTo>
                  <a:pt x="233" y="171"/>
                  <a:pt x="234" y="172"/>
                  <a:pt x="235" y="172"/>
                </a:cubicBezTo>
                <a:lnTo>
                  <a:pt x="238" y="174"/>
                </a:lnTo>
                <a:lnTo>
                  <a:pt x="238" y="177"/>
                </a:lnTo>
                <a:cubicBezTo>
                  <a:pt x="238" y="187"/>
                  <a:pt x="237" y="195"/>
                  <a:pt x="234" y="202"/>
                </a:cubicBezTo>
                <a:cubicBezTo>
                  <a:pt x="232" y="207"/>
                  <a:pt x="229" y="212"/>
                  <a:pt x="224" y="214"/>
                </a:cubicBezTo>
                <a:cubicBezTo>
                  <a:pt x="220" y="227"/>
                  <a:pt x="214" y="237"/>
                  <a:pt x="206" y="246"/>
                </a:cubicBezTo>
                <a:cubicBezTo>
                  <a:pt x="208" y="260"/>
                  <a:pt x="212" y="270"/>
                  <a:pt x="219" y="277"/>
                </a:cubicBezTo>
                <a:cubicBezTo>
                  <a:pt x="224" y="280"/>
                  <a:pt x="231" y="280"/>
                  <a:pt x="240" y="280"/>
                </a:cubicBezTo>
                <a:cubicBezTo>
                  <a:pt x="250" y="280"/>
                  <a:pt x="260" y="280"/>
                  <a:pt x="272" y="280"/>
                </a:cubicBezTo>
                <a:cubicBezTo>
                  <a:pt x="276" y="284"/>
                  <a:pt x="281" y="291"/>
                  <a:pt x="285" y="300"/>
                </a:cubicBezTo>
                <a:cubicBezTo>
                  <a:pt x="288" y="276"/>
                  <a:pt x="292" y="256"/>
                  <a:pt x="298" y="249"/>
                </a:cubicBezTo>
                <a:cubicBezTo>
                  <a:pt x="302" y="240"/>
                  <a:pt x="356" y="237"/>
                  <a:pt x="364" y="237"/>
                </a:cubicBezTo>
                <a:cubicBezTo>
                  <a:pt x="366" y="228"/>
                  <a:pt x="369" y="220"/>
                  <a:pt x="370" y="211"/>
                </a:cubicBezTo>
                <a:cubicBezTo>
                  <a:pt x="358" y="203"/>
                  <a:pt x="349" y="191"/>
                  <a:pt x="344" y="178"/>
                </a:cubicBezTo>
                <a:cubicBezTo>
                  <a:pt x="338" y="177"/>
                  <a:pt x="323" y="178"/>
                  <a:pt x="318" y="177"/>
                </a:cubicBezTo>
                <a:cubicBezTo>
                  <a:pt x="310" y="132"/>
                  <a:pt x="321" y="65"/>
                  <a:pt x="339" y="50"/>
                </a:cubicBezTo>
                <a:cubicBezTo>
                  <a:pt x="367" y="28"/>
                  <a:pt x="434" y="27"/>
                  <a:pt x="462" y="47"/>
                </a:cubicBezTo>
                <a:cubicBezTo>
                  <a:pt x="482" y="62"/>
                  <a:pt x="495" y="134"/>
                  <a:pt x="488" y="175"/>
                </a:cubicBezTo>
                <a:cubicBezTo>
                  <a:pt x="485" y="177"/>
                  <a:pt x="465" y="176"/>
                  <a:pt x="461" y="178"/>
                </a:cubicBezTo>
                <a:cubicBezTo>
                  <a:pt x="455" y="191"/>
                  <a:pt x="446" y="202"/>
                  <a:pt x="433" y="211"/>
                </a:cubicBezTo>
                <a:cubicBezTo>
                  <a:pt x="436" y="224"/>
                  <a:pt x="438" y="229"/>
                  <a:pt x="442" y="237"/>
                </a:cubicBezTo>
                <a:cubicBezTo>
                  <a:pt x="450" y="237"/>
                  <a:pt x="504" y="240"/>
                  <a:pt x="508" y="249"/>
                </a:cubicBezTo>
                <a:cubicBezTo>
                  <a:pt x="509" y="251"/>
                  <a:pt x="510" y="253"/>
                  <a:pt x="512" y="256"/>
                </a:cubicBezTo>
                <a:cubicBezTo>
                  <a:pt x="518" y="225"/>
                  <a:pt x="526" y="199"/>
                  <a:pt x="537" y="189"/>
                </a:cubicBezTo>
                <a:cubicBezTo>
                  <a:pt x="548" y="189"/>
                  <a:pt x="559" y="189"/>
                  <a:pt x="568" y="189"/>
                </a:cubicBezTo>
                <a:cubicBezTo>
                  <a:pt x="577" y="190"/>
                  <a:pt x="584" y="188"/>
                  <a:pt x="589" y="182"/>
                </a:cubicBezTo>
                <a:cubicBezTo>
                  <a:pt x="593" y="176"/>
                  <a:pt x="596" y="169"/>
                  <a:pt x="598" y="159"/>
                </a:cubicBezTo>
                <a:cubicBezTo>
                  <a:pt x="590" y="151"/>
                  <a:pt x="584" y="141"/>
                  <a:pt x="580" y="129"/>
                </a:cubicBezTo>
                <a:cubicBezTo>
                  <a:pt x="576" y="127"/>
                  <a:pt x="572" y="123"/>
                  <a:pt x="570" y="118"/>
                </a:cubicBezTo>
                <a:cubicBezTo>
                  <a:pt x="568" y="112"/>
                  <a:pt x="567" y="104"/>
                  <a:pt x="567" y="95"/>
                </a:cubicBezTo>
                <a:lnTo>
                  <a:pt x="567" y="93"/>
                </a:lnTo>
                <a:lnTo>
                  <a:pt x="569" y="91"/>
                </a:lnTo>
                <a:cubicBezTo>
                  <a:pt x="570" y="91"/>
                  <a:pt x="570" y="90"/>
                  <a:pt x="571" y="90"/>
                </a:cubicBezTo>
                <a:cubicBezTo>
                  <a:pt x="565" y="52"/>
                  <a:pt x="570" y="35"/>
                  <a:pt x="586" y="21"/>
                </a:cubicBezTo>
                <a:cubicBezTo>
                  <a:pt x="612" y="0"/>
                  <a:pt x="661" y="0"/>
                  <a:pt x="687" y="19"/>
                </a:cubicBezTo>
                <a:cubicBezTo>
                  <a:pt x="705" y="32"/>
                  <a:pt x="711" y="55"/>
                  <a:pt x="706" y="89"/>
                </a:cubicBezTo>
                <a:cubicBezTo>
                  <a:pt x="707" y="90"/>
                  <a:pt x="708" y="90"/>
                  <a:pt x="709" y="91"/>
                </a:cubicBezTo>
                <a:lnTo>
                  <a:pt x="712" y="93"/>
                </a:lnTo>
                <a:lnTo>
                  <a:pt x="712" y="95"/>
                </a:lnTo>
                <a:cubicBezTo>
                  <a:pt x="712" y="104"/>
                  <a:pt x="711" y="112"/>
                  <a:pt x="708" y="117"/>
                </a:cubicBezTo>
                <a:cubicBezTo>
                  <a:pt x="706" y="123"/>
                  <a:pt x="703" y="126"/>
                  <a:pt x="699" y="129"/>
                </a:cubicBezTo>
                <a:cubicBezTo>
                  <a:pt x="695" y="140"/>
                  <a:pt x="690" y="150"/>
                  <a:pt x="683" y="157"/>
                </a:cubicBezTo>
                <a:cubicBezTo>
                  <a:pt x="685" y="169"/>
                  <a:pt x="688" y="179"/>
                  <a:pt x="694" y="185"/>
                </a:cubicBezTo>
                <a:cubicBezTo>
                  <a:pt x="699" y="188"/>
                  <a:pt x="706" y="188"/>
                  <a:pt x="713" y="188"/>
                </a:cubicBezTo>
                <a:cubicBezTo>
                  <a:pt x="722" y="188"/>
                  <a:pt x="732" y="188"/>
                  <a:pt x="742" y="188"/>
                </a:cubicBezTo>
                <a:cubicBezTo>
                  <a:pt x="747" y="192"/>
                  <a:pt x="752" y="202"/>
                  <a:pt x="756" y="215"/>
                </a:cubicBezTo>
                <a:lnTo>
                  <a:pt x="512" y="432"/>
                </a:lnTo>
                <a:lnTo>
                  <a:pt x="301" y="310"/>
                </a:lnTo>
                <a:lnTo>
                  <a:pt x="0" y="473"/>
                </a:lnTo>
                <a:cubicBezTo>
                  <a:pt x="1" y="427"/>
                  <a:pt x="10" y="312"/>
                  <a:pt x="44" y="282"/>
                </a:cubicBezTo>
                <a:close/>
                <a:moveTo>
                  <a:pt x="16" y="520"/>
                </a:moveTo>
                <a:lnTo>
                  <a:pt x="16" y="520"/>
                </a:lnTo>
                <a:lnTo>
                  <a:pt x="82" y="640"/>
                </a:lnTo>
                <a:lnTo>
                  <a:pt x="298" y="523"/>
                </a:lnTo>
                <a:lnTo>
                  <a:pt x="492" y="635"/>
                </a:lnTo>
                <a:lnTo>
                  <a:pt x="536" y="660"/>
                </a:lnTo>
                <a:lnTo>
                  <a:pt x="574" y="625"/>
                </a:lnTo>
                <a:lnTo>
                  <a:pt x="918" y="317"/>
                </a:lnTo>
                <a:lnTo>
                  <a:pt x="971" y="369"/>
                </a:lnTo>
                <a:lnTo>
                  <a:pt x="1051" y="96"/>
                </a:lnTo>
                <a:lnTo>
                  <a:pt x="769" y="171"/>
                </a:lnTo>
                <a:lnTo>
                  <a:pt x="820" y="221"/>
                </a:lnTo>
                <a:lnTo>
                  <a:pt x="516" y="491"/>
                </a:lnTo>
                <a:lnTo>
                  <a:pt x="333" y="386"/>
                </a:lnTo>
                <a:lnTo>
                  <a:pt x="300" y="366"/>
                </a:lnTo>
                <a:lnTo>
                  <a:pt x="266" y="385"/>
                </a:lnTo>
                <a:lnTo>
                  <a:pt x="16" y="520"/>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18" name="Freeform 13"/>
          <p:cNvSpPr/>
          <p:nvPr/>
        </p:nvSpPr>
        <p:spPr>
          <a:xfrm>
            <a:off x="5848200" y="2189160"/>
            <a:ext cx="567000" cy="484200"/>
          </a:xfrm>
          <a:custGeom>
            <a:avLst/>
            <a:gdLst>
              <a:gd name="textAreaLeft" fmla="*/ 0 w 567000"/>
              <a:gd name="textAreaRight" fmla="*/ 567360 w 567000"/>
              <a:gd name="textAreaTop" fmla="*/ 0 h 484200"/>
              <a:gd name="textAreaBottom" fmla="*/ 484560 h 484200"/>
            </a:gdLst>
            <a:ahLst/>
            <a:rect l="textAreaLeft" t="textAreaTop" r="textAreaRight" b="textAreaBottom"/>
            <a:pathLst>
              <a:path w="792" h="677">
                <a:moveTo>
                  <a:pt x="507" y="294"/>
                </a:moveTo>
                <a:lnTo>
                  <a:pt x="441" y="294"/>
                </a:lnTo>
                <a:cubicBezTo>
                  <a:pt x="441" y="301"/>
                  <a:pt x="442" y="333"/>
                  <a:pt x="424" y="346"/>
                </a:cubicBezTo>
                <a:cubicBezTo>
                  <a:pt x="424" y="346"/>
                  <a:pt x="453" y="506"/>
                  <a:pt x="441" y="558"/>
                </a:cubicBezTo>
                <a:cubicBezTo>
                  <a:pt x="436" y="580"/>
                  <a:pt x="418" y="634"/>
                  <a:pt x="396" y="634"/>
                </a:cubicBezTo>
                <a:cubicBezTo>
                  <a:pt x="375" y="634"/>
                  <a:pt x="358" y="579"/>
                  <a:pt x="354" y="558"/>
                </a:cubicBezTo>
                <a:cubicBezTo>
                  <a:pt x="344" y="506"/>
                  <a:pt x="378" y="346"/>
                  <a:pt x="378" y="346"/>
                </a:cubicBezTo>
                <a:cubicBezTo>
                  <a:pt x="373" y="344"/>
                  <a:pt x="363" y="335"/>
                  <a:pt x="361" y="294"/>
                </a:cubicBezTo>
                <a:lnTo>
                  <a:pt x="288" y="294"/>
                </a:lnTo>
                <a:lnTo>
                  <a:pt x="288" y="294"/>
                </a:lnTo>
                <a:cubicBezTo>
                  <a:pt x="221" y="294"/>
                  <a:pt x="158" y="352"/>
                  <a:pt x="166" y="421"/>
                </a:cubicBezTo>
                <a:lnTo>
                  <a:pt x="184" y="552"/>
                </a:lnTo>
                <a:cubicBezTo>
                  <a:pt x="197" y="621"/>
                  <a:pt x="238" y="677"/>
                  <a:pt x="305" y="677"/>
                </a:cubicBezTo>
                <a:lnTo>
                  <a:pt x="490" y="677"/>
                </a:lnTo>
                <a:cubicBezTo>
                  <a:pt x="557" y="677"/>
                  <a:pt x="598" y="619"/>
                  <a:pt x="611" y="550"/>
                </a:cubicBezTo>
                <a:lnTo>
                  <a:pt x="629" y="419"/>
                </a:lnTo>
                <a:cubicBezTo>
                  <a:pt x="637" y="351"/>
                  <a:pt x="574" y="294"/>
                  <a:pt x="507" y="294"/>
                </a:cubicBezTo>
                <a:close/>
                <a:moveTo>
                  <a:pt x="150" y="212"/>
                </a:moveTo>
                <a:cubicBezTo>
                  <a:pt x="193" y="212"/>
                  <a:pt x="228" y="178"/>
                  <a:pt x="228" y="135"/>
                </a:cubicBezTo>
                <a:cubicBezTo>
                  <a:pt x="228" y="92"/>
                  <a:pt x="193" y="58"/>
                  <a:pt x="150" y="58"/>
                </a:cubicBezTo>
                <a:cubicBezTo>
                  <a:pt x="108" y="58"/>
                  <a:pt x="73" y="92"/>
                  <a:pt x="73" y="135"/>
                </a:cubicBezTo>
                <a:cubicBezTo>
                  <a:pt x="73" y="178"/>
                  <a:pt x="108" y="212"/>
                  <a:pt x="150" y="212"/>
                </a:cubicBezTo>
                <a:close/>
                <a:moveTo>
                  <a:pt x="219" y="237"/>
                </a:moveTo>
                <a:lnTo>
                  <a:pt x="81" y="237"/>
                </a:lnTo>
                <a:lnTo>
                  <a:pt x="81" y="237"/>
                </a:lnTo>
                <a:cubicBezTo>
                  <a:pt x="39" y="237"/>
                  <a:pt x="0" y="272"/>
                  <a:pt x="5" y="316"/>
                </a:cubicBezTo>
                <a:lnTo>
                  <a:pt x="16" y="397"/>
                </a:lnTo>
                <a:cubicBezTo>
                  <a:pt x="25" y="440"/>
                  <a:pt x="50" y="475"/>
                  <a:pt x="92" y="475"/>
                </a:cubicBezTo>
                <a:lnTo>
                  <a:pt x="132" y="475"/>
                </a:lnTo>
                <a:lnTo>
                  <a:pt x="124" y="418"/>
                </a:lnTo>
                <a:lnTo>
                  <a:pt x="124" y="417"/>
                </a:lnTo>
                <a:lnTo>
                  <a:pt x="124" y="417"/>
                </a:lnTo>
                <a:cubicBezTo>
                  <a:pt x="120" y="378"/>
                  <a:pt x="132" y="340"/>
                  <a:pt x="159" y="309"/>
                </a:cubicBezTo>
                <a:cubicBezTo>
                  <a:pt x="174" y="293"/>
                  <a:pt x="192" y="280"/>
                  <a:pt x="212" y="271"/>
                </a:cubicBezTo>
                <a:cubicBezTo>
                  <a:pt x="229" y="261"/>
                  <a:pt x="248" y="255"/>
                  <a:pt x="267" y="253"/>
                </a:cubicBezTo>
                <a:cubicBezTo>
                  <a:pt x="253" y="243"/>
                  <a:pt x="236" y="237"/>
                  <a:pt x="219" y="237"/>
                </a:cubicBezTo>
                <a:close/>
                <a:moveTo>
                  <a:pt x="641" y="212"/>
                </a:moveTo>
                <a:cubicBezTo>
                  <a:pt x="684" y="212"/>
                  <a:pt x="719" y="178"/>
                  <a:pt x="719" y="135"/>
                </a:cubicBezTo>
                <a:cubicBezTo>
                  <a:pt x="719" y="92"/>
                  <a:pt x="684" y="58"/>
                  <a:pt x="641" y="58"/>
                </a:cubicBezTo>
                <a:cubicBezTo>
                  <a:pt x="599" y="58"/>
                  <a:pt x="564" y="92"/>
                  <a:pt x="564" y="135"/>
                </a:cubicBezTo>
                <a:cubicBezTo>
                  <a:pt x="564" y="178"/>
                  <a:pt x="599" y="212"/>
                  <a:pt x="641" y="212"/>
                </a:cubicBezTo>
                <a:close/>
                <a:moveTo>
                  <a:pt x="710" y="237"/>
                </a:moveTo>
                <a:lnTo>
                  <a:pt x="572" y="237"/>
                </a:lnTo>
                <a:lnTo>
                  <a:pt x="572" y="237"/>
                </a:lnTo>
                <a:cubicBezTo>
                  <a:pt x="555" y="237"/>
                  <a:pt x="539" y="242"/>
                  <a:pt x="526" y="252"/>
                </a:cubicBezTo>
                <a:cubicBezTo>
                  <a:pt x="546" y="255"/>
                  <a:pt x="566" y="261"/>
                  <a:pt x="583" y="271"/>
                </a:cubicBezTo>
                <a:cubicBezTo>
                  <a:pt x="604" y="280"/>
                  <a:pt x="622" y="293"/>
                  <a:pt x="637" y="310"/>
                </a:cubicBezTo>
                <a:cubicBezTo>
                  <a:pt x="663" y="340"/>
                  <a:pt x="675" y="377"/>
                  <a:pt x="671" y="415"/>
                </a:cubicBezTo>
                <a:lnTo>
                  <a:pt x="671" y="416"/>
                </a:lnTo>
                <a:lnTo>
                  <a:pt x="671" y="416"/>
                </a:lnTo>
                <a:lnTo>
                  <a:pt x="663" y="475"/>
                </a:lnTo>
                <a:lnTo>
                  <a:pt x="699" y="475"/>
                </a:lnTo>
                <a:cubicBezTo>
                  <a:pt x="741" y="475"/>
                  <a:pt x="767" y="439"/>
                  <a:pt x="775" y="396"/>
                </a:cubicBezTo>
                <a:lnTo>
                  <a:pt x="786" y="314"/>
                </a:lnTo>
                <a:cubicBezTo>
                  <a:pt x="792" y="272"/>
                  <a:pt x="752" y="237"/>
                  <a:pt x="710" y="237"/>
                </a:cubicBezTo>
                <a:close/>
                <a:moveTo>
                  <a:pt x="521" y="127"/>
                </a:moveTo>
                <a:cubicBezTo>
                  <a:pt x="521" y="197"/>
                  <a:pt x="466" y="254"/>
                  <a:pt x="397" y="254"/>
                </a:cubicBezTo>
                <a:cubicBezTo>
                  <a:pt x="329" y="254"/>
                  <a:pt x="274" y="197"/>
                  <a:pt x="274" y="127"/>
                </a:cubicBezTo>
                <a:cubicBezTo>
                  <a:pt x="274" y="57"/>
                  <a:pt x="329" y="0"/>
                  <a:pt x="397" y="0"/>
                </a:cubicBezTo>
                <a:cubicBezTo>
                  <a:pt x="466" y="0"/>
                  <a:pt x="521" y="57"/>
                  <a:pt x="521" y="127"/>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19" name="Freeform 14"/>
          <p:cNvSpPr/>
          <p:nvPr/>
        </p:nvSpPr>
        <p:spPr>
          <a:xfrm>
            <a:off x="6946920" y="2133720"/>
            <a:ext cx="406440" cy="593640"/>
          </a:xfrm>
          <a:custGeom>
            <a:avLst/>
            <a:gdLst>
              <a:gd name="textAreaLeft" fmla="*/ 0 w 406440"/>
              <a:gd name="textAreaRight" fmla="*/ 406800 w 406440"/>
              <a:gd name="textAreaTop" fmla="*/ 0 h 593640"/>
              <a:gd name="textAreaBottom" fmla="*/ 594000 h 593640"/>
            </a:gdLst>
            <a:ahLst/>
            <a:rect l="textAreaLeft" t="textAreaTop" r="textAreaRight" b="textAreaBottom"/>
            <a:pathLst>
              <a:path w="569" h="832">
                <a:moveTo>
                  <a:pt x="198" y="480"/>
                </a:moveTo>
                <a:cubicBezTo>
                  <a:pt x="219" y="480"/>
                  <a:pt x="240" y="490"/>
                  <a:pt x="251" y="506"/>
                </a:cubicBezTo>
                <a:lnTo>
                  <a:pt x="270" y="535"/>
                </a:lnTo>
                <a:cubicBezTo>
                  <a:pt x="277" y="544"/>
                  <a:pt x="285" y="544"/>
                  <a:pt x="292" y="535"/>
                </a:cubicBezTo>
                <a:lnTo>
                  <a:pt x="312" y="507"/>
                </a:lnTo>
                <a:cubicBezTo>
                  <a:pt x="323" y="492"/>
                  <a:pt x="343" y="482"/>
                  <a:pt x="364" y="482"/>
                </a:cubicBezTo>
                <a:cubicBezTo>
                  <a:pt x="370" y="482"/>
                  <a:pt x="376" y="483"/>
                  <a:pt x="382" y="485"/>
                </a:cubicBezTo>
                <a:lnTo>
                  <a:pt x="415" y="497"/>
                </a:lnTo>
                <a:cubicBezTo>
                  <a:pt x="418" y="498"/>
                  <a:pt x="420" y="498"/>
                  <a:pt x="422" y="498"/>
                </a:cubicBezTo>
                <a:cubicBezTo>
                  <a:pt x="432" y="498"/>
                  <a:pt x="433" y="490"/>
                  <a:pt x="433" y="485"/>
                </a:cubicBezTo>
                <a:lnTo>
                  <a:pt x="433" y="450"/>
                </a:lnTo>
                <a:cubicBezTo>
                  <a:pt x="433" y="424"/>
                  <a:pt x="452" y="398"/>
                  <a:pt x="477" y="391"/>
                </a:cubicBezTo>
                <a:lnTo>
                  <a:pt x="511" y="381"/>
                </a:lnTo>
                <a:cubicBezTo>
                  <a:pt x="516" y="380"/>
                  <a:pt x="519" y="377"/>
                  <a:pt x="521" y="373"/>
                </a:cubicBezTo>
                <a:cubicBezTo>
                  <a:pt x="522" y="370"/>
                  <a:pt x="521" y="365"/>
                  <a:pt x="517" y="361"/>
                </a:cubicBezTo>
                <a:lnTo>
                  <a:pt x="497" y="332"/>
                </a:lnTo>
                <a:cubicBezTo>
                  <a:pt x="482" y="312"/>
                  <a:pt x="482" y="280"/>
                  <a:pt x="498" y="259"/>
                </a:cubicBezTo>
                <a:lnTo>
                  <a:pt x="519" y="232"/>
                </a:lnTo>
                <a:cubicBezTo>
                  <a:pt x="523" y="227"/>
                  <a:pt x="524" y="223"/>
                  <a:pt x="523" y="219"/>
                </a:cubicBezTo>
                <a:cubicBezTo>
                  <a:pt x="522" y="216"/>
                  <a:pt x="518" y="213"/>
                  <a:pt x="513" y="211"/>
                </a:cubicBezTo>
                <a:lnTo>
                  <a:pt x="480" y="200"/>
                </a:lnTo>
                <a:cubicBezTo>
                  <a:pt x="455" y="192"/>
                  <a:pt x="437" y="166"/>
                  <a:pt x="437" y="140"/>
                </a:cubicBezTo>
                <a:lnTo>
                  <a:pt x="438" y="105"/>
                </a:lnTo>
                <a:cubicBezTo>
                  <a:pt x="439" y="101"/>
                  <a:pt x="437" y="97"/>
                  <a:pt x="435" y="94"/>
                </a:cubicBezTo>
                <a:cubicBezTo>
                  <a:pt x="433" y="92"/>
                  <a:pt x="430" y="91"/>
                  <a:pt x="427" y="91"/>
                </a:cubicBezTo>
                <a:cubicBezTo>
                  <a:pt x="425" y="91"/>
                  <a:pt x="423" y="92"/>
                  <a:pt x="421" y="92"/>
                </a:cubicBezTo>
                <a:lnTo>
                  <a:pt x="388" y="103"/>
                </a:lnTo>
                <a:cubicBezTo>
                  <a:pt x="382" y="105"/>
                  <a:pt x="377" y="106"/>
                  <a:pt x="371" y="106"/>
                </a:cubicBezTo>
                <a:cubicBezTo>
                  <a:pt x="350" y="106"/>
                  <a:pt x="329" y="96"/>
                  <a:pt x="319" y="80"/>
                </a:cubicBezTo>
                <a:lnTo>
                  <a:pt x="299" y="51"/>
                </a:lnTo>
                <a:cubicBezTo>
                  <a:pt x="296" y="46"/>
                  <a:pt x="292" y="43"/>
                  <a:pt x="288" y="43"/>
                </a:cubicBezTo>
                <a:cubicBezTo>
                  <a:pt x="283" y="43"/>
                  <a:pt x="282" y="43"/>
                  <a:pt x="278" y="49"/>
                </a:cubicBezTo>
                <a:lnTo>
                  <a:pt x="277" y="51"/>
                </a:lnTo>
                <a:cubicBezTo>
                  <a:pt x="268" y="64"/>
                  <a:pt x="257" y="81"/>
                  <a:pt x="248" y="90"/>
                </a:cubicBezTo>
                <a:cubicBezTo>
                  <a:pt x="242" y="96"/>
                  <a:pt x="232" y="104"/>
                  <a:pt x="220" y="104"/>
                </a:cubicBezTo>
                <a:cubicBezTo>
                  <a:pt x="216" y="104"/>
                  <a:pt x="213" y="103"/>
                  <a:pt x="211" y="103"/>
                </a:cubicBezTo>
                <a:lnTo>
                  <a:pt x="208" y="103"/>
                </a:lnTo>
                <a:lnTo>
                  <a:pt x="205" y="101"/>
                </a:lnTo>
                <a:cubicBezTo>
                  <a:pt x="202" y="100"/>
                  <a:pt x="196" y="98"/>
                  <a:pt x="190" y="97"/>
                </a:cubicBezTo>
                <a:cubicBezTo>
                  <a:pt x="181" y="94"/>
                  <a:pt x="166" y="90"/>
                  <a:pt x="163" y="89"/>
                </a:cubicBezTo>
                <a:cubicBezTo>
                  <a:pt x="157" y="88"/>
                  <a:pt x="149" y="87"/>
                  <a:pt x="147" y="87"/>
                </a:cubicBezTo>
                <a:cubicBezTo>
                  <a:pt x="139" y="87"/>
                  <a:pt x="136" y="94"/>
                  <a:pt x="136" y="101"/>
                </a:cubicBezTo>
                <a:lnTo>
                  <a:pt x="136" y="136"/>
                </a:lnTo>
                <a:cubicBezTo>
                  <a:pt x="136" y="162"/>
                  <a:pt x="117" y="187"/>
                  <a:pt x="92" y="195"/>
                </a:cubicBezTo>
                <a:lnTo>
                  <a:pt x="59" y="205"/>
                </a:lnTo>
                <a:cubicBezTo>
                  <a:pt x="53" y="206"/>
                  <a:pt x="50" y="209"/>
                  <a:pt x="48" y="213"/>
                </a:cubicBezTo>
                <a:cubicBezTo>
                  <a:pt x="47" y="216"/>
                  <a:pt x="48" y="221"/>
                  <a:pt x="52" y="225"/>
                </a:cubicBezTo>
                <a:lnTo>
                  <a:pt x="72" y="253"/>
                </a:lnTo>
                <a:cubicBezTo>
                  <a:pt x="87" y="274"/>
                  <a:pt x="87" y="306"/>
                  <a:pt x="71" y="326"/>
                </a:cubicBezTo>
                <a:lnTo>
                  <a:pt x="50" y="354"/>
                </a:lnTo>
                <a:cubicBezTo>
                  <a:pt x="46" y="359"/>
                  <a:pt x="45" y="363"/>
                  <a:pt x="46" y="366"/>
                </a:cubicBezTo>
                <a:cubicBezTo>
                  <a:pt x="47" y="370"/>
                  <a:pt x="51" y="373"/>
                  <a:pt x="56" y="375"/>
                </a:cubicBezTo>
                <a:lnTo>
                  <a:pt x="89" y="386"/>
                </a:lnTo>
                <a:cubicBezTo>
                  <a:pt x="114" y="394"/>
                  <a:pt x="132" y="420"/>
                  <a:pt x="132" y="445"/>
                </a:cubicBezTo>
                <a:lnTo>
                  <a:pt x="131" y="481"/>
                </a:lnTo>
                <a:cubicBezTo>
                  <a:pt x="131" y="485"/>
                  <a:pt x="132" y="489"/>
                  <a:pt x="134" y="492"/>
                </a:cubicBezTo>
                <a:cubicBezTo>
                  <a:pt x="136" y="494"/>
                  <a:pt x="140" y="494"/>
                  <a:pt x="142" y="494"/>
                </a:cubicBezTo>
                <a:cubicBezTo>
                  <a:pt x="144" y="494"/>
                  <a:pt x="146" y="494"/>
                  <a:pt x="148" y="493"/>
                </a:cubicBezTo>
                <a:lnTo>
                  <a:pt x="181" y="483"/>
                </a:lnTo>
                <a:cubicBezTo>
                  <a:pt x="187" y="481"/>
                  <a:pt x="193" y="480"/>
                  <a:pt x="198" y="480"/>
                </a:cubicBezTo>
                <a:close/>
                <a:moveTo>
                  <a:pt x="281" y="585"/>
                </a:moveTo>
                <a:cubicBezTo>
                  <a:pt x="263" y="585"/>
                  <a:pt x="246" y="576"/>
                  <a:pt x="235" y="559"/>
                </a:cubicBezTo>
                <a:lnTo>
                  <a:pt x="215" y="530"/>
                </a:lnTo>
                <a:cubicBezTo>
                  <a:pt x="212" y="527"/>
                  <a:pt x="206" y="523"/>
                  <a:pt x="198" y="523"/>
                </a:cubicBezTo>
                <a:cubicBezTo>
                  <a:pt x="197" y="523"/>
                  <a:pt x="196" y="523"/>
                  <a:pt x="194" y="524"/>
                </a:cubicBezTo>
                <a:lnTo>
                  <a:pt x="161" y="534"/>
                </a:lnTo>
                <a:cubicBezTo>
                  <a:pt x="140" y="541"/>
                  <a:pt x="117" y="536"/>
                  <a:pt x="103" y="522"/>
                </a:cubicBezTo>
                <a:cubicBezTo>
                  <a:pt x="93" y="511"/>
                  <a:pt x="87" y="496"/>
                  <a:pt x="88" y="479"/>
                </a:cubicBezTo>
                <a:lnTo>
                  <a:pt x="89" y="444"/>
                </a:lnTo>
                <a:cubicBezTo>
                  <a:pt x="89" y="438"/>
                  <a:pt x="82" y="429"/>
                  <a:pt x="76" y="427"/>
                </a:cubicBezTo>
                <a:lnTo>
                  <a:pt x="43" y="416"/>
                </a:lnTo>
                <a:cubicBezTo>
                  <a:pt x="24" y="410"/>
                  <a:pt x="10" y="396"/>
                  <a:pt x="5" y="379"/>
                </a:cubicBezTo>
                <a:cubicBezTo>
                  <a:pt x="0" y="362"/>
                  <a:pt x="4" y="344"/>
                  <a:pt x="16" y="328"/>
                </a:cubicBezTo>
                <a:lnTo>
                  <a:pt x="37" y="300"/>
                </a:lnTo>
                <a:cubicBezTo>
                  <a:pt x="41" y="295"/>
                  <a:pt x="41" y="284"/>
                  <a:pt x="37" y="279"/>
                </a:cubicBezTo>
                <a:lnTo>
                  <a:pt x="17" y="250"/>
                </a:lnTo>
                <a:cubicBezTo>
                  <a:pt x="5" y="234"/>
                  <a:pt x="2" y="216"/>
                  <a:pt x="8" y="199"/>
                </a:cubicBezTo>
                <a:cubicBezTo>
                  <a:pt x="14" y="181"/>
                  <a:pt x="28" y="169"/>
                  <a:pt x="46" y="163"/>
                </a:cubicBezTo>
                <a:lnTo>
                  <a:pt x="80" y="153"/>
                </a:lnTo>
                <a:cubicBezTo>
                  <a:pt x="86" y="151"/>
                  <a:pt x="93" y="142"/>
                  <a:pt x="93" y="136"/>
                </a:cubicBezTo>
                <a:lnTo>
                  <a:pt x="93" y="101"/>
                </a:lnTo>
                <a:cubicBezTo>
                  <a:pt x="93" y="68"/>
                  <a:pt x="116" y="44"/>
                  <a:pt x="147" y="44"/>
                </a:cubicBezTo>
                <a:cubicBezTo>
                  <a:pt x="155" y="44"/>
                  <a:pt x="167" y="46"/>
                  <a:pt x="172" y="47"/>
                </a:cubicBezTo>
                <a:cubicBezTo>
                  <a:pt x="175" y="48"/>
                  <a:pt x="184" y="50"/>
                  <a:pt x="202" y="55"/>
                </a:cubicBezTo>
                <a:cubicBezTo>
                  <a:pt x="208" y="57"/>
                  <a:pt x="213" y="58"/>
                  <a:pt x="217" y="59"/>
                </a:cubicBezTo>
                <a:lnTo>
                  <a:pt x="218" y="59"/>
                </a:lnTo>
                <a:cubicBezTo>
                  <a:pt x="218" y="59"/>
                  <a:pt x="218" y="59"/>
                  <a:pt x="218" y="59"/>
                </a:cubicBezTo>
                <a:cubicBezTo>
                  <a:pt x="222" y="55"/>
                  <a:pt x="230" y="44"/>
                  <a:pt x="241" y="27"/>
                </a:cubicBezTo>
                <a:lnTo>
                  <a:pt x="242" y="26"/>
                </a:lnTo>
                <a:cubicBezTo>
                  <a:pt x="253" y="9"/>
                  <a:pt x="268" y="0"/>
                  <a:pt x="288" y="0"/>
                </a:cubicBezTo>
                <a:cubicBezTo>
                  <a:pt x="306" y="0"/>
                  <a:pt x="323" y="10"/>
                  <a:pt x="334" y="26"/>
                </a:cubicBezTo>
                <a:lnTo>
                  <a:pt x="354" y="55"/>
                </a:lnTo>
                <a:cubicBezTo>
                  <a:pt x="357" y="59"/>
                  <a:pt x="364" y="63"/>
                  <a:pt x="371" y="63"/>
                </a:cubicBezTo>
                <a:cubicBezTo>
                  <a:pt x="373" y="63"/>
                  <a:pt x="374" y="62"/>
                  <a:pt x="375" y="62"/>
                </a:cubicBezTo>
                <a:lnTo>
                  <a:pt x="408" y="51"/>
                </a:lnTo>
                <a:cubicBezTo>
                  <a:pt x="429" y="44"/>
                  <a:pt x="452" y="49"/>
                  <a:pt x="466" y="64"/>
                </a:cubicBezTo>
                <a:cubicBezTo>
                  <a:pt x="476" y="75"/>
                  <a:pt x="482" y="90"/>
                  <a:pt x="482" y="106"/>
                </a:cubicBezTo>
                <a:lnTo>
                  <a:pt x="480" y="142"/>
                </a:lnTo>
                <a:cubicBezTo>
                  <a:pt x="480" y="148"/>
                  <a:pt x="487" y="157"/>
                  <a:pt x="493" y="159"/>
                </a:cubicBezTo>
                <a:lnTo>
                  <a:pt x="526" y="170"/>
                </a:lnTo>
                <a:cubicBezTo>
                  <a:pt x="545" y="176"/>
                  <a:pt x="559" y="189"/>
                  <a:pt x="564" y="206"/>
                </a:cubicBezTo>
                <a:cubicBezTo>
                  <a:pt x="569" y="224"/>
                  <a:pt x="565" y="242"/>
                  <a:pt x="553" y="258"/>
                </a:cubicBezTo>
                <a:lnTo>
                  <a:pt x="532" y="286"/>
                </a:lnTo>
                <a:cubicBezTo>
                  <a:pt x="528" y="291"/>
                  <a:pt x="528" y="302"/>
                  <a:pt x="532" y="307"/>
                </a:cubicBezTo>
                <a:lnTo>
                  <a:pt x="552" y="336"/>
                </a:lnTo>
                <a:cubicBezTo>
                  <a:pt x="564" y="352"/>
                  <a:pt x="567" y="370"/>
                  <a:pt x="561" y="387"/>
                </a:cubicBezTo>
                <a:cubicBezTo>
                  <a:pt x="556" y="404"/>
                  <a:pt x="542" y="417"/>
                  <a:pt x="523" y="423"/>
                </a:cubicBezTo>
                <a:lnTo>
                  <a:pt x="489" y="433"/>
                </a:lnTo>
                <a:cubicBezTo>
                  <a:pt x="483" y="434"/>
                  <a:pt x="476" y="443"/>
                  <a:pt x="476" y="450"/>
                </a:cubicBezTo>
                <a:lnTo>
                  <a:pt x="476" y="485"/>
                </a:lnTo>
                <a:cubicBezTo>
                  <a:pt x="476" y="518"/>
                  <a:pt x="453" y="542"/>
                  <a:pt x="422" y="542"/>
                </a:cubicBezTo>
                <a:cubicBezTo>
                  <a:pt x="415" y="542"/>
                  <a:pt x="408" y="540"/>
                  <a:pt x="401" y="538"/>
                </a:cubicBezTo>
                <a:lnTo>
                  <a:pt x="368" y="526"/>
                </a:lnTo>
                <a:cubicBezTo>
                  <a:pt x="367" y="526"/>
                  <a:pt x="365" y="525"/>
                  <a:pt x="364" y="525"/>
                </a:cubicBezTo>
                <a:cubicBezTo>
                  <a:pt x="357" y="525"/>
                  <a:pt x="350" y="529"/>
                  <a:pt x="347" y="532"/>
                </a:cubicBezTo>
                <a:lnTo>
                  <a:pt x="327" y="561"/>
                </a:lnTo>
                <a:cubicBezTo>
                  <a:pt x="315" y="577"/>
                  <a:pt x="299" y="585"/>
                  <a:pt x="281" y="585"/>
                </a:cubicBezTo>
                <a:close/>
                <a:moveTo>
                  <a:pt x="283" y="154"/>
                </a:moveTo>
                <a:cubicBezTo>
                  <a:pt x="202" y="154"/>
                  <a:pt x="136" y="220"/>
                  <a:pt x="136" y="302"/>
                </a:cubicBezTo>
                <a:cubicBezTo>
                  <a:pt x="136" y="383"/>
                  <a:pt x="202" y="450"/>
                  <a:pt x="283" y="450"/>
                </a:cubicBezTo>
                <a:cubicBezTo>
                  <a:pt x="365" y="450"/>
                  <a:pt x="431" y="383"/>
                  <a:pt x="431" y="302"/>
                </a:cubicBezTo>
                <a:cubicBezTo>
                  <a:pt x="431" y="220"/>
                  <a:pt x="365" y="154"/>
                  <a:pt x="283" y="154"/>
                </a:cubicBezTo>
                <a:close/>
                <a:moveTo>
                  <a:pt x="283" y="475"/>
                </a:moveTo>
                <a:cubicBezTo>
                  <a:pt x="188" y="475"/>
                  <a:pt x="110" y="397"/>
                  <a:pt x="110" y="302"/>
                </a:cubicBezTo>
                <a:cubicBezTo>
                  <a:pt x="110" y="206"/>
                  <a:pt x="188" y="128"/>
                  <a:pt x="283" y="128"/>
                </a:cubicBezTo>
                <a:cubicBezTo>
                  <a:pt x="379" y="128"/>
                  <a:pt x="457" y="206"/>
                  <a:pt x="457" y="302"/>
                </a:cubicBezTo>
                <a:cubicBezTo>
                  <a:pt x="457" y="397"/>
                  <a:pt x="379" y="475"/>
                  <a:pt x="283" y="475"/>
                </a:cubicBezTo>
                <a:close/>
                <a:moveTo>
                  <a:pt x="408" y="302"/>
                </a:moveTo>
                <a:cubicBezTo>
                  <a:pt x="408" y="370"/>
                  <a:pt x="352" y="426"/>
                  <a:pt x="283" y="426"/>
                </a:cubicBezTo>
                <a:cubicBezTo>
                  <a:pt x="215" y="426"/>
                  <a:pt x="159" y="370"/>
                  <a:pt x="159" y="302"/>
                </a:cubicBezTo>
                <a:cubicBezTo>
                  <a:pt x="159" y="233"/>
                  <a:pt x="215" y="177"/>
                  <a:pt x="283" y="177"/>
                </a:cubicBezTo>
                <a:cubicBezTo>
                  <a:pt x="352" y="177"/>
                  <a:pt x="408" y="233"/>
                  <a:pt x="408" y="302"/>
                </a:cubicBezTo>
                <a:close/>
                <a:moveTo>
                  <a:pt x="424" y="576"/>
                </a:moveTo>
                <a:cubicBezTo>
                  <a:pt x="424" y="576"/>
                  <a:pt x="423" y="576"/>
                  <a:pt x="422" y="576"/>
                </a:cubicBezTo>
                <a:cubicBezTo>
                  <a:pt x="411" y="576"/>
                  <a:pt x="400" y="574"/>
                  <a:pt x="389" y="570"/>
                </a:cubicBezTo>
                <a:lnTo>
                  <a:pt x="368" y="563"/>
                </a:lnTo>
                <a:lnTo>
                  <a:pt x="355" y="581"/>
                </a:lnTo>
                <a:cubicBezTo>
                  <a:pt x="344" y="595"/>
                  <a:pt x="331" y="606"/>
                  <a:pt x="316" y="613"/>
                </a:cubicBezTo>
                <a:lnTo>
                  <a:pt x="326" y="785"/>
                </a:lnTo>
                <a:cubicBezTo>
                  <a:pt x="327" y="799"/>
                  <a:pt x="334" y="801"/>
                  <a:pt x="341" y="789"/>
                </a:cubicBezTo>
                <a:lnTo>
                  <a:pt x="376" y="733"/>
                </a:lnTo>
                <a:cubicBezTo>
                  <a:pt x="383" y="721"/>
                  <a:pt x="397" y="719"/>
                  <a:pt x="406" y="729"/>
                </a:cubicBezTo>
                <a:lnTo>
                  <a:pt x="478" y="803"/>
                </a:lnTo>
                <a:cubicBezTo>
                  <a:pt x="487" y="813"/>
                  <a:pt x="492" y="810"/>
                  <a:pt x="489" y="797"/>
                </a:cubicBezTo>
                <a:cubicBezTo>
                  <a:pt x="489" y="797"/>
                  <a:pt x="444" y="643"/>
                  <a:pt x="424" y="576"/>
                </a:cubicBezTo>
                <a:close/>
                <a:moveTo>
                  <a:pt x="281" y="620"/>
                </a:moveTo>
                <a:cubicBezTo>
                  <a:pt x="251" y="620"/>
                  <a:pt x="224" y="605"/>
                  <a:pt x="206" y="579"/>
                </a:cubicBezTo>
                <a:lnTo>
                  <a:pt x="193" y="560"/>
                </a:lnTo>
                <a:lnTo>
                  <a:pt x="172" y="567"/>
                </a:lnTo>
                <a:cubicBezTo>
                  <a:pt x="162" y="570"/>
                  <a:pt x="152" y="572"/>
                  <a:pt x="142" y="572"/>
                </a:cubicBezTo>
                <a:cubicBezTo>
                  <a:pt x="138" y="572"/>
                  <a:pt x="133" y="572"/>
                  <a:pt x="129" y="571"/>
                </a:cubicBezTo>
                <a:cubicBezTo>
                  <a:pt x="111" y="638"/>
                  <a:pt x="70" y="791"/>
                  <a:pt x="69" y="795"/>
                </a:cubicBezTo>
                <a:cubicBezTo>
                  <a:pt x="66" y="809"/>
                  <a:pt x="75" y="832"/>
                  <a:pt x="99" y="817"/>
                </a:cubicBezTo>
                <a:cubicBezTo>
                  <a:pt x="103" y="815"/>
                  <a:pt x="175" y="755"/>
                  <a:pt x="175" y="755"/>
                </a:cubicBezTo>
                <a:cubicBezTo>
                  <a:pt x="186" y="746"/>
                  <a:pt x="195" y="745"/>
                  <a:pt x="207" y="756"/>
                </a:cubicBezTo>
                <a:lnTo>
                  <a:pt x="263" y="806"/>
                </a:lnTo>
                <a:cubicBezTo>
                  <a:pt x="273" y="815"/>
                  <a:pt x="289" y="810"/>
                  <a:pt x="288" y="796"/>
                </a:cubicBezTo>
                <a:lnTo>
                  <a:pt x="283" y="620"/>
                </a:lnTo>
                <a:cubicBezTo>
                  <a:pt x="282" y="620"/>
                  <a:pt x="282" y="620"/>
                  <a:pt x="281" y="620"/>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20" name="Freeform 15"/>
          <p:cNvSpPr/>
          <p:nvPr/>
        </p:nvSpPr>
        <p:spPr>
          <a:xfrm>
            <a:off x="1279440" y="3002040"/>
            <a:ext cx="478080" cy="479520"/>
          </a:xfrm>
          <a:custGeom>
            <a:avLst/>
            <a:gdLst>
              <a:gd name="textAreaLeft" fmla="*/ 0 w 478080"/>
              <a:gd name="textAreaRight" fmla="*/ 478440 w 478080"/>
              <a:gd name="textAreaTop" fmla="*/ 0 h 479520"/>
              <a:gd name="textAreaBottom" fmla="*/ 479880 h 479520"/>
            </a:gdLst>
            <a:ahLst/>
            <a:rect l="textAreaLeft" t="textAreaTop" r="textAreaRight" b="textAreaBottom"/>
            <a:pathLst>
              <a:path w="672" h="672">
                <a:moveTo>
                  <a:pt x="246" y="46"/>
                </a:moveTo>
                <a:cubicBezTo>
                  <a:pt x="192" y="46"/>
                  <a:pt x="142" y="67"/>
                  <a:pt x="104" y="104"/>
                </a:cubicBezTo>
                <a:cubicBezTo>
                  <a:pt x="67" y="142"/>
                  <a:pt x="46" y="192"/>
                  <a:pt x="46" y="246"/>
                </a:cubicBezTo>
                <a:cubicBezTo>
                  <a:pt x="46" y="299"/>
                  <a:pt x="67" y="349"/>
                  <a:pt x="104" y="387"/>
                </a:cubicBezTo>
                <a:cubicBezTo>
                  <a:pt x="142" y="424"/>
                  <a:pt x="192" y="445"/>
                  <a:pt x="246" y="445"/>
                </a:cubicBezTo>
                <a:cubicBezTo>
                  <a:pt x="299" y="445"/>
                  <a:pt x="349" y="424"/>
                  <a:pt x="387" y="387"/>
                </a:cubicBezTo>
                <a:cubicBezTo>
                  <a:pt x="465" y="309"/>
                  <a:pt x="465" y="182"/>
                  <a:pt x="387" y="104"/>
                </a:cubicBezTo>
                <a:cubicBezTo>
                  <a:pt x="349" y="67"/>
                  <a:pt x="299" y="46"/>
                  <a:pt x="246" y="46"/>
                </a:cubicBezTo>
                <a:close/>
                <a:moveTo>
                  <a:pt x="246" y="491"/>
                </a:moveTo>
                <a:cubicBezTo>
                  <a:pt x="180" y="491"/>
                  <a:pt x="119" y="465"/>
                  <a:pt x="72" y="419"/>
                </a:cubicBezTo>
                <a:cubicBezTo>
                  <a:pt x="26" y="373"/>
                  <a:pt x="0" y="311"/>
                  <a:pt x="0" y="246"/>
                </a:cubicBezTo>
                <a:cubicBezTo>
                  <a:pt x="0" y="180"/>
                  <a:pt x="26" y="118"/>
                  <a:pt x="72" y="72"/>
                </a:cubicBezTo>
                <a:cubicBezTo>
                  <a:pt x="119" y="26"/>
                  <a:pt x="180" y="0"/>
                  <a:pt x="246" y="0"/>
                </a:cubicBezTo>
                <a:cubicBezTo>
                  <a:pt x="311" y="0"/>
                  <a:pt x="373" y="26"/>
                  <a:pt x="419" y="72"/>
                </a:cubicBezTo>
                <a:cubicBezTo>
                  <a:pt x="515" y="168"/>
                  <a:pt x="515" y="323"/>
                  <a:pt x="419" y="419"/>
                </a:cubicBezTo>
                <a:cubicBezTo>
                  <a:pt x="373" y="465"/>
                  <a:pt x="311" y="491"/>
                  <a:pt x="246" y="491"/>
                </a:cubicBezTo>
                <a:close/>
                <a:moveTo>
                  <a:pt x="459" y="388"/>
                </a:moveTo>
                <a:cubicBezTo>
                  <a:pt x="467" y="397"/>
                  <a:pt x="467" y="411"/>
                  <a:pt x="459" y="419"/>
                </a:cubicBezTo>
                <a:lnTo>
                  <a:pt x="419" y="458"/>
                </a:lnTo>
                <a:cubicBezTo>
                  <a:pt x="411" y="467"/>
                  <a:pt x="397" y="467"/>
                  <a:pt x="388" y="458"/>
                </a:cubicBezTo>
                <a:lnTo>
                  <a:pt x="387" y="457"/>
                </a:lnTo>
                <a:cubicBezTo>
                  <a:pt x="378" y="448"/>
                  <a:pt x="378" y="434"/>
                  <a:pt x="387" y="426"/>
                </a:cubicBezTo>
                <a:lnTo>
                  <a:pt x="426" y="387"/>
                </a:lnTo>
                <a:cubicBezTo>
                  <a:pt x="434" y="378"/>
                  <a:pt x="448" y="378"/>
                  <a:pt x="457" y="387"/>
                </a:cubicBezTo>
                <a:lnTo>
                  <a:pt x="459" y="388"/>
                </a:lnTo>
                <a:close/>
                <a:moveTo>
                  <a:pt x="509" y="454"/>
                </a:moveTo>
                <a:cubicBezTo>
                  <a:pt x="524" y="469"/>
                  <a:pt x="524" y="494"/>
                  <a:pt x="509" y="509"/>
                </a:cubicBezTo>
                <a:cubicBezTo>
                  <a:pt x="494" y="524"/>
                  <a:pt x="470" y="524"/>
                  <a:pt x="454" y="509"/>
                </a:cubicBezTo>
                <a:cubicBezTo>
                  <a:pt x="439" y="494"/>
                  <a:pt x="439" y="469"/>
                  <a:pt x="454" y="454"/>
                </a:cubicBezTo>
                <a:cubicBezTo>
                  <a:pt x="470" y="439"/>
                  <a:pt x="494" y="439"/>
                  <a:pt x="509" y="454"/>
                </a:cubicBezTo>
                <a:close/>
                <a:moveTo>
                  <a:pt x="664" y="601"/>
                </a:moveTo>
                <a:cubicBezTo>
                  <a:pt x="672" y="609"/>
                  <a:pt x="671" y="623"/>
                  <a:pt x="663" y="631"/>
                </a:cubicBezTo>
                <a:lnTo>
                  <a:pt x="631" y="663"/>
                </a:lnTo>
                <a:cubicBezTo>
                  <a:pt x="623" y="671"/>
                  <a:pt x="609" y="672"/>
                  <a:pt x="601" y="664"/>
                </a:cubicBezTo>
                <a:lnTo>
                  <a:pt x="508" y="570"/>
                </a:lnTo>
                <a:cubicBezTo>
                  <a:pt x="500" y="562"/>
                  <a:pt x="500" y="549"/>
                  <a:pt x="509" y="540"/>
                </a:cubicBezTo>
                <a:lnTo>
                  <a:pt x="541" y="509"/>
                </a:lnTo>
                <a:cubicBezTo>
                  <a:pt x="549" y="500"/>
                  <a:pt x="562" y="500"/>
                  <a:pt x="570" y="508"/>
                </a:cubicBezTo>
                <a:lnTo>
                  <a:pt x="664" y="601"/>
                </a:lnTo>
                <a:close/>
                <a:moveTo>
                  <a:pt x="246" y="98"/>
                </a:moveTo>
                <a:cubicBezTo>
                  <a:pt x="206" y="98"/>
                  <a:pt x="169" y="114"/>
                  <a:pt x="142" y="141"/>
                </a:cubicBezTo>
                <a:cubicBezTo>
                  <a:pt x="114" y="169"/>
                  <a:pt x="98" y="206"/>
                  <a:pt x="98" y="245"/>
                </a:cubicBezTo>
                <a:cubicBezTo>
                  <a:pt x="98" y="285"/>
                  <a:pt x="114" y="322"/>
                  <a:pt x="142" y="350"/>
                </a:cubicBezTo>
                <a:cubicBezTo>
                  <a:pt x="169" y="377"/>
                  <a:pt x="206" y="393"/>
                  <a:pt x="246" y="393"/>
                </a:cubicBezTo>
                <a:cubicBezTo>
                  <a:pt x="285" y="393"/>
                  <a:pt x="322" y="377"/>
                  <a:pt x="350" y="350"/>
                </a:cubicBezTo>
                <a:cubicBezTo>
                  <a:pt x="407" y="292"/>
                  <a:pt x="407" y="199"/>
                  <a:pt x="350" y="141"/>
                </a:cubicBezTo>
                <a:cubicBezTo>
                  <a:pt x="322" y="114"/>
                  <a:pt x="285" y="98"/>
                  <a:pt x="246" y="98"/>
                </a:cubicBezTo>
                <a:close/>
                <a:moveTo>
                  <a:pt x="246" y="423"/>
                </a:moveTo>
                <a:cubicBezTo>
                  <a:pt x="198" y="423"/>
                  <a:pt x="154" y="405"/>
                  <a:pt x="120" y="371"/>
                </a:cubicBezTo>
                <a:cubicBezTo>
                  <a:pt x="86" y="338"/>
                  <a:pt x="68" y="293"/>
                  <a:pt x="68" y="245"/>
                </a:cubicBezTo>
                <a:cubicBezTo>
                  <a:pt x="68" y="198"/>
                  <a:pt x="86" y="153"/>
                  <a:pt x="120" y="120"/>
                </a:cubicBezTo>
                <a:cubicBezTo>
                  <a:pt x="154" y="86"/>
                  <a:pt x="198" y="68"/>
                  <a:pt x="246" y="68"/>
                </a:cubicBezTo>
                <a:cubicBezTo>
                  <a:pt x="293" y="68"/>
                  <a:pt x="338" y="86"/>
                  <a:pt x="371" y="120"/>
                </a:cubicBezTo>
                <a:cubicBezTo>
                  <a:pt x="440" y="189"/>
                  <a:pt x="440" y="302"/>
                  <a:pt x="371" y="371"/>
                </a:cubicBezTo>
                <a:cubicBezTo>
                  <a:pt x="338" y="405"/>
                  <a:pt x="293" y="423"/>
                  <a:pt x="246" y="423"/>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21" name="Freeform 16"/>
          <p:cNvSpPr/>
          <p:nvPr/>
        </p:nvSpPr>
        <p:spPr>
          <a:xfrm>
            <a:off x="2390760" y="2911320"/>
            <a:ext cx="455760" cy="619200"/>
          </a:xfrm>
          <a:custGeom>
            <a:avLst/>
            <a:gdLst>
              <a:gd name="textAreaLeft" fmla="*/ 0 w 455760"/>
              <a:gd name="textAreaRight" fmla="*/ 456120 w 455760"/>
              <a:gd name="textAreaTop" fmla="*/ 0 h 619200"/>
              <a:gd name="textAreaBottom" fmla="*/ 619560 h 619200"/>
            </a:gdLst>
            <a:ahLst/>
            <a:rect l="textAreaLeft" t="textAreaTop" r="textAreaRight" b="textAreaBottom"/>
            <a:pathLst>
              <a:path w="637" h="867">
                <a:moveTo>
                  <a:pt x="319" y="132"/>
                </a:moveTo>
                <a:cubicBezTo>
                  <a:pt x="214" y="132"/>
                  <a:pt x="129" y="217"/>
                  <a:pt x="129" y="322"/>
                </a:cubicBezTo>
                <a:cubicBezTo>
                  <a:pt x="129" y="372"/>
                  <a:pt x="168" y="432"/>
                  <a:pt x="168" y="433"/>
                </a:cubicBezTo>
                <a:cubicBezTo>
                  <a:pt x="177" y="446"/>
                  <a:pt x="189" y="466"/>
                  <a:pt x="196" y="480"/>
                </a:cubicBezTo>
                <a:lnTo>
                  <a:pt x="237" y="560"/>
                </a:lnTo>
                <a:cubicBezTo>
                  <a:pt x="244" y="575"/>
                  <a:pt x="250" y="595"/>
                  <a:pt x="250" y="607"/>
                </a:cubicBezTo>
                <a:cubicBezTo>
                  <a:pt x="251" y="607"/>
                  <a:pt x="255" y="610"/>
                  <a:pt x="264" y="610"/>
                </a:cubicBezTo>
                <a:lnTo>
                  <a:pt x="373" y="610"/>
                </a:lnTo>
                <a:cubicBezTo>
                  <a:pt x="382" y="610"/>
                  <a:pt x="386" y="607"/>
                  <a:pt x="387" y="606"/>
                </a:cubicBezTo>
                <a:cubicBezTo>
                  <a:pt x="387" y="595"/>
                  <a:pt x="393" y="575"/>
                  <a:pt x="400" y="560"/>
                </a:cubicBezTo>
                <a:lnTo>
                  <a:pt x="441" y="480"/>
                </a:lnTo>
                <a:cubicBezTo>
                  <a:pt x="448" y="467"/>
                  <a:pt x="461" y="445"/>
                  <a:pt x="469" y="433"/>
                </a:cubicBezTo>
                <a:cubicBezTo>
                  <a:pt x="483" y="412"/>
                  <a:pt x="508" y="362"/>
                  <a:pt x="508" y="322"/>
                </a:cubicBezTo>
                <a:cubicBezTo>
                  <a:pt x="508" y="217"/>
                  <a:pt x="423" y="132"/>
                  <a:pt x="319" y="132"/>
                </a:cubicBezTo>
                <a:close/>
                <a:moveTo>
                  <a:pt x="373" y="650"/>
                </a:moveTo>
                <a:lnTo>
                  <a:pt x="264" y="650"/>
                </a:lnTo>
                <a:cubicBezTo>
                  <a:pt x="234" y="650"/>
                  <a:pt x="211" y="631"/>
                  <a:pt x="211" y="607"/>
                </a:cubicBezTo>
                <a:cubicBezTo>
                  <a:pt x="211" y="603"/>
                  <a:pt x="207" y="590"/>
                  <a:pt x="201" y="578"/>
                </a:cubicBezTo>
                <a:lnTo>
                  <a:pt x="160" y="498"/>
                </a:lnTo>
                <a:cubicBezTo>
                  <a:pt x="154" y="486"/>
                  <a:pt x="143" y="466"/>
                  <a:pt x="135" y="455"/>
                </a:cubicBezTo>
                <a:cubicBezTo>
                  <a:pt x="130" y="448"/>
                  <a:pt x="89" y="383"/>
                  <a:pt x="89" y="322"/>
                </a:cubicBezTo>
                <a:cubicBezTo>
                  <a:pt x="89" y="195"/>
                  <a:pt x="192" y="92"/>
                  <a:pt x="319" y="92"/>
                </a:cubicBezTo>
                <a:cubicBezTo>
                  <a:pt x="445" y="92"/>
                  <a:pt x="548" y="195"/>
                  <a:pt x="548" y="322"/>
                </a:cubicBezTo>
                <a:cubicBezTo>
                  <a:pt x="548" y="382"/>
                  <a:pt x="507" y="447"/>
                  <a:pt x="502" y="455"/>
                </a:cubicBezTo>
                <a:cubicBezTo>
                  <a:pt x="495" y="466"/>
                  <a:pt x="483" y="486"/>
                  <a:pt x="477" y="498"/>
                </a:cubicBezTo>
                <a:lnTo>
                  <a:pt x="436" y="578"/>
                </a:lnTo>
                <a:cubicBezTo>
                  <a:pt x="430" y="590"/>
                  <a:pt x="427" y="603"/>
                  <a:pt x="426" y="607"/>
                </a:cubicBezTo>
                <a:cubicBezTo>
                  <a:pt x="426" y="631"/>
                  <a:pt x="403" y="650"/>
                  <a:pt x="373" y="650"/>
                </a:cubicBezTo>
                <a:close/>
                <a:moveTo>
                  <a:pt x="258" y="748"/>
                </a:moveTo>
                <a:cubicBezTo>
                  <a:pt x="241" y="748"/>
                  <a:pt x="228" y="761"/>
                  <a:pt x="228" y="777"/>
                </a:cubicBezTo>
                <a:cubicBezTo>
                  <a:pt x="228" y="794"/>
                  <a:pt x="241" y="807"/>
                  <a:pt x="258" y="807"/>
                </a:cubicBezTo>
                <a:lnTo>
                  <a:pt x="382" y="807"/>
                </a:lnTo>
                <a:cubicBezTo>
                  <a:pt x="399" y="807"/>
                  <a:pt x="413" y="794"/>
                  <a:pt x="413" y="777"/>
                </a:cubicBezTo>
                <a:cubicBezTo>
                  <a:pt x="413" y="761"/>
                  <a:pt x="399" y="748"/>
                  <a:pt x="382" y="748"/>
                </a:cubicBezTo>
                <a:lnTo>
                  <a:pt x="258" y="748"/>
                </a:lnTo>
                <a:close/>
                <a:moveTo>
                  <a:pt x="246" y="796"/>
                </a:moveTo>
                <a:cubicBezTo>
                  <a:pt x="248" y="835"/>
                  <a:pt x="280" y="867"/>
                  <a:pt x="320" y="867"/>
                </a:cubicBezTo>
                <a:cubicBezTo>
                  <a:pt x="360" y="867"/>
                  <a:pt x="393" y="835"/>
                  <a:pt x="394" y="796"/>
                </a:cubicBezTo>
                <a:lnTo>
                  <a:pt x="246" y="796"/>
                </a:lnTo>
                <a:close/>
                <a:moveTo>
                  <a:pt x="413" y="777"/>
                </a:moveTo>
                <a:lnTo>
                  <a:pt x="228" y="777"/>
                </a:lnTo>
                <a:lnTo>
                  <a:pt x="228" y="685"/>
                </a:lnTo>
                <a:lnTo>
                  <a:pt x="413" y="685"/>
                </a:lnTo>
                <a:lnTo>
                  <a:pt x="413" y="777"/>
                </a:lnTo>
                <a:close/>
                <a:moveTo>
                  <a:pt x="441" y="332"/>
                </a:moveTo>
                <a:cubicBezTo>
                  <a:pt x="441" y="348"/>
                  <a:pt x="428" y="362"/>
                  <a:pt x="411" y="362"/>
                </a:cubicBezTo>
                <a:lnTo>
                  <a:pt x="349" y="362"/>
                </a:lnTo>
                <a:lnTo>
                  <a:pt x="349" y="424"/>
                </a:lnTo>
                <a:cubicBezTo>
                  <a:pt x="349" y="441"/>
                  <a:pt x="335" y="455"/>
                  <a:pt x="319" y="455"/>
                </a:cubicBezTo>
                <a:cubicBezTo>
                  <a:pt x="302" y="455"/>
                  <a:pt x="288" y="441"/>
                  <a:pt x="288" y="424"/>
                </a:cubicBezTo>
                <a:lnTo>
                  <a:pt x="288" y="362"/>
                </a:lnTo>
                <a:lnTo>
                  <a:pt x="226" y="362"/>
                </a:lnTo>
                <a:cubicBezTo>
                  <a:pt x="209" y="362"/>
                  <a:pt x="196" y="348"/>
                  <a:pt x="196" y="332"/>
                </a:cubicBezTo>
                <a:cubicBezTo>
                  <a:pt x="196" y="315"/>
                  <a:pt x="209" y="302"/>
                  <a:pt x="226" y="302"/>
                </a:cubicBezTo>
                <a:lnTo>
                  <a:pt x="288" y="302"/>
                </a:lnTo>
                <a:lnTo>
                  <a:pt x="288" y="239"/>
                </a:lnTo>
                <a:cubicBezTo>
                  <a:pt x="288" y="223"/>
                  <a:pt x="302" y="209"/>
                  <a:pt x="319" y="209"/>
                </a:cubicBezTo>
                <a:cubicBezTo>
                  <a:pt x="335" y="209"/>
                  <a:pt x="349" y="223"/>
                  <a:pt x="349" y="239"/>
                </a:cubicBezTo>
                <a:lnTo>
                  <a:pt x="349" y="302"/>
                </a:lnTo>
                <a:lnTo>
                  <a:pt x="411" y="302"/>
                </a:lnTo>
                <a:cubicBezTo>
                  <a:pt x="428" y="302"/>
                  <a:pt x="441" y="315"/>
                  <a:pt x="441" y="332"/>
                </a:cubicBezTo>
                <a:close/>
                <a:moveTo>
                  <a:pt x="612" y="293"/>
                </a:moveTo>
                <a:lnTo>
                  <a:pt x="578" y="293"/>
                </a:lnTo>
                <a:cubicBezTo>
                  <a:pt x="579" y="302"/>
                  <a:pt x="579" y="312"/>
                  <a:pt x="579" y="322"/>
                </a:cubicBezTo>
                <a:cubicBezTo>
                  <a:pt x="579" y="328"/>
                  <a:pt x="579" y="334"/>
                  <a:pt x="578" y="341"/>
                </a:cubicBezTo>
                <a:lnTo>
                  <a:pt x="612" y="341"/>
                </a:lnTo>
                <a:cubicBezTo>
                  <a:pt x="626" y="341"/>
                  <a:pt x="637" y="330"/>
                  <a:pt x="637" y="317"/>
                </a:cubicBezTo>
                <a:cubicBezTo>
                  <a:pt x="637" y="304"/>
                  <a:pt x="626" y="293"/>
                  <a:pt x="612" y="293"/>
                </a:cubicBezTo>
                <a:close/>
                <a:moveTo>
                  <a:pt x="518" y="152"/>
                </a:moveTo>
                <a:lnTo>
                  <a:pt x="542" y="128"/>
                </a:lnTo>
                <a:cubicBezTo>
                  <a:pt x="552" y="118"/>
                  <a:pt x="552" y="103"/>
                  <a:pt x="543" y="93"/>
                </a:cubicBezTo>
                <a:cubicBezTo>
                  <a:pt x="534" y="84"/>
                  <a:pt x="518" y="84"/>
                  <a:pt x="508" y="94"/>
                </a:cubicBezTo>
                <a:lnTo>
                  <a:pt x="484" y="119"/>
                </a:lnTo>
                <a:cubicBezTo>
                  <a:pt x="496" y="129"/>
                  <a:pt x="507" y="140"/>
                  <a:pt x="518" y="152"/>
                </a:cubicBezTo>
                <a:close/>
                <a:moveTo>
                  <a:pt x="318" y="60"/>
                </a:moveTo>
                <a:cubicBezTo>
                  <a:pt x="326" y="60"/>
                  <a:pt x="334" y="61"/>
                  <a:pt x="342" y="61"/>
                </a:cubicBezTo>
                <a:lnTo>
                  <a:pt x="342" y="25"/>
                </a:lnTo>
                <a:cubicBezTo>
                  <a:pt x="342" y="11"/>
                  <a:pt x="331" y="0"/>
                  <a:pt x="318" y="0"/>
                </a:cubicBezTo>
                <a:cubicBezTo>
                  <a:pt x="305" y="0"/>
                  <a:pt x="294" y="11"/>
                  <a:pt x="294" y="25"/>
                </a:cubicBezTo>
                <a:lnTo>
                  <a:pt x="294" y="61"/>
                </a:lnTo>
                <a:cubicBezTo>
                  <a:pt x="302" y="61"/>
                  <a:pt x="310" y="60"/>
                  <a:pt x="318" y="60"/>
                </a:cubicBezTo>
                <a:close/>
                <a:moveTo>
                  <a:pt x="117" y="155"/>
                </a:moveTo>
                <a:cubicBezTo>
                  <a:pt x="127" y="143"/>
                  <a:pt x="138" y="132"/>
                  <a:pt x="151" y="122"/>
                </a:cubicBezTo>
                <a:lnTo>
                  <a:pt x="127" y="98"/>
                </a:lnTo>
                <a:cubicBezTo>
                  <a:pt x="118" y="89"/>
                  <a:pt x="102" y="88"/>
                  <a:pt x="93" y="98"/>
                </a:cubicBezTo>
                <a:cubicBezTo>
                  <a:pt x="84" y="107"/>
                  <a:pt x="84" y="122"/>
                  <a:pt x="94" y="132"/>
                </a:cubicBezTo>
                <a:lnTo>
                  <a:pt x="117" y="155"/>
                </a:lnTo>
                <a:close/>
                <a:moveTo>
                  <a:pt x="57" y="322"/>
                </a:moveTo>
                <a:cubicBezTo>
                  <a:pt x="57" y="312"/>
                  <a:pt x="58" y="302"/>
                  <a:pt x="59" y="293"/>
                </a:cubicBezTo>
                <a:lnTo>
                  <a:pt x="25" y="293"/>
                </a:lnTo>
                <a:cubicBezTo>
                  <a:pt x="11" y="293"/>
                  <a:pt x="0" y="304"/>
                  <a:pt x="0" y="317"/>
                </a:cubicBezTo>
                <a:cubicBezTo>
                  <a:pt x="0" y="330"/>
                  <a:pt x="11" y="341"/>
                  <a:pt x="25" y="341"/>
                </a:cubicBezTo>
                <a:lnTo>
                  <a:pt x="58" y="341"/>
                </a:lnTo>
                <a:cubicBezTo>
                  <a:pt x="57" y="334"/>
                  <a:pt x="57" y="328"/>
                  <a:pt x="57" y="322"/>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22" name="Freeform 17"/>
          <p:cNvSpPr/>
          <p:nvPr/>
        </p:nvSpPr>
        <p:spPr>
          <a:xfrm>
            <a:off x="3733920" y="3238560"/>
            <a:ext cx="206280" cy="203040"/>
          </a:xfrm>
          <a:custGeom>
            <a:avLst/>
            <a:gdLst>
              <a:gd name="textAreaLeft" fmla="*/ 0 w 206280"/>
              <a:gd name="textAreaRight" fmla="*/ 206640 w 206280"/>
              <a:gd name="textAreaTop" fmla="*/ 0 h 203040"/>
              <a:gd name="textAreaBottom" fmla="*/ 203400 h 203040"/>
            </a:gdLst>
            <a:ahLst/>
            <a:rect l="textAreaLeft" t="textAreaTop" r="textAreaRight" b="textAreaBottom"/>
            <a:pathLst>
              <a:path w="289" h="283">
                <a:moveTo>
                  <a:pt x="198" y="156"/>
                </a:moveTo>
                <a:cubicBezTo>
                  <a:pt x="217" y="156"/>
                  <a:pt x="233" y="171"/>
                  <a:pt x="233" y="191"/>
                </a:cubicBezTo>
                <a:cubicBezTo>
                  <a:pt x="233" y="210"/>
                  <a:pt x="217" y="226"/>
                  <a:pt x="198" y="226"/>
                </a:cubicBezTo>
                <a:cubicBezTo>
                  <a:pt x="178" y="226"/>
                  <a:pt x="163" y="210"/>
                  <a:pt x="163" y="191"/>
                </a:cubicBezTo>
                <a:cubicBezTo>
                  <a:pt x="163" y="171"/>
                  <a:pt x="178" y="156"/>
                  <a:pt x="198" y="156"/>
                </a:cubicBezTo>
                <a:close/>
                <a:moveTo>
                  <a:pt x="64" y="3"/>
                </a:moveTo>
                <a:lnTo>
                  <a:pt x="73" y="21"/>
                </a:lnTo>
                <a:lnTo>
                  <a:pt x="54" y="40"/>
                </a:lnTo>
                <a:lnTo>
                  <a:pt x="36" y="57"/>
                </a:lnTo>
                <a:cubicBezTo>
                  <a:pt x="26" y="68"/>
                  <a:pt x="14" y="75"/>
                  <a:pt x="0" y="80"/>
                </a:cubicBezTo>
                <a:lnTo>
                  <a:pt x="119" y="199"/>
                </a:lnTo>
                <a:lnTo>
                  <a:pt x="176" y="275"/>
                </a:lnTo>
                <a:lnTo>
                  <a:pt x="206" y="283"/>
                </a:lnTo>
                <a:lnTo>
                  <a:pt x="289" y="199"/>
                </a:lnTo>
                <a:lnTo>
                  <a:pt x="281" y="169"/>
                </a:lnTo>
                <a:lnTo>
                  <a:pt x="206" y="113"/>
                </a:lnTo>
                <a:lnTo>
                  <a:pt x="93" y="0"/>
                </a:lnTo>
                <a:lnTo>
                  <a:pt x="82" y="12"/>
                </a:lnTo>
                <a:lnTo>
                  <a:pt x="64" y="3"/>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23" name="Freeform 18"/>
          <p:cNvSpPr/>
          <p:nvPr/>
        </p:nvSpPr>
        <p:spPr>
          <a:xfrm>
            <a:off x="3463920" y="2960640"/>
            <a:ext cx="214200" cy="216000"/>
          </a:xfrm>
          <a:custGeom>
            <a:avLst/>
            <a:gdLst>
              <a:gd name="textAreaLeft" fmla="*/ 0 w 214200"/>
              <a:gd name="textAreaRight" fmla="*/ 214560 w 214200"/>
              <a:gd name="textAreaTop" fmla="*/ 0 h 216000"/>
              <a:gd name="textAreaBottom" fmla="*/ 216360 h 216000"/>
            </a:gdLst>
            <a:ahLst/>
            <a:rect l="textAreaLeft" t="textAreaTop" r="textAreaRight" b="textAreaBottom"/>
            <a:pathLst>
              <a:path w="300" h="301">
                <a:moveTo>
                  <a:pt x="244" y="238"/>
                </a:moveTo>
                <a:lnTo>
                  <a:pt x="263" y="219"/>
                </a:lnTo>
                <a:lnTo>
                  <a:pt x="281" y="228"/>
                </a:lnTo>
                <a:lnTo>
                  <a:pt x="272" y="210"/>
                </a:lnTo>
                <a:lnTo>
                  <a:pt x="291" y="191"/>
                </a:lnTo>
                <a:lnTo>
                  <a:pt x="293" y="189"/>
                </a:lnTo>
                <a:cubicBezTo>
                  <a:pt x="297" y="178"/>
                  <a:pt x="300" y="167"/>
                  <a:pt x="300" y="156"/>
                </a:cubicBezTo>
                <a:cubicBezTo>
                  <a:pt x="300" y="77"/>
                  <a:pt x="224" y="0"/>
                  <a:pt x="144" y="0"/>
                </a:cubicBezTo>
                <a:cubicBezTo>
                  <a:pt x="144" y="0"/>
                  <a:pt x="135" y="10"/>
                  <a:pt x="130" y="15"/>
                </a:cubicBezTo>
                <a:cubicBezTo>
                  <a:pt x="194" y="78"/>
                  <a:pt x="188" y="68"/>
                  <a:pt x="188" y="107"/>
                </a:cubicBezTo>
                <a:cubicBezTo>
                  <a:pt x="188" y="139"/>
                  <a:pt x="137" y="189"/>
                  <a:pt x="106" y="189"/>
                </a:cubicBezTo>
                <a:cubicBezTo>
                  <a:pt x="66" y="189"/>
                  <a:pt x="79" y="196"/>
                  <a:pt x="14" y="131"/>
                </a:cubicBezTo>
                <a:cubicBezTo>
                  <a:pt x="9" y="136"/>
                  <a:pt x="0" y="145"/>
                  <a:pt x="0" y="145"/>
                </a:cubicBezTo>
                <a:cubicBezTo>
                  <a:pt x="0" y="225"/>
                  <a:pt x="76" y="301"/>
                  <a:pt x="156" y="301"/>
                </a:cubicBezTo>
                <a:cubicBezTo>
                  <a:pt x="170" y="301"/>
                  <a:pt x="185" y="296"/>
                  <a:pt x="201" y="289"/>
                </a:cubicBezTo>
                <a:lnTo>
                  <a:pt x="204" y="291"/>
                </a:lnTo>
                <a:cubicBezTo>
                  <a:pt x="208" y="278"/>
                  <a:pt x="216" y="266"/>
                  <a:pt x="227" y="255"/>
                </a:cubicBezTo>
                <a:lnTo>
                  <a:pt x="244" y="2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24" name="Freeform 19"/>
          <p:cNvSpPr/>
          <p:nvPr/>
        </p:nvSpPr>
        <p:spPr>
          <a:xfrm>
            <a:off x="3463920" y="2960640"/>
            <a:ext cx="480960" cy="480960"/>
          </a:xfrm>
          <a:custGeom>
            <a:avLst/>
            <a:gdLst>
              <a:gd name="textAreaLeft" fmla="*/ 0 w 480960"/>
              <a:gd name="textAreaRight" fmla="*/ 481320 w 480960"/>
              <a:gd name="textAreaTop" fmla="*/ 0 h 480960"/>
              <a:gd name="textAreaBottom" fmla="*/ 481320 h 480960"/>
            </a:gdLst>
            <a:ahLst/>
            <a:rect l="textAreaLeft" t="textAreaTop" r="textAreaRight" b="textAreaBottom"/>
            <a:pathLst>
              <a:path w="678" h="670">
                <a:moveTo>
                  <a:pt x="654" y="65"/>
                </a:moveTo>
                <a:lnTo>
                  <a:pt x="607" y="18"/>
                </a:lnTo>
                <a:cubicBezTo>
                  <a:pt x="595" y="6"/>
                  <a:pt x="579" y="0"/>
                  <a:pt x="562" y="0"/>
                </a:cubicBezTo>
                <a:cubicBezTo>
                  <a:pt x="546" y="0"/>
                  <a:pt x="530" y="6"/>
                  <a:pt x="518" y="18"/>
                </a:cubicBezTo>
                <a:lnTo>
                  <a:pt x="319" y="217"/>
                </a:lnTo>
                <a:cubicBezTo>
                  <a:pt x="325" y="229"/>
                  <a:pt x="320" y="247"/>
                  <a:pt x="311" y="256"/>
                </a:cubicBezTo>
                <a:cubicBezTo>
                  <a:pt x="304" y="263"/>
                  <a:pt x="294" y="267"/>
                  <a:pt x="284" y="267"/>
                </a:cubicBezTo>
                <a:cubicBezTo>
                  <a:pt x="279" y="267"/>
                  <a:pt x="275" y="266"/>
                  <a:pt x="271" y="264"/>
                </a:cubicBezTo>
                <a:lnTo>
                  <a:pt x="254" y="282"/>
                </a:lnTo>
                <a:cubicBezTo>
                  <a:pt x="229" y="306"/>
                  <a:pt x="229" y="347"/>
                  <a:pt x="254" y="371"/>
                </a:cubicBezTo>
                <a:lnTo>
                  <a:pt x="257" y="374"/>
                </a:lnTo>
                <a:lnTo>
                  <a:pt x="102" y="530"/>
                </a:lnTo>
                <a:lnTo>
                  <a:pt x="61" y="545"/>
                </a:lnTo>
                <a:lnTo>
                  <a:pt x="0" y="632"/>
                </a:lnTo>
                <a:lnTo>
                  <a:pt x="39" y="670"/>
                </a:lnTo>
                <a:lnTo>
                  <a:pt x="125" y="610"/>
                </a:lnTo>
                <a:lnTo>
                  <a:pt x="141" y="568"/>
                </a:lnTo>
                <a:lnTo>
                  <a:pt x="296" y="413"/>
                </a:lnTo>
                <a:lnTo>
                  <a:pt x="301" y="418"/>
                </a:lnTo>
                <a:cubicBezTo>
                  <a:pt x="313" y="430"/>
                  <a:pt x="329" y="436"/>
                  <a:pt x="345" y="436"/>
                </a:cubicBezTo>
                <a:cubicBezTo>
                  <a:pt x="362" y="436"/>
                  <a:pt x="378" y="430"/>
                  <a:pt x="390" y="418"/>
                </a:cubicBezTo>
                <a:lnTo>
                  <a:pt x="408" y="400"/>
                </a:lnTo>
                <a:cubicBezTo>
                  <a:pt x="402" y="388"/>
                  <a:pt x="406" y="371"/>
                  <a:pt x="416" y="361"/>
                </a:cubicBezTo>
                <a:cubicBezTo>
                  <a:pt x="422" y="355"/>
                  <a:pt x="433" y="351"/>
                  <a:pt x="442" y="351"/>
                </a:cubicBezTo>
                <a:cubicBezTo>
                  <a:pt x="447" y="351"/>
                  <a:pt x="451" y="352"/>
                  <a:pt x="455" y="353"/>
                </a:cubicBezTo>
                <a:lnTo>
                  <a:pt x="654" y="154"/>
                </a:lnTo>
                <a:cubicBezTo>
                  <a:pt x="678" y="130"/>
                  <a:pt x="678" y="89"/>
                  <a:pt x="654" y="65"/>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25" name="Freeform 20"/>
          <p:cNvSpPr/>
          <p:nvPr/>
        </p:nvSpPr>
        <p:spPr>
          <a:xfrm>
            <a:off x="4641840" y="2949480"/>
            <a:ext cx="557280" cy="558720"/>
          </a:xfrm>
          <a:custGeom>
            <a:avLst/>
            <a:gdLst>
              <a:gd name="textAreaLeft" fmla="*/ 0 w 557280"/>
              <a:gd name="textAreaRight" fmla="*/ 557640 w 557280"/>
              <a:gd name="textAreaTop" fmla="*/ 0 h 558720"/>
              <a:gd name="textAreaBottom" fmla="*/ 559080 h 558720"/>
            </a:gdLst>
            <a:ahLst/>
            <a:rect l="textAreaLeft" t="textAreaTop" r="textAreaRight" b="textAreaBottom"/>
            <a:pathLst>
              <a:path w="781" h="782">
                <a:moveTo>
                  <a:pt x="695" y="616"/>
                </a:moveTo>
                <a:lnTo>
                  <a:pt x="538" y="461"/>
                </a:lnTo>
                <a:cubicBezTo>
                  <a:pt x="548" y="440"/>
                  <a:pt x="554" y="416"/>
                  <a:pt x="554" y="391"/>
                </a:cubicBezTo>
                <a:cubicBezTo>
                  <a:pt x="554" y="301"/>
                  <a:pt x="481" y="228"/>
                  <a:pt x="391" y="228"/>
                </a:cubicBezTo>
                <a:cubicBezTo>
                  <a:pt x="376" y="228"/>
                  <a:pt x="361" y="230"/>
                  <a:pt x="347" y="234"/>
                </a:cubicBezTo>
                <a:lnTo>
                  <a:pt x="416" y="303"/>
                </a:lnTo>
                <a:cubicBezTo>
                  <a:pt x="445" y="332"/>
                  <a:pt x="443" y="381"/>
                  <a:pt x="412" y="412"/>
                </a:cubicBezTo>
                <a:cubicBezTo>
                  <a:pt x="381" y="444"/>
                  <a:pt x="332" y="446"/>
                  <a:pt x="303" y="417"/>
                </a:cubicBezTo>
                <a:lnTo>
                  <a:pt x="233" y="347"/>
                </a:lnTo>
                <a:cubicBezTo>
                  <a:pt x="230" y="361"/>
                  <a:pt x="228" y="376"/>
                  <a:pt x="228" y="391"/>
                </a:cubicBezTo>
                <a:cubicBezTo>
                  <a:pt x="228" y="481"/>
                  <a:pt x="301" y="554"/>
                  <a:pt x="391" y="554"/>
                </a:cubicBezTo>
                <a:cubicBezTo>
                  <a:pt x="416" y="554"/>
                  <a:pt x="439" y="548"/>
                  <a:pt x="460" y="538"/>
                </a:cubicBezTo>
                <a:lnTo>
                  <a:pt x="617" y="694"/>
                </a:lnTo>
                <a:cubicBezTo>
                  <a:pt x="637" y="714"/>
                  <a:pt x="670" y="712"/>
                  <a:pt x="692" y="691"/>
                </a:cubicBezTo>
                <a:cubicBezTo>
                  <a:pt x="713" y="669"/>
                  <a:pt x="715" y="636"/>
                  <a:pt x="695" y="616"/>
                </a:cubicBezTo>
                <a:close/>
                <a:moveTo>
                  <a:pt x="732" y="319"/>
                </a:moveTo>
                <a:lnTo>
                  <a:pt x="716" y="319"/>
                </a:lnTo>
                <a:lnTo>
                  <a:pt x="679" y="318"/>
                </a:lnTo>
                <a:cubicBezTo>
                  <a:pt x="672" y="318"/>
                  <a:pt x="665" y="315"/>
                  <a:pt x="659" y="311"/>
                </a:cubicBezTo>
                <a:cubicBezTo>
                  <a:pt x="658" y="311"/>
                  <a:pt x="658" y="311"/>
                  <a:pt x="658" y="310"/>
                </a:cubicBezTo>
                <a:cubicBezTo>
                  <a:pt x="645" y="302"/>
                  <a:pt x="636" y="287"/>
                  <a:pt x="636" y="270"/>
                </a:cubicBezTo>
                <a:cubicBezTo>
                  <a:pt x="636" y="264"/>
                  <a:pt x="637" y="259"/>
                  <a:pt x="639" y="254"/>
                </a:cubicBezTo>
                <a:cubicBezTo>
                  <a:pt x="640" y="249"/>
                  <a:pt x="643" y="244"/>
                  <a:pt x="647" y="240"/>
                </a:cubicBezTo>
                <a:lnTo>
                  <a:pt x="655" y="231"/>
                </a:lnTo>
                <a:lnTo>
                  <a:pt x="673" y="213"/>
                </a:lnTo>
                <a:lnTo>
                  <a:pt x="684" y="202"/>
                </a:lnTo>
                <a:cubicBezTo>
                  <a:pt x="700" y="181"/>
                  <a:pt x="700" y="152"/>
                  <a:pt x="684" y="131"/>
                </a:cubicBezTo>
                <a:lnTo>
                  <a:pt x="651" y="99"/>
                </a:lnTo>
                <a:cubicBezTo>
                  <a:pt x="631" y="83"/>
                  <a:pt x="602" y="82"/>
                  <a:pt x="581" y="98"/>
                </a:cubicBezTo>
                <a:lnTo>
                  <a:pt x="570" y="109"/>
                </a:lnTo>
                <a:lnTo>
                  <a:pt x="544" y="135"/>
                </a:lnTo>
                <a:lnTo>
                  <a:pt x="544" y="135"/>
                </a:lnTo>
                <a:cubicBezTo>
                  <a:pt x="529" y="147"/>
                  <a:pt x="510" y="149"/>
                  <a:pt x="493" y="142"/>
                </a:cubicBezTo>
                <a:cubicBezTo>
                  <a:pt x="488" y="139"/>
                  <a:pt x="483" y="136"/>
                  <a:pt x="479" y="132"/>
                </a:cubicBezTo>
                <a:cubicBezTo>
                  <a:pt x="470" y="123"/>
                  <a:pt x="466" y="113"/>
                  <a:pt x="465" y="103"/>
                </a:cubicBezTo>
                <a:lnTo>
                  <a:pt x="465" y="91"/>
                </a:lnTo>
                <a:lnTo>
                  <a:pt x="465" y="65"/>
                </a:lnTo>
                <a:lnTo>
                  <a:pt x="465" y="49"/>
                </a:lnTo>
                <a:cubicBezTo>
                  <a:pt x="461" y="23"/>
                  <a:pt x="440" y="3"/>
                  <a:pt x="414" y="0"/>
                </a:cubicBezTo>
                <a:lnTo>
                  <a:pt x="369" y="0"/>
                </a:lnTo>
                <a:cubicBezTo>
                  <a:pt x="343" y="3"/>
                  <a:pt x="322" y="23"/>
                  <a:pt x="318" y="49"/>
                </a:cubicBezTo>
                <a:lnTo>
                  <a:pt x="318" y="65"/>
                </a:lnTo>
                <a:lnTo>
                  <a:pt x="318" y="91"/>
                </a:lnTo>
                <a:lnTo>
                  <a:pt x="318" y="102"/>
                </a:lnTo>
                <a:lnTo>
                  <a:pt x="318" y="102"/>
                </a:lnTo>
                <a:lnTo>
                  <a:pt x="318" y="102"/>
                </a:lnTo>
                <a:cubicBezTo>
                  <a:pt x="318" y="103"/>
                  <a:pt x="318" y="105"/>
                  <a:pt x="317" y="106"/>
                </a:cubicBezTo>
                <a:cubicBezTo>
                  <a:pt x="317" y="106"/>
                  <a:pt x="317" y="106"/>
                  <a:pt x="317" y="107"/>
                </a:cubicBezTo>
                <a:cubicBezTo>
                  <a:pt x="317" y="108"/>
                  <a:pt x="317" y="109"/>
                  <a:pt x="316" y="111"/>
                </a:cubicBezTo>
                <a:cubicBezTo>
                  <a:pt x="316" y="111"/>
                  <a:pt x="316" y="111"/>
                  <a:pt x="316" y="111"/>
                </a:cubicBezTo>
                <a:cubicBezTo>
                  <a:pt x="316" y="112"/>
                  <a:pt x="315" y="114"/>
                  <a:pt x="315" y="115"/>
                </a:cubicBezTo>
                <a:cubicBezTo>
                  <a:pt x="315" y="115"/>
                  <a:pt x="315" y="115"/>
                  <a:pt x="315" y="115"/>
                </a:cubicBezTo>
                <a:cubicBezTo>
                  <a:pt x="314" y="116"/>
                  <a:pt x="313" y="118"/>
                  <a:pt x="313" y="119"/>
                </a:cubicBezTo>
                <a:cubicBezTo>
                  <a:pt x="313" y="119"/>
                  <a:pt x="313" y="119"/>
                  <a:pt x="313" y="119"/>
                </a:cubicBezTo>
                <a:cubicBezTo>
                  <a:pt x="310" y="125"/>
                  <a:pt x="306" y="130"/>
                  <a:pt x="301" y="134"/>
                </a:cubicBezTo>
                <a:cubicBezTo>
                  <a:pt x="292" y="141"/>
                  <a:pt x="281" y="145"/>
                  <a:pt x="269" y="145"/>
                </a:cubicBezTo>
                <a:cubicBezTo>
                  <a:pt x="258" y="145"/>
                  <a:pt x="247" y="141"/>
                  <a:pt x="239" y="135"/>
                </a:cubicBezTo>
                <a:lnTo>
                  <a:pt x="231" y="127"/>
                </a:lnTo>
                <a:lnTo>
                  <a:pt x="213" y="108"/>
                </a:lnTo>
                <a:lnTo>
                  <a:pt x="202" y="97"/>
                </a:lnTo>
                <a:cubicBezTo>
                  <a:pt x="181" y="81"/>
                  <a:pt x="152" y="81"/>
                  <a:pt x="131" y="98"/>
                </a:cubicBezTo>
                <a:lnTo>
                  <a:pt x="99" y="130"/>
                </a:lnTo>
                <a:cubicBezTo>
                  <a:pt x="82" y="150"/>
                  <a:pt x="82" y="179"/>
                  <a:pt x="98" y="200"/>
                </a:cubicBezTo>
                <a:lnTo>
                  <a:pt x="109" y="212"/>
                </a:lnTo>
                <a:lnTo>
                  <a:pt x="135" y="238"/>
                </a:lnTo>
                <a:cubicBezTo>
                  <a:pt x="136" y="239"/>
                  <a:pt x="136" y="239"/>
                  <a:pt x="136" y="240"/>
                </a:cubicBezTo>
                <a:cubicBezTo>
                  <a:pt x="137" y="240"/>
                  <a:pt x="137" y="241"/>
                  <a:pt x="138" y="242"/>
                </a:cubicBezTo>
                <a:cubicBezTo>
                  <a:pt x="138" y="242"/>
                  <a:pt x="138" y="243"/>
                  <a:pt x="139" y="244"/>
                </a:cubicBezTo>
                <a:cubicBezTo>
                  <a:pt x="139" y="244"/>
                  <a:pt x="140" y="245"/>
                  <a:pt x="140" y="245"/>
                </a:cubicBezTo>
                <a:cubicBezTo>
                  <a:pt x="140" y="246"/>
                  <a:pt x="141" y="247"/>
                  <a:pt x="141" y="248"/>
                </a:cubicBezTo>
                <a:cubicBezTo>
                  <a:pt x="141" y="249"/>
                  <a:pt x="142" y="249"/>
                  <a:pt x="142" y="250"/>
                </a:cubicBezTo>
                <a:cubicBezTo>
                  <a:pt x="142" y="251"/>
                  <a:pt x="142" y="252"/>
                  <a:pt x="143" y="252"/>
                </a:cubicBezTo>
                <a:cubicBezTo>
                  <a:pt x="143" y="253"/>
                  <a:pt x="143" y="253"/>
                  <a:pt x="143" y="254"/>
                </a:cubicBezTo>
                <a:cubicBezTo>
                  <a:pt x="144" y="255"/>
                  <a:pt x="144" y="256"/>
                  <a:pt x="144" y="258"/>
                </a:cubicBezTo>
                <a:cubicBezTo>
                  <a:pt x="144" y="258"/>
                  <a:pt x="144" y="258"/>
                  <a:pt x="144" y="258"/>
                </a:cubicBezTo>
                <a:cubicBezTo>
                  <a:pt x="145" y="259"/>
                  <a:pt x="145" y="261"/>
                  <a:pt x="145" y="262"/>
                </a:cubicBezTo>
                <a:cubicBezTo>
                  <a:pt x="145" y="262"/>
                  <a:pt x="145" y="262"/>
                  <a:pt x="145" y="262"/>
                </a:cubicBezTo>
                <a:cubicBezTo>
                  <a:pt x="147" y="277"/>
                  <a:pt x="142" y="292"/>
                  <a:pt x="131" y="303"/>
                </a:cubicBezTo>
                <a:cubicBezTo>
                  <a:pt x="123" y="311"/>
                  <a:pt x="113" y="316"/>
                  <a:pt x="102" y="317"/>
                </a:cubicBezTo>
                <a:lnTo>
                  <a:pt x="91" y="317"/>
                </a:lnTo>
                <a:lnTo>
                  <a:pt x="65" y="317"/>
                </a:lnTo>
                <a:lnTo>
                  <a:pt x="49" y="317"/>
                </a:lnTo>
                <a:cubicBezTo>
                  <a:pt x="23" y="320"/>
                  <a:pt x="3" y="341"/>
                  <a:pt x="0" y="367"/>
                </a:cubicBezTo>
                <a:lnTo>
                  <a:pt x="0" y="413"/>
                </a:lnTo>
                <a:cubicBezTo>
                  <a:pt x="2" y="439"/>
                  <a:pt x="23" y="460"/>
                  <a:pt x="49" y="463"/>
                </a:cubicBezTo>
                <a:lnTo>
                  <a:pt x="64" y="463"/>
                </a:lnTo>
                <a:lnTo>
                  <a:pt x="102" y="463"/>
                </a:lnTo>
                <a:cubicBezTo>
                  <a:pt x="103" y="464"/>
                  <a:pt x="105" y="464"/>
                  <a:pt x="106" y="464"/>
                </a:cubicBezTo>
                <a:cubicBezTo>
                  <a:pt x="107" y="464"/>
                  <a:pt x="107" y="464"/>
                  <a:pt x="107" y="464"/>
                </a:cubicBezTo>
                <a:cubicBezTo>
                  <a:pt x="108" y="465"/>
                  <a:pt x="109" y="465"/>
                  <a:pt x="110" y="465"/>
                </a:cubicBezTo>
                <a:cubicBezTo>
                  <a:pt x="131" y="471"/>
                  <a:pt x="145" y="490"/>
                  <a:pt x="145" y="512"/>
                </a:cubicBezTo>
                <a:lnTo>
                  <a:pt x="145" y="512"/>
                </a:lnTo>
                <a:cubicBezTo>
                  <a:pt x="145" y="523"/>
                  <a:pt x="141" y="534"/>
                  <a:pt x="134" y="542"/>
                </a:cubicBezTo>
                <a:lnTo>
                  <a:pt x="126" y="550"/>
                </a:lnTo>
                <a:lnTo>
                  <a:pt x="126" y="550"/>
                </a:lnTo>
                <a:lnTo>
                  <a:pt x="108" y="569"/>
                </a:lnTo>
                <a:lnTo>
                  <a:pt x="97" y="580"/>
                </a:lnTo>
                <a:cubicBezTo>
                  <a:pt x="81" y="601"/>
                  <a:pt x="81" y="630"/>
                  <a:pt x="97" y="650"/>
                </a:cubicBezTo>
                <a:lnTo>
                  <a:pt x="130" y="683"/>
                </a:lnTo>
                <a:cubicBezTo>
                  <a:pt x="150" y="699"/>
                  <a:pt x="179" y="700"/>
                  <a:pt x="200" y="684"/>
                </a:cubicBezTo>
                <a:lnTo>
                  <a:pt x="211" y="673"/>
                </a:lnTo>
                <a:lnTo>
                  <a:pt x="237" y="646"/>
                </a:lnTo>
                <a:lnTo>
                  <a:pt x="238" y="646"/>
                </a:lnTo>
                <a:cubicBezTo>
                  <a:pt x="238" y="646"/>
                  <a:pt x="238" y="646"/>
                  <a:pt x="238" y="646"/>
                </a:cubicBezTo>
                <a:cubicBezTo>
                  <a:pt x="239" y="645"/>
                  <a:pt x="240" y="644"/>
                  <a:pt x="241" y="644"/>
                </a:cubicBezTo>
                <a:cubicBezTo>
                  <a:pt x="242" y="643"/>
                  <a:pt x="242" y="643"/>
                  <a:pt x="243" y="643"/>
                </a:cubicBezTo>
                <a:cubicBezTo>
                  <a:pt x="243" y="642"/>
                  <a:pt x="244" y="642"/>
                  <a:pt x="245" y="642"/>
                </a:cubicBezTo>
                <a:cubicBezTo>
                  <a:pt x="246" y="641"/>
                  <a:pt x="247" y="641"/>
                  <a:pt x="248" y="640"/>
                </a:cubicBezTo>
                <a:cubicBezTo>
                  <a:pt x="248" y="640"/>
                  <a:pt x="249" y="640"/>
                  <a:pt x="249" y="640"/>
                </a:cubicBezTo>
                <a:cubicBezTo>
                  <a:pt x="250" y="639"/>
                  <a:pt x="252" y="639"/>
                  <a:pt x="253" y="638"/>
                </a:cubicBezTo>
                <a:cubicBezTo>
                  <a:pt x="253" y="638"/>
                  <a:pt x="253" y="638"/>
                  <a:pt x="253" y="638"/>
                </a:cubicBezTo>
                <a:cubicBezTo>
                  <a:pt x="253" y="638"/>
                  <a:pt x="253" y="638"/>
                  <a:pt x="253" y="638"/>
                </a:cubicBezTo>
                <a:cubicBezTo>
                  <a:pt x="255" y="638"/>
                  <a:pt x="256" y="637"/>
                  <a:pt x="257" y="637"/>
                </a:cubicBezTo>
                <a:cubicBezTo>
                  <a:pt x="257" y="637"/>
                  <a:pt x="257" y="637"/>
                  <a:pt x="258" y="637"/>
                </a:cubicBezTo>
                <a:cubicBezTo>
                  <a:pt x="259" y="637"/>
                  <a:pt x="260" y="637"/>
                  <a:pt x="261" y="636"/>
                </a:cubicBezTo>
                <a:cubicBezTo>
                  <a:pt x="261" y="636"/>
                  <a:pt x="262" y="636"/>
                  <a:pt x="262" y="636"/>
                </a:cubicBezTo>
                <a:cubicBezTo>
                  <a:pt x="263" y="636"/>
                  <a:pt x="264" y="636"/>
                  <a:pt x="265" y="636"/>
                </a:cubicBezTo>
                <a:cubicBezTo>
                  <a:pt x="279" y="635"/>
                  <a:pt x="292" y="640"/>
                  <a:pt x="303" y="650"/>
                </a:cubicBezTo>
                <a:cubicBezTo>
                  <a:pt x="311" y="658"/>
                  <a:pt x="315" y="668"/>
                  <a:pt x="316" y="679"/>
                </a:cubicBezTo>
                <a:lnTo>
                  <a:pt x="316" y="691"/>
                </a:lnTo>
                <a:lnTo>
                  <a:pt x="316" y="717"/>
                </a:lnTo>
                <a:lnTo>
                  <a:pt x="316" y="732"/>
                </a:lnTo>
                <a:cubicBezTo>
                  <a:pt x="320" y="758"/>
                  <a:pt x="340" y="779"/>
                  <a:pt x="367" y="782"/>
                </a:cubicBezTo>
                <a:lnTo>
                  <a:pt x="412" y="782"/>
                </a:lnTo>
                <a:cubicBezTo>
                  <a:pt x="438" y="779"/>
                  <a:pt x="459" y="759"/>
                  <a:pt x="463" y="733"/>
                </a:cubicBezTo>
                <a:lnTo>
                  <a:pt x="463" y="717"/>
                </a:lnTo>
                <a:lnTo>
                  <a:pt x="463" y="691"/>
                </a:lnTo>
                <a:lnTo>
                  <a:pt x="463" y="680"/>
                </a:lnTo>
                <a:lnTo>
                  <a:pt x="463" y="680"/>
                </a:lnTo>
                <a:cubicBezTo>
                  <a:pt x="464" y="671"/>
                  <a:pt x="468" y="662"/>
                  <a:pt x="473" y="655"/>
                </a:cubicBezTo>
                <a:cubicBezTo>
                  <a:pt x="473" y="655"/>
                  <a:pt x="474" y="654"/>
                  <a:pt x="474" y="654"/>
                </a:cubicBezTo>
                <a:cubicBezTo>
                  <a:pt x="475" y="653"/>
                  <a:pt x="475" y="653"/>
                  <a:pt x="476" y="652"/>
                </a:cubicBezTo>
                <a:cubicBezTo>
                  <a:pt x="479" y="649"/>
                  <a:pt x="482" y="646"/>
                  <a:pt x="486" y="644"/>
                </a:cubicBezTo>
                <a:lnTo>
                  <a:pt x="486" y="644"/>
                </a:lnTo>
                <a:cubicBezTo>
                  <a:pt x="487" y="643"/>
                  <a:pt x="488" y="643"/>
                  <a:pt x="489" y="642"/>
                </a:cubicBezTo>
                <a:cubicBezTo>
                  <a:pt x="489" y="642"/>
                  <a:pt x="489" y="642"/>
                  <a:pt x="490" y="642"/>
                </a:cubicBezTo>
                <a:cubicBezTo>
                  <a:pt x="490" y="641"/>
                  <a:pt x="490" y="641"/>
                  <a:pt x="491" y="641"/>
                </a:cubicBezTo>
                <a:cubicBezTo>
                  <a:pt x="492" y="641"/>
                  <a:pt x="493" y="641"/>
                  <a:pt x="493" y="640"/>
                </a:cubicBezTo>
                <a:lnTo>
                  <a:pt x="450" y="597"/>
                </a:lnTo>
                <a:cubicBezTo>
                  <a:pt x="431" y="602"/>
                  <a:pt x="411" y="605"/>
                  <a:pt x="390" y="605"/>
                </a:cubicBezTo>
                <a:cubicBezTo>
                  <a:pt x="272" y="605"/>
                  <a:pt x="176" y="509"/>
                  <a:pt x="176" y="390"/>
                </a:cubicBezTo>
                <a:cubicBezTo>
                  <a:pt x="177" y="272"/>
                  <a:pt x="273" y="176"/>
                  <a:pt x="391" y="177"/>
                </a:cubicBezTo>
                <a:cubicBezTo>
                  <a:pt x="509" y="177"/>
                  <a:pt x="605" y="273"/>
                  <a:pt x="605" y="391"/>
                </a:cubicBezTo>
                <a:cubicBezTo>
                  <a:pt x="605" y="412"/>
                  <a:pt x="602" y="431"/>
                  <a:pt x="596" y="450"/>
                </a:cubicBezTo>
                <a:lnTo>
                  <a:pt x="640" y="493"/>
                </a:lnTo>
                <a:cubicBezTo>
                  <a:pt x="642" y="488"/>
                  <a:pt x="646" y="483"/>
                  <a:pt x="650" y="479"/>
                </a:cubicBezTo>
                <a:cubicBezTo>
                  <a:pt x="655" y="474"/>
                  <a:pt x="660" y="471"/>
                  <a:pt x="666" y="468"/>
                </a:cubicBezTo>
                <a:cubicBezTo>
                  <a:pt x="670" y="467"/>
                  <a:pt x="674" y="465"/>
                  <a:pt x="679" y="465"/>
                </a:cubicBezTo>
                <a:lnTo>
                  <a:pt x="690" y="465"/>
                </a:lnTo>
                <a:lnTo>
                  <a:pt x="716" y="465"/>
                </a:lnTo>
                <a:lnTo>
                  <a:pt x="732" y="465"/>
                </a:lnTo>
                <a:cubicBezTo>
                  <a:pt x="758" y="462"/>
                  <a:pt x="778" y="441"/>
                  <a:pt x="781" y="415"/>
                </a:cubicBezTo>
                <a:lnTo>
                  <a:pt x="781" y="369"/>
                </a:lnTo>
                <a:cubicBezTo>
                  <a:pt x="779" y="343"/>
                  <a:pt x="758" y="322"/>
                  <a:pt x="732" y="319"/>
                </a:cubicBezTo>
                <a:close/>
                <a:moveTo>
                  <a:pt x="653" y="679"/>
                </a:moveTo>
                <a:lnTo>
                  <a:pt x="653" y="679"/>
                </a:lnTo>
                <a:cubicBezTo>
                  <a:pt x="638" y="679"/>
                  <a:pt x="625" y="667"/>
                  <a:pt x="625" y="652"/>
                </a:cubicBezTo>
                <a:cubicBezTo>
                  <a:pt x="625" y="637"/>
                  <a:pt x="638" y="624"/>
                  <a:pt x="653" y="624"/>
                </a:cubicBezTo>
                <a:cubicBezTo>
                  <a:pt x="668" y="624"/>
                  <a:pt x="680" y="637"/>
                  <a:pt x="680" y="652"/>
                </a:cubicBezTo>
                <a:cubicBezTo>
                  <a:pt x="680" y="667"/>
                  <a:pt x="668" y="679"/>
                  <a:pt x="653" y="679"/>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26" name="Freeform 21"/>
          <p:cNvSpPr/>
          <p:nvPr/>
        </p:nvSpPr>
        <p:spPr>
          <a:xfrm>
            <a:off x="5846760" y="2927520"/>
            <a:ext cx="549360" cy="585720"/>
          </a:xfrm>
          <a:custGeom>
            <a:avLst/>
            <a:gdLst>
              <a:gd name="textAreaLeft" fmla="*/ 0 w 549360"/>
              <a:gd name="textAreaRight" fmla="*/ 549720 w 549360"/>
              <a:gd name="textAreaTop" fmla="*/ 0 h 585720"/>
              <a:gd name="textAreaBottom" fmla="*/ 586080 h 585720"/>
            </a:gdLst>
            <a:ahLst/>
            <a:rect l="textAreaLeft" t="textAreaTop" r="textAreaRight" b="textAreaBottom"/>
            <a:pathLst>
              <a:path w="769" h="819">
                <a:moveTo>
                  <a:pt x="197" y="91"/>
                </a:moveTo>
                <a:cubicBezTo>
                  <a:pt x="197" y="110"/>
                  <a:pt x="212" y="125"/>
                  <a:pt x="231" y="125"/>
                </a:cubicBezTo>
                <a:lnTo>
                  <a:pt x="469" y="125"/>
                </a:lnTo>
                <a:cubicBezTo>
                  <a:pt x="488" y="125"/>
                  <a:pt x="503" y="110"/>
                  <a:pt x="503" y="91"/>
                </a:cubicBezTo>
                <a:cubicBezTo>
                  <a:pt x="503" y="72"/>
                  <a:pt x="488" y="56"/>
                  <a:pt x="469" y="56"/>
                </a:cubicBezTo>
                <a:lnTo>
                  <a:pt x="406" y="56"/>
                </a:lnTo>
                <a:cubicBezTo>
                  <a:pt x="406" y="25"/>
                  <a:pt x="381" y="0"/>
                  <a:pt x="350" y="0"/>
                </a:cubicBezTo>
                <a:cubicBezTo>
                  <a:pt x="319" y="0"/>
                  <a:pt x="294" y="25"/>
                  <a:pt x="294" y="56"/>
                </a:cubicBezTo>
                <a:lnTo>
                  <a:pt x="231" y="56"/>
                </a:lnTo>
                <a:cubicBezTo>
                  <a:pt x="212" y="56"/>
                  <a:pt x="197" y="72"/>
                  <a:pt x="197" y="91"/>
                </a:cubicBezTo>
                <a:close/>
                <a:moveTo>
                  <a:pt x="622" y="706"/>
                </a:moveTo>
                <a:cubicBezTo>
                  <a:pt x="625" y="708"/>
                  <a:pt x="629" y="710"/>
                  <a:pt x="633" y="710"/>
                </a:cubicBezTo>
                <a:cubicBezTo>
                  <a:pt x="636" y="710"/>
                  <a:pt x="640" y="708"/>
                  <a:pt x="643" y="706"/>
                </a:cubicBezTo>
                <a:cubicBezTo>
                  <a:pt x="648" y="700"/>
                  <a:pt x="648" y="691"/>
                  <a:pt x="643" y="685"/>
                </a:cubicBezTo>
                <a:lnTo>
                  <a:pt x="599" y="641"/>
                </a:lnTo>
                <a:lnTo>
                  <a:pt x="599" y="532"/>
                </a:lnTo>
                <a:cubicBezTo>
                  <a:pt x="599" y="524"/>
                  <a:pt x="592" y="518"/>
                  <a:pt x="584" y="518"/>
                </a:cubicBezTo>
                <a:cubicBezTo>
                  <a:pt x="577" y="518"/>
                  <a:pt x="570" y="524"/>
                  <a:pt x="570" y="532"/>
                </a:cubicBezTo>
                <a:lnTo>
                  <a:pt x="570" y="647"/>
                </a:lnTo>
                <a:cubicBezTo>
                  <a:pt x="570" y="648"/>
                  <a:pt x="570" y="649"/>
                  <a:pt x="570" y="650"/>
                </a:cubicBezTo>
                <a:cubicBezTo>
                  <a:pt x="570" y="650"/>
                  <a:pt x="571" y="651"/>
                  <a:pt x="571" y="651"/>
                </a:cubicBezTo>
                <a:cubicBezTo>
                  <a:pt x="571" y="652"/>
                  <a:pt x="571" y="652"/>
                  <a:pt x="571" y="653"/>
                </a:cubicBezTo>
                <a:cubicBezTo>
                  <a:pt x="571" y="653"/>
                  <a:pt x="572" y="654"/>
                  <a:pt x="572" y="654"/>
                </a:cubicBezTo>
                <a:cubicBezTo>
                  <a:pt x="572" y="654"/>
                  <a:pt x="572" y="655"/>
                  <a:pt x="573" y="655"/>
                </a:cubicBezTo>
                <a:cubicBezTo>
                  <a:pt x="573" y="656"/>
                  <a:pt x="574" y="657"/>
                  <a:pt x="574" y="657"/>
                </a:cubicBezTo>
                <a:cubicBezTo>
                  <a:pt x="574" y="657"/>
                  <a:pt x="574" y="657"/>
                  <a:pt x="574" y="657"/>
                </a:cubicBezTo>
                <a:lnTo>
                  <a:pt x="622" y="706"/>
                </a:lnTo>
                <a:close/>
                <a:moveTo>
                  <a:pt x="732" y="541"/>
                </a:moveTo>
                <a:cubicBezTo>
                  <a:pt x="705" y="502"/>
                  <a:pt x="665" y="475"/>
                  <a:pt x="618" y="466"/>
                </a:cubicBezTo>
                <a:cubicBezTo>
                  <a:pt x="607" y="464"/>
                  <a:pt x="596" y="463"/>
                  <a:pt x="584" y="463"/>
                </a:cubicBezTo>
                <a:cubicBezTo>
                  <a:pt x="499" y="463"/>
                  <a:pt x="425" y="524"/>
                  <a:pt x="409" y="608"/>
                </a:cubicBezTo>
                <a:cubicBezTo>
                  <a:pt x="391" y="704"/>
                  <a:pt x="454" y="798"/>
                  <a:pt x="551" y="816"/>
                </a:cubicBezTo>
                <a:cubicBezTo>
                  <a:pt x="562" y="818"/>
                  <a:pt x="573" y="819"/>
                  <a:pt x="585" y="819"/>
                </a:cubicBezTo>
                <a:cubicBezTo>
                  <a:pt x="670" y="819"/>
                  <a:pt x="744" y="759"/>
                  <a:pt x="760" y="675"/>
                </a:cubicBezTo>
                <a:cubicBezTo>
                  <a:pt x="769" y="628"/>
                  <a:pt x="759" y="580"/>
                  <a:pt x="732" y="541"/>
                </a:cubicBezTo>
                <a:close/>
                <a:moveTo>
                  <a:pt x="732" y="669"/>
                </a:moveTo>
                <a:lnTo>
                  <a:pt x="732" y="669"/>
                </a:lnTo>
                <a:cubicBezTo>
                  <a:pt x="719" y="740"/>
                  <a:pt x="657" y="792"/>
                  <a:pt x="585" y="792"/>
                </a:cubicBezTo>
                <a:cubicBezTo>
                  <a:pt x="575" y="792"/>
                  <a:pt x="566" y="791"/>
                  <a:pt x="556" y="789"/>
                </a:cubicBezTo>
                <a:cubicBezTo>
                  <a:pt x="475" y="774"/>
                  <a:pt x="421" y="694"/>
                  <a:pt x="436" y="613"/>
                </a:cubicBezTo>
                <a:cubicBezTo>
                  <a:pt x="450" y="542"/>
                  <a:pt x="512" y="490"/>
                  <a:pt x="584" y="490"/>
                </a:cubicBezTo>
                <a:cubicBezTo>
                  <a:pt x="594" y="490"/>
                  <a:pt x="603" y="491"/>
                  <a:pt x="613" y="493"/>
                </a:cubicBezTo>
                <a:cubicBezTo>
                  <a:pt x="652" y="501"/>
                  <a:pt x="686" y="523"/>
                  <a:pt x="709" y="557"/>
                </a:cubicBezTo>
                <a:cubicBezTo>
                  <a:pt x="732" y="590"/>
                  <a:pt x="740" y="630"/>
                  <a:pt x="732" y="669"/>
                </a:cubicBezTo>
                <a:close/>
                <a:moveTo>
                  <a:pt x="374" y="668"/>
                </a:moveTo>
                <a:lnTo>
                  <a:pt x="257" y="668"/>
                </a:lnTo>
                <a:lnTo>
                  <a:pt x="257" y="487"/>
                </a:lnTo>
                <a:lnTo>
                  <a:pt x="439" y="487"/>
                </a:lnTo>
                <a:cubicBezTo>
                  <a:pt x="451" y="476"/>
                  <a:pt x="464" y="467"/>
                  <a:pt x="478" y="458"/>
                </a:cubicBezTo>
                <a:lnTo>
                  <a:pt x="477" y="458"/>
                </a:lnTo>
                <a:lnTo>
                  <a:pt x="477" y="278"/>
                </a:lnTo>
                <a:lnTo>
                  <a:pt x="664" y="278"/>
                </a:lnTo>
                <a:cubicBezTo>
                  <a:pt x="668" y="278"/>
                  <a:pt x="671" y="281"/>
                  <a:pt x="671" y="285"/>
                </a:cubicBezTo>
                <a:lnTo>
                  <a:pt x="671" y="449"/>
                </a:lnTo>
                <a:cubicBezTo>
                  <a:pt x="681" y="453"/>
                  <a:pt x="691" y="458"/>
                  <a:pt x="700" y="464"/>
                </a:cubicBezTo>
                <a:lnTo>
                  <a:pt x="700" y="458"/>
                </a:lnTo>
                <a:lnTo>
                  <a:pt x="700" y="285"/>
                </a:lnTo>
                <a:lnTo>
                  <a:pt x="700" y="189"/>
                </a:lnTo>
                <a:cubicBezTo>
                  <a:pt x="700" y="169"/>
                  <a:pt x="684" y="152"/>
                  <a:pt x="664" y="152"/>
                </a:cubicBezTo>
                <a:lnTo>
                  <a:pt x="36" y="152"/>
                </a:lnTo>
                <a:cubicBezTo>
                  <a:pt x="16" y="152"/>
                  <a:pt x="0" y="169"/>
                  <a:pt x="0" y="189"/>
                </a:cubicBezTo>
                <a:lnTo>
                  <a:pt x="0" y="285"/>
                </a:lnTo>
                <a:lnTo>
                  <a:pt x="0" y="458"/>
                </a:lnTo>
                <a:lnTo>
                  <a:pt x="0" y="487"/>
                </a:lnTo>
                <a:lnTo>
                  <a:pt x="0" y="660"/>
                </a:lnTo>
                <a:lnTo>
                  <a:pt x="0" y="682"/>
                </a:lnTo>
                <a:cubicBezTo>
                  <a:pt x="0" y="702"/>
                  <a:pt x="16" y="718"/>
                  <a:pt x="36" y="718"/>
                </a:cubicBezTo>
                <a:lnTo>
                  <a:pt x="387" y="718"/>
                </a:lnTo>
                <a:cubicBezTo>
                  <a:pt x="381" y="702"/>
                  <a:pt x="377" y="685"/>
                  <a:pt x="374" y="668"/>
                </a:cubicBezTo>
                <a:close/>
                <a:moveTo>
                  <a:pt x="29" y="285"/>
                </a:moveTo>
                <a:lnTo>
                  <a:pt x="29" y="285"/>
                </a:lnTo>
                <a:cubicBezTo>
                  <a:pt x="29" y="281"/>
                  <a:pt x="32" y="278"/>
                  <a:pt x="36" y="278"/>
                </a:cubicBezTo>
                <a:lnTo>
                  <a:pt x="229" y="278"/>
                </a:lnTo>
                <a:lnTo>
                  <a:pt x="229" y="458"/>
                </a:lnTo>
                <a:lnTo>
                  <a:pt x="29" y="458"/>
                </a:lnTo>
                <a:lnTo>
                  <a:pt x="29" y="285"/>
                </a:lnTo>
                <a:close/>
                <a:moveTo>
                  <a:pt x="229" y="487"/>
                </a:moveTo>
                <a:lnTo>
                  <a:pt x="229" y="487"/>
                </a:lnTo>
                <a:lnTo>
                  <a:pt x="229" y="668"/>
                </a:lnTo>
                <a:lnTo>
                  <a:pt x="36" y="668"/>
                </a:lnTo>
                <a:cubicBezTo>
                  <a:pt x="32" y="668"/>
                  <a:pt x="29" y="664"/>
                  <a:pt x="29" y="660"/>
                </a:cubicBezTo>
                <a:lnTo>
                  <a:pt x="29" y="487"/>
                </a:lnTo>
                <a:lnTo>
                  <a:pt x="229" y="487"/>
                </a:lnTo>
                <a:close/>
                <a:moveTo>
                  <a:pt x="257" y="458"/>
                </a:moveTo>
                <a:lnTo>
                  <a:pt x="257" y="458"/>
                </a:lnTo>
                <a:lnTo>
                  <a:pt x="257" y="278"/>
                </a:lnTo>
                <a:lnTo>
                  <a:pt x="449" y="278"/>
                </a:lnTo>
                <a:lnTo>
                  <a:pt x="449" y="458"/>
                </a:lnTo>
                <a:lnTo>
                  <a:pt x="257" y="458"/>
                </a:lnTo>
                <a:close/>
                <a:moveTo>
                  <a:pt x="463" y="189"/>
                </a:moveTo>
                <a:lnTo>
                  <a:pt x="463" y="189"/>
                </a:lnTo>
                <a:cubicBezTo>
                  <a:pt x="477" y="189"/>
                  <a:pt x="488" y="200"/>
                  <a:pt x="488" y="213"/>
                </a:cubicBezTo>
                <a:cubicBezTo>
                  <a:pt x="488" y="227"/>
                  <a:pt x="477" y="238"/>
                  <a:pt x="463" y="238"/>
                </a:cubicBezTo>
                <a:cubicBezTo>
                  <a:pt x="449" y="238"/>
                  <a:pt x="438" y="227"/>
                  <a:pt x="438" y="213"/>
                </a:cubicBezTo>
                <a:cubicBezTo>
                  <a:pt x="438" y="200"/>
                  <a:pt x="449" y="189"/>
                  <a:pt x="463" y="189"/>
                </a:cubicBezTo>
                <a:close/>
                <a:moveTo>
                  <a:pt x="243" y="189"/>
                </a:moveTo>
                <a:lnTo>
                  <a:pt x="243" y="189"/>
                </a:lnTo>
                <a:cubicBezTo>
                  <a:pt x="257" y="189"/>
                  <a:pt x="268" y="200"/>
                  <a:pt x="268" y="213"/>
                </a:cubicBezTo>
                <a:cubicBezTo>
                  <a:pt x="268" y="227"/>
                  <a:pt x="257" y="238"/>
                  <a:pt x="243" y="238"/>
                </a:cubicBezTo>
                <a:cubicBezTo>
                  <a:pt x="230" y="238"/>
                  <a:pt x="218" y="227"/>
                  <a:pt x="218" y="213"/>
                </a:cubicBezTo>
                <a:cubicBezTo>
                  <a:pt x="218" y="200"/>
                  <a:pt x="230" y="189"/>
                  <a:pt x="243" y="189"/>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27" name="Freeform 22"/>
          <p:cNvSpPr/>
          <p:nvPr/>
        </p:nvSpPr>
        <p:spPr>
          <a:xfrm>
            <a:off x="6891480" y="2898720"/>
            <a:ext cx="428400" cy="560520"/>
          </a:xfrm>
          <a:custGeom>
            <a:avLst/>
            <a:gdLst>
              <a:gd name="textAreaLeft" fmla="*/ 0 w 428400"/>
              <a:gd name="textAreaRight" fmla="*/ 428760 w 428400"/>
              <a:gd name="textAreaTop" fmla="*/ 0 h 560520"/>
              <a:gd name="textAreaBottom" fmla="*/ 560880 h 560520"/>
            </a:gdLst>
            <a:ahLst/>
            <a:rect l="textAreaLeft" t="textAreaTop" r="textAreaRight" b="textAreaBottom"/>
            <a:pathLst>
              <a:path w="603" h="785">
                <a:moveTo>
                  <a:pt x="476" y="170"/>
                </a:moveTo>
                <a:lnTo>
                  <a:pt x="404" y="170"/>
                </a:lnTo>
                <a:lnTo>
                  <a:pt x="404" y="194"/>
                </a:lnTo>
                <a:lnTo>
                  <a:pt x="465" y="194"/>
                </a:lnTo>
                <a:cubicBezTo>
                  <a:pt x="466" y="194"/>
                  <a:pt x="468" y="194"/>
                  <a:pt x="469" y="195"/>
                </a:cubicBezTo>
                <a:cubicBezTo>
                  <a:pt x="474" y="196"/>
                  <a:pt x="476" y="200"/>
                  <a:pt x="476" y="205"/>
                </a:cubicBezTo>
                <a:lnTo>
                  <a:pt x="476" y="232"/>
                </a:lnTo>
                <a:cubicBezTo>
                  <a:pt x="476" y="233"/>
                  <a:pt x="476" y="234"/>
                  <a:pt x="476" y="236"/>
                </a:cubicBezTo>
                <a:cubicBezTo>
                  <a:pt x="474" y="240"/>
                  <a:pt x="470" y="243"/>
                  <a:pt x="465" y="243"/>
                </a:cubicBezTo>
                <a:lnTo>
                  <a:pt x="404" y="243"/>
                </a:lnTo>
                <a:lnTo>
                  <a:pt x="404" y="267"/>
                </a:lnTo>
                <a:lnTo>
                  <a:pt x="465" y="267"/>
                </a:lnTo>
                <a:cubicBezTo>
                  <a:pt x="466" y="267"/>
                  <a:pt x="468" y="267"/>
                  <a:pt x="469" y="267"/>
                </a:cubicBezTo>
                <a:cubicBezTo>
                  <a:pt x="474" y="269"/>
                  <a:pt x="476" y="272"/>
                  <a:pt x="476" y="277"/>
                </a:cubicBezTo>
                <a:lnTo>
                  <a:pt x="476" y="304"/>
                </a:lnTo>
                <a:cubicBezTo>
                  <a:pt x="476" y="305"/>
                  <a:pt x="476" y="307"/>
                  <a:pt x="476" y="308"/>
                </a:cubicBezTo>
                <a:cubicBezTo>
                  <a:pt x="474" y="313"/>
                  <a:pt x="470" y="315"/>
                  <a:pt x="465" y="315"/>
                </a:cubicBezTo>
                <a:lnTo>
                  <a:pt x="404" y="315"/>
                </a:lnTo>
                <a:lnTo>
                  <a:pt x="404" y="339"/>
                </a:lnTo>
                <a:lnTo>
                  <a:pt x="476" y="339"/>
                </a:lnTo>
                <a:cubicBezTo>
                  <a:pt x="479" y="339"/>
                  <a:pt x="482" y="338"/>
                  <a:pt x="485" y="337"/>
                </a:cubicBezTo>
                <a:cubicBezTo>
                  <a:pt x="495" y="333"/>
                  <a:pt x="500" y="325"/>
                  <a:pt x="500" y="316"/>
                </a:cubicBezTo>
                <a:lnTo>
                  <a:pt x="500" y="266"/>
                </a:lnTo>
                <a:cubicBezTo>
                  <a:pt x="500" y="262"/>
                  <a:pt x="499" y="258"/>
                  <a:pt x="497" y="254"/>
                </a:cubicBezTo>
                <a:cubicBezTo>
                  <a:pt x="499" y="251"/>
                  <a:pt x="500" y="247"/>
                  <a:pt x="500" y="243"/>
                </a:cubicBezTo>
                <a:lnTo>
                  <a:pt x="500" y="193"/>
                </a:lnTo>
                <a:cubicBezTo>
                  <a:pt x="500" y="191"/>
                  <a:pt x="500" y="189"/>
                  <a:pt x="499" y="188"/>
                </a:cubicBezTo>
                <a:cubicBezTo>
                  <a:pt x="495" y="176"/>
                  <a:pt x="487" y="170"/>
                  <a:pt x="476" y="170"/>
                </a:cubicBezTo>
                <a:close/>
                <a:moveTo>
                  <a:pt x="206" y="170"/>
                </a:moveTo>
                <a:lnTo>
                  <a:pt x="206" y="170"/>
                </a:lnTo>
                <a:lnTo>
                  <a:pt x="181" y="170"/>
                </a:lnTo>
                <a:lnTo>
                  <a:pt x="181" y="194"/>
                </a:lnTo>
                <a:lnTo>
                  <a:pt x="195" y="194"/>
                </a:lnTo>
                <a:cubicBezTo>
                  <a:pt x="201" y="195"/>
                  <a:pt x="205" y="198"/>
                  <a:pt x="205" y="203"/>
                </a:cubicBezTo>
                <a:lnTo>
                  <a:pt x="205" y="339"/>
                </a:lnTo>
                <a:lnTo>
                  <a:pt x="230" y="339"/>
                </a:lnTo>
                <a:lnTo>
                  <a:pt x="230" y="193"/>
                </a:lnTo>
                <a:cubicBezTo>
                  <a:pt x="230" y="191"/>
                  <a:pt x="230" y="189"/>
                  <a:pt x="229" y="188"/>
                </a:cubicBezTo>
                <a:cubicBezTo>
                  <a:pt x="225" y="176"/>
                  <a:pt x="217" y="170"/>
                  <a:pt x="206" y="170"/>
                </a:cubicBezTo>
                <a:close/>
                <a:moveTo>
                  <a:pt x="343" y="170"/>
                </a:moveTo>
                <a:lnTo>
                  <a:pt x="343" y="170"/>
                </a:lnTo>
                <a:lnTo>
                  <a:pt x="281" y="170"/>
                </a:lnTo>
                <a:lnTo>
                  <a:pt x="281" y="194"/>
                </a:lnTo>
                <a:lnTo>
                  <a:pt x="331" y="194"/>
                </a:lnTo>
                <a:cubicBezTo>
                  <a:pt x="332" y="194"/>
                  <a:pt x="333" y="194"/>
                  <a:pt x="334" y="195"/>
                </a:cubicBezTo>
                <a:cubicBezTo>
                  <a:pt x="339" y="197"/>
                  <a:pt x="341" y="200"/>
                  <a:pt x="341" y="205"/>
                </a:cubicBezTo>
                <a:lnTo>
                  <a:pt x="341" y="232"/>
                </a:lnTo>
                <a:cubicBezTo>
                  <a:pt x="341" y="233"/>
                  <a:pt x="341" y="234"/>
                  <a:pt x="341" y="236"/>
                </a:cubicBezTo>
                <a:cubicBezTo>
                  <a:pt x="339" y="240"/>
                  <a:pt x="336" y="243"/>
                  <a:pt x="331" y="243"/>
                </a:cubicBezTo>
                <a:lnTo>
                  <a:pt x="291" y="243"/>
                </a:lnTo>
                <a:cubicBezTo>
                  <a:pt x="290" y="243"/>
                  <a:pt x="289" y="243"/>
                  <a:pt x="287" y="243"/>
                </a:cubicBezTo>
                <a:cubicBezTo>
                  <a:pt x="275" y="247"/>
                  <a:pt x="269" y="254"/>
                  <a:pt x="269" y="265"/>
                </a:cubicBezTo>
                <a:lnTo>
                  <a:pt x="269" y="339"/>
                </a:lnTo>
                <a:lnTo>
                  <a:pt x="365" y="339"/>
                </a:lnTo>
                <a:lnTo>
                  <a:pt x="365" y="315"/>
                </a:lnTo>
                <a:lnTo>
                  <a:pt x="293" y="315"/>
                </a:lnTo>
                <a:lnTo>
                  <a:pt x="293" y="277"/>
                </a:lnTo>
                <a:cubicBezTo>
                  <a:pt x="293" y="276"/>
                  <a:pt x="293" y="275"/>
                  <a:pt x="293" y="274"/>
                </a:cubicBezTo>
                <a:cubicBezTo>
                  <a:pt x="295" y="269"/>
                  <a:pt x="299" y="267"/>
                  <a:pt x="304" y="267"/>
                </a:cubicBezTo>
                <a:lnTo>
                  <a:pt x="343" y="267"/>
                </a:lnTo>
                <a:cubicBezTo>
                  <a:pt x="344" y="267"/>
                  <a:pt x="346" y="266"/>
                  <a:pt x="347" y="266"/>
                </a:cubicBezTo>
                <a:cubicBezTo>
                  <a:pt x="359" y="262"/>
                  <a:pt x="365" y="255"/>
                  <a:pt x="365" y="244"/>
                </a:cubicBezTo>
                <a:lnTo>
                  <a:pt x="365" y="193"/>
                </a:lnTo>
                <a:lnTo>
                  <a:pt x="365" y="188"/>
                </a:lnTo>
                <a:cubicBezTo>
                  <a:pt x="361" y="176"/>
                  <a:pt x="353" y="170"/>
                  <a:pt x="343" y="170"/>
                </a:cubicBezTo>
                <a:close/>
                <a:moveTo>
                  <a:pt x="537" y="0"/>
                </a:moveTo>
                <a:lnTo>
                  <a:pt x="537" y="0"/>
                </a:lnTo>
                <a:lnTo>
                  <a:pt x="67" y="0"/>
                </a:lnTo>
                <a:cubicBezTo>
                  <a:pt x="30" y="0"/>
                  <a:pt x="0" y="30"/>
                  <a:pt x="0" y="67"/>
                </a:cubicBezTo>
                <a:lnTo>
                  <a:pt x="0" y="718"/>
                </a:lnTo>
                <a:cubicBezTo>
                  <a:pt x="0" y="755"/>
                  <a:pt x="30" y="785"/>
                  <a:pt x="67" y="785"/>
                </a:cubicBezTo>
                <a:lnTo>
                  <a:pt x="537" y="785"/>
                </a:lnTo>
                <a:cubicBezTo>
                  <a:pt x="573" y="785"/>
                  <a:pt x="603" y="755"/>
                  <a:pt x="603" y="718"/>
                </a:cubicBezTo>
                <a:lnTo>
                  <a:pt x="603" y="67"/>
                </a:lnTo>
                <a:cubicBezTo>
                  <a:pt x="603" y="30"/>
                  <a:pt x="573" y="0"/>
                  <a:pt x="537" y="0"/>
                </a:cubicBezTo>
                <a:close/>
                <a:moveTo>
                  <a:pt x="112" y="745"/>
                </a:moveTo>
                <a:lnTo>
                  <a:pt x="112" y="745"/>
                </a:lnTo>
                <a:cubicBezTo>
                  <a:pt x="85" y="745"/>
                  <a:pt x="62" y="722"/>
                  <a:pt x="62" y="695"/>
                </a:cubicBezTo>
                <a:cubicBezTo>
                  <a:pt x="62" y="667"/>
                  <a:pt x="85" y="644"/>
                  <a:pt x="112" y="644"/>
                </a:cubicBezTo>
                <a:cubicBezTo>
                  <a:pt x="140" y="644"/>
                  <a:pt x="163" y="667"/>
                  <a:pt x="163" y="695"/>
                </a:cubicBezTo>
                <a:cubicBezTo>
                  <a:pt x="163" y="722"/>
                  <a:pt x="140" y="745"/>
                  <a:pt x="112" y="745"/>
                </a:cubicBezTo>
                <a:close/>
                <a:moveTo>
                  <a:pt x="112" y="629"/>
                </a:moveTo>
                <a:lnTo>
                  <a:pt x="112" y="629"/>
                </a:lnTo>
                <a:cubicBezTo>
                  <a:pt x="85" y="629"/>
                  <a:pt x="62" y="607"/>
                  <a:pt x="62" y="579"/>
                </a:cubicBezTo>
                <a:cubicBezTo>
                  <a:pt x="62" y="551"/>
                  <a:pt x="85" y="528"/>
                  <a:pt x="112" y="528"/>
                </a:cubicBezTo>
                <a:cubicBezTo>
                  <a:pt x="140" y="528"/>
                  <a:pt x="163" y="551"/>
                  <a:pt x="163" y="579"/>
                </a:cubicBezTo>
                <a:cubicBezTo>
                  <a:pt x="163" y="607"/>
                  <a:pt x="140" y="629"/>
                  <a:pt x="112" y="629"/>
                </a:cubicBezTo>
                <a:close/>
                <a:moveTo>
                  <a:pt x="112" y="513"/>
                </a:moveTo>
                <a:lnTo>
                  <a:pt x="112" y="513"/>
                </a:lnTo>
                <a:cubicBezTo>
                  <a:pt x="85" y="513"/>
                  <a:pt x="62" y="491"/>
                  <a:pt x="62" y="463"/>
                </a:cubicBezTo>
                <a:cubicBezTo>
                  <a:pt x="62" y="435"/>
                  <a:pt x="85" y="413"/>
                  <a:pt x="112" y="413"/>
                </a:cubicBezTo>
                <a:cubicBezTo>
                  <a:pt x="140" y="413"/>
                  <a:pt x="163" y="435"/>
                  <a:pt x="163" y="463"/>
                </a:cubicBezTo>
                <a:cubicBezTo>
                  <a:pt x="163" y="491"/>
                  <a:pt x="140" y="513"/>
                  <a:pt x="112" y="513"/>
                </a:cubicBezTo>
                <a:close/>
                <a:moveTo>
                  <a:pt x="236" y="745"/>
                </a:moveTo>
                <a:lnTo>
                  <a:pt x="236" y="745"/>
                </a:lnTo>
                <a:cubicBezTo>
                  <a:pt x="208" y="745"/>
                  <a:pt x="185" y="722"/>
                  <a:pt x="185" y="695"/>
                </a:cubicBezTo>
                <a:cubicBezTo>
                  <a:pt x="185" y="667"/>
                  <a:pt x="208" y="644"/>
                  <a:pt x="236" y="644"/>
                </a:cubicBezTo>
                <a:cubicBezTo>
                  <a:pt x="264" y="644"/>
                  <a:pt x="286" y="667"/>
                  <a:pt x="286" y="695"/>
                </a:cubicBezTo>
                <a:cubicBezTo>
                  <a:pt x="286" y="722"/>
                  <a:pt x="264" y="745"/>
                  <a:pt x="236" y="745"/>
                </a:cubicBezTo>
                <a:close/>
                <a:moveTo>
                  <a:pt x="236" y="629"/>
                </a:moveTo>
                <a:lnTo>
                  <a:pt x="236" y="629"/>
                </a:lnTo>
                <a:cubicBezTo>
                  <a:pt x="208" y="629"/>
                  <a:pt x="185" y="607"/>
                  <a:pt x="185" y="579"/>
                </a:cubicBezTo>
                <a:cubicBezTo>
                  <a:pt x="185" y="551"/>
                  <a:pt x="208" y="528"/>
                  <a:pt x="236" y="528"/>
                </a:cubicBezTo>
                <a:cubicBezTo>
                  <a:pt x="264" y="528"/>
                  <a:pt x="286" y="551"/>
                  <a:pt x="286" y="579"/>
                </a:cubicBezTo>
                <a:cubicBezTo>
                  <a:pt x="286" y="607"/>
                  <a:pt x="264" y="629"/>
                  <a:pt x="236" y="629"/>
                </a:cubicBezTo>
                <a:close/>
                <a:moveTo>
                  <a:pt x="236" y="513"/>
                </a:moveTo>
                <a:lnTo>
                  <a:pt x="236" y="513"/>
                </a:lnTo>
                <a:cubicBezTo>
                  <a:pt x="208" y="513"/>
                  <a:pt x="185" y="491"/>
                  <a:pt x="185" y="463"/>
                </a:cubicBezTo>
                <a:cubicBezTo>
                  <a:pt x="185" y="435"/>
                  <a:pt x="208" y="413"/>
                  <a:pt x="236" y="413"/>
                </a:cubicBezTo>
                <a:cubicBezTo>
                  <a:pt x="264" y="413"/>
                  <a:pt x="286" y="435"/>
                  <a:pt x="286" y="463"/>
                </a:cubicBezTo>
                <a:cubicBezTo>
                  <a:pt x="286" y="491"/>
                  <a:pt x="264" y="513"/>
                  <a:pt x="236" y="513"/>
                </a:cubicBezTo>
                <a:close/>
                <a:moveTo>
                  <a:pt x="359" y="745"/>
                </a:moveTo>
                <a:lnTo>
                  <a:pt x="359" y="745"/>
                </a:lnTo>
                <a:cubicBezTo>
                  <a:pt x="331" y="745"/>
                  <a:pt x="309" y="722"/>
                  <a:pt x="309" y="695"/>
                </a:cubicBezTo>
                <a:cubicBezTo>
                  <a:pt x="309" y="667"/>
                  <a:pt x="331" y="644"/>
                  <a:pt x="359" y="644"/>
                </a:cubicBezTo>
                <a:cubicBezTo>
                  <a:pt x="387" y="644"/>
                  <a:pt x="410" y="667"/>
                  <a:pt x="410" y="695"/>
                </a:cubicBezTo>
                <a:cubicBezTo>
                  <a:pt x="410" y="722"/>
                  <a:pt x="387" y="745"/>
                  <a:pt x="359" y="745"/>
                </a:cubicBezTo>
                <a:close/>
                <a:moveTo>
                  <a:pt x="359" y="629"/>
                </a:moveTo>
                <a:lnTo>
                  <a:pt x="359" y="629"/>
                </a:lnTo>
                <a:cubicBezTo>
                  <a:pt x="331" y="629"/>
                  <a:pt x="309" y="607"/>
                  <a:pt x="309" y="579"/>
                </a:cubicBezTo>
                <a:cubicBezTo>
                  <a:pt x="309" y="551"/>
                  <a:pt x="331" y="528"/>
                  <a:pt x="359" y="528"/>
                </a:cubicBezTo>
                <a:cubicBezTo>
                  <a:pt x="387" y="528"/>
                  <a:pt x="410" y="551"/>
                  <a:pt x="410" y="579"/>
                </a:cubicBezTo>
                <a:cubicBezTo>
                  <a:pt x="410" y="607"/>
                  <a:pt x="387" y="629"/>
                  <a:pt x="359" y="629"/>
                </a:cubicBezTo>
                <a:close/>
                <a:moveTo>
                  <a:pt x="359" y="513"/>
                </a:moveTo>
                <a:lnTo>
                  <a:pt x="359" y="513"/>
                </a:lnTo>
                <a:cubicBezTo>
                  <a:pt x="331" y="513"/>
                  <a:pt x="309" y="491"/>
                  <a:pt x="309" y="463"/>
                </a:cubicBezTo>
                <a:cubicBezTo>
                  <a:pt x="309" y="435"/>
                  <a:pt x="331" y="413"/>
                  <a:pt x="359" y="413"/>
                </a:cubicBezTo>
                <a:cubicBezTo>
                  <a:pt x="387" y="413"/>
                  <a:pt x="410" y="435"/>
                  <a:pt x="410" y="463"/>
                </a:cubicBezTo>
                <a:cubicBezTo>
                  <a:pt x="410" y="491"/>
                  <a:pt x="387" y="513"/>
                  <a:pt x="359" y="513"/>
                </a:cubicBezTo>
                <a:close/>
                <a:moveTo>
                  <a:pt x="528" y="698"/>
                </a:moveTo>
                <a:lnTo>
                  <a:pt x="528" y="698"/>
                </a:lnTo>
                <a:cubicBezTo>
                  <a:pt x="528" y="724"/>
                  <a:pt x="508" y="745"/>
                  <a:pt x="483" y="745"/>
                </a:cubicBezTo>
                <a:cubicBezTo>
                  <a:pt x="459" y="745"/>
                  <a:pt x="439" y="724"/>
                  <a:pt x="439" y="698"/>
                </a:cubicBezTo>
                <a:lnTo>
                  <a:pt x="439" y="576"/>
                </a:lnTo>
                <a:cubicBezTo>
                  <a:pt x="439" y="551"/>
                  <a:pt x="459" y="530"/>
                  <a:pt x="483" y="530"/>
                </a:cubicBezTo>
                <a:cubicBezTo>
                  <a:pt x="508" y="530"/>
                  <a:pt x="528" y="551"/>
                  <a:pt x="528" y="576"/>
                </a:cubicBezTo>
                <a:lnTo>
                  <a:pt x="528" y="698"/>
                </a:lnTo>
                <a:close/>
                <a:moveTo>
                  <a:pt x="483" y="513"/>
                </a:moveTo>
                <a:lnTo>
                  <a:pt x="483" y="513"/>
                </a:lnTo>
                <a:cubicBezTo>
                  <a:pt x="455" y="513"/>
                  <a:pt x="432" y="491"/>
                  <a:pt x="432" y="463"/>
                </a:cubicBezTo>
                <a:cubicBezTo>
                  <a:pt x="432" y="435"/>
                  <a:pt x="455" y="413"/>
                  <a:pt x="483" y="413"/>
                </a:cubicBezTo>
                <a:cubicBezTo>
                  <a:pt x="510" y="413"/>
                  <a:pt x="533" y="435"/>
                  <a:pt x="533" y="463"/>
                </a:cubicBezTo>
                <a:cubicBezTo>
                  <a:pt x="533" y="491"/>
                  <a:pt x="510" y="513"/>
                  <a:pt x="483" y="513"/>
                </a:cubicBezTo>
                <a:close/>
                <a:moveTo>
                  <a:pt x="542" y="324"/>
                </a:moveTo>
                <a:lnTo>
                  <a:pt x="542" y="324"/>
                </a:lnTo>
                <a:cubicBezTo>
                  <a:pt x="542" y="350"/>
                  <a:pt x="521" y="371"/>
                  <a:pt x="495" y="371"/>
                </a:cubicBezTo>
                <a:lnTo>
                  <a:pt x="112" y="371"/>
                </a:lnTo>
                <a:cubicBezTo>
                  <a:pt x="86" y="371"/>
                  <a:pt x="65" y="350"/>
                  <a:pt x="65" y="324"/>
                </a:cubicBezTo>
                <a:lnTo>
                  <a:pt x="65" y="122"/>
                </a:lnTo>
                <a:cubicBezTo>
                  <a:pt x="65" y="97"/>
                  <a:pt x="86" y="76"/>
                  <a:pt x="112" y="76"/>
                </a:cubicBezTo>
                <a:lnTo>
                  <a:pt x="495" y="76"/>
                </a:lnTo>
                <a:cubicBezTo>
                  <a:pt x="521" y="76"/>
                  <a:pt x="542" y="97"/>
                  <a:pt x="542" y="122"/>
                </a:cubicBezTo>
                <a:lnTo>
                  <a:pt x="542" y="324"/>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28" name="Freeform 23"/>
          <p:cNvSpPr/>
          <p:nvPr/>
        </p:nvSpPr>
        <p:spPr>
          <a:xfrm>
            <a:off x="1241280" y="3716280"/>
            <a:ext cx="492120" cy="557280"/>
          </a:xfrm>
          <a:custGeom>
            <a:avLst/>
            <a:gdLst>
              <a:gd name="textAreaLeft" fmla="*/ 0 w 492120"/>
              <a:gd name="textAreaRight" fmla="*/ 492480 w 492120"/>
              <a:gd name="textAreaTop" fmla="*/ 0 h 557280"/>
              <a:gd name="textAreaBottom" fmla="*/ 557640 h 557280"/>
            </a:gdLst>
            <a:ahLst/>
            <a:rect l="textAreaLeft" t="textAreaTop" r="textAreaRight" b="textAreaBottom"/>
            <a:pathLst>
              <a:path w="691" h="782">
                <a:moveTo>
                  <a:pt x="441" y="98"/>
                </a:moveTo>
                <a:cubicBezTo>
                  <a:pt x="441" y="152"/>
                  <a:pt x="397" y="196"/>
                  <a:pt x="343" y="196"/>
                </a:cubicBezTo>
                <a:lnTo>
                  <a:pt x="245" y="196"/>
                </a:lnTo>
                <a:cubicBezTo>
                  <a:pt x="191" y="196"/>
                  <a:pt x="147" y="152"/>
                  <a:pt x="147" y="98"/>
                </a:cubicBezTo>
                <a:cubicBezTo>
                  <a:pt x="147" y="44"/>
                  <a:pt x="191" y="0"/>
                  <a:pt x="245" y="0"/>
                </a:cubicBezTo>
                <a:lnTo>
                  <a:pt x="343" y="0"/>
                </a:lnTo>
                <a:cubicBezTo>
                  <a:pt x="397" y="0"/>
                  <a:pt x="441" y="44"/>
                  <a:pt x="441" y="98"/>
                </a:cubicBezTo>
                <a:close/>
                <a:moveTo>
                  <a:pt x="384" y="540"/>
                </a:moveTo>
                <a:cubicBezTo>
                  <a:pt x="380" y="553"/>
                  <a:pt x="379" y="566"/>
                  <a:pt x="379" y="580"/>
                </a:cubicBezTo>
                <a:cubicBezTo>
                  <a:pt x="379" y="666"/>
                  <a:pt x="449" y="736"/>
                  <a:pt x="535" y="736"/>
                </a:cubicBezTo>
                <a:cubicBezTo>
                  <a:pt x="610" y="736"/>
                  <a:pt x="673" y="683"/>
                  <a:pt x="688" y="613"/>
                </a:cubicBezTo>
                <a:cubicBezTo>
                  <a:pt x="690" y="602"/>
                  <a:pt x="691" y="591"/>
                  <a:pt x="691" y="580"/>
                </a:cubicBezTo>
                <a:cubicBezTo>
                  <a:pt x="691" y="493"/>
                  <a:pt x="621" y="423"/>
                  <a:pt x="535" y="423"/>
                </a:cubicBezTo>
                <a:cubicBezTo>
                  <a:pt x="462" y="423"/>
                  <a:pt x="401" y="473"/>
                  <a:pt x="384" y="540"/>
                </a:cubicBezTo>
                <a:close/>
                <a:moveTo>
                  <a:pt x="607" y="507"/>
                </a:moveTo>
                <a:lnTo>
                  <a:pt x="607" y="507"/>
                </a:lnTo>
                <a:cubicBezTo>
                  <a:pt x="620" y="520"/>
                  <a:pt x="620" y="542"/>
                  <a:pt x="607" y="555"/>
                </a:cubicBezTo>
                <a:lnTo>
                  <a:pt x="583" y="580"/>
                </a:lnTo>
                <a:lnTo>
                  <a:pt x="607" y="604"/>
                </a:lnTo>
                <a:cubicBezTo>
                  <a:pt x="620" y="617"/>
                  <a:pt x="620" y="639"/>
                  <a:pt x="607" y="652"/>
                </a:cubicBezTo>
                <a:cubicBezTo>
                  <a:pt x="594" y="665"/>
                  <a:pt x="573" y="665"/>
                  <a:pt x="560" y="652"/>
                </a:cubicBezTo>
                <a:lnTo>
                  <a:pt x="535" y="627"/>
                </a:lnTo>
                <a:lnTo>
                  <a:pt x="511" y="652"/>
                </a:lnTo>
                <a:cubicBezTo>
                  <a:pt x="497" y="665"/>
                  <a:pt x="476" y="665"/>
                  <a:pt x="463" y="652"/>
                </a:cubicBezTo>
                <a:cubicBezTo>
                  <a:pt x="450" y="639"/>
                  <a:pt x="450" y="617"/>
                  <a:pt x="463" y="604"/>
                </a:cubicBezTo>
                <a:lnTo>
                  <a:pt x="487" y="580"/>
                </a:lnTo>
                <a:lnTo>
                  <a:pt x="463" y="555"/>
                </a:lnTo>
                <a:cubicBezTo>
                  <a:pt x="450" y="542"/>
                  <a:pt x="450" y="520"/>
                  <a:pt x="463" y="507"/>
                </a:cubicBezTo>
                <a:cubicBezTo>
                  <a:pt x="476" y="494"/>
                  <a:pt x="497" y="494"/>
                  <a:pt x="511" y="507"/>
                </a:cubicBezTo>
                <a:lnTo>
                  <a:pt x="535" y="532"/>
                </a:lnTo>
                <a:lnTo>
                  <a:pt x="560" y="507"/>
                </a:lnTo>
                <a:cubicBezTo>
                  <a:pt x="573" y="494"/>
                  <a:pt x="594" y="494"/>
                  <a:pt x="607" y="507"/>
                </a:cubicBezTo>
                <a:close/>
                <a:moveTo>
                  <a:pt x="488" y="98"/>
                </a:moveTo>
                <a:cubicBezTo>
                  <a:pt x="489" y="105"/>
                  <a:pt x="490" y="113"/>
                  <a:pt x="490" y="120"/>
                </a:cubicBezTo>
                <a:cubicBezTo>
                  <a:pt x="490" y="188"/>
                  <a:pt x="435" y="243"/>
                  <a:pt x="367" y="243"/>
                </a:cubicBezTo>
                <a:lnTo>
                  <a:pt x="220" y="243"/>
                </a:lnTo>
                <a:cubicBezTo>
                  <a:pt x="152" y="243"/>
                  <a:pt x="98" y="188"/>
                  <a:pt x="98" y="120"/>
                </a:cubicBezTo>
                <a:cubicBezTo>
                  <a:pt x="98" y="113"/>
                  <a:pt x="98" y="105"/>
                  <a:pt x="100" y="98"/>
                </a:cubicBezTo>
                <a:cubicBezTo>
                  <a:pt x="43" y="108"/>
                  <a:pt x="0" y="158"/>
                  <a:pt x="0" y="218"/>
                </a:cubicBezTo>
                <a:lnTo>
                  <a:pt x="0" y="659"/>
                </a:lnTo>
                <a:cubicBezTo>
                  <a:pt x="0" y="727"/>
                  <a:pt x="54" y="782"/>
                  <a:pt x="122" y="782"/>
                </a:cubicBezTo>
                <a:lnTo>
                  <a:pt x="448" y="782"/>
                </a:lnTo>
                <a:cubicBezTo>
                  <a:pt x="370" y="749"/>
                  <a:pt x="315" y="671"/>
                  <a:pt x="315" y="580"/>
                </a:cubicBezTo>
                <a:cubicBezTo>
                  <a:pt x="315" y="459"/>
                  <a:pt x="413" y="361"/>
                  <a:pt x="534" y="361"/>
                </a:cubicBezTo>
                <a:cubicBezTo>
                  <a:pt x="553" y="361"/>
                  <a:pt x="571" y="364"/>
                  <a:pt x="588" y="368"/>
                </a:cubicBezTo>
                <a:lnTo>
                  <a:pt x="588" y="218"/>
                </a:lnTo>
                <a:cubicBezTo>
                  <a:pt x="588" y="158"/>
                  <a:pt x="545" y="108"/>
                  <a:pt x="488" y="98"/>
                </a:cubicBezTo>
                <a:close/>
                <a:moveTo>
                  <a:pt x="275" y="490"/>
                </a:moveTo>
                <a:lnTo>
                  <a:pt x="275" y="490"/>
                </a:lnTo>
                <a:lnTo>
                  <a:pt x="122" y="490"/>
                </a:lnTo>
                <a:cubicBezTo>
                  <a:pt x="109" y="490"/>
                  <a:pt x="98" y="479"/>
                  <a:pt x="98" y="466"/>
                </a:cubicBezTo>
                <a:cubicBezTo>
                  <a:pt x="98" y="452"/>
                  <a:pt x="109" y="441"/>
                  <a:pt x="122" y="441"/>
                </a:cubicBezTo>
                <a:lnTo>
                  <a:pt x="275" y="441"/>
                </a:lnTo>
                <a:cubicBezTo>
                  <a:pt x="289" y="441"/>
                  <a:pt x="300" y="452"/>
                  <a:pt x="300" y="466"/>
                </a:cubicBezTo>
                <a:cubicBezTo>
                  <a:pt x="300" y="479"/>
                  <a:pt x="289" y="490"/>
                  <a:pt x="275" y="490"/>
                </a:cubicBezTo>
                <a:close/>
                <a:moveTo>
                  <a:pt x="324" y="392"/>
                </a:moveTo>
                <a:lnTo>
                  <a:pt x="324" y="392"/>
                </a:lnTo>
                <a:lnTo>
                  <a:pt x="122" y="392"/>
                </a:lnTo>
                <a:cubicBezTo>
                  <a:pt x="109" y="392"/>
                  <a:pt x="98" y="381"/>
                  <a:pt x="98" y="367"/>
                </a:cubicBezTo>
                <a:cubicBezTo>
                  <a:pt x="98" y="354"/>
                  <a:pt x="109" y="343"/>
                  <a:pt x="122" y="343"/>
                </a:cubicBezTo>
                <a:lnTo>
                  <a:pt x="324" y="343"/>
                </a:lnTo>
                <a:cubicBezTo>
                  <a:pt x="338" y="343"/>
                  <a:pt x="349" y="354"/>
                  <a:pt x="349" y="367"/>
                </a:cubicBezTo>
                <a:cubicBezTo>
                  <a:pt x="349" y="381"/>
                  <a:pt x="338" y="392"/>
                  <a:pt x="324" y="392"/>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29" name="Freeform 24"/>
          <p:cNvSpPr/>
          <p:nvPr/>
        </p:nvSpPr>
        <p:spPr>
          <a:xfrm>
            <a:off x="2376360" y="3724200"/>
            <a:ext cx="493920" cy="560520"/>
          </a:xfrm>
          <a:custGeom>
            <a:avLst/>
            <a:gdLst>
              <a:gd name="textAreaLeft" fmla="*/ 0 w 493920"/>
              <a:gd name="textAreaRight" fmla="*/ 494280 w 493920"/>
              <a:gd name="textAreaTop" fmla="*/ 0 h 560520"/>
              <a:gd name="textAreaBottom" fmla="*/ 560880 h 560520"/>
            </a:gdLst>
            <a:ahLst/>
            <a:rect l="textAreaLeft" t="textAreaTop" r="textAreaRight" b="textAreaBottom"/>
            <a:pathLst>
              <a:path w="692" h="782">
                <a:moveTo>
                  <a:pt x="441" y="98"/>
                </a:moveTo>
                <a:cubicBezTo>
                  <a:pt x="441" y="152"/>
                  <a:pt x="397" y="196"/>
                  <a:pt x="343" y="196"/>
                </a:cubicBezTo>
                <a:lnTo>
                  <a:pt x="245" y="196"/>
                </a:lnTo>
                <a:cubicBezTo>
                  <a:pt x="191" y="196"/>
                  <a:pt x="147" y="152"/>
                  <a:pt x="147" y="98"/>
                </a:cubicBezTo>
                <a:cubicBezTo>
                  <a:pt x="147" y="44"/>
                  <a:pt x="191" y="0"/>
                  <a:pt x="245" y="0"/>
                </a:cubicBezTo>
                <a:lnTo>
                  <a:pt x="343" y="0"/>
                </a:lnTo>
                <a:cubicBezTo>
                  <a:pt x="397" y="0"/>
                  <a:pt x="441" y="44"/>
                  <a:pt x="441" y="98"/>
                </a:cubicBezTo>
                <a:close/>
                <a:moveTo>
                  <a:pt x="488" y="98"/>
                </a:moveTo>
                <a:cubicBezTo>
                  <a:pt x="489" y="105"/>
                  <a:pt x="490" y="113"/>
                  <a:pt x="490" y="120"/>
                </a:cubicBezTo>
                <a:cubicBezTo>
                  <a:pt x="490" y="188"/>
                  <a:pt x="435" y="243"/>
                  <a:pt x="367" y="243"/>
                </a:cubicBezTo>
                <a:lnTo>
                  <a:pt x="220" y="243"/>
                </a:lnTo>
                <a:cubicBezTo>
                  <a:pt x="153" y="243"/>
                  <a:pt x="98" y="188"/>
                  <a:pt x="98" y="120"/>
                </a:cubicBezTo>
                <a:cubicBezTo>
                  <a:pt x="98" y="113"/>
                  <a:pt x="98" y="105"/>
                  <a:pt x="100" y="98"/>
                </a:cubicBezTo>
                <a:cubicBezTo>
                  <a:pt x="43" y="109"/>
                  <a:pt x="0" y="158"/>
                  <a:pt x="0" y="218"/>
                </a:cubicBezTo>
                <a:lnTo>
                  <a:pt x="0" y="660"/>
                </a:lnTo>
                <a:cubicBezTo>
                  <a:pt x="0" y="727"/>
                  <a:pt x="55" y="782"/>
                  <a:pt x="122" y="782"/>
                </a:cubicBezTo>
                <a:lnTo>
                  <a:pt x="448" y="782"/>
                </a:lnTo>
                <a:cubicBezTo>
                  <a:pt x="370" y="749"/>
                  <a:pt x="315" y="671"/>
                  <a:pt x="315" y="580"/>
                </a:cubicBezTo>
                <a:cubicBezTo>
                  <a:pt x="315" y="459"/>
                  <a:pt x="413" y="361"/>
                  <a:pt x="534" y="361"/>
                </a:cubicBezTo>
                <a:cubicBezTo>
                  <a:pt x="553" y="361"/>
                  <a:pt x="571" y="364"/>
                  <a:pt x="588" y="368"/>
                </a:cubicBezTo>
                <a:lnTo>
                  <a:pt x="588" y="218"/>
                </a:lnTo>
                <a:cubicBezTo>
                  <a:pt x="588" y="158"/>
                  <a:pt x="545" y="109"/>
                  <a:pt x="488" y="98"/>
                </a:cubicBezTo>
                <a:close/>
                <a:moveTo>
                  <a:pt x="275" y="490"/>
                </a:moveTo>
                <a:lnTo>
                  <a:pt x="275" y="490"/>
                </a:lnTo>
                <a:lnTo>
                  <a:pt x="122" y="490"/>
                </a:lnTo>
                <a:cubicBezTo>
                  <a:pt x="109" y="490"/>
                  <a:pt x="98" y="479"/>
                  <a:pt x="98" y="466"/>
                </a:cubicBezTo>
                <a:cubicBezTo>
                  <a:pt x="98" y="452"/>
                  <a:pt x="109" y="441"/>
                  <a:pt x="122" y="441"/>
                </a:cubicBezTo>
                <a:lnTo>
                  <a:pt x="275" y="441"/>
                </a:lnTo>
                <a:cubicBezTo>
                  <a:pt x="289" y="441"/>
                  <a:pt x="300" y="452"/>
                  <a:pt x="300" y="466"/>
                </a:cubicBezTo>
                <a:cubicBezTo>
                  <a:pt x="300" y="479"/>
                  <a:pt x="289" y="490"/>
                  <a:pt x="275" y="490"/>
                </a:cubicBezTo>
                <a:close/>
                <a:moveTo>
                  <a:pt x="324" y="392"/>
                </a:moveTo>
                <a:lnTo>
                  <a:pt x="324" y="392"/>
                </a:lnTo>
                <a:lnTo>
                  <a:pt x="122" y="392"/>
                </a:lnTo>
                <a:cubicBezTo>
                  <a:pt x="109" y="392"/>
                  <a:pt x="98" y="381"/>
                  <a:pt x="98" y="368"/>
                </a:cubicBezTo>
                <a:cubicBezTo>
                  <a:pt x="98" y="354"/>
                  <a:pt x="109" y="343"/>
                  <a:pt x="122" y="343"/>
                </a:cubicBezTo>
                <a:lnTo>
                  <a:pt x="324" y="343"/>
                </a:lnTo>
                <a:cubicBezTo>
                  <a:pt x="338" y="343"/>
                  <a:pt x="349" y="354"/>
                  <a:pt x="349" y="368"/>
                </a:cubicBezTo>
                <a:cubicBezTo>
                  <a:pt x="349" y="381"/>
                  <a:pt x="338" y="392"/>
                  <a:pt x="324" y="392"/>
                </a:cubicBezTo>
                <a:close/>
                <a:moveTo>
                  <a:pt x="575" y="429"/>
                </a:moveTo>
                <a:cubicBezTo>
                  <a:pt x="562" y="425"/>
                  <a:pt x="549" y="424"/>
                  <a:pt x="536" y="424"/>
                </a:cubicBezTo>
                <a:cubicBezTo>
                  <a:pt x="449" y="424"/>
                  <a:pt x="379" y="494"/>
                  <a:pt x="379" y="580"/>
                </a:cubicBezTo>
                <a:cubicBezTo>
                  <a:pt x="379" y="655"/>
                  <a:pt x="432" y="717"/>
                  <a:pt x="503" y="733"/>
                </a:cubicBezTo>
                <a:cubicBezTo>
                  <a:pt x="513" y="735"/>
                  <a:pt x="524" y="736"/>
                  <a:pt x="536" y="736"/>
                </a:cubicBezTo>
                <a:cubicBezTo>
                  <a:pt x="622" y="736"/>
                  <a:pt x="692" y="666"/>
                  <a:pt x="692" y="580"/>
                </a:cubicBezTo>
                <a:cubicBezTo>
                  <a:pt x="692" y="507"/>
                  <a:pt x="642" y="446"/>
                  <a:pt x="575" y="429"/>
                </a:cubicBezTo>
                <a:close/>
                <a:moveTo>
                  <a:pt x="624" y="558"/>
                </a:moveTo>
                <a:lnTo>
                  <a:pt x="624" y="558"/>
                </a:lnTo>
                <a:lnTo>
                  <a:pt x="575" y="607"/>
                </a:lnTo>
                <a:lnTo>
                  <a:pt x="536" y="646"/>
                </a:lnTo>
                <a:cubicBezTo>
                  <a:pt x="523" y="658"/>
                  <a:pt x="504" y="658"/>
                  <a:pt x="492" y="646"/>
                </a:cubicBezTo>
                <a:lnTo>
                  <a:pt x="447" y="602"/>
                </a:lnTo>
                <a:cubicBezTo>
                  <a:pt x="435" y="590"/>
                  <a:pt x="435" y="570"/>
                  <a:pt x="447" y="558"/>
                </a:cubicBezTo>
                <a:cubicBezTo>
                  <a:pt x="460" y="546"/>
                  <a:pt x="479" y="546"/>
                  <a:pt x="492" y="558"/>
                </a:cubicBezTo>
                <a:lnTo>
                  <a:pt x="514" y="580"/>
                </a:lnTo>
                <a:lnTo>
                  <a:pt x="575" y="519"/>
                </a:lnTo>
                <a:lnTo>
                  <a:pt x="580" y="514"/>
                </a:lnTo>
                <a:cubicBezTo>
                  <a:pt x="592" y="501"/>
                  <a:pt x="612" y="501"/>
                  <a:pt x="624" y="514"/>
                </a:cubicBezTo>
                <a:cubicBezTo>
                  <a:pt x="636" y="526"/>
                  <a:pt x="636" y="546"/>
                  <a:pt x="624" y="558"/>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30" name="Freeform 25"/>
          <p:cNvSpPr/>
          <p:nvPr/>
        </p:nvSpPr>
        <p:spPr>
          <a:xfrm>
            <a:off x="3465360" y="3770280"/>
            <a:ext cx="650880" cy="595440"/>
          </a:xfrm>
          <a:custGeom>
            <a:avLst/>
            <a:gdLst>
              <a:gd name="textAreaLeft" fmla="*/ 0 w 650880"/>
              <a:gd name="textAreaRight" fmla="*/ 651240 w 650880"/>
              <a:gd name="textAreaTop" fmla="*/ 0 h 595440"/>
              <a:gd name="textAreaBottom" fmla="*/ 595800 h 595440"/>
            </a:gdLst>
            <a:ahLst/>
            <a:rect l="textAreaLeft" t="textAreaTop" r="textAreaRight" b="textAreaBottom"/>
            <a:pathLst>
              <a:path w="913" h="832">
                <a:moveTo>
                  <a:pt x="139" y="5"/>
                </a:moveTo>
                <a:lnTo>
                  <a:pt x="208" y="117"/>
                </a:lnTo>
                <a:lnTo>
                  <a:pt x="277" y="229"/>
                </a:lnTo>
                <a:lnTo>
                  <a:pt x="139" y="229"/>
                </a:lnTo>
                <a:lnTo>
                  <a:pt x="0" y="229"/>
                </a:lnTo>
                <a:lnTo>
                  <a:pt x="70" y="117"/>
                </a:lnTo>
                <a:lnTo>
                  <a:pt x="139" y="5"/>
                </a:lnTo>
                <a:close/>
                <a:moveTo>
                  <a:pt x="298" y="224"/>
                </a:moveTo>
                <a:lnTo>
                  <a:pt x="228" y="112"/>
                </a:lnTo>
                <a:lnTo>
                  <a:pt x="159" y="0"/>
                </a:lnTo>
                <a:lnTo>
                  <a:pt x="298" y="0"/>
                </a:lnTo>
                <a:lnTo>
                  <a:pt x="436" y="0"/>
                </a:lnTo>
                <a:lnTo>
                  <a:pt x="367" y="112"/>
                </a:lnTo>
                <a:lnTo>
                  <a:pt x="298" y="224"/>
                </a:lnTo>
                <a:close/>
                <a:moveTo>
                  <a:pt x="456" y="5"/>
                </a:moveTo>
                <a:lnTo>
                  <a:pt x="526" y="117"/>
                </a:lnTo>
                <a:lnTo>
                  <a:pt x="595" y="229"/>
                </a:lnTo>
                <a:lnTo>
                  <a:pt x="456" y="229"/>
                </a:lnTo>
                <a:lnTo>
                  <a:pt x="318" y="229"/>
                </a:lnTo>
                <a:lnTo>
                  <a:pt x="387" y="117"/>
                </a:lnTo>
                <a:lnTo>
                  <a:pt x="456" y="5"/>
                </a:lnTo>
                <a:close/>
                <a:moveTo>
                  <a:pt x="615" y="224"/>
                </a:moveTo>
                <a:lnTo>
                  <a:pt x="546" y="112"/>
                </a:lnTo>
                <a:lnTo>
                  <a:pt x="477" y="0"/>
                </a:lnTo>
                <a:lnTo>
                  <a:pt x="615" y="0"/>
                </a:lnTo>
                <a:lnTo>
                  <a:pt x="754" y="0"/>
                </a:lnTo>
                <a:lnTo>
                  <a:pt x="685" y="112"/>
                </a:lnTo>
                <a:lnTo>
                  <a:pt x="615" y="224"/>
                </a:lnTo>
                <a:close/>
                <a:moveTo>
                  <a:pt x="774" y="5"/>
                </a:moveTo>
                <a:lnTo>
                  <a:pt x="843" y="117"/>
                </a:lnTo>
                <a:lnTo>
                  <a:pt x="913" y="229"/>
                </a:lnTo>
                <a:lnTo>
                  <a:pt x="774" y="229"/>
                </a:lnTo>
                <a:lnTo>
                  <a:pt x="635" y="229"/>
                </a:lnTo>
                <a:lnTo>
                  <a:pt x="705" y="117"/>
                </a:lnTo>
                <a:lnTo>
                  <a:pt x="774" y="5"/>
                </a:lnTo>
                <a:close/>
                <a:moveTo>
                  <a:pt x="429" y="793"/>
                </a:moveTo>
                <a:lnTo>
                  <a:pt x="283" y="246"/>
                </a:lnTo>
                <a:lnTo>
                  <a:pt x="145" y="246"/>
                </a:lnTo>
                <a:lnTo>
                  <a:pt x="6" y="246"/>
                </a:lnTo>
                <a:lnTo>
                  <a:pt x="429" y="793"/>
                </a:lnTo>
                <a:close/>
                <a:moveTo>
                  <a:pt x="456" y="832"/>
                </a:moveTo>
                <a:lnTo>
                  <a:pt x="531" y="539"/>
                </a:lnTo>
                <a:lnTo>
                  <a:pt x="606" y="246"/>
                </a:lnTo>
                <a:lnTo>
                  <a:pt x="456" y="246"/>
                </a:lnTo>
                <a:lnTo>
                  <a:pt x="307" y="246"/>
                </a:lnTo>
                <a:lnTo>
                  <a:pt x="382" y="539"/>
                </a:lnTo>
                <a:lnTo>
                  <a:pt x="456" y="832"/>
                </a:lnTo>
                <a:close/>
                <a:moveTo>
                  <a:pt x="479" y="794"/>
                </a:moveTo>
                <a:lnTo>
                  <a:pt x="907" y="246"/>
                </a:lnTo>
                <a:lnTo>
                  <a:pt x="768" y="246"/>
                </a:lnTo>
                <a:lnTo>
                  <a:pt x="630" y="246"/>
                </a:lnTo>
                <a:lnTo>
                  <a:pt x="479" y="794"/>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31" name="Freeform 26"/>
          <p:cNvSpPr/>
          <p:nvPr/>
        </p:nvSpPr>
        <p:spPr>
          <a:xfrm>
            <a:off x="4670280" y="3763800"/>
            <a:ext cx="532080" cy="452520"/>
          </a:xfrm>
          <a:custGeom>
            <a:avLst/>
            <a:gdLst>
              <a:gd name="textAreaLeft" fmla="*/ 0 w 532080"/>
              <a:gd name="textAreaRight" fmla="*/ 532440 w 532080"/>
              <a:gd name="textAreaTop" fmla="*/ 0 h 452520"/>
              <a:gd name="textAreaBottom" fmla="*/ 452880 h 452520"/>
            </a:gdLst>
            <a:ahLst/>
            <a:rect l="textAreaLeft" t="textAreaTop" r="textAreaRight" b="textAreaBottom"/>
            <a:pathLst>
              <a:path w="746" h="633">
                <a:moveTo>
                  <a:pt x="353" y="124"/>
                </a:moveTo>
                <a:lnTo>
                  <a:pt x="65" y="0"/>
                </a:lnTo>
                <a:lnTo>
                  <a:pt x="65" y="64"/>
                </a:lnTo>
                <a:lnTo>
                  <a:pt x="353" y="124"/>
                </a:lnTo>
                <a:close/>
                <a:moveTo>
                  <a:pt x="677" y="0"/>
                </a:moveTo>
                <a:lnTo>
                  <a:pt x="388" y="124"/>
                </a:lnTo>
                <a:lnTo>
                  <a:pt x="388" y="124"/>
                </a:lnTo>
                <a:lnTo>
                  <a:pt x="677" y="64"/>
                </a:lnTo>
                <a:lnTo>
                  <a:pt x="677" y="0"/>
                </a:lnTo>
                <a:close/>
                <a:moveTo>
                  <a:pt x="0" y="559"/>
                </a:moveTo>
                <a:lnTo>
                  <a:pt x="358" y="633"/>
                </a:lnTo>
                <a:lnTo>
                  <a:pt x="358" y="143"/>
                </a:lnTo>
                <a:lnTo>
                  <a:pt x="0" y="68"/>
                </a:lnTo>
                <a:lnTo>
                  <a:pt x="0" y="559"/>
                </a:lnTo>
                <a:close/>
                <a:moveTo>
                  <a:pt x="388" y="143"/>
                </a:moveTo>
                <a:lnTo>
                  <a:pt x="388" y="633"/>
                </a:lnTo>
                <a:lnTo>
                  <a:pt x="746" y="559"/>
                </a:lnTo>
                <a:lnTo>
                  <a:pt x="746" y="68"/>
                </a:lnTo>
                <a:lnTo>
                  <a:pt x="388" y="143"/>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32" name="Freeform 27"/>
          <p:cNvSpPr/>
          <p:nvPr/>
        </p:nvSpPr>
        <p:spPr>
          <a:xfrm>
            <a:off x="5823000" y="3720960"/>
            <a:ext cx="631800" cy="565200"/>
          </a:xfrm>
          <a:custGeom>
            <a:avLst/>
            <a:gdLst>
              <a:gd name="textAreaLeft" fmla="*/ 0 w 631800"/>
              <a:gd name="textAreaRight" fmla="*/ 632160 w 631800"/>
              <a:gd name="textAreaTop" fmla="*/ 0 h 565200"/>
              <a:gd name="textAreaBottom" fmla="*/ 565560 h 565200"/>
            </a:gdLst>
            <a:ahLst/>
            <a:rect l="textAreaLeft" t="textAreaTop" r="textAreaRight" b="textAreaBottom"/>
            <a:pathLst>
              <a:path w="884" h="790">
                <a:moveTo>
                  <a:pt x="92" y="157"/>
                </a:moveTo>
                <a:cubicBezTo>
                  <a:pt x="41" y="159"/>
                  <a:pt x="0" y="202"/>
                  <a:pt x="0" y="253"/>
                </a:cubicBezTo>
                <a:lnTo>
                  <a:pt x="0" y="556"/>
                </a:lnTo>
                <a:cubicBezTo>
                  <a:pt x="0" y="609"/>
                  <a:pt x="43" y="652"/>
                  <a:pt x="96" y="652"/>
                </a:cubicBezTo>
                <a:lnTo>
                  <a:pt x="128" y="652"/>
                </a:lnTo>
                <a:lnTo>
                  <a:pt x="128" y="790"/>
                </a:lnTo>
                <a:lnTo>
                  <a:pt x="231" y="652"/>
                </a:lnTo>
                <a:lnTo>
                  <a:pt x="605" y="652"/>
                </a:lnTo>
                <a:cubicBezTo>
                  <a:pt x="618" y="652"/>
                  <a:pt x="630" y="649"/>
                  <a:pt x="640" y="645"/>
                </a:cubicBezTo>
                <a:lnTo>
                  <a:pt x="596" y="585"/>
                </a:lnTo>
                <a:lnTo>
                  <a:pt x="254" y="585"/>
                </a:lnTo>
                <a:cubicBezTo>
                  <a:pt x="211" y="585"/>
                  <a:pt x="170" y="568"/>
                  <a:pt x="140" y="537"/>
                </a:cubicBezTo>
                <a:cubicBezTo>
                  <a:pt x="109" y="507"/>
                  <a:pt x="92" y="466"/>
                  <a:pt x="92" y="423"/>
                </a:cubicBezTo>
                <a:lnTo>
                  <a:pt x="92" y="157"/>
                </a:lnTo>
                <a:close/>
                <a:moveTo>
                  <a:pt x="254" y="0"/>
                </a:moveTo>
                <a:lnTo>
                  <a:pt x="254" y="0"/>
                </a:lnTo>
                <a:lnTo>
                  <a:pt x="763" y="0"/>
                </a:lnTo>
                <a:cubicBezTo>
                  <a:pt x="796" y="0"/>
                  <a:pt x="827" y="14"/>
                  <a:pt x="848" y="35"/>
                </a:cubicBezTo>
                <a:cubicBezTo>
                  <a:pt x="870" y="57"/>
                  <a:pt x="884" y="87"/>
                  <a:pt x="884" y="120"/>
                </a:cubicBezTo>
                <a:lnTo>
                  <a:pt x="884" y="423"/>
                </a:lnTo>
                <a:cubicBezTo>
                  <a:pt x="884" y="456"/>
                  <a:pt x="870" y="486"/>
                  <a:pt x="848" y="508"/>
                </a:cubicBezTo>
                <a:cubicBezTo>
                  <a:pt x="827" y="530"/>
                  <a:pt x="796" y="543"/>
                  <a:pt x="763" y="543"/>
                </a:cubicBezTo>
                <a:lnTo>
                  <a:pt x="755" y="543"/>
                </a:lnTo>
                <a:lnTo>
                  <a:pt x="755" y="657"/>
                </a:lnTo>
                <a:cubicBezTo>
                  <a:pt x="755" y="670"/>
                  <a:pt x="745" y="681"/>
                  <a:pt x="731" y="681"/>
                </a:cubicBezTo>
                <a:cubicBezTo>
                  <a:pt x="723" y="681"/>
                  <a:pt x="715" y="676"/>
                  <a:pt x="711" y="670"/>
                </a:cubicBezTo>
                <a:lnTo>
                  <a:pt x="617" y="543"/>
                </a:lnTo>
                <a:lnTo>
                  <a:pt x="254" y="543"/>
                </a:lnTo>
                <a:cubicBezTo>
                  <a:pt x="221" y="543"/>
                  <a:pt x="191" y="530"/>
                  <a:pt x="169" y="508"/>
                </a:cubicBezTo>
                <a:cubicBezTo>
                  <a:pt x="147" y="486"/>
                  <a:pt x="134" y="456"/>
                  <a:pt x="134" y="423"/>
                </a:cubicBezTo>
                <a:lnTo>
                  <a:pt x="134" y="120"/>
                </a:lnTo>
                <a:cubicBezTo>
                  <a:pt x="134" y="87"/>
                  <a:pt x="147" y="57"/>
                  <a:pt x="169" y="35"/>
                </a:cubicBezTo>
                <a:cubicBezTo>
                  <a:pt x="191" y="14"/>
                  <a:pt x="221" y="0"/>
                  <a:pt x="254" y="0"/>
                </a:cubicBezTo>
                <a:close/>
                <a:moveTo>
                  <a:pt x="763" y="48"/>
                </a:moveTo>
                <a:lnTo>
                  <a:pt x="763" y="48"/>
                </a:lnTo>
                <a:cubicBezTo>
                  <a:pt x="783" y="48"/>
                  <a:pt x="801" y="56"/>
                  <a:pt x="814" y="70"/>
                </a:cubicBezTo>
                <a:cubicBezTo>
                  <a:pt x="827" y="83"/>
                  <a:pt x="835" y="100"/>
                  <a:pt x="835" y="120"/>
                </a:cubicBezTo>
                <a:lnTo>
                  <a:pt x="835" y="423"/>
                </a:lnTo>
                <a:cubicBezTo>
                  <a:pt x="835" y="443"/>
                  <a:pt x="827" y="461"/>
                  <a:pt x="814" y="474"/>
                </a:cubicBezTo>
                <a:cubicBezTo>
                  <a:pt x="801" y="487"/>
                  <a:pt x="783" y="495"/>
                  <a:pt x="763" y="495"/>
                </a:cubicBezTo>
                <a:lnTo>
                  <a:pt x="731" y="495"/>
                </a:lnTo>
                <a:cubicBezTo>
                  <a:pt x="718" y="495"/>
                  <a:pt x="707" y="506"/>
                  <a:pt x="707" y="519"/>
                </a:cubicBezTo>
                <a:lnTo>
                  <a:pt x="707" y="584"/>
                </a:lnTo>
                <a:lnTo>
                  <a:pt x="648" y="505"/>
                </a:lnTo>
                <a:cubicBezTo>
                  <a:pt x="643" y="498"/>
                  <a:pt x="636" y="495"/>
                  <a:pt x="629" y="495"/>
                </a:cubicBezTo>
                <a:lnTo>
                  <a:pt x="629" y="495"/>
                </a:lnTo>
                <a:lnTo>
                  <a:pt x="254" y="495"/>
                </a:lnTo>
                <a:cubicBezTo>
                  <a:pt x="234" y="495"/>
                  <a:pt x="216" y="487"/>
                  <a:pt x="203" y="474"/>
                </a:cubicBezTo>
                <a:cubicBezTo>
                  <a:pt x="190" y="461"/>
                  <a:pt x="182" y="443"/>
                  <a:pt x="182" y="423"/>
                </a:cubicBezTo>
                <a:lnTo>
                  <a:pt x="182" y="120"/>
                </a:lnTo>
                <a:cubicBezTo>
                  <a:pt x="182" y="100"/>
                  <a:pt x="190" y="83"/>
                  <a:pt x="203" y="70"/>
                </a:cubicBezTo>
                <a:cubicBezTo>
                  <a:pt x="216" y="56"/>
                  <a:pt x="234" y="48"/>
                  <a:pt x="254" y="48"/>
                </a:cubicBezTo>
                <a:lnTo>
                  <a:pt x="763" y="4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33" name="Freeform 28"/>
          <p:cNvSpPr/>
          <p:nvPr/>
        </p:nvSpPr>
        <p:spPr>
          <a:xfrm>
            <a:off x="6862680" y="3819600"/>
            <a:ext cx="515880" cy="399960"/>
          </a:xfrm>
          <a:custGeom>
            <a:avLst/>
            <a:gdLst>
              <a:gd name="textAreaLeft" fmla="*/ 0 w 515880"/>
              <a:gd name="textAreaRight" fmla="*/ 516240 w 515880"/>
              <a:gd name="textAreaTop" fmla="*/ 0 h 399960"/>
              <a:gd name="textAreaBottom" fmla="*/ 400320 h 399960"/>
            </a:gdLst>
            <a:ahLst/>
            <a:rect l="textAreaLeft" t="textAreaTop" r="textAreaRight" b="textAreaBottom"/>
            <a:pathLst>
              <a:path w="724" h="563">
                <a:moveTo>
                  <a:pt x="175" y="80"/>
                </a:moveTo>
                <a:lnTo>
                  <a:pt x="34" y="80"/>
                </a:lnTo>
                <a:lnTo>
                  <a:pt x="34" y="44"/>
                </a:lnTo>
                <a:lnTo>
                  <a:pt x="175" y="44"/>
                </a:lnTo>
                <a:lnTo>
                  <a:pt x="175" y="80"/>
                </a:lnTo>
                <a:close/>
                <a:moveTo>
                  <a:pt x="175" y="165"/>
                </a:moveTo>
                <a:lnTo>
                  <a:pt x="34" y="165"/>
                </a:lnTo>
                <a:lnTo>
                  <a:pt x="34" y="129"/>
                </a:lnTo>
                <a:lnTo>
                  <a:pt x="175" y="129"/>
                </a:lnTo>
                <a:lnTo>
                  <a:pt x="175" y="165"/>
                </a:lnTo>
                <a:close/>
                <a:moveTo>
                  <a:pt x="175" y="250"/>
                </a:moveTo>
                <a:lnTo>
                  <a:pt x="34" y="250"/>
                </a:lnTo>
                <a:lnTo>
                  <a:pt x="34" y="214"/>
                </a:lnTo>
                <a:lnTo>
                  <a:pt x="175" y="214"/>
                </a:lnTo>
                <a:lnTo>
                  <a:pt x="175" y="250"/>
                </a:lnTo>
                <a:close/>
                <a:moveTo>
                  <a:pt x="0" y="563"/>
                </a:moveTo>
                <a:lnTo>
                  <a:pt x="209" y="563"/>
                </a:lnTo>
                <a:lnTo>
                  <a:pt x="209" y="0"/>
                </a:lnTo>
                <a:lnTo>
                  <a:pt x="0" y="0"/>
                </a:lnTo>
                <a:lnTo>
                  <a:pt x="0" y="563"/>
                </a:lnTo>
                <a:close/>
                <a:moveTo>
                  <a:pt x="432" y="80"/>
                </a:moveTo>
                <a:lnTo>
                  <a:pt x="292" y="80"/>
                </a:lnTo>
                <a:lnTo>
                  <a:pt x="292" y="44"/>
                </a:lnTo>
                <a:lnTo>
                  <a:pt x="432" y="44"/>
                </a:lnTo>
                <a:lnTo>
                  <a:pt x="432" y="80"/>
                </a:lnTo>
                <a:close/>
                <a:moveTo>
                  <a:pt x="432" y="165"/>
                </a:moveTo>
                <a:lnTo>
                  <a:pt x="292" y="165"/>
                </a:lnTo>
                <a:lnTo>
                  <a:pt x="292" y="129"/>
                </a:lnTo>
                <a:lnTo>
                  <a:pt x="432" y="129"/>
                </a:lnTo>
                <a:lnTo>
                  <a:pt x="432" y="165"/>
                </a:lnTo>
                <a:close/>
                <a:moveTo>
                  <a:pt x="432" y="250"/>
                </a:moveTo>
                <a:lnTo>
                  <a:pt x="292" y="250"/>
                </a:lnTo>
                <a:lnTo>
                  <a:pt x="292" y="214"/>
                </a:lnTo>
                <a:lnTo>
                  <a:pt x="432" y="214"/>
                </a:lnTo>
                <a:lnTo>
                  <a:pt x="432" y="250"/>
                </a:lnTo>
                <a:close/>
                <a:moveTo>
                  <a:pt x="257" y="563"/>
                </a:moveTo>
                <a:lnTo>
                  <a:pt x="467" y="563"/>
                </a:lnTo>
                <a:lnTo>
                  <a:pt x="467" y="0"/>
                </a:lnTo>
                <a:lnTo>
                  <a:pt x="257" y="0"/>
                </a:lnTo>
                <a:lnTo>
                  <a:pt x="257" y="563"/>
                </a:lnTo>
                <a:close/>
                <a:moveTo>
                  <a:pt x="690" y="80"/>
                </a:moveTo>
                <a:lnTo>
                  <a:pt x="549" y="80"/>
                </a:lnTo>
                <a:lnTo>
                  <a:pt x="549" y="44"/>
                </a:lnTo>
                <a:lnTo>
                  <a:pt x="690" y="44"/>
                </a:lnTo>
                <a:lnTo>
                  <a:pt x="690" y="80"/>
                </a:lnTo>
                <a:close/>
                <a:moveTo>
                  <a:pt x="690" y="165"/>
                </a:moveTo>
                <a:lnTo>
                  <a:pt x="549" y="165"/>
                </a:lnTo>
                <a:lnTo>
                  <a:pt x="549" y="129"/>
                </a:lnTo>
                <a:lnTo>
                  <a:pt x="690" y="129"/>
                </a:lnTo>
                <a:lnTo>
                  <a:pt x="690" y="165"/>
                </a:lnTo>
                <a:close/>
                <a:moveTo>
                  <a:pt x="690" y="250"/>
                </a:moveTo>
                <a:lnTo>
                  <a:pt x="549" y="250"/>
                </a:lnTo>
                <a:lnTo>
                  <a:pt x="549" y="214"/>
                </a:lnTo>
                <a:lnTo>
                  <a:pt x="690" y="214"/>
                </a:lnTo>
                <a:lnTo>
                  <a:pt x="690" y="250"/>
                </a:lnTo>
                <a:close/>
                <a:moveTo>
                  <a:pt x="515" y="563"/>
                </a:moveTo>
                <a:lnTo>
                  <a:pt x="724" y="563"/>
                </a:lnTo>
                <a:lnTo>
                  <a:pt x="724" y="0"/>
                </a:lnTo>
                <a:lnTo>
                  <a:pt x="515" y="0"/>
                </a:lnTo>
                <a:lnTo>
                  <a:pt x="515" y="563"/>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34" name="Freeform 29"/>
          <p:cNvSpPr/>
          <p:nvPr/>
        </p:nvSpPr>
        <p:spPr>
          <a:xfrm>
            <a:off x="1168560" y="4649760"/>
            <a:ext cx="612720" cy="531720"/>
          </a:xfrm>
          <a:custGeom>
            <a:avLst/>
            <a:gdLst>
              <a:gd name="textAreaLeft" fmla="*/ 0 w 612720"/>
              <a:gd name="textAreaRight" fmla="*/ 613080 w 612720"/>
              <a:gd name="textAreaTop" fmla="*/ 0 h 531720"/>
              <a:gd name="textAreaBottom" fmla="*/ 532080 h 531720"/>
            </a:gdLst>
            <a:ahLst/>
            <a:rect l="textAreaLeft" t="textAreaTop" r="textAreaRight" b="textAreaBottom"/>
            <a:pathLst>
              <a:path w="860" h="744">
                <a:moveTo>
                  <a:pt x="434" y="569"/>
                </a:moveTo>
                <a:lnTo>
                  <a:pt x="609" y="569"/>
                </a:lnTo>
                <a:lnTo>
                  <a:pt x="609" y="591"/>
                </a:lnTo>
                <a:lnTo>
                  <a:pt x="434" y="591"/>
                </a:lnTo>
                <a:lnTo>
                  <a:pt x="434" y="569"/>
                </a:lnTo>
                <a:close/>
                <a:moveTo>
                  <a:pt x="831" y="220"/>
                </a:moveTo>
                <a:cubicBezTo>
                  <a:pt x="813" y="202"/>
                  <a:pt x="788" y="191"/>
                  <a:pt x="761" y="191"/>
                </a:cubicBezTo>
                <a:lnTo>
                  <a:pt x="681" y="191"/>
                </a:lnTo>
                <a:cubicBezTo>
                  <a:pt x="673" y="157"/>
                  <a:pt x="642" y="132"/>
                  <a:pt x="607" y="132"/>
                </a:cubicBezTo>
                <a:lnTo>
                  <a:pt x="538" y="133"/>
                </a:lnTo>
                <a:cubicBezTo>
                  <a:pt x="486" y="91"/>
                  <a:pt x="464" y="46"/>
                  <a:pt x="453" y="0"/>
                </a:cubicBezTo>
                <a:cubicBezTo>
                  <a:pt x="433" y="0"/>
                  <a:pt x="414" y="0"/>
                  <a:pt x="395" y="0"/>
                </a:cubicBezTo>
                <a:cubicBezTo>
                  <a:pt x="386" y="60"/>
                  <a:pt x="357" y="103"/>
                  <a:pt x="315" y="134"/>
                </a:cubicBezTo>
                <a:lnTo>
                  <a:pt x="240" y="135"/>
                </a:lnTo>
                <a:cubicBezTo>
                  <a:pt x="205" y="135"/>
                  <a:pt x="175" y="159"/>
                  <a:pt x="166" y="191"/>
                </a:cubicBezTo>
                <a:lnTo>
                  <a:pt x="99" y="191"/>
                </a:lnTo>
                <a:cubicBezTo>
                  <a:pt x="72" y="191"/>
                  <a:pt x="47" y="202"/>
                  <a:pt x="29" y="220"/>
                </a:cubicBezTo>
                <a:cubicBezTo>
                  <a:pt x="11" y="238"/>
                  <a:pt x="0" y="263"/>
                  <a:pt x="0" y="290"/>
                </a:cubicBezTo>
                <a:lnTo>
                  <a:pt x="0" y="645"/>
                </a:lnTo>
                <a:cubicBezTo>
                  <a:pt x="0" y="672"/>
                  <a:pt x="11" y="697"/>
                  <a:pt x="29" y="715"/>
                </a:cubicBezTo>
                <a:cubicBezTo>
                  <a:pt x="47" y="733"/>
                  <a:pt x="72" y="744"/>
                  <a:pt x="99" y="744"/>
                </a:cubicBezTo>
                <a:lnTo>
                  <a:pt x="761" y="744"/>
                </a:lnTo>
                <a:cubicBezTo>
                  <a:pt x="788" y="744"/>
                  <a:pt x="813" y="733"/>
                  <a:pt x="831" y="715"/>
                </a:cubicBezTo>
                <a:cubicBezTo>
                  <a:pt x="849" y="697"/>
                  <a:pt x="860" y="672"/>
                  <a:pt x="860" y="645"/>
                </a:cubicBezTo>
                <a:lnTo>
                  <a:pt x="860" y="290"/>
                </a:lnTo>
                <a:cubicBezTo>
                  <a:pt x="860" y="263"/>
                  <a:pt x="849" y="238"/>
                  <a:pt x="831" y="220"/>
                </a:cubicBezTo>
                <a:close/>
                <a:moveTo>
                  <a:pt x="241" y="155"/>
                </a:moveTo>
                <a:lnTo>
                  <a:pt x="241" y="155"/>
                </a:lnTo>
                <a:lnTo>
                  <a:pt x="608" y="152"/>
                </a:lnTo>
                <a:cubicBezTo>
                  <a:pt x="629" y="152"/>
                  <a:pt x="647" y="164"/>
                  <a:pt x="657" y="181"/>
                </a:cubicBezTo>
                <a:cubicBezTo>
                  <a:pt x="648" y="176"/>
                  <a:pt x="639" y="173"/>
                  <a:pt x="628" y="173"/>
                </a:cubicBezTo>
                <a:lnTo>
                  <a:pt x="262" y="176"/>
                </a:lnTo>
                <a:cubicBezTo>
                  <a:pt x="231" y="176"/>
                  <a:pt x="206" y="200"/>
                  <a:pt x="206" y="231"/>
                </a:cubicBezTo>
                <a:cubicBezTo>
                  <a:pt x="206" y="240"/>
                  <a:pt x="209" y="249"/>
                  <a:pt x="213" y="257"/>
                </a:cubicBezTo>
                <a:cubicBezTo>
                  <a:pt x="197" y="247"/>
                  <a:pt x="186" y="230"/>
                  <a:pt x="186" y="210"/>
                </a:cubicBezTo>
                <a:cubicBezTo>
                  <a:pt x="186" y="179"/>
                  <a:pt x="211" y="155"/>
                  <a:pt x="241" y="155"/>
                </a:cubicBezTo>
                <a:close/>
                <a:moveTo>
                  <a:pt x="807" y="645"/>
                </a:moveTo>
                <a:lnTo>
                  <a:pt x="807" y="645"/>
                </a:lnTo>
                <a:cubicBezTo>
                  <a:pt x="807" y="658"/>
                  <a:pt x="802" y="669"/>
                  <a:pt x="794" y="678"/>
                </a:cubicBezTo>
                <a:cubicBezTo>
                  <a:pt x="785" y="686"/>
                  <a:pt x="774" y="691"/>
                  <a:pt x="761" y="691"/>
                </a:cubicBezTo>
                <a:lnTo>
                  <a:pt x="99" y="691"/>
                </a:lnTo>
                <a:cubicBezTo>
                  <a:pt x="86" y="691"/>
                  <a:pt x="75" y="686"/>
                  <a:pt x="66" y="678"/>
                </a:cubicBezTo>
                <a:cubicBezTo>
                  <a:pt x="58" y="669"/>
                  <a:pt x="53" y="658"/>
                  <a:pt x="53" y="645"/>
                </a:cubicBezTo>
                <a:lnTo>
                  <a:pt x="53" y="290"/>
                </a:lnTo>
                <a:cubicBezTo>
                  <a:pt x="53" y="277"/>
                  <a:pt x="58" y="266"/>
                  <a:pt x="66" y="257"/>
                </a:cubicBezTo>
                <a:cubicBezTo>
                  <a:pt x="75" y="249"/>
                  <a:pt x="86" y="244"/>
                  <a:pt x="99" y="244"/>
                </a:cubicBezTo>
                <a:lnTo>
                  <a:pt x="171" y="244"/>
                </a:lnTo>
                <a:cubicBezTo>
                  <a:pt x="183" y="270"/>
                  <a:pt x="209" y="288"/>
                  <a:pt x="240" y="288"/>
                </a:cubicBezTo>
                <a:lnTo>
                  <a:pt x="607" y="285"/>
                </a:lnTo>
                <a:cubicBezTo>
                  <a:pt x="636" y="285"/>
                  <a:pt x="661" y="268"/>
                  <a:pt x="674" y="244"/>
                </a:cubicBezTo>
                <a:lnTo>
                  <a:pt x="761" y="244"/>
                </a:lnTo>
                <a:cubicBezTo>
                  <a:pt x="774" y="244"/>
                  <a:pt x="785" y="249"/>
                  <a:pt x="794" y="257"/>
                </a:cubicBezTo>
                <a:cubicBezTo>
                  <a:pt x="802" y="266"/>
                  <a:pt x="807" y="277"/>
                  <a:pt x="807" y="290"/>
                </a:cubicBezTo>
                <a:lnTo>
                  <a:pt x="807" y="645"/>
                </a:lnTo>
                <a:close/>
                <a:moveTo>
                  <a:pt x="434" y="515"/>
                </a:moveTo>
                <a:lnTo>
                  <a:pt x="434" y="515"/>
                </a:lnTo>
                <a:lnTo>
                  <a:pt x="609" y="515"/>
                </a:lnTo>
                <a:lnTo>
                  <a:pt x="609" y="537"/>
                </a:lnTo>
                <a:lnTo>
                  <a:pt x="434" y="537"/>
                </a:lnTo>
                <a:lnTo>
                  <a:pt x="434" y="515"/>
                </a:lnTo>
                <a:close/>
                <a:moveTo>
                  <a:pt x="434" y="452"/>
                </a:moveTo>
                <a:lnTo>
                  <a:pt x="434" y="452"/>
                </a:lnTo>
                <a:lnTo>
                  <a:pt x="730" y="452"/>
                </a:lnTo>
                <a:lnTo>
                  <a:pt x="730" y="474"/>
                </a:lnTo>
                <a:lnTo>
                  <a:pt x="434" y="474"/>
                </a:lnTo>
                <a:lnTo>
                  <a:pt x="434" y="452"/>
                </a:lnTo>
                <a:close/>
                <a:moveTo>
                  <a:pt x="434" y="392"/>
                </a:moveTo>
                <a:lnTo>
                  <a:pt x="434" y="392"/>
                </a:lnTo>
                <a:lnTo>
                  <a:pt x="730" y="392"/>
                </a:lnTo>
                <a:lnTo>
                  <a:pt x="730" y="415"/>
                </a:lnTo>
                <a:lnTo>
                  <a:pt x="434" y="415"/>
                </a:lnTo>
                <a:lnTo>
                  <a:pt x="434" y="392"/>
                </a:lnTo>
                <a:close/>
                <a:moveTo>
                  <a:pt x="434" y="332"/>
                </a:moveTo>
                <a:lnTo>
                  <a:pt x="434" y="332"/>
                </a:lnTo>
                <a:lnTo>
                  <a:pt x="730" y="332"/>
                </a:lnTo>
                <a:lnTo>
                  <a:pt x="730" y="355"/>
                </a:lnTo>
                <a:lnTo>
                  <a:pt x="434" y="355"/>
                </a:lnTo>
                <a:lnTo>
                  <a:pt x="434" y="332"/>
                </a:lnTo>
                <a:close/>
                <a:moveTo>
                  <a:pt x="234" y="325"/>
                </a:moveTo>
                <a:lnTo>
                  <a:pt x="234" y="325"/>
                </a:lnTo>
                <a:lnTo>
                  <a:pt x="234" y="325"/>
                </a:lnTo>
                <a:cubicBezTo>
                  <a:pt x="232" y="326"/>
                  <a:pt x="230" y="327"/>
                  <a:pt x="229" y="327"/>
                </a:cubicBezTo>
                <a:lnTo>
                  <a:pt x="228" y="328"/>
                </a:lnTo>
                <a:cubicBezTo>
                  <a:pt x="228" y="328"/>
                  <a:pt x="227" y="328"/>
                  <a:pt x="227" y="328"/>
                </a:cubicBezTo>
                <a:lnTo>
                  <a:pt x="226" y="329"/>
                </a:lnTo>
                <a:cubicBezTo>
                  <a:pt x="225" y="329"/>
                  <a:pt x="224" y="330"/>
                  <a:pt x="223" y="330"/>
                </a:cubicBezTo>
                <a:lnTo>
                  <a:pt x="223" y="330"/>
                </a:lnTo>
                <a:cubicBezTo>
                  <a:pt x="222" y="331"/>
                  <a:pt x="222" y="331"/>
                  <a:pt x="221" y="331"/>
                </a:cubicBezTo>
                <a:lnTo>
                  <a:pt x="221" y="331"/>
                </a:lnTo>
                <a:cubicBezTo>
                  <a:pt x="221" y="332"/>
                  <a:pt x="220" y="332"/>
                  <a:pt x="220" y="332"/>
                </a:cubicBezTo>
                <a:lnTo>
                  <a:pt x="219" y="333"/>
                </a:lnTo>
                <a:cubicBezTo>
                  <a:pt x="219" y="333"/>
                  <a:pt x="219" y="333"/>
                  <a:pt x="218" y="333"/>
                </a:cubicBezTo>
                <a:lnTo>
                  <a:pt x="218" y="334"/>
                </a:lnTo>
                <a:cubicBezTo>
                  <a:pt x="217" y="334"/>
                  <a:pt x="217" y="334"/>
                  <a:pt x="216" y="334"/>
                </a:cubicBezTo>
                <a:lnTo>
                  <a:pt x="216" y="335"/>
                </a:lnTo>
                <a:cubicBezTo>
                  <a:pt x="216" y="335"/>
                  <a:pt x="215" y="335"/>
                  <a:pt x="215" y="336"/>
                </a:cubicBezTo>
                <a:lnTo>
                  <a:pt x="214" y="336"/>
                </a:lnTo>
                <a:cubicBezTo>
                  <a:pt x="214" y="336"/>
                  <a:pt x="214" y="336"/>
                  <a:pt x="213" y="337"/>
                </a:cubicBezTo>
                <a:lnTo>
                  <a:pt x="213" y="337"/>
                </a:lnTo>
                <a:cubicBezTo>
                  <a:pt x="212" y="337"/>
                  <a:pt x="212" y="338"/>
                  <a:pt x="212" y="338"/>
                </a:cubicBezTo>
                <a:lnTo>
                  <a:pt x="211" y="338"/>
                </a:lnTo>
                <a:cubicBezTo>
                  <a:pt x="211" y="339"/>
                  <a:pt x="210" y="339"/>
                  <a:pt x="210" y="339"/>
                </a:cubicBezTo>
                <a:lnTo>
                  <a:pt x="210" y="340"/>
                </a:lnTo>
                <a:cubicBezTo>
                  <a:pt x="209" y="340"/>
                  <a:pt x="209" y="340"/>
                  <a:pt x="209" y="340"/>
                </a:cubicBezTo>
                <a:lnTo>
                  <a:pt x="208" y="341"/>
                </a:lnTo>
                <a:lnTo>
                  <a:pt x="207" y="342"/>
                </a:lnTo>
                <a:lnTo>
                  <a:pt x="207" y="342"/>
                </a:lnTo>
                <a:cubicBezTo>
                  <a:pt x="206" y="342"/>
                  <a:pt x="206" y="343"/>
                  <a:pt x="206" y="343"/>
                </a:cubicBezTo>
                <a:lnTo>
                  <a:pt x="205" y="344"/>
                </a:lnTo>
                <a:cubicBezTo>
                  <a:pt x="205" y="344"/>
                  <a:pt x="204" y="344"/>
                  <a:pt x="204" y="344"/>
                </a:cubicBezTo>
                <a:lnTo>
                  <a:pt x="203" y="345"/>
                </a:lnTo>
                <a:lnTo>
                  <a:pt x="203" y="345"/>
                </a:lnTo>
                <a:cubicBezTo>
                  <a:pt x="188" y="360"/>
                  <a:pt x="177" y="380"/>
                  <a:pt x="174" y="401"/>
                </a:cubicBezTo>
                <a:lnTo>
                  <a:pt x="174" y="401"/>
                </a:lnTo>
                <a:cubicBezTo>
                  <a:pt x="168" y="435"/>
                  <a:pt x="202" y="486"/>
                  <a:pt x="155" y="505"/>
                </a:cubicBezTo>
                <a:lnTo>
                  <a:pt x="384" y="505"/>
                </a:lnTo>
                <a:cubicBezTo>
                  <a:pt x="404" y="438"/>
                  <a:pt x="379" y="313"/>
                  <a:pt x="272" y="317"/>
                </a:cubicBezTo>
                <a:cubicBezTo>
                  <a:pt x="259" y="318"/>
                  <a:pt x="246" y="320"/>
                  <a:pt x="234" y="325"/>
                </a:cubicBezTo>
                <a:close/>
                <a:moveTo>
                  <a:pt x="197" y="407"/>
                </a:moveTo>
                <a:lnTo>
                  <a:pt x="197" y="407"/>
                </a:lnTo>
                <a:lnTo>
                  <a:pt x="271" y="409"/>
                </a:lnTo>
                <a:lnTo>
                  <a:pt x="280" y="363"/>
                </a:lnTo>
                <a:lnTo>
                  <a:pt x="282" y="409"/>
                </a:lnTo>
                <a:lnTo>
                  <a:pt x="289" y="409"/>
                </a:lnTo>
                <a:lnTo>
                  <a:pt x="292" y="386"/>
                </a:lnTo>
                <a:lnTo>
                  <a:pt x="300" y="409"/>
                </a:lnTo>
                <a:lnTo>
                  <a:pt x="348" y="407"/>
                </a:lnTo>
                <a:cubicBezTo>
                  <a:pt x="349" y="411"/>
                  <a:pt x="349" y="415"/>
                  <a:pt x="349" y="419"/>
                </a:cubicBezTo>
                <a:cubicBezTo>
                  <a:pt x="349" y="461"/>
                  <a:pt x="314" y="496"/>
                  <a:pt x="272" y="496"/>
                </a:cubicBezTo>
                <a:cubicBezTo>
                  <a:pt x="229" y="496"/>
                  <a:pt x="195" y="461"/>
                  <a:pt x="195" y="419"/>
                </a:cubicBezTo>
                <a:cubicBezTo>
                  <a:pt x="195" y="412"/>
                  <a:pt x="196" y="406"/>
                  <a:pt x="197" y="400"/>
                </a:cubicBezTo>
                <a:cubicBezTo>
                  <a:pt x="197" y="404"/>
                  <a:pt x="197" y="407"/>
                  <a:pt x="197" y="407"/>
                </a:cubicBezTo>
                <a:close/>
                <a:moveTo>
                  <a:pt x="302" y="424"/>
                </a:moveTo>
                <a:lnTo>
                  <a:pt x="302" y="424"/>
                </a:lnTo>
                <a:cubicBezTo>
                  <a:pt x="307" y="424"/>
                  <a:pt x="312" y="429"/>
                  <a:pt x="312" y="435"/>
                </a:cubicBezTo>
                <a:cubicBezTo>
                  <a:pt x="312" y="440"/>
                  <a:pt x="307" y="445"/>
                  <a:pt x="302" y="445"/>
                </a:cubicBezTo>
                <a:cubicBezTo>
                  <a:pt x="296" y="445"/>
                  <a:pt x="291" y="440"/>
                  <a:pt x="291" y="435"/>
                </a:cubicBezTo>
                <a:cubicBezTo>
                  <a:pt x="291" y="429"/>
                  <a:pt x="296" y="424"/>
                  <a:pt x="302" y="424"/>
                </a:cubicBezTo>
                <a:close/>
                <a:moveTo>
                  <a:pt x="240" y="424"/>
                </a:moveTo>
                <a:lnTo>
                  <a:pt x="240" y="424"/>
                </a:lnTo>
                <a:cubicBezTo>
                  <a:pt x="245" y="424"/>
                  <a:pt x="250" y="429"/>
                  <a:pt x="250" y="435"/>
                </a:cubicBezTo>
                <a:cubicBezTo>
                  <a:pt x="250" y="440"/>
                  <a:pt x="245" y="445"/>
                  <a:pt x="240" y="445"/>
                </a:cubicBezTo>
                <a:cubicBezTo>
                  <a:pt x="234" y="445"/>
                  <a:pt x="229" y="440"/>
                  <a:pt x="229" y="435"/>
                </a:cubicBezTo>
                <a:cubicBezTo>
                  <a:pt x="229" y="429"/>
                  <a:pt x="234" y="424"/>
                  <a:pt x="240" y="424"/>
                </a:cubicBezTo>
                <a:close/>
                <a:moveTo>
                  <a:pt x="394" y="633"/>
                </a:moveTo>
                <a:lnTo>
                  <a:pt x="394" y="633"/>
                </a:lnTo>
                <a:lnTo>
                  <a:pt x="147" y="633"/>
                </a:lnTo>
                <a:cubicBezTo>
                  <a:pt x="149" y="575"/>
                  <a:pt x="185" y="526"/>
                  <a:pt x="234" y="510"/>
                </a:cubicBezTo>
                <a:lnTo>
                  <a:pt x="234" y="613"/>
                </a:lnTo>
                <a:lnTo>
                  <a:pt x="308" y="510"/>
                </a:lnTo>
                <a:cubicBezTo>
                  <a:pt x="356" y="527"/>
                  <a:pt x="392" y="575"/>
                  <a:pt x="394" y="633"/>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35" name="Freeform 30"/>
          <p:cNvSpPr/>
          <p:nvPr/>
        </p:nvSpPr>
        <p:spPr>
          <a:xfrm>
            <a:off x="2327400" y="4649760"/>
            <a:ext cx="635040" cy="585720"/>
          </a:xfrm>
          <a:custGeom>
            <a:avLst/>
            <a:gdLst>
              <a:gd name="textAreaLeft" fmla="*/ 0 w 635040"/>
              <a:gd name="textAreaRight" fmla="*/ 635400 w 635040"/>
              <a:gd name="textAreaTop" fmla="*/ 0 h 585720"/>
              <a:gd name="textAreaBottom" fmla="*/ 586080 h 585720"/>
            </a:gdLst>
            <a:ahLst/>
            <a:rect l="textAreaLeft" t="textAreaTop" r="textAreaRight" b="textAreaBottom"/>
            <a:pathLst>
              <a:path w="891" h="820">
                <a:moveTo>
                  <a:pt x="443" y="207"/>
                </a:moveTo>
                <a:cubicBezTo>
                  <a:pt x="494" y="207"/>
                  <a:pt x="535" y="249"/>
                  <a:pt x="535" y="299"/>
                </a:cubicBezTo>
                <a:cubicBezTo>
                  <a:pt x="535" y="350"/>
                  <a:pt x="494" y="391"/>
                  <a:pt x="443" y="391"/>
                </a:cubicBezTo>
                <a:cubicBezTo>
                  <a:pt x="393" y="391"/>
                  <a:pt x="352" y="350"/>
                  <a:pt x="352" y="299"/>
                </a:cubicBezTo>
                <a:cubicBezTo>
                  <a:pt x="352" y="249"/>
                  <a:pt x="393" y="207"/>
                  <a:pt x="443" y="207"/>
                </a:cubicBezTo>
                <a:close/>
                <a:moveTo>
                  <a:pt x="314" y="820"/>
                </a:moveTo>
                <a:lnTo>
                  <a:pt x="314" y="820"/>
                </a:lnTo>
                <a:cubicBezTo>
                  <a:pt x="296" y="818"/>
                  <a:pt x="289" y="796"/>
                  <a:pt x="295" y="779"/>
                </a:cubicBezTo>
                <a:lnTo>
                  <a:pt x="412" y="458"/>
                </a:lnTo>
                <a:cubicBezTo>
                  <a:pt x="418" y="441"/>
                  <a:pt x="437" y="432"/>
                  <a:pt x="454" y="439"/>
                </a:cubicBezTo>
                <a:cubicBezTo>
                  <a:pt x="463" y="442"/>
                  <a:pt x="470" y="450"/>
                  <a:pt x="473" y="459"/>
                </a:cubicBezTo>
                <a:lnTo>
                  <a:pt x="600" y="778"/>
                </a:lnTo>
                <a:cubicBezTo>
                  <a:pt x="606" y="794"/>
                  <a:pt x="601" y="817"/>
                  <a:pt x="582" y="819"/>
                </a:cubicBezTo>
                <a:lnTo>
                  <a:pt x="314" y="820"/>
                </a:lnTo>
                <a:close/>
                <a:moveTo>
                  <a:pt x="792" y="18"/>
                </a:moveTo>
                <a:lnTo>
                  <a:pt x="792" y="18"/>
                </a:lnTo>
                <a:cubicBezTo>
                  <a:pt x="777" y="1"/>
                  <a:pt x="751" y="0"/>
                  <a:pt x="735" y="15"/>
                </a:cubicBezTo>
                <a:cubicBezTo>
                  <a:pt x="719" y="30"/>
                  <a:pt x="718" y="55"/>
                  <a:pt x="732" y="71"/>
                </a:cubicBezTo>
                <a:cubicBezTo>
                  <a:pt x="787" y="131"/>
                  <a:pt x="811" y="215"/>
                  <a:pt x="811" y="298"/>
                </a:cubicBezTo>
                <a:cubicBezTo>
                  <a:pt x="810" y="388"/>
                  <a:pt x="781" y="475"/>
                  <a:pt x="729" y="528"/>
                </a:cubicBezTo>
                <a:cubicBezTo>
                  <a:pt x="714" y="544"/>
                  <a:pt x="714" y="569"/>
                  <a:pt x="730" y="584"/>
                </a:cubicBezTo>
                <a:cubicBezTo>
                  <a:pt x="746" y="600"/>
                  <a:pt x="771" y="599"/>
                  <a:pt x="787" y="583"/>
                </a:cubicBezTo>
                <a:cubicBezTo>
                  <a:pt x="852" y="515"/>
                  <a:pt x="890" y="408"/>
                  <a:pt x="891" y="299"/>
                </a:cubicBezTo>
                <a:cubicBezTo>
                  <a:pt x="891" y="197"/>
                  <a:pt x="861" y="93"/>
                  <a:pt x="792" y="18"/>
                </a:cubicBezTo>
                <a:close/>
                <a:moveTo>
                  <a:pt x="693" y="174"/>
                </a:moveTo>
                <a:lnTo>
                  <a:pt x="693" y="174"/>
                </a:lnTo>
                <a:cubicBezTo>
                  <a:pt x="683" y="154"/>
                  <a:pt x="659" y="147"/>
                  <a:pt x="639" y="157"/>
                </a:cubicBezTo>
                <a:cubicBezTo>
                  <a:pt x="620" y="167"/>
                  <a:pt x="612" y="191"/>
                  <a:pt x="622" y="210"/>
                </a:cubicBezTo>
                <a:cubicBezTo>
                  <a:pt x="639" y="244"/>
                  <a:pt x="647" y="277"/>
                  <a:pt x="646" y="308"/>
                </a:cubicBezTo>
                <a:cubicBezTo>
                  <a:pt x="644" y="340"/>
                  <a:pt x="634" y="371"/>
                  <a:pt x="615" y="401"/>
                </a:cubicBezTo>
                <a:cubicBezTo>
                  <a:pt x="604" y="419"/>
                  <a:pt x="610" y="444"/>
                  <a:pt x="628" y="456"/>
                </a:cubicBezTo>
                <a:cubicBezTo>
                  <a:pt x="647" y="467"/>
                  <a:pt x="672" y="462"/>
                  <a:pt x="683" y="443"/>
                </a:cubicBezTo>
                <a:cubicBezTo>
                  <a:pt x="709" y="401"/>
                  <a:pt x="724" y="357"/>
                  <a:pt x="725" y="310"/>
                </a:cubicBezTo>
                <a:cubicBezTo>
                  <a:pt x="727" y="266"/>
                  <a:pt x="717" y="220"/>
                  <a:pt x="693" y="174"/>
                </a:cubicBezTo>
                <a:close/>
                <a:moveTo>
                  <a:pt x="100" y="18"/>
                </a:moveTo>
                <a:lnTo>
                  <a:pt x="100" y="18"/>
                </a:lnTo>
                <a:cubicBezTo>
                  <a:pt x="115" y="1"/>
                  <a:pt x="140" y="0"/>
                  <a:pt x="156" y="15"/>
                </a:cubicBezTo>
                <a:cubicBezTo>
                  <a:pt x="173" y="30"/>
                  <a:pt x="174" y="55"/>
                  <a:pt x="159" y="71"/>
                </a:cubicBezTo>
                <a:cubicBezTo>
                  <a:pt x="104" y="131"/>
                  <a:pt x="80" y="215"/>
                  <a:pt x="81" y="298"/>
                </a:cubicBezTo>
                <a:cubicBezTo>
                  <a:pt x="81" y="388"/>
                  <a:pt x="111" y="475"/>
                  <a:pt x="162" y="528"/>
                </a:cubicBezTo>
                <a:cubicBezTo>
                  <a:pt x="178" y="544"/>
                  <a:pt x="177" y="569"/>
                  <a:pt x="161" y="584"/>
                </a:cubicBezTo>
                <a:cubicBezTo>
                  <a:pt x="145" y="600"/>
                  <a:pt x="120" y="599"/>
                  <a:pt x="105" y="583"/>
                </a:cubicBezTo>
                <a:cubicBezTo>
                  <a:pt x="39" y="515"/>
                  <a:pt x="2" y="408"/>
                  <a:pt x="1" y="299"/>
                </a:cubicBezTo>
                <a:cubicBezTo>
                  <a:pt x="0" y="197"/>
                  <a:pt x="31" y="93"/>
                  <a:pt x="100" y="18"/>
                </a:cubicBezTo>
                <a:close/>
                <a:moveTo>
                  <a:pt x="198" y="174"/>
                </a:moveTo>
                <a:lnTo>
                  <a:pt x="198" y="174"/>
                </a:lnTo>
                <a:cubicBezTo>
                  <a:pt x="175" y="220"/>
                  <a:pt x="164" y="266"/>
                  <a:pt x="166" y="310"/>
                </a:cubicBezTo>
                <a:cubicBezTo>
                  <a:pt x="168" y="357"/>
                  <a:pt x="182" y="401"/>
                  <a:pt x="208" y="443"/>
                </a:cubicBezTo>
                <a:cubicBezTo>
                  <a:pt x="220" y="462"/>
                  <a:pt x="244" y="467"/>
                  <a:pt x="263" y="456"/>
                </a:cubicBezTo>
                <a:cubicBezTo>
                  <a:pt x="282" y="444"/>
                  <a:pt x="288" y="419"/>
                  <a:pt x="276" y="401"/>
                </a:cubicBezTo>
                <a:cubicBezTo>
                  <a:pt x="257" y="371"/>
                  <a:pt x="247" y="340"/>
                  <a:pt x="246" y="308"/>
                </a:cubicBezTo>
                <a:cubicBezTo>
                  <a:pt x="245" y="277"/>
                  <a:pt x="252" y="244"/>
                  <a:pt x="270" y="210"/>
                </a:cubicBezTo>
                <a:cubicBezTo>
                  <a:pt x="280" y="191"/>
                  <a:pt x="272" y="167"/>
                  <a:pt x="252" y="157"/>
                </a:cubicBezTo>
                <a:cubicBezTo>
                  <a:pt x="233" y="147"/>
                  <a:pt x="208" y="154"/>
                  <a:pt x="198" y="174"/>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36" name="Freeform 31"/>
          <p:cNvSpPr/>
          <p:nvPr/>
        </p:nvSpPr>
        <p:spPr>
          <a:xfrm>
            <a:off x="3505320" y="4667400"/>
            <a:ext cx="541080" cy="511200"/>
          </a:xfrm>
          <a:custGeom>
            <a:avLst/>
            <a:gdLst>
              <a:gd name="textAreaLeft" fmla="*/ 0 w 541080"/>
              <a:gd name="textAreaRight" fmla="*/ 541440 w 541080"/>
              <a:gd name="textAreaTop" fmla="*/ 0 h 511200"/>
              <a:gd name="textAreaBottom" fmla="*/ 511560 h 511200"/>
            </a:gdLst>
            <a:ahLst/>
            <a:rect l="textAreaLeft" t="textAreaTop" r="textAreaRight" b="textAreaBottom"/>
            <a:pathLst>
              <a:path w="758" h="713">
                <a:moveTo>
                  <a:pt x="23" y="0"/>
                </a:moveTo>
                <a:lnTo>
                  <a:pt x="591" y="0"/>
                </a:lnTo>
                <a:cubicBezTo>
                  <a:pt x="603" y="0"/>
                  <a:pt x="614" y="10"/>
                  <a:pt x="614" y="23"/>
                </a:cubicBezTo>
                <a:lnTo>
                  <a:pt x="614" y="593"/>
                </a:lnTo>
                <a:cubicBezTo>
                  <a:pt x="614" y="594"/>
                  <a:pt x="614" y="595"/>
                  <a:pt x="614" y="595"/>
                </a:cubicBezTo>
                <a:cubicBezTo>
                  <a:pt x="614" y="619"/>
                  <a:pt x="619" y="636"/>
                  <a:pt x="629" y="647"/>
                </a:cubicBezTo>
                <a:cubicBezTo>
                  <a:pt x="639" y="658"/>
                  <a:pt x="655" y="664"/>
                  <a:pt x="676" y="667"/>
                </a:cubicBezTo>
                <a:cubicBezTo>
                  <a:pt x="685" y="665"/>
                  <a:pt x="693" y="660"/>
                  <a:pt x="699" y="650"/>
                </a:cubicBezTo>
                <a:cubicBezTo>
                  <a:pt x="707" y="636"/>
                  <a:pt x="712" y="613"/>
                  <a:pt x="712" y="576"/>
                </a:cubicBezTo>
                <a:cubicBezTo>
                  <a:pt x="712" y="575"/>
                  <a:pt x="712" y="575"/>
                  <a:pt x="712" y="574"/>
                </a:cubicBezTo>
                <a:lnTo>
                  <a:pt x="712" y="59"/>
                </a:lnTo>
                <a:cubicBezTo>
                  <a:pt x="712" y="46"/>
                  <a:pt x="722" y="35"/>
                  <a:pt x="735" y="35"/>
                </a:cubicBezTo>
                <a:cubicBezTo>
                  <a:pt x="748" y="35"/>
                  <a:pt x="758" y="46"/>
                  <a:pt x="758" y="59"/>
                </a:cubicBezTo>
                <a:lnTo>
                  <a:pt x="758" y="574"/>
                </a:lnTo>
                <a:cubicBezTo>
                  <a:pt x="758" y="575"/>
                  <a:pt x="758" y="575"/>
                  <a:pt x="758" y="576"/>
                </a:cubicBezTo>
                <a:cubicBezTo>
                  <a:pt x="758" y="621"/>
                  <a:pt x="751" y="652"/>
                  <a:pt x="739" y="673"/>
                </a:cubicBezTo>
                <a:cubicBezTo>
                  <a:pt x="724" y="698"/>
                  <a:pt x="703" y="710"/>
                  <a:pt x="680" y="713"/>
                </a:cubicBezTo>
                <a:cubicBezTo>
                  <a:pt x="679" y="713"/>
                  <a:pt x="678" y="713"/>
                  <a:pt x="677" y="713"/>
                </a:cubicBezTo>
                <a:lnTo>
                  <a:pt x="677" y="713"/>
                </a:lnTo>
                <a:lnTo>
                  <a:pt x="109" y="713"/>
                </a:lnTo>
                <a:cubicBezTo>
                  <a:pt x="108" y="713"/>
                  <a:pt x="107" y="713"/>
                  <a:pt x="106" y="713"/>
                </a:cubicBezTo>
                <a:cubicBezTo>
                  <a:pt x="76" y="712"/>
                  <a:pt x="50" y="703"/>
                  <a:pt x="31" y="685"/>
                </a:cubicBezTo>
                <a:cubicBezTo>
                  <a:pt x="11" y="666"/>
                  <a:pt x="0" y="639"/>
                  <a:pt x="0" y="599"/>
                </a:cubicBezTo>
                <a:lnTo>
                  <a:pt x="0" y="599"/>
                </a:lnTo>
                <a:lnTo>
                  <a:pt x="0" y="23"/>
                </a:lnTo>
                <a:cubicBezTo>
                  <a:pt x="0" y="10"/>
                  <a:pt x="10" y="0"/>
                  <a:pt x="23" y="0"/>
                </a:cubicBezTo>
                <a:close/>
                <a:moveTo>
                  <a:pt x="106" y="559"/>
                </a:moveTo>
                <a:lnTo>
                  <a:pt x="106" y="559"/>
                </a:lnTo>
                <a:lnTo>
                  <a:pt x="106" y="589"/>
                </a:lnTo>
                <a:lnTo>
                  <a:pt x="226" y="589"/>
                </a:lnTo>
                <a:lnTo>
                  <a:pt x="226" y="559"/>
                </a:lnTo>
                <a:lnTo>
                  <a:pt x="106" y="559"/>
                </a:lnTo>
                <a:close/>
                <a:moveTo>
                  <a:pt x="106" y="490"/>
                </a:moveTo>
                <a:lnTo>
                  <a:pt x="106" y="490"/>
                </a:lnTo>
                <a:lnTo>
                  <a:pt x="106" y="520"/>
                </a:lnTo>
                <a:lnTo>
                  <a:pt x="502" y="520"/>
                </a:lnTo>
                <a:lnTo>
                  <a:pt x="502" y="490"/>
                </a:lnTo>
                <a:lnTo>
                  <a:pt x="106" y="490"/>
                </a:lnTo>
                <a:close/>
                <a:moveTo>
                  <a:pt x="106" y="414"/>
                </a:moveTo>
                <a:lnTo>
                  <a:pt x="106" y="414"/>
                </a:lnTo>
                <a:lnTo>
                  <a:pt x="106" y="444"/>
                </a:lnTo>
                <a:lnTo>
                  <a:pt x="502" y="444"/>
                </a:lnTo>
                <a:lnTo>
                  <a:pt x="502" y="414"/>
                </a:lnTo>
                <a:lnTo>
                  <a:pt x="106" y="414"/>
                </a:lnTo>
                <a:close/>
                <a:moveTo>
                  <a:pt x="106" y="341"/>
                </a:moveTo>
                <a:lnTo>
                  <a:pt x="106" y="341"/>
                </a:lnTo>
                <a:lnTo>
                  <a:pt x="106" y="371"/>
                </a:lnTo>
                <a:lnTo>
                  <a:pt x="502" y="371"/>
                </a:lnTo>
                <a:lnTo>
                  <a:pt x="502" y="341"/>
                </a:lnTo>
                <a:lnTo>
                  <a:pt x="106" y="341"/>
                </a:lnTo>
                <a:close/>
                <a:moveTo>
                  <a:pt x="199" y="283"/>
                </a:moveTo>
                <a:lnTo>
                  <a:pt x="199" y="283"/>
                </a:lnTo>
                <a:lnTo>
                  <a:pt x="199" y="119"/>
                </a:lnTo>
                <a:lnTo>
                  <a:pt x="169" y="119"/>
                </a:lnTo>
                <a:lnTo>
                  <a:pt x="169" y="194"/>
                </a:lnTo>
                <a:lnTo>
                  <a:pt x="148" y="119"/>
                </a:lnTo>
                <a:lnTo>
                  <a:pt x="107" y="119"/>
                </a:lnTo>
                <a:lnTo>
                  <a:pt x="107" y="283"/>
                </a:lnTo>
                <a:lnTo>
                  <a:pt x="137" y="283"/>
                </a:lnTo>
                <a:lnTo>
                  <a:pt x="137" y="196"/>
                </a:lnTo>
                <a:lnTo>
                  <a:pt x="162" y="283"/>
                </a:lnTo>
                <a:lnTo>
                  <a:pt x="199" y="283"/>
                </a:lnTo>
                <a:close/>
                <a:moveTo>
                  <a:pt x="277" y="283"/>
                </a:moveTo>
                <a:lnTo>
                  <a:pt x="277" y="283"/>
                </a:lnTo>
                <a:lnTo>
                  <a:pt x="277" y="262"/>
                </a:lnTo>
                <a:lnTo>
                  <a:pt x="243" y="262"/>
                </a:lnTo>
                <a:lnTo>
                  <a:pt x="243" y="204"/>
                </a:lnTo>
                <a:lnTo>
                  <a:pt x="273" y="204"/>
                </a:lnTo>
                <a:lnTo>
                  <a:pt x="273" y="185"/>
                </a:lnTo>
                <a:lnTo>
                  <a:pt x="243" y="185"/>
                </a:lnTo>
                <a:lnTo>
                  <a:pt x="243" y="140"/>
                </a:lnTo>
                <a:lnTo>
                  <a:pt x="277" y="140"/>
                </a:lnTo>
                <a:lnTo>
                  <a:pt x="277" y="119"/>
                </a:lnTo>
                <a:lnTo>
                  <a:pt x="207" y="119"/>
                </a:lnTo>
                <a:lnTo>
                  <a:pt x="207" y="283"/>
                </a:lnTo>
                <a:lnTo>
                  <a:pt x="277" y="283"/>
                </a:lnTo>
                <a:close/>
                <a:moveTo>
                  <a:pt x="425" y="119"/>
                </a:moveTo>
                <a:lnTo>
                  <a:pt x="425" y="119"/>
                </a:lnTo>
                <a:lnTo>
                  <a:pt x="396" y="119"/>
                </a:lnTo>
                <a:lnTo>
                  <a:pt x="384" y="195"/>
                </a:lnTo>
                <a:lnTo>
                  <a:pt x="374" y="119"/>
                </a:lnTo>
                <a:lnTo>
                  <a:pt x="334" y="119"/>
                </a:lnTo>
                <a:lnTo>
                  <a:pt x="321" y="195"/>
                </a:lnTo>
                <a:lnTo>
                  <a:pt x="312" y="119"/>
                </a:lnTo>
                <a:lnTo>
                  <a:pt x="280" y="119"/>
                </a:lnTo>
                <a:lnTo>
                  <a:pt x="300" y="283"/>
                </a:lnTo>
                <a:lnTo>
                  <a:pt x="337" y="283"/>
                </a:lnTo>
                <a:lnTo>
                  <a:pt x="349" y="193"/>
                </a:lnTo>
                <a:lnTo>
                  <a:pt x="362" y="283"/>
                </a:lnTo>
                <a:lnTo>
                  <a:pt x="404" y="283"/>
                </a:lnTo>
                <a:lnTo>
                  <a:pt x="425" y="119"/>
                </a:lnTo>
                <a:close/>
                <a:moveTo>
                  <a:pt x="430" y="217"/>
                </a:moveTo>
                <a:lnTo>
                  <a:pt x="430" y="217"/>
                </a:lnTo>
                <a:lnTo>
                  <a:pt x="430" y="255"/>
                </a:lnTo>
                <a:cubicBezTo>
                  <a:pt x="430" y="274"/>
                  <a:pt x="443" y="284"/>
                  <a:pt x="470" y="284"/>
                </a:cubicBezTo>
                <a:cubicBezTo>
                  <a:pt x="498" y="284"/>
                  <a:pt x="511" y="274"/>
                  <a:pt x="511" y="252"/>
                </a:cubicBezTo>
                <a:lnTo>
                  <a:pt x="511" y="231"/>
                </a:lnTo>
                <a:cubicBezTo>
                  <a:pt x="511" y="224"/>
                  <a:pt x="509" y="217"/>
                  <a:pt x="505" y="211"/>
                </a:cubicBezTo>
                <a:cubicBezTo>
                  <a:pt x="501" y="206"/>
                  <a:pt x="492" y="196"/>
                  <a:pt x="477" y="181"/>
                </a:cubicBezTo>
                <a:cubicBezTo>
                  <a:pt x="469" y="173"/>
                  <a:pt x="465" y="166"/>
                  <a:pt x="465" y="160"/>
                </a:cubicBezTo>
                <a:lnTo>
                  <a:pt x="464" y="150"/>
                </a:lnTo>
                <a:cubicBezTo>
                  <a:pt x="464" y="143"/>
                  <a:pt x="466" y="140"/>
                  <a:pt x="470" y="140"/>
                </a:cubicBezTo>
                <a:cubicBezTo>
                  <a:pt x="474" y="140"/>
                  <a:pt x="476" y="142"/>
                  <a:pt x="476" y="145"/>
                </a:cubicBezTo>
                <a:lnTo>
                  <a:pt x="476" y="175"/>
                </a:lnTo>
                <a:lnTo>
                  <a:pt x="508" y="175"/>
                </a:lnTo>
                <a:lnTo>
                  <a:pt x="508" y="147"/>
                </a:lnTo>
                <a:cubicBezTo>
                  <a:pt x="508" y="128"/>
                  <a:pt x="496" y="118"/>
                  <a:pt x="471" y="118"/>
                </a:cubicBezTo>
                <a:cubicBezTo>
                  <a:pt x="444" y="118"/>
                  <a:pt x="430" y="128"/>
                  <a:pt x="430" y="150"/>
                </a:cubicBezTo>
                <a:lnTo>
                  <a:pt x="430" y="168"/>
                </a:lnTo>
                <a:cubicBezTo>
                  <a:pt x="430" y="174"/>
                  <a:pt x="432" y="180"/>
                  <a:pt x="435" y="185"/>
                </a:cubicBezTo>
                <a:cubicBezTo>
                  <a:pt x="439" y="190"/>
                  <a:pt x="449" y="200"/>
                  <a:pt x="464" y="215"/>
                </a:cubicBezTo>
                <a:cubicBezTo>
                  <a:pt x="472" y="223"/>
                  <a:pt x="476" y="230"/>
                  <a:pt x="476" y="236"/>
                </a:cubicBezTo>
                <a:lnTo>
                  <a:pt x="476" y="255"/>
                </a:lnTo>
                <a:cubicBezTo>
                  <a:pt x="476" y="259"/>
                  <a:pt x="474" y="261"/>
                  <a:pt x="469" y="261"/>
                </a:cubicBezTo>
                <a:cubicBezTo>
                  <a:pt x="465" y="261"/>
                  <a:pt x="462" y="259"/>
                  <a:pt x="462" y="255"/>
                </a:cubicBezTo>
                <a:lnTo>
                  <a:pt x="462" y="217"/>
                </a:lnTo>
                <a:lnTo>
                  <a:pt x="430" y="217"/>
                </a:lnTo>
                <a:close/>
                <a:moveTo>
                  <a:pt x="643" y="36"/>
                </a:moveTo>
                <a:lnTo>
                  <a:pt x="643" y="36"/>
                </a:lnTo>
                <a:lnTo>
                  <a:pt x="643" y="601"/>
                </a:lnTo>
                <a:cubicBezTo>
                  <a:pt x="643" y="614"/>
                  <a:pt x="653" y="625"/>
                  <a:pt x="666" y="625"/>
                </a:cubicBezTo>
                <a:cubicBezTo>
                  <a:pt x="679" y="625"/>
                  <a:pt x="689" y="614"/>
                  <a:pt x="689" y="601"/>
                </a:cubicBezTo>
                <a:lnTo>
                  <a:pt x="689" y="36"/>
                </a:lnTo>
                <a:cubicBezTo>
                  <a:pt x="689" y="24"/>
                  <a:pt x="679" y="13"/>
                  <a:pt x="666" y="13"/>
                </a:cubicBezTo>
                <a:cubicBezTo>
                  <a:pt x="653" y="13"/>
                  <a:pt x="643" y="24"/>
                  <a:pt x="643" y="36"/>
                </a:cubicBezTo>
                <a:close/>
                <a:moveTo>
                  <a:pt x="567" y="46"/>
                </a:moveTo>
                <a:lnTo>
                  <a:pt x="567" y="46"/>
                </a:lnTo>
                <a:lnTo>
                  <a:pt x="46" y="46"/>
                </a:lnTo>
                <a:lnTo>
                  <a:pt x="46" y="599"/>
                </a:lnTo>
                <a:lnTo>
                  <a:pt x="46" y="599"/>
                </a:lnTo>
                <a:cubicBezTo>
                  <a:pt x="46" y="625"/>
                  <a:pt x="52" y="642"/>
                  <a:pt x="63" y="652"/>
                </a:cubicBezTo>
                <a:cubicBezTo>
                  <a:pt x="73" y="661"/>
                  <a:pt x="89" y="666"/>
                  <a:pt x="108" y="667"/>
                </a:cubicBezTo>
                <a:lnTo>
                  <a:pt x="109" y="667"/>
                </a:lnTo>
                <a:lnTo>
                  <a:pt x="586" y="667"/>
                </a:lnTo>
                <a:cubicBezTo>
                  <a:pt x="574" y="648"/>
                  <a:pt x="567" y="624"/>
                  <a:pt x="568" y="595"/>
                </a:cubicBezTo>
                <a:cubicBezTo>
                  <a:pt x="567" y="594"/>
                  <a:pt x="567" y="594"/>
                  <a:pt x="567" y="593"/>
                </a:cubicBezTo>
                <a:lnTo>
                  <a:pt x="567" y="46"/>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37" name="Freeform 32"/>
          <p:cNvSpPr/>
          <p:nvPr/>
        </p:nvSpPr>
        <p:spPr>
          <a:xfrm>
            <a:off x="4579920" y="4503600"/>
            <a:ext cx="625320" cy="679680"/>
          </a:xfrm>
          <a:custGeom>
            <a:avLst/>
            <a:gdLst>
              <a:gd name="textAreaLeft" fmla="*/ 0 w 625320"/>
              <a:gd name="textAreaRight" fmla="*/ 625680 w 625320"/>
              <a:gd name="textAreaTop" fmla="*/ 0 h 679680"/>
              <a:gd name="textAreaBottom" fmla="*/ 680040 h 679680"/>
            </a:gdLst>
            <a:ahLst/>
            <a:rect l="textAreaLeft" t="textAreaTop" r="textAreaRight" b="textAreaBottom"/>
            <a:pathLst>
              <a:path w="880" h="952">
                <a:moveTo>
                  <a:pt x="104" y="286"/>
                </a:moveTo>
                <a:lnTo>
                  <a:pt x="776" y="286"/>
                </a:lnTo>
                <a:cubicBezTo>
                  <a:pt x="805" y="286"/>
                  <a:pt x="832" y="299"/>
                  <a:pt x="851" y="320"/>
                </a:cubicBezTo>
                <a:cubicBezTo>
                  <a:pt x="869" y="340"/>
                  <a:pt x="880" y="368"/>
                  <a:pt x="880" y="398"/>
                </a:cubicBezTo>
                <a:lnTo>
                  <a:pt x="880" y="745"/>
                </a:lnTo>
                <a:cubicBezTo>
                  <a:pt x="880" y="775"/>
                  <a:pt x="869" y="803"/>
                  <a:pt x="851" y="823"/>
                </a:cubicBezTo>
                <a:cubicBezTo>
                  <a:pt x="832" y="844"/>
                  <a:pt x="805" y="857"/>
                  <a:pt x="776" y="857"/>
                </a:cubicBezTo>
                <a:lnTo>
                  <a:pt x="104" y="857"/>
                </a:lnTo>
                <a:cubicBezTo>
                  <a:pt x="74" y="857"/>
                  <a:pt x="48" y="844"/>
                  <a:pt x="29" y="823"/>
                </a:cubicBezTo>
                <a:cubicBezTo>
                  <a:pt x="11" y="803"/>
                  <a:pt x="0" y="775"/>
                  <a:pt x="0" y="745"/>
                </a:cubicBezTo>
                <a:lnTo>
                  <a:pt x="0" y="398"/>
                </a:lnTo>
                <a:cubicBezTo>
                  <a:pt x="0" y="368"/>
                  <a:pt x="11" y="340"/>
                  <a:pt x="29" y="320"/>
                </a:cubicBezTo>
                <a:cubicBezTo>
                  <a:pt x="48" y="299"/>
                  <a:pt x="74" y="286"/>
                  <a:pt x="104" y="286"/>
                </a:cubicBezTo>
                <a:close/>
                <a:moveTo>
                  <a:pt x="776" y="341"/>
                </a:moveTo>
                <a:lnTo>
                  <a:pt x="776" y="341"/>
                </a:lnTo>
                <a:lnTo>
                  <a:pt x="104" y="341"/>
                </a:lnTo>
                <a:cubicBezTo>
                  <a:pt x="91" y="341"/>
                  <a:pt x="79" y="347"/>
                  <a:pt x="70" y="357"/>
                </a:cubicBezTo>
                <a:cubicBezTo>
                  <a:pt x="61" y="367"/>
                  <a:pt x="55" y="382"/>
                  <a:pt x="55" y="398"/>
                </a:cubicBezTo>
                <a:lnTo>
                  <a:pt x="55" y="745"/>
                </a:lnTo>
                <a:cubicBezTo>
                  <a:pt x="55" y="761"/>
                  <a:pt x="61" y="776"/>
                  <a:pt x="70" y="786"/>
                </a:cubicBezTo>
                <a:cubicBezTo>
                  <a:pt x="79" y="796"/>
                  <a:pt x="91" y="802"/>
                  <a:pt x="104" y="802"/>
                </a:cubicBezTo>
                <a:lnTo>
                  <a:pt x="776" y="802"/>
                </a:lnTo>
                <a:cubicBezTo>
                  <a:pt x="789" y="802"/>
                  <a:pt x="801" y="796"/>
                  <a:pt x="809" y="786"/>
                </a:cubicBezTo>
                <a:cubicBezTo>
                  <a:pt x="819" y="776"/>
                  <a:pt x="825" y="761"/>
                  <a:pt x="825" y="745"/>
                </a:cubicBezTo>
                <a:lnTo>
                  <a:pt x="825" y="398"/>
                </a:lnTo>
                <a:cubicBezTo>
                  <a:pt x="825" y="382"/>
                  <a:pt x="819" y="367"/>
                  <a:pt x="809" y="357"/>
                </a:cubicBezTo>
                <a:cubicBezTo>
                  <a:pt x="801" y="347"/>
                  <a:pt x="789" y="341"/>
                  <a:pt x="776" y="341"/>
                </a:cubicBezTo>
                <a:close/>
                <a:moveTo>
                  <a:pt x="177" y="118"/>
                </a:moveTo>
                <a:lnTo>
                  <a:pt x="244" y="219"/>
                </a:lnTo>
                <a:lnTo>
                  <a:pt x="244" y="219"/>
                </a:lnTo>
                <a:cubicBezTo>
                  <a:pt x="247" y="224"/>
                  <a:pt x="251" y="228"/>
                  <a:pt x="254" y="230"/>
                </a:cubicBezTo>
                <a:cubicBezTo>
                  <a:pt x="255" y="230"/>
                  <a:pt x="255" y="231"/>
                  <a:pt x="255" y="230"/>
                </a:cubicBezTo>
                <a:cubicBezTo>
                  <a:pt x="256" y="230"/>
                  <a:pt x="257" y="230"/>
                  <a:pt x="258" y="229"/>
                </a:cubicBezTo>
                <a:cubicBezTo>
                  <a:pt x="262" y="227"/>
                  <a:pt x="266" y="222"/>
                  <a:pt x="270" y="215"/>
                </a:cubicBezTo>
                <a:lnTo>
                  <a:pt x="271" y="215"/>
                </a:lnTo>
                <a:lnTo>
                  <a:pt x="401" y="0"/>
                </a:lnTo>
                <a:lnTo>
                  <a:pt x="448" y="29"/>
                </a:lnTo>
                <a:lnTo>
                  <a:pt x="318" y="243"/>
                </a:lnTo>
                <a:lnTo>
                  <a:pt x="318" y="243"/>
                </a:lnTo>
                <a:cubicBezTo>
                  <a:pt x="310" y="257"/>
                  <a:pt x="299" y="269"/>
                  <a:pt x="288" y="276"/>
                </a:cubicBezTo>
                <a:cubicBezTo>
                  <a:pt x="279" y="282"/>
                  <a:pt x="268" y="285"/>
                  <a:pt x="258" y="286"/>
                </a:cubicBezTo>
                <a:cubicBezTo>
                  <a:pt x="247" y="286"/>
                  <a:pt x="236" y="284"/>
                  <a:pt x="226" y="278"/>
                </a:cubicBezTo>
                <a:cubicBezTo>
                  <a:pt x="216" y="272"/>
                  <a:pt x="206" y="262"/>
                  <a:pt x="197" y="249"/>
                </a:cubicBezTo>
                <a:lnTo>
                  <a:pt x="131" y="148"/>
                </a:lnTo>
                <a:lnTo>
                  <a:pt x="177" y="118"/>
                </a:lnTo>
                <a:close/>
                <a:moveTo>
                  <a:pt x="296" y="877"/>
                </a:moveTo>
                <a:lnTo>
                  <a:pt x="613" y="877"/>
                </a:lnTo>
                <a:cubicBezTo>
                  <a:pt x="643" y="877"/>
                  <a:pt x="667" y="901"/>
                  <a:pt x="667" y="931"/>
                </a:cubicBezTo>
                <a:lnTo>
                  <a:pt x="667" y="952"/>
                </a:lnTo>
                <a:lnTo>
                  <a:pt x="242" y="952"/>
                </a:lnTo>
                <a:lnTo>
                  <a:pt x="242" y="931"/>
                </a:lnTo>
                <a:cubicBezTo>
                  <a:pt x="242" y="901"/>
                  <a:pt x="266" y="877"/>
                  <a:pt x="296" y="877"/>
                </a:cubicBezTo>
                <a:close/>
                <a:moveTo>
                  <a:pt x="278" y="409"/>
                </a:moveTo>
                <a:cubicBezTo>
                  <a:pt x="304" y="409"/>
                  <a:pt x="326" y="419"/>
                  <a:pt x="343" y="436"/>
                </a:cubicBezTo>
                <a:cubicBezTo>
                  <a:pt x="359" y="452"/>
                  <a:pt x="370" y="475"/>
                  <a:pt x="370" y="500"/>
                </a:cubicBezTo>
                <a:cubicBezTo>
                  <a:pt x="370" y="525"/>
                  <a:pt x="359" y="548"/>
                  <a:pt x="343" y="565"/>
                </a:cubicBezTo>
                <a:cubicBezTo>
                  <a:pt x="326" y="581"/>
                  <a:pt x="304" y="591"/>
                  <a:pt x="278" y="591"/>
                </a:cubicBezTo>
                <a:cubicBezTo>
                  <a:pt x="253" y="591"/>
                  <a:pt x="230" y="581"/>
                  <a:pt x="214" y="565"/>
                </a:cubicBezTo>
                <a:cubicBezTo>
                  <a:pt x="197" y="548"/>
                  <a:pt x="187" y="525"/>
                  <a:pt x="187" y="500"/>
                </a:cubicBezTo>
                <a:cubicBezTo>
                  <a:pt x="187" y="475"/>
                  <a:pt x="197" y="452"/>
                  <a:pt x="214" y="436"/>
                </a:cubicBezTo>
                <a:cubicBezTo>
                  <a:pt x="230" y="419"/>
                  <a:pt x="253" y="409"/>
                  <a:pt x="278" y="409"/>
                </a:cubicBezTo>
                <a:close/>
                <a:moveTo>
                  <a:pt x="275" y="633"/>
                </a:moveTo>
                <a:lnTo>
                  <a:pt x="275" y="633"/>
                </a:lnTo>
                <a:lnTo>
                  <a:pt x="255" y="727"/>
                </a:lnTo>
                <a:lnTo>
                  <a:pt x="277" y="746"/>
                </a:lnTo>
                <a:lnTo>
                  <a:pt x="299" y="727"/>
                </a:lnTo>
                <a:lnTo>
                  <a:pt x="280" y="633"/>
                </a:lnTo>
                <a:lnTo>
                  <a:pt x="288" y="627"/>
                </a:lnTo>
                <a:lnTo>
                  <a:pt x="277" y="620"/>
                </a:lnTo>
                <a:lnTo>
                  <a:pt x="266" y="627"/>
                </a:lnTo>
                <a:lnTo>
                  <a:pt x="275" y="633"/>
                </a:lnTo>
                <a:close/>
                <a:moveTo>
                  <a:pt x="316" y="598"/>
                </a:moveTo>
                <a:lnTo>
                  <a:pt x="316" y="598"/>
                </a:lnTo>
                <a:cubicBezTo>
                  <a:pt x="368" y="616"/>
                  <a:pt x="406" y="667"/>
                  <a:pt x="408" y="729"/>
                </a:cubicBezTo>
                <a:lnTo>
                  <a:pt x="314" y="729"/>
                </a:lnTo>
                <a:lnTo>
                  <a:pt x="293" y="624"/>
                </a:lnTo>
                <a:lnTo>
                  <a:pt x="316" y="598"/>
                </a:lnTo>
                <a:close/>
                <a:moveTo>
                  <a:pt x="240" y="729"/>
                </a:moveTo>
                <a:lnTo>
                  <a:pt x="240" y="729"/>
                </a:lnTo>
                <a:lnTo>
                  <a:pt x="147" y="729"/>
                </a:lnTo>
                <a:cubicBezTo>
                  <a:pt x="149" y="667"/>
                  <a:pt x="187" y="616"/>
                  <a:pt x="238" y="598"/>
                </a:cubicBezTo>
                <a:lnTo>
                  <a:pt x="261" y="624"/>
                </a:lnTo>
                <a:lnTo>
                  <a:pt x="240" y="729"/>
                </a:lnTo>
                <a:close/>
                <a:moveTo>
                  <a:pt x="290" y="466"/>
                </a:moveTo>
                <a:lnTo>
                  <a:pt x="290" y="466"/>
                </a:lnTo>
                <a:cubicBezTo>
                  <a:pt x="288" y="467"/>
                  <a:pt x="286" y="468"/>
                  <a:pt x="285" y="469"/>
                </a:cubicBezTo>
                <a:cubicBezTo>
                  <a:pt x="255" y="483"/>
                  <a:pt x="217" y="486"/>
                  <a:pt x="200" y="486"/>
                </a:cubicBezTo>
                <a:cubicBezTo>
                  <a:pt x="199" y="490"/>
                  <a:pt x="199" y="495"/>
                  <a:pt x="199" y="500"/>
                </a:cubicBezTo>
                <a:cubicBezTo>
                  <a:pt x="199" y="522"/>
                  <a:pt x="208" y="541"/>
                  <a:pt x="222" y="556"/>
                </a:cubicBezTo>
                <a:cubicBezTo>
                  <a:pt x="237" y="570"/>
                  <a:pt x="257" y="579"/>
                  <a:pt x="278" y="579"/>
                </a:cubicBezTo>
                <a:cubicBezTo>
                  <a:pt x="300" y="579"/>
                  <a:pt x="320" y="570"/>
                  <a:pt x="335" y="556"/>
                </a:cubicBezTo>
                <a:cubicBezTo>
                  <a:pt x="349" y="541"/>
                  <a:pt x="358" y="522"/>
                  <a:pt x="358" y="500"/>
                </a:cubicBezTo>
                <a:cubicBezTo>
                  <a:pt x="358" y="494"/>
                  <a:pt x="357" y="489"/>
                  <a:pt x="356" y="484"/>
                </a:cubicBezTo>
                <a:cubicBezTo>
                  <a:pt x="349" y="484"/>
                  <a:pt x="342" y="483"/>
                  <a:pt x="335" y="482"/>
                </a:cubicBezTo>
                <a:cubicBezTo>
                  <a:pt x="319" y="479"/>
                  <a:pt x="303" y="473"/>
                  <a:pt x="290" y="466"/>
                </a:cubicBezTo>
                <a:close/>
                <a:moveTo>
                  <a:pt x="514" y="602"/>
                </a:moveTo>
                <a:lnTo>
                  <a:pt x="483" y="602"/>
                </a:lnTo>
                <a:lnTo>
                  <a:pt x="463" y="530"/>
                </a:lnTo>
                <a:lnTo>
                  <a:pt x="463" y="602"/>
                </a:lnTo>
                <a:lnTo>
                  <a:pt x="439" y="602"/>
                </a:lnTo>
                <a:lnTo>
                  <a:pt x="439" y="467"/>
                </a:lnTo>
                <a:lnTo>
                  <a:pt x="472" y="467"/>
                </a:lnTo>
                <a:lnTo>
                  <a:pt x="489" y="529"/>
                </a:lnTo>
                <a:lnTo>
                  <a:pt x="489" y="467"/>
                </a:lnTo>
                <a:lnTo>
                  <a:pt x="514" y="467"/>
                </a:lnTo>
                <a:lnTo>
                  <a:pt x="514" y="602"/>
                </a:lnTo>
                <a:close/>
                <a:moveTo>
                  <a:pt x="578" y="602"/>
                </a:moveTo>
                <a:lnTo>
                  <a:pt x="578" y="602"/>
                </a:lnTo>
                <a:lnTo>
                  <a:pt x="520" y="602"/>
                </a:lnTo>
                <a:lnTo>
                  <a:pt x="520" y="467"/>
                </a:lnTo>
                <a:lnTo>
                  <a:pt x="577" y="467"/>
                </a:lnTo>
                <a:lnTo>
                  <a:pt x="577" y="485"/>
                </a:lnTo>
                <a:lnTo>
                  <a:pt x="550" y="485"/>
                </a:lnTo>
                <a:lnTo>
                  <a:pt x="550" y="521"/>
                </a:lnTo>
                <a:lnTo>
                  <a:pt x="575" y="521"/>
                </a:lnTo>
                <a:lnTo>
                  <a:pt x="575" y="537"/>
                </a:lnTo>
                <a:lnTo>
                  <a:pt x="550" y="537"/>
                </a:lnTo>
                <a:lnTo>
                  <a:pt x="550" y="584"/>
                </a:lnTo>
                <a:lnTo>
                  <a:pt x="578" y="584"/>
                </a:lnTo>
                <a:lnTo>
                  <a:pt x="578" y="602"/>
                </a:lnTo>
                <a:close/>
                <a:moveTo>
                  <a:pt x="699" y="467"/>
                </a:moveTo>
                <a:lnTo>
                  <a:pt x="699" y="467"/>
                </a:lnTo>
                <a:lnTo>
                  <a:pt x="682" y="602"/>
                </a:lnTo>
                <a:lnTo>
                  <a:pt x="647" y="602"/>
                </a:lnTo>
                <a:lnTo>
                  <a:pt x="637" y="528"/>
                </a:lnTo>
                <a:lnTo>
                  <a:pt x="627" y="602"/>
                </a:lnTo>
                <a:lnTo>
                  <a:pt x="597" y="602"/>
                </a:lnTo>
                <a:lnTo>
                  <a:pt x="580" y="467"/>
                </a:lnTo>
                <a:lnTo>
                  <a:pt x="607" y="467"/>
                </a:lnTo>
                <a:lnTo>
                  <a:pt x="614" y="529"/>
                </a:lnTo>
                <a:lnTo>
                  <a:pt x="624" y="467"/>
                </a:lnTo>
                <a:lnTo>
                  <a:pt x="657" y="467"/>
                </a:lnTo>
                <a:lnTo>
                  <a:pt x="665" y="529"/>
                </a:lnTo>
                <a:lnTo>
                  <a:pt x="675" y="467"/>
                </a:lnTo>
                <a:lnTo>
                  <a:pt x="699" y="467"/>
                </a:lnTo>
                <a:close/>
                <a:moveTo>
                  <a:pt x="703" y="548"/>
                </a:moveTo>
                <a:lnTo>
                  <a:pt x="703" y="548"/>
                </a:lnTo>
                <a:lnTo>
                  <a:pt x="730" y="548"/>
                </a:lnTo>
                <a:lnTo>
                  <a:pt x="730" y="579"/>
                </a:lnTo>
                <a:cubicBezTo>
                  <a:pt x="730" y="582"/>
                  <a:pt x="732" y="583"/>
                  <a:pt x="735" y="583"/>
                </a:cubicBezTo>
                <a:cubicBezTo>
                  <a:pt x="739" y="583"/>
                  <a:pt x="741" y="582"/>
                  <a:pt x="741" y="579"/>
                </a:cubicBezTo>
                <a:lnTo>
                  <a:pt x="741" y="563"/>
                </a:lnTo>
                <a:cubicBezTo>
                  <a:pt x="741" y="558"/>
                  <a:pt x="737" y="552"/>
                  <a:pt x="731" y="546"/>
                </a:cubicBezTo>
                <a:cubicBezTo>
                  <a:pt x="718" y="533"/>
                  <a:pt x="711" y="525"/>
                  <a:pt x="708" y="521"/>
                </a:cubicBezTo>
                <a:cubicBezTo>
                  <a:pt x="704" y="517"/>
                  <a:pt x="703" y="512"/>
                  <a:pt x="703" y="507"/>
                </a:cubicBezTo>
                <a:lnTo>
                  <a:pt x="703" y="492"/>
                </a:lnTo>
                <a:cubicBezTo>
                  <a:pt x="703" y="475"/>
                  <a:pt x="714" y="466"/>
                  <a:pt x="737" y="466"/>
                </a:cubicBezTo>
                <a:cubicBezTo>
                  <a:pt x="757" y="466"/>
                  <a:pt x="767" y="474"/>
                  <a:pt x="767" y="490"/>
                </a:cubicBezTo>
                <a:lnTo>
                  <a:pt x="767" y="513"/>
                </a:lnTo>
                <a:lnTo>
                  <a:pt x="741" y="513"/>
                </a:lnTo>
                <a:lnTo>
                  <a:pt x="741" y="488"/>
                </a:lnTo>
                <a:cubicBezTo>
                  <a:pt x="741" y="486"/>
                  <a:pt x="739" y="484"/>
                  <a:pt x="736" y="484"/>
                </a:cubicBezTo>
                <a:cubicBezTo>
                  <a:pt x="733" y="484"/>
                  <a:pt x="731" y="487"/>
                  <a:pt x="731" y="492"/>
                </a:cubicBezTo>
                <a:lnTo>
                  <a:pt x="732" y="501"/>
                </a:lnTo>
                <a:cubicBezTo>
                  <a:pt x="732" y="506"/>
                  <a:pt x="735" y="512"/>
                  <a:pt x="742" y="518"/>
                </a:cubicBezTo>
                <a:cubicBezTo>
                  <a:pt x="754" y="530"/>
                  <a:pt x="762" y="538"/>
                  <a:pt x="765" y="543"/>
                </a:cubicBezTo>
                <a:cubicBezTo>
                  <a:pt x="768" y="548"/>
                  <a:pt x="770" y="553"/>
                  <a:pt x="770" y="559"/>
                </a:cubicBezTo>
                <a:lnTo>
                  <a:pt x="770" y="576"/>
                </a:lnTo>
                <a:cubicBezTo>
                  <a:pt x="770" y="594"/>
                  <a:pt x="759" y="603"/>
                  <a:pt x="736" y="603"/>
                </a:cubicBezTo>
                <a:cubicBezTo>
                  <a:pt x="714" y="603"/>
                  <a:pt x="703" y="595"/>
                  <a:pt x="703" y="578"/>
                </a:cubicBezTo>
                <a:lnTo>
                  <a:pt x="703" y="54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38" name="Freeform 33"/>
          <p:cNvSpPr/>
          <p:nvPr/>
        </p:nvSpPr>
        <p:spPr>
          <a:xfrm>
            <a:off x="5829480" y="4614840"/>
            <a:ext cx="556920" cy="557280"/>
          </a:xfrm>
          <a:custGeom>
            <a:avLst/>
            <a:gdLst>
              <a:gd name="textAreaLeft" fmla="*/ 0 w 556920"/>
              <a:gd name="textAreaRight" fmla="*/ 557280 w 556920"/>
              <a:gd name="textAreaTop" fmla="*/ 0 h 557280"/>
              <a:gd name="textAreaBottom" fmla="*/ 557640 h 557280"/>
            </a:gdLst>
            <a:ahLst/>
            <a:rect l="textAreaLeft" t="textAreaTop" r="textAreaRight" b="textAreaBottom"/>
            <a:pathLst>
              <a:path w="782" h="782">
                <a:moveTo>
                  <a:pt x="391" y="281"/>
                </a:moveTo>
                <a:cubicBezTo>
                  <a:pt x="331" y="281"/>
                  <a:pt x="282" y="331"/>
                  <a:pt x="282" y="391"/>
                </a:cubicBezTo>
                <a:cubicBezTo>
                  <a:pt x="282" y="452"/>
                  <a:pt x="331" y="501"/>
                  <a:pt x="391" y="501"/>
                </a:cubicBezTo>
                <a:cubicBezTo>
                  <a:pt x="452" y="501"/>
                  <a:pt x="501" y="452"/>
                  <a:pt x="501" y="391"/>
                </a:cubicBezTo>
                <a:cubicBezTo>
                  <a:pt x="501" y="370"/>
                  <a:pt x="495" y="350"/>
                  <a:pt x="485" y="333"/>
                </a:cubicBezTo>
                <a:lnTo>
                  <a:pt x="610" y="208"/>
                </a:lnTo>
                <a:lnTo>
                  <a:pt x="679" y="208"/>
                </a:lnTo>
                <a:lnTo>
                  <a:pt x="782" y="104"/>
                </a:lnTo>
                <a:lnTo>
                  <a:pt x="682" y="100"/>
                </a:lnTo>
                <a:lnTo>
                  <a:pt x="679" y="0"/>
                </a:lnTo>
                <a:lnTo>
                  <a:pt x="575" y="104"/>
                </a:lnTo>
                <a:lnTo>
                  <a:pt x="575" y="173"/>
                </a:lnTo>
                <a:lnTo>
                  <a:pt x="450" y="298"/>
                </a:lnTo>
                <a:cubicBezTo>
                  <a:pt x="433" y="288"/>
                  <a:pt x="413" y="281"/>
                  <a:pt x="391" y="281"/>
                </a:cubicBezTo>
                <a:close/>
                <a:moveTo>
                  <a:pt x="569" y="391"/>
                </a:moveTo>
                <a:cubicBezTo>
                  <a:pt x="569" y="489"/>
                  <a:pt x="489" y="569"/>
                  <a:pt x="391" y="569"/>
                </a:cubicBezTo>
                <a:cubicBezTo>
                  <a:pt x="294" y="569"/>
                  <a:pt x="214" y="489"/>
                  <a:pt x="214" y="391"/>
                </a:cubicBezTo>
                <a:cubicBezTo>
                  <a:pt x="214" y="294"/>
                  <a:pt x="294" y="214"/>
                  <a:pt x="391" y="214"/>
                </a:cubicBezTo>
                <a:cubicBezTo>
                  <a:pt x="413" y="214"/>
                  <a:pt x="434" y="218"/>
                  <a:pt x="454" y="226"/>
                </a:cubicBezTo>
                <a:lnTo>
                  <a:pt x="504" y="175"/>
                </a:lnTo>
                <a:cubicBezTo>
                  <a:pt x="471" y="157"/>
                  <a:pt x="432" y="147"/>
                  <a:pt x="391" y="147"/>
                </a:cubicBezTo>
                <a:cubicBezTo>
                  <a:pt x="256" y="147"/>
                  <a:pt x="147" y="256"/>
                  <a:pt x="147" y="391"/>
                </a:cubicBezTo>
                <a:cubicBezTo>
                  <a:pt x="147" y="526"/>
                  <a:pt x="256" y="636"/>
                  <a:pt x="391" y="636"/>
                </a:cubicBezTo>
                <a:cubicBezTo>
                  <a:pt x="526" y="636"/>
                  <a:pt x="636" y="526"/>
                  <a:pt x="636" y="391"/>
                </a:cubicBezTo>
                <a:cubicBezTo>
                  <a:pt x="636" y="351"/>
                  <a:pt x="626" y="312"/>
                  <a:pt x="608" y="278"/>
                </a:cubicBezTo>
                <a:lnTo>
                  <a:pt x="557" y="329"/>
                </a:lnTo>
                <a:cubicBezTo>
                  <a:pt x="565" y="349"/>
                  <a:pt x="569" y="370"/>
                  <a:pt x="569" y="391"/>
                </a:cubicBezTo>
                <a:close/>
                <a:moveTo>
                  <a:pt x="679" y="257"/>
                </a:moveTo>
                <a:cubicBezTo>
                  <a:pt x="698" y="298"/>
                  <a:pt x="709" y="343"/>
                  <a:pt x="709" y="391"/>
                </a:cubicBezTo>
                <a:cubicBezTo>
                  <a:pt x="709" y="567"/>
                  <a:pt x="567" y="709"/>
                  <a:pt x="391" y="709"/>
                </a:cubicBezTo>
                <a:cubicBezTo>
                  <a:pt x="216" y="709"/>
                  <a:pt x="74" y="567"/>
                  <a:pt x="74" y="391"/>
                </a:cubicBezTo>
                <a:cubicBezTo>
                  <a:pt x="74" y="216"/>
                  <a:pt x="216" y="74"/>
                  <a:pt x="391" y="74"/>
                </a:cubicBezTo>
                <a:cubicBezTo>
                  <a:pt x="440" y="74"/>
                  <a:pt x="485" y="85"/>
                  <a:pt x="526" y="104"/>
                </a:cubicBezTo>
                <a:cubicBezTo>
                  <a:pt x="526" y="91"/>
                  <a:pt x="531" y="79"/>
                  <a:pt x="540" y="70"/>
                </a:cubicBezTo>
                <a:lnTo>
                  <a:pt x="567" y="42"/>
                </a:lnTo>
                <a:cubicBezTo>
                  <a:pt x="515" y="16"/>
                  <a:pt x="455" y="0"/>
                  <a:pt x="391" y="0"/>
                </a:cubicBezTo>
                <a:cubicBezTo>
                  <a:pt x="175" y="0"/>
                  <a:pt x="0" y="175"/>
                  <a:pt x="0" y="391"/>
                </a:cubicBezTo>
                <a:cubicBezTo>
                  <a:pt x="0" y="607"/>
                  <a:pt x="175" y="782"/>
                  <a:pt x="391" y="782"/>
                </a:cubicBezTo>
                <a:cubicBezTo>
                  <a:pt x="607" y="782"/>
                  <a:pt x="782" y="607"/>
                  <a:pt x="782" y="391"/>
                </a:cubicBezTo>
                <a:cubicBezTo>
                  <a:pt x="782" y="328"/>
                  <a:pt x="767" y="268"/>
                  <a:pt x="740" y="215"/>
                </a:cubicBezTo>
                <a:lnTo>
                  <a:pt x="713" y="242"/>
                </a:lnTo>
                <a:cubicBezTo>
                  <a:pt x="704" y="251"/>
                  <a:pt x="692" y="257"/>
                  <a:pt x="679" y="257"/>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39" name="Freeform 34"/>
          <p:cNvSpPr/>
          <p:nvPr/>
        </p:nvSpPr>
        <p:spPr>
          <a:xfrm>
            <a:off x="6780240" y="4506840"/>
            <a:ext cx="639720" cy="682560"/>
          </a:xfrm>
          <a:custGeom>
            <a:avLst/>
            <a:gdLst>
              <a:gd name="textAreaLeft" fmla="*/ 0 w 639720"/>
              <a:gd name="textAreaRight" fmla="*/ 640080 w 639720"/>
              <a:gd name="textAreaTop" fmla="*/ 0 h 682560"/>
              <a:gd name="textAreaBottom" fmla="*/ 682920 h 682560"/>
            </a:gdLst>
            <a:ahLst/>
            <a:rect l="textAreaLeft" t="textAreaTop" r="textAreaRight" b="textAreaBottom"/>
            <a:pathLst>
              <a:path w="895" h="955">
                <a:moveTo>
                  <a:pt x="322" y="540"/>
                </a:moveTo>
                <a:cubicBezTo>
                  <a:pt x="313" y="559"/>
                  <a:pt x="320" y="583"/>
                  <a:pt x="339" y="594"/>
                </a:cubicBezTo>
                <a:cubicBezTo>
                  <a:pt x="355" y="603"/>
                  <a:pt x="375" y="601"/>
                  <a:pt x="388" y="589"/>
                </a:cubicBezTo>
                <a:lnTo>
                  <a:pt x="322" y="540"/>
                </a:lnTo>
                <a:close/>
                <a:moveTo>
                  <a:pt x="555" y="224"/>
                </a:moveTo>
                <a:cubicBezTo>
                  <a:pt x="495" y="190"/>
                  <a:pt x="422" y="206"/>
                  <a:pt x="391" y="260"/>
                </a:cubicBezTo>
                <a:cubicBezTo>
                  <a:pt x="359" y="316"/>
                  <a:pt x="400" y="376"/>
                  <a:pt x="371" y="434"/>
                </a:cubicBezTo>
                <a:lnTo>
                  <a:pt x="464" y="487"/>
                </a:lnTo>
                <a:cubicBezTo>
                  <a:pt x="499" y="434"/>
                  <a:pt x="573" y="439"/>
                  <a:pt x="605" y="384"/>
                </a:cubicBezTo>
                <a:cubicBezTo>
                  <a:pt x="637" y="330"/>
                  <a:pt x="614" y="258"/>
                  <a:pt x="555" y="224"/>
                </a:cubicBezTo>
                <a:close/>
                <a:moveTo>
                  <a:pt x="455" y="522"/>
                </a:moveTo>
                <a:lnTo>
                  <a:pt x="354" y="446"/>
                </a:lnTo>
                <a:cubicBezTo>
                  <a:pt x="346" y="440"/>
                  <a:pt x="336" y="442"/>
                  <a:pt x="331" y="450"/>
                </a:cubicBezTo>
                <a:cubicBezTo>
                  <a:pt x="327" y="458"/>
                  <a:pt x="329" y="470"/>
                  <a:pt x="337" y="475"/>
                </a:cubicBezTo>
                <a:lnTo>
                  <a:pt x="437" y="552"/>
                </a:lnTo>
                <a:cubicBezTo>
                  <a:pt x="445" y="557"/>
                  <a:pt x="455" y="555"/>
                  <a:pt x="460" y="547"/>
                </a:cubicBezTo>
                <a:cubicBezTo>
                  <a:pt x="464" y="539"/>
                  <a:pt x="462" y="527"/>
                  <a:pt x="455" y="522"/>
                </a:cubicBezTo>
                <a:close/>
                <a:moveTo>
                  <a:pt x="590" y="190"/>
                </a:moveTo>
                <a:lnTo>
                  <a:pt x="622" y="136"/>
                </a:lnTo>
                <a:lnTo>
                  <a:pt x="596" y="121"/>
                </a:lnTo>
                <a:lnTo>
                  <a:pt x="565" y="176"/>
                </a:lnTo>
                <a:lnTo>
                  <a:pt x="590" y="190"/>
                </a:lnTo>
                <a:close/>
                <a:moveTo>
                  <a:pt x="644" y="256"/>
                </a:moveTo>
                <a:lnTo>
                  <a:pt x="699" y="225"/>
                </a:lnTo>
                <a:lnTo>
                  <a:pt x="684" y="200"/>
                </a:lnTo>
                <a:lnTo>
                  <a:pt x="630" y="231"/>
                </a:lnTo>
                <a:lnTo>
                  <a:pt x="644" y="256"/>
                </a:lnTo>
                <a:close/>
                <a:moveTo>
                  <a:pt x="511" y="160"/>
                </a:moveTo>
                <a:lnTo>
                  <a:pt x="511" y="97"/>
                </a:lnTo>
                <a:lnTo>
                  <a:pt x="481" y="97"/>
                </a:lnTo>
                <a:lnTo>
                  <a:pt x="481" y="160"/>
                </a:lnTo>
                <a:lnTo>
                  <a:pt x="511" y="160"/>
                </a:lnTo>
                <a:close/>
                <a:moveTo>
                  <a:pt x="426" y="174"/>
                </a:moveTo>
                <a:lnTo>
                  <a:pt x="395" y="119"/>
                </a:lnTo>
                <a:lnTo>
                  <a:pt x="370" y="134"/>
                </a:lnTo>
                <a:lnTo>
                  <a:pt x="401" y="188"/>
                </a:lnTo>
                <a:lnTo>
                  <a:pt x="426" y="174"/>
                </a:lnTo>
                <a:close/>
                <a:moveTo>
                  <a:pt x="658" y="341"/>
                </a:moveTo>
                <a:lnTo>
                  <a:pt x="721" y="341"/>
                </a:lnTo>
                <a:lnTo>
                  <a:pt x="721" y="311"/>
                </a:lnTo>
                <a:lnTo>
                  <a:pt x="658" y="311"/>
                </a:lnTo>
                <a:lnTo>
                  <a:pt x="658" y="341"/>
                </a:lnTo>
                <a:close/>
                <a:moveTo>
                  <a:pt x="430" y="565"/>
                </a:moveTo>
                <a:lnTo>
                  <a:pt x="329" y="489"/>
                </a:lnTo>
                <a:cubicBezTo>
                  <a:pt x="321" y="483"/>
                  <a:pt x="311" y="485"/>
                  <a:pt x="307" y="493"/>
                </a:cubicBezTo>
                <a:cubicBezTo>
                  <a:pt x="302" y="501"/>
                  <a:pt x="304" y="513"/>
                  <a:pt x="312" y="519"/>
                </a:cubicBezTo>
                <a:lnTo>
                  <a:pt x="412" y="595"/>
                </a:lnTo>
                <a:cubicBezTo>
                  <a:pt x="420" y="601"/>
                  <a:pt x="430" y="599"/>
                  <a:pt x="435" y="590"/>
                </a:cubicBezTo>
                <a:cubicBezTo>
                  <a:pt x="440" y="582"/>
                  <a:pt x="437" y="571"/>
                  <a:pt x="430" y="565"/>
                </a:cubicBezTo>
                <a:close/>
                <a:moveTo>
                  <a:pt x="326" y="955"/>
                </a:moveTo>
                <a:cubicBezTo>
                  <a:pt x="337" y="880"/>
                  <a:pt x="337" y="800"/>
                  <a:pt x="317" y="729"/>
                </a:cubicBezTo>
                <a:cubicBezTo>
                  <a:pt x="0" y="551"/>
                  <a:pt x="83" y="139"/>
                  <a:pt x="349" y="55"/>
                </a:cubicBezTo>
                <a:cubicBezTo>
                  <a:pt x="489" y="0"/>
                  <a:pt x="680" y="33"/>
                  <a:pt x="805" y="158"/>
                </a:cubicBezTo>
                <a:cubicBezTo>
                  <a:pt x="895" y="248"/>
                  <a:pt x="852" y="271"/>
                  <a:pt x="852" y="271"/>
                </a:cubicBezTo>
                <a:lnTo>
                  <a:pt x="832" y="282"/>
                </a:lnTo>
                <a:cubicBezTo>
                  <a:pt x="843" y="325"/>
                  <a:pt x="862" y="405"/>
                  <a:pt x="860" y="415"/>
                </a:cubicBezTo>
                <a:cubicBezTo>
                  <a:pt x="856" y="430"/>
                  <a:pt x="840" y="445"/>
                  <a:pt x="840" y="445"/>
                </a:cubicBezTo>
                <a:lnTo>
                  <a:pt x="885" y="597"/>
                </a:lnTo>
                <a:lnTo>
                  <a:pt x="845" y="614"/>
                </a:lnTo>
                <a:cubicBezTo>
                  <a:pt x="854" y="662"/>
                  <a:pt x="859" y="703"/>
                  <a:pt x="854" y="751"/>
                </a:cubicBezTo>
                <a:cubicBezTo>
                  <a:pt x="853" y="759"/>
                  <a:pt x="826" y="783"/>
                  <a:pt x="804" y="784"/>
                </a:cubicBezTo>
                <a:lnTo>
                  <a:pt x="668" y="793"/>
                </a:lnTo>
                <a:lnTo>
                  <a:pt x="677" y="955"/>
                </a:lnTo>
                <a:lnTo>
                  <a:pt x="326" y="955"/>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40" name="Freeform 35"/>
          <p:cNvSpPr/>
          <p:nvPr/>
        </p:nvSpPr>
        <p:spPr>
          <a:xfrm>
            <a:off x="1171440" y="5595840"/>
            <a:ext cx="638280" cy="488880"/>
          </a:xfrm>
          <a:custGeom>
            <a:avLst/>
            <a:gdLst>
              <a:gd name="textAreaLeft" fmla="*/ 0 w 638280"/>
              <a:gd name="textAreaRight" fmla="*/ 638640 w 638280"/>
              <a:gd name="textAreaTop" fmla="*/ 0 h 488880"/>
              <a:gd name="textAreaBottom" fmla="*/ 489240 h 488880"/>
            </a:gdLst>
            <a:ahLst/>
            <a:rect l="textAreaLeft" t="textAreaTop" r="textAreaRight" b="textAreaBottom"/>
            <a:pathLst>
              <a:path w="892" h="686">
                <a:moveTo>
                  <a:pt x="139" y="131"/>
                </a:moveTo>
                <a:lnTo>
                  <a:pt x="577" y="131"/>
                </a:lnTo>
                <a:lnTo>
                  <a:pt x="577" y="157"/>
                </a:lnTo>
                <a:lnTo>
                  <a:pt x="139" y="157"/>
                </a:lnTo>
                <a:lnTo>
                  <a:pt x="139" y="131"/>
                </a:lnTo>
                <a:close/>
                <a:moveTo>
                  <a:pt x="139" y="232"/>
                </a:moveTo>
                <a:lnTo>
                  <a:pt x="577" y="232"/>
                </a:lnTo>
                <a:lnTo>
                  <a:pt x="577" y="258"/>
                </a:lnTo>
                <a:lnTo>
                  <a:pt x="139" y="258"/>
                </a:lnTo>
                <a:lnTo>
                  <a:pt x="139" y="232"/>
                </a:lnTo>
                <a:close/>
                <a:moveTo>
                  <a:pt x="139" y="330"/>
                </a:moveTo>
                <a:lnTo>
                  <a:pt x="510" y="330"/>
                </a:lnTo>
                <a:lnTo>
                  <a:pt x="510" y="356"/>
                </a:lnTo>
                <a:lnTo>
                  <a:pt x="139" y="356"/>
                </a:lnTo>
                <a:lnTo>
                  <a:pt x="139" y="330"/>
                </a:lnTo>
                <a:close/>
                <a:moveTo>
                  <a:pt x="706" y="453"/>
                </a:moveTo>
                <a:cubicBezTo>
                  <a:pt x="717" y="464"/>
                  <a:pt x="723" y="478"/>
                  <a:pt x="723" y="494"/>
                </a:cubicBezTo>
                <a:cubicBezTo>
                  <a:pt x="723" y="509"/>
                  <a:pt x="717" y="524"/>
                  <a:pt x="706" y="534"/>
                </a:cubicBezTo>
                <a:cubicBezTo>
                  <a:pt x="696" y="544"/>
                  <a:pt x="682" y="551"/>
                  <a:pt x="666" y="551"/>
                </a:cubicBezTo>
                <a:cubicBezTo>
                  <a:pt x="650" y="551"/>
                  <a:pt x="636" y="544"/>
                  <a:pt x="626" y="534"/>
                </a:cubicBezTo>
                <a:cubicBezTo>
                  <a:pt x="615" y="524"/>
                  <a:pt x="609" y="509"/>
                  <a:pt x="609" y="494"/>
                </a:cubicBezTo>
                <a:cubicBezTo>
                  <a:pt x="609" y="478"/>
                  <a:pt x="615" y="464"/>
                  <a:pt x="626" y="453"/>
                </a:cubicBezTo>
                <a:cubicBezTo>
                  <a:pt x="636" y="443"/>
                  <a:pt x="650" y="437"/>
                  <a:pt x="666" y="437"/>
                </a:cubicBezTo>
                <a:cubicBezTo>
                  <a:pt x="682" y="437"/>
                  <a:pt x="696" y="443"/>
                  <a:pt x="706" y="453"/>
                </a:cubicBezTo>
                <a:close/>
                <a:moveTo>
                  <a:pt x="807" y="156"/>
                </a:moveTo>
                <a:lnTo>
                  <a:pt x="722" y="159"/>
                </a:lnTo>
                <a:lnTo>
                  <a:pt x="729" y="81"/>
                </a:lnTo>
                <a:lnTo>
                  <a:pt x="807" y="156"/>
                </a:lnTo>
                <a:close/>
                <a:moveTo>
                  <a:pt x="0" y="0"/>
                </a:moveTo>
                <a:lnTo>
                  <a:pt x="730" y="0"/>
                </a:lnTo>
                <a:lnTo>
                  <a:pt x="744" y="0"/>
                </a:lnTo>
                <a:lnTo>
                  <a:pt x="754" y="9"/>
                </a:lnTo>
                <a:lnTo>
                  <a:pt x="882" y="133"/>
                </a:lnTo>
                <a:lnTo>
                  <a:pt x="892" y="143"/>
                </a:lnTo>
                <a:lnTo>
                  <a:pt x="892" y="158"/>
                </a:lnTo>
                <a:lnTo>
                  <a:pt x="892" y="565"/>
                </a:lnTo>
                <a:lnTo>
                  <a:pt x="892" y="600"/>
                </a:lnTo>
                <a:lnTo>
                  <a:pt x="858" y="600"/>
                </a:lnTo>
                <a:lnTo>
                  <a:pt x="745" y="600"/>
                </a:lnTo>
                <a:lnTo>
                  <a:pt x="767" y="662"/>
                </a:lnTo>
                <a:lnTo>
                  <a:pt x="726" y="662"/>
                </a:lnTo>
                <a:lnTo>
                  <a:pt x="704" y="686"/>
                </a:lnTo>
                <a:lnTo>
                  <a:pt x="666" y="602"/>
                </a:lnTo>
                <a:lnTo>
                  <a:pt x="666" y="602"/>
                </a:lnTo>
                <a:lnTo>
                  <a:pt x="666" y="602"/>
                </a:lnTo>
                <a:lnTo>
                  <a:pt x="628" y="686"/>
                </a:lnTo>
                <a:lnTo>
                  <a:pt x="606" y="662"/>
                </a:lnTo>
                <a:lnTo>
                  <a:pt x="565" y="662"/>
                </a:lnTo>
                <a:lnTo>
                  <a:pt x="587" y="600"/>
                </a:lnTo>
                <a:lnTo>
                  <a:pt x="354" y="600"/>
                </a:lnTo>
                <a:lnTo>
                  <a:pt x="0" y="600"/>
                </a:lnTo>
                <a:lnTo>
                  <a:pt x="0" y="0"/>
                </a:lnTo>
                <a:close/>
                <a:moveTo>
                  <a:pt x="69" y="531"/>
                </a:moveTo>
                <a:lnTo>
                  <a:pt x="354" y="531"/>
                </a:lnTo>
                <a:lnTo>
                  <a:pt x="564" y="531"/>
                </a:lnTo>
                <a:cubicBezTo>
                  <a:pt x="559" y="519"/>
                  <a:pt x="557" y="507"/>
                  <a:pt x="557" y="494"/>
                </a:cubicBezTo>
                <a:cubicBezTo>
                  <a:pt x="557" y="464"/>
                  <a:pt x="569" y="436"/>
                  <a:pt x="589" y="417"/>
                </a:cubicBezTo>
                <a:cubicBezTo>
                  <a:pt x="609" y="397"/>
                  <a:pt x="636" y="385"/>
                  <a:pt x="666" y="385"/>
                </a:cubicBezTo>
                <a:cubicBezTo>
                  <a:pt x="696" y="385"/>
                  <a:pt x="723" y="397"/>
                  <a:pt x="743" y="417"/>
                </a:cubicBezTo>
                <a:cubicBezTo>
                  <a:pt x="763" y="436"/>
                  <a:pt x="775" y="464"/>
                  <a:pt x="775" y="494"/>
                </a:cubicBezTo>
                <a:cubicBezTo>
                  <a:pt x="775" y="507"/>
                  <a:pt x="772" y="519"/>
                  <a:pt x="768" y="531"/>
                </a:cubicBezTo>
                <a:lnTo>
                  <a:pt x="823" y="531"/>
                </a:lnTo>
                <a:lnTo>
                  <a:pt x="823" y="190"/>
                </a:lnTo>
                <a:lnTo>
                  <a:pt x="703" y="195"/>
                </a:lnTo>
                <a:lnTo>
                  <a:pt x="684" y="195"/>
                </a:lnTo>
                <a:lnTo>
                  <a:pt x="686" y="176"/>
                </a:lnTo>
                <a:lnTo>
                  <a:pt x="695" y="69"/>
                </a:lnTo>
                <a:lnTo>
                  <a:pt x="69" y="69"/>
                </a:lnTo>
                <a:lnTo>
                  <a:pt x="69" y="531"/>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41" name="Freeform 36"/>
          <p:cNvSpPr/>
          <p:nvPr/>
        </p:nvSpPr>
        <p:spPr>
          <a:xfrm>
            <a:off x="2354400" y="5454720"/>
            <a:ext cx="726840" cy="581040"/>
          </a:xfrm>
          <a:custGeom>
            <a:avLst/>
            <a:gdLst>
              <a:gd name="textAreaLeft" fmla="*/ 0 w 726840"/>
              <a:gd name="textAreaRight" fmla="*/ 727200 w 726840"/>
              <a:gd name="textAreaTop" fmla="*/ 0 h 581040"/>
              <a:gd name="textAreaBottom" fmla="*/ 581400 h 581040"/>
            </a:gdLst>
            <a:ahLst/>
            <a:rect l="textAreaLeft" t="textAreaTop" r="textAreaRight" b="textAreaBottom"/>
            <a:pathLst>
              <a:path w="1019" h="812">
                <a:moveTo>
                  <a:pt x="0" y="751"/>
                </a:moveTo>
                <a:lnTo>
                  <a:pt x="787" y="751"/>
                </a:lnTo>
                <a:lnTo>
                  <a:pt x="787" y="779"/>
                </a:lnTo>
                <a:cubicBezTo>
                  <a:pt x="787" y="797"/>
                  <a:pt x="772" y="812"/>
                  <a:pt x="754" y="812"/>
                </a:cubicBezTo>
                <a:lnTo>
                  <a:pt x="33" y="812"/>
                </a:lnTo>
                <a:cubicBezTo>
                  <a:pt x="15" y="812"/>
                  <a:pt x="0" y="797"/>
                  <a:pt x="0" y="779"/>
                </a:cubicBezTo>
                <a:lnTo>
                  <a:pt x="0" y="751"/>
                </a:lnTo>
                <a:close/>
                <a:moveTo>
                  <a:pt x="393" y="286"/>
                </a:moveTo>
                <a:cubicBezTo>
                  <a:pt x="401" y="286"/>
                  <a:pt x="408" y="292"/>
                  <a:pt x="408" y="300"/>
                </a:cubicBezTo>
                <a:cubicBezTo>
                  <a:pt x="408" y="308"/>
                  <a:pt x="401" y="315"/>
                  <a:pt x="393" y="315"/>
                </a:cubicBezTo>
                <a:cubicBezTo>
                  <a:pt x="385" y="315"/>
                  <a:pt x="379" y="308"/>
                  <a:pt x="379" y="300"/>
                </a:cubicBezTo>
                <a:cubicBezTo>
                  <a:pt x="379" y="292"/>
                  <a:pt x="385" y="286"/>
                  <a:pt x="393" y="286"/>
                </a:cubicBezTo>
                <a:close/>
                <a:moveTo>
                  <a:pt x="44" y="274"/>
                </a:moveTo>
                <a:lnTo>
                  <a:pt x="485" y="274"/>
                </a:lnTo>
                <a:cubicBezTo>
                  <a:pt x="575" y="280"/>
                  <a:pt x="661" y="297"/>
                  <a:pt x="743" y="335"/>
                </a:cubicBezTo>
                <a:lnTo>
                  <a:pt x="743" y="732"/>
                </a:lnTo>
                <a:lnTo>
                  <a:pt x="44" y="732"/>
                </a:lnTo>
                <a:lnTo>
                  <a:pt x="44" y="274"/>
                </a:lnTo>
                <a:close/>
                <a:moveTo>
                  <a:pt x="134" y="556"/>
                </a:moveTo>
                <a:lnTo>
                  <a:pt x="280" y="556"/>
                </a:lnTo>
                <a:lnTo>
                  <a:pt x="280" y="588"/>
                </a:lnTo>
                <a:lnTo>
                  <a:pt x="134" y="588"/>
                </a:lnTo>
                <a:lnTo>
                  <a:pt x="134" y="556"/>
                </a:lnTo>
                <a:close/>
                <a:moveTo>
                  <a:pt x="134" y="495"/>
                </a:moveTo>
                <a:lnTo>
                  <a:pt x="426" y="495"/>
                </a:lnTo>
                <a:lnTo>
                  <a:pt x="426" y="526"/>
                </a:lnTo>
                <a:lnTo>
                  <a:pt x="134" y="526"/>
                </a:lnTo>
                <a:lnTo>
                  <a:pt x="134" y="495"/>
                </a:lnTo>
                <a:close/>
                <a:moveTo>
                  <a:pt x="134" y="434"/>
                </a:moveTo>
                <a:lnTo>
                  <a:pt x="426" y="434"/>
                </a:lnTo>
                <a:lnTo>
                  <a:pt x="426" y="465"/>
                </a:lnTo>
                <a:lnTo>
                  <a:pt x="134" y="465"/>
                </a:lnTo>
                <a:lnTo>
                  <a:pt x="134" y="434"/>
                </a:lnTo>
                <a:close/>
                <a:moveTo>
                  <a:pt x="134" y="372"/>
                </a:moveTo>
                <a:lnTo>
                  <a:pt x="426" y="372"/>
                </a:lnTo>
                <a:lnTo>
                  <a:pt x="426" y="404"/>
                </a:lnTo>
                <a:lnTo>
                  <a:pt x="134" y="404"/>
                </a:lnTo>
                <a:lnTo>
                  <a:pt x="134" y="372"/>
                </a:lnTo>
                <a:close/>
                <a:moveTo>
                  <a:pt x="755" y="340"/>
                </a:moveTo>
                <a:cubicBezTo>
                  <a:pt x="766" y="345"/>
                  <a:pt x="792" y="358"/>
                  <a:pt x="799" y="362"/>
                </a:cubicBezTo>
                <a:cubicBezTo>
                  <a:pt x="818" y="374"/>
                  <a:pt x="770" y="381"/>
                  <a:pt x="755" y="383"/>
                </a:cubicBezTo>
                <a:lnTo>
                  <a:pt x="755" y="340"/>
                </a:lnTo>
                <a:close/>
                <a:moveTo>
                  <a:pt x="924" y="211"/>
                </a:moveTo>
                <a:cubicBezTo>
                  <a:pt x="881" y="163"/>
                  <a:pt x="838" y="116"/>
                  <a:pt x="795" y="68"/>
                </a:cubicBezTo>
                <a:cubicBezTo>
                  <a:pt x="781" y="52"/>
                  <a:pt x="774" y="53"/>
                  <a:pt x="755" y="50"/>
                </a:cubicBezTo>
                <a:lnTo>
                  <a:pt x="311" y="1"/>
                </a:lnTo>
                <a:cubicBezTo>
                  <a:pt x="302" y="0"/>
                  <a:pt x="298" y="5"/>
                  <a:pt x="304" y="12"/>
                </a:cubicBezTo>
                <a:lnTo>
                  <a:pt x="463" y="183"/>
                </a:lnTo>
                <a:cubicBezTo>
                  <a:pt x="488" y="133"/>
                  <a:pt x="506" y="106"/>
                  <a:pt x="586" y="115"/>
                </a:cubicBezTo>
                <a:cubicBezTo>
                  <a:pt x="641" y="122"/>
                  <a:pt x="682" y="133"/>
                  <a:pt x="733" y="153"/>
                </a:cubicBezTo>
                <a:cubicBezTo>
                  <a:pt x="765" y="166"/>
                  <a:pt x="783" y="176"/>
                  <a:pt x="797" y="201"/>
                </a:cubicBezTo>
                <a:cubicBezTo>
                  <a:pt x="784" y="185"/>
                  <a:pt x="763" y="174"/>
                  <a:pt x="740" y="165"/>
                </a:cubicBezTo>
                <a:cubicBezTo>
                  <a:pt x="693" y="146"/>
                  <a:pt x="642" y="133"/>
                  <a:pt x="591" y="127"/>
                </a:cubicBezTo>
                <a:cubicBezTo>
                  <a:pt x="560" y="124"/>
                  <a:pt x="531" y="124"/>
                  <a:pt x="511" y="140"/>
                </a:cubicBezTo>
                <a:cubicBezTo>
                  <a:pt x="492" y="154"/>
                  <a:pt x="465" y="216"/>
                  <a:pt x="453" y="239"/>
                </a:cubicBezTo>
                <a:cubicBezTo>
                  <a:pt x="446" y="255"/>
                  <a:pt x="455" y="261"/>
                  <a:pt x="468" y="261"/>
                </a:cubicBezTo>
                <a:cubicBezTo>
                  <a:pt x="587" y="266"/>
                  <a:pt x="702" y="297"/>
                  <a:pt x="808" y="353"/>
                </a:cubicBezTo>
                <a:lnTo>
                  <a:pt x="809" y="292"/>
                </a:lnTo>
                <a:cubicBezTo>
                  <a:pt x="847" y="297"/>
                  <a:pt x="886" y="303"/>
                  <a:pt x="924" y="308"/>
                </a:cubicBezTo>
                <a:lnTo>
                  <a:pt x="924" y="211"/>
                </a:lnTo>
                <a:close/>
                <a:moveTo>
                  <a:pt x="1009" y="320"/>
                </a:moveTo>
                <a:cubicBezTo>
                  <a:pt x="1016" y="321"/>
                  <a:pt x="1019" y="314"/>
                  <a:pt x="1014" y="309"/>
                </a:cubicBezTo>
                <a:cubicBezTo>
                  <a:pt x="994" y="287"/>
                  <a:pt x="974" y="266"/>
                  <a:pt x="954" y="244"/>
                </a:cubicBezTo>
                <a:lnTo>
                  <a:pt x="954" y="216"/>
                </a:lnTo>
                <a:cubicBezTo>
                  <a:pt x="954" y="211"/>
                  <a:pt x="950" y="208"/>
                  <a:pt x="945" y="208"/>
                </a:cubicBezTo>
                <a:lnTo>
                  <a:pt x="937" y="208"/>
                </a:lnTo>
                <a:lnTo>
                  <a:pt x="937" y="379"/>
                </a:lnTo>
                <a:cubicBezTo>
                  <a:pt x="934" y="379"/>
                  <a:pt x="933" y="381"/>
                  <a:pt x="932" y="385"/>
                </a:cubicBezTo>
                <a:lnTo>
                  <a:pt x="931" y="397"/>
                </a:lnTo>
                <a:cubicBezTo>
                  <a:pt x="931" y="403"/>
                  <a:pt x="934" y="405"/>
                  <a:pt x="934" y="410"/>
                </a:cubicBezTo>
                <a:lnTo>
                  <a:pt x="933" y="424"/>
                </a:lnTo>
                <a:cubicBezTo>
                  <a:pt x="933" y="428"/>
                  <a:pt x="930" y="430"/>
                  <a:pt x="930" y="435"/>
                </a:cubicBezTo>
                <a:lnTo>
                  <a:pt x="918" y="536"/>
                </a:lnTo>
                <a:cubicBezTo>
                  <a:pt x="924" y="548"/>
                  <a:pt x="967" y="549"/>
                  <a:pt x="974" y="537"/>
                </a:cubicBezTo>
                <a:lnTo>
                  <a:pt x="962" y="436"/>
                </a:lnTo>
                <a:cubicBezTo>
                  <a:pt x="961" y="430"/>
                  <a:pt x="958" y="429"/>
                  <a:pt x="958" y="424"/>
                </a:cubicBezTo>
                <a:lnTo>
                  <a:pt x="957" y="410"/>
                </a:lnTo>
                <a:cubicBezTo>
                  <a:pt x="957" y="404"/>
                  <a:pt x="960" y="404"/>
                  <a:pt x="960" y="397"/>
                </a:cubicBezTo>
                <a:lnTo>
                  <a:pt x="959" y="385"/>
                </a:lnTo>
                <a:cubicBezTo>
                  <a:pt x="959" y="381"/>
                  <a:pt x="957" y="379"/>
                  <a:pt x="954" y="379"/>
                </a:cubicBezTo>
                <a:lnTo>
                  <a:pt x="954" y="312"/>
                </a:lnTo>
                <a:cubicBezTo>
                  <a:pt x="972" y="315"/>
                  <a:pt x="991" y="317"/>
                  <a:pt x="1009" y="320"/>
                </a:cubicBezTo>
                <a:close/>
                <a:moveTo>
                  <a:pt x="480" y="435"/>
                </a:moveTo>
                <a:lnTo>
                  <a:pt x="470" y="437"/>
                </a:lnTo>
                <a:lnTo>
                  <a:pt x="506" y="622"/>
                </a:lnTo>
                <a:lnTo>
                  <a:pt x="516" y="620"/>
                </a:lnTo>
                <a:lnTo>
                  <a:pt x="515" y="610"/>
                </a:lnTo>
                <a:lnTo>
                  <a:pt x="524" y="608"/>
                </a:lnTo>
                <a:lnTo>
                  <a:pt x="522" y="598"/>
                </a:lnTo>
                <a:lnTo>
                  <a:pt x="532" y="597"/>
                </a:lnTo>
                <a:lnTo>
                  <a:pt x="530" y="587"/>
                </a:lnTo>
                <a:lnTo>
                  <a:pt x="540" y="585"/>
                </a:lnTo>
                <a:lnTo>
                  <a:pt x="538" y="575"/>
                </a:lnTo>
                <a:lnTo>
                  <a:pt x="548" y="573"/>
                </a:lnTo>
                <a:lnTo>
                  <a:pt x="551" y="590"/>
                </a:lnTo>
                <a:lnTo>
                  <a:pt x="560" y="588"/>
                </a:lnTo>
                <a:lnTo>
                  <a:pt x="563" y="606"/>
                </a:lnTo>
                <a:lnTo>
                  <a:pt x="571" y="604"/>
                </a:lnTo>
                <a:lnTo>
                  <a:pt x="575" y="621"/>
                </a:lnTo>
                <a:lnTo>
                  <a:pt x="583" y="620"/>
                </a:lnTo>
                <a:lnTo>
                  <a:pt x="587" y="637"/>
                </a:lnTo>
                <a:lnTo>
                  <a:pt x="593" y="636"/>
                </a:lnTo>
                <a:lnTo>
                  <a:pt x="595" y="645"/>
                </a:lnTo>
                <a:lnTo>
                  <a:pt x="624" y="640"/>
                </a:lnTo>
                <a:lnTo>
                  <a:pt x="623" y="632"/>
                </a:lnTo>
                <a:lnTo>
                  <a:pt x="629" y="630"/>
                </a:lnTo>
                <a:lnTo>
                  <a:pt x="626" y="613"/>
                </a:lnTo>
                <a:lnTo>
                  <a:pt x="617" y="615"/>
                </a:lnTo>
                <a:lnTo>
                  <a:pt x="614" y="597"/>
                </a:lnTo>
                <a:lnTo>
                  <a:pt x="606" y="599"/>
                </a:lnTo>
                <a:lnTo>
                  <a:pt x="602" y="582"/>
                </a:lnTo>
                <a:lnTo>
                  <a:pt x="594" y="583"/>
                </a:lnTo>
                <a:lnTo>
                  <a:pt x="590" y="566"/>
                </a:lnTo>
                <a:lnTo>
                  <a:pt x="582" y="567"/>
                </a:lnTo>
                <a:lnTo>
                  <a:pt x="580" y="559"/>
                </a:lnTo>
                <a:lnTo>
                  <a:pt x="635" y="548"/>
                </a:lnTo>
                <a:lnTo>
                  <a:pt x="634" y="539"/>
                </a:lnTo>
                <a:lnTo>
                  <a:pt x="624" y="541"/>
                </a:lnTo>
                <a:lnTo>
                  <a:pt x="622" y="531"/>
                </a:lnTo>
                <a:lnTo>
                  <a:pt x="612" y="533"/>
                </a:lnTo>
                <a:lnTo>
                  <a:pt x="610" y="523"/>
                </a:lnTo>
                <a:lnTo>
                  <a:pt x="600" y="525"/>
                </a:lnTo>
                <a:lnTo>
                  <a:pt x="599" y="515"/>
                </a:lnTo>
                <a:lnTo>
                  <a:pt x="589" y="517"/>
                </a:lnTo>
                <a:lnTo>
                  <a:pt x="587" y="507"/>
                </a:lnTo>
                <a:lnTo>
                  <a:pt x="577" y="509"/>
                </a:lnTo>
                <a:lnTo>
                  <a:pt x="575" y="499"/>
                </a:lnTo>
                <a:lnTo>
                  <a:pt x="565" y="501"/>
                </a:lnTo>
                <a:lnTo>
                  <a:pt x="563" y="491"/>
                </a:lnTo>
                <a:lnTo>
                  <a:pt x="553" y="493"/>
                </a:lnTo>
                <a:lnTo>
                  <a:pt x="551" y="483"/>
                </a:lnTo>
                <a:lnTo>
                  <a:pt x="541" y="485"/>
                </a:lnTo>
                <a:lnTo>
                  <a:pt x="539" y="475"/>
                </a:lnTo>
                <a:lnTo>
                  <a:pt x="529" y="477"/>
                </a:lnTo>
                <a:lnTo>
                  <a:pt x="527" y="467"/>
                </a:lnTo>
                <a:lnTo>
                  <a:pt x="517" y="469"/>
                </a:lnTo>
                <a:lnTo>
                  <a:pt x="515" y="459"/>
                </a:lnTo>
                <a:lnTo>
                  <a:pt x="505" y="461"/>
                </a:lnTo>
                <a:lnTo>
                  <a:pt x="503" y="451"/>
                </a:lnTo>
                <a:lnTo>
                  <a:pt x="493" y="453"/>
                </a:lnTo>
                <a:lnTo>
                  <a:pt x="491" y="443"/>
                </a:lnTo>
                <a:lnTo>
                  <a:pt x="482" y="445"/>
                </a:lnTo>
                <a:lnTo>
                  <a:pt x="480" y="435"/>
                </a:lnTo>
                <a:close/>
                <a:moveTo>
                  <a:pt x="95" y="327"/>
                </a:moveTo>
                <a:lnTo>
                  <a:pt x="692" y="327"/>
                </a:lnTo>
                <a:lnTo>
                  <a:pt x="692" y="679"/>
                </a:lnTo>
                <a:lnTo>
                  <a:pt x="95" y="679"/>
                </a:lnTo>
                <a:lnTo>
                  <a:pt x="95" y="327"/>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42" name="Freeform 37"/>
          <p:cNvSpPr/>
          <p:nvPr/>
        </p:nvSpPr>
        <p:spPr>
          <a:xfrm>
            <a:off x="3468600" y="5443560"/>
            <a:ext cx="652680" cy="654120"/>
          </a:xfrm>
          <a:custGeom>
            <a:avLst/>
            <a:gdLst>
              <a:gd name="textAreaLeft" fmla="*/ 0 w 652680"/>
              <a:gd name="textAreaRight" fmla="*/ 653040 w 652680"/>
              <a:gd name="textAreaTop" fmla="*/ 0 h 654120"/>
              <a:gd name="textAreaBottom" fmla="*/ 654480 h 654120"/>
            </a:gdLst>
            <a:ahLst/>
            <a:rect l="textAreaLeft" t="textAreaTop" r="textAreaRight" b="textAreaBottom"/>
            <a:pathLst>
              <a:path w="915" h="915">
                <a:moveTo>
                  <a:pt x="458" y="0"/>
                </a:moveTo>
                <a:cubicBezTo>
                  <a:pt x="205" y="0"/>
                  <a:pt x="0" y="205"/>
                  <a:pt x="0" y="458"/>
                </a:cubicBezTo>
                <a:cubicBezTo>
                  <a:pt x="0" y="710"/>
                  <a:pt x="205" y="915"/>
                  <a:pt x="458" y="915"/>
                </a:cubicBezTo>
                <a:cubicBezTo>
                  <a:pt x="710" y="915"/>
                  <a:pt x="915" y="710"/>
                  <a:pt x="915" y="458"/>
                </a:cubicBezTo>
                <a:cubicBezTo>
                  <a:pt x="915" y="205"/>
                  <a:pt x="710" y="0"/>
                  <a:pt x="458" y="0"/>
                </a:cubicBezTo>
                <a:close/>
                <a:moveTo>
                  <a:pt x="672" y="498"/>
                </a:moveTo>
                <a:lnTo>
                  <a:pt x="672" y="498"/>
                </a:lnTo>
                <a:lnTo>
                  <a:pt x="806" y="498"/>
                </a:lnTo>
                <a:cubicBezTo>
                  <a:pt x="800" y="544"/>
                  <a:pt x="786" y="590"/>
                  <a:pt x="762" y="631"/>
                </a:cubicBezTo>
                <a:cubicBezTo>
                  <a:pt x="732" y="621"/>
                  <a:pt x="698" y="614"/>
                  <a:pt x="662" y="608"/>
                </a:cubicBezTo>
                <a:cubicBezTo>
                  <a:pt x="668" y="572"/>
                  <a:pt x="671" y="536"/>
                  <a:pt x="672" y="498"/>
                </a:cubicBezTo>
                <a:close/>
                <a:moveTo>
                  <a:pt x="662" y="307"/>
                </a:moveTo>
                <a:lnTo>
                  <a:pt x="662" y="307"/>
                </a:lnTo>
                <a:cubicBezTo>
                  <a:pt x="698" y="301"/>
                  <a:pt x="732" y="293"/>
                  <a:pt x="762" y="285"/>
                </a:cubicBezTo>
                <a:cubicBezTo>
                  <a:pt x="786" y="325"/>
                  <a:pt x="800" y="371"/>
                  <a:pt x="806" y="417"/>
                </a:cubicBezTo>
                <a:lnTo>
                  <a:pt x="672" y="417"/>
                </a:lnTo>
                <a:cubicBezTo>
                  <a:pt x="671" y="379"/>
                  <a:pt x="668" y="343"/>
                  <a:pt x="662" y="307"/>
                </a:cubicBezTo>
                <a:close/>
                <a:moveTo>
                  <a:pt x="592" y="498"/>
                </a:moveTo>
                <a:lnTo>
                  <a:pt x="592" y="498"/>
                </a:lnTo>
                <a:cubicBezTo>
                  <a:pt x="590" y="532"/>
                  <a:pt x="587" y="566"/>
                  <a:pt x="582" y="597"/>
                </a:cubicBezTo>
                <a:cubicBezTo>
                  <a:pt x="542" y="594"/>
                  <a:pt x="500" y="592"/>
                  <a:pt x="458" y="592"/>
                </a:cubicBezTo>
                <a:cubicBezTo>
                  <a:pt x="416" y="592"/>
                  <a:pt x="374" y="594"/>
                  <a:pt x="334" y="597"/>
                </a:cubicBezTo>
                <a:cubicBezTo>
                  <a:pt x="329" y="566"/>
                  <a:pt x="325" y="532"/>
                  <a:pt x="324" y="498"/>
                </a:cubicBezTo>
                <a:lnTo>
                  <a:pt x="592" y="498"/>
                </a:lnTo>
                <a:close/>
                <a:moveTo>
                  <a:pt x="582" y="317"/>
                </a:moveTo>
                <a:lnTo>
                  <a:pt x="582" y="317"/>
                </a:lnTo>
                <a:cubicBezTo>
                  <a:pt x="587" y="349"/>
                  <a:pt x="590" y="383"/>
                  <a:pt x="592" y="417"/>
                </a:cubicBezTo>
                <a:lnTo>
                  <a:pt x="324" y="417"/>
                </a:lnTo>
                <a:cubicBezTo>
                  <a:pt x="325" y="383"/>
                  <a:pt x="329" y="349"/>
                  <a:pt x="334" y="317"/>
                </a:cubicBezTo>
                <a:cubicBezTo>
                  <a:pt x="414" y="325"/>
                  <a:pt x="501" y="325"/>
                  <a:pt x="582" y="317"/>
                </a:cubicBezTo>
                <a:close/>
                <a:moveTo>
                  <a:pt x="710" y="215"/>
                </a:moveTo>
                <a:lnTo>
                  <a:pt x="710" y="215"/>
                </a:lnTo>
                <a:cubicBezTo>
                  <a:pt x="690" y="220"/>
                  <a:pt x="668" y="224"/>
                  <a:pt x="645" y="228"/>
                </a:cubicBezTo>
                <a:cubicBezTo>
                  <a:pt x="637" y="198"/>
                  <a:pt x="628" y="171"/>
                  <a:pt x="617" y="146"/>
                </a:cubicBezTo>
                <a:cubicBezTo>
                  <a:pt x="650" y="162"/>
                  <a:pt x="679" y="184"/>
                  <a:pt x="705" y="210"/>
                </a:cubicBezTo>
                <a:cubicBezTo>
                  <a:pt x="707" y="212"/>
                  <a:pt x="709" y="213"/>
                  <a:pt x="710" y="215"/>
                </a:cubicBezTo>
                <a:close/>
                <a:moveTo>
                  <a:pt x="564" y="238"/>
                </a:moveTo>
                <a:lnTo>
                  <a:pt x="564" y="238"/>
                </a:lnTo>
                <a:cubicBezTo>
                  <a:pt x="496" y="243"/>
                  <a:pt x="420" y="243"/>
                  <a:pt x="351" y="238"/>
                </a:cubicBezTo>
                <a:cubicBezTo>
                  <a:pt x="358" y="215"/>
                  <a:pt x="365" y="194"/>
                  <a:pt x="374" y="175"/>
                </a:cubicBezTo>
                <a:cubicBezTo>
                  <a:pt x="385" y="148"/>
                  <a:pt x="398" y="127"/>
                  <a:pt x="411" y="111"/>
                </a:cubicBezTo>
                <a:cubicBezTo>
                  <a:pt x="442" y="106"/>
                  <a:pt x="473" y="106"/>
                  <a:pt x="504" y="111"/>
                </a:cubicBezTo>
                <a:cubicBezTo>
                  <a:pt x="518" y="127"/>
                  <a:pt x="531" y="148"/>
                  <a:pt x="542" y="175"/>
                </a:cubicBezTo>
                <a:cubicBezTo>
                  <a:pt x="550" y="194"/>
                  <a:pt x="558" y="215"/>
                  <a:pt x="564" y="238"/>
                </a:cubicBezTo>
                <a:close/>
                <a:moveTo>
                  <a:pt x="298" y="146"/>
                </a:moveTo>
                <a:lnTo>
                  <a:pt x="298" y="146"/>
                </a:lnTo>
                <a:cubicBezTo>
                  <a:pt x="287" y="171"/>
                  <a:pt x="278" y="198"/>
                  <a:pt x="270" y="228"/>
                </a:cubicBezTo>
                <a:cubicBezTo>
                  <a:pt x="247" y="224"/>
                  <a:pt x="226" y="220"/>
                  <a:pt x="205" y="215"/>
                </a:cubicBezTo>
                <a:cubicBezTo>
                  <a:pt x="207" y="213"/>
                  <a:pt x="209" y="212"/>
                  <a:pt x="210" y="210"/>
                </a:cubicBezTo>
                <a:cubicBezTo>
                  <a:pt x="236" y="184"/>
                  <a:pt x="266" y="162"/>
                  <a:pt x="298" y="146"/>
                </a:cubicBezTo>
                <a:close/>
                <a:moveTo>
                  <a:pt x="298" y="769"/>
                </a:moveTo>
                <a:lnTo>
                  <a:pt x="298" y="769"/>
                </a:lnTo>
                <a:cubicBezTo>
                  <a:pt x="266" y="753"/>
                  <a:pt x="236" y="731"/>
                  <a:pt x="210" y="705"/>
                </a:cubicBezTo>
                <a:cubicBezTo>
                  <a:pt x="209" y="704"/>
                  <a:pt x="207" y="702"/>
                  <a:pt x="205" y="700"/>
                </a:cubicBezTo>
                <a:cubicBezTo>
                  <a:pt x="226" y="695"/>
                  <a:pt x="247" y="691"/>
                  <a:pt x="270" y="687"/>
                </a:cubicBezTo>
                <a:cubicBezTo>
                  <a:pt x="278" y="717"/>
                  <a:pt x="287" y="744"/>
                  <a:pt x="298" y="769"/>
                </a:cubicBezTo>
                <a:close/>
                <a:moveTo>
                  <a:pt x="351" y="677"/>
                </a:moveTo>
                <a:lnTo>
                  <a:pt x="351" y="677"/>
                </a:lnTo>
                <a:cubicBezTo>
                  <a:pt x="420" y="671"/>
                  <a:pt x="496" y="671"/>
                  <a:pt x="564" y="677"/>
                </a:cubicBezTo>
                <a:cubicBezTo>
                  <a:pt x="558" y="700"/>
                  <a:pt x="550" y="721"/>
                  <a:pt x="542" y="741"/>
                </a:cubicBezTo>
                <a:cubicBezTo>
                  <a:pt x="531" y="766"/>
                  <a:pt x="518" y="788"/>
                  <a:pt x="504" y="805"/>
                </a:cubicBezTo>
                <a:cubicBezTo>
                  <a:pt x="473" y="809"/>
                  <a:pt x="442" y="809"/>
                  <a:pt x="411" y="805"/>
                </a:cubicBezTo>
                <a:cubicBezTo>
                  <a:pt x="398" y="788"/>
                  <a:pt x="385" y="766"/>
                  <a:pt x="374" y="741"/>
                </a:cubicBezTo>
                <a:cubicBezTo>
                  <a:pt x="365" y="721"/>
                  <a:pt x="358" y="700"/>
                  <a:pt x="351" y="677"/>
                </a:cubicBezTo>
                <a:close/>
                <a:moveTo>
                  <a:pt x="617" y="769"/>
                </a:moveTo>
                <a:lnTo>
                  <a:pt x="617" y="769"/>
                </a:lnTo>
                <a:cubicBezTo>
                  <a:pt x="628" y="744"/>
                  <a:pt x="637" y="717"/>
                  <a:pt x="645" y="687"/>
                </a:cubicBezTo>
                <a:cubicBezTo>
                  <a:pt x="668" y="691"/>
                  <a:pt x="690" y="695"/>
                  <a:pt x="710" y="700"/>
                </a:cubicBezTo>
                <a:cubicBezTo>
                  <a:pt x="709" y="702"/>
                  <a:pt x="707" y="704"/>
                  <a:pt x="705" y="705"/>
                </a:cubicBezTo>
                <a:cubicBezTo>
                  <a:pt x="679" y="731"/>
                  <a:pt x="650" y="753"/>
                  <a:pt x="617" y="769"/>
                </a:cubicBezTo>
                <a:close/>
                <a:moveTo>
                  <a:pt x="254" y="608"/>
                </a:moveTo>
                <a:lnTo>
                  <a:pt x="254" y="608"/>
                </a:lnTo>
                <a:cubicBezTo>
                  <a:pt x="217" y="614"/>
                  <a:pt x="184" y="621"/>
                  <a:pt x="153" y="631"/>
                </a:cubicBezTo>
                <a:cubicBezTo>
                  <a:pt x="130" y="590"/>
                  <a:pt x="115" y="544"/>
                  <a:pt x="110" y="498"/>
                </a:cubicBezTo>
                <a:lnTo>
                  <a:pt x="243" y="498"/>
                </a:lnTo>
                <a:cubicBezTo>
                  <a:pt x="245" y="536"/>
                  <a:pt x="248" y="572"/>
                  <a:pt x="254" y="608"/>
                </a:cubicBezTo>
                <a:close/>
                <a:moveTo>
                  <a:pt x="243" y="417"/>
                </a:moveTo>
                <a:lnTo>
                  <a:pt x="243" y="417"/>
                </a:lnTo>
                <a:lnTo>
                  <a:pt x="110" y="417"/>
                </a:lnTo>
                <a:cubicBezTo>
                  <a:pt x="115" y="371"/>
                  <a:pt x="130" y="325"/>
                  <a:pt x="153" y="285"/>
                </a:cubicBezTo>
                <a:cubicBezTo>
                  <a:pt x="184" y="293"/>
                  <a:pt x="217" y="301"/>
                  <a:pt x="254" y="307"/>
                </a:cubicBezTo>
                <a:cubicBezTo>
                  <a:pt x="248" y="343"/>
                  <a:pt x="245" y="379"/>
                  <a:pt x="243" y="417"/>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43" name="Freeform 38"/>
          <p:cNvSpPr/>
          <p:nvPr/>
        </p:nvSpPr>
        <p:spPr>
          <a:xfrm>
            <a:off x="4632480" y="5423040"/>
            <a:ext cx="446040" cy="610920"/>
          </a:xfrm>
          <a:custGeom>
            <a:avLst/>
            <a:gdLst>
              <a:gd name="textAreaLeft" fmla="*/ 0 w 446040"/>
              <a:gd name="textAreaRight" fmla="*/ 446400 w 446040"/>
              <a:gd name="textAreaTop" fmla="*/ 0 h 610920"/>
              <a:gd name="textAreaBottom" fmla="*/ 611280 h 610920"/>
            </a:gdLst>
            <a:ahLst/>
            <a:rect l="textAreaLeft" t="textAreaTop" r="textAreaRight" b="textAreaBottom"/>
            <a:pathLst>
              <a:path w="625" h="853">
                <a:moveTo>
                  <a:pt x="47" y="225"/>
                </a:moveTo>
                <a:cubicBezTo>
                  <a:pt x="47" y="201"/>
                  <a:pt x="58" y="189"/>
                  <a:pt x="82" y="188"/>
                </a:cubicBezTo>
                <a:lnTo>
                  <a:pt x="82" y="138"/>
                </a:lnTo>
                <a:cubicBezTo>
                  <a:pt x="39" y="139"/>
                  <a:pt x="0" y="167"/>
                  <a:pt x="0" y="210"/>
                </a:cubicBezTo>
                <a:lnTo>
                  <a:pt x="0" y="784"/>
                </a:lnTo>
                <a:cubicBezTo>
                  <a:pt x="0" y="819"/>
                  <a:pt x="34" y="853"/>
                  <a:pt x="69" y="853"/>
                </a:cubicBezTo>
                <a:lnTo>
                  <a:pt x="555" y="853"/>
                </a:lnTo>
                <a:cubicBezTo>
                  <a:pt x="590" y="853"/>
                  <a:pt x="625" y="819"/>
                  <a:pt x="625" y="784"/>
                </a:cubicBezTo>
                <a:lnTo>
                  <a:pt x="625" y="210"/>
                </a:lnTo>
                <a:cubicBezTo>
                  <a:pt x="625" y="167"/>
                  <a:pt x="586" y="139"/>
                  <a:pt x="542" y="138"/>
                </a:cubicBezTo>
                <a:lnTo>
                  <a:pt x="542" y="188"/>
                </a:lnTo>
                <a:cubicBezTo>
                  <a:pt x="566" y="189"/>
                  <a:pt x="577" y="201"/>
                  <a:pt x="577" y="225"/>
                </a:cubicBezTo>
                <a:lnTo>
                  <a:pt x="577" y="768"/>
                </a:lnTo>
                <a:cubicBezTo>
                  <a:pt x="577" y="786"/>
                  <a:pt x="570" y="803"/>
                  <a:pt x="553" y="803"/>
                </a:cubicBezTo>
                <a:lnTo>
                  <a:pt x="71" y="803"/>
                </a:lnTo>
                <a:cubicBezTo>
                  <a:pt x="53" y="803"/>
                  <a:pt x="47" y="783"/>
                  <a:pt x="47" y="764"/>
                </a:cubicBezTo>
                <a:lnTo>
                  <a:pt x="47" y="225"/>
                </a:lnTo>
                <a:close/>
                <a:moveTo>
                  <a:pt x="270" y="91"/>
                </a:moveTo>
                <a:cubicBezTo>
                  <a:pt x="270" y="71"/>
                  <a:pt x="289" y="52"/>
                  <a:pt x="309" y="52"/>
                </a:cubicBezTo>
                <a:lnTo>
                  <a:pt x="315" y="52"/>
                </a:lnTo>
                <a:cubicBezTo>
                  <a:pt x="335" y="52"/>
                  <a:pt x="354" y="71"/>
                  <a:pt x="354" y="91"/>
                </a:cubicBezTo>
                <a:lnTo>
                  <a:pt x="354" y="95"/>
                </a:lnTo>
                <a:cubicBezTo>
                  <a:pt x="354" y="117"/>
                  <a:pt x="335" y="136"/>
                  <a:pt x="313" y="136"/>
                </a:cubicBezTo>
                <a:lnTo>
                  <a:pt x="311" y="136"/>
                </a:lnTo>
                <a:cubicBezTo>
                  <a:pt x="289" y="136"/>
                  <a:pt x="270" y="117"/>
                  <a:pt x="270" y="95"/>
                </a:cubicBezTo>
                <a:lnTo>
                  <a:pt x="270" y="91"/>
                </a:lnTo>
                <a:close/>
                <a:moveTo>
                  <a:pt x="218" y="93"/>
                </a:moveTo>
                <a:lnTo>
                  <a:pt x="149" y="93"/>
                </a:lnTo>
                <a:cubicBezTo>
                  <a:pt x="125" y="93"/>
                  <a:pt x="114" y="104"/>
                  <a:pt x="114" y="128"/>
                </a:cubicBezTo>
                <a:lnTo>
                  <a:pt x="114" y="216"/>
                </a:lnTo>
                <a:cubicBezTo>
                  <a:pt x="114" y="231"/>
                  <a:pt x="124" y="246"/>
                  <a:pt x="138" y="246"/>
                </a:cubicBezTo>
                <a:lnTo>
                  <a:pt x="486" y="246"/>
                </a:lnTo>
                <a:cubicBezTo>
                  <a:pt x="500" y="246"/>
                  <a:pt x="510" y="231"/>
                  <a:pt x="510" y="216"/>
                </a:cubicBezTo>
                <a:lnTo>
                  <a:pt x="510" y="128"/>
                </a:lnTo>
                <a:cubicBezTo>
                  <a:pt x="510" y="104"/>
                  <a:pt x="499" y="93"/>
                  <a:pt x="475" y="93"/>
                </a:cubicBezTo>
                <a:lnTo>
                  <a:pt x="406" y="93"/>
                </a:lnTo>
                <a:cubicBezTo>
                  <a:pt x="406" y="45"/>
                  <a:pt x="366" y="0"/>
                  <a:pt x="320" y="0"/>
                </a:cubicBezTo>
                <a:lnTo>
                  <a:pt x="305" y="0"/>
                </a:lnTo>
                <a:cubicBezTo>
                  <a:pt x="259" y="0"/>
                  <a:pt x="218" y="45"/>
                  <a:pt x="218" y="93"/>
                </a:cubicBezTo>
                <a:close/>
                <a:moveTo>
                  <a:pt x="132" y="654"/>
                </a:moveTo>
                <a:cubicBezTo>
                  <a:pt x="132" y="649"/>
                  <a:pt x="133" y="648"/>
                  <a:pt x="138" y="648"/>
                </a:cubicBezTo>
                <a:lnTo>
                  <a:pt x="220" y="648"/>
                </a:lnTo>
                <a:lnTo>
                  <a:pt x="220" y="654"/>
                </a:lnTo>
                <a:cubicBezTo>
                  <a:pt x="220" y="661"/>
                  <a:pt x="186" y="681"/>
                  <a:pt x="179" y="684"/>
                </a:cubicBezTo>
                <a:cubicBezTo>
                  <a:pt x="174" y="679"/>
                  <a:pt x="160" y="667"/>
                  <a:pt x="151" y="667"/>
                </a:cubicBezTo>
                <a:lnTo>
                  <a:pt x="149" y="667"/>
                </a:lnTo>
                <a:cubicBezTo>
                  <a:pt x="144" y="667"/>
                  <a:pt x="136" y="675"/>
                  <a:pt x="136" y="680"/>
                </a:cubicBezTo>
                <a:lnTo>
                  <a:pt x="136" y="682"/>
                </a:lnTo>
                <a:cubicBezTo>
                  <a:pt x="136" y="688"/>
                  <a:pt x="167" y="721"/>
                  <a:pt x="173" y="721"/>
                </a:cubicBezTo>
                <a:lnTo>
                  <a:pt x="175" y="721"/>
                </a:lnTo>
                <a:cubicBezTo>
                  <a:pt x="180" y="721"/>
                  <a:pt x="213" y="693"/>
                  <a:pt x="220" y="689"/>
                </a:cubicBezTo>
                <a:cubicBezTo>
                  <a:pt x="220" y="700"/>
                  <a:pt x="225" y="738"/>
                  <a:pt x="214" y="738"/>
                </a:cubicBezTo>
                <a:lnTo>
                  <a:pt x="138" y="738"/>
                </a:lnTo>
                <a:cubicBezTo>
                  <a:pt x="133" y="738"/>
                  <a:pt x="132" y="737"/>
                  <a:pt x="132" y="732"/>
                </a:cubicBezTo>
                <a:lnTo>
                  <a:pt x="132" y="654"/>
                </a:lnTo>
                <a:close/>
                <a:moveTo>
                  <a:pt x="214" y="760"/>
                </a:moveTo>
                <a:cubicBezTo>
                  <a:pt x="255" y="760"/>
                  <a:pt x="239" y="715"/>
                  <a:pt x="242" y="678"/>
                </a:cubicBezTo>
                <a:cubicBezTo>
                  <a:pt x="243" y="659"/>
                  <a:pt x="291" y="642"/>
                  <a:pt x="296" y="624"/>
                </a:cubicBezTo>
                <a:lnTo>
                  <a:pt x="289" y="624"/>
                </a:lnTo>
                <a:cubicBezTo>
                  <a:pt x="275" y="624"/>
                  <a:pt x="253" y="638"/>
                  <a:pt x="242" y="643"/>
                </a:cubicBezTo>
                <a:cubicBezTo>
                  <a:pt x="236" y="635"/>
                  <a:pt x="232" y="626"/>
                  <a:pt x="218" y="626"/>
                </a:cubicBezTo>
                <a:lnTo>
                  <a:pt x="134" y="626"/>
                </a:lnTo>
                <a:cubicBezTo>
                  <a:pt x="121" y="626"/>
                  <a:pt x="110" y="637"/>
                  <a:pt x="110" y="650"/>
                </a:cubicBezTo>
                <a:lnTo>
                  <a:pt x="110" y="736"/>
                </a:lnTo>
                <a:cubicBezTo>
                  <a:pt x="110" y="751"/>
                  <a:pt x="123" y="760"/>
                  <a:pt x="138" y="760"/>
                </a:cubicBezTo>
                <a:lnTo>
                  <a:pt x="214" y="760"/>
                </a:lnTo>
                <a:close/>
                <a:moveTo>
                  <a:pt x="132" y="341"/>
                </a:moveTo>
                <a:cubicBezTo>
                  <a:pt x="132" y="336"/>
                  <a:pt x="133" y="335"/>
                  <a:pt x="138" y="335"/>
                </a:cubicBezTo>
                <a:lnTo>
                  <a:pt x="214" y="335"/>
                </a:lnTo>
                <a:cubicBezTo>
                  <a:pt x="219" y="335"/>
                  <a:pt x="220" y="336"/>
                  <a:pt x="220" y="341"/>
                </a:cubicBezTo>
                <a:cubicBezTo>
                  <a:pt x="220" y="347"/>
                  <a:pt x="184" y="371"/>
                  <a:pt x="179" y="371"/>
                </a:cubicBezTo>
                <a:cubicBezTo>
                  <a:pt x="175" y="371"/>
                  <a:pt x="164" y="354"/>
                  <a:pt x="151" y="354"/>
                </a:cubicBezTo>
                <a:cubicBezTo>
                  <a:pt x="145" y="354"/>
                  <a:pt x="136" y="361"/>
                  <a:pt x="136" y="367"/>
                </a:cubicBezTo>
                <a:lnTo>
                  <a:pt x="136" y="369"/>
                </a:lnTo>
                <a:cubicBezTo>
                  <a:pt x="136" y="378"/>
                  <a:pt x="166" y="407"/>
                  <a:pt x="173" y="410"/>
                </a:cubicBezTo>
                <a:lnTo>
                  <a:pt x="220" y="376"/>
                </a:lnTo>
                <a:lnTo>
                  <a:pt x="220" y="425"/>
                </a:lnTo>
                <a:lnTo>
                  <a:pt x="132" y="425"/>
                </a:lnTo>
                <a:lnTo>
                  <a:pt x="132" y="341"/>
                </a:lnTo>
                <a:close/>
                <a:moveTo>
                  <a:pt x="240" y="330"/>
                </a:moveTo>
                <a:cubicBezTo>
                  <a:pt x="237" y="319"/>
                  <a:pt x="228" y="313"/>
                  <a:pt x="214" y="313"/>
                </a:cubicBezTo>
                <a:lnTo>
                  <a:pt x="138" y="313"/>
                </a:lnTo>
                <a:cubicBezTo>
                  <a:pt x="123" y="313"/>
                  <a:pt x="110" y="322"/>
                  <a:pt x="110" y="337"/>
                </a:cubicBezTo>
                <a:lnTo>
                  <a:pt x="110" y="423"/>
                </a:lnTo>
                <a:cubicBezTo>
                  <a:pt x="110" y="436"/>
                  <a:pt x="121" y="447"/>
                  <a:pt x="134" y="447"/>
                </a:cubicBezTo>
                <a:lnTo>
                  <a:pt x="218" y="447"/>
                </a:lnTo>
                <a:cubicBezTo>
                  <a:pt x="252" y="447"/>
                  <a:pt x="242" y="394"/>
                  <a:pt x="241" y="360"/>
                </a:cubicBezTo>
                <a:lnTo>
                  <a:pt x="296" y="313"/>
                </a:lnTo>
                <a:cubicBezTo>
                  <a:pt x="296" y="313"/>
                  <a:pt x="292" y="311"/>
                  <a:pt x="292" y="311"/>
                </a:cubicBezTo>
                <a:cubicBezTo>
                  <a:pt x="270" y="311"/>
                  <a:pt x="253" y="329"/>
                  <a:pt x="240" y="330"/>
                </a:cubicBezTo>
                <a:close/>
                <a:moveTo>
                  <a:pt x="132" y="492"/>
                </a:moveTo>
                <a:lnTo>
                  <a:pt x="220" y="492"/>
                </a:lnTo>
                <a:lnTo>
                  <a:pt x="220" y="503"/>
                </a:lnTo>
                <a:lnTo>
                  <a:pt x="179" y="529"/>
                </a:lnTo>
                <a:lnTo>
                  <a:pt x="152" y="508"/>
                </a:lnTo>
                <a:cubicBezTo>
                  <a:pt x="145" y="513"/>
                  <a:pt x="136" y="515"/>
                  <a:pt x="136" y="525"/>
                </a:cubicBezTo>
                <a:cubicBezTo>
                  <a:pt x="136" y="531"/>
                  <a:pt x="167" y="566"/>
                  <a:pt x="173" y="566"/>
                </a:cubicBezTo>
                <a:cubicBezTo>
                  <a:pt x="183" y="566"/>
                  <a:pt x="209" y="536"/>
                  <a:pt x="220" y="533"/>
                </a:cubicBezTo>
                <a:lnTo>
                  <a:pt x="220" y="581"/>
                </a:lnTo>
                <a:lnTo>
                  <a:pt x="132" y="581"/>
                </a:lnTo>
                <a:lnTo>
                  <a:pt x="132" y="492"/>
                </a:lnTo>
                <a:close/>
                <a:moveTo>
                  <a:pt x="241" y="487"/>
                </a:moveTo>
                <a:cubicBezTo>
                  <a:pt x="238" y="480"/>
                  <a:pt x="233" y="471"/>
                  <a:pt x="220" y="471"/>
                </a:cubicBezTo>
                <a:lnTo>
                  <a:pt x="132" y="471"/>
                </a:lnTo>
                <a:cubicBezTo>
                  <a:pt x="121" y="471"/>
                  <a:pt x="110" y="481"/>
                  <a:pt x="110" y="492"/>
                </a:cubicBezTo>
                <a:lnTo>
                  <a:pt x="110" y="581"/>
                </a:lnTo>
                <a:cubicBezTo>
                  <a:pt x="110" y="592"/>
                  <a:pt x="121" y="602"/>
                  <a:pt x="132" y="602"/>
                </a:cubicBezTo>
                <a:lnTo>
                  <a:pt x="220" y="602"/>
                </a:lnTo>
                <a:cubicBezTo>
                  <a:pt x="252" y="602"/>
                  <a:pt x="242" y="547"/>
                  <a:pt x="241" y="515"/>
                </a:cubicBezTo>
                <a:lnTo>
                  <a:pt x="296" y="469"/>
                </a:lnTo>
                <a:lnTo>
                  <a:pt x="289" y="465"/>
                </a:lnTo>
                <a:lnTo>
                  <a:pt x="241" y="487"/>
                </a:lnTo>
                <a:close/>
                <a:moveTo>
                  <a:pt x="320" y="717"/>
                </a:moveTo>
                <a:cubicBezTo>
                  <a:pt x="320" y="722"/>
                  <a:pt x="321" y="723"/>
                  <a:pt x="326" y="723"/>
                </a:cubicBezTo>
                <a:lnTo>
                  <a:pt x="495" y="723"/>
                </a:lnTo>
                <a:cubicBezTo>
                  <a:pt x="500" y="723"/>
                  <a:pt x="501" y="722"/>
                  <a:pt x="501" y="717"/>
                </a:cubicBezTo>
                <a:lnTo>
                  <a:pt x="501" y="669"/>
                </a:lnTo>
                <a:cubicBezTo>
                  <a:pt x="501" y="664"/>
                  <a:pt x="500" y="663"/>
                  <a:pt x="495" y="663"/>
                </a:cubicBezTo>
                <a:lnTo>
                  <a:pt x="320" y="663"/>
                </a:lnTo>
                <a:lnTo>
                  <a:pt x="320" y="717"/>
                </a:lnTo>
                <a:close/>
                <a:moveTo>
                  <a:pt x="320" y="566"/>
                </a:moveTo>
                <a:lnTo>
                  <a:pt x="501" y="566"/>
                </a:lnTo>
                <a:lnTo>
                  <a:pt x="501" y="507"/>
                </a:lnTo>
                <a:lnTo>
                  <a:pt x="320" y="507"/>
                </a:lnTo>
                <a:lnTo>
                  <a:pt x="320" y="566"/>
                </a:lnTo>
                <a:close/>
                <a:moveTo>
                  <a:pt x="320" y="410"/>
                </a:moveTo>
                <a:lnTo>
                  <a:pt x="452" y="410"/>
                </a:lnTo>
                <a:lnTo>
                  <a:pt x="452" y="352"/>
                </a:lnTo>
                <a:lnTo>
                  <a:pt x="320" y="352"/>
                </a:lnTo>
                <a:lnTo>
                  <a:pt x="320" y="410"/>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44" name="Freeform 39"/>
          <p:cNvSpPr/>
          <p:nvPr/>
        </p:nvSpPr>
        <p:spPr>
          <a:xfrm>
            <a:off x="5718240" y="5483160"/>
            <a:ext cx="623880" cy="625680"/>
          </a:xfrm>
          <a:custGeom>
            <a:avLst/>
            <a:gdLst>
              <a:gd name="textAreaLeft" fmla="*/ 0 w 623880"/>
              <a:gd name="textAreaRight" fmla="*/ 624240 w 623880"/>
              <a:gd name="textAreaTop" fmla="*/ 0 h 625680"/>
              <a:gd name="textAreaBottom" fmla="*/ 626040 h 625680"/>
            </a:gdLst>
            <a:ahLst/>
            <a:rect l="textAreaLeft" t="textAreaTop" r="textAreaRight" b="textAreaBottom"/>
            <a:pathLst>
              <a:path w="876" h="875">
                <a:moveTo>
                  <a:pt x="275" y="155"/>
                </a:moveTo>
                <a:cubicBezTo>
                  <a:pt x="119" y="245"/>
                  <a:pt x="65" y="445"/>
                  <a:pt x="155" y="601"/>
                </a:cubicBezTo>
                <a:cubicBezTo>
                  <a:pt x="245" y="757"/>
                  <a:pt x="445" y="810"/>
                  <a:pt x="601" y="720"/>
                </a:cubicBezTo>
                <a:cubicBezTo>
                  <a:pt x="757" y="630"/>
                  <a:pt x="811" y="430"/>
                  <a:pt x="721" y="274"/>
                </a:cubicBezTo>
                <a:cubicBezTo>
                  <a:pt x="631" y="118"/>
                  <a:pt x="431" y="65"/>
                  <a:pt x="275" y="155"/>
                </a:cubicBezTo>
                <a:close/>
                <a:moveTo>
                  <a:pt x="630" y="770"/>
                </a:moveTo>
                <a:cubicBezTo>
                  <a:pt x="447" y="875"/>
                  <a:pt x="212" y="812"/>
                  <a:pt x="106" y="629"/>
                </a:cubicBezTo>
                <a:cubicBezTo>
                  <a:pt x="0" y="446"/>
                  <a:pt x="63" y="211"/>
                  <a:pt x="246" y="106"/>
                </a:cubicBezTo>
                <a:cubicBezTo>
                  <a:pt x="429" y="0"/>
                  <a:pt x="664" y="63"/>
                  <a:pt x="770" y="246"/>
                </a:cubicBezTo>
                <a:cubicBezTo>
                  <a:pt x="876" y="429"/>
                  <a:pt x="813" y="664"/>
                  <a:pt x="630" y="770"/>
                </a:cubicBezTo>
                <a:close/>
                <a:moveTo>
                  <a:pt x="303" y="204"/>
                </a:moveTo>
                <a:cubicBezTo>
                  <a:pt x="174" y="278"/>
                  <a:pt x="130" y="444"/>
                  <a:pt x="204" y="573"/>
                </a:cubicBezTo>
                <a:cubicBezTo>
                  <a:pt x="279" y="701"/>
                  <a:pt x="444" y="746"/>
                  <a:pt x="573" y="671"/>
                </a:cubicBezTo>
                <a:cubicBezTo>
                  <a:pt x="702" y="597"/>
                  <a:pt x="746" y="432"/>
                  <a:pt x="672" y="303"/>
                </a:cubicBezTo>
                <a:cubicBezTo>
                  <a:pt x="597" y="174"/>
                  <a:pt x="432" y="130"/>
                  <a:pt x="303" y="204"/>
                </a:cubicBezTo>
                <a:close/>
                <a:moveTo>
                  <a:pt x="584" y="691"/>
                </a:moveTo>
                <a:cubicBezTo>
                  <a:pt x="445" y="772"/>
                  <a:pt x="265" y="724"/>
                  <a:pt x="185" y="584"/>
                </a:cubicBezTo>
                <a:cubicBezTo>
                  <a:pt x="104" y="444"/>
                  <a:pt x="152" y="265"/>
                  <a:pt x="292" y="184"/>
                </a:cubicBezTo>
                <a:cubicBezTo>
                  <a:pt x="431" y="104"/>
                  <a:pt x="611" y="152"/>
                  <a:pt x="691" y="291"/>
                </a:cubicBezTo>
                <a:cubicBezTo>
                  <a:pt x="772" y="431"/>
                  <a:pt x="724" y="610"/>
                  <a:pt x="584" y="691"/>
                </a:cubicBezTo>
                <a:close/>
                <a:moveTo>
                  <a:pt x="479" y="438"/>
                </a:moveTo>
                <a:cubicBezTo>
                  <a:pt x="479" y="460"/>
                  <a:pt x="461" y="479"/>
                  <a:pt x="438" y="479"/>
                </a:cubicBezTo>
                <a:cubicBezTo>
                  <a:pt x="415" y="479"/>
                  <a:pt x="397" y="460"/>
                  <a:pt x="397" y="438"/>
                </a:cubicBezTo>
                <a:cubicBezTo>
                  <a:pt x="397" y="415"/>
                  <a:pt x="415" y="396"/>
                  <a:pt x="438" y="396"/>
                </a:cubicBezTo>
                <a:cubicBezTo>
                  <a:pt x="461" y="396"/>
                  <a:pt x="479" y="415"/>
                  <a:pt x="479" y="438"/>
                </a:cubicBezTo>
                <a:close/>
                <a:moveTo>
                  <a:pt x="457" y="201"/>
                </a:moveTo>
                <a:cubicBezTo>
                  <a:pt x="457" y="211"/>
                  <a:pt x="449" y="219"/>
                  <a:pt x="439" y="219"/>
                </a:cubicBezTo>
                <a:lnTo>
                  <a:pt x="437" y="219"/>
                </a:lnTo>
                <a:cubicBezTo>
                  <a:pt x="427" y="219"/>
                  <a:pt x="419" y="211"/>
                  <a:pt x="419" y="201"/>
                </a:cubicBezTo>
                <a:lnTo>
                  <a:pt x="419" y="172"/>
                </a:lnTo>
                <a:cubicBezTo>
                  <a:pt x="419" y="162"/>
                  <a:pt x="427" y="154"/>
                  <a:pt x="437" y="154"/>
                </a:cubicBezTo>
                <a:lnTo>
                  <a:pt x="439" y="154"/>
                </a:lnTo>
                <a:cubicBezTo>
                  <a:pt x="449" y="154"/>
                  <a:pt x="457" y="162"/>
                  <a:pt x="457" y="172"/>
                </a:cubicBezTo>
                <a:lnTo>
                  <a:pt x="457" y="201"/>
                </a:lnTo>
                <a:close/>
                <a:moveTo>
                  <a:pt x="457" y="703"/>
                </a:moveTo>
                <a:cubicBezTo>
                  <a:pt x="457" y="713"/>
                  <a:pt x="449" y="721"/>
                  <a:pt x="439" y="721"/>
                </a:cubicBezTo>
                <a:lnTo>
                  <a:pt x="437" y="721"/>
                </a:lnTo>
                <a:cubicBezTo>
                  <a:pt x="427" y="721"/>
                  <a:pt x="419" y="713"/>
                  <a:pt x="419" y="703"/>
                </a:cubicBezTo>
                <a:lnTo>
                  <a:pt x="419" y="674"/>
                </a:lnTo>
                <a:cubicBezTo>
                  <a:pt x="419" y="664"/>
                  <a:pt x="427" y="656"/>
                  <a:pt x="437" y="656"/>
                </a:cubicBezTo>
                <a:lnTo>
                  <a:pt x="439" y="656"/>
                </a:lnTo>
                <a:cubicBezTo>
                  <a:pt x="449" y="656"/>
                  <a:pt x="457" y="664"/>
                  <a:pt x="457" y="674"/>
                </a:cubicBezTo>
                <a:lnTo>
                  <a:pt x="457" y="703"/>
                </a:lnTo>
                <a:close/>
                <a:moveTo>
                  <a:pt x="202" y="415"/>
                </a:moveTo>
                <a:cubicBezTo>
                  <a:pt x="212" y="415"/>
                  <a:pt x="220" y="423"/>
                  <a:pt x="220" y="433"/>
                </a:cubicBezTo>
                <a:lnTo>
                  <a:pt x="220" y="435"/>
                </a:lnTo>
                <a:cubicBezTo>
                  <a:pt x="220" y="445"/>
                  <a:pt x="212" y="453"/>
                  <a:pt x="202" y="453"/>
                </a:cubicBezTo>
                <a:lnTo>
                  <a:pt x="173" y="453"/>
                </a:lnTo>
                <a:cubicBezTo>
                  <a:pt x="163" y="453"/>
                  <a:pt x="155" y="445"/>
                  <a:pt x="155" y="435"/>
                </a:cubicBezTo>
                <a:lnTo>
                  <a:pt x="155" y="433"/>
                </a:lnTo>
                <a:cubicBezTo>
                  <a:pt x="155" y="423"/>
                  <a:pt x="163" y="415"/>
                  <a:pt x="173" y="415"/>
                </a:cubicBezTo>
                <a:lnTo>
                  <a:pt x="202" y="415"/>
                </a:lnTo>
                <a:close/>
                <a:moveTo>
                  <a:pt x="703" y="415"/>
                </a:moveTo>
                <a:cubicBezTo>
                  <a:pt x="713" y="415"/>
                  <a:pt x="721" y="423"/>
                  <a:pt x="721" y="433"/>
                </a:cubicBezTo>
                <a:lnTo>
                  <a:pt x="721" y="435"/>
                </a:lnTo>
                <a:cubicBezTo>
                  <a:pt x="721" y="445"/>
                  <a:pt x="713" y="453"/>
                  <a:pt x="703" y="453"/>
                </a:cubicBezTo>
                <a:lnTo>
                  <a:pt x="674" y="453"/>
                </a:lnTo>
                <a:cubicBezTo>
                  <a:pt x="664" y="453"/>
                  <a:pt x="656" y="445"/>
                  <a:pt x="656" y="435"/>
                </a:cubicBezTo>
                <a:lnTo>
                  <a:pt x="656" y="433"/>
                </a:lnTo>
                <a:cubicBezTo>
                  <a:pt x="656" y="423"/>
                  <a:pt x="664" y="415"/>
                  <a:pt x="674" y="415"/>
                </a:cubicBezTo>
                <a:lnTo>
                  <a:pt x="703" y="415"/>
                </a:lnTo>
                <a:close/>
                <a:moveTo>
                  <a:pt x="462" y="437"/>
                </a:moveTo>
                <a:cubicBezTo>
                  <a:pt x="462" y="450"/>
                  <a:pt x="451" y="461"/>
                  <a:pt x="439" y="461"/>
                </a:cubicBezTo>
                <a:cubicBezTo>
                  <a:pt x="426" y="461"/>
                  <a:pt x="416" y="450"/>
                  <a:pt x="416" y="437"/>
                </a:cubicBezTo>
                <a:lnTo>
                  <a:pt x="416" y="279"/>
                </a:lnTo>
                <a:cubicBezTo>
                  <a:pt x="416" y="266"/>
                  <a:pt x="426" y="256"/>
                  <a:pt x="439" y="256"/>
                </a:cubicBezTo>
                <a:cubicBezTo>
                  <a:pt x="451" y="256"/>
                  <a:pt x="462" y="266"/>
                  <a:pt x="462" y="279"/>
                </a:cubicBezTo>
                <a:lnTo>
                  <a:pt x="462" y="437"/>
                </a:lnTo>
                <a:close/>
                <a:moveTo>
                  <a:pt x="367" y="544"/>
                </a:moveTo>
                <a:cubicBezTo>
                  <a:pt x="357" y="554"/>
                  <a:pt x="342" y="554"/>
                  <a:pt x="333" y="546"/>
                </a:cubicBezTo>
                <a:cubicBezTo>
                  <a:pt x="324" y="537"/>
                  <a:pt x="325" y="521"/>
                  <a:pt x="335" y="511"/>
                </a:cubicBezTo>
                <a:lnTo>
                  <a:pt x="418" y="428"/>
                </a:lnTo>
                <a:cubicBezTo>
                  <a:pt x="428" y="418"/>
                  <a:pt x="444" y="417"/>
                  <a:pt x="453" y="426"/>
                </a:cubicBezTo>
                <a:cubicBezTo>
                  <a:pt x="462" y="434"/>
                  <a:pt x="461" y="450"/>
                  <a:pt x="451" y="460"/>
                </a:cubicBezTo>
                <a:lnTo>
                  <a:pt x="367" y="544"/>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45" name="Freeform 40"/>
          <p:cNvSpPr/>
          <p:nvPr/>
        </p:nvSpPr>
        <p:spPr>
          <a:xfrm>
            <a:off x="6969240" y="5514840"/>
            <a:ext cx="395280" cy="519120"/>
          </a:xfrm>
          <a:custGeom>
            <a:avLst/>
            <a:gdLst>
              <a:gd name="textAreaLeft" fmla="*/ 0 w 395280"/>
              <a:gd name="textAreaRight" fmla="*/ 395640 w 395280"/>
              <a:gd name="textAreaTop" fmla="*/ 0 h 519120"/>
              <a:gd name="textAreaBottom" fmla="*/ 519480 h 519120"/>
            </a:gdLst>
            <a:ahLst/>
            <a:rect l="textAreaLeft" t="textAreaTop" r="textAreaRight" b="textAreaBottom"/>
            <a:pathLst>
              <a:path w="555" h="725">
                <a:moveTo>
                  <a:pt x="555" y="378"/>
                </a:moveTo>
                <a:cubicBezTo>
                  <a:pt x="555" y="352"/>
                  <a:pt x="536" y="331"/>
                  <a:pt x="512" y="331"/>
                </a:cubicBezTo>
                <a:lnTo>
                  <a:pt x="267" y="331"/>
                </a:lnTo>
                <a:cubicBezTo>
                  <a:pt x="301" y="247"/>
                  <a:pt x="297" y="141"/>
                  <a:pt x="297" y="141"/>
                </a:cubicBezTo>
                <a:cubicBezTo>
                  <a:pt x="289" y="87"/>
                  <a:pt x="275" y="55"/>
                  <a:pt x="253" y="36"/>
                </a:cubicBezTo>
                <a:cubicBezTo>
                  <a:pt x="214" y="0"/>
                  <a:pt x="192" y="42"/>
                  <a:pt x="192" y="42"/>
                </a:cubicBezTo>
                <a:cubicBezTo>
                  <a:pt x="192" y="42"/>
                  <a:pt x="207" y="123"/>
                  <a:pt x="193" y="171"/>
                </a:cubicBezTo>
                <a:cubicBezTo>
                  <a:pt x="180" y="219"/>
                  <a:pt x="85" y="359"/>
                  <a:pt x="85" y="359"/>
                </a:cubicBezTo>
                <a:cubicBezTo>
                  <a:pt x="79" y="375"/>
                  <a:pt x="20" y="413"/>
                  <a:pt x="0" y="423"/>
                </a:cubicBezTo>
                <a:lnTo>
                  <a:pt x="0" y="680"/>
                </a:lnTo>
                <a:cubicBezTo>
                  <a:pt x="0" y="680"/>
                  <a:pt x="42" y="679"/>
                  <a:pt x="61" y="688"/>
                </a:cubicBezTo>
                <a:cubicBezTo>
                  <a:pt x="135" y="725"/>
                  <a:pt x="440" y="707"/>
                  <a:pt x="440" y="707"/>
                </a:cubicBezTo>
                <a:cubicBezTo>
                  <a:pt x="440" y="707"/>
                  <a:pt x="440" y="706"/>
                  <a:pt x="440" y="706"/>
                </a:cubicBezTo>
                <a:cubicBezTo>
                  <a:pt x="461" y="704"/>
                  <a:pt x="479" y="684"/>
                  <a:pt x="479" y="660"/>
                </a:cubicBezTo>
                <a:cubicBezTo>
                  <a:pt x="479" y="634"/>
                  <a:pt x="459" y="613"/>
                  <a:pt x="436" y="613"/>
                </a:cubicBezTo>
                <a:lnTo>
                  <a:pt x="458" y="613"/>
                </a:lnTo>
                <a:cubicBezTo>
                  <a:pt x="482" y="613"/>
                  <a:pt x="501" y="592"/>
                  <a:pt x="501" y="565"/>
                </a:cubicBezTo>
                <a:cubicBezTo>
                  <a:pt x="501" y="540"/>
                  <a:pt x="482" y="519"/>
                  <a:pt x="458" y="519"/>
                </a:cubicBezTo>
                <a:lnTo>
                  <a:pt x="481" y="519"/>
                </a:lnTo>
                <a:cubicBezTo>
                  <a:pt x="504" y="519"/>
                  <a:pt x="523" y="498"/>
                  <a:pt x="523" y="472"/>
                </a:cubicBezTo>
                <a:cubicBezTo>
                  <a:pt x="523" y="446"/>
                  <a:pt x="504" y="425"/>
                  <a:pt x="481" y="425"/>
                </a:cubicBezTo>
                <a:lnTo>
                  <a:pt x="512" y="425"/>
                </a:lnTo>
                <a:cubicBezTo>
                  <a:pt x="536" y="425"/>
                  <a:pt x="555" y="404"/>
                  <a:pt x="555" y="378"/>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46" name="Freeform 41"/>
          <p:cNvSpPr/>
          <p:nvPr/>
        </p:nvSpPr>
        <p:spPr>
          <a:xfrm>
            <a:off x="6807240" y="5772240"/>
            <a:ext cx="131760" cy="266760"/>
          </a:xfrm>
          <a:custGeom>
            <a:avLst/>
            <a:gdLst>
              <a:gd name="textAreaLeft" fmla="*/ 0 w 131760"/>
              <a:gd name="textAreaRight" fmla="*/ 132120 w 131760"/>
              <a:gd name="textAreaTop" fmla="*/ 0 h 266760"/>
              <a:gd name="textAreaBottom" fmla="*/ 267120 h 266760"/>
            </a:gdLst>
            <a:ahLst/>
            <a:rect l="textAreaLeft" t="textAreaTop" r="textAreaRight" b="textAreaBottom"/>
            <a:pathLst>
              <a:path w="184" h="371">
                <a:moveTo>
                  <a:pt x="0" y="43"/>
                </a:moveTo>
                <a:cubicBezTo>
                  <a:pt x="0" y="19"/>
                  <a:pt x="19" y="0"/>
                  <a:pt x="42" y="0"/>
                </a:cubicBezTo>
                <a:lnTo>
                  <a:pt x="141" y="0"/>
                </a:lnTo>
                <a:cubicBezTo>
                  <a:pt x="165" y="0"/>
                  <a:pt x="184" y="19"/>
                  <a:pt x="184" y="43"/>
                </a:cubicBezTo>
                <a:lnTo>
                  <a:pt x="184" y="329"/>
                </a:lnTo>
                <a:cubicBezTo>
                  <a:pt x="184" y="352"/>
                  <a:pt x="165" y="371"/>
                  <a:pt x="141" y="371"/>
                </a:cubicBezTo>
                <a:lnTo>
                  <a:pt x="42" y="371"/>
                </a:lnTo>
                <a:cubicBezTo>
                  <a:pt x="19" y="371"/>
                  <a:pt x="0" y="352"/>
                  <a:pt x="0" y="329"/>
                </a:cubicBezTo>
                <a:lnTo>
                  <a:pt x="0" y="43"/>
                </a:lnTo>
                <a:close/>
                <a:moveTo>
                  <a:pt x="106" y="267"/>
                </a:moveTo>
                <a:lnTo>
                  <a:pt x="106" y="267"/>
                </a:lnTo>
                <a:cubicBezTo>
                  <a:pt x="88" y="267"/>
                  <a:pt x="74" y="282"/>
                  <a:pt x="74" y="299"/>
                </a:cubicBezTo>
                <a:cubicBezTo>
                  <a:pt x="74" y="316"/>
                  <a:pt x="88" y="330"/>
                  <a:pt x="106" y="330"/>
                </a:cubicBezTo>
                <a:cubicBezTo>
                  <a:pt x="123" y="330"/>
                  <a:pt x="137" y="316"/>
                  <a:pt x="137" y="299"/>
                </a:cubicBezTo>
                <a:cubicBezTo>
                  <a:pt x="137" y="282"/>
                  <a:pt x="123" y="267"/>
                  <a:pt x="106" y="267"/>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47" name="Freeform 42"/>
          <p:cNvSpPr/>
          <p:nvPr/>
        </p:nvSpPr>
        <p:spPr>
          <a:xfrm>
            <a:off x="7932600" y="1325520"/>
            <a:ext cx="652680" cy="457200"/>
          </a:xfrm>
          <a:custGeom>
            <a:avLst/>
            <a:gdLst>
              <a:gd name="textAreaLeft" fmla="*/ 0 w 652680"/>
              <a:gd name="textAreaRight" fmla="*/ 653040 w 652680"/>
              <a:gd name="textAreaTop" fmla="*/ 0 h 457200"/>
              <a:gd name="textAreaBottom" fmla="*/ 457560 h 457200"/>
            </a:gdLst>
            <a:ahLst/>
            <a:rect l="textAreaLeft" t="textAreaTop" r="textAreaRight" b="textAreaBottom"/>
            <a:pathLst>
              <a:path w="915" h="639">
                <a:moveTo>
                  <a:pt x="132" y="118"/>
                </a:moveTo>
                <a:cubicBezTo>
                  <a:pt x="116" y="127"/>
                  <a:pt x="104" y="124"/>
                  <a:pt x="102" y="118"/>
                </a:cubicBezTo>
                <a:cubicBezTo>
                  <a:pt x="99" y="112"/>
                  <a:pt x="104" y="97"/>
                  <a:pt x="122" y="87"/>
                </a:cubicBezTo>
                <a:cubicBezTo>
                  <a:pt x="145" y="74"/>
                  <a:pt x="173" y="81"/>
                  <a:pt x="173" y="81"/>
                </a:cubicBezTo>
                <a:cubicBezTo>
                  <a:pt x="173" y="81"/>
                  <a:pt x="153" y="105"/>
                  <a:pt x="132" y="118"/>
                </a:cubicBezTo>
                <a:close/>
                <a:moveTo>
                  <a:pt x="79" y="83"/>
                </a:moveTo>
                <a:cubicBezTo>
                  <a:pt x="75" y="104"/>
                  <a:pt x="85" y="112"/>
                  <a:pt x="91" y="112"/>
                </a:cubicBezTo>
                <a:cubicBezTo>
                  <a:pt x="97" y="111"/>
                  <a:pt x="108" y="100"/>
                  <a:pt x="112" y="80"/>
                </a:cubicBezTo>
                <a:cubicBezTo>
                  <a:pt x="118" y="54"/>
                  <a:pt x="112" y="25"/>
                  <a:pt x="112" y="25"/>
                </a:cubicBezTo>
                <a:cubicBezTo>
                  <a:pt x="112" y="25"/>
                  <a:pt x="83" y="55"/>
                  <a:pt x="79" y="83"/>
                </a:cubicBezTo>
                <a:close/>
                <a:moveTo>
                  <a:pt x="102" y="175"/>
                </a:moveTo>
                <a:cubicBezTo>
                  <a:pt x="88" y="187"/>
                  <a:pt x="75" y="185"/>
                  <a:pt x="72" y="180"/>
                </a:cubicBezTo>
                <a:cubicBezTo>
                  <a:pt x="68" y="175"/>
                  <a:pt x="71" y="159"/>
                  <a:pt x="86" y="147"/>
                </a:cubicBezTo>
                <a:cubicBezTo>
                  <a:pt x="106" y="130"/>
                  <a:pt x="134" y="132"/>
                  <a:pt x="134" y="132"/>
                </a:cubicBezTo>
                <a:cubicBezTo>
                  <a:pt x="134" y="132"/>
                  <a:pt x="120" y="159"/>
                  <a:pt x="102" y="175"/>
                </a:cubicBezTo>
                <a:close/>
                <a:moveTo>
                  <a:pt x="43" y="150"/>
                </a:moveTo>
                <a:cubicBezTo>
                  <a:pt x="44" y="171"/>
                  <a:pt x="55" y="178"/>
                  <a:pt x="60" y="176"/>
                </a:cubicBezTo>
                <a:cubicBezTo>
                  <a:pt x="67" y="174"/>
                  <a:pt x="75" y="161"/>
                  <a:pt x="75" y="142"/>
                </a:cubicBezTo>
                <a:cubicBezTo>
                  <a:pt x="76" y="115"/>
                  <a:pt x="64" y="89"/>
                  <a:pt x="64" y="89"/>
                </a:cubicBezTo>
                <a:cubicBezTo>
                  <a:pt x="64" y="88"/>
                  <a:pt x="42" y="122"/>
                  <a:pt x="43" y="150"/>
                </a:cubicBezTo>
                <a:close/>
                <a:moveTo>
                  <a:pt x="83" y="236"/>
                </a:moveTo>
                <a:cubicBezTo>
                  <a:pt x="71" y="250"/>
                  <a:pt x="59" y="250"/>
                  <a:pt x="55" y="246"/>
                </a:cubicBezTo>
                <a:cubicBezTo>
                  <a:pt x="50" y="242"/>
                  <a:pt x="49" y="226"/>
                  <a:pt x="62" y="211"/>
                </a:cubicBezTo>
                <a:cubicBezTo>
                  <a:pt x="79" y="191"/>
                  <a:pt x="107" y="188"/>
                  <a:pt x="107" y="188"/>
                </a:cubicBezTo>
                <a:cubicBezTo>
                  <a:pt x="106" y="188"/>
                  <a:pt x="97" y="217"/>
                  <a:pt x="83" y="236"/>
                </a:cubicBezTo>
                <a:close/>
                <a:moveTo>
                  <a:pt x="21" y="222"/>
                </a:moveTo>
                <a:cubicBezTo>
                  <a:pt x="25" y="242"/>
                  <a:pt x="37" y="247"/>
                  <a:pt x="42" y="244"/>
                </a:cubicBezTo>
                <a:cubicBezTo>
                  <a:pt x="48" y="241"/>
                  <a:pt x="54" y="227"/>
                  <a:pt x="51" y="208"/>
                </a:cubicBezTo>
                <a:cubicBezTo>
                  <a:pt x="46" y="182"/>
                  <a:pt x="30" y="158"/>
                  <a:pt x="30" y="158"/>
                </a:cubicBezTo>
                <a:cubicBezTo>
                  <a:pt x="29" y="158"/>
                  <a:pt x="15" y="194"/>
                  <a:pt x="21" y="222"/>
                </a:cubicBezTo>
                <a:close/>
                <a:moveTo>
                  <a:pt x="75" y="298"/>
                </a:moveTo>
                <a:cubicBezTo>
                  <a:pt x="66" y="314"/>
                  <a:pt x="54" y="317"/>
                  <a:pt x="49" y="314"/>
                </a:cubicBezTo>
                <a:cubicBezTo>
                  <a:pt x="44" y="310"/>
                  <a:pt x="40" y="294"/>
                  <a:pt x="50" y="278"/>
                </a:cubicBezTo>
                <a:cubicBezTo>
                  <a:pt x="63" y="256"/>
                  <a:pt x="90" y="247"/>
                  <a:pt x="90" y="247"/>
                </a:cubicBezTo>
                <a:cubicBezTo>
                  <a:pt x="90" y="248"/>
                  <a:pt x="86" y="277"/>
                  <a:pt x="75" y="298"/>
                </a:cubicBezTo>
                <a:close/>
                <a:moveTo>
                  <a:pt x="12" y="296"/>
                </a:moveTo>
                <a:cubicBezTo>
                  <a:pt x="19" y="315"/>
                  <a:pt x="32" y="317"/>
                  <a:pt x="37" y="314"/>
                </a:cubicBezTo>
                <a:cubicBezTo>
                  <a:pt x="42" y="310"/>
                  <a:pt x="45" y="295"/>
                  <a:pt x="39" y="277"/>
                </a:cubicBezTo>
                <a:cubicBezTo>
                  <a:pt x="30" y="253"/>
                  <a:pt x="9" y="232"/>
                  <a:pt x="9" y="232"/>
                </a:cubicBezTo>
                <a:cubicBezTo>
                  <a:pt x="9" y="232"/>
                  <a:pt x="1" y="270"/>
                  <a:pt x="12" y="296"/>
                </a:cubicBezTo>
                <a:close/>
                <a:moveTo>
                  <a:pt x="119" y="482"/>
                </a:moveTo>
                <a:cubicBezTo>
                  <a:pt x="120" y="500"/>
                  <a:pt x="111" y="509"/>
                  <a:pt x="105" y="509"/>
                </a:cubicBezTo>
                <a:cubicBezTo>
                  <a:pt x="99" y="508"/>
                  <a:pt x="87" y="496"/>
                  <a:pt x="87" y="477"/>
                </a:cubicBezTo>
                <a:cubicBezTo>
                  <a:pt x="87" y="450"/>
                  <a:pt x="106" y="429"/>
                  <a:pt x="106" y="429"/>
                </a:cubicBezTo>
                <a:cubicBezTo>
                  <a:pt x="105" y="430"/>
                  <a:pt x="118" y="457"/>
                  <a:pt x="119" y="482"/>
                </a:cubicBezTo>
                <a:close/>
                <a:moveTo>
                  <a:pt x="64" y="513"/>
                </a:moveTo>
                <a:cubicBezTo>
                  <a:pt x="81" y="526"/>
                  <a:pt x="93" y="521"/>
                  <a:pt x="95" y="515"/>
                </a:cubicBezTo>
                <a:cubicBezTo>
                  <a:pt x="97" y="509"/>
                  <a:pt x="92" y="494"/>
                  <a:pt x="77" y="482"/>
                </a:cubicBezTo>
                <a:cubicBezTo>
                  <a:pt x="56" y="465"/>
                  <a:pt x="28" y="458"/>
                  <a:pt x="28" y="458"/>
                </a:cubicBezTo>
                <a:cubicBezTo>
                  <a:pt x="28" y="458"/>
                  <a:pt x="41" y="495"/>
                  <a:pt x="64" y="513"/>
                </a:cubicBezTo>
                <a:close/>
                <a:moveTo>
                  <a:pt x="93" y="423"/>
                </a:moveTo>
                <a:cubicBezTo>
                  <a:pt x="90" y="441"/>
                  <a:pt x="80" y="448"/>
                  <a:pt x="75" y="447"/>
                </a:cubicBezTo>
                <a:cubicBezTo>
                  <a:pt x="68" y="445"/>
                  <a:pt x="59" y="432"/>
                  <a:pt x="63" y="413"/>
                </a:cubicBezTo>
                <a:cubicBezTo>
                  <a:pt x="67" y="387"/>
                  <a:pt x="89" y="370"/>
                  <a:pt x="89" y="370"/>
                </a:cubicBezTo>
                <a:cubicBezTo>
                  <a:pt x="89" y="370"/>
                  <a:pt x="96" y="399"/>
                  <a:pt x="93" y="423"/>
                </a:cubicBezTo>
                <a:close/>
                <a:moveTo>
                  <a:pt x="33" y="443"/>
                </a:moveTo>
                <a:cubicBezTo>
                  <a:pt x="47" y="459"/>
                  <a:pt x="60" y="456"/>
                  <a:pt x="63" y="451"/>
                </a:cubicBezTo>
                <a:cubicBezTo>
                  <a:pt x="66" y="445"/>
                  <a:pt x="64" y="430"/>
                  <a:pt x="52" y="416"/>
                </a:cubicBezTo>
                <a:cubicBezTo>
                  <a:pt x="35" y="396"/>
                  <a:pt x="8" y="384"/>
                  <a:pt x="8" y="384"/>
                </a:cubicBezTo>
                <a:cubicBezTo>
                  <a:pt x="8" y="384"/>
                  <a:pt x="14" y="423"/>
                  <a:pt x="33" y="443"/>
                </a:cubicBezTo>
                <a:close/>
                <a:moveTo>
                  <a:pt x="78" y="361"/>
                </a:moveTo>
                <a:cubicBezTo>
                  <a:pt x="73" y="379"/>
                  <a:pt x="61" y="384"/>
                  <a:pt x="56" y="381"/>
                </a:cubicBezTo>
                <a:cubicBezTo>
                  <a:pt x="50" y="378"/>
                  <a:pt x="44" y="364"/>
                  <a:pt x="50" y="346"/>
                </a:cubicBezTo>
                <a:cubicBezTo>
                  <a:pt x="59" y="321"/>
                  <a:pt x="84" y="308"/>
                  <a:pt x="84" y="309"/>
                </a:cubicBezTo>
                <a:cubicBezTo>
                  <a:pt x="84" y="309"/>
                  <a:pt x="86" y="339"/>
                  <a:pt x="78" y="361"/>
                </a:cubicBezTo>
                <a:close/>
                <a:moveTo>
                  <a:pt x="16" y="371"/>
                </a:moveTo>
                <a:cubicBezTo>
                  <a:pt x="27" y="388"/>
                  <a:pt x="40" y="388"/>
                  <a:pt x="44" y="383"/>
                </a:cubicBezTo>
                <a:cubicBezTo>
                  <a:pt x="48" y="378"/>
                  <a:pt x="49" y="364"/>
                  <a:pt x="39" y="347"/>
                </a:cubicBezTo>
                <a:cubicBezTo>
                  <a:pt x="26" y="325"/>
                  <a:pt x="2" y="308"/>
                  <a:pt x="2" y="308"/>
                </a:cubicBezTo>
                <a:cubicBezTo>
                  <a:pt x="1" y="308"/>
                  <a:pt x="0" y="347"/>
                  <a:pt x="16" y="371"/>
                </a:cubicBezTo>
                <a:close/>
                <a:moveTo>
                  <a:pt x="156" y="536"/>
                </a:moveTo>
                <a:cubicBezTo>
                  <a:pt x="161" y="554"/>
                  <a:pt x="154" y="564"/>
                  <a:pt x="148" y="565"/>
                </a:cubicBezTo>
                <a:cubicBezTo>
                  <a:pt x="142" y="565"/>
                  <a:pt x="128" y="556"/>
                  <a:pt x="124" y="536"/>
                </a:cubicBezTo>
                <a:cubicBezTo>
                  <a:pt x="118" y="510"/>
                  <a:pt x="133" y="486"/>
                  <a:pt x="133" y="486"/>
                </a:cubicBezTo>
                <a:cubicBezTo>
                  <a:pt x="132" y="486"/>
                  <a:pt x="150" y="511"/>
                  <a:pt x="156" y="536"/>
                </a:cubicBezTo>
                <a:close/>
                <a:moveTo>
                  <a:pt x="108" y="576"/>
                </a:moveTo>
                <a:cubicBezTo>
                  <a:pt x="127" y="586"/>
                  <a:pt x="138" y="579"/>
                  <a:pt x="139" y="573"/>
                </a:cubicBezTo>
                <a:cubicBezTo>
                  <a:pt x="140" y="567"/>
                  <a:pt x="132" y="553"/>
                  <a:pt x="115" y="543"/>
                </a:cubicBezTo>
                <a:cubicBezTo>
                  <a:pt x="91" y="530"/>
                  <a:pt x="62" y="528"/>
                  <a:pt x="62" y="528"/>
                </a:cubicBezTo>
                <a:cubicBezTo>
                  <a:pt x="61" y="528"/>
                  <a:pt x="81" y="563"/>
                  <a:pt x="108" y="576"/>
                </a:cubicBezTo>
                <a:close/>
                <a:moveTo>
                  <a:pt x="205" y="583"/>
                </a:moveTo>
                <a:cubicBezTo>
                  <a:pt x="213" y="600"/>
                  <a:pt x="209" y="612"/>
                  <a:pt x="203" y="614"/>
                </a:cubicBezTo>
                <a:cubicBezTo>
                  <a:pt x="197" y="615"/>
                  <a:pt x="181" y="608"/>
                  <a:pt x="172" y="589"/>
                </a:cubicBezTo>
                <a:cubicBezTo>
                  <a:pt x="161" y="564"/>
                  <a:pt x="171" y="537"/>
                  <a:pt x="171" y="537"/>
                </a:cubicBezTo>
                <a:cubicBezTo>
                  <a:pt x="170" y="538"/>
                  <a:pt x="193" y="560"/>
                  <a:pt x="205" y="583"/>
                </a:cubicBezTo>
                <a:close/>
                <a:moveTo>
                  <a:pt x="165" y="632"/>
                </a:moveTo>
                <a:cubicBezTo>
                  <a:pt x="187" y="639"/>
                  <a:pt x="196" y="630"/>
                  <a:pt x="196" y="624"/>
                </a:cubicBezTo>
                <a:cubicBezTo>
                  <a:pt x="195" y="617"/>
                  <a:pt x="184" y="604"/>
                  <a:pt x="165" y="598"/>
                </a:cubicBezTo>
                <a:cubicBezTo>
                  <a:pt x="138" y="589"/>
                  <a:pt x="109" y="592"/>
                  <a:pt x="109" y="592"/>
                </a:cubicBezTo>
                <a:cubicBezTo>
                  <a:pt x="108" y="592"/>
                  <a:pt x="135" y="624"/>
                  <a:pt x="165" y="632"/>
                </a:cubicBezTo>
                <a:close/>
                <a:moveTo>
                  <a:pt x="143" y="30"/>
                </a:moveTo>
                <a:cubicBezTo>
                  <a:pt x="127" y="46"/>
                  <a:pt x="128" y="61"/>
                  <a:pt x="132" y="65"/>
                </a:cubicBezTo>
                <a:cubicBezTo>
                  <a:pt x="137" y="68"/>
                  <a:pt x="151" y="66"/>
                  <a:pt x="165" y="51"/>
                </a:cubicBezTo>
                <a:cubicBezTo>
                  <a:pt x="184" y="31"/>
                  <a:pt x="200" y="1"/>
                  <a:pt x="200" y="1"/>
                </a:cubicBezTo>
                <a:cubicBezTo>
                  <a:pt x="201" y="0"/>
                  <a:pt x="165" y="8"/>
                  <a:pt x="143" y="30"/>
                </a:cubicBezTo>
                <a:close/>
                <a:moveTo>
                  <a:pt x="783" y="118"/>
                </a:moveTo>
                <a:cubicBezTo>
                  <a:pt x="799" y="127"/>
                  <a:pt x="811" y="124"/>
                  <a:pt x="813" y="118"/>
                </a:cubicBezTo>
                <a:cubicBezTo>
                  <a:pt x="816" y="112"/>
                  <a:pt x="811" y="97"/>
                  <a:pt x="794" y="87"/>
                </a:cubicBezTo>
                <a:cubicBezTo>
                  <a:pt x="770" y="74"/>
                  <a:pt x="742" y="81"/>
                  <a:pt x="742" y="81"/>
                </a:cubicBezTo>
                <a:cubicBezTo>
                  <a:pt x="743" y="81"/>
                  <a:pt x="762" y="105"/>
                  <a:pt x="783" y="118"/>
                </a:cubicBezTo>
                <a:close/>
                <a:moveTo>
                  <a:pt x="836" y="83"/>
                </a:moveTo>
                <a:cubicBezTo>
                  <a:pt x="840" y="104"/>
                  <a:pt x="830" y="112"/>
                  <a:pt x="824" y="112"/>
                </a:cubicBezTo>
                <a:cubicBezTo>
                  <a:pt x="818" y="111"/>
                  <a:pt x="807" y="100"/>
                  <a:pt x="803" y="80"/>
                </a:cubicBezTo>
                <a:cubicBezTo>
                  <a:pt x="797" y="54"/>
                  <a:pt x="803" y="25"/>
                  <a:pt x="803" y="25"/>
                </a:cubicBezTo>
                <a:cubicBezTo>
                  <a:pt x="803" y="25"/>
                  <a:pt x="832" y="55"/>
                  <a:pt x="836" y="83"/>
                </a:cubicBezTo>
                <a:close/>
                <a:moveTo>
                  <a:pt x="814" y="175"/>
                </a:moveTo>
                <a:cubicBezTo>
                  <a:pt x="827" y="187"/>
                  <a:pt x="840" y="185"/>
                  <a:pt x="843" y="180"/>
                </a:cubicBezTo>
                <a:cubicBezTo>
                  <a:pt x="847" y="175"/>
                  <a:pt x="844" y="159"/>
                  <a:pt x="829" y="147"/>
                </a:cubicBezTo>
                <a:cubicBezTo>
                  <a:pt x="809" y="130"/>
                  <a:pt x="781" y="132"/>
                  <a:pt x="781" y="132"/>
                </a:cubicBezTo>
                <a:cubicBezTo>
                  <a:pt x="781" y="132"/>
                  <a:pt x="795" y="159"/>
                  <a:pt x="814" y="175"/>
                </a:cubicBezTo>
                <a:close/>
                <a:moveTo>
                  <a:pt x="872" y="150"/>
                </a:moveTo>
                <a:cubicBezTo>
                  <a:pt x="872" y="171"/>
                  <a:pt x="860" y="178"/>
                  <a:pt x="855" y="176"/>
                </a:cubicBezTo>
                <a:cubicBezTo>
                  <a:pt x="848" y="174"/>
                  <a:pt x="840" y="161"/>
                  <a:pt x="840" y="142"/>
                </a:cubicBezTo>
                <a:cubicBezTo>
                  <a:pt x="839" y="115"/>
                  <a:pt x="851" y="89"/>
                  <a:pt x="851" y="89"/>
                </a:cubicBezTo>
                <a:cubicBezTo>
                  <a:pt x="851" y="88"/>
                  <a:pt x="873" y="122"/>
                  <a:pt x="872" y="150"/>
                </a:cubicBezTo>
                <a:close/>
                <a:moveTo>
                  <a:pt x="833" y="236"/>
                </a:moveTo>
                <a:cubicBezTo>
                  <a:pt x="844" y="250"/>
                  <a:pt x="856" y="250"/>
                  <a:pt x="860" y="246"/>
                </a:cubicBezTo>
                <a:cubicBezTo>
                  <a:pt x="865" y="242"/>
                  <a:pt x="866" y="226"/>
                  <a:pt x="853" y="211"/>
                </a:cubicBezTo>
                <a:cubicBezTo>
                  <a:pt x="836" y="191"/>
                  <a:pt x="808" y="188"/>
                  <a:pt x="808" y="188"/>
                </a:cubicBezTo>
                <a:cubicBezTo>
                  <a:pt x="809" y="188"/>
                  <a:pt x="818" y="217"/>
                  <a:pt x="833" y="236"/>
                </a:cubicBezTo>
                <a:close/>
                <a:moveTo>
                  <a:pt x="894" y="222"/>
                </a:moveTo>
                <a:cubicBezTo>
                  <a:pt x="890" y="242"/>
                  <a:pt x="878" y="247"/>
                  <a:pt x="873" y="244"/>
                </a:cubicBezTo>
                <a:cubicBezTo>
                  <a:pt x="867" y="241"/>
                  <a:pt x="861" y="227"/>
                  <a:pt x="864" y="208"/>
                </a:cubicBezTo>
                <a:cubicBezTo>
                  <a:pt x="869" y="182"/>
                  <a:pt x="885" y="158"/>
                  <a:pt x="886" y="158"/>
                </a:cubicBezTo>
                <a:cubicBezTo>
                  <a:pt x="886" y="158"/>
                  <a:pt x="900" y="194"/>
                  <a:pt x="894" y="222"/>
                </a:cubicBezTo>
                <a:close/>
                <a:moveTo>
                  <a:pt x="840" y="298"/>
                </a:moveTo>
                <a:cubicBezTo>
                  <a:pt x="849" y="314"/>
                  <a:pt x="861" y="317"/>
                  <a:pt x="866" y="314"/>
                </a:cubicBezTo>
                <a:cubicBezTo>
                  <a:pt x="871" y="310"/>
                  <a:pt x="875" y="294"/>
                  <a:pt x="865" y="278"/>
                </a:cubicBezTo>
                <a:cubicBezTo>
                  <a:pt x="852" y="256"/>
                  <a:pt x="825" y="247"/>
                  <a:pt x="825" y="247"/>
                </a:cubicBezTo>
                <a:cubicBezTo>
                  <a:pt x="825" y="248"/>
                  <a:pt x="829" y="277"/>
                  <a:pt x="840" y="298"/>
                </a:cubicBezTo>
                <a:close/>
                <a:moveTo>
                  <a:pt x="904" y="296"/>
                </a:moveTo>
                <a:cubicBezTo>
                  <a:pt x="896" y="315"/>
                  <a:pt x="883" y="317"/>
                  <a:pt x="878" y="314"/>
                </a:cubicBezTo>
                <a:cubicBezTo>
                  <a:pt x="873" y="310"/>
                  <a:pt x="870" y="295"/>
                  <a:pt x="876" y="277"/>
                </a:cubicBezTo>
                <a:cubicBezTo>
                  <a:pt x="885" y="253"/>
                  <a:pt x="906" y="232"/>
                  <a:pt x="906" y="232"/>
                </a:cubicBezTo>
                <a:cubicBezTo>
                  <a:pt x="907" y="232"/>
                  <a:pt x="914" y="270"/>
                  <a:pt x="904" y="296"/>
                </a:cubicBezTo>
                <a:close/>
                <a:moveTo>
                  <a:pt x="796" y="482"/>
                </a:moveTo>
                <a:cubicBezTo>
                  <a:pt x="795" y="500"/>
                  <a:pt x="804" y="509"/>
                  <a:pt x="810" y="509"/>
                </a:cubicBezTo>
                <a:cubicBezTo>
                  <a:pt x="816" y="508"/>
                  <a:pt x="828" y="496"/>
                  <a:pt x="828" y="477"/>
                </a:cubicBezTo>
                <a:cubicBezTo>
                  <a:pt x="828" y="450"/>
                  <a:pt x="810" y="429"/>
                  <a:pt x="810" y="429"/>
                </a:cubicBezTo>
                <a:cubicBezTo>
                  <a:pt x="810" y="430"/>
                  <a:pt x="798" y="457"/>
                  <a:pt x="796" y="482"/>
                </a:cubicBezTo>
                <a:close/>
                <a:moveTo>
                  <a:pt x="851" y="513"/>
                </a:moveTo>
                <a:cubicBezTo>
                  <a:pt x="834" y="526"/>
                  <a:pt x="822" y="521"/>
                  <a:pt x="820" y="515"/>
                </a:cubicBezTo>
                <a:cubicBezTo>
                  <a:pt x="818" y="509"/>
                  <a:pt x="823" y="494"/>
                  <a:pt x="838" y="482"/>
                </a:cubicBezTo>
                <a:cubicBezTo>
                  <a:pt x="859" y="465"/>
                  <a:pt x="887" y="458"/>
                  <a:pt x="887" y="458"/>
                </a:cubicBezTo>
                <a:cubicBezTo>
                  <a:pt x="887" y="458"/>
                  <a:pt x="874" y="495"/>
                  <a:pt x="851" y="513"/>
                </a:cubicBezTo>
                <a:close/>
                <a:moveTo>
                  <a:pt x="822" y="423"/>
                </a:moveTo>
                <a:cubicBezTo>
                  <a:pt x="825" y="441"/>
                  <a:pt x="835" y="448"/>
                  <a:pt x="841" y="447"/>
                </a:cubicBezTo>
                <a:cubicBezTo>
                  <a:pt x="847" y="445"/>
                  <a:pt x="856" y="432"/>
                  <a:pt x="852" y="413"/>
                </a:cubicBezTo>
                <a:cubicBezTo>
                  <a:pt x="848" y="387"/>
                  <a:pt x="826" y="370"/>
                  <a:pt x="826" y="370"/>
                </a:cubicBezTo>
                <a:cubicBezTo>
                  <a:pt x="826" y="370"/>
                  <a:pt x="819" y="399"/>
                  <a:pt x="822" y="423"/>
                </a:cubicBezTo>
                <a:close/>
                <a:moveTo>
                  <a:pt x="882" y="443"/>
                </a:moveTo>
                <a:cubicBezTo>
                  <a:pt x="868" y="459"/>
                  <a:pt x="855" y="456"/>
                  <a:pt x="852" y="451"/>
                </a:cubicBezTo>
                <a:cubicBezTo>
                  <a:pt x="849" y="445"/>
                  <a:pt x="851" y="430"/>
                  <a:pt x="863" y="416"/>
                </a:cubicBezTo>
                <a:cubicBezTo>
                  <a:pt x="880" y="396"/>
                  <a:pt x="907" y="384"/>
                  <a:pt x="907" y="384"/>
                </a:cubicBezTo>
                <a:cubicBezTo>
                  <a:pt x="907" y="384"/>
                  <a:pt x="901" y="423"/>
                  <a:pt x="882" y="443"/>
                </a:cubicBezTo>
                <a:close/>
                <a:moveTo>
                  <a:pt x="837" y="361"/>
                </a:moveTo>
                <a:cubicBezTo>
                  <a:pt x="843" y="379"/>
                  <a:pt x="854" y="384"/>
                  <a:pt x="859" y="381"/>
                </a:cubicBezTo>
                <a:cubicBezTo>
                  <a:pt x="865" y="378"/>
                  <a:pt x="871" y="364"/>
                  <a:pt x="865" y="346"/>
                </a:cubicBezTo>
                <a:cubicBezTo>
                  <a:pt x="856" y="321"/>
                  <a:pt x="831" y="308"/>
                  <a:pt x="831" y="309"/>
                </a:cubicBezTo>
                <a:cubicBezTo>
                  <a:pt x="831" y="309"/>
                  <a:pt x="829" y="339"/>
                  <a:pt x="837" y="361"/>
                </a:cubicBezTo>
                <a:close/>
                <a:moveTo>
                  <a:pt x="899" y="371"/>
                </a:moveTo>
                <a:cubicBezTo>
                  <a:pt x="888" y="388"/>
                  <a:pt x="875" y="388"/>
                  <a:pt x="872" y="383"/>
                </a:cubicBezTo>
                <a:cubicBezTo>
                  <a:pt x="867" y="378"/>
                  <a:pt x="866" y="364"/>
                  <a:pt x="876" y="347"/>
                </a:cubicBezTo>
                <a:cubicBezTo>
                  <a:pt x="889" y="325"/>
                  <a:pt x="913" y="308"/>
                  <a:pt x="913" y="308"/>
                </a:cubicBezTo>
                <a:cubicBezTo>
                  <a:pt x="914" y="308"/>
                  <a:pt x="915" y="347"/>
                  <a:pt x="899" y="371"/>
                </a:cubicBezTo>
                <a:close/>
                <a:moveTo>
                  <a:pt x="759" y="536"/>
                </a:moveTo>
                <a:cubicBezTo>
                  <a:pt x="754" y="554"/>
                  <a:pt x="761" y="564"/>
                  <a:pt x="767" y="565"/>
                </a:cubicBezTo>
                <a:cubicBezTo>
                  <a:pt x="773" y="565"/>
                  <a:pt x="787" y="556"/>
                  <a:pt x="791" y="536"/>
                </a:cubicBezTo>
                <a:cubicBezTo>
                  <a:pt x="797" y="510"/>
                  <a:pt x="782" y="486"/>
                  <a:pt x="783" y="486"/>
                </a:cubicBezTo>
                <a:cubicBezTo>
                  <a:pt x="783" y="486"/>
                  <a:pt x="765" y="511"/>
                  <a:pt x="759" y="536"/>
                </a:cubicBezTo>
                <a:close/>
                <a:moveTo>
                  <a:pt x="807" y="576"/>
                </a:moveTo>
                <a:cubicBezTo>
                  <a:pt x="788" y="586"/>
                  <a:pt x="777" y="579"/>
                  <a:pt x="776" y="573"/>
                </a:cubicBezTo>
                <a:cubicBezTo>
                  <a:pt x="775" y="567"/>
                  <a:pt x="783" y="553"/>
                  <a:pt x="800" y="543"/>
                </a:cubicBezTo>
                <a:cubicBezTo>
                  <a:pt x="824" y="530"/>
                  <a:pt x="853" y="528"/>
                  <a:pt x="853" y="528"/>
                </a:cubicBezTo>
                <a:cubicBezTo>
                  <a:pt x="854" y="528"/>
                  <a:pt x="834" y="563"/>
                  <a:pt x="807" y="576"/>
                </a:cubicBezTo>
                <a:close/>
                <a:moveTo>
                  <a:pt x="710" y="583"/>
                </a:moveTo>
                <a:cubicBezTo>
                  <a:pt x="702" y="600"/>
                  <a:pt x="706" y="612"/>
                  <a:pt x="712" y="614"/>
                </a:cubicBezTo>
                <a:cubicBezTo>
                  <a:pt x="718" y="615"/>
                  <a:pt x="734" y="608"/>
                  <a:pt x="743" y="589"/>
                </a:cubicBezTo>
                <a:cubicBezTo>
                  <a:pt x="754" y="564"/>
                  <a:pt x="744" y="537"/>
                  <a:pt x="745" y="537"/>
                </a:cubicBezTo>
                <a:cubicBezTo>
                  <a:pt x="745" y="538"/>
                  <a:pt x="722" y="560"/>
                  <a:pt x="710" y="583"/>
                </a:cubicBezTo>
                <a:close/>
                <a:moveTo>
                  <a:pt x="750" y="632"/>
                </a:moveTo>
                <a:cubicBezTo>
                  <a:pt x="729" y="639"/>
                  <a:pt x="719" y="630"/>
                  <a:pt x="719" y="624"/>
                </a:cubicBezTo>
                <a:cubicBezTo>
                  <a:pt x="720" y="617"/>
                  <a:pt x="731" y="604"/>
                  <a:pt x="750" y="598"/>
                </a:cubicBezTo>
                <a:cubicBezTo>
                  <a:pt x="777" y="589"/>
                  <a:pt x="806" y="592"/>
                  <a:pt x="806" y="592"/>
                </a:cubicBezTo>
                <a:cubicBezTo>
                  <a:pt x="807" y="592"/>
                  <a:pt x="780" y="624"/>
                  <a:pt x="750" y="632"/>
                </a:cubicBezTo>
                <a:close/>
                <a:moveTo>
                  <a:pt x="772" y="30"/>
                </a:moveTo>
                <a:cubicBezTo>
                  <a:pt x="788" y="46"/>
                  <a:pt x="787" y="61"/>
                  <a:pt x="783" y="65"/>
                </a:cubicBezTo>
                <a:cubicBezTo>
                  <a:pt x="778" y="68"/>
                  <a:pt x="764" y="66"/>
                  <a:pt x="750" y="51"/>
                </a:cubicBezTo>
                <a:cubicBezTo>
                  <a:pt x="731" y="31"/>
                  <a:pt x="715" y="1"/>
                  <a:pt x="715" y="1"/>
                </a:cubicBezTo>
                <a:cubicBezTo>
                  <a:pt x="714" y="0"/>
                  <a:pt x="750" y="8"/>
                  <a:pt x="772" y="30"/>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48" name="Freeform 43"/>
          <p:cNvSpPr/>
          <p:nvPr/>
        </p:nvSpPr>
        <p:spPr>
          <a:xfrm>
            <a:off x="8142120" y="2282760"/>
            <a:ext cx="347760" cy="347760"/>
          </a:xfrm>
          <a:custGeom>
            <a:avLst/>
            <a:gdLst>
              <a:gd name="textAreaLeft" fmla="*/ 0 w 347760"/>
              <a:gd name="textAreaRight" fmla="*/ 348120 w 347760"/>
              <a:gd name="textAreaTop" fmla="*/ 0 h 347760"/>
              <a:gd name="textAreaBottom" fmla="*/ 348120 h 347760"/>
            </a:gdLst>
            <a:ahLst/>
            <a:rect l="textAreaLeft" t="textAreaTop" r="textAreaRight" b="textAreaBottom"/>
            <a:pathLst>
              <a:path w="487" h="486">
                <a:moveTo>
                  <a:pt x="468" y="389"/>
                </a:moveTo>
                <a:lnTo>
                  <a:pt x="311" y="233"/>
                </a:lnTo>
                <a:cubicBezTo>
                  <a:pt x="321" y="212"/>
                  <a:pt x="327" y="189"/>
                  <a:pt x="327" y="164"/>
                </a:cubicBezTo>
                <a:cubicBezTo>
                  <a:pt x="327" y="73"/>
                  <a:pt x="254" y="0"/>
                  <a:pt x="163" y="0"/>
                </a:cubicBezTo>
                <a:cubicBezTo>
                  <a:pt x="148" y="0"/>
                  <a:pt x="134" y="3"/>
                  <a:pt x="120" y="6"/>
                </a:cubicBezTo>
                <a:lnTo>
                  <a:pt x="189" y="76"/>
                </a:lnTo>
                <a:cubicBezTo>
                  <a:pt x="218" y="105"/>
                  <a:pt x="216" y="154"/>
                  <a:pt x="185" y="185"/>
                </a:cubicBezTo>
                <a:cubicBezTo>
                  <a:pt x="153" y="216"/>
                  <a:pt x="105" y="218"/>
                  <a:pt x="76" y="189"/>
                </a:cubicBezTo>
                <a:lnTo>
                  <a:pt x="6" y="120"/>
                </a:lnTo>
                <a:cubicBezTo>
                  <a:pt x="3" y="134"/>
                  <a:pt x="0" y="148"/>
                  <a:pt x="0" y="164"/>
                </a:cubicBezTo>
                <a:cubicBezTo>
                  <a:pt x="0" y="254"/>
                  <a:pt x="73" y="327"/>
                  <a:pt x="163" y="327"/>
                </a:cubicBezTo>
                <a:cubicBezTo>
                  <a:pt x="188" y="327"/>
                  <a:pt x="212" y="321"/>
                  <a:pt x="233" y="311"/>
                </a:cubicBezTo>
                <a:lnTo>
                  <a:pt x="390" y="466"/>
                </a:lnTo>
                <a:cubicBezTo>
                  <a:pt x="410" y="486"/>
                  <a:pt x="443" y="485"/>
                  <a:pt x="464" y="463"/>
                </a:cubicBezTo>
                <a:cubicBezTo>
                  <a:pt x="486" y="442"/>
                  <a:pt x="487" y="408"/>
                  <a:pt x="468" y="389"/>
                </a:cubicBezTo>
                <a:close/>
                <a:moveTo>
                  <a:pt x="426" y="452"/>
                </a:moveTo>
                <a:lnTo>
                  <a:pt x="426" y="452"/>
                </a:lnTo>
                <a:cubicBezTo>
                  <a:pt x="410" y="452"/>
                  <a:pt x="398" y="440"/>
                  <a:pt x="398" y="424"/>
                </a:cubicBezTo>
                <a:cubicBezTo>
                  <a:pt x="398" y="409"/>
                  <a:pt x="410" y="397"/>
                  <a:pt x="426" y="397"/>
                </a:cubicBezTo>
                <a:cubicBezTo>
                  <a:pt x="441" y="397"/>
                  <a:pt x="453" y="409"/>
                  <a:pt x="453" y="424"/>
                </a:cubicBezTo>
                <a:cubicBezTo>
                  <a:pt x="453" y="440"/>
                  <a:pt x="441" y="452"/>
                  <a:pt x="426" y="452"/>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49" name="Freeform 44"/>
          <p:cNvSpPr/>
          <p:nvPr/>
        </p:nvSpPr>
        <p:spPr>
          <a:xfrm>
            <a:off x="7978680" y="2120760"/>
            <a:ext cx="557280" cy="557280"/>
          </a:xfrm>
          <a:custGeom>
            <a:avLst/>
            <a:gdLst>
              <a:gd name="textAreaLeft" fmla="*/ 0 w 557280"/>
              <a:gd name="textAreaRight" fmla="*/ 557640 w 557280"/>
              <a:gd name="textAreaTop" fmla="*/ 0 h 557280"/>
              <a:gd name="textAreaBottom" fmla="*/ 557640 h 557280"/>
            </a:gdLst>
            <a:ahLst/>
            <a:rect l="textAreaLeft" t="textAreaTop" r="textAreaRight" b="textAreaBottom"/>
            <a:pathLst>
              <a:path w="782" h="782">
                <a:moveTo>
                  <a:pt x="733" y="319"/>
                </a:moveTo>
                <a:lnTo>
                  <a:pt x="717" y="319"/>
                </a:lnTo>
                <a:lnTo>
                  <a:pt x="680" y="319"/>
                </a:lnTo>
                <a:cubicBezTo>
                  <a:pt x="673" y="318"/>
                  <a:pt x="666" y="315"/>
                  <a:pt x="659" y="311"/>
                </a:cubicBezTo>
                <a:cubicBezTo>
                  <a:pt x="659" y="311"/>
                  <a:pt x="659" y="311"/>
                  <a:pt x="659" y="311"/>
                </a:cubicBezTo>
                <a:cubicBezTo>
                  <a:pt x="646" y="302"/>
                  <a:pt x="637" y="287"/>
                  <a:pt x="637" y="270"/>
                </a:cubicBezTo>
                <a:cubicBezTo>
                  <a:pt x="637" y="265"/>
                  <a:pt x="638" y="260"/>
                  <a:pt x="639" y="255"/>
                </a:cubicBezTo>
                <a:cubicBezTo>
                  <a:pt x="641" y="249"/>
                  <a:pt x="644" y="244"/>
                  <a:pt x="647" y="240"/>
                </a:cubicBezTo>
                <a:lnTo>
                  <a:pt x="656" y="232"/>
                </a:lnTo>
                <a:lnTo>
                  <a:pt x="674" y="214"/>
                </a:lnTo>
                <a:lnTo>
                  <a:pt x="685" y="202"/>
                </a:lnTo>
                <a:cubicBezTo>
                  <a:pt x="701" y="182"/>
                  <a:pt x="701" y="153"/>
                  <a:pt x="685" y="132"/>
                </a:cubicBezTo>
                <a:lnTo>
                  <a:pt x="652" y="99"/>
                </a:lnTo>
                <a:cubicBezTo>
                  <a:pt x="632" y="83"/>
                  <a:pt x="603" y="83"/>
                  <a:pt x="582" y="99"/>
                </a:cubicBezTo>
                <a:lnTo>
                  <a:pt x="571" y="110"/>
                </a:lnTo>
                <a:lnTo>
                  <a:pt x="544" y="136"/>
                </a:lnTo>
                <a:lnTo>
                  <a:pt x="544" y="136"/>
                </a:lnTo>
                <a:cubicBezTo>
                  <a:pt x="530" y="147"/>
                  <a:pt x="511" y="150"/>
                  <a:pt x="494" y="142"/>
                </a:cubicBezTo>
                <a:cubicBezTo>
                  <a:pt x="489" y="140"/>
                  <a:pt x="484" y="137"/>
                  <a:pt x="479" y="132"/>
                </a:cubicBezTo>
                <a:cubicBezTo>
                  <a:pt x="471" y="124"/>
                  <a:pt x="467" y="114"/>
                  <a:pt x="465" y="103"/>
                </a:cubicBezTo>
                <a:lnTo>
                  <a:pt x="465" y="92"/>
                </a:lnTo>
                <a:lnTo>
                  <a:pt x="466" y="66"/>
                </a:lnTo>
                <a:lnTo>
                  <a:pt x="466" y="50"/>
                </a:lnTo>
                <a:cubicBezTo>
                  <a:pt x="462" y="24"/>
                  <a:pt x="441" y="4"/>
                  <a:pt x="415" y="1"/>
                </a:cubicBezTo>
                <a:lnTo>
                  <a:pt x="369" y="0"/>
                </a:lnTo>
                <a:cubicBezTo>
                  <a:pt x="343" y="3"/>
                  <a:pt x="323" y="24"/>
                  <a:pt x="319" y="50"/>
                </a:cubicBezTo>
                <a:lnTo>
                  <a:pt x="319" y="65"/>
                </a:lnTo>
                <a:lnTo>
                  <a:pt x="319" y="92"/>
                </a:lnTo>
                <a:lnTo>
                  <a:pt x="319" y="102"/>
                </a:lnTo>
                <a:lnTo>
                  <a:pt x="319" y="103"/>
                </a:lnTo>
                <a:lnTo>
                  <a:pt x="319" y="103"/>
                </a:lnTo>
                <a:cubicBezTo>
                  <a:pt x="319" y="104"/>
                  <a:pt x="318" y="105"/>
                  <a:pt x="318" y="107"/>
                </a:cubicBezTo>
                <a:cubicBezTo>
                  <a:pt x="318" y="107"/>
                  <a:pt x="318" y="107"/>
                  <a:pt x="318" y="107"/>
                </a:cubicBezTo>
                <a:cubicBezTo>
                  <a:pt x="318" y="108"/>
                  <a:pt x="317" y="110"/>
                  <a:pt x="317" y="111"/>
                </a:cubicBezTo>
                <a:cubicBezTo>
                  <a:pt x="317" y="111"/>
                  <a:pt x="317" y="111"/>
                  <a:pt x="317" y="111"/>
                </a:cubicBezTo>
                <a:cubicBezTo>
                  <a:pt x="317" y="113"/>
                  <a:pt x="316" y="114"/>
                  <a:pt x="316" y="115"/>
                </a:cubicBezTo>
                <a:cubicBezTo>
                  <a:pt x="316" y="115"/>
                  <a:pt x="316" y="115"/>
                  <a:pt x="316" y="116"/>
                </a:cubicBezTo>
                <a:cubicBezTo>
                  <a:pt x="315" y="117"/>
                  <a:pt x="314" y="118"/>
                  <a:pt x="314" y="119"/>
                </a:cubicBezTo>
                <a:cubicBezTo>
                  <a:pt x="314" y="119"/>
                  <a:pt x="314" y="120"/>
                  <a:pt x="314" y="120"/>
                </a:cubicBezTo>
                <a:cubicBezTo>
                  <a:pt x="311" y="125"/>
                  <a:pt x="307" y="130"/>
                  <a:pt x="302" y="134"/>
                </a:cubicBezTo>
                <a:cubicBezTo>
                  <a:pt x="293" y="141"/>
                  <a:pt x="282" y="146"/>
                  <a:pt x="270" y="146"/>
                </a:cubicBezTo>
                <a:cubicBezTo>
                  <a:pt x="259" y="146"/>
                  <a:pt x="248" y="142"/>
                  <a:pt x="240" y="135"/>
                </a:cubicBezTo>
                <a:lnTo>
                  <a:pt x="232" y="127"/>
                </a:lnTo>
                <a:lnTo>
                  <a:pt x="213" y="109"/>
                </a:lnTo>
                <a:lnTo>
                  <a:pt x="202" y="98"/>
                </a:lnTo>
                <a:cubicBezTo>
                  <a:pt x="182" y="82"/>
                  <a:pt x="152" y="82"/>
                  <a:pt x="132" y="98"/>
                </a:cubicBezTo>
                <a:lnTo>
                  <a:pt x="100" y="130"/>
                </a:lnTo>
                <a:cubicBezTo>
                  <a:pt x="83" y="151"/>
                  <a:pt x="83" y="180"/>
                  <a:pt x="98" y="201"/>
                </a:cubicBezTo>
                <a:lnTo>
                  <a:pt x="110" y="212"/>
                </a:lnTo>
                <a:lnTo>
                  <a:pt x="136" y="238"/>
                </a:lnTo>
                <a:cubicBezTo>
                  <a:pt x="136" y="239"/>
                  <a:pt x="137" y="240"/>
                  <a:pt x="137" y="240"/>
                </a:cubicBezTo>
                <a:cubicBezTo>
                  <a:pt x="138" y="241"/>
                  <a:pt x="138" y="242"/>
                  <a:pt x="139" y="242"/>
                </a:cubicBezTo>
                <a:cubicBezTo>
                  <a:pt x="139" y="243"/>
                  <a:pt x="139" y="244"/>
                  <a:pt x="140" y="244"/>
                </a:cubicBezTo>
                <a:cubicBezTo>
                  <a:pt x="140" y="245"/>
                  <a:pt x="140" y="245"/>
                  <a:pt x="141" y="246"/>
                </a:cubicBezTo>
                <a:cubicBezTo>
                  <a:pt x="141" y="247"/>
                  <a:pt x="142" y="248"/>
                  <a:pt x="142" y="249"/>
                </a:cubicBezTo>
                <a:cubicBezTo>
                  <a:pt x="142" y="249"/>
                  <a:pt x="142" y="250"/>
                  <a:pt x="143" y="250"/>
                </a:cubicBezTo>
                <a:cubicBezTo>
                  <a:pt x="143" y="251"/>
                  <a:pt x="143" y="252"/>
                  <a:pt x="144" y="253"/>
                </a:cubicBezTo>
                <a:cubicBezTo>
                  <a:pt x="144" y="253"/>
                  <a:pt x="144" y="254"/>
                  <a:pt x="144" y="254"/>
                </a:cubicBezTo>
                <a:cubicBezTo>
                  <a:pt x="145" y="256"/>
                  <a:pt x="145" y="257"/>
                  <a:pt x="145" y="258"/>
                </a:cubicBezTo>
                <a:cubicBezTo>
                  <a:pt x="145" y="258"/>
                  <a:pt x="145" y="258"/>
                  <a:pt x="145" y="258"/>
                </a:cubicBezTo>
                <a:cubicBezTo>
                  <a:pt x="146" y="260"/>
                  <a:pt x="146" y="261"/>
                  <a:pt x="146" y="263"/>
                </a:cubicBezTo>
                <a:cubicBezTo>
                  <a:pt x="146" y="263"/>
                  <a:pt x="146" y="263"/>
                  <a:pt x="146" y="263"/>
                </a:cubicBezTo>
                <a:cubicBezTo>
                  <a:pt x="148" y="277"/>
                  <a:pt x="143" y="292"/>
                  <a:pt x="132" y="303"/>
                </a:cubicBezTo>
                <a:cubicBezTo>
                  <a:pt x="124" y="312"/>
                  <a:pt x="114" y="316"/>
                  <a:pt x="103" y="317"/>
                </a:cubicBezTo>
                <a:lnTo>
                  <a:pt x="92" y="317"/>
                </a:lnTo>
                <a:lnTo>
                  <a:pt x="66" y="317"/>
                </a:lnTo>
                <a:lnTo>
                  <a:pt x="50" y="317"/>
                </a:lnTo>
                <a:cubicBezTo>
                  <a:pt x="24" y="321"/>
                  <a:pt x="4" y="341"/>
                  <a:pt x="1" y="367"/>
                </a:cubicBezTo>
                <a:lnTo>
                  <a:pt x="0" y="413"/>
                </a:lnTo>
                <a:cubicBezTo>
                  <a:pt x="3" y="439"/>
                  <a:pt x="24" y="460"/>
                  <a:pt x="49" y="464"/>
                </a:cubicBezTo>
                <a:lnTo>
                  <a:pt x="65" y="464"/>
                </a:lnTo>
                <a:lnTo>
                  <a:pt x="102" y="464"/>
                </a:lnTo>
                <a:cubicBezTo>
                  <a:pt x="104" y="464"/>
                  <a:pt x="106" y="464"/>
                  <a:pt x="107" y="465"/>
                </a:cubicBezTo>
                <a:cubicBezTo>
                  <a:pt x="107" y="465"/>
                  <a:pt x="108" y="465"/>
                  <a:pt x="108" y="465"/>
                </a:cubicBezTo>
                <a:cubicBezTo>
                  <a:pt x="109" y="465"/>
                  <a:pt x="110" y="465"/>
                  <a:pt x="111" y="466"/>
                </a:cubicBezTo>
                <a:cubicBezTo>
                  <a:pt x="131" y="472"/>
                  <a:pt x="146" y="491"/>
                  <a:pt x="146" y="513"/>
                </a:cubicBezTo>
                <a:lnTo>
                  <a:pt x="146" y="513"/>
                </a:lnTo>
                <a:cubicBezTo>
                  <a:pt x="146" y="524"/>
                  <a:pt x="142" y="535"/>
                  <a:pt x="135" y="543"/>
                </a:cubicBezTo>
                <a:lnTo>
                  <a:pt x="127" y="551"/>
                </a:lnTo>
                <a:lnTo>
                  <a:pt x="127" y="551"/>
                </a:lnTo>
                <a:lnTo>
                  <a:pt x="109" y="569"/>
                </a:lnTo>
                <a:lnTo>
                  <a:pt x="97" y="580"/>
                </a:lnTo>
                <a:cubicBezTo>
                  <a:pt x="82" y="601"/>
                  <a:pt x="82" y="630"/>
                  <a:pt x="98" y="651"/>
                </a:cubicBezTo>
                <a:lnTo>
                  <a:pt x="130" y="683"/>
                </a:lnTo>
                <a:cubicBezTo>
                  <a:pt x="151" y="700"/>
                  <a:pt x="180" y="700"/>
                  <a:pt x="201" y="684"/>
                </a:cubicBezTo>
                <a:lnTo>
                  <a:pt x="212" y="673"/>
                </a:lnTo>
                <a:lnTo>
                  <a:pt x="238" y="647"/>
                </a:lnTo>
                <a:lnTo>
                  <a:pt x="238" y="647"/>
                </a:lnTo>
                <a:cubicBezTo>
                  <a:pt x="239" y="647"/>
                  <a:pt x="239" y="647"/>
                  <a:pt x="239" y="647"/>
                </a:cubicBezTo>
                <a:cubicBezTo>
                  <a:pt x="240" y="646"/>
                  <a:pt x="241" y="645"/>
                  <a:pt x="242" y="644"/>
                </a:cubicBezTo>
                <a:cubicBezTo>
                  <a:pt x="243" y="644"/>
                  <a:pt x="243" y="644"/>
                  <a:pt x="244" y="643"/>
                </a:cubicBezTo>
                <a:cubicBezTo>
                  <a:pt x="244" y="643"/>
                  <a:pt x="245" y="642"/>
                  <a:pt x="246" y="642"/>
                </a:cubicBezTo>
                <a:cubicBezTo>
                  <a:pt x="247" y="642"/>
                  <a:pt x="248" y="641"/>
                  <a:pt x="249" y="641"/>
                </a:cubicBezTo>
                <a:cubicBezTo>
                  <a:pt x="249" y="641"/>
                  <a:pt x="250" y="640"/>
                  <a:pt x="250" y="640"/>
                </a:cubicBezTo>
                <a:cubicBezTo>
                  <a:pt x="251" y="640"/>
                  <a:pt x="253" y="639"/>
                  <a:pt x="254" y="639"/>
                </a:cubicBezTo>
                <a:cubicBezTo>
                  <a:pt x="254" y="639"/>
                  <a:pt x="254" y="639"/>
                  <a:pt x="254" y="639"/>
                </a:cubicBezTo>
                <a:cubicBezTo>
                  <a:pt x="254" y="639"/>
                  <a:pt x="254" y="639"/>
                  <a:pt x="254" y="639"/>
                </a:cubicBezTo>
                <a:cubicBezTo>
                  <a:pt x="255" y="638"/>
                  <a:pt x="257" y="638"/>
                  <a:pt x="258" y="638"/>
                </a:cubicBezTo>
                <a:cubicBezTo>
                  <a:pt x="258" y="638"/>
                  <a:pt x="258" y="638"/>
                  <a:pt x="258" y="637"/>
                </a:cubicBezTo>
                <a:cubicBezTo>
                  <a:pt x="260" y="637"/>
                  <a:pt x="261" y="637"/>
                  <a:pt x="262" y="637"/>
                </a:cubicBezTo>
                <a:cubicBezTo>
                  <a:pt x="262" y="637"/>
                  <a:pt x="262" y="637"/>
                  <a:pt x="263" y="637"/>
                </a:cubicBezTo>
                <a:cubicBezTo>
                  <a:pt x="264" y="637"/>
                  <a:pt x="265" y="637"/>
                  <a:pt x="266" y="636"/>
                </a:cubicBezTo>
                <a:cubicBezTo>
                  <a:pt x="280" y="636"/>
                  <a:pt x="293" y="640"/>
                  <a:pt x="303" y="651"/>
                </a:cubicBezTo>
                <a:cubicBezTo>
                  <a:pt x="312" y="659"/>
                  <a:pt x="316" y="669"/>
                  <a:pt x="317" y="680"/>
                </a:cubicBezTo>
                <a:lnTo>
                  <a:pt x="317" y="691"/>
                </a:lnTo>
                <a:lnTo>
                  <a:pt x="317" y="717"/>
                </a:lnTo>
                <a:lnTo>
                  <a:pt x="317" y="733"/>
                </a:lnTo>
                <a:cubicBezTo>
                  <a:pt x="321" y="759"/>
                  <a:pt x="341" y="779"/>
                  <a:pt x="367" y="782"/>
                </a:cubicBezTo>
                <a:lnTo>
                  <a:pt x="413" y="782"/>
                </a:lnTo>
                <a:cubicBezTo>
                  <a:pt x="439" y="780"/>
                  <a:pt x="460" y="759"/>
                  <a:pt x="464" y="733"/>
                </a:cubicBezTo>
                <a:lnTo>
                  <a:pt x="464" y="718"/>
                </a:lnTo>
                <a:lnTo>
                  <a:pt x="464" y="691"/>
                </a:lnTo>
                <a:lnTo>
                  <a:pt x="464" y="680"/>
                </a:lnTo>
                <a:lnTo>
                  <a:pt x="464" y="680"/>
                </a:lnTo>
                <a:cubicBezTo>
                  <a:pt x="465" y="671"/>
                  <a:pt x="469" y="663"/>
                  <a:pt x="474" y="656"/>
                </a:cubicBezTo>
                <a:cubicBezTo>
                  <a:pt x="474" y="655"/>
                  <a:pt x="475" y="655"/>
                  <a:pt x="475" y="654"/>
                </a:cubicBezTo>
                <a:cubicBezTo>
                  <a:pt x="476" y="654"/>
                  <a:pt x="476" y="653"/>
                  <a:pt x="477" y="653"/>
                </a:cubicBezTo>
                <a:cubicBezTo>
                  <a:pt x="480" y="649"/>
                  <a:pt x="483" y="647"/>
                  <a:pt x="487" y="644"/>
                </a:cubicBezTo>
                <a:lnTo>
                  <a:pt x="487" y="644"/>
                </a:lnTo>
                <a:cubicBezTo>
                  <a:pt x="488" y="644"/>
                  <a:pt x="489" y="643"/>
                  <a:pt x="490" y="643"/>
                </a:cubicBezTo>
                <a:cubicBezTo>
                  <a:pt x="490" y="642"/>
                  <a:pt x="490" y="642"/>
                  <a:pt x="491" y="642"/>
                </a:cubicBezTo>
                <a:cubicBezTo>
                  <a:pt x="491" y="642"/>
                  <a:pt x="491" y="642"/>
                  <a:pt x="492" y="642"/>
                </a:cubicBezTo>
                <a:cubicBezTo>
                  <a:pt x="492" y="641"/>
                  <a:pt x="493" y="641"/>
                  <a:pt x="494" y="641"/>
                </a:cubicBezTo>
                <a:lnTo>
                  <a:pt x="450" y="597"/>
                </a:lnTo>
                <a:cubicBezTo>
                  <a:pt x="431" y="603"/>
                  <a:pt x="412" y="606"/>
                  <a:pt x="391" y="606"/>
                </a:cubicBezTo>
                <a:cubicBezTo>
                  <a:pt x="273" y="605"/>
                  <a:pt x="177" y="509"/>
                  <a:pt x="177" y="391"/>
                </a:cubicBezTo>
                <a:cubicBezTo>
                  <a:pt x="178" y="273"/>
                  <a:pt x="274" y="177"/>
                  <a:pt x="392" y="177"/>
                </a:cubicBezTo>
                <a:cubicBezTo>
                  <a:pt x="510" y="178"/>
                  <a:pt x="606" y="274"/>
                  <a:pt x="606" y="392"/>
                </a:cubicBezTo>
                <a:cubicBezTo>
                  <a:pt x="605" y="412"/>
                  <a:pt x="603" y="432"/>
                  <a:pt x="597" y="450"/>
                </a:cubicBezTo>
                <a:lnTo>
                  <a:pt x="641" y="493"/>
                </a:lnTo>
                <a:cubicBezTo>
                  <a:pt x="643" y="488"/>
                  <a:pt x="646" y="484"/>
                  <a:pt x="651" y="479"/>
                </a:cubicBezTo>
                <a:cubicBezTo>
                  <a:pt x="655" y="475"/>
                  <a:pt x="661" y="471"/>
                  <a:pt x="667" y="469"/>
                </a:cubicBezTo>
                <a:cubicBezTo>
                  <a:pt x="671" y="467"/>
                  <a:pt x="675" y="466"/>
                  <a:pt x="680" y="465"/>
                </a:cubicBezTo>
                <a:lnTo>
                  <a:pt x="691" y="466"/>
                </a:lnTo>
                <a:lnTo>
                  <a:pt x="717" y="466"/>
                </a:lnTo>
                <a:lnTo>
                  <a:pt x="733" y="466"/>
                </a:lnTo>
                <a:cubicBezTo>
                  <a:pt x="759" y="462"/>
                  <a:pt x="779" y="441"/>
                  <a:pt x="782" y="415"/>
                </a:cubicBezTo>
                <a:lnTo>
                  <a:pt x="782" y="370"/>
                </a:lnTo>
                <a:cubicBezTo>
                  <a:pt x="780" y="343"/>
                  <a:pt x="759" y="323"/>
                  <a:pt x="733" y="319"/>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50" name="Freeform 45"/>
          <p:cNvSpPr/>
          <p:nvPr/>
        </p:nvSpPr>
        <p:spPr>
          <a:xfrm>
            <a:off x="8040600" y="2876400"/>
            <a:ext cx="363600" cy="586080"/>
          </a:xfrm>
          <a:custGeom>
            <a:avLst/>
            <a:gdLst>
              <a:gd name="textAreaLeft" fmla="*/ 0 w 363600"/>
              <a:gd name="textAreaRight" fmla="*/ 363960 w 363600"/>
              <a:gd name="textAreaTop" fmla="*/ 0 h 586080"/>
              <a:gd name="textAreaBottom" fmla="*/ 586440 h 586080"/>
            </a:gdLst>
            <a:ahLst/>
            <a:rect l="textAreaLeft" t="textAreaTop" r="textAreaRight" b="textAreaBottom"/>
            <a:pathLst>
              <a:path w="511" h="819">
                <a:moveTo>
                  <a:pt x="472" y="0"/>
                </a:moveTo>
                <a:lnTo>
                  <a:pt x="38" y="0"/>
                </a:lnTo>
                <a:cubicBezTo>
                  <a:pt x="17" y="0"/>
                  <a:pt x="0" y="16"/>
                  <a:pt x="0" y="37"/>
                </a:cubicBezTo>
                <a:lnTo>
                  <a:pt x="0" y="782"/>
                </a:lnTo>
                <a:cubicBezTo>
                  <a:pt x="0" y="802"/>
                  <a:pt x="17" y="819"/>
                  <a:pt x="38" y="819"/>
                </a:cubicBezTo>
                <a:lnTo>
                  <a:pt x="472" y="819"/>
                </a:lnTo>
                <a:cubicBezTo>
                  <a:pt x="493" y="819"/>
                  <a:pt x="511" y="802"/>
                  <a:pt x="511" y="782"/>
                </a:cubicBezTo>
                <a:lnTo>
                  <a:pt x="511" y="37"/>
                </a:lnTo>
                <a:cubicBezTo>
                  <a:pt x="511" y="16"/>
                  <a:pt x="493" y="0"/>
                  <a:pt x="472" y="0"/>
                </a:cubicBezTo>
                <a:close/>
                <a:moveTo>
                  <a:pt x="206" y="19"/>
                </a:moveTo>
                <a:lnTo>
                  <a:pt x="206" y="19"/>
                </a:lnTo>
                <a:lnTo>
                  <a:pt x="297" y="19"/>
                </a:lnTo>
                <a:cubicBezTo>
                  <a:pt x="304" y="19"/>
                  <a:pt x="310" y="25"/>
                  <a:pt x="310" y="32"/>
                </a:cubicBezTo>
                <a:cubicBezTo>
                  <a:pt x="310" y="39"/>
                  <a:pt x="304" y="45"/>
                  <a:pt x="297" y="45"/>
                </a:cubicBezTo>
                <a:lnTo>
                  <a:pt x="206" y="45"/>
                </a:lnTo>
                <a:cubicBezTo>
                  <a:pt x="199" y="45"/>
                  <a:pt x="193" y="39"/>
                  <a:pt x="193" y="32"/>
                </a:cubicBezTo>
                <a:cubicBezTo>
                  <a:pt x="193" y="25"/>
                  <a:pt x="199" y="19"/>
                  <a:pt x="206" y="19"/>
                </a:cubicBezTo>
                <a:close/>
                <a:moveTo>
                  <a:pt x="388" y="759"/>
                </a:moveTo>
                <a:lnTo>
                  <a:pt x="388" y="759"/>
                </a:lnTo>
                <a:cubicBezTo>
                  <a:pt x="388" y="767"/>
                  <a:pt x="381" y="774"/>
                  <a:pt x="372" y="774"/>
                </a:cubicBezTo>
                <a:lnTo>
                  <a:pt x="109" y="774"/>
                </a:lnTo>
                <a:cubicBezTo>
                  <a:pt x="100" y="774"/>
                  <a:pt x="93" y="767"/>
                  <a:pt x="93" y="759"/>
                </a:cubicBezTo>
                <a:lnTo>
                  <a:pt x="93" y="758"/>
                </a:lnTo>
                <a:cubicBezTo>
                  <a:pt x="93" y="749"/>
                  <a:pt x="100" y="742"/>
                  <a:pt x="109" y="742"/>
                </a:cubicBezTo>
                <a:lnTo>
                  <a:pt x="372" y="742"/>
                </a:lnTo>
                <a:cubicBezTo>
                  <a:pt x="381" y="742"/>
                  <a:pt x="388" y="749"/>
                  <a:pt x="388" y="758"/>
                </a:cubicBezTo>
                <a:lnTo>
                  <a:pt x="388" y="759"/>
                </a:lnTo>
                <a:close/>
                <a:moveTo>
                  <a:pt x="446" y="774"/>
                </a:moveTo>
                <a:lnTo>
                  <a:pt x="446" y="774"/>
                </a:lnTo>
                <a:cubicBezTo>
                  <a:pt x="437" y="774"/>
                  <a:pt x="430" y="767"/>
                  <a:pt x="430" y="758"/>
                </a:cubicBezTo>
                <a:cubicBezTo>
                  <a:pt x="430" y="749"/>
                  <a:pt x="437" y="742"/>
                  <a:pt x="446" y="742"/>
                </a:cubicBezTo>
                <a:cubicBezTo>
                  <a:pt x="455" y="742"/>
                  <a:pt x="463" y="749"/>
                  <a:pt x="463" y="758"/>
                </a:cubicBezTo>
                <a:cubicBezTo>
                  <a:pt x="463" y="767"/>
                  <a:pt x="455" y="774"/>
                  <a:pt x="446" y="774"/>
                </a:cubicBezTo>
                <a:close/>
                <a:moveTo>
                  <a:pt x="465" y="695"/>
                </a:moveTo>
                <a:lnTo>
                  <a:pt x="465" y="695"/>
                </a:lnTo>
                <a:lnTo>
                  <a:pt x="45" y="695"/>
                </a:lnTo>
                <a:lnTo>
                  <a:pt x="45" y="73"/>
                </a:lnTo>
                <a:lnTo>
                  <a:pt x="465" y="73"/>
                </a:lnTo>
                <a:lnTo>
                  <a:pt x="465" y="695"/>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51" name="Freeform 46"/>
          <p:cNvSpPr/>
          <p:nvPr/>
        </p:nvSpPr>
        <p:spPr>
          <a:xfrm>
            <a:off x="7951680" y="3743280"/>
            <a:ext cx="671760" cy="539640"/>
          </a:xfrm>
          <a:custGeom>
            <a:avLst/>
            <a:gdLst>
              <a:gd name="textAreaLeft" fmla="*/ 0 w 671760"/>
              <a:gd name="textAreaRight" fmla="*/ 672120 w 671760"/>
              <a:gd name="textAreaTop" fmla="*/ 0 h 539640"/>
              <a:gd name="textAreaBottom" fmla="*/ 540000 h 539640"/>
            </a:gdLst>
            <a:ahLst/>
            <a:rect l="textAreaLeft" t="textAreaTop" r="textAreaRight" b="textAreaBottom"/>
            <a:pathLst>
              <a:path w="941" h="754">
                <a:moveTo>
                  <a:pt x="341" y="500"/>
                </a:moveTo>
                <a:lnTo>
                  <a:pt x="150" y="455"/>
                </a:lnTo>
                <a:cubicBezTo>
                  <a:pt x="152" y="462"/>
                  <a:pt x="154" y="469"/>
                  <a:pt x="157" y="477"/>
                </a:cubicBezTo>
                <a:lnTo>
                  <a:pt x="250" y="689"/>
                </a:lnTo>
                <a:cubicBezTo>
                  <a:pt x="269" y="732"/>
                  <a:pt x="316" y="754"/>
                  <a:pt x="355" y="737"/>
                </a:cubicBezTo>
                <a:lnTo>
                  <a:pt x="361" y="735"/>
                </a:lnTo>
                <a:cubicBezTo>
                  <a:pt x="400" y="718"/>
                  <a:pt x="415" y="668"/>
                  <a:pt x="396" y="624"/>
                </a:cubicBezTo>
                <a:lnTo>
                  <a:pt x="341" y="500"/>
                </a:lnTo>
                <a:close/>
                <a:moveTo>
                  <a:pt x="840" y="159"/>
                </a:moveTo>
                <a:lnTo>
                  <a:pt x="840" y="407"/>
                </a:lnTo>
                <a:cubicBezTo>
                  <a:pt x="898" y="394"/>
                  <a:pt x="941" y="344"/>
                  <a:pt x="941" y="283"/>
                </a:cubicBezTo>
                <a:cubicBezTo>
                  <a:pt x="941" y="222"/>
                  <a:pt x="898" y="171"/>
                  <a:pt x="840" y="159"/>
                </a:cubicBezTo>
                <a:close/>
                <a:moveTo>
                  <a:pt x="765" y="6"/>
                </a:moveTo>
                <a:lnTo>
                  <a:pt x="156" y="153"/>
                </a:lnTo>
                <a:lnTo>
                  <a:pt x="56" y="153"/>
                </a:lnTo>
                <a:cubicBezTo>
                  <a:pt x="25" y="153"/>
                  <a:pt x="0" y="178"/>
                  <a:pt x="0" y="209"/>
                </a:cubicBezTo>
                <a:lnTo>
                  <a:pt x="0" y="368"/>
                </a:lnTo>
                <a:cubicBezTo>
                  <a:pt x="0" y="399"/>
                  <a:pt x="25" y="424"/>
                  <a:pt x="56" y="424"/>
                </a:cubicBezTo>
                <a:lnTo>
                  <a:pt x="135" y="424"/>
                </a:lnTo>
                <a:cubicBezTo>
                  <a:pt x="136" y="424"/>
                  <a:pt x="137" y="425"/>
                  <a:pt x="138" y="425"/>
                </a:cubicBezTo>
                <a:lnTo>
                  <a:pt x="765" y="570"/>
                </a:lnTo>
                <a:cubicBezTo>
                  <a:pt x="790" y="576"/>
                  <a:pt x="812" y="560"/>
                  <a:pt x="812" y="534"/>
                </a:cubicBezTo>
                <a:lnTo>
                  <a:pt x="812" y="42"/>
                </a:lnTo>
                <a:cubicBezTo>
                  <a:pt x="812" y="16"/>
                  <a:pt x="790" y="0"/>
                  <a:pt x="765" y="6"/>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52" name="Freeform 47"/>
          <p:cNvSpPr/>
          <p:nvPr/>
        </p:nvSpPr>
        <p:spPr>
          <a:xfrm>
            <a:off x="8015400" y="4591080"/>
            <a:ext cx="501480" cy="650880"/>
          </a:xfrm>
          <a:custGeom>
            <a:avLst/>
            <a:gdLst>
              <a:gd name="textAreaLeft" fmla="*/ 0 w 501480"/>
              <a:gd name="textAreaRight" fmla="*/ 501840 w 501480"/>
              <a:gd name="textAreaTop" fmla="*/ 0 h 650880"/>
              <a:gd name="textAreaBottom" fmla="*/ 651240 h 650880"/>
            </a:gdLst>
            <a:ahLst/>
            <a:rect l="textAreaLeft" t="textAreaTop" r="textAreaRight" b="textAreaBottom"/>
            <a:pathLst>
              <a:path w="706" h="913">
                <a:moveTo>
                  <a:pt x="116" y="49"/>
                </a:moveTo>
                <a:cubicBezTo>
                  <a:pt x="272" y="3"/>
                  <a:pt x="429" y="0"/>
                  <a:pt x="588" y="49"/>
                </a:cubicBezTo>
                <a:cubicBezTo>
                  <a:pt x="579" y="191"/>
                  <a:pt x="558" y="314"/>
                  <a:pt x="525" y="416"/>
                </a:cubicBezTo>
                <a:lnTo>
                  <a:pt x="411" y="416"/>
                </a:lnTo>
                <a:lnTo>
                  <a:pt x="411" y="509"/>
                </a:lnTo>
                <a:lnTo>
                  <a:pt x="302" y="509"/>
                </a:lnTo>
                <a:lnTo>
                  <a:pt x="302" y="416"/>
                </a:lnTo>
                <a:lnTo>
                  <a:pt x="187" y="416"/>
                </a:lnTo>
                <a:cubicBezTo>
                  <a:pt x="155" y="314"/>
                  <a:pt x="128" y="199"/>
                  <a:pt x="116" y="49"/>
                </a:cubicBezTo>
                <a:close/>
                <a:moveTo>
                  <a:pt x="361" y="832"/>
                </a:moveTo>
                <a:lnTo>
                  <a:pt x="361" y="832"/>
                </a:lnTo>
                <a:cubicBezTo>
                  <a:pt x="382" y="833"/>
                  <a:pt x="399" y="851"/>
                  <a:pt x="399" y="872"/>
                </a:cubicBezTo>
                <a:cubicBezTo>
                  <a:pt x="399" y="895"/>
                  <a:pt x="381" y="913"/>
                  <a:pt x="358" y="913"/>
                </a:cubicBezTo>
                <a:cubicBezTo>
                  <a:pt x="336" y="913"/>
                  <a:pt x="318" y="895"/>
                  <a:pt x="318" y="872"/>
                </a:cubicBezTo>
                <a:cubicBezTo>
                  <a:pt x="318" y="851"/>
                  <a:pt x="335" y="833"/>
                  <a:pt x="356" y="832"/>
                </a:cubicBezTo>
                <a:lnTo>
                  <a:pt x="355" y="832"/>
                </a:lnTo>
                <a:cubicBezTo>
                  <a:pt x="299" y="832"/>
                  <a:pt x="246" y="841"/>
                  <a:pt x="194" y="858"/>
                </a:cubicBezTo>
                <a:cubicBezTo>
                  <a:pt x="196" y="862"/>
                  <a:pt x="197" y="867"/>
                  <a:pt x="197" y="872"/>
                </a:cubicBezTo>
                <a:cubicBezTo>
                  <a:pt x="197" y="895"/>
                  <a:pt x="179" y="913"/>
                  <a:pt x="157" y="913"/>
                </a:cubicBezTo>
                <a:cubicBezTo>
                  <a:pt x="134" y="913"/>
                  <a:pt x="116" y="895"/>
                  <a:pt x="116" y="872"/>
                </a:cubicBezTo>
                <a:cubicBezTo>
                  <a:pt x="116" y="857"/>
                  <a:pt x="125" y="844"/>
                  <a:pt x="138" y="837"/>
                </a:cubicBezTo>
                <a:lnTo>
                  <a:pt x="131" y="821"/>
                </a:lnTo>
                <a:cubicBezTo>
                  <a:pt x="191" y="796"/>
                  <a:pt x="254" y="781"/>
                  <a:pt x="319" y="777"/>
                </a:cubicBezTo>
                <a:lnTo>
                  <a:pt x="319" y="640"/>
                </a:lnTo>
                <a:cubicBezTo>
                  <a:pt x="270" y="638"/>
                  <a:pt x="221" y="631"/>
                  <a:pt x="172" y="620"/>
                </a:cubicBezTo>
                <a:cubicBezTo>
                  <a:pt x="172" y="593"/>
                  <a:pt x="172" y="581"/>
                  <a:pt x="172" y="555"/>
                </a:cubicBezTo>
                <a:cubicBezTo>
                  <a:pt x="294" y="555"/>
                  <a:pt x="416" y="555"/>
                  <a:pt x="537" y="555"/>
                </a:cubicBezTo>
                <a:cubicBezTo>
                  <a:pt x="537" y="581"/>
                  <a:pt x="537" y="593"/>
                  <a:pt x="537" y="620"/>
                </a:cubicBezTo>
                <a:cubicBezTo>
                  <a:pt x="488" y="631"/>
                  <a:pt x="440" y="637"/>
                  <a:pt x="391" y="640"/>
                </a:cubicBezTo>
                <a:lnTo>
                  <a:pt x="391" y="777"/>
                </a:lnTo>
                <a:cubicBezTo>
                  <a:pt x="458" y="781"/>
                  <a:pt x="526" y="795"/>
                  <a:pt x="598" y="821"/>
                </a:cubicBezTo>
                <a:lnTo>
                  <a:pt x="591" y="839"/>
                </a:lnTo>
                <a:cubicBezTo>
                  <a:pt x="602" y="846"/>
                  <a:pt x="609" y="858"/>
                  <a:pt x="609" y="872"/>
                </a:cubicBezTo>
                <a:cubicBezTo>
                  <a:pt x="609" y="895"/>
                  <a:pt x="591" y="913"/>
                  <a:pt x="569" y="913"/>
                </a:cubicBezTo>
                <a:cubicBezTo>
                  <a:pt x="547" y="913"/>
                  <a:pt x="528" y="895"/>
                  <a:pt x="528" y="872"/>
                </a:cubicBezTo>
                <a:cubicBezTo>
                  <a:pt x="528" y="867"/>
                  <a:pt x="529" y="863"/>
                  <a:pt x="531" y="858"/>
                </a:cubicBezTo>
                <a:cubicBezTo>
                  <a:pt x="472" y="841"/>
                  <a:pt x="415" y="833"/>
                  <a:pt x="361" y="832"/>
                </a:cubicBezTo>
                <a:close/>
                <a:moveTo>
                  <a:pt x="620" y="434"/>
                </a:moveTo>
                <a:lnTo>
                  <a:pt x="620" y="434"/>
                </a:lnTo>
                <a:cubicBezTo>
                  <a:pt x="618" y="466"/>
                  <a:pt x="612" y="492"/>
                  <a:pt x="603" y="515"/>
                </a:cubicBezTo>
                <a:cubicBezTo>
                  <a:pt x="594" y="539"/>
                  <a:pt x="580" y="559"/>
                  <a:pt x="564" y="575"/>
                </a:cubicBezTo>
                <a:lnTo>
                  <a:pt x="593" y="605"/>
                </a:lnTo>
                <a:cubicBezTo>
                  <a:pt x="614" y="585"/>
                  <a:pt x="630" y="561"/>
                  <a:pt x="643" y="531"/>
                </a:cubicBezTo>
                <a:cubicBezTo>
                  <a:pt x="653" y="504"/>
                  <a:pt x="660" y="472"/>
                  <a:pt x="663" y="434"/>
                </a:cubicBezTo>
                <a:cubicBezTo>
                  <a:pt x="686" y="428"/>
                  <a:pt x="705" y="413"/>
                  <a:pt x="706" y="389"/>
                </a:cubicBezTo>
                <a:lnTo>
                  <a:pt x="582" y="389"/>
                </a:lnTo>
                <a:cubicBezTo>
                  <a:pt x="581" y="413"/>
                  <a:pt x="598" y="428"/>
                  <a:pt x="620" y="434"/>
                </a:cubicBezTo>
                <a:close/>
                <a:moveTo>
                  <a:pt x="86" y="434"/>
                </a:moveTo>
                <a:lnTo>
                  <a:pt x="86" y="434"/>
                </a:lnTo>
                <a:cubicBezTo>
                  <a:pt x="108" y="428"/>
                  <a:pt x="126" y="413"/>
                  <a:pt x="124" y="389"/>
                </a:cubicBezTo>
                <a:lnTo>
                  <a:pt x="0" y="389"/>
                </a:lnTo>
                <a:cubicBezTo>
                  <a:pt x="2" y="413"/>
                  <a:pt x="21" y="428"/>
                  <a:pt x="44" y="434"/>
                </a:cubicBezTo>
                <a:cubicBezTo>
                  <a:pt x="46" y="472"/>
                  <a:pt x="53" y="504"/>
                  <a:pt x="64" y="531"/>
                </a:cubicBezTo>
                <a:cubicBezTo>
                  <a:pt x="76" y="561"/>
                  <a:pt x="93" y="585"/>
                  <a:pt x="113" y="605"/>
                </a:cubicBezTo>
                <a:lnTo>
                  <a:pt x="143" y="575"/>
                </a:lnTo>
                <a:cubicBezTo>
                  <a:pt x="126" y="559"/>
                  <a:pt x="113" y="539"/>
                  <a:pt x="103" y="515"/>
                </a:cubicBezTo>
                <a:cubicBezTo>
                  <a:pt x="94" y="492"/>
                  <a:pt x="88" y="466"/>
                  <a:pt x="86" y="434"/>
                </a:cubicBezTo>
                <a:close/>
                <a:moveTo>
                  <a:pt x="218" y="109"/>
                </a:moveTo>
                <a:lnTo>
                  <a:pt x="218" y="109"/>
                </a:lnTo>
                <a:lnTo>
                  <a:pt x="218" y="141"/>
                </a:lnTo>
                <a:lnTo>
                  <a:pt x="505" y="141"/>
                </a:lnTo>
                <a:lnTo>
                  <a:pt x="505" y="109"/>
                </a:lnTo>
                <a:lnTo>
                  <a:pt x="218" y="109"/>
                </a:lnTo>
                <a:close/>
                <a:moveTo>
                  <a:pt x="260" y="285"/>
                </a:moveTo>
                <a:lnTo>
                  <a:pt x="260" y="285"/>
                </a:lnTo>
                <a:lnTo>
                  <a:pt x="260" y="318"/>
                </a:lnTo>
                <a:lnTo>
                  <a:pt x="463" y="318"/>
                </a:lnTo>
                <a:lnTo>
                  <a:pt x="463" y="285"/>
                </a:lnTo>
                <a:lnTo>
                  <a:pt x="260" y="285"/>
                </a:lnTo>
                <a:close/>
                <a:moveTo>
                  <a:pt x="237" y="193"/>
                </a:moveTo>
                <a:lnTo>
                  <a:pt x="237" y="193"/>
                </a:lnTo>
                <a:lnTo>
                  <a:pt x="237" y="226"/>
                </a:lnTo>
                <a:lnTo>
                  <a:pt x="486" y="226"/>
                </a:lnTo>
                <a:lnTo>
                  <a:pt x="486" y="193"/>
                </a:lnTo>
                <a:lnTo>
                  <a:pt x="237" y="193"/>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53" name="Freeform 48"/>
          <p:cNvSpPr/>
          <p:nvPr/>
        </p:nvSpPr>
        <p:spPr>
          <a:xfrm>
            <a:off x="4629240" y="2071800"/>
            <a:ext cx="650880" cy="501480"/>
          </a:xfrm>
          <a:custGeom>
            <a:avLst/>
            <a:gdLst>
              <a:gd name="textAreaLeft" fmla="*/ 0 w 650880"/>
              <a:gd name="textAreaRight" fmla="*/ 651240 w 650880"/>
              <a:gd name="textAreaTop" fmla="*/ 0 h 501480"/>
              <a:gd name="textAreaBottom" fmla="*/ 501840 h 501480"/>
            </a:gdLst>
            <a:ahLst/>
            <a:rect l="textAreaLeft" t="textAreaTop" r="textAreaRight" b="textAreaBottom"/>
            <a:pathLst>
              <a:path w="910" h="701">
                <a:moveTo>
                  <a:pt x="200" y="459"/>
                </a:moveTo>
                <a:lnTo>
                  <a:pt x="42" y="459"/>
                </a:lnTo>
                <a:cubicBezTo>
                  <a:pt x="19" y="459"/>
                  <a:pt x="0" y="478"/>
                  <a:pt x="0" y="501"/>
                </a:cubicBezTo>
                <a:lnTo>
                  <a:pt x="0" y="660"/>
                </a:lnTo>
                <a:cubicBezTo>
                  <a:pt x="0" y="683"/>
                  <a:pt x="19" y="701"/>
                  <a:pt x="42" y="701"/>
                </a:cubicBezTo>
                <a:lnTo>
                  <a:pt x="200" y="701"/>
                </a:lnTo>
                <a:cubicBezTo>
                  <a:pt x="223" y="701"/>
                  <a:pt x="242" y="683"/>
                  <a:pt x="242" y="660"/>
                </a:cubicBezTo>
                <a:lnTo>
                  <a:pt x="242" y="501"/>
                </a:lnTo>
                <a:cubicBezTo>
                  <a:pt x="242" y="478"/>
                  <a:pt x="223" y="459"/>
                  <a:pt x="200" y="459"/>
                </a:cubicBezTo>
                <a:close/>
                <a:moveTo>
                  <a:pt x="534" y="459"/>
                </a:moveTo>
                <a:lnTo>
                  <a:pt x="534" y="459"/>
                </a:lnTo>
                <a:lnTo>
                  <a:pt x="376" y="459"/>
                </a:lnTo>
                <a:cubicBezTo>
                  <a:pt x="353" y="459"/>
                  <a:pt x="334" y="478"/>
                  <a:pt x="334" y="501"/>
                </a:cubicBezTo>
                <a:lnTo>
                  <a:pt x="334" y="660"/>
                </a:lnTo>
                <a:cubicBezTo>
                  <a:pt x="334" y="683"/>
                  <a:pt x="353" y="701"/>
                  <a:pt x="376" y="701"/>
                </a:cubicBezTo>
                <a:lnTo>
                  <a:pt x="534" y="701"/>
                </a:lnTo>
                <a:cubicBezTo>
                  <a:pt x="557" y="701"/>
                  <a:pt x="576" y="683"/>
                  <a:pt x="576" y="660"/>
                </a:cubicBezTo>
                <a:lnTo>
                  <a:pt x="576" y="501"/>
                </a:lnTo>
                <a:cubicBezTo>
                  <a:pt x="576" y="478"/>
                  <a:pt x="557" y="459"/>
                  <a:pt x="534" y="459"/>
                </a:cubicBezTo>
                <a:close/>
                <a:moveTo>
                  <a:pt x="868" y="459"/>
                </a:moveTo>
                <a:lnTo>
                  <a:pt x="868" y="459"/>
                </a:lnTo>
                <a:lnTo>
                  <a:pt x="710" y="459"/>
                </a:lnTo>
                <a:cubicBezTo>
                  <a:pt x="687" y="459"/>
                  <a:pt x="668" y="478"/>
                  <a:pt x="668" y="501"/>
                </a:cubicBezTo>
                <a:lnTo>
                  <a:pt x="668" y="660"/>
                </a:lnTo>
                <a:cubicBezTo>
                  <a:pt x="668" y="683"/>
                  <a:pt x="687" y="701"/>
                  <a:pt x="710" y="701"/>
                </a:cubicBezTo>
                <a:lnTo>
                  <a:pt x="868" y="701"/>
                </a:lnTo>
                <a:cubicBezTo>
                  <a:pt x="891" y="701"/>
                  <a:pt x="910" y="683"/>
                  <a:pt x="910" y="660"/>
                </a:cubicBezTo>
                <a:lnTo>
                  <a:pt x="910" y="501"/>
                </a:lnTo>
                <a:cubicBezTo>
                  <a:pt x="910" y="478"/>
                  <a:pt x="891" y="459"/>
                  <a:pt x="868" y="459"/>
                </a:cubicBezTo>
                <a:close/>
                <a:moveTo>
                  <a:pt x="534" y="267"/>
                </a:moveTo>
                <a:lnTo>
                  <a:pt x="534" y="267"/>
                </a:lnTo>
                <a:lnTo>
                  <a:pt x="702" y="435"/>
                </a:lnTo>
                <a:cubicBezTo>
                  <a:pt x="704" y="435"/>
                  <a:pt x="707" y="434"/>
                  <a:pt x="710" y="434"/>
                </a:cubicBezTo>
                <a:lnTo>
                  <a:pt x="777" y="434"/>
                </a:lnTo>
                <a:lnTo>
                  <a:pt x="585" y="243"/>
                </a:lnTo>
                <a:cubicBezTo>
                  <a:pt x="573" y="258"/>
                  <a:pt x="555" y="267"/>
                  <a:pt x="534" y="267"/>
                </a:cubicBezTo>
                <a:close/>
                <a:moveTo>
                  <a:pt x="339" y="220"/>
                </a:moveTo>
                <a:lnTo>
                  <a:pt x="339" y="220"/>
                </a:lnTo>
                <a:cubicBezTo>
                  <a:pt x="340" y="222"/>
                  <a:pt x="341" y="224"/>
                  <a:pt x="342" y="225"/>
                </a:cubicBezTo>
                <a:cubicBezTo>
                  <a:pt x="343" y="225"/>
                  <a:pt x="343" y="226"/>
                  <a:pt x="343" y="226"/>
                </a:cubicBezTo>
                <a:cubicBezTo>
                  <a:pt x="345" y="229"/>
                  <a:pt x="348" y="231"/>
                  <a:pt x="350" y="233"/>
                </a:cubicBezTo>
                <a:cubicBezTo>
                  <a:pt x="351" y="234"/>
                  <a:pt x="351" y="234"/>
                  <a:pt x="352" y="234"/>
                </a:cubicBezTo>
                <a:cubicBezTo>
                  <a:pt x="353" y="235"/>
                  <a:pt x="354" y="236"/>
                  <a:pt x="355" y="236"/>
                </a:cubicBezTo>
                <a:cubicBezTo>
                  <a:pt x="356" y="237"/>
                  <a:pt x="357" y="238"/>
                  <a:pt x="358" y="238"/>
                </a:cubicBezTo>
                <a:cubicBezTo>
                  <a:pt x="359" y="239"/>
                  <a:pt x="360" y="239"/>
                  <a:pt x="361" y="239"/>
                </a:cubicBezTo>
                <a:cubicBezTo>
                  <a:pt x="363" y="240"/>
                  <a:pt x="364" y="240"/>
                  <a:pt x="366" y="241"/>
                </a:cubicBezTo>
                <a:cubicBezTo>
                  <a:pt x="366" y="241"/>
                  <a:pt x="367" y="241"/>
                  <a:pt x="368" y="241"/>
                </a:cubicBezTo>
                <a:cubicBezTo>
                  <a:pt x="371" y="242"/>
                  <a:pt x="373" y="242"/>
                  <a:pt x="376" y="242"/>
                </a:cubicBezTo>
                <a:lnTo>
                  <a:pt x="534" y="242"/>
                </a:lnTo>
                <a:cubicBezTo>
                  <a:pt x="538" y="242"/>
                  <a:pt x="541" y="242"/>
                  <a:pt x="544" y="241"/>
                </a:cubicBezTo>
                <a:cubicBezTo>
                  <a:pt x="544" y="241"/>
                  <a:pt x="545" y="241"/>
                  <a:pt x="546" y="240"/>
                </a:cubicBezTo>
                <a:cubicBezTo>
                  <a:pt x="548" y="240"/>
                  <a:pt x="550" y="239"/>
                  <a:pt x="552" y="238"/>
                </a:cubicBezTo>
                <a:cubicBezTo>
                  <a:pt x="553" y="237"/>
                  <a:pt x="554" y="237"/>
                  <a:pt x="554" y="237"/>
                </a:cubicBezTo>
                <a:cubicBezTo>
                  <a:pt x="557" y="236"/>
                  <a:pt x="559" y="234"/>
                  <a:pt x="561" y="233"/>
                </a:cubicBezTo>
                <a:cubicBezTo>
                  <a:pt x="561" y="232"/>
                  <a:pt x="561" y="232"/>
                  <a:pt x="562" y="232"/>
                </a:cubicBezTo>
                <a:cubicBezTo>
                  <a:pt x="564" y="230"/>
                  <a:pt x="566" y="228"/>
                  <a:pt x="568" y="225"/>
                </a:cubicBezTo>
                <a:lnTo>
                  <a:pt x="568" y="225"/>
                </a:lnTo>
                <a:cubicBezTo>
                  <a:pt x="573" y="218"/>
                  <a:pt x="576" y="210"/>
                  <a:pt x="576" y="200"/>
                </a:cubicBezTo>
                <a:lnTo>
                  <a:pt x="576" y="42"/>
                </a:lnTo>
                <a:cubicBezTo>
                  <a:pt x="576" y="19"/>
                  <a:pt x="557" y="0"/>
                  <a:pt x="534" y="0"/>
                </a:cubicBezTo>
                <a:lnTo>
                  <a:pt x="376" y="0"/>
                </a:lnTo>
                <a:cubicBezTo>
                  <a:pt x="353" y="0"/>
                  <a:pt x="334" y="19"/>
                  <a:pt x="334" y="42"/>
                </a:cubicBezTo>
                <a:lnTo>
                  <a:pt x="334" y="200"/>
                </a:lnTo>
                <a:cubicBezTo>
                  <a:pt x="334" y="207"/>
                  <a:pt x="336" y="214"/>
                  <a:pt x="339" y="220"/>
                </a:cubicBezTo>
                <a:cubicBezTo>
                  <a:pt x="339" y="220"/>
                  <a:pt x="339" y="220"/>
                  <a:pt x="339" y="220"/>
                </a:cubicBezTo>
                <a:close/>
                <a:moveTo>
                  <a:pt x="361" y="265"/>
                </a:moveTo>
                <a:lnTo>
                  <a:pt x="361" y="265"/>
                </a:lnTo>
                <a:cubicBezTo>
                  <a:pt x="342" y="261"/>
                  <a:pt x="327" y="249"/>
                  <a:pt x="318" y="233"/>
                </a:cubicBezTo>
                <a:lnTo>
                  <a:pt x="117" y="434"/>
                </a:lnTo>
                <a:lnTo>
                  <a:pt x="192" y="434"/>
                </a:lnTo>
                <a:lnTo>
                  <a:pt x="361" y="265"/>
                </a:lnTo>
                <a:close/>
                <a:moveTo>
                  <a:pt x="485" y="434"/>
                </a:moveTo>
                <a:lnTo>
                  <a:pt x="485" y="434"/>
                </a:lnTo>
                <a:lnTo>
                  <a:pt x="485" y="267"/>
                </a:lnTo>
                <a:lnTo>
                  <a:pt x="425" y="267"/>
                </a:lnTo>
                <a:lnTo>
                  <a:pt x="425" y="434"/>
                </a:lnTo>
                <a:lnTo>
                  <a:pt x="485" y="434"/>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54" name="Freeform 49"/>
          <p:cNvSpPr/>
          <p:nvPr/>
        </p:nvSpPr>
        <p:spPr>
          <a:xfrm>
            <a:off x="7964640" y="5648400"/>
            <a:ext cx="603000" cy="457200"/>
          </a:xfrm>
          <a:custGeom>
            <a:avLst/>
            <a:gdLst>
              <a:gd name="textAreaLeft" fmla="*/ 0 w 603000"/>
              <a:gd name="textAreaRight" fmla="*/ 603360 w 603000"/>
              <a:gd name="textAreaTop" fmla="*/ 0 h 457200"/>
              <a:gd name="textAreaBottom" fmla="*/ 457560 h 457200"/>
            </a:gdLst>
            <a:ahLst/>
            <a:rect l="textAreaLeft" t="textAreaTop" r="textAreaRight" b="textAreaBottom"/>
            <a:pathLst>
              <a:path w="844" h="639">
                <a:moveTo>
                  <a:pt x="557" y="526"/>
                </a:moveTo>
                <a:cubicBezTo>
                  <a:pt x="551" y="530"/>
                  <a:pt x="545" y="533"/>
                  <a:pt x="537" y="536"/>
                </a:cubicBezTo>
                <a:cubicBezTo>
                  <a:pt x="497" y="555"/>
                  <a:pt x="443" y="566"/>
                  <a:pt x="383" y="566"/>
                </a:cubicBezTo>
                <a:cubicBezTo>
                  <a:pt x="323" y="566"/>
                  <a:pt x="269" y="555"/>
                  <a:pt x="228" y="536"/>
                </a:cubicBezTo>
                <a:cubicBezTo>
                  <a:pt x="221" y="533"/>
                  <a:pt x="215" y="530"/>
                  <a:pt x="209" y="526"/>
                </a:cubicBezTo>
                <a:cubicBezTo>
                  <a:pt x="195" y="537"/>
                  <a:pt x="189" y="549"/>
                  <a:pt x="189" y="559"/>
                </a:cubicBezTo>
                <a:cubicBezTo>
                  <a:pt x="189" y="575"/>
                  <a:pt x="206" y="596"/>
                  <a:pt x="241" y="612"/>
                </a:cubicBezTo>
                <a:cubicBezTo>
                  <a:pt x="277" y="628"/>
                  <a:pt x="327" y="639"/>
                  <a:pt x="383" y="639"/>
                </a:cubicBezTo>
                <a:cubicBezTo>
                  <a:pt x="439" y="639"/>
                  <a:pt x="489" y="628"/>
                  <a:pt x="524" y="612"/>
                </a:cubicBezTo>
                <a:cubicBezTo>
                  <a:pt x="560" y="596"/>
                  <a:pt x="577" y="575"/>
                  <a:pt x="577" y="559"/>
                </a:cubicBezTo>
                <a:cubicBezTo>
                  <a:pt x="577" y="549"/>
                  <a:pt x="571" y="537"/>
                  <a:pt x="557" y="526"/>
                </a:cubicBezTo>
                <a:close/>
                <a:moveTo>
                  <a:pt x="508" y="172"/>
                </a:moveTo>
                <a:lnTo>
                  <a:pt x="508" y="172"/>
                </a:lnTo>
                <a:cubicBezTo>
                  <a:pt x="543" y="188"/>
                  <a:pt x="594" y="199"/>
                  <a:pt x="650" y="199"/>
                </a:cubicBezTo>
                <a:cubicBezTo>
                  <a:pt x="706" y="199"/>
                  <a:pt x="756" y="188"/>
                  <a:pt x="791" y="172"/>
                </a:cubicBezTo>
                <a:cubicBezTo>
                  <a:pt x="827" y="156"/>
                  <a:pt x="844" y="135"/>
                  <a:pt x="843" y="119"/>
                </a:cubicBezTo>
                <a:cubicBezTo>
                  <a:pt x="844" y="103"/>
                  <a:pt x="827" y="82"/>
                  <a:pt x="791" y="66"/>
                </a:cubicBezTo>
                <a:cubicBezTo>
                  <a:pt x="756" y="50"/>
                  <a:pt x="706" y="39"/>
                  <a:pt x="650" y="39"/>
                </a:cubicBezTo>
                <a:lnTo>
                  <a:pt x="649" y="39"/>
                </a:lnTo>
                <a:cubicBezTo>
                  <a:pt x="594" y="39"/>
                  <a:pt x="543" y="50"/>
                  <a:pt x="508" y="66"/>
                </a:cubicBezTo>
                <a:cubicBezTo>
                  <a:pt x="472" y="82"/>
                  <a:pt x="455" y="103"/>
                  <a:pt x="456" y="119"/>
                </a:cubicBezTo>
                <a:cubicBezTo>
                  <a:pt x="455" y="135"/>
                  <a:pt x="472" y="156"/>
                  <a:pt x="508" y="172"/>
                </a:cubicBezTo>
                <a:close/>
                <a:moveTo>
                  <a:pt x="50" y="132"/>
                </a:moveTo>
                <a:lnTo>
                  <a:pt x="50" y="132"/>
                </a:lnTo>
                <a:cubicBezTo>
                  <a:pt x="50" y="132"/>
                  <a:pt x="50" y="132"/>
                  <a:pt x="50" y="132"/>
                </a:cubicBezTo>
                <a:cubicBezTo>
                  <a:pt x="51" y="132"/>
                  <a:pt x="52" y="132"/>
                  <a:pt x="53" y="133"/>
                </a:cubicBezTo>
                <a:cubicBezTo>
                  <a:pt x="88" y="149"/>
                  <a:pt x="138" y="159"/>
                  <a:pt x="194" y="159"/>
                </a:cubicBezTo>
                <a:cubicBezTo>
                  <a:pt x="250" y="159"/>
                  <a:pt x="301" y="149"/>
                  <a:pt x="336" y="133"/>
                </a:cubicBezTo>
                <a:cubicBezTo>
                  <a:pt x="337" y="132"/>
                  <a:pt x="337" y="132"/>
                  <a:pt x="338" y="132"/>
                </a:cubicBezTo>
                <a:cubicBezTo>
                  <a:pt x="338" y="132"/>
                  <a:pt x="338" y="132"/>
                  <a:pt x="338" y="132"/>
                </a:cubicBezTo>
                <a:cubicBezTo>
                  <a:pt x="372" y="116"/>
                  <a:pt x="389" y="95"/>
                  <a:pt x="388" y="79"/>
                </a:cubicBezTo>
                <a:cubicBezTo>
                  <a:pt x="389" y="63"/>
                  <a:pt x="372" y="42"/>
                  <a:pt x="336" y="26"/>
                </a:cubicBezTo>
                <a:cubicBezTo>
                  <a:pt x="301" y="10"/>
                  <a:pt x="250" y="0"/>
                  <a:pt x="194" y="0"/>
                </a:cubicBezTo>
                <a:cubicBezTo>
                  <a:pt x="138" y="0"/>
                  <a:pt x="88" y="10"/>
                  <a:pt x="53" y="26"/>
                </a:cubicBezTo>
                <a:cubicBezTo>
                  <a:pt x="17" y="42"/>
                  <a:pt x="0" y="63"/>
                  <a:pt x="0" y="79"/>
                </a:cubicBezTo>
                <a:cubicBezTo>
                  <a:pt x="0" y="95"/>
                  <a:pt x="16" y="116"/>
                  <a:pt x="50" y="132"/>
                </a:cubicBezTo>
                <a:close/>
                <a:moveTo>
                  <a:pt x="50" y="236"/>
                </a:moveTo>
                <a:lnTo>
                  <a:pt x="50" y="236"/>
                </a:lnTo>
                <a:cubicBezTo>
                  <a:pt x="50" y="236"/>
                  <a:pt x="50" y="236"/>
                  <a:pt x="50" y="236"/>
                </a:cubicBezTo>
                <a:cubicBezTo>
                  <a:pt x="51" y="236"/>
                  <a:pt x="52" y="237"/>
                  <a:pt x="53" y="237"/>
                </a:cubicBezTo>
                <a:cubicBezTo>
                  <a:pt x="88" y="253"/>
                  <a:pt x="138" y="263"/>
                  <a:pt x="194" y="263"/>
                </a:cubicBezTo>
                <a:cubicBezTo>
                  <a:pt x="203" y="263"/>
                  <a:pt x="212" y="263"/>
                  <a:pt x="221" y="263"/>
                </a:cubicBezTo>
                <a:cubicBezTo>
                  <a:pt x="223" y="262"/>
                  <a:pt x="225" y="262"/>
                  <a:pt x="226" y="262"/>
                </a:cubicBezTo>
                <a:cubicBezTo>
                  <a:pt x="235" y="262"/>
                  <a:pt x="244" y="261"/>
                  <a:pt x="252" y="260"/>
                </a:cubicBezTo>
                <a:cubicBezTo>
                  <a:pt x="277" y="256"/>
                  <a:pt x="299" y="251"/>
                  <a:pt x="318" y="244"/>
                </a:cubicBezTo>
                <a:cubicBezTo>
                  <a:pt x="318" y="244"/>
                  <a:pt x="319" y="244"/>
                  <a:pt x="319" y="244"/>
                </a:cubicBezTo>
                <a:cubicBezTo>
                  <a:pt x="319" y="244"/>
                  <a:pt x="319" y="244"/>
                  <a:pt x="319" y="244"/>
                </a:cubicBezTo>
                <a:cubicBezTo>
                  <a:pt x="325" y="241"/>
                  <a:pt x="331" y="239"/>
                  <a:pt x="336" y="237"/>
                </a:cubicBezTo>
                <a:cubicBezTo>
                  <a:pt x="337" y="237"/>
                  <a:pt x="337" y="236"/>
                  <a:pt x="338" y="236"/>
                </a:cubicBezTo>
                <a:cubicBezTo>
                  <a:pt x="338" y="236"/>
                  <a:pt x="338" y="236"/>
                  <a:pt x="338" y="236"/>
                </a:cubicBezTo>
                <a:cubicBezTo>
                  <a:pt x="372" y="220"/>
                  <a:pt x="389" y="199"/>
                  <a:pt x="388" y="184"/>
                </a:cubicBezTo>
                <a:cubicBezTo>
                  <a:pt x="388" y="174"/>
                  <a:pt x="382" y="162"/>
                  <a:pt x="369" y="150"/>
                </a:cubicBezTo>
                <a:cubicBezTo>
                  <a:pt x="362" y="154"/>
                  <a:pt x="356" y="158"/>
                  <a:pt x="349" y="161"/>
                </a:cubicBezTo>
                <a:cubicBezTo>
                  <a:pt x="308" y="179"/>
                  <a:pt x="254" y="190"/>
                  <a:pt x="194" y="190"/>
                </a:cubicBezTo>
                <a:cubicBezTo>
                  <a:pt x="134" y="190"/>
                  <a:pt x="80" y="179"/>
                  <a:pt x="40" y="161"/>
                </a:cubicBezTo>
                <a:cubicBezTo>
                  <a:pt x="33" y="158"/>
                  <a:pt x="26" y="154"/>
                  <a:pt x="20" y="151"/>
                </a:cubicBezTo>
                <a:cubicBezTo>
                  <a:pt x="6" y="162"/>
                  <a:pt x="0" y="174"/>
                  <a:pt x="0" y="184"/>
                </a:cubicBezTo>
                <a:cubicBezTo>
                  <a:pt x="0" y="199"/>
                  <a:pt x="16" y="220"/>
                  <a:pt x="50" y="236"/>
                </a:cubicBezTo>
                <a:close/>
                <a:moveTo>
                  <a:pt x="574" y="339"/>
                </a:moveTo>
                <a:lnTo>
                  <a:pt x="574" y="339"/>
                </a:lnTo>
                <a:cubicBezTo>
                  <a:pt x="574" y="339"/>
                  <a:pt x="574" y="339"/>
                  <a:pt x="574" y="339"/>
                </a:cubicBezTo>
                <a:cubicBezTo>
                  <a:pt x="574" y="337"/>
                  <a:pt x="572" y="335"/>
                  <a:pt x="571" y="333"/>
                </a:cubicBezTo>
                <a:cubicBezTo>
                  <a:pt x="571" y="333"/>
                  <a:pt x="571" y="333"/>
                  <a:pt x="571" y="333"/>
                </a:cubicBezTo>
                <a:cubicBezTo>
                  <a:pt x="570" y="331"/>
                  <a:pt x="568" y="329"/>
                  <a:pt x="567" y="327"/>
                </a:cubicBezTo>
                <a:cubicBezTo>
                  <a:pt x="567" y="327"/>
                  <a:pt x="567" y="327"/>
                  <a:pt x="567" y="327"/>
                </a:cubicBezTo>
                <a:cubicBezTo>
                  <a:pt x="558" y="316"/>
                  <a:pt x="544" y="306"/>
                  <a:pt x="524" y="297"/>
                </a:cubicBezTo>
                <a:cubicBezTo>
                  <a:pt x="489" y="281"/>
                  <a:pt x="439" y="270"/>
                  <a:pt x="383" y="271"/>
                </a:cubicBezTo>
                <a:cubicBezTo>
                  <a:pt x="374" y="271"/>
                  <a:pt x="364" y="271"/>
                  <a:pt x="355" y="271"/>
                </a:cubicBezTo>
                <a:cubicBezTo>
                  <a:pt x="354" y="272"/>
                  <a:pt x="352" y="272"/>
                  <a:pt x="351" y="272"/>
                </a:cubicBezTo>
                <a:cubicBezTo>
                  <a:pt x="308" y="275"/>
                  <a:pt x="270" y="284"/>
                  <a:pt x="241" y="297"/>
                </a:cubicBezTo>
                <a:cubicBezTo>
                  <a:pt x="222" y="306"/>
                  <a:pt x="208" y="316"/>
                  <a:pt x="200" y="326"/>
                </a:cubicBezTo>
                <a:cubicBezTo>
                  <a:pt x="199" y="327"/>
                  <a:pt x="198" y="328"/>
                  <a:pt x="198" y="329"/>
                </a:cubicBezTo>
                <a:cubicBezTo>
                  <a:pt x="197" y="330"/>
                  <a:pt x="196" y="331"/>
                  <a:pt x="195" y="332"/>
                </a:cubicBezTo>
                <a:cubicBezTo>
                  <a:pt x="194" y="334"/>
                  <a:pt x="193" y="335"/>
                  <a:pt x="192" y="337"/>
                </a:cubicBezTo>
                <a:cubicBezTo>
                  <a:pt x="192" y="338"/>
                  <a:pt x="192" y="338"/>
                  <a:pt x="192" y="339"/>
                </a:cubicBezTo>
                <a:cubicBezTo>
                  <a:pt x="191" y="340"/>
                  <a:pt x="191" y="342"/>
                  <a:pt x="190" y="343"/>
                </a:cubicBezTo>
                <a:cubicBezTo>
                  <a:pt x="190" y="344"/>
                  <a:pt x="190" y="344"/>
                  <a:pt x="190" y="345"/>
                </a:cubicBezTo>
                <a:cubicBezTo>
                  <a:pt x="189" y="347"/>
                  <a:pt x="189" y="349"/>
                  <a:pt x="189" y="350"/>
                </a:cubicBezTo>
                <a:cubicBezTo>
                  <a:pt x="189" y="352"/>
                  <a:pt x="189" y="354"/>
                  <a:pt x="190" y="356"/>
                </a:cubicBezTo>
                <a:cubicBezTo>
                  <a:pt x="190" y="356"/>
                  <a:pt x="190" y="357"/>
                  <a:pt x="190" y="358"/>
                </a:cubicBezTo>
                <a:cubicBezTo>
                  <a:pt x="191" y="359"/>
                  <a:pt x="191" y="360"/>
                  <a:pt x="191" y="361"/>
                </a:cubicBezTo>
                <a:cubicBezTo>
                  <a:pt x="192" y="363"/>
                  <a:pt x="193" y="365"/>
                  <a:pt x="194" y="367"/>
                </a:cubicBezTo>
                <a:cubicBezTo>
                  <a:pt x="194" y="367"/>
                  <a:pt x="195" y="368"/>
                  <a:pt x="195" y="368"/>
                </a:cubicBezTo>
                <a:cubicBezTo>
                  <a:pt x="195" y="368"/>
                  <a:pt x="195" y="368"/>
                  <a:pt x="195" y="368"/>
                </a:cubicBezTo>
                <a:cubicBezTo>
                  <a:pt x="202" y="380"/>
                  <a:pt x="217" y="392"/>
                  <a:pt x="239" y="403"/>
                </a:cubicBezTo>
                <a:cubicBezTo>
                  <a:pt x="240" y="403"/>
                  <a:pt x="241" y="403"/>
                  <a:pt x="241" y="404"/>
                </a:cubicBezTo>
                <a:cubicBezTo>
                  <a:pt x="246" y="406"/>
                  <a:pt x="250" y="407"/>
                  <a:pt x="255" y="409"/>
                </a:cubicBezTo>
                <a:cubicBezTo>
                  <a:pt x="256" y="410"/>
                  <a:pt x="258" y="410"/>
                  <a:pt x="259" y="411"/>
                </a:cubicBezTo>
                <a:cubicBezTo>
                  <a:pt x="262" y="412"/>
                  <a:pt x="265" y="413"/>
                  <a:pt x="269" y="414"/>
                </a:cubicBezTo>
                <a:cubicBezTo>
                  <a:pt x="271" y="415"/>
                  <a:pt x="273" y="415"/>
                  <a:pt x="275" y="416"/>
                </a:cubicBezTo>
                <a:cubicBezTo>
                  <a:pt x="278" y="417"/>
                  <a:pt x="281" y="418"/>
                  <a:pt x="284" y="418"/>
                </a:cubicBezTo>
                <a:cubicBezTo>
                  <a:pt x="286" y="419"/>
                  <a:pt x="289" y="420"/>
                  <a:pt x="291" y="420"/>
                </a:cubicBezTo>
                <a:cubicBezTo>
                  <a:pt x="294" y="421"/>
                  <a:pt x="297" y="421"/>
                  <a:pt x="300" y="422"/>
                </a:cubicBezTo>
                <a:cubicBezTo>
                  <a:pt x="303" y="423"/>
                  <a:pt x="306" y="423"/>
                  <a:pt x="308" y="424"/>
                </a:cubicBezTo>
                <a:cubicBezTo>
                  <a:pt x="311" y="424"/>
                  <a:pt x="314" y="425"/>
                  <a:pt x="317" y="425"/>
                </a:cubicBezTo>
                <a:cubicBezTo>
                  <a:pt x="320" y="426"/>
                  <a:pt x="323" y="426"/>
                  <a:pt x="326" y="426"/>
                </a:cubicBezTo>
                <a:cubicBezTo>
                  <a:pt x="329" y="427"/>
                  <a:pt x="331" y="427"/>
                  <a:pt x="334" y="427"/>
                </a:cubicBezTo>
                <a:cubicBezTo>
                  <a:pt x="338" y="428"/>
                  <a:pt x="341" y="428"/>
                  <a:pt x="345" y="429"/>
                </a:cubicBezTo>
                <a:cubicBezTo>
                  <a:pt x="346" y="429"/>
                  <a:pt x="348" y="429"/>
                  <a:pt x="350" y="429"/>
                </a:cubicBezTo>
                <a:cubicBezTo>
                  <a:pt x="361" y="430"/>
                  <a:pt x="372" y="430"/>
                  <a:pt x="383" y="430"/>
                </a:cubicBezTo>
                <a:cubicBezTo>
                  <a:pt x="439" y="430"/>
                  <a:pt x="489" y="420"/>
                  <a:pt x="524" y="404"/>
                </a:cubicBezTo>
                <a:cubicBezTo>
                  <a:pt x="538" y="398"/>
                  <a:pt x="549" y="391"/>
                  <a:pt x="557" y="384"/>
                </a:cubicBezTo>
                <a:cubicBezTo>
                  <a:pt x="560" y="382"/>
                  <a:pt x="562" y="379"/>
                  <a:pt x="564" y="377"/>
                </a:cubicBezTo>
                <a:cubicBezTo>
                  <a:pt x="565" y="376"/>
                  <a:pt x="567" y="374"/>
                  <a:pt x="568" y="373"/>
                </a:cubicBezTo>
                <a:cubicBezTo>
                  <a:pt x="568" y="372"/>
                  <a:pt x="569" y="371"/>
                  <a:pt x="569" y="371"/>
                </a:cubicBezTo>
                <a:cubicBezTo>
                  <a:pt x="570" y="370"/>
                  <a:pt x="571" y="368"/>
                  <a:pt x="572" y="367"/>
                </a:cubicBezTo>
                <a:cubicBezTo>
                  <a:pt x="572" y="367"/>
                  <a:pt x="572" y="366"/>
                  <a:pt x="573" y="365"/>
                </a:cubicBezTo>
                <a:cubicBezTo>
                  <a:pt x="573" y="365"/>
                  <a:pt x="573" y="365"/>
                  <a:pt x="573" y="365"/>
                </a:cubicBezTo>
                <a:cubicBezTo>
                  <a:pt x="573" y="365"/>
                  <a:pt x="573" y="365"/>
                  <a:pt x="573" y="365"/>
                </a:cubicBezTo>
                <a:cubicBezTo>
                  <a:pt x="574" y="364"/>
                  <a:pt x="574" y="363"/>
                  <a:pt x="574" y="362"/>
                </a:cubicBezTo>
                <a:cubicBezTo>
                  <a:pt x="575" y="361"/>
                  <a:pt x="575" y="360"/>
                  <a:pt x="575" y="359"/>
                </a:cubicBezTo>
                <a:cubicBezTo>
                  <a:pt x="576" y="358"/>
                  <a:pt x="576" y="357"/>
                  <a:pt x="576" y="356"/>
                </a:cubicBezTo>
                <a:cubicBezTo>
                  <a:pt x="577" y="354"/>
                  <a:pt x="577" y="352"/>
                  <a:pt x="577" y="350"/>
                </a:cubicBezTo>
                <a:lnTo>
                  <a:pt x="577" y="350"/>
                </a:lnTo>
                <a:cubicBezTo>
                  <a:pt x="577" y="349"/>
                  <a:pt x="577" y="347"/>
                  <a:pt x="576" y="345"/>
                </a:cubicBezTo>
                <a:cubicBezTo>
                  <a:pt x="576" y="343"/>
                  <a:pt x="575" y="341"/>
                  <a:pt x="574" y="339"/>
                </a:cubicBezTo>
                <a:close/>
                <a:moveTo>
                  <a:pt x="20" y="255"/>
                </a:moveTo>
                <a:lnTo>
                  <a:pt x="20" y="255"/>
                </a:lnTo>
                <a:cubicBezTo>
                  <a:pt x="6" y="266"/>
                  <a:pt x="0" y="278"/>
                  <a:pt x="0" y="288"/>
                </a:cubicBezTo>
                <a:cubicBezTo>
                  <a:pt x="0" y="304"/>
                  <a:pt x="17" y="325"/>
                  <a:pt x="53" y="341"/>
                </a:cubicBezTo>
                <a:cubicBezTo>
                  <a:pt x="81" y="354"/>
                  <a:pt x="118" y="363"/>
                  <a:pt x="161" y="366"/>
                </a:cubicBezTo>
                <a:cubicBezTo>
                  <a:pt x="159" y="361"/>
                  <a:pt x="158" y="356"/>
                  <a:pt x="158" y="350"/>
                </a:cubicBezTo>
                <a:cubicBezTo>
                  <a:pt x="158" y="347"/>
                  <a:pt x="158" y="344"/>
                  <a:pt x="159" y="341"/>
                </a:cubicBezTo>
                <a:cubicBezTo>
                  <a:pt x="159" y="340"/>
                  <a:pt x="159" y="339"/>
                  <a:pt x="160" y="338"/>
                </a:cubicBezTo>
                <a:cubicBezTo>
                  <a:pt x="160" y="336"/>
                  <a:pt x="160" y="334"/>
                  <a:pt x="161" y="332"/>
                </a:cubicBezTo>
                <a:cubicBezTo>
                  <a:pt x="161" y="331"/>
                  <a:pt x="162" y="330"/>
                  <a:pt x="162" y="329"/>
                </a:cubicBezTo>
                <a:cubicBezTo>
                  <a:pt x="163" y="327"/>
                  <a:pt x="164" y="326"/>
                  <a:pt x="164" y="324"/>
                </a:cubicBezTo>
                <a:cubicBezTo>
                  <a:pt x="165" y="323"/>
                  <a:pt x="165" y="322"/>
                  <a:pt x="166" y="320"/>
                </a:cubicBezTo>
                <a:cubicBezTo>
                  <a:pt x="167" y="319"/>
                  <a:pt x="167" y="318"/>
                  <a:pt x="168" y="317"/>
                </a:cubicBezTo>
                <a:cubicBezTo>
                  <a:pt x="173" y="309"/>
                  <a:pt x="179" y="301"/>
                  <a:pt x="187" y="294"/>
                </a:cubicBezTo>
                <a:cubicBezTo>
                  <a:pt x="130" y="294"/>
                  <a:pt x="79" y="283"/>
                  <a:pt x="40" y="265"/>
                </a:cubicBezTo>
                <a:cubicBezTo>
                  <a:pt x="33" y="262"/>
                  <a:pt x="26" y="259"/>
                  <a:pt x="20" y="255"/>
                </a:cubicBezTo>
                <a:close/>
                <a:moveTo>
                  <a:pt x="824" y="190"/>
                </a:moveTo>
                <a:lnTo>
                  <a:pt x="824" y="190"/>
                </a:lnTo>
                <a:cubicBezTo>
                  <a:pt x="818" y="194"/>
                  <a:pt x="811" y="197"/>
                  <a:pt x="804" y="201"/>
                </a:cubicBezTo>
                <a:cubicBezTo>
                  <a:pt x="764" y="219"/>
                  <a:pt x="709" y="230"/>
                  <a:pt x="650" y="230"/>
                </a:cubicBezTo>
                <a:cubicBezTo>
                  <a:pt x="590" y="230"/>
                  <a:pt x="536" y="219"/>
                  <a:pt x="495" y="201"/>
                </a:cubicBezTo>
                <a:cubicBezTo>
                  <a:pt x="488" y="197"/>
                  <a:pt x="482" y="194"/>
                  <a:pt x="475" y="190"/>
                </a:cubicBezTo>
                <a:cubicBezTo>
                  <a:pt x="462" y="201"/>
                  <a:pt x="456" y="213"/>
                  <a:pt x="456" y="223"/>
                </a:cubicBezTo>
                <a:cubicBezTo>
                  <a:pt x="456" y="230"/>
                  <a:pt x="459" y="239"/>
                  <a:pt x="466" y="247"/>
                </a:cubicBezTo>
                <a:cubicBezTo>
                  <a:pt x="493" y="252"/>
                  <a:pt x="517" y="259"/>
                  <a:pt x="537" y="269"/>
                </a:cubicBezTo>
                <a:cubicBezTo>
                  <a:pt x="555" y="277"/>
                  <a:pt x="570" y="286"/>
                  <a:pt x="582" y="298"/>
                </a:cubicBezTo>
                <a:cubicBezTo>
                  <a:pt x="603" y="301"/>
                  <a:pt x="626" y="303"/>
                  <a:pt x="650" y="303"/>
                </a:cubicBezTo>
                <a:cubicBezTo>
                  <a:pt x="706" y="303"/>
                  <a:pt x="756" y="293"/>
                  <a:pt x="791" y="276"/>
                </a:cubicBezTo>
                <a:cubicBezTo>
                  <a:pt x="792" y="276"/>
                  <a:pt x="793" y="276"/>
                  <a:pt x="794" y="275"/>
                </a:cubicBezTo>
                <a:lnTo>
                  <a:pt x="794" y="275"/>
                </a:lnTo>
                <a:cubicBezTo>
                  <a:pt x="828" y="259"/>
                  <a:pt x="844" y="239"/>
                  <a:pt x="843" y="223"/>
                </a:cubicBezTo>
                <a:cubicBezTo>
                  <a:pt x="844" y="213"/>
                  <a:pt x="838" y="201"/>
                  <a:pt x="824" y="190"/>
                </a:cubicBezTo>
                <a:close/>
                <a:moveTo>
                  <a:pt x="824" y="294"/>
                </a:moveTo>
                <a:lnTo>
                  <a:pt x="824" y="294"/>
                </a:lnTo>
                <a:cubicBezTo>
                  <a:pt x="818" y="298"/>
                  <a:pt x="811" y="302"/>
                  <a:pt x="804" y="305"/>
                </a:cubicBezTo>
                <a:cubicBezTo>
                  <a:pt x="764" y="323"/>
                  <a:pt x="709" y="334"/>
                  <a:pt x="650" y="334"/>
                </a:cubicBezTo>
                <a:cubicBezTo>
                  <a:pt x="634" y="334"/>
                  <a:pt x="619" y="333"/>
                  <a:pt x="605" y="332"/>
                </a:cubicBezTo>
                <a:cubicBezTo>
                  <a:pt x="606" y="338"/>
                  <a:pt x="608" y="344"/>
                  <a:pt x="608" y="350"/>
                </a:cubicBezTo>
                <a:cubicBezTo>
                  <a:pt x="608" y="352"/>
                  <a:pt x="608" y="353"/>
                  <a:pt x="608" y="354"/>
                </a:cubicBezTo>
                <a:cubicBezTo>
                  <a:pt x="608" y="354"/>
                  <a:pt x="607" y="354"/>
                  <a:pt x="607" y="354"/>
                </a:cubicBezTo>
                <a:cubicBezTo>
                  <a:pt x="606" y="373"/>
                  <a:pt x="597" y="389"/>
                  <a:pt x="583" y="402"/>
                </a:cubicBezTo>
                <a:cubicBezTo>
                  <a:pt x="583" y="402"/>
                  <a:pt x="583" y="402"/>
                  <a:pt x="583" y="402"/>
                </a:cubicBezTo>
                <a:cubicBezTo>
                  <a:pt x="583" y="402"/>
                  <a:pt x="583" y="402"/>
                  <a:pt x="583" y="402"/>
                </a:cubicBezTo>
                <a:cubicBezTo>
                  <a:pt x="604" y="405"/>
                  <a:pt x="626" y="407"/>
                  <a:pt x="650" y="407"/>
                </a:cubicBezTo>
                <a:cubicBezTo>
                  <a:pt x="706" y="407"/>
                  <a:pt x="756" y="397"/>
                  <a:pt x="791" y="381"/>
                </a:cubicBezTo>
                <a:cubicBezTo>
                  <a:pt x="792" y="380"/>
                  <a:pt x="793" y="380"/>
                  <a:pt x="794" y="380"/>
                </a:cubicBezTo>
                <a:lnTo>
                  <a:pt x="794" y="380"/>
                </a:lnTo>
                <a:cubicBezTo>
                  <a:pt x="828" y="364"/>
                  <a:pt x="844" y="343"/>
                  <a:pt x="843" y="327"/>
                </a:cubicBezTo>
                <a:cubicBezTo>
                  <a:pt x="844" y="317"/>
                  <a:pt x="838" y="306"/>
                  <a:pt x="824" y="294"/>
                </a:cubicBezTo>
                <a:close/>
                <a:moveTo>
                  <a:pt x="179" y="399"/>
                </a:moveTo>
                <a:lnTo>
                  <a:pt x="179" y="399"/>
                </a:lnTo>
                <a:cubicBezTo>
                  <a:pt x="125" y="397"/>
                  <a:pt x="77" y="386"/>
                  <a:pt x="40" y="370"/>
                </a:cubicBezTo>
                <a:cubicBezTo>
                  <a:pt x="33" y="366"/>
                  <a:pt x="26" y="363"/>
                  <a:pt x="20" y="359"/>
                </a:cubicBezTo>
                <a:cubicBezTo>
                  <a:pt x="6" y="370"/>
                  <a:pt x="0" y="382"/>
                  <a:pt x="0" y="392"/>
                </a:cubicBezTo>
                <a:cubicBezTo>
                  <a:pt x="0" y="408"/>
                  <a:pt x="17" y="429"/>
                  <a:pt x="53" y="445"/>
                </a:cubicBezTo>
                <a:cubicBezTo>
                  <a:pt x="81" y="458"/>
                  <a:pt x="118" y="467"/>
                  <a:pt x="161" y="471"/>
                </a:cubicBezTo>
                <a:cubicBezTo>
                  <a:pt x="159" y="466"/>
                  <a:pt x="158" y="460"/>
                  <a:pt x="158" y="455"/>
                </a:cubicBezTo>
                <a:cubicBezTo>
                  <a:pt x="158" y="434"/>
                  <a:pt x="168" y="417"/>
                  <a:pt x="183" y="403"/>
                </a:cubicBezTo>
                <a:cubicBezTo>
                  <a:pt x="182" y="401"/>
                  <a:pt x="180" y="400"/>
                  <a:pt x="179" y="399"/>
                </a:cubicBezTo>
                <a:close/>
                <a:moveTo>
                  <a:pt x="575" y="445"/>
                </a:moveTo>
                <a:lnTo>
                  <a:pt x="575" y="445"/>
                </a:lnTo>
                <a:cubicBezTo>
                  <a:pt x="574" y="444"/>
                  <a:pt x="574" y="443"/>
                  <a:pt x="573" y="441"/>
                </a:cubicBezTo>
                <a:cubicBezTo>
                  <a:pt x="573" y="440"/>
                  <a:pt x="572" y="439"/>
                  <a:pt x="571" y="437"/>
                </a:cubicBezTo>
                <a:cubicBezTo>
                  <a:pt x="571" y="436"/>
                  <a:pt x="570" y="436"/>
                  <a:pt x="569" y="435"/>
                </a:cubicBezTo>
                <a:cubicBezTo>
                  <a:pt x="566" y="430"/>
                  <a:pt x="563" y="426"/>
                  <a:pt x="557" y="422"/>
                </a:cubicBezTo>
                <a:cubicBezTo>
                  <a:pt x="554" y="423"/>
                  <a:pt x="551" y="425"/>
                  <a:pt x="548" y="427"/>
                </a:cubicBezTo>
                <a:cubicBezTo>
                  <a:pt x="548" y="427"/>
                  <a:pt x="548" y="427"/>
                  <a:pt x="548" y="427"/>
                </a:cubicBezTo>
                <a:cubicBezTo>
                  <a:pt x="544" y="429"/>
                  <a:pt x="541" y="430"/>
                  <a:pt x="537" y="432"/>
                </a:cubicBezTo>
                <a:cubicBezTo>
                  <a:pt x="532" y="434"/>
                  <a:pt x="527" y="437"/>
                  <a:pt x="521" y="439"/>
                </a:cubicBezTo>
                <a:cubicBezTo>
                  <a:pt x="520" y="439"/>
                  <a:pt x="519" y="440"/>
                  <a:pt x="517" y="440"/>
                </a:cubicBezTo>
                <a:cubicBezTo>
                  <a:pt x="513" y="442"/>
                  <a:pt x="508" y="443"/>
                  <a:pt x="504" y="445"/>
                </a:cubicBezTo>
                <a:cubicBezTo>
                  <a:pt x="503" y="445"/>
                  <a:pt x="502" y="445"/>
                  <a:pt x="501" y="445"/>
                </a:cubicBezTo>
                <a:cubicBezTo>
                  <a:pt x="496" y="447"/>
                  <a:pt x="490" y="448"/>
                  <a:pt x="485" y="450"/>
                </a:cubicBezTo>
                <a:cubicBezTo>
                  <a:pt x="484" y="450"/>
                  <a:pt x="484" y="450"/>
                  <a:pt x="483" y="450"/>
                </a:cubicBezTo>
                <a:cubicBezTo>
                  <a:pt x="477" y="452"/>
                  <a:pt x="471" y="453"/>
                  <a:pt x="465" y="454"/>
                </a:cubicBezTo>
                <a:cubicBezTo>
                  <a:pt x="440" y="459"/>
                  <a:pt x="412" y="461"/>
                  <a:pt x="383" y="461"/>
                </a:cubicBezTo>
                <a:cubicBezTo>
                  <a:pt x="357" y="461"/>
                  <a:pt x="332" y="459"/>
                  <a:pt x="309" y="455"/>
                </a:cubicBezTo>
                <a:cubicBezTo>
                  <a:pt x="309" y="455"/>
                  <a:pt x="309" y="455"/>
                  <a:pt x="309" y="455"/>
                </a:cubicBezTo>
                <a:cubicBezTo>
                  <a:pt x="295" y="453"/>
                  <a:pt x="280" y="450"/>
                  <a:pt x="267" y="446"/>
                </a:cubicBezTo>
                <a:cubicBezTo>
                  <a:pt x="267" y="446"/>
                  <a:pt x="266" y="446"/>
                  <a:pt x="266" y="446"/>
                </a:cubicBezTo>
                <a:cubicBezTo>
                  <a:pt x="260" y="444"/>
                  <a:pt x="254" y="442"/>
                  <a:pt x="248" y="440"/>
                </a:cubicBezTo>
                <a:cubicBezTo>
                  <a:pt x="248" y="440"/>
                  <a:pt x="247" y="439"/>
                  <a:pt x="246" y="439"/>
                </a:cubicBezTo>
                <a:cubicBezTo>
                  <a:pt x="240" y="437"/>
                  <a:pt x="234" y="435"/>
                  <a:pt x="228" y="432"/>
                </a:cubicBezTo>
                <a:cubicBezTo>
                  <a:pt x="221" y="429"/>
                  <a:pt x="215" y="425"/>
                  <a:pt x="209" y="421"/>
                </a:cubicBezTo>
                <a:cubicBezTo>
                  <a:pt x="195" y="433"/>
                  <a:pt x="189" y="445"/>
                  <a:pt x="189" y="455"/>
                </a:cubicBezTo>
                <a:cubicBezTo>
                  <a:pt x="189" y="456"/>
                  <a:pt x="189" y="458"/>
                  <a:pt x="190" y="460"/>
                </a:cubicBezTo>
                <a:cubicBezTo>
                  <a:pt x="190" y="461"/>
                  <a:pt x="190" y="461"/>
                  <a:pt x="190" y="462"/>
                </a:cubicBezTo>
                <a:cubicBezTo>
                  <a:pt x="191" y="463"/>
                  <a:pt x="191" y="464"/>
                  <a:pt x="191" y="465"/>
                </a:cubicBezTo>
                <a:cubicBezTo>
                  <a:pt x="196" y="479"/>
                  <a:pt x="212" y="495"/>
                  <a:pt x="241" y="508"/>
                </a:cubicBezTo>
                <a:cubicBezTo>
                  <a:pt x="277" y="524"/>
                  <a:pt x="327" y="535"/>
                  <a:pt x="383" y="535"/>
                </a:cubicBezTo>
                <a:cubicBezTo>
                  <a:pt x="439" y="535"/>
                  <a:pt x="489" y="524"/>
                  <a:pt x="524" y="508"/>
                </a:cubicBezTo>
                <a:cubicBezTo>
                  <a:pt x="549" y="497"/>
                  <a:pt x="564" y="484"/>
                  <a:pt x="572" y="471"/>
                </a:cubicBezTo>
                <a:cubicBezTo>
                  <a:pt x="572" y="471"/>
                  <a:pt x="572" y="470"/>
                  <a:pt x="573" y="469"/>
                </a:cubicBezTo>
                <a:cubicBezTo>
                  <a:pt x="573" y="468"/>
                  <a:pt x="574" y="467"/>
                  <a:pt x="574" y="466"/>
                </a:cubicBezTo>
                <a:cubicBezTo>
                  <a:pt x="575" y="465"/>
                  <a:pt x="575" y="464"/>
                  <a:pt x="575" y="463"/>
                </a:cubicBezTo>
                <a:cubicBezTo>
                  <a:pt x="576" y="462"/>
                  <a:pt x="576" y="461"/>
                  <a:pt x="576" y="460"/>
                </a:cubicBezTo>
                <a:cubicBezTo>
                  <a:pt x="577" y="458"/>
                  <a:pt x="577" y="456"/>
                  <a:pt x="577" y="455"/>
                </a:cubicBezTo>
                <a:cubicBezTo>
                  <a:pt x="577" y="453"/>
                  <a:pt x="576" y="450"/>
                  <a:pt x="576" y="448"/>
                </a:cubicBezTo>
                <a:cubicBezTo>
                  <a:pt x="576" y="447"/>
                  <a:pt x="575" y="446"/>
                  <a:pt x="575" y="445"/>
                </a:cubicBezTo>
                <a:close/>
                <a:moveTo>
                  <a:pt x="824" y="399"/>
                </a:moveTo>
                <a:lnTo>
                  <a:pt x="824" y="399"/>
                </a:lnTo>
                <a:cubicBezTo>
                  <a:pt x="818" y="402"/>
                  <a:pt x="811" y="406"/>
                  <a:pt x="804" y="409"/>
                </a:cubicBezTo>
                <a:cubicBezTo>
                  <a:pt x="764" y="428"/>
                  <a:pt x="709" y="438"/>
                  <a:pt x="650" y="438"/>
                </a:cubicBezTo>
                <a:cubicBezTo>
                  <a:pt x="634" y="438"/>
                  <a:pt x="619" y="438"/>
                  <a:pt x="605" y="436"/>
                </a:cubicBezTo>
                <a:cubicBezTo>
                  <a:pt x="606" y="442"/>
                  <a:pt x="608" y="448"/>
                  <a:pt x="608" y="455"/>
                </a:cubicBezTo>
                <a:cubicBezTo>
                  <a:pt x="607" y="475"/>
                  <a:pt x="598" y="492"/>
                  <a:pt x="583" y="506"/>
                </a:cubicBezTo>
                <a:cubicBezTo>
                  <a:pt x="604" y="510"/>
                  <a:pt x="626" y="512"/>
                  <a:pt x="650" y="512"/>
                </a:cubicBezTo>
                <a:cubicBezTo>
                  <a:pt x="706" y="512"/>
                  <a:pt x="756" y="501"/>
                  <a:pt x="791" y="485"/>
                </a:cubicBezTo>
                <a:cubicBezTo>
                  <a:pt x="827" y="469"/>
                  <a:pt x="844" y="448"/>
                  <a:pt x="843" y="432"/>
                </a:cubicBezTo>
                <a:cubicBezTo>
                  <a:pt x="844" y="422"/>
                  <a:pt x="838" y="410"/>
                  <a:pt x="824" y="399"/>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55" name="Freeform 50"/>
          <p:cNvSpPr/>
          <p:nvPr/>
        </p:nvSpPr>
        <p:spPr>
          <a:xfrm>
            <a:off x="2532240" y="1954080"/>
            <a:ext cx="360360" cy="681120"/>
          </a:xfrm>
          <a:custGeom>
            <a:avLst/>
            <a:gdLst>
              <a:gd name="textAreaLeft" fmla="*/ 0 w 360360"/>
              <a:gd name="textAreaRight" fmla="*/ 360720 w 360360"/>
              <a:gd name="textAreaTop" fmla="*/ 0 h 681120"/>
              <a:gd name="textAreaBottom" fmla="*/ 681480 h 681120"/>
            </a:gdLst>
            <a:ahLst/>
            <a:rect l="textAreaLeft" t="textAreaTop" r="textAreaRight" b="textAreaBottom"/>
            <a:pathLst>
              <a:path w="504" h="955">
                <a:moveTo>
                  <a:pt x="423" y="168"/>
                </a:moveTo>
                <a:cubicBezTo>
                  <a:pt x="423" y="75"/>
                  <a:pt x="348" y="0"/>
                  <a:pt x="255" y="0"/>
                </a:cubicBezTo>
                <a:cubicBezTo>
                  <a:pt x="163" y="0"/>
                  <a:pt x="87" y="75"/>
                  <a:pt x="87" y="168"/>
                </a:cubicBezTo>
                <a:lnTo>
                  <a:pt x="87" y="349"/>
                </a:lnTo>
                <a:lnTo>
                  <a:pt x="423" y="349"/>
                </a:lnTo>
                <a:lnTo>
                  <a:pt x="423" y="168"/>
                </a:lnTo>
                <a:close/>
                <a:moveTo>
                  <a:pt x="460" y="392"/>
                </a:moveTo>
                <a:lnTo>
                  <a:pt x="460" y="393"/>
                </a:lnTo>
                <a:lnTo>
                  <a:pt x="460" y="481"/>
                </a:lnTo>
                <a:cubicBezTo>
                  <a:pt x="460" y="585"/>
                  <a:pt x="389" y="669"/>
                  <a:pt x="294" y="685"/>
                </a:cubicBezTo>
                <a:cubicBezTo>
                  <a:pt x="283" y="687"/>
                  <a:pt x="271" y="688"/>
                  <a:pt x="259" y="688"/>
                </a:cubicBezTo>
                <a:cubicBezTo>
                  <a:pt x="244" y="688"/>
                  <a:pt x="228" y="687"/>
                  <a:pt x="214" y="683"/>
                </a:cubicBezTo>
                <a:cubicBezTo>
                  <a:pt x="118" y="663"/>
                  <a:pt x="44" y="578"/>
                  <a:pt x="44" y="481"/>
                </a:cubicBezTo>
                <a:lnTo>
                  <a:pt x="44" y="393"/>
                </a:lnTo>
                <a:lnTo>
                  <a:pt x="0" y="393"/>
                </a:lnTo>
                <a:lnTo>
                  <a:pt x="0" y="481"/>
                </a:lnTo>
                <a:cubicBezTo>
                  <a:pt x="0" y="598"/>
                  <a:pt x="87" y="699"/>
                  <a:pt x="200" y="726"/>
                </a:cubicBezTo>
                <a:cubicBezTo>
                  <a:pt x="200" y="726"/>
                  <a:pt x="200" y="726"/>
                  <a:pt x="201" y="726"/>
                </a:cubicBezTo>
                <a:lnTo>
                  <a:pt x="201" y="726"/>
                </a:lnTo>
                <a:lnTo>
                  <a:pt x="201" y="726"/>
                </a:lnTo>
                <a:lnTo>
                  <a:pt x="201" y="726"/>
                </a:lnTo>
                <a:lnTo>
                  <a:pt x="201" y="726"/>
                </a:lnTo>
                <a:lnTo>
                  <a:pt x="201" y="726"/>
                </a:lnTo>
                <a:cubicBezTo>
                  <a:pt x="207" y="727"/>
                  <a:pt x="211" y="732"/>
                  <a:pt x="211" y="738"/>
                </a:cubicBezTo>
                <a:lnTo>
                  <a:pt x="211" y="821"/>
                </a:lnTo>
                <a:lnTo>
                  <a:pt x="211" y="824"/>
                </a:lnTo>
                <a:cubicBezTo>
                  <a:pt x="211" y="832"/>
                  <a:pt x="204" y="839"/>
                  <a:pt x="195" y="839"/>
                </a:cubicBezTo>
                <a:lnTo>
                  <a:pt x="103" y="839"/>
                </a:lnTo>
                <a:cubicBezTo>
                  <a:pt x="71" y="839"/>
                  <a:pt x="45" y="865"/>
                  <a:pt x="45" y="897"/>
                </a:cubicBezTo>
                <a:cubicBezTo>
                  <a:pt x="45" y="929"/>
                  <a:pt x="71" y="955"/>
                  <a:pt x="103" y="955"/>
                </a:cubicBezTo>
                <a:lnTo>
                  <a:pt x="407" y="955"/>
                </a:lnTo>
                <a:cubicBezTo>
                  <a:pt x="439" y="955"/>
                  <a:pt x="465" y="929"/>
                  <a:pt x="465" y="897"/>
                </a:cubicBezTo>
                <a:cubicBezTo>
                  <a:pt x="465" y="865"/>
                  <a:pt x="439" y="839"/>
                  <a:pt x="407" y="839"/>
                </a:cubicBezTo>
                <a:lnTo>
                  <a:pt x="311" y="839"/>
                </a:lnTo>
                <a:cubicBezTo>
                  <a:pt x="303" y="839"/>
                  <a:pt x="296" y="832"/>
                  <a:pt x="296" y="824"/>
                </a:cubicBezTo>
                <a:lnTo>
                  <a:pt x="296" y="821"/>
                </a:lnTo>
                <a:lnTo>
                  <a:pt x="296" y="740"/>
                </a:lnTo>
                <a:lnTo>
                  <a:pt x="296" y="740"/>
                </a:lnTo>
                <a:cubicBezTo>
                  <a:pt x="296" y="735"/>
                  <a:pt x="300" y="730"/>
                  <a:pt x="305" y="728"/>
                </a:cubicBezTo>
                <a:cubicBezTo>
                  <a:pt x="306" y="728"/>
                  <a:pt x="307" y="727"/>
                  <a:pt x="309" y="727"/>
                </a:cubicBezTo>
                <a:cubicBezTo>
                  <a:pt x="309" y="727"/>
                  <a:pt x="309" y="727"/>
                  <a:pt x="309" y="727"/>
                </a:cubicBezTo>
                <a:cubicBezTo>
                  <a:pt x="421" y="704"/>
                  <a:pt x="504" y="604"/>
                  <a:pt x="504" y="481"/>
                </a:cubicBezTo>
                <a:lnTo>
                  <a:pt x="504" y="393"/>
                </a:lnTo>
                <a:lnTo>
                  <a:pt x="504" y="392"/>
                </a:lnTo>
                <a:lnTo>
                  <a:pt x="460" y="392"/>
                </a:lnTo>
                <a:close/>
                <a:moveTo>
                  <a:pt x="305" y="728"/>
                </a:moveTo>
                <a:cubicBezTo>
                  <a:pt x="302" y="729"/>
                  <a:pt x="299" y="729"/>
                  <a:pt x="296" y="730"/>
                </a:cubicBezTo>
                <a:lnTo>
                  <a:pt x="296" y="740"/>
                </a:lnTo>
                <a:moveTo>
                  <a:pt x="211" y="738"/>
                </a:moveTo>
                <a:lnTo>
                  <a:pt x="211" y="728"/>
                </a:lnTo>
                <a:cubicBezTo>
                  <a:pt x="207" y="727"/>
                  <a:pt x="204" y="726"/>
                  <a:pt x="201" y="726"/>
                </a:cubicBezTo>
                <a:moveTo>
                  <a:pt x="87" y="472"/>
                </a:moveTo>
                <a:cubicBezTo>
                  <a:pt x="87" y="565"/>
                  <a:pt x="163" y="640"/>
                  <a:pt x="255" y="640"/>
                </a:cubicBezTo>
                <a:cubicBezTo>
                  <a:pt x="348" y="640"/>
                  <a:pt x="423" y="565"/>
                  <a:pt x="423" y="472"/>
                </a:cubicBezTo>
                <a:lnTo>
                  <a:pt x="423" y="393"/>
                </a:lnTo>
                <a:lnTo>
                  <a:pt x="87" y="393"/>
                </a:lnTo>
                <a:lnTo>
                  <a:pt x="87" y="472"/>
                </a:lnTo>
                <a:close/>
                <a:moveTo>
                  <a:pt x="333" y="93"/>
                </a:moveTo>
                <a:lnTo>
                  <a:pt x="333" y="93"/>
                </a:lnTo>
                <a:cubicBezTo>
                  <a:pt x="346" y="93"/>
                  <a:pt x="355" y="103"/>
                  <a:pt x="355" y="115"/>
                </a:cubicBezTo>
                <a:cubicBezTo>
                  <a:pt x="355" y="127"/>
                  <a:pt x="346" y="137"/>
                  <a:pt x="333" y="137"/>
                </a:cubicBezTo>
                <a:cubicBezTo>
                  <a:pt x="321" y="137"/>
                  <a:pt x="311" y="127"/>
                  <a:pt x="311" y="115"/>
                </a:cubicBezTo>
                <a:cubicBezTo>
                  <a:pt x="311" y="103"/>
                  <a:pt x="321" y="93"/>
                  <a:pt x="333" y="93"/>
                </a:cubicBezTo>
                <a:close/>
                <a:moveTo>
                  <a:pt x="170" y="301"/>
                </a:moveTo>
                <a:lnTo>
                  <a:pt x="170" y="301"/>
                </a:lnTo>
                <a:cubicBezTo>
                  <a:pt x="154" y="301"/>
                  <a:pt x="141" y="288"/>
                  <a:pt x="141" y="272"/>
                </a:cubicBezTo>
                <a:cubicBezTo>
                  <a:pt x="141" y="256"/>
                  <a:pt x="154" y="243"/>
                  <a:pt x="170" y="243"/>
                </a:cubicBezTo>
                <a:cubicBezTo>
                  <a:pt x="186" y="243"/>
                  <a:pt x="199" y="256"/>
                  <a:pt x="199" y="272"/>
                </a:cubicBezTo>
                <a:cubicBezTo>
                  <a:pt x="199" y="288"/>
                  <a:pt x="186" y="301"/>
                  <a:pt x="170" y="301"/>
                </a:cubicBezTo>
                <a:close/>
                <a:moveTo>
                  <a:pt x="170" y="219"/>
                </a:moveTo>
                <a:lnTo>
                  <a:pt x="170" y="219"/>
                </a:lnTo>
                <a:cubicBezTo>
                  <a:pt x="154" y="219"/>
                  <a:pt x="141" y="206"/>
                  <a:pt x="141" y="190"/>
                </a:cubicBezTo>
                <a:cubicBezTo>
                  <a:pt x="141" y="174"/>
                  <a:pt x="154" y="161"/>
                  <a:pt x="170" y="161"/>
                </a:cubicBezTo>
                <a:cubicBezTo>
                  <a:pt x="186" y="161"/>
                  <a:pt x="199" y="174"/>
                  <a:pt x="199" y="190"/>
                </a:cubicBezTo>
                <a:cubicBezTo>
                  <a:pt x="199" y="206"/>
                  <a:pt x="186" y="219"/>
                  <a:pt x="170" y="219"/>
                </a:cubicBezTo>
                <a:close/>
                <a:moveTo>
                  <a:pt x="177" y="137"/>
                </a:moveTo>
                <a:lnTo>
                  <a:pt x="177" y="137"/>
                </a:lnTo>
                <a:cubicBezTo>
                  <a:pt x="165" y="137"/>
                  <a:pt x="155" y="127"/>
                  <a:pt x="155" y="115"/>
                </a:cubicBezTo>
                <a:cubicBezTo>
                  <a:pt x="155" y="103"/>
                  <a:pt x="165" y="93"/>
                  <a:pt x="177" y="93"/>
                </a:cubicBezTo>
                <a:cubicBezTo>
                  <a:pt x="189" y="93"/>
                  <a:pt x="199" y="103"/>
                  <a:pt x="199" y="115"/>
                </a:cubicBezTo>
                <a:cubicBezTo>
                  <a:pt x="199" y="127"/>
                  <a:pt x="189" y="137"/>
                  <a:pt x="177" y="137"/>
                </a:cubicBezTo>
                <a:close/>
                <a:moveTo>
                  <a:pt x="255" y="301"/>
                </a:moveTo>
                <a:lnTo>
                  <a:pt x="255" y="301"/>
                </a:lnTo>
                <a:cubicBezTo>
                  <a:pt x="239" y="301"/>
                  <a:pt x="226" y="288"/>
                  <a:pt x="226" y="272"/>
                </a:cubicBezTo>
                <a:cubicBezTo>
                  <a:pt x="226" y="256"/>
                  <a:pt x="239" y="243"/>
                  <a:pt x="255" y="243"/>
                </a:cubicBezTo>
                <a:cubicBezTo>
                  <a:pt x="271" y="243"/>
                  <a:pt x="284" y="256"/>
                  <a:pt x="284" y="272"/>
                </a:cubicBezTo>
                <a:cubicBezTo>
                  <a:pt x="284" y="288"/>
                  <a:pt x="271" y="301"/>
                  <a:pt x="255" y="301"/>
                </a:cubicBezTo>
                <a:close/>
                <a:moveTo>
                  <a:pt x="255" y="208"/>
                </a:moveTo>
                <a:lnTo>
                  <a:pt x="255" y="208"/>
                </a:lnTo>
                <a:cubicBezTo>
                  <a:pt x="239" y="208"/>
                  <a:pt x="226" y="195"/>
                  <a:pt x="226" y="179"/>
                </a:cubicBezTo>
                <a:cubicBezTo>
                  <a:pt x="226" y="163"/>
                  <a:pt x="239" y="150"/>
                  <a:pt x="255" y="150"/>
                </a:cubicBezTo>
                <a:cubicBezTo>
                  <a:pt x="271" y="150"/>
                  <a:pt x="284" y="163"/>
                  <a:pt x="284" y="179"/>
                </a:cubicBezTo>
                <a:cubicBezTo>
                  <a:pt x="284" y="195"/>
                  <a:pt x="271" y="208"/>
                  <a:pt x="255" y="208"/>
                </a:cubicBezTo>
                <a:close/>
                <a:moveTo>
                  <a:pt x="255" y="121"/>
                </a:moveTo>
                <a:lnTo>
                  <a:pt x="255" y="121"/>
                </a:lnTo>
                <a:cubicBezTo>
                  <a:pt x="239" y="121"/>
                  <a:pt x="226" y="108"/>
                  <a:pt x="226" y="92"/>
                </a:cubicBezTo>
                <a:cubicBezTo>
                  <a:pt x="226" y="76"/>
                  <a:pt x="239" y="63"/>
                  <a:pt x="255" y="63"/>
                </a:cubicBezTo>
                <a:cubicBezTo>
                  <a:pt x="271" y="63"/>
                  <a:pt x="284" y="76"/>
                  <a:pt x="284" y="92"/>
                </a:cubicBezTo>
                <a:cubicBezTo>
                  <a:pt x="284" y="108"/>
                  <a:pt x="271" y="121"/>
                  <a:pt x="255" y="121"/>
                </a:cubicBezTo>
                <a:close/>
                <a:moveTo>
                  <a:pt x="340" y="301"/>
                </a:moveTo>
                <a:lnTo>
                  <a:pt x="340" y="301"/>
                </a:lnTo>
                <a:cubicBezTo>
                  <a:pt x="324" y="301"/>
                  <a:pt x="311" y="288"/>
                  <a:pt x="311" y="272"/>
                </a:cubicBezTo>
                <a:cubicBezTo>
                  <a:pt x="311" y="256"/>
                  <a:pt x="324" y="243"/>
                  <a:pt x="340" y="243"/>
                </a:cubicBezTo>
                <a:cubicBezTo>
                  <a:pt x="356" y="243"/>
                  <a:pt x="369" y="256"/>
                  <a:pt x="369" y="272"/>
                </a:cubicBezTo>
                <a:cubicBezTo>
                  <a:pt x="369" y="288"/>
                  <a:pt x="356" y="301"/>
                  <a:pt x="340" y="301"/>
                </a:cubicBezTo>
                <a:close/>
                <a:moveTo>
                  <a:pt x="340" y="219"/>
                </a:moveTo>
                <a:lnTo>
                  <a:pt x="340" y="219"/>
                </a:lnTo>
                <a:cubicBezTo>
                  <a:pt x="324" y="219"/>
                  <a:pt x="311" y="206"/>
                  <a:pt x="311" y="190"/>
                </a:cubicBezTo>
                <a:cubicBezTo>
                  <a:pt x="311" y="174"/>
                  <a:pt x="324" y="161"/>
                  <a:pt x="340" y="161"/>
                </a:cubicBezTo>
                <a:cubicBezTo>
                  <a:pt x="356" y="161"/>
                  <a:pt x="369" y="174"/>
                  <a:pt x="369" y="190"/>
                </a:cubicBezTo>
                <a:cubicBezTo>
                  <a:pt x="369" y="206"/>
                  <a:pt x="356" y="219"/>
                  <a:pt x="340" y="219"/>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56" name="Freeform 13"/>
          <p:cNvSpPr/>
          <p:nvPr/>
        </p:nvSpPr>
        <p:spPr>
          <a:xfrm>
            <a:off x="10315440" y="3786120"/>
            <a:ext cx="687600" cy="539640"/>
          </a:xfrm>
          <a:custGeom>
            <a:avLst/>
            <a:gdLst>
              <a:gd name="textAreaLeft" fmla="*/ 0 w 687600"/>
              <a:gd name="textAreaRight" fmla="*/ 687960 w 687600"/>
              <a:gd name="textAreaTop" fmla="*/ 0 h 539640"/>
              <a:gd name="textAreaBottom" fmla="*/ 540000 h 539640"/>
            </a:gdLst>
            <a:ahLst/>
            <a:rect l="textAreaLeft" t="textAreaTop" r="textAreaRight" b="textAreaBottom"/>
            <a:pathLst>
              <a:path w="766" h="600">
                <a:moveTo>
                  <a:pt x="391" y="195"/>
                </a:moveTo>
                <a:lnTo>
                  <a:pt x="282" y="304"/>
                </a:lnTo>
                <a:cubicBezTo>
                  <a:pt x="293" y="310"/>
                  <a:pt x="303" y="317"/>
                  <a:pt x="312" y="326"/>
                </a:cubicBezTo>
                <a:lnTo>
                  <a:pt x="391" y="248"/>
                </a:lnTo>
                <a:lnTo>
                  <a:pt x="476" y="333"/>
                </a:lnTo>
                <a:lnTo>
                  <a:pt x="596" y="213"/>
                </a:lnTo>
                <a:lnTo>
                  <a:pt x="614" y="259"/>
                </a:lnTo>
                <a:lnTo>
                  <a:pt x="652" y="129"/>
                </a:lnTo>
                <a:lnTo>
                  <a:pt x="522" y="167"/>
                </a:lnTo>
                <a:lnTo>
                  <a:pt x="570" y="186"/>
                </a:lnTo>
                <a:lnTo>
                  <a:pt x="476" y="280"/>
                </a:lnTo>
                <a:lnTo>
                  <a:pt x="391" y="195"/>
                </a:lnTo>
                <a:close/>
                <a:moveTo>
                  <a:pt x="766" y="80"/>
                </a:moveTo>
                <a:lnTo>
                  <a:pt x="766" y="80"/>
                </a:lnTo>
                <a:lnTo>
                  <a:pt x="766" y="32"/>
                </a:lnTo>
                <a:lnTo>
                  <a:pt x="465" y="32"/>
                </a:lnTo>
                <a:lnTo>
                  <a:pt x="465" y="0"/>
                </a:lnTo>
                <a:lnTo>
                  <a:pt x="437" y="0"/>
                </a:lnTo>
                <a:lnTo>
                  <a:pt x="437" y="32"/>
                </a:lnTo>
                <a:lnTo>
                  <a:pt x="154" y="32"/>
                </a:lnTo>
                <a:lnTo>
                  <a:pt x="154" y="80"/>
                </a:lnTo>
                <a:lnTo>
                  <a:pt x="175" y="80"/>
                </a:lnTo>
                <a:lnTo>
                  <a:pt x="175" y="122"/>
                </a:lnTo>
                <a:cubicBezTo>
                  <a:pt x="190" y="124"/>
                  <a:pt x="203" y="128"/>
                  <a:pt x="216" y="135"/>
                </a:cubicBezTo>
                <a:lnTo>
                  <a:pt x="216" y="80"/>
                </a:lnTo>
                <a:lnTo>
                  <a:pt x="706" y="80"/>
                </a:lnTo>
                <a:lnTo>
                  <a:pt x="706" y="394"/>
                </a:lnTo>
                <a:lnTo>
                  <a:pt x="355" y="394"/>
                </a:lnTo>
                <a:cubicBezTo>
                  <a:pt x="356" y="399"/>
                  <a:pt x="358" y="404"/>
                  <a:pt x="359" y="410"/>
                </a:cubicBezTo>
                <a:lnTo>
                  <a:pt x="706" y="410"/>
                </a:lnTo>
                <a:lnTo>
                  <a:pt x="706" y="427"/>
                </a:lnTo>
                <a:lnTo>
                  <a:pt x="361" y="427"/>
                </a:lnTo>
                <a:cubicBezTo>
                  <a:pt x="361" y="430"/>
                  <a:pt x="362" y="434"/>
                  <a:pt x="362" y="438"/>
                </a:cubicBezTo>
                <a:lnTo>
                  <a:pt x="362" y="478"/>
                </a:lnTo>
                <a:lnTo>
                  <a:pt x="437" y="478"/>
                </a:lnTo>
                <a:lnTo>
                  <a:pt x="437" y="595"/>
                </a:lnTo>
                <a:lnTo>
                  <a:pt x="465" y="595"/>
                </a:lnTo>
                <a:lnTo>
                  <a:pt x="465" y="478"/>
                </a:lnTo>
                <a:lnTo>
                  <a:pt x="560" y="478"/>
                </a:lnTo>
                <a:lnTo>
                  <a:pt x="603" y="592"/>
                </a:lnTo>
                <a:lnTo>
                  <a:pt x="631" y="585"/>
                </a:lnTo>
                <a:lnTo>
                  <a:pt x="591" y="478"/>
                </a:lnTo>
                <a:lnTo>
                  <a:pt x="766" y="478"/>
                </a:lnTo>
                <a:lnTo>
                  <a:pt x="766" y="427"/>
                </a:lnTo>
                <a:lnTo>
                  <a:pt x="747" y="427"/>
                </a:lnTo>
                <a:lnTo>
                  <a:pt x="747" y="80"/>
                </a:lnTo>
                <a:lnTo>
                  <a:pt x="766" y="80"/>
                </a:lnTo>
                <a:close/>
                <a:moveTo>
                  <a:pt x="161" y="310"/>
                </a:moveTo>
                <a:lnTo>
                  <a:pt x="161" y="310"/>
                </a:lnTo>
                <a:cubicBezTo>
                  <a:pt x="202" y="310"/>
                  <a:pt x="235" y="277"/>
                  <a:pt x="235" y="236"/>
                </a:cubicBezTo>
                <a:cubicBezTo>
                  <a:pt x="235" y="194"/>
                  <a:pt x="202" y="161"/>
                  <a:pt x="161" y="161"/>
                </a:cubicBezTo>
                <a:cubicBezTo>
                  <a:pt x="119" y="161"/>
                  <a:pt x="86" y="194"/>
                  <a:pt x="86" y="236"/>
                </a:cubicBezTo>
                <a:cubicBezTo>
                  <a:pt x="86" y="277"/>
                  <a:pt x="119" y="310"/>
                  <a:pt x="161" y="310"/>
                </a:cubicBezTo>
                <a:close/>
                <a:moveTo>
                  <a:pt x="208" y="325"/>
                </a:moveTo>
                <a:lnTo>
                  <a:pt x="208" y="325"/>
                </a:lnTo>
                <a:lnTo>
                  <a:pt x="181" y="325"/>
                </a:lnTo>
                <a:lnTo>
                  <a:pt x="185" y="328"/>
                </a:lnTo>
                <a:cubicBezTo>
                  <a:pt x="188" y="331"/>
                  <a:pt x="190" y="336"/>
                  <a:pt x="188" y="339"/>
                </a:cubicBezTo>
                <a:lnTo>
                  <a:pt x="178" y="365"/>
                </a:lnTo>
                <a:lnTo>
                  <a:pt x="196" y="510"/>
                </a:lnTo>
                <a:lnTo>
                  <a:pt x="163" y="540"/>
                </a:lnTo>
                <a:lnTo>
                  <a:pt x="129" y="510"/>
                </a:lnTo>
                <a:lnTo>
                  <a:pt x="147" y="365"/>
                </a:lnTo>
                <a:lnTo>
                  <a:pt x="137" y="339"/>
                </a:lnTo>
                <a:cubicBezTo>
                  <a:pt x="135" y="336"/>
                  <a:pt x="137" y="331"/>
                  <a:pt x="140" y="328"/>
                </a:cubicBezTo>
                <a:lnTo>
                  <a:pt x="145" y="325"/>
                </a:lnTo>
                <a:lnTo>
                  <a:pt x="112" y="325"/>
                </a:lnTo>
                <a:cubicBezTo>
                  <a:pt x="50" y="325"/>
                  <a:pt x="0" y="376"/>
                  <a:pt x="0" y="438"/>
                </a:cubicBezTo>
                <a:lnTo>
                  <a:pt x="0" y="600"/>
                </a:lnTo>
                <a:lnTo>
                  <a:pt x="66" y="600"/>
                </a:lnTo>
                <a:lnTo>
                  <a:pt x="66" y="432"/>
                </a:lnTo>
                <a:lnTo>
                  <a:pt x="89" y="432"/>
                </a:lnTo>
                <a:lnTo>
                  <a:pt x="89" y="600"/>
                </a:lnTo>
                <a:lnTo>
                  <a:pt x="230" y="600"/>
                </a:lnTo>
                <a:lnTo>
                  <a:pt x="230" y="432"/>
                </a:lnTo>
                <a:lnTo>
                  <a:pt x="253" y="432"/>
                </a:lnTo>
                <a:lnTo>
                  <a:pt x="253" y="600"/>
                </a:lnTo>
                <a:lnTo>
                  <a:pt x="321" y="600"/>
                </a:lnTo>
                <a:lnTo>
                  <a:pt x="321" y="438"/>
                </a:lnTo>
                <a:cubicBezTo>
                  <a:pt x="321" y="376"/>
                  <a:pt x="271" y="325"/>
                  <a:pt x="208" y="325"/>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57" name="Freeform 19"/>
          <p:cNvSpPr/>
          <p:nvPr/>
        </p:nvSpPr>
        <p:spPr>
          <a:xfrm>
            <a:off x="9226440" y="2003400"/>
            <a:ext cx="614520" cy="582480"/>
          </a:xfrm>
          <a:custGeom>
            <a:avLst/>
            <a:gdLst>
              <a:gd name="textAreaLeft" fmla="*/ 0 w 614520"/>
              <a:gd name="textAreaRight" fmla="*/ 614880 w 614520"/>
              <a:gd name="textAreaTop" fmla="*/ 0 h 582480"/>
              <a:gd name="textAreaBottom" fmla="*/ 582840 h 582480"/>
            </a:gdLst>
            <a:ahLst/>
            <a:rect l="textAreaLeft" t="textAreaTop" r="textAreaRight" b="textAreaBottom"/>
            <a:pathLst>
              <a:path w="638" h="603">
                <a:moveTo>
                  <a:pt x="516" y="53"/>
                </a:moveTo>
                <a:cubicBezTo>
                  <a:pt x="517" y="53"/>
                  <a:pt x="519" y="53"/>
                  <a:pt x="520" y="54"/>
                </a:cubicBezTo>
                <a:cubicBezTo>
                  <a:pt x="522" y="56"/>
                  <a:pt x="522" y="57"/>
                  <a:pt x="522" y="59"/>
                </a:cubicBezTo>
                <a:lnTo>
                  <a:pt x="522" y="181"/>
                </a:lnTo>
                <a:cubicBezTo>
                  <a:pt x="522" y="183"/>
                  <a:pt x="522" y="185"/>
                  <a:pt x="520" y="186"/>
                </a:cubicBezTo>
                <a:lnTo>
                  <a:pt x="520" y="186"/>
                </a:lnTo>
                <a:cubicBezTo>
                  <a:pt x="519" y="187"/>
                  <a:pt x="517" y="188"/>
                  <a:pt x="516" y="188"/>
                </a:cubicBezTo>
                <a:lnTo>
                  <a:pt x="305" y="188"/>
                </a:lnTo>
                <a:cubicBezTo>
                  <a:pt x="303" y="188"/>
                  <a:pt x="302" y="187"/>
                  <a:pt x="301" y="186"/>
                </a:cubicBezTo>
                <a:lnTo>
                  <a:pt x="300" y="186"/>
                </a:lnTo>
                <a:cubicBezTo>
                  <a:pt x="299" y="185"/>
                  <a:pt x="299" y="183"/>
                  <a:pt x="299" y="181"/>
                </a:cubicBezTo>
                <a:lnTo>
                  <a:pt x="299" y="129"/>
                </a:lnTo>
                <a:lnTo>
                  <a:pt x="403" y="107"/>
                </a:lnTo>
                <a:lnTo>
                  <a:pt x="403" y="105"/>
                </a:lnTo>
                <a:lnTo>
                  <a:pt x="299" y="119"/>
                </a:lnTo>
                <a:lnTo>
                  <a:pt x="299" y="59"/>
                </a:lnTo>
                <a:cubicBezTo>
                  <a:pt x="299" y="57"/>
                  <a:pt x="299" y="56"/>
                  <a:pt x="300" y="54"/>
                </a:cubicBezTo>
                <a:lnTo>
                  <a:pt x="301" y="54"/>
                </a:lnTo>
                <a:cubicBezTo>
                  <a:pt x="302" y="53"/>
                  <a:pt x="303" y="53"/>
                  <a:pt x="305" y="53"/>
                </a:cubicBezTo>
                <a:lnTo>
                  <a:pt x="516" y="53"/>
                </a:lnTo>
                <a:close/>
                <a:moveTo>
                  <a:pt x="305" y="27"/>
                </a:moveTo>
                <a:cubicBezTo>
                  <a:pt x="296" y="27"/>
                  <a:pt x="288" y="30"/>
                  <a:pt x="282" y="36"/>
                </a:cubicBezTo>
                <a:lnTo>
                  <a:pt x="282" y="36"/>
                </a:lnTo>
                <a:cubicBezTo>
                  <a:pt x="276" y="42"/>
                  <a:pt x="273" y="50"/>
                  <a:pt x="273" y="59"/>
                </a:cubicBezTo>
                <a:lnTo>
                  <a:pt x="273" y="122"/>
                </a:lnTo>
                <a:lnTo>
                  <a:pt x="263" y="124"/>
                </a:lnTo>
                <a:lnTo>
                  <a:pt x="263" y="113"/>
                </a:lnTo>
                <a:lnTo>
                  <a:pt x="217" y="113"/>
                </a:lnTo>
                <a:lnTo>
                  <a:pt x="185" y="94"/>
                </a:lnTo>
                <a:lnTo>
                  <a:pt x="111" y="94"/>
                </a:lnTo>
                <a:cubicBezTo>
                  <a:pt x="96" y="94"/>
                  <a:pt x="84" y="106"/>
                  <a:pt x="84" y="121"/>
                </a:cubicBezTo>
                <a:lnTo>
                  <a:pt x="84" y="207"/>
                </a:lnTo>
                <a:lnTo>
                  <a:pt x="112" y="207"/>
                </a:lnTo>
                <a:lnTo>
                  <a:pt x="112" y="144"/>
                </a:lnTo>
                <a:lnTo>
                  <a:pt x="117" y="144"/>
                </a:lnTo>
                <a:lnTo>
                  <a:pt x="117" y="207"/>
                </a:lnTo>
                <a:lnTo>
                  <a:pt x="117" y="223"/>
                </a:lnTo>
                <a:lnTo>
                  <a:pt x="117" y="339"/>
                </a:lnTo>
                <a:lnTo>
                  <a:pt x="148" y="339"/>
                </a:lnTo>
                <a:lnTo>
                  <a:pt x="148" y="243"/>
                </a:lnTo>
                <a:lnTo>
                  <a:pt x="155" y="243"/>
                </a:lnTo>
                <a:lnTo>
                  <a:pt x="155" y="339"/>
                </a:lnTo>
                <a:lnTo>
                  <a:pt x="185" y="339"/>
                </a:lnTo>
                <a:lnTo>
                  <a:pt x="185" y="322"/>
                </a:lnTo>
                <a:lnTo>
                  <a:pt x="185" y="223"/>
                </a:lnTo>
                <a:lnTo>
                  <a:pt x="185" y="207"/>
                </a:lnTo>
                <a:lnTo>
                  <a:pt x="185" y="144"/>
                </a:lnTo>
                <a:lnTo>
                  <a:pt x="185" y="127"/>
                </a:lnTo>
                <a:lnTo>
                  <a:pt x="217" y="144"/>
                </a:lnTo>
                <a:lnTo>
                  <a:pt x="263" y="144"/>
                </a:lnTo>
                <a:lnTo>
                  <a:pt x="263" y="136"/>
                </a:lnTo>
                <a:lnTo>
                  <a:pt x="273" y="134"/>
                </a:lnTo>
                <a:lnTo>
                  <a:pt x="273" y="181"/>
                </a:lnTo>
                <a:cubicBezTo>
                  <a:pt x="273" y="190"/>
                  <a:pt x="276" y="198"/>
                  <a:pt x="282" y="204"/>
                </a:cubicBezTo>
                <a:lnTo>
                  <a:pt x="282" y="204"/>
                </a:lnTo>
                <a:lnTo>
                  <a:pt x="282" y="204"/>
                </a:lnTo>
                <a:cubicBezTo>
                  <a:pt x="288" y="210"/>
                  <a:pt x="296" y="214"/>
                  <a:pt x="305" y="214"/>
                </a:cubicBezTo>
                <a:lnTo>
                  <a:pt x="516" y="214"/>
                </a:lnTo>
                <a:cubicBezTo>
                  <a:pt x="525" y="214"/>
                  <a:pt x="533" y="210"/>
                  <a:pt x="539" y="204"/>
                </a:cubicBezTo>
                <a:lnTo>
                  <a:pt x="539" y="204"/>
                </a:lnTo>
                <a:cubicBezTo>
                  <a:pt x="545" y="198"/>
                  <a:pt x="548" y="190"/>
                  <a:pt x="548" y="181"/>
                </a:cubicBezTo>
                <a:lnTo>
                  <a:pt x="548" y="59"/>
                </a:lnTo>
                <a:cubicBezTo>
                  <a:pt x="548" y="50"/>
                  <a:pt x="545" y="42"/>
                  <a:pt x="539" y="36"/>
                </a:cubicBezTo>
                <a:cubicBezTo>
                  <a:pt x="533" y="30"/>
                  <a:pt x="525" y="27"/>
                  <a:pt x="516" y="27"/>
                </a:cubicBezTo>
                <a:lnTo>
                  <a:pt x="305" y="27"/>
                </a:lnTo>
                <a:close/>
                <a:moveTo>
                  <a:pt x="520" y="221"/>
                </a:moveTo>
                <a:lnTo>
                  <a:pt x="520" y="249"/>
                </a:lnTo>
                <a:lnTo>
                  <a:pt x="497" y="249"/>
                </a:lnTo>
                <a:lnTo>
                  <a:pt x="523" y="341"/>
                </a:lnTo>
                <a:lnTo>
                  <a:pt x="490" y="341"/>
                </a:lnTo>
                <a:lnTo>
                  <a:pt x="464" y="249"/>
                </a:lnTo>
                <a:lnTo>
                  <a:pt x="367" y="249"/>
                </a:lnTo>
                <a:lnTo>
                  <a:pt x="341" y="341"/>
                </a:lnTo>
                <a:lnTo>
                  <a:pt x="308" y="341"/>
                </a:lnTo>
                <a:lnTo>
                  <a:pt x="334" y="249"/>
                </a:lnTo>
                <a:lnTo>
                  <a:pt x="306" y="249"/>
                </a:lnTo>
                <a:lnTo>
                  <a:pt x="306" y="221"/>
                </a:lnTo>
                <a:lnTo>
                  <a:pt x="520" y="221"/>
                </a:lnTo>
                <a:close/>
                <a:moveTo>
                  <a:pt x="113" y="373"/>
                </a:moveTo>
                <a:cubicBezTo>
                  <a:pt x="139" y="373"/>
                  <a:pt x="161" y="394"/>
                  <a:pt x="161" y="421"/>
                </a:cubicBezTo>
                <a:cubicBezTo>
                  <a:pt x="161" y="427"/>
                  <a:pt x="160" y="433"/>
                  <a:pt x="158" y="438"/>
                </a:cubicBezTo>
                <a:lnTo>
                  <a:pt x="68" y="438"/>
                </a:lnTo>
                <a:cubicBezTo>
                  <a:pt x="66" y="433"/>
                  <a:pt x="65" y="427"/>
                  <a:pt x="65" y="421"/>
                </a:cubicBezTo>
                <a:cubicBezTo>
                  <a:pt x="65" y="394"/>
                  <a:pt x="86" y="373"/>
                  <a:pt x="113" y="373"/>
                </a:cubicBezTo>
                <a:close/>
                <a:moveTo>
                  <a:pt x="316" y="373"/>
                </a:moveTo>
                <a:cubicBezTo>
                  <a:pt x="342" y="373"/>
                  <a:pt x="364" y="394"/>
                  <a:pt x="364" y="421"/>
                </a:cubicBezTo>
                <a:cubicBezTo>
                  <a:pt x="364" y="427"/>
                  <a:pt x="363" y="433"/>
                  <a:pt x="361" y="438"/>
                </a:cubicBezTo>
                <a:lnTo>
                  <a:pt x="271" y="438"/>
                </a:lnTo>
                <a:cubicBezTo>
                  <a:pt x="269" y="433"/>
                  <a:pt x="268" y="427"/>
                  <a:pt x="268" y="421"/>
                </a:cubicBezTo>
                <a:cubicBezTo>
                  <a:pt x="268" y="394"/>
                  <a:pt x="289" y="373"/>
                  <a:pt x="316" y="373"/>
                </a:cubicBezTo>
                <a:close/>
                <a:moveTo>
                  <a:pt x="522" y="373"/>
                </a:moveTo>
                <a:cubicBezTo>
                  <a:pt x="548" y="373"/>
                  <a:pt x="570" y="394"/>
                  <a:pt x="570" y="421"/>
                </a:cubicBezTo>
                <a:cubicBezTo>
                  <a:pt x="570" y="427"/>
                  <a:pt x="569" y="433"/>
                  <a:pt x="567" y="438"/>
                </a:cubicBezTo>
                <a:lnTo>
                  <a:pt x="477" y="438"/>
                </a:lnTo>
                <a:cubicBezTo>
                  <a:pt x="475" y="433"/>
                  <a:pt x="474" y="427"/>
                  <a:pt x="474" y="421"/>
                </a:cubicBezTo>
                <a:cubicBezTo>
                  <a:pt x="474" y="394"/>
                  <a:pt x="495" y="373"/>
                  <a:pt x="522" y="373"/>
                </a:cubicBezTo>
                <a:close/>
                <a:moveTo>
                  <a:pt x="62" y="448"/>
                </a:moveTo>
                <a:lnTo>
                  <a:pt x="161" y="448"/>
                </a:lnTo>
                <a:cubicBezTo>
                  <a:pt x="182" y="448"/>
                  <a:pt x="200" y="466"/>
                  <a:pt x="200" y="487"/>
                </a:cubicBezTo>
                <a:lnTo>
                  <a:pt x="200" y="527"/>
                </a:lnTo>
                <a:lnTo>
                  <a:pt x="203" y="527"/>
                </a:lnTo>
                <a:lnTo>
                  <a:pt x="221" y="527"/>
                </a:lnTo>
                <a:lnTo>
                  <a:pt x="227" y="527"/>
                </a:lnTo>
                <a:lnTo>
                  <a:pt x="227" y="487"/>
                </a:lnTo>
                <a:cubicBezTo>
                  <a:pt x="227" y="466"/>
                  <a:pt x="244" y="448"/>
                  <a:pt x="265" y="448"/>
                </a:cubicBezTo>
                <a:lnTo>
                  <a:pt x="364" y="448"/>
                </a:lnTo>
                <a:cubicBezTo>
                  <a:pt x="385" y="448"/>
                  <a:pt x="403" y="466"/>
                  <a:pt x="403" y="487"/>
                </a:cubicBezTo>
                <a:lnTo>
                  <a:pt x="403" y="527"/>
                </a:lnTo>
                <a:lnTo>
                  <a:pt x="409" y="527"/>
                </a:lnTo>
                <a:lnTo>
                  <a:pt x="424" y="527"/>
                </a:lnTo>
                <a:lnTo>
                  <a:pt x="433" y="527"/>
                </a:lnTo>
                <a:lnTo>
                  <a:pt x="433" y="487"/>
                </a:lnTo>
                <a:cubicBezTo>
                  <a:pt x="433" y="466"/>
                  <a:pt x="450" y="448"/>
                  <a:pt x="471" y="448"/>
                </a:cubicBezTo>
                <a:lnTo>
                  <a:pt x="570" y="448"/>
                </a:lnTo>
                <a:cubicBezTo>
                  <a:pt x="591" y="448"/>
                  <a:pt x="608" y="466"/>
                  <a:pt x="608" y="487"/>
                </a:cubicBezTo>
                <a:lnTo>
                  <a:pt x="608" y="527"/>
                </a:lnTo>
                <a:lnTo>
                  <a:pt x="614" y="527"/>
                </a:lnTo>
                <a:lnTo>
                  <a:pt x="630" y="527"/>
                </a:lnTo>
                <a:lnTo>
                  <a:pt x="638" y="527"/>
                </a:lnTo>
                <a:lnTo>
                  <a:pt x="638" y="549"/>
                </a:lnTo>
                <a:lnTo>
                  <a:pt x="630" y="549"/>
                </a:lnTo>
                <a:lnTo>
                  <a:pt x="614" y="549"/>
                </a:lnTo>
                <a:lnTo>
                  <a:pt x="608" y="549"/>
                </a:lnTo>
                <a:lnTo>
                  <a:pt x="608" y="603"/>
                </a:lnTo>
                <a:lnTo>
                  <a:pt x="433" y="603"/>
                </a:lnTo>
                <a:lnTo>
                  <a:pt x="433" y="549"/>
                </a:lnTo>
                <a:lnTo>
                  <a:pt x="424" y="549"/>
                </a:lnTo>
                <a:lnTo>
                  <a:pt x="409" y="549"/>
                </a:lnTo>
                <a:lnTo>
                  <a:pt x="403" y="549"/>
                </a:lnTo>
                <a:lnTo>
                  <a:pt x="403" y="603"/>
                </a:lnTo>
                <a:lnTo>
                  <a:pt x="227" y="603"/>
                </a:lnTo>
                <a:lnTo>
                  <a:pt x="227" y="549"/>
                </a:lnTo>
                <a:lnTo>
                  <a:pt x="221" y="549"/>
                </a:lnTo>
                <a:lnTo>
                  <a:pt x="203" y="549"/>
                </a:lnTo>
                <a:lnTo>
                  <a:pt x="200" y="549"/>
                </a:lnTo>
                <a:lnTo>
                  <a:pt x="200" y="603"/>
                </a:lnTo>
                <a:lnTo>
                  <a:pt x="24" y="603"/>
                </a:lnTo>
                <a:lnTo>
                  <a:pt x="24" y="549"/>
                </a:lnTo>
                <a:lnTo>
                  <a:pt x="0" y="549"/>
                </a:lnTo>
                <a:lnTo>
                  <a:pt x="0" y="527"/>
                </a:lnTo>
                <a:lnTo>
                  <a:pt x="24" y="527"/>
                </a:lnTo>
                <a:lnTo>
                  <a:pt x="24" y="487"/>
                </a:lnTo>
                <a:cubicBezTo>
                  <a:pt x="24" y="466"/>
                  <a:pt x="41" y="448"/>
                  <a:pt x="62" y="448"/>
                </a:cubicBezTo>
                <a:close/>
                <a:moveTo>
                  <a:pt x="152" y="0"/>
                </a:moveTo>
                <a:cubicBezTo>
                  <a:pt x="176" y="0"/>
                  <a:pt x="196" y="20"/>
                  <a:pt x="196" y="44"/>
                </a:cubicBezTo>
                <a:cubicBezTo>
                  <a:pt x="196" y="69"/>
                  <a:pt x="176" y="88"/>
                  <a:pt x="152" y="88"/>
                </a:cubicBezTo>
                <a:cubicBezTo>
                  <a:pt x="127" y="88"/>
                  <a:pt x="108" y="69"/>
                  <a:pt x="108" y="44"/>
                </a:cubicBezTo>
                <a:cubicBezTo>
                  <a:pt x="108" y="20"/>
                  <a:pt x="127" y="0"/>
                  <a:pt x="152" y="0"/>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58" name="Freeform 21"/>
          <p:cNvSpPr/>
          <p:nvPr/>
        </p:nvSpPr>
        <p:spPr>
          <a:xfrm>
            <a:off x="10436400" y="4468680"/>
            <a:ext cx="509400" cy="773280"/>
          </a:xfrm>
          <a:custGeom>
            <a:avLst/>
            <a:gdLst>
              <a:gd name="textAreaLeft" fmla="*/ 0 w 509400"/>
              <a:gd name="textAreaRight" fmla="*/ 509760 w 509400"/>
              <a:gd name="textAreaTop" fmla="*/ 0 h 773280"/>
              <a:gd name="textAreaBottom" fmla="*/ 773640 h 773280"/>
            </a:gdLst>
            <a:ahLst/>
            <a:rect l="textAreaLeft" t="textAreaTop" r="textAreaRight" b="textAreaBottom"/>
            <a:pathLst>
              <a:path w="401" h="610">
                <a:moveTo>
                  <a:pt x="72" y="59"/>
                </a:moveTo>
                <a:cubicBezTo>
                  <a:pt x="67" y="51"/>
                  <a:pt x="76" y="36"/>
                  <a:pt x="92" y="27"/>
                </a:cubicBezTo>
                <a:cubicBezTo>
                  <a:pt x="108" y="17"/>
                  <a:pt x="125" y="15"/>
                  <a:pt x="130" y="23"/>
                </a:cubicBezTo>
                <a:cubicBezTo>
                  <a:pt x="134" y="31"/>
                  <a:pt x="126" y="45"/>
                  <a:pt x="110" y="55"/>
                </a:cubicBezTo>
                <a:cubicBezTo>
                  <a:pt x="94" y="65"/>
                  <a:pt x="77" y="67"/>
                  <a:pt x="72" y="59"/>
                </a:cubicBezTo>
                <a:close/>
                <a:moveTo>
                  <a:pt x="150" y="453"/>
                </a:moveTo>
                <a:cubicBezTo>
                  <a:pt x="165" y="457"/>
                  <a:pt x="179" y="458"/>
                  <a:pt x="194" y="458"/>
                </a:cubicBezTo>
                <a:cubicBezTo>
                  <a:pt x="228" y="458"/>
                  <a:pt x="262" y="449"/>
                  <a:pt x="291" y="431"/>
                </a:cubicBezTo>
                <a:cubicBezTo>
                  <a:pt x="299" y="426"/>
                  <a:pt x="301" y="416"/>
                  <a:pt x="297" y="408"/>
                </a:cubicBezTo>
                <a:cubicBezTo>
                  <a:pt x="292" y="401"/>
                  <a:pt x="282" y="399"/>
                  <a:pt x="275" y="403"/>
                </a:cubicBezTo>
                <a:cubicBezTo>
                  <a:pt x="239" y="425"/>
                  <a:pt x="198" y="432"/>
                  <a:pt x="158" y="422"/>
                </a:cubicBezTo>
                <a:cubicBezTo>
                  <a:pt x="118" y="412"/>
                  <a:pt x="84" y="388"/>
                  <a:pt x="62" y="353"/>
                </a:cubicBezTo>
                <a:cubicBezTo>
                  <a:pt x="40" y="317"/>
                  <a:pt x="34" y="276"/>
                  <a:pt x="43" y="236"/>
                </a:cubicBezTo>
                <a:cubicBezTo>
                  <a:pt x="52" y="199"/>
                  <a:pt x="73" y="168"/>
                  <a:pt x="103" y="146"/>
                </a:cubicBezTo>
                <a:lnTo>
                  <a:pt x="207" y="316"/>
                </a:lnTo>
                <a:lnTo>
                  <a:pt x="208" y="318"/>
                </a:lnTo>
                <a:lnTo>
                  <a:pt x="208" y="318"/>
                </a:lnTo>
                <a:cubicBezTo>
                  <a:pt x="217" y="328"/>
                  <a:pt x="243" y="325"/>
                  <a:pt x="267" y="311"/>
                </a:cubicBezTo>
                <a:cubicBezTo>
                  <a:pt x="291" y="296"/>
                  <a:pt x="305" y="274"/>
                  <a:pt x="299" y="262"/>
                </a:cubicBezTo>
                <a:lnTo>
                  <a:pt x="300" y="261"/>
                </a:lnTo>
                <a:lnTo>
                  <a:pt x="147" y="14"/>
                </a:lnTo>
                <a:lnTo>
                  <a:pt x="147" y="14"/>
                </a:lnTo>
                <a:cubicBezTo>
                  <a:pt x="147" y="13"/>
                  <a:pt x="147" y="13"/>
                  <a:pt x="147" y="13"/>
                </a:cubicBezTo>
                <a:cubicBezTo>
                  <a:pt x="139" y="0"/>
                  <a:pt x="112" y="3"/>
                  <a:pt x="87" y="18"/>
                </a:cubicBezTo>
                <a:cubicBezTo>
                  <a:pt x="62" y="34"/>
                  <a:pt x="48" y="57"/>
                  <a:pt x="55" y="69"/>
                </a:cubicBezTo>
                <a:cubicBezTo>
                  <a:pt x="55" y="69"/>
                  <a:pt x="56" y="70"/>
                  <a:pt x="56" y="70"/>
                </a:cubicBezTo>
                <a:lnTo>
                  <a:pt x="56" y="70"/>
                </a:lnTo>
                <a:lnTo>
                  <a:pt x="86" y="119"/>
                </a:lnTo>
                <a:cubicBezTo>
                  <a:pt x="49" y="145"/>
                  <a:pt x="23" y="184"/>
                  <a:pt x="12" y="228"/>
                </a:cubicBezTo>
                <a:cubicBezTo>
                  <a:pt x="0" y="277"/>
                  <a:pt x="9" y="327"/>
                  <a:pt x="35" y="369"/>
                </a:cubicBezTo>
                <a:cubicBezTo>
                  <a:pt x="61" y="412"/>
                  <a:pt x="102" y="442"/>
                  <a:pt x="150" y="453"/>
                </a:cubicBezTo>
                <a:close/>
                <a:moveTo>
                  <a:pt x="386" y="356"/>
                </a:moveTo>
                <a:lnTo>
                  <a:pt x="163" y="356"/>
                </a:lnTo>
                <a:cubicBezTo>
                  <a:pt x="155" y="356"/>
                  <a:pt x="148" y="363"/>
                  <a:pt x="148" y="371"/>
                </a:cubicBezTo>
                <a:cubicBezTo>
                  <a:pt x="148" y="380"/>
                  <a:pt x="155" y="387"/>
                  <a:pt x="163" y="387"/>
                </a:cubicBezTo>
                <a:lnTo>
                  <a:pt x="386" y="387"/>
                </a:lnTo>
                <a:cubicBezTo>
                  <a:pt x="394" y="387"/>
                  <a:pt x="401" y="380"/>
                  <a:pt x="401" y="371"/>
                </a:cubicBezTo>
                <a:cubicBezTo>
                  <a:pt x="401" y="363"/>
                  <a:pt x="394" y="356"/>
                  <a:pt x="386" y="356"/>
                </a:cubicBezTo>
                <a:close/>
                <a:moveTo>
                  <a:pt x="202" y="506"/>
                </a:moveTo>
                <a:cubicBezTo>
                  <a:pt x="202" y="517"/>
                  <a:pt x="193" y="526"/>
                  <a:pt x="183" y="526"/>
                </a:cubicBezTo>
                <a:cubicBezTo>
                  <a:pt x="172" y="526"/>
                  <a:pt x="163" y="517"/>
                  <a:pt x="163" y="506"/>
                </a:cubicBezTo>
                <a:cubicBezTo>
                  <a:pt x="163" y="495"/>
                  <a:pt x="172" y="487"/>
                  <a:pt x="183" y="487"/>
                </a:cubicBezTo>
                <a:cubicBezTo>
                  <a:pt x="193" y="487"/>
                  <a:pt x="202" y="495"/>
                  <a:pt x="202" y="506"/>
                </a:cubicBezTo>
                <a:close/>
                <a:moveTo>
                  <a:pt x="142" y="506"/>
                </a:moveTo>
                <a:cubicBezTo>
                  <a:pt x="142" y="529"/>
                  <a:pt x="160" y="547"/>
                  <a:pt x="183" y="547"/>
                </a:cubicBezTo>
                <a:cubicBezTo>
                  <a:pt x="205" y="547"/>
                  <a:pt x="223" y="529"/>
                  <a:pt x="223" y="506"/>
                </a:cubicBezTo>
                <a:cubicBezTo>
                  <a:pt x="223" y="484"/>
                  <a:pt x="205" y="466"/>
                  <a:pt x="183" y="466"/>
                </a:cubicBezTo>
                <a:cubicBezTo>
                  <a:pt x="160" y="466"/>
                  <a:pt x="142" y="484"/>
                  <a:pt x="142" y="506"/>
                </a:cubicBezTo>
                <a:close/>
                <a:moveTo>
                  <a:pt x="237" y="525"/>
                </a:moveTo>
                <a:cubicBezTo>
                  <a:pt x="229" y="548"/>
                  <a:pt x="208" y="564"/>
                  <a:pt x="183" y="564"/>
                </a:cubicBezTo>
                <a:cubicBezTo>
                  <a:pt x="157" y="564"/>
                  <a:pt x="136" y="548"/>
                  <a:pt x="128" y="525"/>
                </a:cubicBezTo>
                <a:cubicBezTo>
                  <a:pt x="85" y="548"/>
                  <a:pt x="56" y="591"/>
                  <a:pt x="55" y="594"/>
                </a:cubicBezTo>
                <a:cubicBezTo>
                  <a:pt x="52" y="597"/>
                  <a:pt x="52" y="601"/>
                  <a:pt x="54" y="605"/>
                </a:cubicBezTo>
                <a:cubicBezTo>
                  <a:pt x="56" y="608"/>
                  <a:pt x="60" y="610"/>
                  <a:pt x="64" y="610"/>
                </a:cubicBezTo>
                <a:lnTo>
                  <a:pt x="302" y="610"/>
                </a:lnTo>
                <a:lnTo>
                  <a:pt x="302" y="610"/>
                </a:lnTo>
                <a:cubicBezTo>
                  <a:pt x="308" y="610"/>
                  <a:pt x="312" y="605"/>
                  <a:pt x="312" y="599"/>
                </a:cubicBezTo>
                <a:cubicBezTo>
                  <a:pt x="312" y="597"/>
                  <a:pt x="312" y="595"/>
                  <a:pt x="310" y="593"/>
                </a:cubicBezTo>
                <a:cubicBezTo>
                  <a:pt x="306" y="587"/>
                  <a:pt x="278" y="547"/>
                  <a:pt x="237" y="525"/>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59" name="Freeform 26"/>
          <p:cNvSpPr/>
          <p:nvPr/>
        </p:nvSpPr>
        <p:spPr>
          <a:xfrm>
            <a:off x="9226440" y="1239840"/>
            <a:ext cx="650880" cy="606600"/>
          </a:xfrm>
          <a:custGeom>
            <a:avLst/>
            <a:gdLst>
              <a:gd name="textAreaLeft" fmla="*/ 0 w 650880"/>
              <a:gd name="textAreaRight" fmla="*/ 651240 w 650880"/>
              <a:gd name="textAreaTop" fmla="*/ 0 h 606600"/>
              <a:gd name="textAreaBottom" fmla="*/ 606600 h 606600"/>
            </a:gdLst>
            <a:ahLst/>
            <a:rect l="textAreaLeft" t="textAreaTop" r="textAreaRight" b="textAreaBottom"/>
            <a:pathLst>
              <a:path w="678" h="630">
                <a:moveTo>
                  <a:pt x="301" y="551"/>
                </a:moveTo>
                <a:lnTo>
                  <a:pt x="373" y="551"/>
                </a:lnTo>
                <a:lnTo>
                  <a:pt x="398" y="593"/>
                </a:lnTo>
                <a:lnTo>
                  <a:pt x="280" y="593"/>
                </a:lnTo>
                <a:lnTo>
                  <a:pt x="301" y="551"/>
                </a:lnTo>
                <a:close/>
                <a:moveTo>
                  <a:pt x="190" y="21"/>
                </a:moveTo>
                <a:lnTo>
                  <a:pt x="207" y="32"/>
                </a:lnTo>
                <a:cubicBezTo>
                  <a:pt x="208" y="32"/>
                  <a:pt x="209" y="33"/>
                  <a:pt x="210" y="34"/>
                </a:cubicBezTo>
                <a:lnTo>
                  <a:pt x="366" y="14"/>
                </a:lnTo>
                <a:cubicBezTo>
                  <a:pt x="362" y="5"/>
                  <a:pt x="353" y="0"/>
                  <a:pt x="342" y="1"/>
                </a:cubicBezTo>
                <a:lnTo>
                  <a:pt x="190" y="21"/>
                </a:lnTo>
                <a:close/>
                <a:moveTo>
                  <a:pt x="169" y="25"/>
                </a:moveTo>
                <a:lnTo>
                  <a:pt x="199" y="44"/>
                </a:lnTo>
                <a:cubicBezTo>
                  <a:pt x="203" y="47"/>
                  <a:pt x="207" y="55"/>
                  <a:pt x="207" y="62"/>
                </a:cubicBezTo>
                <a:lnTo>
                  <a:pt x="207" y="333"/>
                </a:lnTo>
                <a:cubicBezTo>
                  <a:pt x="207" y="340"/>
                  <a:pt x="203" y="343"/>
                  <a:pt x="199" y="340"/>
                </a:cubicBezTo>
                <a:lnTo>
                  <a:pt x="169" y="322"/>
                </a:lnTo>
                <a:cubicBezTo>
                  <a:pt x="165" y="319"/>
                  <a:pt x="161" y="311"/>
                  <a:pt x="161" y="304"/>
                </a:cubicBezTo>
                <a:lnTo>
                  <a:pt x="161" y="33"/>
                </a:lnTo>
                <a:cubicBezTo>
                  <a:pt x="161" y="26"/>
                  <a:pt x="165" y="23"/>
                  <a:pt x="169" y="25"/>
                </a:cubicBezTo>
                <a:close/>
                <a:moveTo>
                  <a:pt x="291" y="109"/>
                </a:moveTo>
                <a:lnTo>
                  <a:pt x="309" y="120"/>
                </a:lnTo>
                <a:cubicBezTo>
                  <a:pt x="310" y="121"/>
                  <a:pt x="310" y="122"/>
                  <a:pt x="311" y="122"/>
                </a:cubicBezTo>
                <a:lnTo>
                  <a:pt x="467" y="102"/>
                </a:lnTo>
                <a:cubicBezTo>
                  <a:pt x="464" y="94"/>
                  <a:pt x="454" y="88"/>
                  <a:pt x="443" y="90"/>
                </a:cubicBezTo>
                <a:lnTo>
                  <a:pt x="291" y="109"/>
                </a:lnTo>
                <a:close/>
                <a:moveTo>
                  <a:pt x="270" y="114"/>
                </a:moveTo>
                <a:lnTo>
                  <a:pt x="300" y="133"/>
                </a:lnTo>
                <a:cubicBezTo>
                  <a:pt x="304" y="136"/>
                  <a:pt x="308" y="144"/>
                  <a:pt x="308" y="151"/>
                </a:cubicBezTo>
                <a:lnTo>
                  <a:pt x="308" y="422"/>
                </a:lnTo>
                <a:cubicBezTo>
                  <a:pt x="308" y="428"/>
                  <a:pt x="304" y="432"/>
                  <a:pt x="300" y="429"/>
                </a:cubicBezTo>
                <a:lnTo>
                  <a:pt x="270" y="410"/>
                </a:lnTo>
                <a:cubicBezTo>
                  <a:pt x="266" y="407"/>
                  <a:pt x="263" y="400"/>
                  <a:pt x="263" y="393"/>
                </a:cubicBezTo>
                <a:lnTo>
                  <a:pt x="263" y="122"/>
                </a:lnTo>
                <a:cubicBezTo>
                  <a:pt x="263" y="115"/>
                  <a:pt x="266" y="111"/>
                  <a:pt x="270" y="114"/>
                </a:cubicBezTo>
                <a:close/>
                <a:moveTo>
                  <a:pt x="322" y="145"/>
                </a:moveTo>
                <a:lnTo>
                  <a:pt x="486" y="124"/>
                </a:lnTo>
                <a:cubicBezTo>
                  <a:pt x="500" y="122"/>
                  <a:pt x="511" y="131"/>
                  <a:pt x="511" y="145"/>
                </a:cubicBezTo>
                <a:lnTo>
                  <a:pt x="511" y="378"/>
                </a:lnTo>
                <a:cubicBezTo>
                  <a:pt x="511" y="391"/>
                  <a:pt x="500" y="404"/>
                  <a:pt x="486" y="406"/>
                </a:cubicBezTo>
                <a:lnTo>
                  <a:pt x="322" y="426"/>
                </a:lnTo>
                <a:lnTo>
                  <a:pt x="322" y="145"/>
                </a:lnTo>
                <a:close/>
                <a:moveTo>
                  <a:pt x="354" y="183"/>
                </a:moveTo>
                <a:lnTo>
                  <a:pt x="481" y="166"/>
                </a:lnTo>
                <a:lnTo>
                  <a:pt x="481" y="224"/>
                </a:lnTo>
                <a:lnTo>
                  <a:pt x="354" y="240"/>
                </a:lnTo>
                <a:lnTo>
                  <a:pt x="354" y="183"/>
                </a:lnTo>
                <a:close/>
                <a:moveTo>
                  <a:pt x="221" y="56"/>
                </a:moveTo>
                <a:lnTo>
                  <a:pt x="384" y="35"/>
                </a:lnTo>
                <a:cubicBezTo>
                  <a:pt x="398" y="33"/>
                  <a:pt x="410" y="43"/>
                  <a:pt x="410" y="56"/>
                </a:cubicBezTo>
                <a:lnTo>
                  <a:pt x="410" y="63"/>
                </a:lnTo>
                <a:lnTo>
                  <a:pt x="255" y="83"/>
                </a:lnTo>
                <a:cubicBezTo>
                  <a:pt x="244" y="86"/>
                  <a:pt x="240" y="93"/>
                  <a:pt x="240" y="107"/>
                </a:cubicBezTo>
                <a:lnTo>
                  <a:pt x="240" y="335"/>
                </a:lnTo>
                <a:lnTo>
                  <a:pt x="221" y="338"/>
                </a:lnTo>
                <a:lnTo>
                  <a:pt x="221" y="56"/>
                </a:lnTo>
                <a:close/>
                <a:moveTo>
                  <a:pt x="101" y="188"/>
                </a:moveTo>
                <a:lnTo>
                  <a:pt x="134" y="188"/>
                </a:lnTo>
                <a:lnTo>
                  <a:pt x="134" y="135"/>
                </a:lnTo>
                <a:lnTo>
                  <a:pt x="104" y="135"/>
                </a:lnTo>
                <a:cubicBezTo>
                  <a:pt x="76" y="135"/>
                  <a:pt x="54" y="158"/>
                  <a:pt x="54" y="186"/>
                </a:cubicBezTo>
                <a:lnTo>
                  <a:pt x="54" y="467"/>
                </a:lnTo>
                <a:cubicBezTo>
                  <a:pt x="54" y="490"/>
                  <a:pt x="69" y="509"/>
                  <a:pt x="90" y="515"/>
                </a:cubicBezTo>
                <a:lnTo>
                  <a:pt x="90" y="515"/>
                </a:lnTo>
                <a:lnTo>
                  <a:pt x="0" y="586"/>
                </a:lnTo>
                <a:lnTo>
                  <a:pt x="0" y="630"/>
                </a:lnTo>
                <a:lnTo>
                  <a:pt x="678" y="630"/>
                </a:lnTo>
                <a:lnTo>
                  <a:pt x="678" y="586"/>
                </a:lnTo>
                <a:lnTo>
                  <a:pt x="582" y="516"/>
                </a:lnTo>
                <a:cubicBezTo>
                  <a:pt x="604" y="511"/>
                  <a:pt x="621" y="491"/>
                  <a:pt x="621" y="467"/>
                </a:cubicBezTo>
                <a:lnTo>
                  <a:pt x="621" y="186"/>
                </a:lnTo>
                <a:cubicBezTo>
                  <a:pt x="621" y="158"/>
                  <a:pt x="598" y="135"/>
                  <a:pt x="571" y="135"/>
                </a:cubicBezTo>
                <a:lnTo>
                  <a:pt x="541" y="135"/>
                </a:lnTo>
                <a:lnTo>
                  <a:pt x="541" y="188"/>
                </a:lnTo>
                <a:lnTo>
                  <a:pt x="573" y="188"/>
                </a:lnTo>
                <a:lnTo>
                  <a:pt x="573" y="474"/>
                </a:lnTo>
                <a:lnTo>
                  <a:pt x="101" y="474"/>
                </a:lnTo>
                <a:lnTo>
                  <a:pt x="101" y="18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60" name="Freeform 27"/>
          <p:cNvSpPr/>
          <p:nvPr/>
        </p:nvSpPr>
        <p:spPr>
          <a:xfrm>
            <a:off x="9091440" y="3630600"/>
            <a:ext cx="657360" cy="579600"/>
          </a:xfrm>
          <a:custGeom>
            <a:avLst/>
            <a:gdLst>
              <a:gd name="textAreaLeft" fmla="*/ 0 w 657360"/>
              <a:gd name="textAreaRight" fmla="*/ 657360 w 657360"/>
              <a:gd name="textAreaTop" fmla="*/ 0 h 579600"/>
              <a:gd name="textAreaBottom" fmla="*/ 579960 h 579600"/>
            </a:gdLst>
            <a:ahLst/>
            <a:rect l="textAreaLeft" t="textAreaTop" r="textAreaRight" b="textAreaBottom"/>
            <a:pathLst>
              <a:path w="683" h="601">
                <a:moveTo>
                  <a:pt x="591" y="381"/>
                </a:moveTo>
                <a:lnTo>
                  <a:pt x="284" y="381"/>
                </a:lnTo>
                <a:cubicBezTo>
                  <a:pt x="284" y="385"/>
                  <a:pt x="283" y="389"/>
                  <a:pt x="282" y="392"/>
                </a:cubicBezTo>
                <a:lnTo>
                  <a:pt x="595" y="392"/>
                </a:lnTo>
                <a:cubicBezTo>
                  <a:pt x="593" y="389"/>
                  <a:pt x="592" y="385"/>
                  <a:pt x="591" y="381"/>
                </a:cubicBezTo>
                <a:close/>
                <a:moveTo>
                  <a:pt x="589" y="359"/>
                </a:moveTo>
                <a:lnTo>
                  <a:pt x="285" y="359"/>
                </a:lnTo>
                <a:cubicBezTo>
                  <a:pt x="285" y="363"/>
                  <a:pt x="285" y="367"/>
                  <a:pt x="285" y="371"/>
                </a:cubicBezTo>
                <a:lnTo>
                  <a:pt x="589" y="371"/>
                </a:lnTo>
                <a:cubicBezTo>
                  <a:pt x="588" y="367"/>
                  <a:pt x="588" y="363"/>
                  <a:pt x="589" y="359"/>
                </a:cubicBezTo>
                <a:close/>
                <a:moveTo>
                  <a:pt x="595" y="338"/>
                </a:moveTo>
                <a:lnTo>
                  <a:pt x="282" y="338"/>
                </a:lnTo>
                <a:cubicBezTo>
                  <a:pt x="283" y="342"/>
                  <a:pt x="284" y="345"/>
                  <a:pt x="284" y="349"/>
                </a:cubicBezTo>
                <a:lnTo>
                  <a:pt x="591" y="349"/>
                </a:lnTo>
                <a:cubicBezTo>
                  <a:pt x="592" y="345"/>
                  <a:pt x="593" y="341"/>
                  <a:pt x="595" y="338"/>
                </a:cubicBezTo>
                <a:close/>
                <a:moveTo>
                  <a:pt x="269" y="324"/>
                </a:moveTo>
                <a:lnTo>
                  <a:pt x="269" y="408"/>
                </a:lnTo>
                <a:lnTo>
                  <a:pt x="607" y="408"/>
                </a:lnTo>
                <a:lnTo>
                  <a:pt x="607" y="432"/>
                </a:lnTo>
                <a:lnTo>
                  <a:pt x="261" y="432"/>
                </a:lnTo>
                <a:cubicBezTo>
                  <a:pt x="251" y="432"/>
                  <a:pt x="242" y="425"/>
                  <a:pt x="242" y="416"/>
                </a:cubicBezTo>
                <a:lnTo>
                  <a:pt x="242" y="316"/>
                </a:lnTo>
                <a:cubicBezTo>
                  <a:pt x="242" y="307"/>
                  <a:pt x="251" y="300"/>
                  <a:pt x="261" y="300"/>
                </a:cubicBezTo>
                <a:lnTo>
                  <a:pt x="607" y="300"/>
                </a:lnTo>
                <a:lnTo>
                  <a:pt x="607" y="324"/>
                </a:lnTo>
                <a:lnTo>
                  <a:pt x="269" y="324"/>
                </a:lnTo>
                <a:close/>
                <a:moveTo>
                  <a:pt x="367" y="56"/>
                </a:moveTo>
                <a:cubicBezTo>
                  <a:pt x="354" y="55"/>
                  <a:pt x="348" y="48"/>
                  <a:pt x="345" y="39"/>
                </a:cubicBezTo>
                <a:cubicBezTo>
                  <a:pt x="342" y="31"/>
                  <a:pt x="343" y="26"/>
                  <a:pt x="343" y="18"/>
                </a:cubicBezTo>
                <a:cubicBezTo>
                  <a:pt x="342" y="8"/>
                  <a:pt x="336" y="5"/>
                  <a:pt x="335" y="3"/>
                </a:cubicBezTo>
                <a:cubicBezTo>
                  <a:pt x="335" y="2"/>
                  <a:pt x="337" y="1"/>
                  <a:pt x="341" y="1"/>
                </a:cubicBezTo>
                <a:cubicBezTo>
                  <a:pt x="344" y="1"/>
                  <a:pt x="347" y="0"/>
                  <a:pt x="350" y="1"/>
                </a:cubicBezTo>
                <a:cubicBezTo>
                  <a:pt x="356" y="1"/>
                  <a:pt x="365" y="2"/>
                  <a:pt x="366" y="2"/>
                </a:cubicBezTo>
                <a:cubicBezTo>
                  <a:pt x="385" y="6"/>
                  <a:pt x="409" y="16"/>
                  <a:pt x="411" y="39"/>
                </a:cubicBezTo>
                <a:cubicBezTo>
                  <a:pt x="413" y="49"/>
                  <a:pt x="412" y="61"/>
                  <a:pt x="402" y="65"/>
                </a:cubicBezTo>
                <a:cubicBezTo>
                  <a:pt x="395" y="55"/>
                  <a:pt x="378" y="57"/>
                  <a:pt x="367" y="56"/>
                </a:cubicBezTo>
                <a:close/>
                <a:moveTo>
                  <a:pt x="394" y="102"/>
                </a:moveTo>
                <a:cubicBezTo>
                  <a:pt x="385" y="99"/>
                  <a:pt x="378" y="99"/>
                  <a:pt x="366" y="105"/>
                </a:cubicBezTo>
                <a:cubicBezTo>
                  <a:pt x="342" y="116"/>
                  <a:pt x="331" y="144"/>
                  <a:pt x="333" y="169"/>
                </a:cubicBezTo>
                <a:cubicBezTo>
                  <a:pt x="334" y="186"/>
                  <a:pt x="341" y="205"/>
                  <a:pt x="353" y="218"/>
                </a:cubicBezTo>
                <a:cubicBezTo>
                  <a:pt x="349" y="207"/>
                  <a:pt x="346" y="195"/>
                  <a:pt x="345" y="184"/>
                </a:cubicBezTo>
                <a:cubicBezTo>
                  <a:pt x="343" y="154"/>
                  <a:pt x="354" y="121"/>
                  <a:pt x="380" y="107"/>
                </a:cubicBezTo>
                <a:cubicBezTo>
                  <a:pt x="385" y="105"/>
                  <a:pt x="390" y="103"/>
                  <a:pt x="394" y="102"/>
                </a:cubicBezTo>
                <a:close/>
                <a:moveTo>
                  <a:pt x="486" y="87"/>
                </a:moveTo>
                <a:cubicBezTo>
                  <a:pt x="519" y="102"/>
                  <a:pt x="539" y="139"/>
                  <a:pt x="537" y="182"/>
                </a:cubicBezTo>
                <a:cubicBezTo>
                  <a:pt x="533" y="239"/>
                  <a:pt x="490" y="285"/>
                  <a:pt x="441" y="285"/>
                </a:cubicBezTo>
                <a:cubicBezTo>
                  <a:pt x="435" y="285"/>
                  <a:pt x="429" y="280"/>
                  <a:pt x="424" y="278"/>
                </a:cubicBezTo>
                <a:cubicBezTo>
                  <a:pt x="418" y="280"/>
                  <a:pt x="412" y="285"/>
                  <a:pt x="406" y="285"/>
                </a:cubicBezTo>
                <a:cubicBezTo>
                  <a:pt x="357" y="285"/>
                  <a:pt x="315" y="239"/>
                  <a:pt x="311" y="182"/>
                </a:cubicBezTo>
                <a:cubicBezTo>
                  <a:pt x="308" y="139"/>
                  <a:pt x="329" y="102"/>
                  <a:pt x="361" y="87"/>
                </a:cubicBezTo>
                <a:cubicBezTo>
                  <a:pt x="385" y="75"/>
                  <a:pt x="397" y="79"/>
                  <a:pt x="417" y="88"/>
                </a:cubicBezTo>
                <a:cubicBezTo>
                  <a:pt x="415" y="72"/>
                  <a:pt x="414" y="48"/>
                  <a:pt x="430" y="30"/>
                </a:cubicBezTo>
                <a:cubicBezTo>
                  <a:pt x="434" y="28"/>
                  <a:pt x="443" y="32"/>
                  <a:pt x="443" y="40"/>
                </a:cubicBezTo>
                <a:cubicBezTo>
                  <a:pt x="430" y="55"/>
                  <a:pt x="429" y="76"/>
                  <a:pt x="429" y="88"/>
                </a:cubicBezTo>
                <a:cubicBezTo>
                  <a:pt x="450" y="79"/>
                  <a:pt x="462" y="75"/>
                  <a:pt x="486" y="87"/>
                </a:cubicBezTo>
                <a:close/>
                <a:moveTo>
                  <a:pt x="237" y="540"/>
                </a:moveTo>
                <a:lnTo>
                  <a:pt x="635" y="540"/>
                </a:lnTo>
                <a:cubicBezTo>
                  <a:pt x="635" y="544"/>
                  <a:pt x="636" y="549"/>
                  <a:pt x="637" y="553"/>
                </a:cubicBezTo>
                <a:lnTo>
                  <a:pt x="231" y="553"/>
                </a:lnTo>
                <a:cubicBezTo>
                  <a:pt x="234" y="549"/>
                  <a:pt x="236" y="545"/>
                  <a:pt x="237" y="540"/>
                </a:cubicBezTo>
                <a:close/>
                <a:moveTo>
                  <a:pt x="239" y="515"/>
                </a:moveTo>
                <a:lnTo>
                  <a:pt x="634" y="515"/>
                </a:lnTo>
                <a:cubicBezTo>
                  <a:pt x="634" y="520"/>
                  <a:pt x="634" y="524"/>
                  <a:pt x="634" y="528"/>
                </a:cubicBezTo>
                <a:lnTo>
                  <a:pt x="239" y="528"/>
                </a:lnTo>
                <a:cubicBezTo>
                  <a:pt x="240" y="524"/>
                  <a:pt x="240" y="520"/>
                  <a:pt x="239" y="515"/>
                </a:cubicBezTo>
                <a:close/>
                <a:moveTo>
                  <a:pt x="231" y="491"/>
                </a:moveTo>
                <a:lnTo>
                  <a:pt x="637" y="491"/>
                </a:lnTo>
                <a:cubicBezTo>
                  <a:pt x="636" y="495"/>
                  <a:pt x="635" y="499"/>
                  <a:pt x="635" y="504"/>
                </a:cubicBezTo>
                <a:lnTo>
                  <a:pt x="237" y="504"/>
                </a:lnTo>
                <a:cubicBezTo>
                  <a:pt x="236" y="499"/>
                  <a:pt x="234" y="495"/>
                  <a:pt x="231" y="491"/>
                </a:cubicBezTo>
                <a:close/>
                <a:moveTo>
                  <a:pt x="652" y="475"/>
                </a:moveTo>
                <a:lnTo>
                  <a:pt x="652" y="570"/>
                </a:lnTo>
                <a:lnTo>
                  <a:pt x="219" y="570"/>
                </a:lnTo>
                <a:lnTo>
                  <a:pt x="219" y="598"/>
                </a:lnTo>
                <a:lnTo>
                  <a:pt x="662" y="598"/>
                </a:lnTo>
                <a:cubicBezTo>
                  <a:pt x="674" y="598"/>
                  <a:pt x="683" y="590"/>
                  <a:pt x="683" y="580"/>
                </a:cubicBezTo>
                <a:lnTo>
                  <a:pt x="683" y="465"/>
                </a:lnTo>
                <a:cubicBezTo>
                  <a:pt x="683" y="455"/>
                  <a:pt x="674" y="447"/>
                  <a:pt x="662" y="447"/>
                </a:cubicBezTo>
                <a:lnTo>
                  <a:pt x="219" y="447"/>
                </a:lnTo>
                <a:lnTo>
                  <a:pt x="219" y="475"/>
                </a:lnTo>
                <a:lnTo>
                  <a:pt x="652" y="475"/>
                </a:lnTo>
                <a:close/>
                <a:moveTo>
                  <a:pt x="223" y="189"/>
                </a:moveTo>
                <a:lnTo>
                  <a:pt x="93" y="543"/>
                </a:lnTo>
                <a:cubicBezTo>
                  <a:pt x="97" y="545"/>
                  <a:pt x="100" y="547"/>
                  <a:pt x="103" y="549"/>
                </a:cubicBezTo>
                <a:lnTo>
                  <a:pt x="236" y="188"/>
                </a:lnTo>
                <a:cubicBezTo>
                  <a:pt x="232" y="189"/>
                  <a:pt x="228" y="189"/>
                  <a:pt x="223" y="189"/>
                </a:cubicBezTo>
                <a:close/>
                <a:moveTo>
                  <a:pt x="201" y="183"/>
                </a:moveTo>
                <a:lnTo>
                  <a:pt x="72" y="534"/>
                </a:lnTo>
                <a:cubicBezTo>
                  <a:pt x="76" y="535"/>
                  <a:pt x="79" y="537"/>
                  <a:pt x="83" y="538"/>
                </a:cubicBezTo>
                <a:lnTo>
                  <a:pt x="213" y="187"/>
                </a:lnTo>
                <a:cubicBezTo>
                  <a:pt x="209" y="186"/>
                  <a:pt x="205" y="185"/>
                  <a:pt x="201" y="183"/>
                </a:cubicBezTo>
                <a:close/>
                <a:moveTo>
                  <a:pt x="183" y="168"/>
                </a:moveTo>
                <a:lnTo>
                  <a:pt x="50" y="529"/>
                </a:lnTo>
                <a:cubicBezTo>
                  <a:pt x="53" y="530"/>
                  <a:pt x="57" y="531"/>
                  <a:pt x="62" y="531"/>
                </a:cubicBezTo>
                <a:lnTo>
                  <a:pt x="192" y="177"/>
                </a:lnTo>
                <a:cubicBezTo>
                  <a:pt x="189" y="175"/>
                  <a:pt x="185" y="172"/>
                  <a:pt x="183" y="168"/>
                </a:cubicBezTo>
                <a:close/>
                <a:moveTo>
                  <a:pt x="31" y="537"/>
                </a:moveTo>
                <a:lnTo>
                  <a:pt x="114" y="568"/>
                </a:lnTo>
                <a:lnTo>
                  <a:pt x="256" y="183"/>
                </a:lnTo>
                <a:lnTo>
                  <a:pt x="280" y="192"/>
                </a:lnTo>
                <a:lnTo>
                  <a:pt x="135" y="585"/>
                </a:lnTo>
                <a:cubicBezTo>
                  <a:pt x="131" y="595"/>
                  <a:pt x="121" y="601"/>
                  <a:pt x="112" y="597"/>
                </a:cubicBezTo>
                <a:lnTo>
                  <a:pt x="13" y="561"/>
                </a:lnTo>
                <a:cubicBezTo>
                  <a:pt x="4" y="558"/>
                  <a:pt x="0" y="547"/>
                  <a:pt x="4" y="536"/>
                </a:cubicBezTo>
                <a:lnTo>
                  <a:pt x="149" y="144"/>
                </a:lnTo>
                <a:lnTo>
                  <a:pt x="173" y="152"/>
                </a:lnTo>
                <a:lnTo>
                  <a:pt x="31" y="537"/>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61" name="Freeform 28"/>
          <p:cNvSpPr/>
          <p:nvPr/>
        </p:nvSpPr>
        <p:spPr>
          <a:xfrm>
            <a:off x="10450440" y="2073240"/>
            <a:ext cx="568440" cy="569880"/>
          </a:xfrm>
          <a:custGeom>
            <a:avLst/>
            <a:gdLst>
              <a:gd name="textAreaLeft" fmla="*/ 0 w 568440"/>
              <a:gd name="textAreaRight" fmla="*/ 568800 w 568440"/>
              <a:gd name="textAreaTop" fmla="*/ 0 h 569880"/>
              <a:gd name="textAreaBottom" fmla="*/ 570240 h 569880"/>
            </a:gdLst>
            <a:ahLst/>
            <a:rect l="textAreaLeft" t="textAreaTop" r="textAreaRight" b="textAreaBottom"/>
            <a:pathLst>
              <a:path w="591" h="591">
                <a:moveTo>
                  <a:pt x="584" y="217"/>
                </a:moveTo>
                <a:cubicBezTo>
                  <a:pt x="572" y="167"/>
                  <a:pt x="547" y="121"/>
                  <a:pt x="509" y="82"/>
                </a:cubicBezTo>
                <a:cubicBezTo>
                  <a:pt x="469" y="43"/>
                  <a:pt x="421" y="17"/>
                  <a:pt x="370" y="6"/>
                </a:cubicBezTo>
                <a:lnTo>
                  <a:pt x="370" y="217"/>
                </a:lnTo>
                <a:lnTo>
                  <a:pt x="584" y="217"/>
                </a:lnTo>
                <a:close/>
                <a:moveTo>
                  <a:pt x="299" y="252"/>
                </a:moveTo>
                <a:lnTo>
                  <a:pt x="299" y="0"/>
                </a:lnTo>
                <a:cubicBezTo>
                  <a:pt x="231" y="3"/>
                  <a:pt x="163" y="30"/>
                  <a:pt x="111" y="82"/>
                </a:cubicBezTo>
                <a:cubicBezTo>
                  <a:pt x="0" y="192"/>
                  <a:pt x="0" y="371"/>
                  <a:pt x="111" y="481"/>
                </a:cubicBezTo>
                <a:cubicBezTo>
                  <a:pt x="220" y="591"/>
                  <a:pt x="399" y="591"/>
                  <a:pt x="509" y="481"/>
                </a:cubicBezTo>
                <a:cubicBezTo>
                  <a:pt x="563" y="427"/>
                  <a:pt x="590" y="357"/>
                  <a:pt x="591" y="287"/>
                </a:cubicBezTo>
                <a:lnTo>
                  <a:pt x="334" y="287"/>
                </a:lnTo>
                <a:cubicBezTo>
                  <a:pt x="315" y="287"/>
                  <a:pt x="299" y="271"/>
                  <a:pt x="299" y="252"/>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62" name="Freeform 35"/>
          <p:cNvSpPr/>
          <p:nvPr/>
        </p:nvSpPr>
        <p:spPr>
          <a:xfrm>
            <a:off x="10436400" y="5500800"/>
            <a:ext cx="468000" cy="576000"/>
          </a:xfrm>
          <a:custGeom>
            <a:avLst/>
            <a:gdLst>
              <a:gd name="textAreaLeft" fmla="*/ 0 w 468000"/>
              <a:gd name="textAreaRight" fmla="*/ 468360 w 468000"/>
              <a:gd name="textAreaTop" fmla="*/ 0 h 576000"/>
              <a:gd name="textAreaBottom" fmla="*/ 576360 h 576000"/>
            </a:gdLst>
            <a:ahLst/>
            <a:rect l="textAreaLeft" t="textAreaTop" r="textAreaRight" b="textAreaBottom"/>
            <a:pathLst>
              <a:path w="486" h="598">
                <a:moveTo>
                  <a:pt x="0" y="262"/>
                </a:moveTo>
                <a:lnTo>
                  <a:pt x="0" y="500"/>
                </a:lnTo>
                <a:cubicBezTo>
                  <a:pt x="0" y="554"/>
                  <a:pt x="44" y="598"/>
                  <a:pt x="98" y="598"/>
                </a:cubicBezTo>
                <a:lnTo>
                  <a:pt x="388" y="598"/>
                </a:lnTo>
                <a:cubicBezTo>
                  <a:pt x="442" y="598"/>
                  <a:pt x="486" y="554"/>
                  <a:pt x="486" y="500"/>
                </a:cubicBezTo>
                <a:lnTo>
                  <a:pt x="486" y="262"/>
                </a:lnTo>
                <a:lnTo>
                  <a:pt x="445" y="262"/>
                </a:lnTo>
                <a:lnTo>
                  <a:pt x="445" y="199"/>
                </a:lnTo>
                <a:cubicBezTo>
                  <a:pt x="445" y="89"/>
                  <a:pt x="356" y="0"/>
                  <a:pt x="246" y="0"/>
                </a:cubicBezTo>
                <a:cubicBezTo>
                  <a:pt x="137" y="0"/>
                  <a:pt x="48" y="89"/>
                  <a:pt x="48" y="199"/>
                </a:cubicBezTo>
                <a:lnTo>
                  <a:pt x="48" y="262"/>
                </a:lnTo>
                <a:lnTo>
                  <a:pt x="0" y="262"/>
                </a:lnTo>
                <a:close/>
                <a:moveTo>
                  <a:pt x="370" y="262"/>
                </a:moveTo>
                <a:lnTo>
                  <a:pt x="122" y="262"/>
                </a:lnTo>
                <a:lnTo>
                  <a:pt x="123" y="199"/>
                </a:lnTo>
                <a:cubicBezTo>
                  <a:pt x="123" y="131"/>
                  <a:pt x="178" y="75"/>
                  <a:pt x="246" y="75"/>
                </a:cubicBezTo>
                <a:cubicBezTo>
                  <a:pt x="315" y="75"/>
                  <a:pt x="370" y="131"/>
                  <a:pt x="370" y="199"/>
                </a:cubicBezTo>
                <a:lnTo>
                  <a:pt x="370" y="262"/>
                </a:lnTo>
                <a:close/>
                <a:moveTo>
                  <a:pt x="276" y="438"/>
                </a:moveTo>
                <a:lnTo>
                  <a:pt x="276" y="438"/>
                </a:lnTo>
                <a:lnTo>
                  <a:pt x="276" y="491"/>
                </a:lnTo>
                <a:cubicBezTo>
                  <a:pt x="276" y="509"/>
                  <a:pt x="261" y="523"/>
                  <a:pt x="243" y="523"/>
                </a:cubicBezTo>
                <a:cubicBezTo>
                  <a:pt x="225" y="523"/>
                  <a:pt x="210" y="509"/>
                  <a:pt x="210" y="491"/>
                </a:cubicBezTo>
                <a:lnTo>
                  <a:pt x="210" y="438"/>
                </a:lnTo>
                <a:cubicBezTo>
                  <a:pt x="196" y="428"/>
                  <a:pt x="187" y="411"/>
                  <a:pt x="187" y="392"/>
                </a:cubicBezTo>
                <a:cubicBezTo>
                  <a:pt x="187" y="362"/>
                  <a:pt x="212" y="336"/>
                  <a:pt x="243" y="336"/>
                </a:cubicBezTo>
                <a:cubicBezTo>
                  <a:pt x="274" y="336"/>
                  <a:pt x="299" y="362"/>
                  <a:pt x="299" y="392"/>
                </a:cubicBezTo>
                <a:cubicBezTo>
                  <a:pt x="299" y="411"/>
                  <a:pt x="290" y="428"/>
                  <a:pt x="276" y="438"/>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63" name="Freeform 37"/>
          <p:cNvSpPr/>
          <p:nvPr/>
        </p:nvSpPr>
        <p:spPr>
          <a:xfrm>
            <a:off x="9182160" y="2913120"/>
            <a:ext cx="544320" cy="592200"/>
          </a:xfrm>
          <a:custGeom>
            <a:avLst/>
            <a:gdLst>
              <a:gd name="textAreaLeft" fmla="*/ 0 w 544320"/>
              <a:gd name="textAreaRight" fmla="*/ 544680 w 544320"/>
              <a:gd name="textAreaTop" fmla="*/ 0 h 592200"/>
              <a:gd name="textAreaBottom" fmla="*/ 592560 h 592200"/>
            </a:gdLst>
            <a:ahLst/>
            <a:rect l="textAreaLeft" t="textAreaTop" r="textAreaRight" b="textAreaBottom"/>
            <a:pathLst>
              <a:path w="566" h="613">
                <a:moveTo>
                  <a:pt x="38" y="38"/>
                </a:moveTo>
                <a:cubicBezTo>
                  <a:pt x="74" y="43"/>
                  <a:pt x="112" y="42"/>
                  <a:pt x="151" y="37"/>
                </a:cubicBezTo>
                <a:cubicBezTo>
                  <a:pt x="190" y="32"/>
                  <a:pt x="230" y="21"/>
                  <a:pt x="271" y="5"/>
                </a:cubicBezTo>
                <a:lnTo>
                  <a:pt x="283" y="0"/>
                </a:lnTo>
                <a:lnTo>
                  <a:pt x="294" y="5"/>
                </a:lnTo>
                <a:cubicBezTo>
                  <a:pt x="336" y="21"/>
                  <a:pt x="376" y="32"/>
                  <a:pt x="415" y="37"/>
                </a:cubicBezTo>
                <a:cubicBezTo>
                  <a:pt x="454" y="42"/>
                  <a:pt x="491" y="43"/>
                  <a:pt x="528" y="38"/>
                </a:cubicBezTo>
                <a:lnTo>
                  <a:pt x="566" y="33"/>
                </a:lnTo>
                <a:lnTo>
                  <a:pt x="566" y="77"/>
                </a:lnTo>
                <a:cubicBezTo>
                  <a:pt x="564" y="260"/>
                  <a:pt x="534" y="382"/>
                  <a:pt x="486" y="464"/>
                </a:cubicBezTo>
                <a:cubicBezTo>
                  <a:pt x="436" y="550"/>
                  <a:pt x="368" y="591"/>
                  <a:pt x="291" y="611"/>
                </a:cubicBezTo>
                <a:lnTo>
                  <a:pt x="283" y="613"/>
                </a:lnTo>
                <a:lnTo>
                  <a:pt x="275" y="611"/>
                </a:lnTo>
                <a:cubicBezTo>
                  <a:pt x="198" y="591"/>
                  <a:pt x="130" y="550"/>
                  <a:pt x="80" y="464"/>
                </a:cubicBezTo>
                <a:cubicBezTo>
                  <a:pt x="32" y="382"/>
                  <a:pt x="2" y="260"/>
                  <a:pt x="0" y="77"/>
                </a:cubicBezTo>
                <a:lnTo>
                  <a:pt x="0" y="33"/>
                </a:lnTo>
                <a:lnTo>
                  <a:pt x="38" y="38"/>
                </a:lnTo>
                <a:close/>
                <a:moveTo>
                  <a:pt x="283" y="312"/>
                </a:moveTo>
                <a:lnTo>
                  <a:pt x="283" y="312"/>
                </a:lnTo>
                <a:lnTo>
                  <a:pt x="472" y="312"/>
                </a:lnTo>
                <a:cubicBezTo>
                  <a:pt x="485" y="259"/>
                  <a:pt x="493" y="195"/>
                  <a:pt x="496" y="117"/>
                </a:cubicBezTo>
                <a:cubicBezTo>
                  <a:pt x="467" y="119"/>
                  <a:pt x="437" y="117"/>
                  <a:pt x="407" y="113"/>
                </a:cubicBezTo>
                <a:cubicBezTo>
                  <a:pt x="367" y="108"/>
                  <a:pt x="325" y="97"/>
                  <a:pt x="283" y="81"/>
                </a:cubicBezTo>
                <a:lnTo>
                  <a:pt x="283" y="312"/>
                </a:lnTo>
                <a:close/>
                <a:moveTo>
                  <a:pt x="283" y="535"/>
                </a:moveTo>
                <a:lnTo>
                  <a:pt x="283" y="535"/>
                </a:lnTo>
                <a:lnTo>
                  <a:pt x="283" y="312"/>
                </a:lnTo>
                <a:lnTo>
                  <a:pt x="94" y="312"/>
                </a:lnTo>
                <a:cubicBezTo>
                  <a:pt x="105" y="357"/>
                  <a:pt x="120" y="393"/>
                  <a:pt x="137" y="423"/>
                </a:cubicBezTo>
                <a:cubicBezTo>
                  <a:pt x="174" y="486"/>
                  <a:pt x="225" y="518"/>
                  <a:pt x="283" y="535"/>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64" name="Freeform 40"/>
          <p:cNvSpPr/>
          <p:nvPr/>
        </p:nvSpPr>
        <p:spPr>
          <a:xfrm>
            <a:off x="10436400" y="1325520"/>
            <a:ext cx="571320" cy="527040"/>
          </a:xfrm>
          <a:custGeom>
            <a:avLst/>
            <a:gdLst>
              <a:gd name="textAreaLeft" fmla="*/ 0 w 571320"/>
              <a:gd name="textAreaRight" fmla="*/ 571680 w 571320"/>
              <a:gd name="textAreaTop" fmla="*/ 0 h 527040"/>
              <a:gd name="textAreaBottom" fmla="*/ 527400 h 527040"/>
            </a:gdLst>
            <a:ahLst/>
            <a:rect l="textAreaLeft" t="textAreaTop" r="textAreaRight" b="textAreaBottom"/>
            <a:pathLst>
              <a:path w="646" h="595">
                <a:moveTo>
                  <a:pt x="646" y="149"/>
                </a:moveTo>
                <a:cubicBezTo>
                  <a:pt x="646" y="149"/>
                  <a:pt x="643" y="106"/>
                  <a:pt x="601" y="98"/>
                </a:cubicBezTo>
                <a:cubicBezTo>
                  <a:pt x="571" y="92"/>
                  <a:pt x="282" y="54"/>
                  <a:pt x="282" y="54"/>
                </a:cubicBezTo>
                <a:lnTo>
                  <a:pt x="282" y="42"/>
                </a:lnTo>
                <a:cubicBezTo>
                  <a:pt x="282" y="42"/>
                  <a:pt x="283" y="17"/>
                  <a:pt x="259" y="11"/>
                </a:cubicBezTo>
                <a:cubicBezTo>
                  <a:pt x="234" y="6"/>
                  <a:pt x="173" y="0"/>
                  <a:pt x="173" y="0"/>
                </a:cubicBezTo>
                <a:lnTo>
                  <a:pt x="150" y="12"/>
                </a:lnTo>
                <a:lnTo>
                  <a:pt x="204" y="18"/>
                </a:lnTo>
                <a:cubicBezTo>
                  <a:pt x="204" y="18"/>
                  <a:pt x="232" y="20"/>
                  <a:pt x="240" y="47"/>
                </a:cubicBezTo>
                <a:cubicBezTo>
                  <a:pt x="248" y="74"/>
                  <a:pt x="248" y="74"/>
                  <a:pt x="248" y="74"/>
                </a:cubicBezTo>
                <a:lnTo>
                  <a:pt x="569" y="115"/>
                </a:lnTo>
                <a:cubicBezTo>
                  <a:pt x="569" y="115"/>
                  <a:pt x="608" y="115"/>
                  <a:pt x="617" y="164"/>
                </a:cubicBezTo>
                <a:cubicBezTo>
                  <a:pt x="621" y="189"/>
                  <a:pt x="605" y="432"/>
                  <a:pt x="609" y="530"/>
                </a:cubicBezTo>
                <a:lnTo>
                  <a:pt x="575" y="206"/>
                </a:lnTo>
                <a:cubicBezTo>
                  <a:pt x="575" y="206"/>
                  <a:pt x="574" y="164"/>
                  <a:pt x="534" y="159"/>
                </a:cubicBezTo>
                <a:cubicBezTo>
                  <a:pt x="493" y="154"/>
                  <a:pt x="226" y="118"/>
                  <a:pt x="226" y="118"/>
                </a:cubicBezTo>
                <a:cubicBezTo>
                  <a:pt x="226" y="118"/>
                  <a:pt x="217" y="62"/>
                  <a:pt x="184" y="59"/>
                </a:cubicBezTo>
                <a:cubicBezTo>
                  <a:pt x="151" y="56"/>
                  <a:pt x="76" y="45"/>
                  <a:pt x="76" y="45"/>
                </a:cubicBezTo>
                <a:cubicBezTo>
                  <a:pt x="76" y="45"/>
                  <a:pt x="49" y="42"/>
                  <a:pt x="68" y="105"/>
                </a:cubicBezTo>
                <a:lnTo>
                  <a:pt x="0" y="99"/>
                </a:lnTo>
                <a:lnTo>
                  <a:pt x="60" y="508"/>
                </a:lnTo>
                <a:lnTo>
                  <a:pt x="622" y="595"/>
                </a:lnTo>
                <a:lnTo>
                  <a:pt x="646" y="149"/>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65" name="Freeform 42"/>
          <p:cNvSpPr/>
          <p:nvPr/>
        </p:nvSpPr>
        <p:spPr>
          <a:xfrm>
            <a:off x="10469520" y="2959200"/>
            <a:ext cx="558720" cy="547560"/>
          </a:xfrm>
          <a:custGeom>
            <a:avLst/>
            <a:gdLst>
              <a:gd name="textAreaLeft" fmla="*/ 0 w 558720"/>
              <a:gd name="textAreaRight" fmla="*/ 559080 w 558720"/>
              <a:gd name="textAreaTop" fmla="*/ 0 h 547560"/>
              <a:gd name="textAreaBottom" fmla="*/ 547920 h 547560"/>
            </a:gdLst>
            <a:ahLst/>
            <a:rect l="textAreaLeft" t="textAreaTop" r="textAreaRight" b="textAreaBottom"/>
            <a:pathLst>
              <a:path w="596" h="583">
                <a:moveTo>
                  <a:pt x="25" y="345"/>
                </a:moveTo>
                <a:lnTo>
                  <a:pt x="25" y="62"/>
                </a:lnTo>
                <a:cubicBezTo>
                  <a:pt x="25" y="42"/>
                  <a:pt x="41" y="26"/>
                  <a:pt x="61" y="26"/>
                </a:cubicBezTo>
                <a:lnTo>
                  <a:pt x="534" y="26"/>
                </a:lnTo>
                <a:cubicBezTo>
                  <a:pt x="554" y="26"/>
                  <a:pt x="570" y="42"/>
                  <a:pt x="570" y="62"/>
                </a:cubicBezTo>
                <a:lnTo>
                  <a:pt x="570" y="345"/>
                </a:lnTo>
                <a:cubicBezTo>
                  <a:pt x="570" y="365"/>
                  <a:pt x="554" y="381"/>
                  <a:pt x="534" y="381"/>
                </a:cubicBezTo>
                <a:lnTo>
                  <a:pt x="61" y="381"/>
                </a:lnTo>
                <a:cubicBezTo>
                  <a:pt x="41" y="381"/>
                  <a:pt x="25" y="365"/>
                  <a:pt x="25" y="345"/>
                </a:cubicBezTo>
                <a:close/>
                <a:moveTo>
                  <a:pt x="534" y="406"/>
                </a:moveTo>
                <a:cubicBezTo>
                  <a:pt x="568" y="406"/>
                  <a:pt x="596" y="379"/>
                  <a:pt x="596" y="345"/>
                </a:cubicBezTo>
                <a:lnTo>
                  <a:pt x="596" y="62"/>
                </a:lnTo>
                <a:cubicBezTo>
                  <a:pt x="596" y="28"/>
                  <a:pt x="568" y="0"/>
                  <a:pt x="534" y="0"/>
                </a:cubicBezTo>
                <a:lnTo>
                  <a:pt x="61" y="0"/>
                </a:lnTo>
                <a:cubicBezTo>
                  <a:pt x="27" y="0"/>
                  <a:pt x="0" y="28"/>
                  <a:pt x="0" y="62"/>
                </a:cubicBezTo>
                <a:lnTo>
                  <a:pt x="0" y="345"/>
                </a:lnTo>
                <a:cubicBezTo>
                  <a:pt x="0" y="379"/>
                  <a:pt x="27" y="406"/>
                  <a:pt x="61" y="406"/>
                </a:cubicBezTo>
                <a:lnTo>
                  <a:pt x="245" y="406"/>
                </a:lnTo>
                <a:lnTo>
                  <a:pt x="245" y="462"/>
                </a:lnTo>
                <a:lnTo>
                  <a:pt x="61" y="462"/>
                </a:lnTo>
                <a:cubicBezTo>
                  <a:pt x="27" y="462"/>
                  <a:pt x="0" y="490"/>
                  <a:pt x="0" y="524"/>
                </a:cubicBezTo>
                <a:lnTo>
                  <a:pt x="0" y="570"/>
                </a:lnTo>
                <a:cubicBezTo>
                  <a:pt x="0" y="577"/>
                  <a:pt x="5" y="583"/>
                  <a:pt x="12" y="583"/>
                </a:cubicBezTo>
                <a:lnTo>
                  <a:pt x="583" y="583"/>
                </a:lnTo>
                <a:cubicBezTo>
                  <a:pt x="590" y="583"/>
                  <a:pt x="596" y="577"/>
                  <a:pt x="596" y="570"/>
                </a:cubicBezTo>
                <a:lnTo>
                  <a:pt x="596" y="524"/>
                </a:lnTo>
                <a:cubicBezTo>
                  <a:pt x="596" y="490"/>
                  <a:pt x="568" y="462"/>
                  <a:pt x="534" y="462"/>
                </a:cubicBezTo>
                <a:lnTo>
                  <a:pt x="351" y="462"/>
                </a:lnTo>
                <a:lnTo>
                  <a:pt x="351" y="406"/>
                </a:lnTo>
                <a:lnTo>
                  <a:pt x="534" y="406"/>
                </a:lnTo>
                <a:close/>
                <a:moveTo>
                  <a:pt x="544" y="345"/>
                </a:moveTo>
                <a:lnTo>
                  <a:pt x="544" y="62"/>
                </a:lnTo>
                <a:cubicBezTo>
                  <a:pt x="544" y="56"/>
                  <a:pt x="540" y="52"/>
                  <a:pt x="534" y="52"/>
                </a:cubicBezTo>
                <a:lnTo>
                  <a:pt x="61" y="52"/>
                </a:lnTo>
                <a:cubicBezTo>
                  <a:pt x="56" y="52"/>
                  <a:pt x="51" y="56"/>
                  <a:pt x="51" y="62"/>
                </a:cubicBezTo>
                <a:lnTo>
                  <a:pt x="51" y="345"/>
                </a:lnTo>
                <a:cubicBezTo>
                  <a:pt x="51" y="350"/>
                  <a:pt x="56" y="355"/>
                  <a:pt x="61" y="355"/>
                </a:cubicBezTo>
                <a:lnTo>
                  <a:pt x="534" y="355"/>
                </a:lnTo>
                <a:cubicBezTo>
                  <a:pt x="540" y="355"/>
                  <a:pt x="544" y="350"/>
                  <a:pt x="544" y="345"/>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pic>
        <p:nvPicPr>
          <p:cNvPr id="1366" name="组合 117" descr=""/>
          <p:cNvPicPr/>
          <p:nvPr/>
        </p:nvPicPr>
        <p:blipFill>
          <a:blip r:embed="rId1"/>
          <a:stretch/>
        </p:blipFill>
        <p:spPr>
          <a:xfrm>
            <a:off x="9040680" y="4535640"/>
            <a:ext cx="693720" cy="645840"/>
          </a:xfrm>
          <a:prstGeom prst="rect">
            <a:avLst/>
          </a:prstGeom>
          <a:ln w="0">
            <a:noFill/>
          </a:ln>
        </p:spPr>
      </p:pic>
      <p:sp>
        <p:nvSpPr>
          <p:cNvPr id="1367" name="Freeform 46"/>
          <p:cNvSpPr/>
          <p:nvPr/>
        </p:nvSpPr>
        <p:spPr>
          <a:xfrm>
            <a:off x="9293400" y="5391000"/>
            <a:ext cx="507960" cy="654120"/>
          </a:xfrm>
          <a:custGeom>
            <a:avLst/>
            <a:gdLst>
              <a:gd name="textAreaLeft" fmla="*/ 0 w 507960"/>
              <a:gd name="textAreaRight" fmla="*/ 508320 w 507960"/>
              <a:gd name="textAreaTop" fmla="*/ 0 h 654120"/>
              <a:gd name="textAreaBottom" fmla="*/ 654120 h 654120"/>
            </a:gdLst>
            <a:ahLst/>
            <a:rect l="textAreaLeft" t="textAreaTop" r="textAreaRight" b="textAreaBottom"/>
            <a:pathLst>
              <a:path w="527" h="679">
                <a:moveTo>
                  <a:pt x="320" y="425"/>
                </a:moveTo>
                <a:cubicBezTo>
                  <a:pt x="350" y="413"/>
                  <a:pt x="376" y="392"/>
                  <a:pt x="394" y="362"/>
                </a:cubicBezTo>
                <a:cubicBezTo>
                  <a:pt x="421" y="316"/>
                  <a:pt x="421" y="262"/>
                  <a:pt x="398" y="217"/>
                </a:cubicBezTo>
                <a:cubicBezTo>
                  <a:pt x="378" y="228"/>
                  <a:pt x="358" y="236"/>
                  <a:pt x="340" y="239"/>
                </a:cubicBezTo>
                <a:cubicBezTo>
                  <a:pt x="339" y="245"/>
                  <a:pt x="338" y="250"/>
                  <a:pt x="335" y="255"/>
                </a:cubicBezTo>
                <a:cubicBezTo>
                  <a:pt x="322" y="275"/>
                  <a:pt x="296" y="282"/>
                  <a:pt x="276" y="270"/>
                </a:cubicBezTo>
                <a:cubicBezTo>
                  <a:pt x="268" y="265"/>
                  <a:pt x="262" y="259"/>
                  <a:pt x="259" y="251"/>
                </a:cubicBezTo>
                <a:cubicBezTo>
                  <a:pt x="258" y="250"/>
                  <a:pt x="257" y="248"/>
                  <a:pt x="257" y="247"/>
                </a:cubicBezTo>
                <a:cubicBezTo>
                  <a:pt x="257" y="246"/>
                  <a:pt x="257" y="246"/>
                  <a:pt x="257" y="246"/>
                </a:cubicBezTo>
                <a:cubicBezTo>
                  <a:pt x="256" y="245"/>
                  <a:pt x="256" y="243"/>
                  <a:pt x="256" y="242"/>
                </a:cubicBezTo>
                <a:cubicBezTo>
                  <a:pt x="256" y="242"/>
                  <a:pt x="256" y="241"/>
                  <a:pt x="255" y="241"/>
                </a:cubicBezTo>
                <a:cubicBezTo>
                  <a:pt x="255" y="240"/>
                  <a:pt x="255" y="238"/>
                  <a:pt x="255" y="237"/>
                </a:cubicBezTo>
                <a:cubicBezTo>
                  <a:pt x="255" y="237"/>
                  <a:pt x="255" y="236"/>
                  <a:pt x="255" y="236"/>
                </a:cubicBezTo>
                <a:cubicBezTo>
                  <a:pt x="255" y="235"/>
                  <a:pt x="255" y="233"/>
                  <a:pt x="255" y="231"/>
                </a:cubicBezTo>
                <a:cubicBezTo>
                  <a:pt x="255" y="231"/>
                  <a:pt x="255" y="231"/>
                  <a:pt x="255" y="231"/>
                </a:cubicBezTo>
                <a:cubicBezTo>
                  <a:pt x="255" y="230"/>
                  <a:pt x="255" y="228"/>
                  <a:pt x="255" y="227"/>
                </a:cubicBezTo>
                <a:cubicBezTo>
                  <a:pt x="255" y="226"/>
                  <a:pt x="255" y="226"/>
                  <a:pt x="255" y="225"/>
                </a:cubicBezTo>
                <a:cubicBezTo>
                  <a:pt x="256" y="224"/>
                  <a:pt x="256" y="223"/>
                  <a:pt x="256" y="222"/>
                </a:cubicBezTo>
                <a:cubicBezTo>
                  <a:pt x="256" y="221"/>
                  <a:pt x="257" y="221"/>
                  <a:pt x="257" y="220"/>
                </a:cubicBezTo>
                <a:cubicBezTo>
                  <a:pt x="257" y="219"/>
                  <a:pt x="257" y="218"/>
                  <a:pt x="258" y="217"/>
                </a:cubicBezTo>
                <a:cubicBezTo>
                  <a:pt x="258" y="217"/>
                  <a:pt x="258" y="216"/>
                  <a:pt x="258" y="216"/>
                </a:cubicBezTo>
                <a:cubicBezTo>
                  <a:pt x="259" y="214"/>
                  <a:pt x="260" y="213"/>
                  <a:pt x="261" y="211"/>
                </a:cubicBezTo>
                <a:cubicBezTo>
                  <a:pt x="262" y="210"/>
                  <a:pt x="263" y="208"/>
                  <a:pt x="264" y="207"/>
                </a:cubicBezTo>
                <a:cubicBezTo>
                  <a:pt x="267" y="203"/>
                  <a:pt x="271" y="199"/>
                  <a:pt x="275" y="196"/>
                </a:cubicBezTo>
                <a:cubicBezTo>
                  <a:pt x="277" y="203"/>
                  <a:pt x="279" y="209"/>
                  <a:pt x="283" y="213"/>
                </a:cubicBezTo>
                <a:cubicBezTo>
                  <a:pt x="307" y="242"/>
                  <a:pt x="376" y="225"/>
                  <a:pt x="437" y="174"/>
                </a:cubicBezTo>
                <a:cubicBezTo>
                  <a:pt x="498" y="123"/>
                  <a:pt x="527" y="58"/>
                  <a:pt x="503" y="29"/>
                </a:cubicBezTo>
                <a:cubicBezTo>
                  <a:pt x="479" y="0"/>
                  <a:pt x="410" y="18"/>
                  <a:pt x="349" y="69"/>
                </a:cubicBezTo>
                <a:cubicBezTo>
                  <a:pt x="322" y="91"/>
                  <a:pt x="302" y="116"/>
                  <a:pt x="289" y="140"/>
                </a:cubicBezTo>
                <a:cubicBezTo>
                  <a:pt x="284" y="139"/>
                  <a:pt x="279" y="138"/>
                  <a:pt x="274" y="138"/>
                </a:cubicBezTo>
                <a:lnTo>
                  <a:pt x="274" y="138"/>
                </a:lnTo>
                <a:cubicBezTo>
                  <a:pt x="268" y="138"/>
                  <a:pt x="261" y="138"/>
                  <a:pt x="254" y="138"/>
                </a:cubicBezTo>
                <a:cubicBezTo>
                  <a:pt x="254" y="138"/>
                  <a:pt x="254" y="138"/>
                  <a:pt x="254" y="138"/>
                </a:cubicBezTo>
                <a:cubicBezTo>
                  <a:pt x="244" y="139"/>
                  <a:pt x="235" y="141"/>
                  <a:pt x="225" y="144"/>
                </a:cubicBezTo>
                <a:cubicBezTo>
                  <a:pt x="225" y="144"/>
                  <a:pt x="225" y="144"/>
                  <a:pt x="225" y="144"/>
                </a:cubicBezTo>
                <a:cubicBezTo>
                  <a:pt x="219" y="145"/>
                  <a:pt x="213" y="148"/>
                  <a:pt x="207" y="150"/>
                </a:cubicBezTo>
                <a:cubicBezTo>
                  <a:pt x="206" y="150"/>
                  <a:pt x="206" y="151"/>
                  <a:pt x="206" y="151"/>
                </a:cubicBezTo>
                <a:cubicBezTo>
                  <a:pt x="203" y="152"/>
                  <a:pt x="200" y="153"/>
                  <a:pt x="198" y="155"/>
                </a:cubicBezTo>
                <a:cubicBezTo>
                  <a:pt x="197" y="155"/>
                  <a:pt x="197" y="155"/>
                  <a:pt x="197" y="155"/>
                </a:cubicBezTo>
                <a:cubicBezTo>
                  <a:pt x="194" y="156"/>
                  <a:pt x="191" y="158"/>
                  <a:pt x="189" y="159"/>
                </a:cubicBezTo>
                <a:cubicBezTo>
                  <a:pt x="188" y="160"/>
                  <a:pt x="188" y="160"/>
                  <a:pt x="188" y="160"/>
                </a:cubicBezTo>
                <a:cubicBezTo>
                  <a:pt x="185" y="162"/>
                  <a:pt x="183" y="163"/>
                  <a:pt x="181" y="165"/>
                </a:cubicBezTo>
                <a:cubicBezTo>
                  <a:pt x="180" y="165"/>
                  <a:pt x="180" y="165"/>
                  <a:pt x="179" y="166"/>
                </a:cubicBezTo>
                <a:cubicBezTo>
                  <a:pt x="174" y="169"/>
                  <a:pt x="170" y="173"/>
                  <a:pt x="165" y="177"/>
                </a:cubicBezTo>
                <a:cubicBezTo>
                  <a:pt x="165" y="178"/>
                  <a:pt x="164" y="178"/>
                  <a:pt x="163" y="179"/>
                </a:cubicBezTo>
                <a:cubicBezTo>
                  <a:pt x="162" y="181"/>
                  <a:pt x="160" y="183"/>
                  <a:pt x="158" y="184"/>
                </a:cubicBezTo>
                <a:cubicBezTo>
                  <a:pt x="158" y="185"/>
                  <a:pt x="157" y="185"/>
                  <a:pt x="157" y="186"/>
                </a:cubicBezTo>
                <a:cubicBezTo>
                  <a:pt x="155" y="188"/>
                  <a:pt x="153" y="190"/>
                  <a:pt x="151" y="193"/>
                </a:cubicBezTo>
                <a:cubicBezTo>
                  <a:pt x="150" y="193"/>
                  <a:pt x="150" y="194"/>
                  <a:pt x="149" y="194"/>
                </a:cubicBezTo>
                <a:cubicBezTo>
                  <a:pt x="148" y="196"/>
                  <a:pt x="146" y="198"/>
                  <a:pt x="145" y="200"/>
                </a:cubicBezTo>
                <a:cubicBezTo>
                  <a:pt x="144" y="201"/>
                  <a:pt x="144" y="202"/>
                  <a:pt x="143" y="203"/>
                </a:cubicBezTo>
                <a:cubicBezTo>
                  <a:pt x="142" y="205"/>
                  <a:pt x="140" y="208"/>
                  <a:pt x="138" y="211"/>
                </a:cubicBezTo>
                <a:cubicBezTo>
                  <a:pt x="96" y="281"/>
                  <a:pt x="120" y="372"/>
                  <a:pt x="190" y="414"/>
                </a:cubicBezTo>
                <a:lnTo>
                  <a:pt x="181" y="430"/>
                </a:lnTo>
                <a:cubicBezTo>
                  <a:pt x="161" y="418"/>
                  <a:pt x="145" y="403"/>
                  <a:pt x="132" y="386"/>
                </a:cubicBezTo>
                <a:lnTo>
                  <a:pt x="17" y="580"/>
                </a:lnTo>
                <a:cubicBezTo>
                  <a:pt x="0" y="609"/>
                  <a:pt x="9" y="647"/>
                  <a:pt x="39" y="664"/>
                </a:cubicBezTo>
                <a:lnTo>
                  <a:pt x="44" y="667"/>
                </a:lnTo>
                <a:cubicBezTo>
                  <a:pt x="64" y="679"/>
                  <a:pt x="88" y="678"/>
                  <a:pt x="106" y="667"/>
                </a:cubicBezTo>
                <a:lnTo>
                  <a:pt x="91" y="614"/>
                </a:lnTo>
                <a:lnTo>
                  <a:pt x="158" y="595"/>
                </a:lnTo>
                <a:lnTo>
                  <a:pt x="140" y="532"/>
                </a:lnTo>
                <a:lnTo>
                  <a:pt x="204" y="519"/>
                </a:lnTo>
                <a:lnTo>
                  <a:pt x="253" y="434"/>
                </a:lnTo>
                <a:cubicBezTo>
                  <a:pt x="254" y="434"/>
                  <a:pt x="254" y="434"/>
                  <a:pt x="255" y="434"/>
                </a:cubicBezTo>
                <a:cubicBezTo>
                  <a:pt x="255" y="434"/>
                  <a:pt x="256" y="434"/>
                  <a:pt x="256" y="434"/>
                </a:cubicBezTo>
                <a:cubicBezTo>
                  <a:pt x="258" y="435"/>
                  <a:pt x="260" y="435"/>
                  <a:pt x="263" y="435"/>
                </a:cubicBezTo>
                <a:cubicBezTo>
                  <a:pt x="263" y="435"/>
                  <a:pt x="264" y="435"/>
                  <a:pt x="264" y="435"/>
                </a:cubicBezTo>
                <a:cubicBezTo>
                  <a:pt x="266" y="435"/>
                  <a:pt x="269" y="435"/>
                  <a:pt x="271" y="435"/>
                </a:cubicBezTo>
                <a:cubicBezTo>
                  <a:pt x="271" y="435"/>
                  <a:pt x="272" y="435"/>
                  <a:pt x="272" y="435"/>
                </a:cubicBezTo>
                <a:cubicBezTo>
                  <a:pt x="275" y="435"/>
                  <a:pt x="277" y="434"/>
                  <a:pt x="280" y="434"/>
                </a:cubicBezTo>
                <a:cubicBezTo>
                  <a:pt x="280" y="434"/>
                  <a:pt x="280" y="434"/>
                  <a:pt x="280" y="434"/>
                </a:cubicBezTo>
                <a:cubicBezTo>
                  <a:pt x="294" y="433"/>
                  <a:pt x="307" y="430"/>
                  <a:pt x="320" y="425"/>
                </a:cubicBezTo>
                <a:close/>
                <a:moveTo>
                  <a:pt x="301" y="198"/>
                </a:moveTo>
                <a:lnTo>
                  <a:pt x="301" y="198"/>
                </a:lnTo>
                <a:cubicBezTo>
                  <a:pt x="299" y="196"/>
                  <a:pt x="298" y="194"/>
                  <a:pt x="298" y="190"/>
                </a:cubicBezTo>
                <a:cubicBezTo>
                  <a:pt x="305" y="190"/>
                  <a:pt x="313" y="192"/>
                  <a:pt x="320" y="196"/>
                </a:cubicBezTo>
                <a:cubicBezTo>
                  <a:pt x="323" y="198"/>
                  <a:pt x="326" y="201"/>
                  <a:pt x="329" y="203"/>
                </a:cubicBezTo>
                <a:cubicBezTo>
                  <a:pt x="315" y="205"/>
                  <a:pt x="305" y="203"/>
                  <a:pt x="301" y="198"/>
                </a:cubicBezTo>
                <a:close/>
                <a:moveTo>
                  <a:pt x="364" y="87"/>
                </a:moveTo>
                <a:lnTo>
                  <a:pt x="364" y="87"/>
                </a:lnTo>
                <a:cubicBezTo>
                  <a:pt x="419" y="40"/>
                  <a:pt x="474" y="30"/>
                  <a:pt x="485" y="44"/>
                </a:cubicBezTo>
                <a:cubicBezTo>
                  <a:pt x="497" y="58"/>
                  <a:pt x="477" y="110"/>
                  <a:pt x="422" y="156"/>
                </a:cubicBezTo>
                <a:cubicBezTo>
                  <a:pt x="406" y="169"/>
                  <a:pt x="391" y="179"/>
                  <a:pt x="376" y="187"/>
                </a:cubicBezTo>
                <a:cubicBezTo>
                  <a:pt x="373" y="183"/>
                  <a:pt x="370" y="180"/>
                  <a:pt x="366" y="176"/>
                </a:cubicBezTo>
                <a:cubicBezTo>
                  <a:pt x="366" y="176"/>
                  <a:pt x="366" y="176"/>
                  <a:pt x="366" y="176"/>
                </a:cubicBezTo>
                <a:cubicBezTo>
                  <a:pt x="366" y="176"/>
                  <a:pt x="366" y="176"/>
                  <a:pt x="366" y="176"/>
                </a:cubicBezTo>
                <a:cubicBezTo>
                  <a:pt x="365" y="176"/>
                  <a:pt x="365" y="175"/>
                  <a:pt x="364" y="175"/>
                </a:cubicBezTo>
                <a:cubicBezTo>
                  <a:pt x="363" y="174"/>
                  <a:pt x="362" y="173"/>
                  <a:pt x="360" y="171"/>
                </a:cubicBezTo>
                <a:cubicBezTo>
                  <a:pt x="360" y="171"/>
                  <a:pt x="359" y="170"/>
                  <a:pt x="358" y="170"/>
                </a:cubicBezTo>
                <a:cubicBezTo>
                  <a:pt x="357" y="169"/>
                  <a:pt x="356" y="168"/>
                  <a:pt x="354" y="167"/>
                </a:cubicBezTo>
                <a:cubicBezTo>
                  <a:pt x="353" y="166"/>
                  <a:pt x="352" y="165"/>
                  <a:pt x="351" y="165"/>
                </a:cubicBezTo>
                <a:cubicBezTo>
                  <a:pt x="350" y="164"/>
                  <a:pt x="349" y="163"/>
                  <a:pt x="348" y="163"/>
                </a:cubicBezTo>
                <a:cubicBezTo>
                  <a:pt x="346" y="161"/>
                  <a:pt x="344" y="160"/>
                  <a:pt x="342" y="159"/>
                </a:cubicBezTo>
                <a:cubicBezTo>
                  <a:pt x="339" y="157"/>
                  <a:pt x="337" y="156"/>
                  <a:pt x="334" y="154"/>
                </a:cubicBezTo>
                <a:cubicBezTo>
                  <a:pt x="334" y="154"/>
                  <a:pt x="334" y="154"/>
                  <a:pt x="333" y="154"/>
                </a:cubicBezTo>
                <a:cubicBezTo>
                  <a:pt x="331" y="153"/>
                  <a:pt x="328" y="151"/>
                  <a:pt x="326" y="150"/>
                </a:cubicBezTo>
                <a:cubicBezTo>
                  <a:pt x="321" y="148"/>
                  <a:pt x="317" y="147"/>
                  <a:pt x="313" y="145"/>
                </a:cubicBezTo>
                <a:cubicBezTo>
                  <a:pt x="323" y="127"/>
                  <a:pt x="340" y="106"/>
                  <a:pt x="364" y="87"/>
                </a:cubicBezTo>
                <a:close/>
                <a:moveTo>
                  <a:pt x="37" y="592"/>
                </a:moveTo>
                <a:lnTo>
                  <a:pt x="37" y="592"/>
                </a:lnTo>
                <a:lnTo>
                  <a:pt x="125" y="444"/>
                </a:lnTo>
                <a:lnTo>
                  <a:pt x="136" y="451"/>
                </a:lnTo>
                <a:lnTo>
                  <a:pt x="41" y="613"/>
                </a:lnTo>
                <a:cubicBezTo>
                  <a:pt x="38" y="618"/>
                  <a:pt x="36" y="623"/>
                  <a:pt x="36" y="628"/>
                </a:cubicBezTo>
                <a:cubicBezTo>
                  <a:pt x="30" y="617"/>
                  <a:pt x="30" y="603"/>
                  <a:pt x="37" y="592"/>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68" name="Freeform 7"/>
          <p:cNvSpPr/>
          <p:nvPr/>
        </p:nvSpPr>
        <p:spPr>
          <a:xfrm>
            <a:off x="2490840" y="1251000"/>
            <a:ext cx="492120" cy="492120"/>
          </a:xfrm>
          <a:custGeom>
            <a:avLst/>
            <a:gdLst>
              <a:gd name="textAreaLeft" fmla="*/ 0 w 492120"/>
              <a:gd name="textAreaRight" fmla="*/ 492480 w 492120"/>
              <a:gd name="textAreaTop" fmla="*/ 0 h 492120"/>
              <a:gd name="textAreaBottom" fmla="*/ 492480 h 492120"/>
            </a:gdLst>
            <a:ahLst/>
            <a:rect l="textAreaLeft" t="textAreaTop" r="textAreaRight" b="textAreaBottom"/>
            <a:pathLst>
              <a:path w="948" h="933">
                <a:moveTo>
                  <a:pt x="848" y="697"/>
                </a:moveTo>
                <a:cubicBezTo>
                  <a:pt x="911" y="721"/>
                  <a:pt x="948" y="753"/>
                  <a:pt x="948" y="787"/>
                </a:cubicBezTo>
                <a:cubicBezTo>
                  <a:pt x="948" y="867"/>
                  <a:pt x="736" y="933"/>
                  <a:pt x="474" y="933"/>
                </a:cubicBezTo>
                <a:cubicBezTo>
                  <a:pt x="212" y="933"/>
                  <a:pt x="0" y="867"/>
                  <a:pt x="0" y="787"/>
                </a:cubicBezTo>
                <a:cubicBezTo>
                  <a:pt x="0" y="753"/>
                  <a:pt x="38" y="721"/>
                  <a:pt x="101" y="697"/>
                </a:cubicBezTo>
                <a:cubicBezTo>
                  <a:pt x="86" y="707"/>
                  <a:pt x="77" y="718"/>
                  <a:pt x="77" y="730"/>
                </a:cubicBezTo>
                <a:cubicBezTo>
                  <a:pt x="77" y="785"/>
                  <a:pt x="255" y="829"/>
                  <a:pt x="474" y="829"/>
                </a:cubicBezTo>
                <a:cubicBezTo>
                  <a:pt x="694" y="829"/>
                  <a:pt x="871" y="785"/>
                  <a:pt x="871" y="730"/>
                </a:cubicBezTo>
                <a:cubicBezTo>
                  <a:pt x="871" y="718"/>
                  <a:pt x="863" y="707"/>
                  <a:pt x="848" y="697"/>
                </a:cubicBezTo>
                <a:close/>
                <a:moveTo>
                  <a:pt x="241" y="32"/>
                </a:moveTo>
                <a:lnTo>
                  <a:pt x="241" y="32"/>
                </a:lnTo>
                <a:cubicBezTo>
                  <a:pt x="289" y="32"/>
                  <a:pt x="328" y="71"/>
                  <a:pt x="328" y="118"/>
                </a:cubicBezTo>
                <a:cubicBezTo>
                  <a:pt x="328" y="166"/>
                  <a:pt x="289" y="204"/>
                  <a:pt x="241" y="204"/>
                </a:cubicBezTo>
                <a:cubicBezTo>
                  <a:pt x="194" y="204"/>
                  <a:pt x="155" y="166"/>
                  <a:pt x="155" y="118"/>
                </a:cubicBezTo>
                <a:cubicBezTo>
                  <a:pt x="155" y="71"/>
                  <a:pt x="194" y="32"/>
                  <a:pt x="241" y="32"/>
                </a:cubicBezTo>
                <a:close/>
                <a:moveTo>
                  <a:pt x="706" y="32"/>
                </a:moveTo>
                <a:lnTo>
                  <a:pt x="706" y="32"/>
                </a:lnTo>
                <a:cubicBezTo>
                  <a:pt x="658" y="32"/>
                  <a:pt x="620" y="71"/>
                  <a:pt x="620" y="118"/>
                </a:cubicBezTo>
                <a:cubicBezTo>
                  <a:pt x="620" y="166"/>
                  <a:pt x="658" y="204"/>
                  <a:pt x="706" y="204"/>
                </a:cubicBezTo>
                <a:cubicBezTo>
                  <a:pt x="753" y="204"/>
                  <a:pt x="792" y="166"/>
                  <a:pt x="792" y="118"/>
                </a:cubicBezTo>
                <a:cubicBezTo>
                  <a:pt x="792" y="71"/>
                  <a:pt x="753" y="32"/>
                  <a:pt x="706" y="32"/>
                </a:cubicBezTo>
                <a:close/>
                <a:moveTo>
                  <a:pt x="621" y="528"/>
                </a:moveTo>
                <a:lnTo>
                  <a:pt x="621" y="528"/>
                </a:lnTo>
                <a:lnTo>
                  <a:pt x="621" y="755"/>
                </a:lnTo>
                <a:lnTo>
                  <a:pt x="681" y="755"/>
                </a:lnTo>
                <a:lnTo>
                  <a:pt x="706" y="596"/>
                </a:lnTo>
                <a:lnTo>
                  <a:pt x="730" y="755"/>
                </a:lnTo>
                <a:lnTo>
                  <a:pt x="796" y="755"/>
                </a:lnTo>
                <a:lnTo>
                  <a:pt x="796" y="503"/>
                </a:lnTo>
                <a:cubicBezTo>
                  <a:pt x="822" y="490"/>
                  <a:pt x="840" y="462"/>
                  <a:pt x="840" y="431"/>
                </a:cubicBezTo>
                <a:lnTo>
                  <a:pt x="840" y="302"/>
                </a:lnTo>
                <a:cubicBezTo>
                  <a:pt x="840" y="257"/>
                  <a:pt x="804" y="220"/>
                  <a:pt x="759" y="220"/>
                </a:cubicBezTo>
                <a:lnTo>
                  <a:pt x="658" y="220"/>
                </a:lnTo>
                <a:cubicBezTo>
                  <a:pt x="651" y="220"/>
                  <a:pt x="645" y="221"/>
                  <a:pt x="639" y="222"/>
                </a:cubicBezTo>
                <a:cubicBezTo>
                  <a:pt x="652" y="243"/>
                  <a:pt x="660" y="268"/>
                  <a:pt x="660" y="294"/>
                </a:cubicBezTo>
                <a:lnTo>
                  <a:pt x="660" y="434"/>
                </a:lnTo>
                <a:cubicBezTo>
                  <a:pt x="660" y="470"/>
                  <a:pt x="645" y="504"/>
                  <a:pt x="621" y="528"/>
                </a:cubicBezTo>
                <a:close/>
                <a:moveTo>
                  <a:pt x="476" y="0"/>
                </a:moveTo>
                <a:lnTo>
                  <a:pt x="476" y="0"/>
                </a:lnTo>
                <a:cubicBezTo>
                  <a:pt x="528" y="0"/>
                  <a:pt x="569" y="42"/>
                  <a:pt x="569" y="94"/>
                </a:cubicBezTo>
                <a:cubicBezTo>
                  <a:pt x="569" y="146"/>
                  <a:pt x="528" y="188"/>
                  <a:pt x="476" y="188"/>
                </a:cubicBezTo>
                <a:cubicBezTo>
                  <a:pt x="424" y="188"/>
                  <a:pt x="382" y="146"/>
                  <a:pt x="382" y="94"/>
                </a:cubicBezTo>
                <a:cubicBezTo>
                  <a:pt x="382" y="42"/>
                  <a:pt x="424" y="0"/>
                  <a:pt x="476" y="0"/>
                </a:cubicBezTo>
                <a:close/>
                <a:moveTo>
                  <a:pt x="568" y="513"/>
                </a:moveTo>
                <a:lnTo>
                  <a:pt x="568" y="513"/>
                </a:lnTo>
                <a:cubicBezTo>
                  <a:pt x="597" y="498"/>
                  <a:pt x="617" y="468"/>
                  <a:pt x="617" y="434"/>
                </a:cubicBezTo>
                <a:lnTo>
                  <a:pt x="617" y="294"/>
                </a:lnTo>
                <a:cubicBezTo>
                  <a:pt x="617" y="245"/>
                  <a:pt x="577" y="205"/>
                  <a:pt x="528" y="205"/>
                </a:cubicBezTo>
                <a:lnTo>
                  <a:pt x="418" y="205"/>
                </a:lnTo>
                <a:cubicBezTo>
                  <a:pt x="369" y="205"/>
                  <a:pt x="329" y="245"/>
                  <a:pt x="329" y="294"/>
                </a:cubicBezTo>
                <a:lnTo>
                  <a:pt x="329" y="434"/>
                </a:lnTo>
                <a:cubicBezTo>
                  <a:pt x="329" y="468"/>
                  <a:pt x="349" y="498"/>
                  <a:pt x="377" y="513"/>
                </a:cubicBezTo>
                <a:lnTo>
                  <a:pt x="377" y="787"/>
                </a:lnTo>
                <a:lnTo>
                  <a:pt x="449" y="787"/>
                </a:lnTo>
                <a:lnTo>
                  <a:pt x="476" y="614"/>
                </a:lnTo>
                <a:lnTo>
                  <a:pt x="502" y="787"/>
                </a:lnTo>
                <a:lnTo>
                  <a:pt x="568" y="787"/>
                </a:lnTo>
                <a:lnTo>
                  <a:pt x="568" y="513"/>
                </a:lnTo>
                <a:close/>
                <a:moveTo>
                  <a:pt x="327" y="528"/>
                </a:moveTo>
                <a:lnTo>
                  <a:pt x="327" y="528"/>
                </a:lnTo>
                <a:cubicBezTo>
                  <a:pt x="302" y="504"/>
                  <a:pt x="287" y="470"/>
                  <a:pt x="287" y="434"/>
                </a:cubicBezTo>
                <a:lnTo>
                  <a:pt x="287" y="294"/>
                </a:lnTo>
                <a:cubicBezTo>
                  <a:pt x="287" y="268"/>
                  <a:pt x="295" y="243"/>
                  <a:pt x="308" y="222"/>
                </a:cubicBezTo>
                <a:cubicBezTo>
                  <a:pt x="302" y="221"/>
                  <a:pt x="296" y="220"/>
                  <a:pt x="289" y="220"/>
                </a:cubicBezTo>
                <a:lnTo>
                  <a:pt x="189" y="220"/>
                </a:lnTo>
                <a:cubicBezTo>
                  <a:pt x="144" y="220"/>
                  <a:pt x="107" y="257"/>
                  <a:pt x="107" y="302"/>
                </a:cubicBezTo>
                <a:lnTo>
                  <a:pt x="107" y="431"/>
                </a:lnTo>
                <a:cubicBezTo>
                  <a:pt x="107" y="462"/>
                  <a:pt x="125" y="490"/>
                  <a:pt x="151" y="503"/>
                </a:cubicBezTo>
                <a:lnTo>
                  <a:pt x="151" y="755"/>
                </a:lnTo>
                <a:lnTo>
                  <a:pt x="217" y="755"/>
                </a:lnTo>
                <a:lnTo>
                  <a:pt x="242" y="596"/>
                </a:lnTo>
                <a:lnTo>
                  <a:pt x="266" y="755"/>
                </a:lnTo>
                <a:lnTo>
                  <a:pt x="327" y="755"/>
                </a:lnTo>
                <a:lnTo>
                  <a:pt x="327" y="52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69" name="Freeform 8"/>
          <p:cNvSpPr/>
          <p:nvPr/>
        </p:nvSpPr>
        <p:spPr>
          <a:xfrm>
            <a:off x="5869080" y="1306440"/>
            <a:ext cx="449280" cy="531720"/>
          </a:xfrm>
          <a:custGeom>
            <a:avLst/>
            <a:gdLst>
              <a:gd name="textAreaLeft" fmla="*/ 0 w 449280"/>
              <a:gd name="textAreaRight" fmla="*/ 449640 w 449280"/>
              <a:gd name="textAreaTop" fmla="*/ 0 h 531720"/>
              <a:gd name="textAreaBottom" fmla="*/ 532080 h 531720"/>
            </a:gdLst>
            <a:ahLst/>
            <a:rect l="textAreaLeft" t="textAreaTop" r="textAreaRight" b="textAreaBottom"/>
            <a:pathLst>
              <a:path w="865" h="1009">
                <a:moveTo>
                  <a:pt x="121" y="572"/>
                </a:moveTo>
                <a:cubicBezTo>
                  <a:pt x="154" y="572"/>
                  <a:pt x="185" y="571"/>
                  <a:pt x="213" y="571"/>
                </a:cubicBezTo>
                <a:cubicBezTo>
                  <a:pt x="240" y="574"/>
                  <a:pt x="262" y="567"/>
                  <a:pt x="277" y="550"/>
                </a:cubicBezTo>
                <a:lnTo>
                  <a:pt x="393" y="793"/>
                </a:lnTo>
                <a:lnTo>
                  <a:pt x="420" y="640"/>
                </a:lnTo>
                <a:lnTo>
                  <a:pt x="401" y="631"/>
                </a:lnTo>
                <a:lnTo>
                  <a:pt x="401" y="610"/>
                </a:lnTo>
                <a:lnTo>
                  <a:pt x="485" y="610"/>
                </a:lnTo>
                <a:lnTo>
                  <a:pt x="486" y="631"/>
                </a:lnTo>
                <a:lnTo>
                  <a:pt x="466" y="640"/>
                </a:lnTo>
                <a:lnTo>
                  <a:pt x="493" y="787"/>
                </a:lnTo>
                <a:lnTo>
                  <a:pt x="592" y="559"/>
                </a:lnTo>
                <a:cubicBezTo>
                  <a:pt x="607" y="567"/>
                  <a:pt x="627" y="569"/>
                  <a:pt x="650" y="567"/>
                </a:cubicBezTo>
                <a:cubicBezTo>
                  <a:pt x="677" y="567"/>
                  <a:pt x="705" y="567"/>
                  <a:pt x="736" y="567"/>
                </a:cubicBezTo>
                <a:cubicBezTo>
                  <a:pt x="815" y="641"/>
                  <a:pt x="865" y="818"/>
                  <a:pt x="853" y="932"/>
                </a:cubicBezTo>
                <a:cubicBezTo>
                  <a:pt x="828" y="949"/>
                  <a:pt x="786" y="963"/>
                  <a:pt x="734" y="974"/>
                </a:cubicBezTo>
                <a:lnTo>
                  <a:pt x="717" y="919"/>
                </a:lnTo>
                <a:lnTo>
                  <a:pt x="680" y="984"/>
                </a:lnTo>
                <a:cubicBezTo>
                  <a:pt x="527" y="1007"/>
                  <a:pt x="314" y="1009"/>
                  <a:pt x="165" y="987"/>
                </a:cubicBezTo>
                <a:lnTo>
                  <a:pt x="127" y="919"/>
                </a:lnTo>
                <a:lnTo>
                  <a:pt x="109" y="977"/>
                </a:lnTo>
                <a:cubicBezTo>
                  <a:pt x="58" y="966"/>
                  <a:pt x="19" y="951"/>
                  <a:pt x="0" y="932"/>
                </a:cubicBezTo>
                <a:cubicBezTo>
                  <a:pt x="2" y="832"/>
                  <a:pt x="20" y="659"/>
                  <a:pt x="121" y="572"/>
                </a:cubicBezTo>
                <a:close/>
                <a:moveTo>
                  <a:pt x="249" y="390"/>
                </a:moveTo>
                <a:lnTo>
                  <a:pt x="249" y="390"/>
                </a:lnTo>
                <a:cubicBezTo>
                  <a:pt x="236" y="383"/>
                  <a:pt x="226" y="371"/>
                  <a:pt x="219" y="355"/>
                </a:cubicBezTo>
                <a:cubicBezTo>
                  <a:pt x="212" y="338"/>
                  <a:pt x="209" y="315"/>
                  <a:pt x="209" y="288"/>
                </a:cubicBezTo>
                <a:lnTo>
                  <a:pt x="209" y="280"/>
                </a:lnTo>
                <a:lnTo>
                  <a:pt x="216" y="275"/>
                </a:lnTo>
                <a:cubicBezTo>
                  <a:pt x="218" y="274"/>
                  <a:pt x="219" y="273"/>
                  <a:pt x="220" y="272"/>
                </a:cubicBezTo>
                <a:cubicBezTo>
                  <a:pt x="205" y="158"/>
                  <a:pt x="218" y="105"/>
                  <a:pt x="268" y="64"/>
                </a:cubicBezTo>
                <a:cubicBezTo>
                  <a:pt x="345" y="0"/>
                  <a:pt x="492" y="0"/>
                  <a:pt x="571" y="57"/>
                </a:cubicBezTo>
                <a:cubicBezTo>
                  <a:pt x="624" y="96"/>
                  <a:pt x="643" y="166"/>
                  <a:pt x="629" y="270"/>
                </a:cubicBezTo>
                <a:cubicBezTo>
                  <a:pt x="632" y="271"/>
                  <a:pt x="635" y="273"/>
                  <a:pt x="637" y="275"/>
                </a:cubicBezTo>
                <a:lnTo>
                  <a:pt x="644" y="280"/>
                </a:lnTo>
                <a:lnTo>
                  <a:pt x="645" y="288"/>
                </a:lnTo>
                <a:cubicBezTo>
                  <a:pt x="645" y="315"/>
                  <a:pt x="642" y="337"/>
                  <a:pt x="635" y="354"/>
                </a:cubicBezTo>
                <a:cubicBezTo>
                  <a:pt x="628" y="370"/>
                  <a:pt x="619" y="382"/>
                  <a:pt x="606" y="389"/>
                </a:cubicBezTo>
                <a:cubicBezTo>
                  <a:pt x="585" y="456"/>
                  <a:pt x="515" y="528"/>
                  <a:pt x="443" y="536"/>
                </a:cubicBezTo>
                <a:cubicBezTo>
                  <a:pt x="430" y="537"/>
                  <a:pt x="415" y="537"/>
                  <a:pt x="403" y="532"/>
                </a:cubicBezTo>
                <a:cubicBezTo>
                  <a:pt x="324" y="504"/>
                  <a:pt x="274" y="472"/>
                  <a:pt x="249" y="390"/>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70" name="Freeform 9"/>
          <p:cNvSpPr/>
          <p:nvPr/>
        </p:nvSpPr>
        <p:spPr>
          <a:xfrm>
            <a:off x="6862680" y="1211400"/>
            <a:ext cx="488880" cy="635040"/>
          </a:xfrm>
          <a:custGeom>
            <a:avLst/>
            <a:gdLst>
              <a:gd name="textAreaLeft" fmla="*/ 0 w 488880"/>
              <a:gd name="textAreaRight" fmla="*/ 489240 w 488880"/>
              <a:gd name="textAreaTop" fmla="*/ 0 h 635040"/>
              <a:gd name="textAreaBottom" fmla="*/ 635400 h 635040"/>
            </a:gdLst>
            <a:ahLst/>
            <a:rect l="textAreaLeft" t="textAreaTop" r="textAreaRight" b="textAreaBottom"/>
            <a:pathLst>
              <a:path w="941" h="1206">
                <a:moveTo>
                  <a:pt x="700" y="150"/>
                </a:moveTo>
                <a:cubicBezTo>
                  <a:pt x="713" y="294"/>
                  <a:pt x="725" y="438"/>
                  <a:pt x="737" y="582"/>
                </a:cubicBezTo>
                <a:cubicBezTo>
                  <a:pt x="719" y="614"/>
                  <a:pt x="652" y="635"/>
                  <a:pt x="571" y="644"/>
                </a:cubicBezTo>
                <a:lnTo>
                  <a:pt x="571" y="725"/>
                </a:lnTo>
                <a:cubicBezTo>
                  <a:pt x="650" y="733"/>
                  <a:pt x="717" y="751"/>
                  <a:pt x="739" y="778"/>
                </a:cubicBezTo>
                <a:lnTo>
                  <a:pt x="791" y="759"/>
                </a:lnTo>
                <a:lnTo>
                  <a:pt x="823" y="577"/>
                </a:lnTo>
                <a:lnTo>
                  <a:pt x="796" y="577"/>
                </a:lnTo>
                <a:lnTo>
                  <a:pt x="776" y="497"/>
                </a:lnTo>
                <a:lnTo>
                  <a:pt x="941" y="497"/>
                </a:lnTo>
                <a:lnTo>
                  <a:pt x="920" y="577"/>
                </a:lnTo>
                <a:lnTo>
                  <a:pt x="886" y="577"/>
                </a:lnTo>
                <a:lnTo>
                  <a:pt x="848" y="787"/>
                </a:lnTo>
                <a:lnTo>
                  <a:pt x="845" y="805"/>
                </a:lnTo>
                <a:lnTo>
                  <a:pt x="828" y="811"/>
                </a:lnTo>
                <a:lnTo>
                  <a:pt x="748" y="840"/>
                </a:lnTo>
                <a:lnTo>
                  <a:pt x="748" y="852"/>
                </a:lnTo>
                <a:lnTo>
                  <a:pt x="524" y="852"/>
                </a:lnTo>
                <a:lnTo>
                  <a:pt x="524" y="1026"/>
                </a:lnTo>
                <a:cubicBezTo>
                  <a:pt x="597" y="1032"/>
                  <a:pt x="670" y="1050"/>
                  <a:pt x="743" y="1079"/>
                </a:cubicBezTo>
                <a:lnTo>
                  <a:pt x="737" y="1095"/>
                </a:lnTo>
                <a:cubicBezTo>
                  <a:pt x="762" y="1100"/>
                  <a:pt x="782" y="1123"/>
                  <a:pt x="782" y="1150"/>
                </a:cubicBezTo>
                <a:cubicBezTo>
                  <a:pt x="782" y="1181"/>
                  <a:pt x="757" y="1206"/>
                  <a:pt x="726" y="1206"/>
                </a:cubicBezTo>
                <a:cubicBezTo>
                  <a:pt x="695" y="1206"/>
                  <a:pt x="670" y="1181"/>
                  <a:pt x="670" y="1150"/>
                </a:cubicBezTo>
                <a:cubicBezTo>
                  <a:pt x="670" y="1135"/>
                  <a:pt x="676" y="1121"/>
                  <a:pt x="687" y="1111"/>
                </a:cubicBezTo>
                <a:cubicBezTo>
                  <a:pt x="627" y="1090"/>
                  <a:pt x="567" y="1077"/>
                  <a:pt x="507" y="1074"/>
                </a:cubicBezTo>
                <a:lnTo>
                  <a:pt x="510" y="1101"/>
                </a:lnTo>
                <a:cubicBezTo>
                  <a:pt x="528" y="1110"/>
                  <a:pt x="540" y="1129"/>
                  <a:pt x="540" y="1150"/>
                </a:cubicBezTo>
                <a:cubicBezTo>
                  <a:pt x="540" y="1181"/>
                  <a:pt x="515" y="1206"/>
                  <a:pt x="484" y="1206"/>
                </a:cubicBezTo>
                <a:cubicBezTo>
                  <a:pt x="454" y="1206"/>
                  <a:pt x="429" y="1181"/>
                  <a:pt x="429" y="1150"/>
                </a:cubicBezTo>
                <a:cubicBezTo>
                  <a:pt x="429" y="1131"/>
                  <a:pt x="439" y="1113"/>
                  <a:pt x="454" y="1103"/>
                </a:cubicBezTo>
                <a:lnTo>
                  <a:pt x="452" y="1072"/>
                </a:lnTo>
                <a:cubicBezTo>
                  <a:pt x="391" y="1074"/>
                  <a:pt x="329" y="1085"/>
                  <a:pt x="268" y="1107"/>
                </a:cubicBezTo>
                <a:cubicBezTo>
                  <a:pt x="280" y="1118"/>
                  <a:pt x="288" y="1133"/>
                  <a:pt x="288" y="1150"/>
                </a:cubicBezTo>
                <a:cubicBezTo>
                  <a:pt x="288" y="1181"/>
                  <a:pt x="263" y="1206"/>
                  <a:pt x="232" y="1206"/>
                </a:cubicBezTo>
                <a:cubicBezTo>
                  <a:pt x="201" y="1206"/>
                  <a:pt x="176" y="1181"/>
                  <a:pt x="176" y="1150"/>
                </a:cubicBezTo>
                <a:cubicBezTo>
                  <a:pt x="176" y="1126"/>
                  <a:pt x="192" y="1105"/>
                  <a:pt x="213" y="1098"/>
                </a:cubicBezTo>
                <a:lnTo>
                  <a:pt x="206" y="1079"/>
                </a:lnTo>
                <a:cubicBezTo>
                  <a:pt x="274" y="1049"/>
                  <a:pt x="342" y="1032"/>
                  <a:pt x="411" y="1026"/>
                </a:cubicBezTo>
                <a:lnTo>
                  <a:pt x="411" y="852"/>
                </a:lnTo>
                <a:lnTo>
                  <a:pt x="182" y="852"/>
                </a:lnTo>
                <a:lnTo>
                  <a:pt x="182" y="836"/>
                </a:lnTo>
                <a:lnTo>
                  <a:pt x="113" y="811"/>
                </a:lnTo>
                <a:lnTo>
                  <a:pt x="97" y="805"/>
                </a:lnTo>
                <a:lnTo>
                  <a:pt x="93" y="787"/>
                </a:lnTo>
                <a:lnTo>
                  <a:pt x="56" y="577"/>
                </a:lnTo>
                <a:lnTo>
                  <a:pt x="21" y="577"/>
                </a:lnTo>
                <a:lnTo>
                  <a:pt x="0" y="497"/>
                </a:lnTo>
                <a:lnTo>
                  <a:pt x="166" y="497"/>
                </a:lnTo>
                <a:lnTo>
                  <a:pt x="145" y="577"/>
                </a:lnTo>
                <a:lnTo>
                  <a:pt x="118" y="577"/>
                </a:lnTo>
                <a:lnTo>
                  <a:pt x="151" y="759"/>
                </a:lnTo>
                <a:lnTo>
                  <a:pt x="194" y="775"/>
                </a:lnTo>
                <a:cubicBezTo>
                  <a:pt x="221" y="748"/>
                  <a:pt x="292" y="731"/>
                  <a:pt x="375" y="724"/>
                </a:cubicBezTo>
                <a:lnTo>
                  <a:pt x="375" y="646"/>
                </a:lnTo>
                <a:cubicBezTo>
                  <a:pt x="285" y="638"/>
                  <a:pt x="211" y="616"/>
                  <a:pt x="199" y="582"/>
                </a:cubicBezTo>
                <a:cubicBezTo>
                  <a:pt x="212" y="438"/>
                  <a:pt x="224" y="294"/>
                  <a:pt x="236" y="150"/>
                </a:cubicBezTo>
                <a:cubicBezTo>
                  <a:pt x="260" y="7"/>
                  <a:pt x="666" y="0"/>
                  <a:pt x="700" y="150"/>
                </a:cubicBezTo>
                <a:close/>
                <a:moveTo>
                  <a:pt x="352" y="198"/>
                </a:moveTo>
                <a:lnTo>
                  <a:pt x="586" y="198"/>
                </a:lnTo>
                <a:lnTo>
                  <a:pt x="586" y="229"/>
                </a:lnTo>
                <a:lnTo>
                  <a:pt x="352" y="229"/>
                </a:lnTo>
                <a:lnTo>
                  <a:pt x="352" y="198"/>
                </a:lnTo>
                <a:close/>
                <a:moveTo>
                  <a:pt x="340" y="323"/>
                </a:moveTo>
                <a:lnTo>
                  <a:pt x="597" y="323"/>
                </a:lnTo>
                <a:lnTo>
                  <a:pt x="597" y="354"/>
                </a:lnTo>
                <a:lnTo>
                  <a:pt x="340" y="354"/>
                </a:lnTo>
                <a:lnTo>
                  <a:pt x="340" y="323"/>
                </a:lnTo>
                <a:close/>
                <a:moveTo>
                  <a:pt x="328" y="454"/>
                </a:moveTo>
                <a:lnTo>
                  <a:pt x="609" y="454"/>
                </a:lnTo>
                <a:lnTo>
                  <a:pt x="609" y="484"/>
                </a:lnTo>
                <a:lnTo>
                  <a:pt x="328" y="484"/>
                </a:lnTo>
                <a:lnTo>
                  <a:pt x="328" y="454"/>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71" name="Freeform 10"/>
          <p:cNvSpPr/>
          <p:nvPr/>
        </p:nvSpPr>
        <p:spPr>
          <a:xfrm>
            <a:off x="1119240" y="1211400"/>
            <a:ext cx="657000" cy="703080"/>
          </a:xfrm>
          <a:custGeom>
            <a:avLst/>
            <a:gdLst>
              <a:gd name="textAreaLeft" fmla="*/ 0 w 657000"/>
              <a:gd name="textAreaRight" fmla="*/ 657360 w 657000"/>
              <a:gd name="textAreaTop" fmla="*/ 0 h 703080"/>
              <a:gd name="textAreaBottom" fmla="*/ 703440 h 703080"/>
            </a:gdLst>
            <a:ahLst/>
            <a:rect l="textAreaLeft" t="textAreaTop" r="textAreaRight" b="textAreaBottom"/>
            <a:pathLst>
              <a:path w="920" h="968">
                <a:moveTo>
                  <a:pt x="517" y="164"/>
                </a:moveTo>
                <a:cubicBezTo>
                  <a:pt x="532" y="169"/>
                  <a:pt x="547" y="174"/>
                  <a:pt x="561" y="180"/>
                </a:cubicBezTo>
                <a:cubicBezTo>
                  <a:pt x="637" y="212"/>
                  <a:pt x="686" y="262"/>
                  <a:pt x="712" y="322"/>
                </a:cubicBezTo>
                <a:cubicBezTo>
                  <a:pt x="738" y="381"/>
                  <a:pt x="740" y="447"/>
                  <a:pt x="723" y="513"/>
                </a:cubicBezTo>
                <a:cubicBezTo>
                  <a:pt x="720" y="528"/>
                  <a:pt x="715" y="543"/>
                  <a:pt x="709" y="558"/>
                </a:cubicBezTo>
                <a:lnTo>
                  <a:pt x="630" y="533"/>
                </a:lnTo>
                <a:cubicBezTo>
                  <a:pt x="636" y="520"/>
                  <a:pt x="640" y="507"/>
                  <a:pt x="644" y="493"/>
                </a:cubicBezTo>
                <a:cubicBezTo>
                  <a:pt x="656" y="445"/>
                  <a:pt x="654" y="396"/>
                  <a:pt x="636" y="355"/>
                </a:cubicBezTo>
                <a:cubicBezTo>
                  <a:pt x="619" y="314"/>
                  <a:pt x="584" y="279"/>
                  <a:pt x="529" y="256"/>
                </a:cubicBezTo>
                <a:cubicBezTo>
                  <a:pt x="518" y="251"/>
                  <a:pt x="505" y="247"/>
                  <a:pt x="492" y="243"/>
                </a:cubicBezTo>
                <a:lnTo>
                  <a:pt x="517" y="164"/>
                </a:lnTo>
                <a:close/>
                <a:moveTo>
                  <a:pt x="604" y="892"/>
                </a:moveTo>
                <a:lnTo>
                  <a:pt x="604" y="892"/>
                </a:lnTo>
                <a:lnTo>
                  <a:pt x="650" y="868"/>
                </a:lnTo>
                <a:cubicBezTo>
                  <a:pt x="624" y="749"/>
                  <a:pt x="513" y="612"/>
                  <a:pt x="489" y="605"/>
                </a:cubicBezTo>
                <a:lnTo>
                  <a:pt x="465" y="618"/>
                </a:lnTo>
                <a:lnTo>
                  <a:pt x="441" y="630"/>
                </a:lnTo>
                <a:lnTo>
                  <a:pt x="405" y="648"/>
                </a:lnTo>
                <a:lnTo>
                  <a:pt x="398" y="652"/>
                </a:lnTo>
                <a:lnTo>
                  <a:pt x="342" y="681"/>
                </a:lnTo>
                <a:cubicBezTo>
                  <a:pt x="264" y="563"/>
                  <a:pt x="250" y="522"/>
                  <a:pt x="199" y="386"/>
                </a:cubicBezTo>
                <a:lnTo>
                  <a:pt x="248" y="361"/>
                </a:lnTo>
                <a:lnTo>
                  <a:pt x="319" y="325"/>
                </a:lnTo>
                <a:lnTo>
                  <a:pt x="340" y="314"/>
                </a:lnTo>
                <a:cubicBezTo>
                  <a:pt x="350" y="271"/>
                  <a:pt x="278" y="75"/>
                  <a:pt x="224" y="29"/>
                </a:cubicBezTo>
                <a:lnTo>
                  <a:pt x="183" y="50"/>
                </a:lnTo>
                <a:lnTo>
                  <a:pt x="146" y="68"/>
                </a:lnTo>
                <a:lnTo>
                  <a:pt x="125" y="79"/>
                </a:lnTo>
                <a:lnTo>
                  <a:pt x="104" y="90"/>
                </a:lnTo>
                <a:cubicBezTo>
                  <a:pt x="32" y="128"/>
                  <a:pt x="0" y="178"/>
                  <a:pt x="8" y="239"/>
                </a:cubicBezTo>
                <a:lnTo>
                  <a:pt x="9" y="242"/>
                </a:lnTo>
                <a:lnTo>
                  <a:pt x="9" y="242"/>
                </a:lnTo>
                <a:cubicBezTo>
                  <a:pt x="61" y="510"/>
                  <a:pt x="164" y="723"/>
                  <a:pt x="348" y="922"/>
                </a:cubicBezTo>
                <a:cubicBezTo>
                  <a:pt x="392" y="965"/>
                  <a:pt x="451" y="968"/>
                  <a:pt x="525" y="932"/>
                </a:cubicBezTo>
                <a:lnTo>
                  <a:pt x="553" y="918"/>
                </a:lnTo>
                <a:lnTo>
                  <a:pt x="604" y="892"/>
                </a:lnTo>
                <a:close/>
                <a:moveTo>
                  <a:pt x="500" y="361"/>
                </a:moveTo>
                <a:lnTo>
                  <a:pt x="500" y="361"/>
                </a:lnTo>
                <a:cubicBezTo>
                  <a:pt x="459" y="348"/>
                  <a:pt x="416" y="371"/>
                  <a:pt x="403" y="411"/>
                </a:cubicBezTo>
                <a:cubicBezTo>
                  <a:pt x="391" y="451"/>
                  <a:pt x="413" y="495"/>
                  <a:pt x="453" y="508"/>
                </a:cubicBezTo>
                <a:cubicBezTo>
                  <a:pt x="494" y="520"/>
                  <a:pt x="537" y="498"/>
                  <a:pt x="550" y="457"/>
                </a:cubicBezTo>
                <a:cubicBezTo>
                  <a:pt x="563" y="417"/>
                  <a:pt x="541" y="374"/>
                  <a:pt x="500" y="361"/>
                </a:cubicBezTo>
                <a:close/>
                <a:moveTo>
                  <a:pt x="569" y="0"/>
                </a:moveTo>
                <a:lnTo>
                  <a:pt x="569" y="0"/>
                </a:lnTo>
                <a:lnTo>
                  <a:pt x="544" y="78"/>
                </a:lnTo>
                <a:cubicBezTo>
                  <a:pt x="560" y="82"/>
                  <a:pt x="575" y="87"/>
                  <a:pt x="590" y="92"/>
                </a:cubicBezTo>
                <a:cubicBezTo>
                  <a:pt x="668" y="122"/>
                  <a:pt x="734" y="178"/>
                  <a:pt x="776" y="251"/>
                </a:cubicBezTo>
                <a:cubicBezTo>
                  <a:pt x="818" y="325"/>
                  <a:pt x="835" y="417"/>
                  <a:pt x="813" y="519"/>
                </a:cubicBezTo>
                <a:cubicBezTo>
                  <a:pt x="808" y="541"/>
                  <a:pt x="802" y="562"/>
                  <a:pt x="794" y="585"/>
                </a:cubicBezTo>
                <a:lnTo>
                  <a:pt x="873" y="610"/>
                </a:lnTo>
                <a:cubicBezTo>
                  <a:pt x="881" y="585"/>
                  <a:pt x="888" y="561"/>
                  <a:pt x="893" y="537"/>
                </a:cubicBezTo>
                <a:cubicBezTo>
                  <a:pt x="920" y="413"/>
                  <a:pt x="899" y="301"/>
                  <a:pt x="848" y="210"/>
                </a:cubicBezTo>
                <a:cubicBezTo>
                  <a:pt x="796" y="120"/>
                  <a:pt x="715" y="51"/>
                  <a:pt x="619" y="15"/>
                </a:cubicBezTo>
                <a:cubicBezTo>
                  <a:pt x="603" y="9"/>
                  <a:pt x="586" y="4"/>
                  <a:pt x="569" y="0"/>
                </a:cubicBez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72"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微软雅黑"/>
                <a:ea typeface="微软雅黑"/>
              </a:rPr>
              <a:t>备用图标</a:t>
            </a:r>
            <a:endParaRPr b="0" lang="en-US" sz="2800" spc="-1" strike="noStrike">
              <a:solidFill>
                <a:srgbClr val="54a0d8"/>
              </a:solidFill>
              <a:latin typeface="Arial"/>
            </a:endParaRPr>
          </a:p>
        </p:txBody>
      </p:sp>
      <p:sp>
        <p:nvSpPr>
          <p:cNvPr id="1373"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1374" name="直接连接符 128"/>
          <p:cNvSpPr/>
          <p:nvPr/>
        </p:nvSpPr>
        <p:spPr>
          <a:xfrm>
            <a:off x="1258920" y="598320"/>
            <a:ext cx="894384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任意多边形 2"/>
          <p:cNvSpPr/>
          <p:nvPr/>
        </p:nvSpPr>
        <p:spPr>
          <a:xfrm>
            <a:off x="2246400" y="2946240"/>
            <a:ext cx="596880" cy="657360"/>
          </a:xfrm>
          <a:custGeom>
            <a:avLst/>
            <a:gdLst/>
            <a:ahLst/>
            <a:rect l="l" t="t" r="r" b="b"/>
            <a:pathLst>
              <a:path w="576448" h="576263">
                <a:moveTo>
                  <a:pt x="0" y="0"/>
                </a:moveTo>
                <a:lnTo>
                  <a:pt x="575933" y="576263"/>
                </a:lnTo>
                <a:cubicBezTo>
                  <a:pt x="577576" y="384175"/>
                  <a:pt x="574620" y="192088"/>
                  <a:pt x="576263" y="0"/>
                </a:cubicBezTo>
                <a:lnTo>
                  <a:pt x="0" y="0"/>
                </a:lnTo>
                <a:close/>
              </a:path>
            </a:pathLst>
          </a:custGeom>
          <a:solidFill>
            <a:srgbClr val="619428"/>
          </a:solidFill>
          <a:ln w="0">
            <a:noFill/>
          </a:ln>
        </p:spPr>
        <p:style>
          <a:lnRef idx="0"/>
          <a:fillRef idx="0"/>
          <a:effectRef idx="0"/>
          <a:fontRef idx="minor"/>
        </p:style>
        <p:txBody>
          <a:bodyPr lIns="90000" rIns="90000" tIns="46800" bIns="46800" anchor="ctr">
            <a:noAutofit/>
          </a:bodyPr>
          <a:p>
            <a:endParaRPr b="0" lang="en-US" sz="1800" spc="-1" strike="noStrike">
              <a:solidFill>
                <a:srgbClr val="54a0d8"/>
              </a:solidFill>
              <a:latin typeface="Arial"/>
            </a:endParaRPr>
          </a:p>
        </p:txBody>
      </p:sp>
      <p:sp>
        <p:nvSpPr>
          <p:cNvPr id="1376" name="矩形 3"/>
          <p:cNvSpPr/>
          <p:nvPr/>
        </p:nvSpPr>
        <p:spPr>
          <a:xfrm>
            <a:off x="2835360" y="2949480"/>
            <a:ext cx="9359640" cy="657360"/>
          </a:xfrm>
          <a:prstGeom prst="rect">
            <a:avLst/>
          </a:prstGeom>
          <a:solidFill>
            <a:srgbClr val="92d050"/>
          </a:solidFill>
          <a:ln w="0">
            <a:noFill/>
          </a:ln>
        </p:spPr>
        <p:style>
          <a:lnRef idx="0"/>
          <a:fillRef idx="0"/>
          <a:effectRef idx="0"/>
          <a:fontRef idx="minor"/>
        </p:style>
        <p:txBody>
          <a:bodyPr lIns="180000" rIns="18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www.ypppt.com</a:t>
            </a:r>
            <a:endParaRPr b="0" lang="en-US" sz="2800" spc="-1" strike="noStrike">
              <a:solidFill>
                <a:srgbClr val="54a0d8"/>
              </a:solidFill>
              <a:latin typeface="Arial"/>
            </a:endParaRPr>
          </a:p>
        </p:txBody>
      </p:sp>
      <p:sp>
        <p:nvSpPr>
          <p:cNvPr id="1377" name="矩形 6"/>
          <p:cNvSpPr/>
          <p:nvPr/>
        </p:nvSpPr>
        <p:spPr>
          <a:xfrm>
            <a:off x="3240" y="2182680"/>
            <a:ext cx="9312120" cy="774720"/>
          </a:xfrm>
          <a:prstGeom prst="rect">
            <a:avLst/>
          </a:prstGeom>
          <a:solidFill>
            <a:srgbClr val="00b0f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                   </a:t>
            </a:r>
            <a:r>
              <a:rPr b="0" lang="zh-CN" sz="2800" spc="-1" strike="noStrike">
                <a:solidFill>
                  <a:srgbClr val="ffffff"/>
                </a:solidFill>
                <a:latin typeface="微软雅黑"/>
                <a:ea typeface="微软雅黑"/>
              </a:rPr>
              <a:t>更多精品</a:t>
            </a:r>
            <a:r>
              <a:rPr b="0" lang="en-US" sz="2800" spc="-1" strike="noStrike">
                <a:solidFill>
                  <a:srgbClr val="ffffff"/>
                </a:solidFill>
                <a:latin typeface="微软雅黑"/>
                <a:ea typeface="微软雅黑"/>
              </a:rPr>
              <a:t>PPT</a:t>
            </a:r>
            <a:r>
              <a:rPr b="0" lang="zh-CN" sz="2800" spc="-1" strike="noStrike">
                <a:solidFill>
                  <a:srgbClr val="ffffff"/>
                </a:solidFill>
                <a:latin typeface="微软雅黑"/>
                <a:ea typeface="微软雅黑"/>
              </a:rPr>
              <a:t>资源尽在</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优品</a:t>
            </a:r>
            <a:r>
              <a:rPr b="0" lang="en-US" sz="2800" spc="-1" strike="noStrike">
                <a:solidFill>
                  <a:srgbClr val="ffffff"/>
                </a:solidFill>
                <a:latin typeface="微软雅黑"/>
                <a:ea typeface="微软雅黑"/>
              </a:rPr>
              <a:t>PPT</a:t>
            </a:r>
            <a:r>
              <a:rPr b="0" lang="zh-CN" sz="2800" spc="-1" strike="noStrike">
                <a:solidFill>
                  <a:srgbClr val="ffffff"/>
                </a:solidFill>
                <a:latin typeface="微软雅黑"/>
                <a:ea typeface="微软雅黑"/>
              </a:rPr>
              <a:t>！</a:t>
            </a:r>
            <a:endParaRPr b="0" lang="en-US" sz="2800" spc="-1" strike="noStrike">
              <a:solidFill>
                <a:srgbClr val="54a0d8"/>
              </a:solidFill>
              <a:latin typeface="Arial"/>
            </a:endParaRPr>
          </a:p>
        </p:txBody>
      </p:sp>
      <p:sp>
        <p:nvSpPr>
          <p:cNvPr id="1378" name="直角三角形 5"/>
          <p:cNvSpPr/>
          <p:nvPr/>
        </p:nvSpPr>
        <p:spPr>
          <a:xfrm>
            <a:off x="9315360" y="2178000"/>
            <a:ext cx="854280" cy="779400"/>
          </a:xfrm>
          <a:prstGeom prst="rtTriangle">
            <a:avLst/>
          </a:prstGeom>
          <a:solidFill>
            <a:srgbClr val="007c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1379" name="矩形 11"/>
          <p:cNvSpPr/>
          <p:nvPr/>
        </p:nvSpPr>
        <p:spPr>
          <a:xfrm>
            <a:off x="2584440" y="3921120"/>
            <a:ext cx="6907320" cy="1692360"/>
          </a:xfrm>
          <a:prstGeom prst="rect">
            <a:avLst/>
          </a:prstGeom>
          <a:noFill/>
          <a:ln w="0">
            <a:noFill/>
          </a:ln>
        </p:spPr>
        <p:style>
          <a:lnRef idx="0"/>
          <a:fillRef idx="0"/>
          <a:effectRef idx="0"/>
          <a:fontRef idx="minor"/>
        </p:style>
        <p:txBody>
          <a:bodyPr lIns="90000" rIns="90000" tIns="46800" bIns="4680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微软雅黑"/>
                <a:ea typeface="微软雅黑"/>
              </a:rPr>
              <a:t>PPT</a:t>
            </a:r>
            <a:r>
              <a:rPr b="0" lang="zh-CN" sz="1200" spc="-1" strike="noStrike">
                <a:solidFill>
                  <a:srgbClr val="4a452a"/>
                </a:solidFill>
                <a:latin typeface="微软雅黑"/>
                <a:ea typeface="微软雅黑"/>
              </a:rPr>
              <a:t>模板下载：</a:t>
            </a:r>
            <a:r>
              <a:rPr b="0" lang="en-US" sz="1200" spc="-1" strike="noStrike">
                <a:solidFill>
                  <a:srgbClr val="4a452a"/>
                </a:solidFill>
                <a:latin typeface="微软雅黑"/>
                <a:ea typeface="微软雅黑"/>
              </a:rPr>
              <a:t>www.ypppt.com/moban/         </a:t>
            </a:r>
            <a:r>
              <a:rPr b="0" lang="zh-CN" sz="1200" spc="-1" strike="noStrike">
                <a:solidFill>
                  <a:srgbClr val="4a452a"/>
                </a:solidFill>
                <a:latin typeface="微软雅黑"/>
                <a:ea typeface="微软雅黑"/>
              </a:rPr>
              <a:t>节日</a:t>
            </a:r>
            <a:r>
              <a:rPr b="0" lang="en-US" sz="1200" spc="-1" strike="noStrike">
                <a:solidFill>
                  <a:srgbClr val="4a452a"/>
                </a:solidFill>
                <a:latin typeface="微软雅黑"/>
                <a:ea typeface="微软雅黑"/>
              </a:rPr>
              <a:t>PPT</a:t>
            </a:r>
            <a:r>
              <a:rPr b="0" lang="zh-CN" sz="1200" spc="-1" strike="noStrike">
                <a:solidFill>
                  <a:srgbClr val="4a452a"/>
                </a:solidFill>
                <a:latin typeface="微软雅黑"/>
                <a:ea typeface="微软雅黑"/>
              </a:rPr>
              <a:t>模板：</a:t>
            </a:r>
            <a:r>
              <a:rPr b="0" lang="en-US" sz="1200" spc="-1" strike="noStrike">
                <a:solidFill>
                  <a:srgbClr val="4a452a"/>
                </a:solidFill>
                <a:latin typeface="微软雅黑"/>
                <a:ea typeface="微软雅黑"/>
              </a:rPr>
              <a:t>www.ypppt.com/jieri/</a:t>
            </a:r>
            <a:endParaRPr b="0" lang="en-US" sz="1200" spc="-1" strike="noStrike">
              <a:solidFill>
                <a:srgbClr val="54a0d8"/>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微软雅黑"/>
                <a:ea typeface="微软雅黑"/>
              </a:rPr>
              <a:t>PPT</a:t>
            </a:r>
            <a:r>
              <a:rPr b="0" lang="zh-CN" sz="1200" spc="-1" strike="noStrike">
                <a:solidFill>
                  <a:srgbClr val="4a452a"/>
                </a:solidFill>
                <a:latin typeface="微软雅黑"/>
                <a:ea typeface="微软雅黑"/>
              </a:rPr>
              <a:t>背景图片：</a:t>
            </a:r>
            <a:r>
              <a:rPr b="0" lang="en-US" sz="1200" spc="-1" strike="noStrike">
                <a:solidFill>
                  <a:srgbClr val="4a452a"/>
                </a:solidFill>
                <a:latin typeface="微软雅黑"/>
                <a:ea typeface="微软雅黑"/>
              </a:rPr>
              <a:t>www.ypppt.com/beijing/          PPT</a:t>
            </a:r>
            <a:r>
              <a:rPr b="0" lang="zh-CN" sz="1200" spc="-1" strike="noStrike">
                <a:solidFill>
                  <a:srgbClr val="4a452a"/>
                </a:solidFill>
                <a:latin typeface="微软雅黑"/>
                <a:ea typeface="微软雅黑"/>
              </a:rPr>
              <a:t>图表下载：</a:t>
            </a:r>
            <a:r>
              <a:rPr b="0" lang="en-US" sz="1200" spc="-1" strike="noStrike">
                <a:solidFill>
                  <a:srgbClr val="4a452a"/>
                </a:solidFill>
                <a:latin typeface="微软雅黑"/>
                <a:ea typeface="微软雅黑"/>
              </a:rPr>
              <a:t>www.ypppt.com/tubiao/</a:t>
            </a:r>
            <a:endParaRPr b="0" lang="en-US" sz="1200" spc="-1" strike="noStrike">
              <a:solidFill>
                <a:srgbClr val="54a0d8"/>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微软雅黑"/>
                <a:ea typeface="微软雅黑"/>
              </a:rPr>
              <a:t>PPT</a:t>
            </a:r>
            <a:r>
              <a:rPr b="0" lang="zh-CN" sz="1200" spc="-1" strike="noStrike">
                <a:solidFill>
                  <a:srgbClr val="4a452a"/>
                </a:solidFill>
                <a:latin typeface="微软雅黑"/>
                <a:ea typeface="微软雅黑"/>
              </a:rPr>
              <a:t>素材下载：</a:t>
            </a:r>
            <a:r>
              <a:rPr b="0" lang="en-US" sz="1200" spc="-1" strike="noStrike">
                <a:solidFill>
                  <a:srgbClr val="4a452a"/>
                </a:solidFill>
                <a:latin typeface="微软雅黑"/>
                <a:ea typeface="微软雅黑"/>
              </a:rPr>
              <a:t> </a:t>
            </a:r>
            <a:r>
              <a:rPr b="0" lang="en-US" sz="1200" spc="-1" strike="noStrike">
                <a:solidFill>
                  <a:srgbClr val="4a452a"/>
                </a:solidFill>
                <a:latin typeface="微软雅黑"/>
                <a:ea typeface="微软雅黑"/>
              </a:rPr>
              <a:t>www.ypppt.com/sucai/            PPT</a:t>
            </a:r>
            <a:r>
              <a:rPr b="0" lang="zh-CN" sz="1200" spc="-1" strike="noStrike">
                <a:solidFill>
                  <a:srgbClr val="4a452a"/>
                </a:solidFill>
                <a:latin typeface="微软雅黑"/>
                <a:ea typeface="微软雅黑"/>
              </a:rPr>
              <a:t>教程下载：</a:t>
            </a:r>
            <a:r>
              <a:rPr b="0" lang="en-US" sz="1200" spc="-1" strike="noStrike">
                <a:solidFill>
                  <a:srgbClr val="4a452a"/>
                </a:solidFill>
                <a:latin typeface="微软雅黑"/>
                <a:ea typeface="微软雅黑"/>
              </a:rPr>
              <a:t>www.ypppt.com/jiaocheng/</a:t>
            </a:r>
            <a:endParaRPr b="0" lang="en-US" sz="1200" spc="-1" strike="noStrike">
              <a:solidFill>
                <a:srgbClr val="54a0d8"/>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微软雅黑"/>
                <a:ea typeface="微软雅黑"/>
              </a:rPr>
              <a:t>字体下载：</a:t>
            </a:r>
            <a:r>
              <a:rPr b="0" lang="en-US" sz="1200" spc="-1" strike="noStrike">
                <a:solidFill>
                  <a:srgbClr val="4a452a"/>
                </a:solidFill>
                <a:latin typeface="微软雅黑"/>
                <a:ea typeface="微软雅黑"/>
              </a:rPr>
              <a:t>http://www.ypppt.com/ziti/            </a:t>
            </a:r>
            <a:r>
              <a:rPr b="0" lang="zh-CN" sz="1200" spc="-1" strike="noStrike">
                <a:solidFill>
                  <a:srgbClr val="4a452a"/>
                </a:solidFill>
                <a:latin typeface="微软雅黑"/>
                <a:ea typeface="微软雅黑"/>
              </a:rPr>
              <a:t>绘本故事</a:t>
            </a:r>
            <a:r>
              <a:rPr b="0" lang="en-US" sz="1200" spc="-1" strike="noStrike">
                <a:solidFill>
                  <a:srgbClr val="4a452a"/>
                </a:solidFill>
                <a:latin typeface="微软雅黑"/>
                <a:ea typeface="微软雅黑"/>
              </a:rPr>
              <a:t>PPT</a:t>
            </a:r>
            <a:r>
              <a:rPr b="0" lang="zh-CN" sz="1200" spc="-1" strike="noStrike">
                <a:solidFill>
                  <a:srgbClr val="4a452a"/>
                </a:solidFill>
                <a:latin typeface="微软雅黑"/>
                <a:ea typeface="微软雅黑"/>
              </a:rPr>
              <a:t>：</a:t>
            </a:r>
            <a:r>
              <a:rPr b="0" lang="en-US" sz="1200" spc="-1" strike="noStrike">
                <a:solidFill>
                  <a:srgbClr val="4a452a"/>
                </a:solidFill>
                <a:latin typeface="微软雅黑"/>
                <a:ea typeface="微软雅黑"/>
              </a:rPr>
              <a:t>http://www.ypppt.com/gushi/</a:t>
            </a:r>
            <a:endParaRPr b="0" lang="en-US" sz="1200" spc="-1" strike="noStrike">
              <a:solidFill>
                <a:srgbClr val="54a0d8"/>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1.1 </a:t>
            </a:r>
            <a:r>
              <a:rPr b="0" lang="zh-CN" sz="2800" spc="-1" strike="noStrike">
                <a:solidFill>
                  <a:srgbClr val="4d4d4d"/>
                </a:solidFill>
                <a:latin typeface="微软雅黑"/>
                <a:ea typeface="微软雅黑"/>
              </a:rPr>
              <a:t>研究背景</a:t>
            </a:r>
            <a:endParaRPr b="0" lang="en-US" sz="2800" spc="-1" strike="noStrike">
              <a:solidFill>
                <a:srgbClr val="54a0d8"/>
              </a:solidFill>
              <a:latin typeface="Arial"/>
            </a:endParaRPr>
          </a:p>
        </p:txBody>
      </p:sp>
      <p:sp>
        <p:nvSpPr>
          <p:cNvPr id="796"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797" name="直接连接符 6"/>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grpSp>
        <p:nvGrpSpPr>
          <p:cNvPr id="798" name="组合 24"/>
          <p:cNvGrpSpPr/>
          <p:nvPr/>
        </p:nvGrpSpPr>
        <p:grpSpPr>
          <a:xfrm>
            <a:off x="1393920" y="1241280"/>
            <a:ext cx="2706480" cy="2711520"/>
            <a:chOff x="1393920" y="1241280"/>
            <a:chExt cx="2706480" cy="2711520"/>
          </a:xfrm>
        </p:grpSpPr>
        <p:sp>
          <p:nvSpPr>
            <p:cNvPr id="799" name="Oval 5"/>
            <p:cNvSpPr/>
            <p:nvPr/>
          </p:nvSpPr>
          <p:spPr>
            <a:xfrm>
              <a:off x="1393920" y="1241280"/>
              <a:ext cx="2706480" cy="2711520"/>
            </a:xfrm>
            <a:prstGeom prst="ellipse">
              <a:avLst/>
            </a:prstGeom>
            <a:solidFill>
              <a:srgbClr val="e96969"/>
            </a:solidFill>
            <a:ln w="381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00" name="Oval 6"/>
            <p:cNvSpPr/>
            <p:nvPr/>
          </p:nvSpPr>
          <p:spPr>
            <a:xfrm>
              <a:off x="1474560" y="1321920"/>
              <a:ext cx="2544840" cy="2549880"/>
            </a:xfrm>
            <a:prstGeom prst="ellipse">
              <a:avLst/>
            </a:prstGeom>
            <a:noFill/>
            <a:ln w="3240">
              <a:solidFill>
                <a:srgbClr val="fefefe"/>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grpSp>
      <p:grpSp>
        <p:nvGrpSpPr>
          <p:cNvPr id="801" name="组合 27"/>
          <p:cNvGrpSpPr/>
          <p:nvPr/>
        </p:nvGrpSpPr>
        <p:grpSpPr>
          <a:xfrm>
            <a:off x="4605480" y="1241280"/>
            <a:ext cx="2703240" cy="2711520"/>
            <a:chOff x="4605480" y="1241280"/>
            <a:chExt cx="2703240" cy="2711520"/>
          </a:xfrm>
        </p:grpSpPr>
        <p:sp>
          <p:nvSpPr>
            <p:cNvPr id="802" name="Oval 7"/>
            <p:cNvSpPr/>
            <p:nvPr/>
          </p:nvSpPr>
          <p:spPr>
            <a:xfrm>
              <a:off x="4605480" y="1241280"/>
              <a:ext cx="2703240" cy="2711520"/>
            </a:xfrm>
            <a:prstGeom prst="ellipse">
              <a:avLst/>
            </a:prstGeom>
            <a:solidFill>
              <a:srgbClr val="54a0d8"/>
            </a:solidFill>
            <a:ln w="381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03" name="Oval 8"/>
            <p:cNvSpPr/>
            <p:nvPr/>
          </p:nvSpPr>
          <p:spPr>
            <a:xfrm>
              <a:off x="4681800" y="1321920"/>
              <a:ext cx="2545920" cy="2549880"/>
            </a:xfrm>
            <a:prstGeom prst="ellipse">
              <a:avLst/>
            </a:prstGeom>
            <a:noFill/>
            <a:ln w="3240">
              <a:solidFill>
                <a:srgbClr val="fefefe"/>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grpSp>
      <p:grpSp>
        <p:nvGrpSpPr>
          <p:cNvPr id="804" name="组合 30"/>
          <p:cNvGrpSpPr/>
          <p:nvPr/>
        </p:nvGrpSpPr>
        <p:grpSpPr>
          <a:xfrm>
            <a:off x="7853400" y="1241280"/>
            <a:ext cx="2703600" cy="2711520"/>
            <a:chOff x="7853400" y="1241280"/>
            <a:chExt cx="2703600" cy="2711520"/>
          </a:xfrm>
        </p:grpSpPr>
        <p:sp>
          <p:nvSpPr>
            <p:cNvPr id="805" name="Oval 9"/>
            <p:cNvSpPr/>
            <p:nvPr/>
          </p:nvSpPr>
          <p:spPr>
            <a:xfrm>
              <a:off x="7853400" y="1241280"/>
              <a:ext cx="2703600" cy="2711520"/>
            </a:xfrm>
            <a:prstGeom prst="ellipse">
              <a:avLst/>
            </a:prstGeom>
            <a:solidFill>
              <a:srgbClr val="706460"/>
            </a:solidFill>
            <a:ln w="3816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06" name="Oval 10"/>
            <p:cNvSpPr/>
            <p:nvPr/>
          </p:nvSpPr>
          <p:spPr>
            <a:xfrm>
              <a:off x="7934040" y="1321920"/>
              <a:ext cx="2541960" cy="2549880"/>
            </a:xfrm>
            <a:prstGeom prst="ellipse">
              <a:avLst/>
            </a:prstGeom>
            <a:noFill/>
            <a:ln w="3240">
              <a:solidFill>
                <a:srgbClr val="fefefe"/>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grpSp>
      <p:grpSp>
        <p:nvGrpSpPr>
          <p:cNvPr id="807" name="组合 33"/>
          <p:cNvGrpSpPr/>
          <p:nvPr/>
        </p:nvGrpSpPr>
        <p:grpSpPr>
          <a:xfrm>
            <a:off x="3828960" y="2541600"/>
            <a:ext cx="1030320" cy="144360"/>
            <a:chOff x="3828960" y="2541600"/>
            <a:chExt cx="1030320" cy="144360"/>
          </a:xfrm>
        </p:grpSpPr>
        <p:sp>
          <p:nvSpPr>
            <p:cNvPr id="808" name="Oval 13"/>
            <p:cNvSpPr/>
            <p:nvPr/>
          </p:nvSpPr>
          <p:spPr>
            <a:xfrm>
              <a:off x="3828960" y="2541600"/>
              <a:ext cx="144720" cy="144360"/>
            </a:xfrm>
            <a:prstGeom prst="ellipse">
              <a:avLst/>
            </a:prstGeom>
            <a:solidFill>
              <a:srgbClr val="231915"/>
            </a:solidFill>
            <a:ln w="7920">
              <a:solidFill>
                <a:srgbClr val="23191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09" name="Oval 14"/>
            <p:cNvSpPr/>
            <p:nvPr/>
          </p:nvSpPr>
          <p:spPr>
            <a:xfrm>
              <a:off x="4714560" y="2541600"/>
              <a:ext cx="144720" cy="144360"/>
            </a:xfrm>
            <a:prstGeom prst="ellipse">
              <a:avLst/>
            </a:prstGeom>
            <a:solidFill>
              <a:srgbClr val="231915"/>
            </a:solidFill>
            <a:ln w="7920">
              <a:solidFill>
                <a:srgbClr val="23191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10" name="Freeform 15"/>
            <p:cNvSpPr/>
            <p:nvPr/>
          </p:nvSpPr>
          <p:spPr>
            <a:xfrm>
              <a:off x="3879720" y="2584080"/>
              <a:ext cx="924120" cy="63720"/>
            </a:xfrm>
            <a:custGeom>
              <a:avLst/>
              <a:gdLst>
                <a:gd name="textAreaLeft" fmla="*/ 0 w 924120"/>
                <a:gd name="textAreaRight" fmla="*/ 924480 w 924120"/>
                <a:gd name="textAreaTop" fmla="*/ 0 h 63720"/>
                <a:gd name="textAreaBottom" fmla="*/ 64080 h 63720"/>
              </a:gdLst>
              <a:ahLst/>
              <a:rect l="textAreaLeft" t="textAreaTop" r="textAreaRight" b="textAreaBottom"/>
              <a:pathLst>
                <a:path w="958" h="66">
                  <a:moveTo>
                    <a:pt x="47" y="0"/>
                  </a:moveTo>
                  <a:cubicBezTo>
                    <a:pt x="335" y="0"/>
                    <a:pt x="624" y="0"/>
                    <a:pt x="913" y="0"/>
                  </a:cubicBezTo>
                  <a:cubicBezTo>
                    <a:pt x="957" y="2"/>
                    <a:pt x="958" y="63"/>
                    <a:pt x="913" y="66"/>
                  </a:cubicBezTo>
                  <a:cubicBezTo>
                    <a:pt x="624" y="66"/>
                    <a:pt x="335" y="66"/>
                    <a:pt x="47" y="66"/>
                  </a:cubicBezTo>
                  <a:cubicBezTo>
                    <a:pt x="0" y="63"/>
                    <a:pt x="2" y="2"/>
                    <a:pt x="47" y="0"/>
                  </a:cubicBezTo>
                  <a:close/>
                </a:path>
              </a:pathLst>
            </a:custGeom>
            <a:solidFill>
              <a:srgbClr val="c8c9c9"/>
            </a:solidFill>
            <a:ln w="0">
              <a:noFill/>
            </a:ln>
          </p:spPr>
          <p:style>
            <a:lnRef idx="0"/>
            <a:fillRef idx="0"/>
            <a:effectRef idx="0"/>
            <a:fontRef idx="minor"/>
          </p:style>
          <p:txBody>
            <a:bodyPr tIns="18360" bIns="18360" anchor="t">
              <a:noAutofit/>
            </a:bodyPr>
            <a:p>
              <a:endParaRPr b="0" lang="en-US" sz="1800" spc="-1" strike="noStrike">
                <a:solidFill>
                  <a:srgbClr val="54a0d8"/>
                </a:solidFill>
                <a:latin typeface="Arial"/>
              </a:endParaRPr>
            </a:p>
          </p:txBody>
        </p:sp>
      </p:grpSp>
      <p:grpSp>
        <p:nvGrpSpPr>
          <p:cNvPr id="811" name="组合 37"/>
          <p:cNvGrpSpPr/>
          <p:nvPr/>
        </p:nvGrpSpPr>
        <p:grpSpPr>
          <a:xfrm>
            <a:off x="7068960" y="2541600"/>
            <a:ext cx="1030320" cy="144360"/>
            <a:chOff x="7068960" y="2541600"/>
            <a:chExt cx="1030320" cy="144360"/>
          </a:xfrm>
        </p:grpSpPr>
        <p:sp>
          <p:nvSpPr>
            <p:cNvPr id="812" name="Oval 16"/>
            <p:cNvSpPr/>
            <p:nvPr/>
          </p:nvSpPr>
          <p:spPr>
            <a:xfrm>
              <a:off x="7068960" y="2541600"/>
              <a:ext cx="144720" cy="144360"/>
            </a:xfrm>
            <a:prstGeom prst="ellipse">
              <a:avLst/>
            </a:prstGeom>
            <a:solidFill>
              <a:srgbClr val="231915"/>
            </a:solidFill>
            <a:ln w="7920">
              <a:solidFill>
                <a:srgbClr val="23191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13" name="Oval 17"/>
            <p:cNvSpPr/>
            <p:nvPr/>
          </p:nvSpPr>
          <p:spPr>
            <a:xfrm>
              <a:off x="7954560" y="2541600"/>
              <a:ext cx="144720" cy="144360"/>
            </a:xfrm>
            <a:prstGeom prst="ellipse">
              <a:avLst/>
            </a:prstGeom>
            <a:solidFill>
              <a:srgbClr val="231915"/>
            </a:solidFill>
            <a:ln w="7920">
              <a:solidFill>
                <a:srgbClr val="23191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14" name="Freeform 18"/>
            <p:cNvSpPr/>
            <p:nvPr/>
          </p:nvSpPr>
          <p:spPr>
            <a:xfrm>
              <a:off x="7119720" y="2584080"/>
              <a:ext cx="924120" cy="63720"/>
            </a:xfrm>
            <a:custGeom>
              <a:avLst/>
              <a:gdLst>
                <a:gd name="textAreaLeft" fmla="*/ 0 w 924120"/>
                <a:gd name="textAreaRight" fmla="*/ 924480 w 924120"/>
                <a:gd name="textAreaTop" fmla="*/ 0 h 63720"/>
                <a:gd name="textAreaBottom" fmla="*/ 64080 h 63720"/>
              </a:gdLst>
              <a:ahLst/>
              <a:rect l="textAreaLeft" t="textAreaTop" r="textAreaRight" b="textAreaBottom"/>
              <a:pathLst>
                <a:path w="957" h="66">
                  <a:moveTo>
                    <a:pt x="46" y="0"/>
                  </a:moveTo>
                  <a:cubicBezTo>
                    <a:pt x="335" y="0"/>
                    <a:pt x="624" y="0"/>
                    <a:pt x="912" y="0"/>
                  </a:cubicBezTo>
                  <a:cubicBezTo>
                    <a:pt x="957" y="2"/>
                    <a:pt x="957" y="63"/>
                    <a:pt x="912" y="66"/>
                  </a:cubicBezTo>
                  <a:cubicBezTo>
                    <a:pt x="624" y="66"/>
                    <a:pt x="335" y="66"/>
                    <a:pt x="46" y="66"/>
                  </a:cubicBezTo>
                  <a:cubicBezTo>
                    <a:pt x="0" y="63"/>
                    <a:pt x="1" y="2"/>
                    <a:pt x="46" y="0"/>
                  </a:cubicBezTo>
                  <a:close/>
                </a:path>
              </a:pathLst>
            </a:custGeom>
            <a:solidFill>
              <a:srgbClr val="c8c9c9"/>
            </a:solidFill>
            <a:ln w="0">
              <a:noFill/>
            </a:ln>
          </p:spPr>
          <p:style>
            <a:lnRef idx="0"/>
            <a:fillRef idx="0"/>
            <a:effectRef idx="0"/>
            <a:fontRef idx="minor"/>
          </p:style>
          <p:txBody>
            <a:bodyPr tIns="18360" bIns="18360" anchor="t">
              <a:noAutofit/>
            </a:bodyPr>
            <a:p>
              <a:endParaRPr b="0" lang="en-US" sz="1800" spc="-1" strike="noStrike">
                <a:solidFill>
                  <a:srgbClr val="54a0d8"/>
                </a:solidFill>
                <a:latin typeface="Arial"/>
              </a:endParaRPr>
            </a:p>
          </p:txBody>
        </p:sp>
      </p:grpSp>
      <p:sp>
        <p:nvSpPr>
          <p:cNvPr id="815" name="矩形 41"/>
          <p:cNvSpPr/>
          <p:nvPr/>
        </p:nvSpPr>
        <p:spPr>
          <a:xfrm>
            <a:off x="1446120" y="4173480"/>
            <a:ext cx="257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微软雅黑"/>
                <a:ea typeface="微软雅黑"/>
              </a:rPr>
              <a:t>根据事物运动规律和行业发展趋势，某某某问题是行业发展的趋势。</a:t>
            </a:r>
            <a:endParaRPr b="0" lang="en-US" sz="2000" spc="-1" strike="noStrike">
              <a:solidFill>
                <a:srgbClr val="54a0d8"/>
              </a:solidFill>
              <a:latin typeface="Arial"/>
            </a:endParaRPr>
          </a:p>
        </p:txBody>
      </p:sp>
      <p:sp>
        <p:nvSpPr>
          <p:cNvPr id="816" name="矩形 43"/>
          <p:cNvSpPr/>
          <p:nvPr/>
        </p:nvSpPr>
        <p:spPr>
          <a:xfrm>
            <a:off x="4562640" y="4154400"/>
            <a:ext cx="2779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微软雅黑"/>
                <a:ea typeface="微软雅黑"/>
              </a:rPr>
              <a:t>在实际运作中，常常遇到某某问题，且有愈发严重的态势，形势倒逼我们不得不进行重视该问题。</a:t>
            </a:r>
            <a:endParaRPr b="0" lang="en-US" sz="2000" spc="-1" strike="noStrike">
              <a:solidFill>
                <a:srgbClr val="54a0d8"/>
              </a:solidFill>
              <a:latin typeface="Arial"/>
            </a:endParaRPr>
          </a:p>
        </p:txBody>
      </p:sp>
      <p:sp>
        <p:nvSpPr>
          <p:cNvPr id="817" name="矩形 44"/>
          <p:cNvSpPr/>
          <p:nvPr/>
        </p:nvSpPr>
        <p:spPr>
          <a:xfrm>
            <a:off x="7891560" y="4154400"/>
            <a:ext cx="27432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微软雅黑"/>
                <a:ea typeface="微软雅黑"/>
              </a:rPr>
              <a:t>行业发展遇到了瓶颈，必需要重视理论的创新和探索，某某问题是行业发展的内在需求。</a:t>
            </a:r>
            <a:endParaRPr b="0" lang="en-US" sz="2000" spc="-1" strike="noStrike">
              <a:solidFill>
                <a:srgbClr val="54a0d8"/>
              </a:solidFill>
              <a:latin typeface="Arial"/>
            </a:endParaRPr>
          </a:p>
        </p:txBody>
      </p:sp>
      <p:sp>
        <p:nvSpPr>
          <p:cNvPr id="818" name="矩形 45"/>
          <p:cNvSpPr/>
          <p:nvPr/>
        </p:nvSpPr>
        <p:spPr>
          <a:xfrm>
            <a:off x="2108160" y="24004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发展</a:t>
            </a:r>
            <a:r>
              <a:rPr b="1" lang="zh-CN" sz="3600" spc="-1" strike="noStrike">
                <a:solidFill>
                  <a:srgbClr val="ffffff"/>
                </a:solidFill>
                <a:latin typeface="微软雅黑"/>
                <a:ea typeface="微软雅黑"/>
              </a:rPr>
              <a:t>趋势</a:t>
            </a:r>
            <a:endParaRPr b="0" lang="en-US" sz="3600" spc="-1" strike="noStrike">
              <a:solidFill>
                <a:srgbClr val="54a0d8"/>
              </a:solidFill>
              <a:latin typeface="Arial"/>
            </a:endParaRPr>
          </a:p>
        </p:txBody>
      </p:sp>
      <p:sp>
        <p:nvSpPr>
          <p:cNvPr id="819" name="矩形 46"/>
          <p:cNvSpPr/>
          <p:nvPr/>
        </p:nvSpPr>
        <p:spPr>
          <a:xfrm>
            <a:off x="5393520" y="24019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形势</a:t>
            </a:r>
            <a:r>
              <a:rPr b="0" lang="zh-CN" sz="3600" spc="-1" strike="noStrike">
                <a:solidFill>
                  <a:srgbClr val="ffffff"/>
                </a:solidFill>
                <a:latin typeface="微软雅黑"/>
                <a:ea typeface="微软雅黑"/>
              </a:rPr>
              <a:t>倒逼</a:t>
            </a:r>
            <a:endParaRPr b="0" lang="en-US" sz="3600" spc="-1" strike="noStrike">
              <a:solidFill>
                <a:srgbClr val="54a0d8"/>
              </a:solidFill>
              <a:latin typeface="Arial"/>
            </a:endParaRPr>
          </a:p>
        </p:txBody>
      </p:sp>
      <p:sp>
        <p:nvSpPr>
          <p:cNvPr id="820" name="矩形 47"/>
          <p:cNvSpPr/>
          <p:nvPr/>
        </p:nvSpPr>
        <p:spPr>
          <a:xfrm>
            <a:off x="8631360" y="24210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内在</a:t>
            </a:r>
            <a:r>
              <a:rPr b="1" lang="zh-CN" sz="3600" spc="-1" strike="noStrike">
                <a:solidFill>
                  <a:srgbClr val="ffffff"/>
                </a:solidFill>
                <a:latin typeface="微软雅黑"/>
                <a:ea typeface="微软雅黑"/>
              </a:rPr>
              <a:t>需求</a:t>
            </a:r>
            <a:endParaRPr b="0" lang="en-US" sz="3600" spc="-1" strike="noStrike">
              <a:solidFill>
                <a:srgbClr val="54a0d8"/>
              </a:solidFill>
              <a:latin typeface="Arial"/>
            </a:endParaRPr>
          </a:p>
        </p:txBody>
      </p:sp>
      <p:sp>
        <p:nvSpPr>
          <p:cNvPr id="821" name="文本框 82"/>
          <p:cNvSpPr/>
          <p:nvPr/>
        </p:nvSpPr>
        <p:spPr>
          <a:xfrm>
            <a:off x="2366640" y="175752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ifeline JL"/>
              </a:rPr>
              <a:t>01</a:t>
            </a:r>
            <a:endParaRPr b="0" lang="en-US" sz="4000" spc="-1" strike="noStrike">
              <a:solidFill>
                <a:srgbClr val="54a0d8"/>
              </a:solidFill>
              <a:latin typeface="Arial"/>
            </a:endParaRPr>
          </a:p>
        </p:txBody>
      </p:sp>
      <p:sp>
        <p:nvSpPr>
          <p:cNvPr id="822" name="文本框 83"/>
          <p:cNvSpPr/>
          <p:nvPr/>
        </p:nvSpPr>
        <p:spPr>
          <a:xfrm>
            <a:off x="5616720" y="175752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ifeline JL"/>
              </a:rPr>
              <a:t>02</a:t>
            </a:r>
            <a:endParaRPr b="0" lang="en-US" sz="4000" spc="-1" strike="noStrike">
              <a:solidFill>
                <a:srgbClr val="54a0d8"/>
              </a:solidFill>
              <a:latin typeface="Arial"/>
            </a:endParaRPr>
          </a:p>
        </p:txBody>
      </p:sp>
      <p:sp>
        <p:nvSpPr>
          <p:cNvPr id="823" name="文本框 84"/>
          <p:cNvSpPr/>
          <p:nvPr/>
        </p:nvSpPr>
        <p:spPr>
          <a:xfrm>
            <a:off x="8831520" y="175752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ifeline JL"/>
              </a:rPr>
              <a:t>03</a:t>
            </a:r>
            <a:endParaRPr b="0" lang="en-US" sz="4000" spc="-1" strike="noStrike">
              <a:solidFill>
                <a:srgbClr val="54a0d8"/>
              </a:solidFill>
              <a:latin typeface="Arial"/>
            </a:endParaRPr>
          </a:p>
        </p:txBody>
      </p:sp>
    </p:spTree>
  </p:cSld>
  <p:transition spd="slow" advTm="6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1.2 </a:t>
            </a:r>
            <a:r>
              <a:rPr b="0" lang="zh-CN" sz="2800" spc="-1" strike="noStrike">
                <a:solidFill>
                  <a:srgbClr val="4d4d4d"/>
                </a:solidFill>
                <a:latin typeface="微软雅黑"/>
                <a:ea typeface="微软雅黑"/>
              </a:rPr>
              <a:t>国内相关研究情况</a:t>
            </a:r>
            <a:endParaRPr b="0" lang="en-US" sz="2800" spc="-1" strike="noStrike">
              <a:solidFill>
                <a:srgbClr val="54a0d8"/>
              </a:solidFill>
              <a:latin typeface="Arial"/>
            </a:endParaRPr>
          </a:p>
        </p:txBody>
      </p:sp>
      <p:sp>
        <p:nvSpPr>
          <p:cNvPr id="825"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26" name="直接连接符 42"/>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827" name="Freeform 5"/>
          <p:cNvSpPr/>
          <p:nvPr/>
        </p:nvSpPr>
        <p:spPr>
          <a:xfrm>
            <a:off x="1697040" y="2790720"/>
            <a:ext cx="1900080" cy="1389240"/>
          </a:xfrm>
          <a:custGeom>
            <a:avLst/>
            <a:gdLst>
              <a:gd name="textAreaLeft" fmla="*/ 0 w 1900080"/>
              <a:gd name="textAreaRight" fmla="*/ 1900440 w 1900080"/>
              <a:gd name="textAreaTop" fmla="*/ 0 h 1389240"/>
              <a:gd name="textAreaBottom" fmla="*/ 1389600 h 1389240"/>
            </a:gdLst>
            <a:ahLst/>
            <a:rect l="textAreaLeft" t="textAreaTop" r="textAreaRight" b="textAreaBottom"/>
            <a:pathLst>
              <a:path w="2454" h="2140">
                <a:moveTo>
                  <a:pt x="1408" y="175"/>
                </a:moveTo>
                <a:lnTo>
                  <a:pt x="1887" y="1005"/>
                </a:lnTo>
                <a:cubicBezTo>
                  <a:pt x="2046" y="1280"/>
                  <a:pt x="2205" y="1556"/>
                  <a:pt x="2364" y="1832"/>
                </a:cubicBezTo>
                <a:cubicBezTo>
                  <a:pt x="2454" y="2028"/>
                  <a:pt x="2396" y="2132"/>
                  <a:pt x="2189" y="2140"/>
                </a:cubicBezTo>
                <a:lnTo>
                  <a:pt x="1231" y="2140"/>
                </a:lnTo>
                <a:cubicBezTo>
                  <a:pt x="913" y="2140"/>
                  <a:pt x="594" y="2140"/>
                  <a:pt x="276" y="2140"/>
                </a:cubicBezTo>
                <a:cubicBezTo>
                  <a:pt x="61" y="2119"/>
                  <a:pt x="0" y="2018"/>
                  <a:pt x="97" y="1834"/>
                </a:cubicBezTo>
                <a:lnTo>
                  <a:pt x="575" y="1005"/>
                </a:lnTo>
                <a:cubicBezTo>
                  <a:pt x="734" y="729"/>
                  <a:pt x="894" y="453"/>
                  <a:pt x="1053" y="178"/>
                </a:cubicBezTo>
                <a:cubicBezTo>
                  <a:pt x="1178" y="2"/>
                  <a:pt x="1297" y="0"/>
                  <a:pt x="1408" y="175"/>
                </a:cubicBezTo>
                <a:close/>
              </a:path>
            </a:pathLst>
          </a:cu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28" name="Freeform 6"/>
          <p:cNvSpPr/>
          <p:nvPr/>
        </p:nvSpPr>
        <p:spPr>
          <a:xfrm>
            <a:off x="5032440" y="2790720"/>
            <a:ext cx="1900080" cy="1389240"/>
          </a:xfrm>
          <a:custGeom>
            <a:avLst/>
            <a:gdLst>
              <a:gd name="textAreaLeft" fmla="*/ 0 w 1900080"/>
              <a:gd name="textAreaRight" fmla="*/ 1900080 w 1900080"/>
              <a:gd name="textAreaTop" fmla="*/ 0 h 1389240"/>
              <a:gd name="textAreaBottom" fmla="*/ 1389600 h 1389240"/>
            </a:gdLst>
            <a:ahLst/>
            <a:rect l="textAreaLeft" t="textAreaTop" r="textAreaRight" b="textAreaBottom"/>
            <a:pathLst>
              <a:path w="2453" h="2140">
                <a:moveTo>
                  <a:pt x="1407" y="175"/>
                </a:moveTo>
                <a:lnTo>
                  <a:pt x="1886" y="1005"/>
                </a:lnTo>
                <a:cubicBezTo>
                  <a:pt x="2045" y="1280"/>
                  <a:pt x="2205" y="1556"/>
                  <a:pt x="2364" y="1832"/>
                </a:cubicBezTo>
                <a:cubicBezTo>
                  <a:pt x="2453" y="2028"/>
                  <a:pt x="2396" y="2132"/>
                  <a:pt x="2188" y="2140"/>
                </a:cubicBezTo>
                <a:lnTo>
                  <a:pt x="1231" y="2140"/>
                </a:lnTo>
                <a:cubicBezTo>
                  <a:pt x="912" y="2140"/>
                  <a:pt x="594" y="2140"/>
                  <a:pt x="276" y="2140"/>
                </a:cubicBezTo>
                <a:cubicBezTo>
                  <a:pt x="61" y="2119"/>
                  <a:pt x="0" y="2018"/>
                  <a:pt x="96" y="1834"/>
                </a:cubicBezTo>
                <a:lnTo>
                  <a:pt x="575" y="1005"/>
                </a:lnTo>
                <a:cubicBezTo>
                  <a:pt x="734" y="729"/>
                  <a:pt x="893" y="453"/>
                  <a:pt x="1052" y="178"/>
                </a:cubicBezTo>
                <a:cubicBezTo>
                  <a:pt x="1178" y="2"/>
                  <a:pt x="1296" y="0"/>
                  <a:pt x="1407" y="175"/>
                </a:cubicBezTo>
                <a:close/>
              </a:path>
            </a:pathLst>
          </a:cu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29" name="Freeform 7"/>
          <p:cNvSpPr/>
          <p:nvPr/>
        </p:nvSpPr>
        <p:spPr>
          <a:xfrm>
            <a:off x="8369280" y="2790720"/>
            <a:ext cx="1898640" cy="1389240"/>
          </a:xfrm>
          <a:custGeom>
            <a:avLst/>
            <a:gdLst>
              <a:gd name="textAreaLeft" fmla="*/ 0 w 1898640"/>
              <a:gd name="textAreaRight" fmla="*/ 1899000 w 1898640"/>
              <a:gd name="textAreaTop" fmla="*/ 0 h 1389240"/>
              <a:gd name="textAreaBottom" fmla="*/ 1389600 h 1389240"/>
            </a:gdLst>
            <a:ahLst/>
            <a:rect l="textAreaLeft" t="textAreaTop" r="textAreaRight" b="textAreaBottom"/>
            <a:pathLst>
              <a:path w="2454" h="2140">
                <a:moveTo>
                  <a:pt x="1408" y="175"/>
                </a:moveTo>
                <a:lnTo>
                  <a:pt x="1887" y="1005"/>
                </a:lnTo>
                <a:cubicBezTo>
                  <a:pt x="2046" y="1280"/>
                  <a:pt x="2205" y="1556"/>
                  <a:pt x="2364" y="1832"/>
                </a:cubicBezTo>
                <a:cubicBezTo>
                  <a:pt x="2454" y="2028"/>
                  <a:pt x="2396" y="2132"/>
                  <a:pt x="2189" y="2140"/>
                </a:cubicBezTo>
                <a:lnTo>
                  <a:pt x="1231" y="2140"/>
                </a:lnTo>
                <a:cubicBezTo>
                  <a:pt x="913" y="2140"/>
                  <a:pt x="594" y="2140"/>
                  <a:pt x="276" y="2140"/>
                </a:cubicBezTo>
                <a:cubicBezTo>
                  <a:pt x="61" y="2119"/>
                  <a:pt x="0" y="2018"/>
                  <a:pt x="96" y="1834"/>
                </a:cubicBezTo>
                <a:lnTo>
                  <a:pt x="575" y="1005"/>
                </a:lnTo>
                <a:cubicBezTo>
                  <a:pt x="734" y="729"/>
                  <a:pt x="894" y="453"/>
                  <a:pt x="1053" y="178"/>
                </a:cubicBezTo>
                <a:cubicBezTo>
                  <a:pt x="1178" y="2"/>
                  <a:pt x="1297" y="0"/>
                  <a:pt x="1408" y="175"/>
                </a:cubicBezTo>
                <a:close/>
              </a:path>
            </a:pathLst>
          </a:cu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30" name="Freeform 8"/>
          <p:cNvSpPr/>
          <p:nvPr/>
        </p:nvSpPr>
        <p:spPr>
          <a:xfrm>
            <a:off x="3365640" y="2733840"/>
            <a:ext cx="1900080" cy="1388880"/>
          </a:xfrm>
          <a:custGeom>
            <a:avLst/>
            <a:gdLst>
              <a:gd name="textAreaLeft" fmla="*/ 0 w 1900080"/>
              <a:gd name="textAreaRight" fmla="*/ 1900440 w 1900080"/>
              <a:gd name="textAreaTop" fmla="*/ 0 h 1388880"/>
              <a:gd name="textAreaBottom" fmla="*/ 1389240 h 1388880"/>
            </a:gdLst>
            <a:ahLst/>
            <a:rect l="textAreaLeft" t="textAreaTop" r="textAreaRight" b="textAreaBottom"/>
            <a:pathLst>
              <a:path w="2454" h="2141">
                <a:moveTo>
                  <a:pt x="1408" y="1966"/>
                </a:moveTo>
                <a:lnTo>
                  <a:pt x="1887" y="1136"/>
                </a:lnTo>
                <a:cubicBezTo>
                  <a:pt x="2046" y="861"/>
                  <a:pt x="2205" y="585"/>
                  <a:pt x="2365" y="309"/>
                </a:cubicBezTo>
                <a:cubicBezTo>
                  <a:pt x="2454" y="113"/>
                  <a:pt x="2396" y="9"/>
                  <a:pt x="2189" y="0"/>
                </a:cubicBezTo>
                <a:lnTo>
                  <a:pt x="1231" y="0"/>
                </a:lnTo>
                <a:cubicBezTo>
                  <a:pt x="913" y="0"/>
                  <a:pt x="595" y="0"/>
                  <a:pt x="276" y="0"/>
                </a:cubicBezTo>
                <a:cubicBezTo>
                  <a:pt x="61" y="21"/>
                  <a:pt x="0" y="123"/>
                  <a:pt x="97" y="307"/>
                </a:cubicBezTo>
                <a:lnTo>
                  <a:pt x="576" y="1136"/>
                </a:lnTo>
                <a:cubicBezTo>
                  <a:pt x="735" y="1412"/>
                  <a:pt x="894" y="1688"/>
                  <a:pt x="1053" y="1963"/>
                </a:cubicBezTo>
                <a:cubicBezTo>
                  <a:pt x="1179" y="2139"/>
                  <a:pt x="1297" y="2141"/>
                  <a:pt x="1408" y="1966"/>
                </a:cubicBezTo>
                <a:close/>
              </a:path>
            </a:pathLst>
          </a:cu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31" name="Freeform 9"/>
          <p:cNvSpPr/>
          <p:nvPr/>
        </p:nvSpPr>
        <p:spPr>
          <a:xfrm>
            <a:off x="6700680" y="2733840"/>
            <a:ext cx="1898640" cy="1388880"/>
          </a:xfrm>
          <a:custGeom>
            <a:avLst/>
            <a:gdLst>
              <a:gd name="textAreaLeft" fmla="*/ 0 w 1898640"/>
              <a:gd name="textAreaRight" fmla="*/ 1899000 w 1898640"/>
              <a:gd name="textAreaTop" fmla="*/ 0 h 1388880"/>
              <a:gd name="textAreaBottom" fmla="*/ 1389240 h 1388880"/>
            </a:gdLst>
            <a:ahLst/>
            <a:rect l="textAreaLeft" t="textAreaTop" r="textAreaRight" b="textAreaBottom"/>
            <a:pathLst>
              <a:path w="2453" h="2141">
                <a:moveTo>
                  <a:pt x="1408" y="1966"/>
                </a:moveTo>
                <a:lnTo>
                  <a:pt x="1886" y="1136"/>
                </a:lnTo>
                <a:cubicBezTo>
                  <a:pt x="2046" y="861"/>
                  <a:pt x="2205" y="585"/>
                  <a:pt x="2364" y="309"/>
                </a:cubicBezTo>
                <a:cubicBezTo>
                  <a:pt x="2453" y="113"/>
                  <a:pt x="2396" y="9"/>
                  <a:pt x="2188" y="0"/>
                </a:cubicBezTo>
                <a:lnTo>
                  <a:pt x="1231" y="0"/>
                </a:lnTo>
                <a:cubicBezTo>
                  <a:pt x="912" y="0"/>
                  <a:pt x="594" y="0"/>
                  <a:pt x="276" y="0"/>
                </a:cubicBezTo>
                <a:cubicBezTo>
                  <a:pt x="61" y="21"/>
                  <a:pt x="0" y="123"/>
                  <a:pt x="96" y="307"/>
                </a:cubicBezTo>
                <a:lnTo>
                  <a:pt x="575" y="1136"/>
                </a:lnTo>
                <a:cubicBezTo>
                  <a:pt x="734" y="1412"/>
                  <a:pt x="893" y="1688"/>
                  <a:pt x="1052" y="1963"/>
                </a:cubicBezTo>
                <a:cubicBezTo>
                  <a:pt x="1178" y="2139"/>
                  <a:pt x="1297" y="2141"/>
                  <a:pt x="1408" y="1966"/>
                </a:cubicBezTo>
                <a:close/>
              </a:path>
            </a:pathLst>
          </a:cu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32" name="Freeform 10"/>
          <p:cNvSpPr/>
          <p:nvPr/>
        </p:nvSpPr>
        <p:spPr>
          <a:xfrm>
            <a:off x="1747800" y="1301760"/>
            <a:ext cx="843120" cy="1684440"/>
          </a:xfrm>
          <a:custGeom>
            <a:avLst/>
            <a:gdLst>
              <a:gd name="textAreaLeft" fmla="*/ 0 w 843120"/>
              <a:gd name="textAreaRight" fmla="*/ 843480 w 843120"/>
              <a:gd name="textAreaTop" fmla="*/ 0 h 1684440"/>
              <a:gd name="textAreaBottom" fmla="*/ 1684800 h 1684440"/>
            </a:gdLst>
            <a:ahLst/>
            <a:rect l="textAreaLeft" t="textAreaTop" r="textAreaRight" b="textAreaBottom"/>
            <a:pathLst>
              <a:path w="1191" h="2372">
                <a:moveTo>
                  <a:pt x="1191" y="2372"/>
                </a:moveTo>
                <a:lnTo>
                  <a:pt x="0" y="2372"/>
                </a:lnTo>
                <a:lnTo>
                  <a:pt x="0" y="0"/>
                </a:lnTo>
              </a:path>
            </a:pathLst>
          </a:custGeom>
          <a:noFill/>
          <a:ln w="12600">
            <a:solidFill>
              <a:srgbClr val="949494"/>
            </a:solidFill>
            <a:prstDash val="dash"/>
            <a:miter/>
            <a:headEnd len="med" type="oval" w="med"/>
            <a:tailEnd len="med" type="oval" w="med"/>
          </a:ln>
        </p:spPr>
        <p:style>
          <a:lnRef idx="0"/>
          <a:fillRef idx="0"/>
          <a:effectRef idx="0"/>
          <a:fontRef idx="minor"/>
        </p:style>
        <p:txBody>
          <a:bodyPr lIns="91080" rIns="91080" tIns="45360" bIns="45360" anchor="t">
            <a:noAutofit/>
          </a:bodyPr>
          <a:p>
            <a:endParaRPr b="0" lang="en-US" sz="1800" spc="-1" strike="noStrike">
              <a:solidFill>
                <a:srgbClr val="54a0d8"/>
              </a:solidFill>
              <a:latin typeface="Arial"/>
            </a:endParaRPr>
          </a:p>
        </p:txBody>
      </p:sp>
      <p:sp>
        <p:nvSpPr>
          <p:cNvPr id="833" name="Freeform 11"/>
          <p:cNvSpPr/>
          <p:nvPr/>
        </p:nvSpPr>
        <p:spPr>
          <a:xfrm>
            <a:off x="5442120" y="1301760"/>
            <a:ext cx="493560" cy="1684440"/>
          </a:xfrm>
          <a:custGeom>
            <a:avLst/>
            <a:gdLst>
              <a:gd name="textAreaLeft" fmla="*/ 0 w 493560"/>
              <a:gd name="textAreaRight" fmla="*/ 493920 w 493560"/>
              <a:gd name="textAreaTop" fmla="*/ 0 h 1684440"/>
              <a:gd name="textAreaBottom" fmla="*/ 1684800 h 1684440"/>
            </a:gdLst>
            <a:ahLst/>
            <a:rect l="textAreaLeft" t="textAreaTop" r="textAreaRight" b="textAreaBottom"/>
            <a:pathLst>
              <a:path w="697" h="2372">
                <a:moveTo>
                  <a:pt x="697" y="2372"/>
                </a:moveTo>
                <a:lnTo>
                  <a:pt x="0" y="2372"/>
                </a:lnTo>
                <a:lnTo>
                  <a:pt x="0" y="0"/>
                </a:lnTo>
              </a:path>
            </a:pathLst>
          </a:custGeom>
          <a:noFill/>
          <a:ln w="9360">
            <a:solidFill>
              <a:srgbClr val="949494"/>
            </a:solidFill>
            <a:prstDash val="dash"/>
            <a:miter/>
            <a:headEnd len="med" type="oval" w="med"/>
            <a:tailEnd len="med" type="oval" w="med"/>
          </a:ln>
        </p:spPr>
        <p:style>
          <a:lnRef idx="0"/>
          <a:fillRef idx="0"/>
          <a:effectRef idx="0"/>
          <a:fontRef idx="minor"/>
        </p:style>
        <p:txBody>
          <a:bodyPr lIns="91080" rIns="91080" tIns="45360" bIns="45360" anchor="t">
            <a:noAutofit/>
          </a:bodyPr>
          <a:p>
            <a:endParaRPr b="0" lang="en-US" sz="1800" spc="-1" strike="noStrike">
              <a:solidFill>
                <a:srgbClr val="54a0d8"/>
              </a:solidFill>
              <a:latin typeface="Arial"/>
            </a:endParaRPr>
          </a:p>
        </p:txBody>
      </p:sp>
      <p:sp>
        <p:nvSpPr>
          <p:cNvPr id="834" name="Freeform 12"/>
          <p:cNvSpPr/>
          <p:nvPr/>
        </p:nvSpPr>
        <p:spPr>
          <a:xfrm>
            <a:off x="8761320" y="1301760"/>
            <a:ext cx="523800" cy="1684440"/>
          </a:xfrm>
          <a:custGeom>
            <a:avLst/>
            <a:gdLst>
              <a:gd name="textAreaLeft" fmla="*/ 0 w 523800"/>
              <a:gd name="textAreaRight" fmla="*/ 524160 w 523800"/>
              <a:gd name="textAreaTop" fmla="*/ 0 h 1684440"/>
              <a:gd name="textAreaBottom" fmla="*/ 1684800 h 1684440"/>
            </a:gdLst>
            <a:ahLst/>
            <a:rect l="textAreaLeft" t="textAreaTop" r="textAreaRight" b="textAreaBottom"/>
            <a:pathLst>
              <a:path w="741" h="2372">
                <a:moveTo>
                  <a:pt x="741" y="2372"/>
                </a:moveTo>
                <a:lnTo>
                  <a:pt x="0" y="2372"/>
                </a:lnTo>
                <a:lnTo>
                  <a:pt x="0" y="0"/>
                </a:lnTo>
              </a:path>
            </a:pathLst>
          </a:custGeom>
          <a:noFill/>
          <a:ln w="9360">
            <a:solidFill>
              <a:srgbClr val="949494"/>
            </a:solidFill>
            <a:prstDash val="dash"/>
            <a:miter/>
            <a:headEnd len="med" type="oval" w="med"/>
            <a:tailEnd len="med" type="oval" w="med"/>
          </a:ln>
        </p:spPr>
        <p:style>
          <a:lnRef idx="0"/>
          <a:fillRef idx="0"/>
          <a:effectRef idx="0"/>
          <a:fontRef idx="minor"/>
        </p:style>
        <p:txBody>
          <a:bodyPr lIns="91080" rIns="91080" tIns="45360" bIns="45360" anchor="t">
            <a:noAutofit/>
          </a:bodyPr>
          <a:p>
            <a:endParaRPr b="0" lang="en-US" sz="1800" spc="-1" strike="noStrike">
              <a:solidFill>
                <a:srgbClr val="54a0d8"/>
              </a:solidFill>
              <a:latin typeface="Arial"/>
            </a:endParaRPr>
          </a:p>
        </p:txBody>
      </p:sp>
      <p:sp>
        <p:nvSpPr>
          <p:cNvPr id="835" name="Freeform 13"/>
          <p:cNvSpPr/>
          <p:nvPr/>
        </p:nvSpPr>
        <p:spPr>
          <a:xfrm>
            <a:off x="3719520" y="3956040"/>
            <a:ext cx="600120" cy="1652760"/>
          </a:xfrm>
          <a:custGeom>
            <a:avLst/>
            <a:gdLst>
              <a:gd name="textAreaLeft" fmla="*/ 0 w 600120"/>
              <a:gd name="textAreaRight" fmla="*/ 600480 w 600120"/>
              <a:gd name="textAreaTop" fmla="*/ 0 h 1652760"/>
              <a:gd name="textAreaBottom" fmla="*/ 1653120 h 1652760"/>
            </a:gdLst>
            <a:ahLst/>
            <a:rect l="textAreaLeft" t="textAreaTop" r="textAreaRight" b="textAreaBottom"/>
            <a:pathLst>
              <a:path w="847" h="2329">
                <a:moveTo>
                  <a:pt x="847" y="0"/>
                </a:moveTo>
                <a:lnTo>
                  <a:pt x="0" y="0"/>
                </a:lnTo>
                <a:lnTo>
                  <a:pt x="0" y="2329"/>
                </a:lnTo>
              </a:path>
            </a:pathLst>
          </a:custGeom>
          <a:noFill/>
          <a:ln w="9360">
            <a:solidFill>
              <a:srgbClr val="949494"/>
            </a:solidFill>
            <a:prstDash val="dash"/>
            <a:miter/>
            <a:headEnd len="med" type="oval" w="med"/>
            <a:tailEnd len="med" type="oval" w="med"/>
          </a:ln>
        </p:spPr>
        <p:style>
          <a:lnRef idx="0"/>
          <a:fillRef idx="0"/>
          <a:effectRef idx="0"/>
          <a:fontRef idx="minor"/>
        </p:style>
        <p:txBody>
          <a:bodyPr lIns="91080" rIns="91080" tIns="45360" bIns="45360" anchor="t">
            <a:noAutofit/>
          </a:bodyPr>
          <a:p>
            <a:endParaRPr b="0" lang="en-US" sz="1800" spc="-1" strike="noStrike">
              <a:solidFill>
                <a:srgbClr val="54a0d8"/>
              </a:solidFill>
              <a:latin typeface="Arial"/>
            </a:endParaRPr>
          </a:p>
        </p:txBody>
      </p:sp>
      <p:sp>
        <p:nvSpPr>
          <p:cNvPr id="836" name="Freeform 14"/>
          <p:cNvSpPr/>
          <p:nvPr/>
        </p:nvSpPr>
        <p:spPr>
          <a:xfrm>
            <a:off x="7176960" y="3956040"/>
            <a:ext cx="455760" cy="1652760"/>
          </a:xfrm>
          <a:custGeom>
            <a:avLst/>
            <a:gdLst>
              <a:gd name="textAreaLeft" fmla="*/ 0 w 455760"/>
              <a:gd name="textAreaRight" fmla="*/ 456120 w 455760"/>
              <a:gd name="textAreaTop" fmla="*/ 0 h 1652760"/>
              <a:gd name="textAreaBottom" fmla="*/ 1653120 h 1652760"/>
            </a:gdLst>
            <a:ahLst/>
            <a:rect l="textAreaLeft" t="textAreaTop" r="textAreaRight" b="textAreaBottom"/>
            <a:pathLst>
              <a:path w="644" h="2329">
                <a:moveTo>
                  <a:pt x="644" y="0"/>
                </a:moveTo>
                <a:lnTo>
                  <a:pt x="0" y="0"/>
                </a:lnTo>
                <a:lnTo>
                  <a:pt x="0" y="2329"/>
                </a:lnTo>
              </a:path>
            </a:pathLst>
          </a:custGeom>
          <a:noFill/>
          <a:ln w="9360">
            <a:solidFill>
              <a:srgbClr val="949494"/>
            </a:solidFill>
            <a:prstDash val="dash"/>
            <a:miter/>
            <a:headEnd len="med" type="oval" w="med"/>
            <a:tailEnd len="med" type="oval" w="med"/>
          </a:ln>
        </p:spPr>
        <p:style>
          <a:lnRef idx="0"/>
          <a:fillRef idx="0"/>
          <a:effectRef idx="0"/>
          <a:fontRef idx="minor"/>
        </p:style>
        <p:txBody>
          <a:bodyPr lIns="91080" rIns="91080" tIns="45360" bIns="45360" anchor="t">
            <a:noAutofit/>
          </a:bodyPr>
          <a:p>
            <a:endParaRPr b="0" lang="en-US" sz="1800" spc="-1" strike="noStrike">
              <a:solidFill>
                <a:srgbClr val="54a0d8"/>
              </a:solidFill>
              <a:latin typeface="Arial"/>
            </a:endParaRPr>
          </a:p>
        </p:txBody>
      </p:sp>
      <p:sp>
        <p:nvSpPr>
          <p:cNvPr id="837" name="矩形 54"/>
          <p:cNvSpPr/>
          <p:nvPr/>
        </p:nvSpPr>
        <p:spPr>
          <a:xfrm>
            <a:off x="1778040" y="1541520"/>
            <a:ext cx="31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起步于上世纪</a:t>
            </a:r>
            <a:r>
              <a:rPr b="0" lang="en-US" sz="1600" spc="-1" strike="noStrike">
                <a:solidFill>
                  <a:srgbClr val="4d4d4d"/>
                </a:solidFill>
                <a:latin typeface="微软雅黑"/>
                <a:ea typeface="微软雅黑"/>
              </a:rPr>
              <a:t>90</a:t>
            </a:r>
            <a:r>
              <a:rPr b="0" lang="zh-CN" sz="1600" spc="-1" strike="noStrike">
                <a:solidFill>
                  <a:srgbClr val="4d4d4d"/>
                </a:solidFill>
                <a:latin typeface="微软雅黑"/>
                <a:ea typeface="微软雅黑"/>
              </a:rPr>
              <a:t>初，总共发展不过</a:t>
            </a:r>
            <a:r>
              <a:rPr b="0" lang="en-US" sz="1600" spc="-1" strike="noStrike">
                <a:solidFill>
                  <a:srgbClr val="4d4d4d"/>
                </a:solidFill>
                <a:latin typeface="微软雅黑"/>
                <a:ea typeface="微软雅黑"/>
              </a:rPr>
              <a:t>20</a:t>
            </a:r>
            <a:r>
              <a:rPr b="0" lang="zh-CN" sz="1600" spc="-1" strike="noStrike">
                <a:solidFill>
                  <a:srgbClr val="4d4d4d"/>
                </a:solidFill>
                <a:latin typeface="微软雅黑"/>
                <a:ea typeface="微软雅黑"/>
              </a:rPr>
              <a:t>余年时间。</a:t>
            </a:r>
            <a:endParaRPr b="0" lang="en-US" sz="1600" spc="-1" strike="noStrike">
              <a:solidFill>
                <a:srgbClr val="54a0d8"/>
              </a:solidFill>
              <a:latin typeface="Arial"/>
            </a:endParaRPr>
          </a:p>
        </p:txBody>
      </p:sp>
      <p:sp>
        <p:nvSpPr>
          <p:cNvPr id="838" name="矩形 55"/>
          <p:cNvSpPr/>
          <p:nvPr/>
        </p:nvSpPr>
        <p:spPr>
          <a:xfrm>
            <a:off x="1975320" y="12175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起步较晚</a:t>
            </a:r>
            <a:endParaRPr b="0" lang="en-US" sz="1800" spc="-1" strike="noStrike">
              <a:solidFill>
                <a:srgbClr val="54a0d8"/>
              </a:solidFill>
              <a:latin typeface="Arial"/>
            </a:endParaRPr>
          </a:p>
        </p:txBody>
      </p:sp>
      <p:sp>
        <p:nvSpPr>
          <p:cNvPr id="839" name="文本框 56"/>
          <p:cNvSpPr/>
          <p:nvPr/>
        </p:nvSpPr>
        <p:spPr>
          <a:xfrm>
            <a:off x="2193840" y="324972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ifeline JL"/>
              </a:rPr>
              <a:t>01</a:t>
            </a:r>
            <a:endParaRPr b="0" lang="en-US" sz="4400" spc="-1" strike="noStrike">
              <a:solidFill>
                <a:srgbClr val="54a0d8"/>
              </a:solidFill>
              <a:latin typeface="Arial"/>
            </a:endParaRPr>
          </a:p>
        </p:txBody>
      </p:sp>
      <p:sp>
        <p:nvSpPr>
          <p:cNvPr id="840" name="文本框 57"/>
          <p:cNvSpPr/>
          <p:nvPr/>
        </p:nvSpPr>
        <p:spPr>
          <a:xfrm>
            <a:off x="3881520" y="277956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ifeline JL"/>
              </a:rPr>
              <a:t>02</a:t>
            </a:r>
            <a:endParaRPr b="0" lang="en-US" sz="4400" spc="-1" strike="noStrike">
              <a:solidFill>
                <a:srgbClr val="54a0d8"/>
              </a:solidFill>
              <a:latin typeface="Arial"/>
            </a:endParaRPr>
          </a:p>
        </p:txBody>
      </p:sp>
      <p:sp>
        <p:nvSpPr>
          <p:cNvPr id="841" name="文本框 58"/>
          <p:cNvSpPr/>
          <p:nvPr/>
        </p:nvSpPr>
        <p:spPr>
          <a:xfrm>
            <a:off x="5552280" y="324972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ifeline JL"/>
              </a:rPr>
              <a:t>03</a:t>
            </a:r>
            <a:endParaRPr b="0" lang="en-US" sz="4400" spc="-1" strike="noStrike">
              <a:solidFill>
                <a:srgbClr val="54a0d8"/>
              </a:solidFill>
              <a:latin typeface="Arial"/>
            </a:endParaRPr>
          </a:p>
        </p:txBody>
      </p:sp>
      <p:sp>
        <p:nvSpPr>
          <p:cNvPr id="842" name="文本框 59"/>
          <p:cNvSpPr/>
          <p:nvPr/>
        </p:nvSpPr>
        <p:spPr>
          <a:xfrm>
            <a:off x="7231320" y="277956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ifeline JL"/>
              </a:rPr>
              <a:t>04</a:t>
            </a:r>
            <a:endParaRPr b="0" lang="en-US" sz="4400" spc="-1" strike="noStrike">
              <a:solidFill>
                <a:srgbClr val="54a0d8"/>
              </a:solidFill>
              <a:latin typeface="Arial"/>
            </a:endParaRPr>
          </a:p>
        </p:txBody>
      </p:sp>
      <p:sp>
        <p:nvSpPr>
          <p:cNvPr id="843" name="文本框 60"/>
          <p:cNvSpPr/>
          <p:nvPr/>
        </p:nvSpPr>
        <p:spPr>
          <a:xfrm>
            <a:off x="8927280" y="324972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ifeline JL"/>
              </a:rPr>
              <a:t>05</a:t>
            </a:r>
            <a:endParaRPr b="0" lang="en-US" sz="4400" spc="-1" strike="noStrike">
              <a:solidFill>
                <a:srgbClr val="54a0d8"/>
              </a:solidFill>
              <a:latin typeface="Arial"/>
            </a:endParaRPr>
          </a:p>
        </p:txBody>
      </p:sp>
      <p:sp>
        <p:nvSpPr>
          <p:cNvPr id="844" name="矩形 61"/>
          <p:cNvSpPr/>
          <p:nvPr/>
        </p:nvSpPr>
        <p:spPr>
          <a:xfrm>
            <a:off x="3751200" y="477828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法律法规制订比较滞后，适用的法规还是上世纪</a:t>
            </a:r>
            <a:r>
              <a:rPr b="0" lang="en-US" sz="1600" spc="-1" strike="noStrike">
                <a:solidFill>
                  <a:srgbClr val="4d4d4d"/>
                </a:solidFill>
                <a:latin typeface="微软雅黑"/>
                <a:ea typeface="微软雅黑"/>
              </a:rPr>
              <a:t>80</a:t>
            </a:r>
            <a:r>
              <a:rPr b="0" lang="zh-CN" sz="1600" spc="-1" strike="noStrike">
                <a:solidFill>
                  <a:srgbClr val="4d4d4d"/>
                </a:solidFill>
                <a:latin typeface="微软雅黑"/>
                <a:ea typeface="微软雅黑"/>
              </a:rPr>
              <a:t>年代的</a:t>
            </a:r>
            <a:r>
              <a:rPr b="0" lang="en-US" sz="1600" spc="-1" strike="noStrike">
                <a:solidFill>
                  <a:srgbClr val="4d4d4d"/>
                </a:solidFill>
                <a:latin typeface="微软雅黑"/>
                <a:ea typeface="微软雅黑"/>
              </a:rPr>
              <a:t>XXXX</a:t>
            </a:r>
            <a:r>
              <a:rPr b="0" lang="zh-CN" sz="1600" spc="-1" strike="noStrike">
                <a:solidFill>
                  <a:srgbClr val="4d4d4d"/>
                </a:solidFill>
                <a:latin typeface="微软雅黑"/>
                <a:ea typeface="微软雅黑"/>
              </a:rPr>
              <a:t>标准</a:t>
            </a:r>
            <a:endParaRPr b="0" lang="en-US" sz="1600" spc="-1" strike="noStrike">
              <a:solidFill>
                <a:srgbClr val="54a0d8"/>
              </a:solidFill>
              <a:latin typeface="Arial"/>
            </a:endParaRPr>
          </a:p>
        </p:txBody>
      </p:sp>
      <p:sp>
        <p:nvSpPr>
          <p:cNvPr id="845" name="矩形 85"/>
          <p:cNvSpPr/>
          <p:nvPr/>
        </p:nvSpPr>
        <p:spPr>
          <a:xfrm>
            <a:off x="4178160" y="445464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政策法规制定滞后</a:t>
            </a:r>
            <a:endParaRPr b="0" lang="en-US" sz="1800" spc="-1" strike="noStrike">
              <a:solidFill>
                <a:srgbClr val="54a0d8"/>
              </a:solidFill>
              <a:latin typeface="Arial"/>
            </a:endParaRPr>
          </a:p>
        </p:txBody>
      </p:sp>
      <p:sp>
        <p:nvSpPr>
          <p:cNvPr id="846" name="矩形 86"/>
          <p:cNvSpPr/>
          <p:nvPr/>
        </p:nvSpPr>
        <p:spPr>
          <a:xfrm>
            <a:off x="5483160" y="1541520"/>
            <a:ext cx="31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目前本行业对人才的逐年增长，人才缺口较大。</a:t>
            </a:r>
            <a:endParaRPr b="0" lang="en-US" sz="1600" spc="-1" strike="noStrike">
              <a:solidFill>
                <a:srgbClr val="54a0d8"/>
              </a:solidFill>
              <a:latin typeface="Arial"/>
            </a:endParaRPr>
          </a:p>
        </p:txBody>
      </p:sp>
      <p:sp>
        <p:nvSpPr>
          <p:cNvPr id="847" name="矩形 87"/>
          <p:cNvSpPr/>
          <p:nvPr/>
        </p:nvSpPr>
        <p:spPr>
          <a:xfrm>
            <a:off x="5680440" y="12175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rPr>
              <a:t>人才缺乏</a:t>
            </a:r>
            <a:endParaRPr b="0" lang="en-US" sz="1800" spc="-1" strike="noStrike">
              <a:solidFill>
                <a:srgbClr val="54a0d8"/>
              </a:solidFill>
              <a:latin typeface="Arial"/>
            </a:endParaRPr>
          </a:p>
        </p:txBody>
      </p:sp>
      <p:sp>
        <p:nvSpPr>
          <p:cNvPr id="848" name="矩形 88"/>
          <p:cNvSpPr/>
          <p:nvPr/>
        </p:nvSpPr>
        <p:spPr>
          <a:xfrm>
            <a:off x="7240680" y="477828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行业规模每年以</a:t>
            </a:r>
            <a:r>
              <a:rPr b="0" lang="en-US" sz="1600" spc="-1" strike="noStrike">
                <a:solidFill>
                  <a:srgbClr val="4d4d4d"/>
                </a:solidFill>
                <a:latin typeface="微软雅黑"/>
                <a:ea typeface="微软雅黑"/>
              </a:rPr>
              <a:t>300%</a:t>
            </a:r>
            <a:r>
              <a:rPr b="0" lang="zh-CN" sz="1600" spc="-1" strike="noStrike">
                <a:solidFill>
                  <a:srgbClr val="4d4d4d"/>
                </a:solidFill>
                <a:latin typeface="微软雅黑"/>
                <a:ea typeface="微软雅黑"/>
              </a:rPr>
              <a:t>的速度快速增长，远高于国外</a:t>
            </a:r>
            <a:r>
              <a:rPr b="0" lang="en-US" sz="1600" spc="-1" strike="noStrike">
                <a:solidFill>
                  <a:srgbClr val="4d4d4d"/>
                </a:solidFill>
                <a:latin typeface="微软雅黑"/>
                <a:ea typeface="微软雅黑"/>
              </a:rPr>
              <a:t>50%</a:t>
            </a:r>
            <a:r>
              <a:rPr b="0" lang="zh-CN" sz="1600" spc="-1" strike="noStrike">
                <a:solidFill>
                  <a:srgbClr val="4d4d4d"/>
                </a:solidFill>
                <a:latin typeface="微软雅黑"/>
                <a:ea typeface="微软雅黑"/>
              </a:rPr>
              <a:t>的平均增速。</a:t>
            </a:r>
            <a:endParaRPr b="0" lang="en-US" sz="1600" spc="-1" strike="noStrike">
              <a:solidFill>
                <a:srgbClr val="54a0d8"/>
              </a:solidFill>
              <a:latin typeface="Arial"/>
            </a:endParaRPr>
          </a:p>
        </p:txBody>
      </p:sp>
      <p:sp>
        <p:nvSpPr>
          <p:cNvPr id="849" name="矩形 89"/>
          <p:cNvSpPr/>
          <p:nvPr/>
        </p:nvSpPr>
        <p:spPr>
          <a:xfrm>
            <a:off x="7462440" y="445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发展较快</a:t>
            </a:r>
            <a:endParaRPr b="0" lang="en-US" sz="1800" spc="-1" strike="noStrike">
              <a:solidFill>
                <a:srgbClr val="54a0d8"/>
              </a:solidFill>
              <a:latin typeface="Arial"/>
            </a:endParaRPr>
          </a:p>
        </p:txBody>
      </p:sp>
      <p:sp>
        <p:nvSpPr>
          <p:cNvPr id="850" name="矩形 90"/>
          <p:cNvSpPr/>
          <p:nvPr/>
        </p:nvSpPr>
        <p:spPr>
          <a:xfrm>
            <a:off x="8804160" y="1541520"/>
            <a:ext cx="22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相关配套的产业不完善，还需从多面着手构建完整产业体系。</a:t>
            </a:r>
            <a:endParaRPr b="0" lang="en-US" sz="1600" spc="-1" strike="noStrike">
              <a:solidFill>
                <a:srgbClr val="54a0d8"/>
              </a:solidFill>
              <a:latin typeface="Arial"/>
            </a:endParaRPr>
          </a:p>
        </p:txBody>
      </p:sp>
      <p:sp>
        <p:nvSpPr>
          <p:cNvPr id="851" name="矩形 91"/>
          <p:cNvSpPr/>
          <p:nvPr/>
        </p:nvSpPr>
        <p:spPr>
          <a:xfrm>
            <a:off x="9047880" y="12175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rPr>
              <a:t>配套不成熟</a:t>
            </a:r>
            <a:endParaRPr b="0" lang="en-US" sz="1800" spc="-1" strike="noStrike">
              <a:solidFill>
                <a:srgbClr val="54a0d8"/>
              </a:solidFill>
              <a:latin typeface="Arial"/>
            </a:endParaRPr>
          </a:p>
        </p:txBody>
      </p:sp>
    </p:spTree>
  </p:cSld>
  <p:transition spd="slow" advTm="6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Freeform 6"/>
          <p:cNvSpPr/>
          <p:nvPr/>
        </p:nvSpPr>
        <p:spPr>
          <a:xfrm>
            <a:off x="1138320" y="2666880"/>
            <a:ext cx="2065320" cy="1787760"/>
          </a:xfrm>
          <a:custGeom>
            <a:avLst/>
            <a:gdLst>
              <a:gd name="textAreaLeft" fmla="*/ 0 w 2065320"/>
              <a:gd name="textAreaRight" fmla="*/ 2065680 w 2065320"/>
              <a:gd name="textAreaTop" fmla="*/ 0 h 1787760"/>
              <a:gd name="textAreaBottom" fmla="*/ 1788120 h 1787760"/>
            </a:gdLst>
            <a:ahLst/>
            <a:rect l="textAreaLeft" t="textAreaTop" r="textAreaRight" b="textAreaBottom"/>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e96969"/>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53" name="Line 7"/>
          <p:cNvSpPr/>
          <p:nvPr/>
        </p:nvSpPr>
        <p:spPr>
          <a:xfrm flipV="1">
            <a:off x="2690640" y="183312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854" name="Line 8"/>
          <p:cNvSpPr/>
          <p:nvPr/>
        </p:nvSpPr>
        <p:spPr>
          <a:xfrm>
            <a:off x="3201840" y="356400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855" name="Rectangle 9"/>
          <p:cNvSpPr/>
          <p:nvPr/>
        </p:nvSpPr>
        <p:spPr>
          <a:xfrm>
            <a:off x="3751200" y="1201680"/>
            <a:ext cx="6194520" cy="1293840"/>
          </a:xfrm>
          <a:prstGeom prst="rect">
            <a:avLst/>
          </a:prstGeom>
          <a:solidFill>
            <a:srgbClr val="ffffff"/>
          </a:solidFill>
          <a:ln w="0">
            <a:solidFill>
              <a:srgbClr val="bfbfb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56" name="Rectangle 10"/>
          <p:cNvSpPr/>
          <p:nvPr/>
        </p:nvSpPr>
        <p:spPr>
          <a:xfrm>
            <a:off x="5057640" y="995400"/>
            <a:ext cx="3581640" cy="422280"/>
          </a:xfrm>
          <a:prstGeom prst="rect">
            <a:avLst/>
          </a:prstGeom>
          <a:solidFill>
            <a:srgbClr val="54a0d8"/>
          </a:solidFill>
          <a:ln w="1908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57" name="Rectangle 11"/>
          <p:cNvSpPr/>
          <p:nvPr/>
        </p:nvSpPr>
        <p:spPr>
          <a:xfrm>
            <a:off x="3751200" y="2949480"/>
            <a:ext cx="6194520" cy="1292400"/>
          </a:xfrm>
          <a:prstGeom prst="rect">
            <a:avLst/>
          </a:prstGeom>
          <a:solidFill>
            <a:srgbClr val="ffffff"/>
          </a:solidFill>
          <a:ln w="0">
            <a:solidFill>
              <a:srgbClr val="bfbfb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58" name="Rectangle 12"/>
          <p:cNvSpPr/>
          <p:nvPr/>
        </p:nvSpPr>
        <p:spPr>
          <a:xfrm>
            <a:off x="5057640" y="2741760"/>
            <a:ext cx="3581640" cy="423720"/>
          </a:xfrm>
          <a:prstGeom prst="rect">
            <a:avLst/>
          </a:prstGeom>
          <a:solidFill>
            <a:srgbClr val="54a0d8"/>
          </a:solidFill>
          <a:ln w="1908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59" name="Line 13"/>
          <p:cNvSpPr/>
          <p:nvPr/>
        </p:nvSpPr>
        <p:spPr>
          <a:xfrm>
            <a:off x="2690640" y="44560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
        <p:nvSpPr>
          <p:cNvPr id="860" name="Rectangle 14"/>
          <p:cNvSpPr/>
          <p:nvPr/>
        </p:nvSpPr>
        <p:spPr>
          <a:xfrm>
            <a:off x="3751200" y="4700520"/>
            <a:ext cx="6194520" cy="1293840"/>
          </a:xfrm>
          <a:prstGeom prst="rect">
            <a:avLst/>
          </a:prstGeom>
          <a:solidFill>
            <a:srgbClr val="ffffff"/>
          </a:solidFill>
          <a:ln w="0">
            <a:solidFill>
              <a:srgbClr val="bfbfb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61" name="Rectangle 15"/>
          <p:cNvSpPr/>
          <p:nvPr/>
        </p:nvSpPr>
        <p:spPr>
          <a:xfrm>
            <a:off x="5057640" y="4494240"/>
            <a:ext cx="3581640" cy="423720"/>
          </a:xfrm>
          <a:prstGeom prst="rect">
            <a:avLst/>
          </a:prstGeom>
          <a:solidFill>
            <a:srgbClr val="54a0d8"/>
          </a:solidFill>
          <a:ln w="1908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a0d8"/>
              </a:solidFill>
              <a:latin typeface="Arial"/>
            </a:endParaRPr>
          </a:p>
        </p:txBody>
      </p:sp>
      <p:sp>
        <p:nvSpPr>
          <p:cNvPr id="862" name="TextBox 16"/>
          <p:cNvSpPr/>
          <p:nvPr/>
        </p:nvSpPr>
        <p:spPr>
          <a:xfrm>
            <a:off x="5294160" y="995400"/>
            <a:ext cx="3108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学术研究价值</a:t>
            </a:r>
            <a:endParaRPr b="0" lang="en-US" sz="2200" spc="-1" strike="noStrike">
              <a:solidFill>
                <a:srgbClr val="54a0d8"/>
              </a:solidFill>
              <a:latin typeface="Arial"/>
            </a:endParaRPr>
          </a:p>
        </p:txBody>
      </p:sp>
      <p:sp>
        <p:nvSpPr>
          <p:cNvPr id="863" name="TextBox 17"/>
          <p:cNvSpPr/>
          <p:nvPr/>
        </p:nvSpPr>
        <p:spPr>
          <a:xfrm>
            <a:off x="3938760" y="1527120"/>
            <a:ext cx="57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本课题具有较高的学术研究价值，可以某某某研究提供相应的理论基础。</a:t>
            </a:r>
            <a:endParaRPr b="0" lang="en-US" sz="1800" spc="-1" strike="noStrike">
              <a:solidFill>
                <a:srgbClr val="54a0d8"/>
              </a:solidFill>
              <a:latin typeface="Arial"/>
            </a:endParaRPr>
          </a:p>
        </p:txBody>
      </p:sp>
      <p:sp>
        <p:nvSpPr>
          <p:cNvPr id="864" name="TextBox 18"/>
          <p:cNvSpPr/>
          <p:nvPr/>
        </p:nvSpPr>
        <p:spPr>
          <a:xfrm>
            <a:off x="5294160" y="2751120"/>
            <a:ext cx="3108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经济效益</a:t>
            </a:r>
            <a:endParaRPr b="0" lang="en-US" sz="2200" spc="-1" strike="noStrike">
              <a:solidFill>
                <a:srgbClr val="54a0d8"/>
              </a:solidFill>
              <a:latin typeface="Arial"/>
            </a:endParaRPr>
          </a:p>
        </p:txBody>
      </p:sp>
      <p:sp>
        <p:nvSpPr>
          <p:cNvPr id="865" name="TextBox 19"/>
          <p:cNvSpPr/>
          <p:nvPr/>
        </p:nvSpPr>
        <p:spPr>
          <a:xfrm>
            <a:off x="3938760" y="3260880"/>
            <a:ext cx="57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本课题能有效地提高工作效率，降低成本，经济效益比较明显。</a:t>
            </a:r>
            <a:endParaRPr b="0" lang="en-US" sz="1800" spc="-1" strike="noStrike">
              <a:solidFill>
                <a:srgbClr val="54a0d8"/>
              </a:solidFill>
              <a:latin typeface="Arial"/>
            </a:endParaRPr>
          </a:p>
        </p:txBody>
      </p:sp>
      <p:sp>
        <p:nvSpPr>
          <p:cNvPr id="866" name="TextBox 20"/>
          <p:cNvSpPr/>
          <p:nvPr/>
        </p:nvSpPr>
        <p:spPr>
          <a:xfrm>
            <a:off x="5294160" y="4497480"/>
            <a:ext cx="3108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社会效益</a:t>
            </a:r>
            <a:endParaRPr b="0" lang="en-US" sz="2200" spc="-1" strike="noStrike">
              <a:solidFill>
                <a:srgbClr val="54a0d8"/>
              </a:solidFill>
              <a:latin typeface="Arial"/>
            </a:endParaRPr>
          </a:p>
        </p:txBody>
      </p:sp>
      <p:sp>
        <p:nvSpPr>
          <p:cNvPr id="867" name="TextBox 21"/>
          <p:cNvSpPr/>
          <p:nvPr/>
        </p:nvSpPr>
        <p:spPr>
          <a:xfrm>
            <a:off x="3938760" y="5008680"/>
            <a:ext cx="575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请在这里输入您的文字请在这里输入您的文字请在这里输入您的文字请在这里输入您的文字</a:t>
            </a:r>
            <a:endParaRPr b="0" lang="en-US" sz="1800" spc="-1" strike="noStrike">
              <a:solidFill>
                <a:srgbClr val="54a0d8"/>
              </a:solidFill>
              <a:latin typeface="Arial"/>
            </a:endParaRPr>
          </a:p>
        </p:txBody>
      </p:sp>
      <p:sp>
        <p:nvSpPr>
          <p:cNvPr id="868" name="TextBox 22"/>
          <p:cNvSpPr/>
          <p:nvPr/>
        </p:nvSpPr>
        <p:spPr>
          <a:xfrm>
            <a:off x="1438200" y="2995560"/>
            <a:ext cx="149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三个意义</a:t>
            </a:r>
            <a:endParaRPr b="0" lang="en-US" sz="3600" spc="-1" strike="noStrike">
              <a:solidFill>
                <a:srgbClr val="54a0d8"/>
              </a:solidFill>
              <a:latin typeface="Arial"/>
            </a:endParaRPr>
          </a:p>
        </p:txBody>
      </p:sp>
      <p:sp>
        <p:nvSpPr>
          <p:cNvPr id="869"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1.3 </a:t>
            </a:r>
            <a:r>
              <a:rPr b="0" lang="zh-CN" sz="2800" spc="-1" strike="noStrike">
                <a:solidFill>
                  <a:srgbClr val="4d4d4d"/>
                </a:solidFill>
                <a:latin typeface="微软雅黑"/>
                <a:ea typeface="微软雅黑"/>
              </a:rPr>
              <a:t>研究意义</a:t>
            </a:r>
            <a:endParaRPr b="0" lang="en-US" sz="2800" spc="-1" strike="noStrike">
              <a:solidFill>
                <a:srgbClr val="54a0d8"/>
              </a:solidFill>
              <a:latin typeface="Arial"/>
            </a:endParaRPr>
          </a:p>
        </p:txBody>
      </p:sp>
      <p:sp>
        <p:nvSpPr>
          <p:cNvPr id="870"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71" name="直接连接符 26"/>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Box 6"/>
          <p:cNvSpPr/>
          <p:nvPr/>
        </p:nvSpPr>
        <p:spPr>
          <a:xfrm>
            <a:off x="5410080" y="1170000"/>
            <a:ext cx="5945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刘思强：中小企业企业文化建设初探</a:t>
            </a:r>
            <a:r>
              <a:rPr b="0" lang="en-US" sz="2000" spc="-1" strike="noStrike">
                <a:solidFill>
                  <a:srgbClr val="595959"/>
                </a:solidFill>
                <a:latin typeface="微软雅黑"/>
                <a:ea typeface="微软雅黑"/>
              </a:rPr>
              <a:t>[J].</a:t>
            </a:r>
            <a:r>
              <a:rPr b="0" lang="zh-CN" sz="2000" spc="-1" strike="noStrike">
                <a:solidFill>
                  <a:srgbClr val="595959"/>
                </a:solidFill>
                <a:latin typeface="微软雅黑"/>
                <a:ea typeface="微软雅黑"/>
              </a:rPr>
              <a:t>湖南社会科学，</a:t>
            </a:r>
            <a:r>
              <a:rPr b="0" lang="en-US" sz="2000" spc="-1" strike="noStrike">
                <a:solidFill>
                  <a:srgbClr val="595959"/>
                </a:solidFill>
                <a:latin typeface="微软雅黑"/>
                <a:ea typeface="微软雅黑"/>
              </a:rPr>
              <a:t>2002(5).</a:t>
            </a:r>
            <a:endParaRPr b="0" lang="en-US" sz="2000" spc="-1" strike="noStrike">
              <a:solidFill>
                <a:srgbClr val="54a0d8"/>
              </a:solidFill>
              <a:latin typeface="Arial"/>
            </a:endParaRPr>
          </a:p>
        </p:txBody>
      </p:sp>
      <p:sp>
        <p:nvSpPr>
          <p:cNvPr id="873" name="TextBox 7"/>
          <p:cNvSpPr/>
          <p:nvPr/>
        </p:nvSpPr>
        <p:spPr>
          <a:xfrm>
            <a:off x="5410080" y="2017800"/>
            <a:ext cx="5923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德鲁克：知识管理</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中国人民大学出版社，</a:t>
            </a:r>
            <a:r>
              <a:rPr b="0" lang="en-US" sz="2000" spc="-1" strike="noStrike">
                <a:solidFill>
                  <a:srgbClr val="595959"/>
                </a:solidFill>
                <a:latin typeface="微软雅黑"/>
                <a:ea typeface="微软雅黑"/>
              </a:rPr>
              <a:t>2000.</a:t>
            </a:r>
            <a:endParaRPr b="0" lang="en-US" sz="2000" spc="-1" strike="noStrike">
              <a:solidFill>
                <a:srgbClr val="54a0d8"/>
              </a:solidFill>
              <a:latin typeface="Arial"/>
            </a:endParaRPr>
          </a:p>
        </p:txBody>
      </p:sp>
      <p:sp>
        <p:nvSpPr>
          <p:cNvPr id="874" name="Oval 10"/>
          <p:cNvSpPr/>
          <p:nvPr/>
        </p:nvSpPr>
        <p:spPr>
          <a:xfrm>
            <a:off x="4762440" y="1203480"/>
            <a:ext cx="463680" cy="463320"/>
          </a:xfrm>
          <a:prstGeom prst="ellipse">
            <a:avLst/>
          </a:prstGeom>
          <a:solidFill>
            <a:srgbClr val="e96969"/>
          </a:solidFill>
          <a:ln w="1908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Lifeline JL"/>
                <a:ea typeface="微软雅黑"/>
              </a:rPr>
              <a:t>1</a:t>
            </a:r>
            <a:endParaRPr b="0" lang="en-US" sz="1800" spc="-1" strike="noStrike">
              <a:solidFill>
                <a:srgbClr val="54a0d8"/>
              </a:solidFill>
              <a:latin typeface="Arial"/>
            </a:endParaRPr>
          </a:p>
        </p:txBody>
      </p:sp>
      <p:sp>
        <p:nvSpPr>
          <p:cNvPr id="875" name="Oval 13"/>
          <p:cNvSpPr/>
          <p:nvPr/>
        </p:nvSpPr>
        <p:spPr>
          <a:xfrm>
            <a:off x="4762440" y="1971720"/>
            <a:ext cx="463680" cy="463680"/>
          </a:xfrm>
          <a:prstGeom prst="ellipse">
            <a:avLst/>
          </a:prstGeom>
          <a:solidFill>
            <a:srgbClr val="e96969"/>
          </a:solidFill>
          <a:ln w="1908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Lifeline JL"/>
                <a:ea typeface="微软雅黑"/>
              </a:rPr>
              <a:t>2</a:t>
            </a:r>
            <a:endParaRPr b="0" lang="en-US" sz="1800" spc="-1" strike="noStrike">
              <a:solidFill>
                <a:srgbClr val="54a0d8"/>
              </a:solidFill>
              <a:latin typeface="Arial"/>
            </a:endParaRPr>
          </a:p>
        </p:txBody>
      </p:sp>
      <p:sp>
        <p:nvSpPr>
          <p:cNvPr id="876" name="TextBox 10"/>
          <p:cNvSpPr/>
          <p:nvPr/>
        </p:nvSpPr>
        <p:spPr>
          <a:xfrm>
            <a:off x="5410080" y="2635200"/>
            <a:ext cx="5923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韩文辉，吴戚戚：国外企业文化理论主要流派述评</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哈尔滨工业大学学报，</a:t>
            </a:r>
            <a:r>
              <a:rPr b="0" lang="en-US" sz="2000" spc="-1" strike="noStrike">
                <a:solidFill>
                  <a:srgbClr val="595959"/>
                </a:solidFill>
                <a:latin typeface="微软雅黑"/>
                <a:ea typeface="微软雅黑"/>
              </a:rPr>
              <a:t>2000</a:t>
            </a:r>
            <a:r>
              <a:rPr b="0" lang="zh-CN" sz="2000" spc="-1" strike="noStrike">
                <a:solidFill>
                  <a:srgbClr val="595959"/>
                </a:solidFill>
                <a:latin typeface="微软雅黑"/>
                <a:ea typeface="微软雅黑"/>
              </a:rPr>
              <a:t>（</a:t>
            </a:r>
            <a:r>
              <a:rPr b="0" lang="en-US" sz="2000" spc="-1" strike="noStrike">
                <a:solidFill>
                  <a:srgbClr val="595959"/>
                </a:solidFill>
                <a:latin typeface="微软雅黑"/>
                <a:ea typeface="微软雅黑"/>
              </a:rPr>
              <a:t>4</a:t>
            </a:r>
            <a:r>
              <a:rPr b="0" lang="zh-CN" sz="2000" spc="-1" strike="noStrike">
                <a:solidFill>
                  <a:srgbClr val="595959"/>
                </a:solidFill>
                <a:latin typeface="微软雅黑"/>
                <a:ea typeface="微软雅黑"/>
              </a:rPr>
              <a:t>）</a:t>
            </a:r>
            <a:r>
              <a:rPr b="0" lang="en-US" sz="2000" spc="-1" strike="noStrike">
                <a:solidFill>
                  <a:srgbClr val="595959"/>
                </a:solidFill>
                <a:latin typeface="微软雅黑"/>
                <a:ea typeface="微软雅黑"/>
              </a:rPr>
              <a:t>23.</a:t>
            </a:r>
            <a:endParaRPr b="0" lang="en-US" sz="2000" spc="-1" strike="noStrike">
              <a:solidFill>
                <a:srgbClr val="54a0d8"/>
              </a:solidFill>
              <a:latin typeface="Arial"/>
            </a:endParaRPr>
          </a:p>
        </p:txBody>
      </p:sp>
      <p:sp>
        <p:nvSpPr>
          <p:cNvPr id="877" name="Oval 13"/>
          <p:cNvSpPr/>
          <p:nvPr/>
        </p:nvSpPr>
        <p:spPr>
          <a:xfrm>
            <a:off x="4762440" y="2757600"/>
            <a:ext cx="463680" cy="463320"/>
          </a:xfrm>
          <a:prstGeom prst="ellipse">
            <a:avLst/>
          </a:prstGeom>
          <a:solidFill>
            <a:srgbClr val="e96969"/>
          </a:solidFill>
          <a:ln w="1908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Lifeline JL"/>
                <a:ea typeface="微软雅黑"/>
              </a:rPr>
              <a:t>3</a:t>
            </a:r>
            <a:endParaRPr b="0" lang="en-US" sz="1800" spc="-1" strike="noStrike">
              <a:solidFill>
                <a:srgbClr val="54a0d8"/>
              </a:solidFill>
              <a:latin typeface="Arial"/>
            </a:endParaRPr>
          </a:p>
        </p:txBody>
      </p:sp>
      <p:sp>
        <p:nvSpPr>
          <p:cNvPr id="878" name="TextBox 12"/>
          <p:cNvSpPr/>
          <p:nvPr/>
        </p:nvSpPr>
        <p:spPr>
          <a:xfrm>
            <a:off x="5410080" y="3510000"/>
            <a:ext cx="5923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迈克尔</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茨维尔：创造基于能力的企业文化</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华夏出版社，</a:t>
            </a:r>
            <a:r>
              <a:rPr b="0" lang="en-US" sz="2000" spc="-1" strike="noStrike">
                <a:solidFill>
                  <a:srgbClr val="595959"/>
                </a:solidFill>
                <a:latin typeface="微软雅黑"/>
                <a:ea typeface="微软雅黑"/>
              </a:rPr>
              <a:t>2002.</a:t>
            </a:r>
            <a:endParaRPr b="0" lang="en-US" sz="2000" spc="-1" strike="noStrike">
              <a:solidFill>
                <a:srgbClr val="54a0d8"/>
              </a:solidFill>
              <a:latin typeface="Arial"/>
            </a:endParaRPr>
          </a:p>
        </p:txBody>
      </p:sp>
      <p:sp>
        <p:nvSpPr>
          <p:cNvPr id="879" name="Oval 13"/>
          <p:cNvSpPr/>
          <p:nvPr/>
        </p:nvSpPr>
        <p:spPr>
          <a:xfrm>
            <a:off x="4762440" y="3632040"/>
            <a:ext cx="463680" cy="463680"/>
          </a:xfrm>
          <a:prstGeom prst="ellipse">
            <a:avLst/>
          </a:prstGeom>
          <a:solidFill>
            <a:srgbClr val="e96969"/>
          </a:solidFill>
          <a:ln w="1908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Lifeline JL"/>
                <a:ea typeface="微软雅黑"/>
              </a:rPr>
              <a:t>4</a:t>
            </a:r>
            <a:endParaRPr b="0" lang="en-US" sz="1800" spc="-1" strike="noStrike">
              <a:solidFill>
                <a:srgbClr val="54a0d8"/>
              </a:solidFill>
              <a:latin typeface="Arial"/>
            </a:endParaRPr>
          </a:p>
        </p:txBody>
      </p:sp>
      <p:sp>
        <p:nvSpPr>
          <p:cNvPr id="880" name="TextBox 14"/>
          <p:cNvSpPr/>
          <p:nvPr/>
        </p:nvSpPr>
        <p:spPr>
          <a:xfrm>
            <a:off x="5410080" y="4408560"/>
            <a:ext cx="5923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王成荣：企业文化学教程</a:t>
            </a:r>
            <a:r>
              <a:rPr b="0" lang="en-US" sz="2000" spc="-1" strike="noStrike">
                <a:solidFill>
                  <a:srgbClr val="595959"/>
                </a:solidFill>
                <a:latin typeface="微软雅黑"/>
                <a:ea typeface="微软雅黑"/>
              </a:rPr>
              <a:t>[M].</a:t>
            </a:r>
            <a:r>
              <a:rPr b="0" lang="zh-CN" sz="2000" spc="-1" strike="noStrike">
                <a:solidFill>
                  <a:srgbClr val="595959"/>
                </a:solidFill>
                <a:latin typeface="微软雅黑"/>
                <a:ea typeface="微软雅黑"/>
              </a:rPr>
              <a:t>中国人民大学出版社，</a:t>
            </a:r>
            <a:r>
              <a:rPr b="0" lang="en-US" sz="2000" spc="-1" strike="noStrike">
                <a:solidFill>
                  <a:srgbClr val="595959"/>
                </a:solidFill>
                <a:latin typeface="微软雅黑"/>
                <a:ea typeface="微软雅黑"/>
              </a:rPr>
              <a:t>2003.</a:t>
            </a:r>
            <a:endParaRPr b="0" lang="en-US" sz="2000" spc="-1" strike="noStrike">
              <a:solidFill>
                <a:srgbClr val="54a0d8"/>
              </a:solidFill>
              <a:latin typeface="Arial"/>
            </a:endParaRPr>
          </a:p>
        </p:txBody>
      </p:sp>
      <p:sp>
        <p:nvSpPr>
          <p:cNvPr id="881" name="Oval 13"/>
          <p:cNvSpPr/>
          <p:nvPr/>
        </p:nvSpPr>
        <p:spPr>
          <a:xfrm>
            <a:off x="4762440" y="4522680"/>
            <a:ext cx="463680" cy="462240"/>
          </a:xfrm>
          <a:prstGeom prst="ellipse">
            <a:avLst/>
          </a:prstGeom>
          <a:solidFill>
            <a:srgbClr val="e96969"/>
          </a:solidFill>
          <a:ln w="1908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Lifeline JL"/>
                <a:ea typeface="微软雅黑"/>
              </a:rPr>
              <a:t>5</a:t>
            </a:r>
            <a:endParaRPr b="0" lang="en-US" sz="1800" spc="-1" strike="noStrike">
              <a:solidFill>
                <a:srgbClr val="54a0d8"/>
              </a:solidFill>
              <a:latin typeface="Arial"/>
            </a:endParaRPr>
          </a:p>
        </p:txBody>
      </p:sp>
      <p:sp>
        <p:nvSpPr>
          <p:cNvPr id="882" name="TextBox 16"/>
          <p:cNvSpPr/>
          <p:nvPr/>
        </p:nvSpPr>
        <p:spPr>
          <a:xfrm>
            <a:off x="5410080" y="5397480"/>
            <a:ext cx="5923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秦梦华：中小企业文化建设的现状及构建方略研究</a:t>
            </a:r>
            <a:r>
              <a:rPr b="0" lang="en-US" sz="2000" spc="-1" strike="noStrike">
                <a:solidFill>
                  <a:srgbClr val="595959"/>
                </a:solidFill>
                <a:latin typeface="微软雅黑"/>
                <a:ea typeface="微软雅黑"/>
              </a:rPr>
              <a:t>[J].</a:t>
            </a:r>
            <a:endParaRPr b="0" lang="en-US" sz="2000" spc="-1" strike="noStrike">
              <a:solidFill>
                <a:srgbClr val="54a0d8"/>
              </a:solidFill>
              <a:latin typeface="Arial"/>
            </a:endParaRPr>
          </a:p>
        </p:txBody>
      </p:sp>
      <p:sp>
        <p:nvSpPr>
          <p:cNvPr id="883" name="Oval 13"/>
          <p:cNvSpPr/>
          <p:nvPr/>
        </p:nvSpPr>
        <p:spPr>
          <a:xfrm>
            <a:off x="4762440" y="5519880"/>
            <a:ext cx="463680" cy="463320"/>
          </a:xfrm>
          <a:prstGeom prst="ellipse">
            <a:avLst/>
          </a:prstGeom>
          <a:solidFill>
            <a:srgbClr val="e96969"/>
          </a:solidFill>
          <a:ln w="1908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Lifeline JL"/>
                <a:ea typeface="微软雅黑"/>
              </a:rPr>
              <a:t>6</a:t>
            </a:r>
            <a:endParaRPr b="0" lang="en-US" sz="1800" spc="-1" strike="noStrike">
              <a:solidFill>
                <a:srgbClr val="54a0d8"/>
              </a:solidFill>
              <a:latin typeface="Arial"/>
            </a:endParaRPr>
          </a:p>
        </p:txBody>
      </p:sp>
      <p:sp>
        <p:nvSpPr>
          <p:cNvPr id="884" name="Freeform 5"/>
          <p:cNvSpPr/>
          <p:nvPr/>
        </p:nvSpPr>
        <p:spPr>
          <a:xfrm rot="924600">
            <a:off x="-246240" y="1801800"/>
            <a:ext cx="4354560" cy="4359240"/>
          </a:xfrm>
          <a:custGeom>
            <a:avLst/>
            <a:gdLst>
              <a:gd name="textAreaLeft" fmla="*/ 0 w 4354560"/>
              <a:gd name="textAreaRight" fmla="*/ 4354920 w 4354560"/>
              <a:gd name="textAreaTop" fmla="*/ 0 h 4359240"/>
              <a:gd name="textAreaBottom" fmla="*/ 4359600 h 4359240"/>
            </a:gdLst>
            <a:ahLst/>
            <a:rect l="textAreaLeft" t="textAreaTop" r="textAreaRight" b="textAreaBottom"/>
            <a:pathLst>
              <a:path w="4280" h="4280">
                <a:moveTo>
                  <a:pt x="50" y="3831"/>
                </a:moveTo>
                <a:cubicBezTo>
                  <a:pt x="0" y="3881"/>
                  <a:pt x="4" y="3966"/>
                  <a:pt x="59" y="4021"/>
                </a:cubicBezTo>
                <a:lnTo>
                  <a:pt x="259" y="4221"/>
                </a:lnTo>
                <a:cubicBezTo>
                  <a:pt x="314" y="4276"/>
                  <a:pt x="399" y="4280"/>
                  <a:pt x="449" y="4230"/>
                </a:cubicBezTo>
                <a:lnTo>
                  <a:pt x="1047" y="3632"/>
                </a:lnTo>
                <a:cubicBezTo>
                  <a:pt x="1096" y="3583"/>
                  <a:pt x="1092" y="3498"/>
                  <a:pt x="1038" y="3443"/>
                </a:cubicBezTo>
                <a:lnTo>
                  <a:pt x="837" y="3242"/>
                </a:lnTo>
                <a:cubicBezTo>
                  <a:pt x="782" y="3188"/>
                  <a:pt x="697" y="3184"/>
                  <a:pt x="648" y="3233"/>
                </a:cubicBezTo>
                <a:lnTo>
                  <a:pt x="50" y="3831"/>
                </a:lnTo>
                <a:close/>
                <a:moveTo>
                  <a:pt x="2717" y="3126"/>
                </a:moveTo>
                <a:cubicBezTo>
                  <a:pt x="3134" y="3126"/>
                  <a:pt x="3527" y="2964"/>
                  <a:pt x="3822" y="2669"/>
                </a:cubicBezTo>
                <a:cubicBezTo>
                  <a:pt x="4117" y="2373"/>
                  <a:pt x="4280" y="1981"/>
                  <a:pt x="4280" y="1563"/>
                </a:cubicBezTo>
                <a:cubicBezTo>
                  <a:pt x="4280" y="1146"/>
                  <a:pt x="4117" y="753"/>
                  <a:pt x="3822" y="458"/>
                </a:cubicBezTo>
                <a:cubicBezTo>
                  <a:pt x="3527" y="163"/>
                  <a:pt x="3134" y="0"/>
                  <a:pt x="2717" y="0"/>
                </a:cubicBezTo>
                <a:cubicBezTo>
                  <a:pt x="2299" y="0"/>
                  <a:pt x="1907" y="163"/>
                  <a:pt x="1611" y="458"/>
                </a:cubicBezTo>
                <a:cubicBezTo>
                  <a:pt x="1076" y="993"/>
                  <a:pt x="1011" y="1824"/>
                  <a:pt x="1417" y="2431"/>
                </a:cubicBezTo>
                <a:cubicBezTo>
                  <a:pt x="1399" y="2438"/>
                  <a:pt x="1383" y="2448"/>
                  <a:pt x="1369" y="2462"/>
                </a:cubicBezTo>
                <a:lnTo>
                  <a:pt x="1360" y="2472"/>
                </a:lnTo>
                <a:cubicBezTo>
                  <a:pt x="1305" y="2526"/>
                  <a:pt x="1305" y="2615"/>
                  <a:pt x="1360" y="2670"/>
                </a:cubicBezTo>
                <a:lnTo>
                  <a:pt x="1610" y="2920"/>
                </a:lnTo>
                <a:cubicBezTo>
                  <a:pt x="1665" y="2975"/>
                  <a:pt x="1754" y="2975"/>
                  <a:pt x="1808" y="2920"/>
                </a:cubicBezTo>
                <a:lnTo>
                  <a:pt x="1818" y="2911"/>
                </a:lnTo>
                <a:cubicBezTo>
                  <a:pt x="1832" y="2897"/>
                  <a:pt x="1842" y="2881"/>
                  <a:pt x="1849" y="2864"/>
                </a:cubicBezTo>
                <a:cubicBezTo>
                  <a:pt x="2104" y="3035"/>
                  <a:pt x="2403" y="3126"/>
                  <a:pt x="2717" y="3126"/>
                </a:cubicBezTo>
                <a:close/>
                <a:moveTo>
                  <a:pt x="2717" y="291"/>
                </a:moveTo>
                <a:cubicBezTo>
                  <a:pt x="3057" y="291"/>
                  <a:pt x="3376" y="423"/>
                  <a:pt x="3617" y="663"/>
                </a:cubicBezTo>
                <a:cubicBezTo>
                  <a:pt x="3857" y="904"/>
                  <a:pt x="3989" y="1223"/>
                  <a:pt x="3989" y="1563"/>
                </a:cubicBezTo>
                <a:cubicBezTo>
                  <a:pt x="3989" y="1903"/>
                  <a:pt x="3857" y="2223"/>
                  <a:pt x="3617" y="2463"/>
                </a:cubicBezTo>
                <a:cubicBezTo>
                  <a:pt x="3376" y="2703"/>
                  <a:pt x="3057" y="2836"/>
                  <a:pt x="2717" y="2836"/>
                </a:cubicBezTo>
                <a:cubicBezTo>
                  <a:pt x="2377" y="2836"/>
                  <a:pt x="2057" y="2703"/>
                  <a:pt x="1817" y="2463"/>
                </a:cubicBezTo>
                <a:cubicBezTo>
                  <a:pt x="1321" y="1967"/>
                  <a:pt x="1321" y="1160"/>
                  <a:pt x="1817" y="663"/>
                </a:cubicBezTo>
                <a:cubicBezTo>
                  <a:pt x="2057" y="423"/>
                  <a:pt x="2377" y="291"/>
                  <a:pt x="2717" y="291"/>
                </a:cubicBezTo>
                <a:close/>
                <a:moveTo>
                  <a:pt x="1036" y="2894"/>
                </a:moveTo>
                <a:cubicBezTo>
                  <a:pt x="940" y="2991"/>
                  <a:pt x="940" y="3147"/>
                  <a:pt x="1036" y="3244"/>
                </a:cubicBezTo>
                <a:cubicBezTo>
                  <a:pt x="1133" y="3340"/>
                  <a:pt x="1289" y="3340"/>
                  <a:pt x="1386" y="3244"/>
                </a:cubicBezTo>
                <a:cubicBezTo>
                  <a:pt x="1482" y="3147"/>
                  <a:pt x="1482" y="2991"/>
                  <a:pt x="1386" y="2894"/>
                </a:cubicBezTo>
                <a:cubicBezTo>
                  <a:pt x="1289" y="2798"/>
                  <a:pt x="1133" y="2798"/>
                  <a:pt x="1036" y="2894"/>
                </a:cubicBezTo>
                <a:close/>
              </a:path>
            </a:pathLst>
          </a:custGeom>
          <a:solidFill>
            <a:srgbClr val="54a0d8"/>
          </a:solidFill>
          <a:ln w="38160">
            <a:solidFill>
              <a:srgbClr val="ffffff"/>
            </a:solidFill>
            <a:miter/>
          </a:ln>
          <a:effectLst>
            <a:outerShdw dist="153753" dir="2700000" blurRad="0" rotWithShape="0">
              <a:srgbClr val="000000">
                <a:alpha val="40000"/>
              </a:srgbClr>
            </a:outerShdw>
          </a:effectLst>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85" name="Freeform 26"/>
          <p:cNvSpPr/>
          <p:nvPr/>
        </p:nvSpPr>
        <p:spPr>
          <a:xfrm>
            <a:off x="1879560" y="2752560"/>
            <a:ext cx="1631880" cy="1516320"/>
          </a:xfrm>
          <a:custGeom>
            <a:avLst/>
            <a:gdLst>
              <a:gd name="textAreaLeft" fmla="*/ 0 w 1631880"/>
              <a:gd name="textAreaRight" fmla="*/ 1632240 w 1631880"/>
              <a:gd name="textAreaTop" fmla="*/ 0 h 1516320"/>
              <a:gd name="textAreaBottom" fmla="*/ 1516680 h 1516320"/>
            </a:gdLst>
            <a:ahLst/>
            <a:rect l="textAreaLeft" t="textAreaTop" r="textAreaRight" b="textAreaBottom"/>
            <a:pathLst>
              <a:path w="678" h="630">
                <a:moveTo>
                  <a:pt x="301" y="551"/>
                </a:moveTo>
                <a:lnTo>
                  <a:pt x="373" y="551"/>
                </a:lnTo>
                <a:lnTo>
                  <a:pt x="398" y="593"/>
                </a:lnTo>
                <a:lnTo>
                  <a:pt x="280" y="593"/>
                </a:lnTo>
                <a:lnTo>
                  <a:pt x="301" y="551"/>
                </a:lnTo>
                <a:close/>
                <a:moveTo>
                  <a:pt x="190" y="21"/>
                </a:moveTo>
                <a:lnTo>
                  <a:pt x="207" y="32"/>
                </a:lnTo>
                <a:cubicBezTo>
                  <a:pt x="208" y="32"/>
                  <a:pt x="209" y="33"/>
                  <a:pt x="210" y="34"/>
                </a:cubicBezTo>
                <a:lnTo>
                  <a:pt x="366" y="14"/>
                </a:lnTo>
                <a:cubicBezTo>
                  <a:pt x="362" y="5"/>
                  <a:pt x="353" y="0"/>
                  <a:pt x="342" y="1"/>
                </a:cubicBezTo>
                <a:lnTo>
                  <a:pt x="190" y="21"/>
                </a:lnTo>
                <a:close/>
                <a:moveTo>
                  <a:pt x="169" y="25"/>
                </a:moveTo>
                <a:lnTo>
                  <a:pt x="199" y="44"/>
                </a:lnTo>
                <a:cubicBezTo>
                  <a:pt x="203" y="47"/>
                  <a:pt x="207" y="55"/>
                  <a:pt x="207" y="62"/>
                </a:cubicBezTo>
                <a:lnTo>
                  <a:pt x="207" y="333"/>
                </a:lnTo>
                <a:cubicBezTo>
                  <a:pt x="207" y="340"/>
                  <a:pt x="203" y="343"/>
                  <a:pt x="199" y="340"/>
                </a:cubicBezTo>
                <a:lnTo>
                  <a:pt x="169" y="322"/>
                </a:lnTo>
                <a:cubicBezTo>
                  <a:pt x="165" y="319"/>
                  <a:pt x="161" y="311"/>
                  <a:pt x="161" y="304"/>
                </a:cubicBezTo>
                <a:lnTo>
                  <a:pt x="161" y="33"/>
                </a:lnTo>
                <a:cubicBezTo>
                  <a:pt x="161" y="26"/>
                  <a:pt x="165" y="23"/>
                  <a:pt x="169" y="25"/>
                </a:cubicBezTo>
                <a:close/>
                <a:moveTo>
                  <a:pt x="291" y="109"/>
                </a:moveTo>
                <a:lnTo>
                  <a:pt x="309" y="120"/>
                </a:lnTo>
                <a:cubicBezTo>
                  <a:pt x="310" y="121"/>
                  <a:pt x="310" y="122"/>
                  <a:pt x="311" y="122"/>
                </a:cubicBezTo>
                <a:lnTo>
                  <a:pt x="467" y="102"/>
                </a:lnTo>
                <a:cubicBezTo>
                  <a:pt x="464" y="94"/>
                  <a:pt x="454" y="88"/>
                  <a:pt x="443" y="90"/>
                </a:cubicBezTo>
                <a:lnTo>
                  <a:pt x="291" y="109"/>
                </a:lnTo>
                <a:close/>
                <a:moveTo>
                  <a:pt x="270" y="114"/>
                </a:moveTo>
                <a:lnTo>
                  <a:pt x="300" y="133"/>
                </a:lnTo>
                <a:cubicBezTo>
                  <a:pt x="304" y="136"/>
                  <a:pt x="308" y="144"/>
                  <a:pt x="308" y="151"/>
                </a:cubicBezTo>
                <a:lnTo>
                  <a:pt x="308" y="422"/>
                </a:lnTo>
                <a:cubicBezTo>
                  <a:pt x="308" y="428"/>
                  <a:pt x="304" y="432"/>
                  <a:pt x="300" y="429"/>
                </a:cubicBezTo>
                <a:lnTo>
                  <a:pt x="270" y="410"/>
                </a:lnTo>
                <a:cubicBezTo>
                  <a:pt x="266" y="407"/>
                  <a:pt x="263" y="400"/>
                  <a:pt x="263" y="393"/>
                </a:cubicBezTo>
                <a:lnTo>
                  <a:pt x="263" y="122"/>
                </a:lnTo>
                <a:cubicBezTo>
                  <a:pt x="263" y="115"/>
                  <a:pt x="266" y="111"/>
                  <a:pt x="270" y="114"/>
                </a:cubicBezTo>
                <a:close/>
                <a:moveTo>
                  <a:pt x="322" y="145"/>
                </a:moveTo>
                <a:lnTo>
                  <a:pt x="486" y="124"/>
                </a:lnTo>
                <a:cubicBezTo>
                  <a:pt x="500" y="122"/>
                  <a:pt x="511" y="131"/>
                  <a:pt x="511" y="145"/>
                </a:cubicBezTo>
                <a:lnTo>
                  <a:pt x="511" y="378"/>
                </a:lnTo>
                <a:cubicBezTo>
                  <a:pt x="511" y="391"/>
                  <a:pt x="500" y="404"/>
                  <a:pt x="486" y="406"/>
                </a:cubicBezTo>
                <a:lnTo>
                  <a:pt x="322" y="426"/>
                </a:lnTo>
                <a:lnTo>
                  <a:pt x="322" y="145"/>
                </a:lnTo>
                <a:close/>
                <a:moveTo>
                  <a:pt x="354" y="183"/>
                </a:moveTo>
                <a:lnTo>
                  <a:pt x="481" y="166"/>
                </a:lnTo>
                <a:lnTo>
                  <a:pt x="481" y="224"/>
                </a:lnTo>
                <a:lnTo>
                  <a:pt x="354" y="240"/>
                </a:lnTo>
                <a:lnTo>
                  <a:pt x="354" y="183"/>
                </a:lnTo>
                <a:close/>
                <a:moveTo>
                  <a:pt x="221" y="56"/>
                </a:moveTo>
                <a:lnTo>
                  <a:pt x="384" y="35"/>
                </a:lnTo>
                <a:cubicBezTo>
                  <a:pt x="398" y="33"/>
                  <a:pt x="410" y="43"/>
                  <a:pt x="410" y="56"/>
                </a:cubicBezTo>
                <a:lnTo>
                  <a:pt x="410" y="63"/>
                </a:lnTo>
                <a:lnTo>
                  <a:pt x="255" y="83"/>
                </a:lnTo>
                <a:cubicBezTo>
                  <a:pt x="244" y="86"/>
                  <a:pt x="240" y="93"/>
                  <a:pt x="240" y="107"/>
                </a:cubicBezTo>
                <a:lnTo>
                  <a:pt x="240" y="335"/>
                </a:lnTo>
                <a:lnTo>
                  <a:pt x="221" y="338"/>
                </a:lnTo>
                <a:lnTo>
                  <a:pt x="221" y="56"/>
                </a:lnTo>
                <a:close/>
                <a:moveTo>
                  <a:pt x="101" y="188"/>
                </a:moveTo>
                <a:lnTo>
                  <a:pt x="134" y="188"/>
                </a:lnTo>
                <a:lnTo>
                  <a:pt x="134" y="135"/>
                </a:lnTo>
                <a:lnTo>
                  <a:pt x="104" y="135"/>
                </a:lnTo>
                <a:cubicBezTo>
                  <a:pt x="76" y="135"/>
                  <a:pt x="54" y="158"/>
                  <a:pt x="54" y="186"/>
                </a:cubicBezTo>
                <a:lnTo>
                  <a:pt x="54" y="467"/>
                </a:lnTo>
                <a:cubicBezTo>
                  <a:pt x="54" y="490"/>
                  <a:pt x="69" y="509"/>
                  <a:pt x="90" y="515"/>
                </a:cubicBezTo>
                <a:lnTo>
                  <a:pt x="90" y="515"/>
                </a:lnTo>
                <a:lnTo>
                  <a:pt x="0" y="586"/>
                </a:lnTo>
                <a:lnTo>
                  <a:pt x="0" y="630"/>
                </a:lnTo>
                <a:lnTo>
                  <a:pt x="678" y="630"/>
                </a:lnTo>
                <a:lnTo>
                  <a:pt x="678" y="586"/>
                </a:lnTo>
                <a:lnTo>
                  <a:pt x="582" y="516"/>
                </a:lnTo>
                <a:cubicBezTo>
                  <a:pt x="604" y="511"/>
                  <a:pt x="621" y="491"/>
                  <a:pt x="621" y="467"/>
                </a:cubicBezTo>
                <a:lnTo>
                  <a:pt x="621" y="186"/>
                </a:lnTo>
                <a:cubicBezTo>
                  <a:pt x="621" y="158"/>
                  <a:pt x="598" y="135"/>
                  <a:pt x="571" y="135"/>
                </a:cubicBezTo>
                <a:lnTo>
                  <a:pt x="541" y="135"/>
                </a:lnTo>
                <a:lnTo>
                  <a:pt x="541" y="188"/>
                </a:lnTo>
                <a:lnTo>
                  <a:pt x="573" y="188"/>
                </a:lnTo>
                <a:lnTo>
                  <a:pt x="573" y="474"/>
                </a:lnTo>
                <a:lnTo>
                  <a:pt x="101" y="474"/>
                </a:lnTo>
                <a:lnTo>
                  <a:pt x="101" y="18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86"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1.4 </a:t>
            </a:r>
            <a:r>
              <a:rPr b="0" lang="zh-CN" sz="2800" spc="-1" strike="noStrike">
                <a:solidFill>
                  <a:srgbClr val="4d4d4d"/>
                </a:solidFill>
                <a:latin typeface="微软雅黑"/>
                <a:ea typeface="微软雅黑"/>
              </a:rPr>
              <a:t>参考文献</a:t>
            </a:r>
            <a:endParaRPr b="0" lang="en-US" sz="2800" spc="-1" strike="noStrike">
              <a:solidFill>
                <a:srgbClr val="54a0d8"/>
              </a:solidFill>
              <a:latin typeface="Arial"/>
            </a:endParaRPr>
          </a:p>
        </p:txBody>
      </p:sp>
      <p:sp>
        <p:nvSpPr>
          <p:cNvPr id="887"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88" name="直接连接符 24"/>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11"/>
          <p:cNvSpPr/>
          <p:nvPr/>
        </p:nvSpPr>
        <p:spPr>
          <a:xfrm>
            <a:off x="1562040" y="3441600"/>
            <a:ext cx="1800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微软雅黑"/>
              </a:rPr>
              <a:t>主形象贯穿</a:t>
            </a:r>
            <a:endParaRPr b="0" lang="en-US" sz="2000" spc="-1" strike="noStrike">
              <a:solidFill>
                <a:srgbClr val="54a0d8"/>
              </a:solidFill>
              <a:latin typeface="Arial"/>
            </a:endParaRPr>
          </a:p>
        </p:txBody>
      </p:sp>
      <p:sp>
        <p:nvSpPr>
          <p:cNvPr id="890" name="矩形 12"/>
          <p:cNvSpPr/>
          <p:nvPr/>
        </p:nvSpPr>
        <p:spPr>
          <a:xfrm>
            <a:off x="2811600" y="1420920"/>
            <a:ext cx="1342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微软雅黑"/>
              </a:rPr>
              <a:t>创意领军</a:t>
            </a:r>
            <a:endParaRPr b="0" lang="en-US" sz="2000" spc="-1" strike="noStrike">
              <a:solidFill>
                <a:srgbClr val="54a0d8"/>
              </a:solidFill>
              <a:latin typeface="Arial"/>
            </a:endParaRPr>
          </a:p>
        </p:txBody>
      </p:sp>
      <p:sp>
        <p:nvSpPr>
          <p:cNvPr id="891" name="矩形 13"/>
          <p:cNvSpPr/>
          <p:nvPr/>
        </p:nvSpPr>
        <p:spPr>
          <a:xfrm>
            <a:off x="8029440" y="1450800"/>
            <a:ext cx="134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微软雅黑"/>
              </a:rPr>
              <a:t>赢在细节</a:t>
            </a:r>
            <a:endParaRPr b="0" lang="en-US" sz="2000" spc="-1" strike="noStrike">
              <a:solidFill>
                <a:srgbClr val="54a0d8"/>
              </a:solidFill>
              <a:latin typeface="Arial"/>
            </a:endParaRPr>
          </a:p>
        </p:txBody>
      </p:sp>
      <p:sp>
        <p:nvSpPr>
          <p:cNvPr id="892" name="矩形 14"/>
          <p:cNvSpPr/>
          <p:nvPr/>
        </p:nvSpPr>
        <p:spPr>
          <a:xfrm>
            <a:off x="8888400" y="3546360"/>
            <a:ext cx="1419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微软雅黑"/>
              </a:rPr>
              <a:t>科技严谨</a:t>
            </a:r>
            <a:endParaRPr b="0" lang="en-US" sz="2000" spc="-1" strike="noStrike">
              <a:solidFill>
                <a:srgbClr val="54a0d8"/>
              </a:solidFill>
              <a:latin typeface="Arial"/>
            </a:endParaRPr>
          </a:p>
        </p:txBody>
      </p:sp>
      <p:sp>
        <p:nvSpPr>
          <p:cNvPr id="893" name="矩形 25"/>
          <p:cNvSpPr/>
          <p:nvPr/>
        </p:nvSpPr>
        <p:spPr>
          <a:xfrm>
            <a:off x="770040" y="3746520"/>
            <a:ext cx="25923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与主题相匹配的画面和现场装饰效果，精心打造欢娱晚宴氛围，使所有员工感受到企业的关怀和温暖；</a:t>
            </a:r>
            <a:endParaRPr b="0" lang="en-US" sz="1600" spc="-1" strike="noStrike">
              <a:solidFill>
                <a:srgbClr val="54a0d8"/>
              </a:solidFill>
              <a:latin typeface="Arial"/>
            </a:endParaRPr>
          </a:p>
        </p:txBody>
      </p:sp>
      <p:sp>
        <p:nvSpPr>
          <p:cNvPr id="894" name="矩形 25"/>
          <p:cNvSpPr/>
          <p:nvPr/>
        </p:nvSpPr>
        <p:spPr>
          <a:xfrm>
            <a:off x="770040" y="1727280"/>
            <a:ext cx="33890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立意高远，体现公司的精神风貌，树立鲜明的品牌形象，赢得内部的团结力和凝聚力；</a:t>
            </a:r>
            <a:endParaRPr b="0" lang="en-US" sz="1600" spc="-1" strike="noStrike">
              <a:solidFill>
                <a:srgbClr val="54a0d8"/>
              </a:solidFill>
              <a:latin typeface="Arial"/>
            </a:endParaRPr>
          </a:p>
        </p:txBody>
      </p:sp>
      <p:sp>
        <p:nvSpPr>
          <p:cNvPr id="895" name="矩形 25"/>
          <p:cNvSpPr/>
          <p:nvPr/>
        </p:nvSpPr>
        <p:spPr>
          <a:xfrm>
            <a:off x="8029440" y="1755720"/>
            <a:ext cx="33973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整个流程中用精致的细节提升兴通监理的形象，激励员工在未来能更好的与公司携手并进；</a:t>
            </a:r>
            <a:endParaRPr b="0" lang="en-US" sz="1600" spc="-1" strike="noStrike">
              <a:solidFill>
                <a:srgbClr val="54a0d8"/>
              </a:solidFill>
              <a:latin typeface="Arial"/>
            </a:endParaRPr>
          </a:p>
        </p:txBody>
      </p:sp>
      <p:sp>
        <p:nvSpPr>
          <p:cNvPr id="896" name="矩形 25"/>
          <p:cNvSpPr/>
          <p:nvPr/>
        </p:nvSpPr>
        <p:spPr>
          <a:xfrm>
            <a:off x="8888400" y="3909960"/>
            <a:ext cx="25383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着重体现产品的科技含量，体现公司的科学严谨的形象。</a:t>
            </a:r>
            <a:endParaRPr b="0" lang="en-US" sz="1600" spc="-1" strike="noStrike">
              <a:solidFill>
                <a:srgbClr val="54a0d8"/>
              </a:solidFill>
              <a:latin typeface="Arial"/>
            </a:endParaRPr>
          </a:p>
        </p:txBody>
      </p:sp>
      <p:sp>
        <p:nvSpPr>
          <p:cNvPr id="897" name="Freeform 6"/>
          <p:cNvSpPr/>
          <p:nvPr/>
        </p:nvSpPr>
        <p:spPr>
          <a:xfrm>
            <a:off x="4637160" y="2819520"/>
            <a:ext cx="2797200" cy="2797200"/>
          </a:xfrm>
          <a:custGeom>
            <a:avLst/>
            <a:gdLst>
              <a:gd name="textAreaLeft" fmla="*/ 0 w 2797200"/>
              <a:gd name="textAreaRight" fmla="*/ 2797560 w 2797200"/>
              <a:gd name="textAreaTop" fmla="*/ 0 h 2797200"/>
              <a:gd name="textAreaBottom" fmla="*/ 2797560 h 2797200"/>
            </a:gdLst>
            <a:ahLst/>
            <a:rect l="textAreaLeft" t="textAreaTop" r="textAreaRight" b="textAreaBottom"/>
            <a:pathLst>
              <a:path w="3067" h="3062">
                <a:moveTo>
                  <a:pt x="557" y="875"/>
                </a:moveTo>
                <a:cubicBezTo>
                  <a:pt x="919" y="336"/>
                  <a:pt x="1650" y="192"/>
                  <a:pt x="2189" y="554"/>
                </a:cubicBezTo>
                <a:cubicBezTo>
                  <a:pt x="2728" y="916"/>
                  <a:pt x="2872" y="1647"/>
                  <a:pt x="2510" y="2186"/>
                </a:cubicBezTo>
                <a:cubicBezTo>
                  <a:pt x="2148" y="2726"/>
                  <a:pt x="1418" y="2869"/>
                  <a:pt x="878" y="2507"/>
                </a:cubicBezTo>
                <a:cubicBezTo>
                  <a:pt x="339" y="2145"/>
                  <a:pt x="195" y="1415"/>
                  <a:pt x="557" y="875"/>
                </a:cubicBezTo>
                <a:close/>
                <a:moveTo>
                  <a:pt x="576" y="2734"/>
                </a:moveTo>
                <a:lnTo>
                  <a:pt x="779" y="2870"/>
                </a:lnTo>
                <a:lnTo>
                  <a:pt x="968" y="2704"/>
                </a:lnTo>
                <a:cubicBezTo>
                  <a:pt x="1014" y="2726"/>
                  <a:pt x="1062" y="2745"/>
                  <a:pt x="1110" y="2761"/>
                </a:cubicBezTo>
                <a:lnTo>
                  <a:pt x="1122" y="3013"/>
                </a:lnTo>
                <a:lnTo>
                  <a:pt x="1363" y="3060"/>
                </a:lnTo>
                <a:lnTo>
                  <a:pt x="1474" y="2829"/>
                </a:lnTo>
                <a:cubicBezTo>
                  <a:pt x="1517" y="2831"/>
                  <a:pt x="1560" y="2830"/>
                  <a:pt x="1603" y="2828"/>
                </a:cubicBezTo>
                <a:lnTo>
                  <a:pt x="1712" y="3062"/>
                </a:lnTo>
                <a:lnTo>
                  <a:pt x="1952" y="3015"/>
                </a:lnTo>
                <a:lnTo>
                  <a:pt x="1968" y="2754"/>
                </a:lnTo>
                <a:cubicBezTo>
                  <a:pt x="2017" y="2737"/>
                  <a:pt x="2066" y="2716"/>
                  <a:pt x="2113" y="2692"/>
                </a:cubicBezTo>
                <a:lnTo>
                  <a:pt x="2309" y="2867"/>
                </a:lnTo>
                <a:lnTo>
                  <a:pt x="2510" y="2728"/>
                </a:lnTo>
                <a:lnTo>
                  <a:pt x="2420" y="2480"/>
                </a:lnTo>
                <a:cubicBezTo>
                  <a:pt x="2446" y="2455"/>
                  <a:pt x="2472" y="2429"/>
                  <a:pt x="2497" y="2401"/>
                </a:cubicBezTo>
                <a:lnTo>
                  <a:pt x="2744" y="2493"/>
                </a:lnTo>
                <a:lnTo>
                  <a:pt x="2880" y="2290"/>
                </a:lnTo>
                <a:lnTo>
                  <a:pt x="2704" y="2092"/>
                </a:lnTo>
                <a:cubicBezTo>
                  <a:pt x="2723" y="2053"/>
                  <a:pt x="2740" y="2013"/>
                  <a:pt x="2754" y="1973"/>
                </a:cubicBezTo>
                <a:lnTo>
                  <a:pt x="3017" y="1964"/>
                </a:lnTo>
                <a:lnTo>
                  <a:pt x="3066" y="1725"/>
                </a:lnTo>
                <a:lnTo>
                  <a:pt x="2830" y="1608"/>
                </a:lnTo>
                <a:cubicBezTo>
                  <a:pt x="2832" y="1562"/>
                  <a:pt x="2833" y="1515"/>
                  <a:pt x="2831" y="1469"/>
                </a:cubicBezTo>
                <a:lnTo>
                  <a:pt x="3067" y="1361"/>
                </a:lnTo>
                <a:lnTo>
                  <a:pt x="3019" y="1121"/>
                </a:lnTo>
                <a:lnTo>
                  <a:pt x="2760" y="1104"/>
                </a:lnTo>
                <a:cubicBezTo>
                  <a:pt x="2747" y="1064"/>
                  <a:pt x="2731" y="1024"/>
                  <a:pt x="2713" y="986"/>
                </a:cubicBezTo>
                <a:lnTo>
                  <a:pt x="2889" y="800"/>
                </a:lnTo>
                <a:lnTo>
                  <a:pt x="2754" y="595"/>
                </a:lnTo>
                <a:lnTo>
                  <a:pt x="2513" y="674"/>
                </a:lnTo>
                <a:cubicBezTo>
                  <a:pt x="2480" y="635"/>
                  <a:pt x="2444" y="598"/>
                  <a:pt x="2406" y="563"/>
                </a:cubicBezTo>
                <a:lnTo>
                  <a:pt x="2492" y="328"/>
                </a:lnTo>
                <a:lnTo>
                  <a:pt x="2288" y="191"/>
                </a:lnTo>
                <a:lnTo>
                  <a:pt x="2102" y="355"/>
                </a:lnTo>
                <a:cubicBezTo>
                  <a:pt x="2055" y="331"/>
                  <a:pt x="2006" y="310"/>
                  <a:pt x="1957" y="293"/>
                </a:cubicBezTo>
                <a:lnTo>
                  <a:pt x="1945" y="48"/>
                </a:lnTo>
                <a:lnTo>
                  <a:pt x="1705" y="1"/>
                </a:lnTo>
                <a:lnTo>
                  <a:pt x="1600" y="220"/>
                </a:lnTo>
                <a:cubicBezTo>
                  <a:pt x="1552" y="217"/>
                  <a:pt x="1504" y="216"/>
                  <a:pt x="1457" y="218"/>
                </a:cubicBezTo>
                <a:lnTo>
                  <a:pt x="1355" y="0"/>
                </a:lnTo>
                <a:lnTo>
                  <a:pt x="1115" y="46"/>
                </a:lnTo>
                <a:lnTo>
                  <a:pt x="1101" y="285"/>
                </a:lnTo>
                <a:cubicBezTo>
                  <a:pt x="1044" y="304"/>
                  <a:pt x="989" y="326"/>
                  <a:pt x="935" y="353"/>
                </a:cubicBezTo>
                <a:lnTo>
                  <a:pt x="758" y="195"/>
                </a:lnTo>
                <a:lnTo>
                  <a:pt x="557" y="333"/>
                </a:lnTo>
                <a:lnTo>
                  <a:pt x="638" y="556"/>
                </a:lnTo>
                <a:cubicBezTo>
                  <a:pt x="606" y="585"/>
                  <a:pt x="574" y="617"/>
                  <a:pt x="545" y="650"/>
                </a:cubicBezTo>
                <a:lnTo>
                  <a:pt x="323" y="568"/>
                </a:lnTo>
                <a:lnTo>
                  <a:pt x="187" y="771"/>
                </a:lnTo>
                <a:lnTo>
                  <a:pt x="344" y="948"/>
                </a:lnTo>
                <a:cubicBezTo>
                  <a:pt x="322" y="995"/>
                  <a:pt x="302" y="1042"/>
                  <a:pt x="285" y="1090"/>
                </a:cubicBezTo>
                <a:lnTo>
                  <a:pt x="50" y="1097"/>
                </a:lnTo>
                <a:lnTo>
                  <a:pt x="2" y="1337"/>
                </a:lnTo>
                <a:lnTo>
                  <a:pt x="216" y="1443"/>
                </a:lnTo>
                <a:cubicBezTo>
                  <a:pt x="213" y="1496"/>
                  <a:pt x="213" y="1549"/>
                  <a:pt x="216" y="1602"/>
                </a:cubicBezTo>
                <a:lnTo>
                  <a:pt x="0" y="1701"/>
                </a:lnTo>
                <a:lnTo>
                  <a:pt x="48" y="1941"/>
                </a:lnTo>
                <a:lnTo>
                  <a:pt x="290" y="1956"/>
                </a:lnTo>
                <a:cubicBezTo>
                  <a:pt x="305" y="2000"/>
                  <a:pt x="324" y="2044"/>
                  <a:pt x="344" y="2086"/>
                </a:cubicBezTo>
                <a:lnTo>
                  <a:pt x="179" y="2262"/>
                </a:lnTo>
                <a:lnTo>
                  <a:pt x="313" y="2467"/>
                </a:lnTo>
                <a:lnTo>
                  <a:pt x="547" y="2390"/>
                </a:lnTo>
                <a:cubicBezTo>
                  <a:pt x="582" y="2429"/>
                  <a:pt x="620" y="2466"/>
                  <a:pt x="661" y="2502"/>
                </a:cubicBezTo>
                <a:lnTo>
                  <a:pt x="576" y="2734"/>
                </a:lnTo>
                <a:close/>
              </a:path>
            </a:pathLst>
          </a:custGeom>
          <a:solidFill>
            <a:srgbClr val="f4f4f4"/>
          </a:solidFill>
          <a:ln w="9360">
            <a:solidFill>
              <a:srgbClr val="b7b7b7"/>
            </a:solidFill>
            <a:round/>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898" name="Freeform 7"/>
          <p:cNvSpPr/>
          <p:nvPr/>
        </p:nvSpPr>
        <p:spPr>
          <a:xfrm>
            <a:off x="5556240" y="5278320"/>
            <a:ext cx="995400" cy="1079640"/>
          </a:xfrm>
          <a:custGeom>
            <a:avLst/>
            <a:gdLst>
              <a:gd name="textAreaLeft" fmla="*/ 0 w 995400"/>
              <a:gd name="textAreaRight" fmla="*/ 995760 w 995400"/>
              <a:gd name="textAreaTop" fmla="*/ 0 h 1079640"/>
              <a:gd name="textAreaBottom" fmla="*/ 1080000 h 1079640"/>
            </a:gdLst>
            <a:ahLst/>
            <a:rect l="textAreaLeft" t="textAreaTop" r="textAreaRight" b="textAreaBottom"/>
            <a:pathLst>
              <a:path w="1094" h="1182">
                <a:moveTo>
                  <a:pt x="0" y="0"/>
                </a:moveTo>
                <a:lnTo>
                  <a:pt x="1094" y="0"/>
                </a:lnTo>
                <a:lnTo>
                  <a:pt x="1094" y="511"/>
                </a:lnTo>
                <a:lnTo>
                  <a:pt x="0" y="511"/>
                </a:lnTo>
                <a:lnTo>
                  <a:pt x="0" y="0"/>
                </a:lnTo>
                <a:close/>
                <a:moveTo>
                  <a:pt x="113" y="567"/>
                </a:moveTo>
                <a:lnTo>
                  <a:pt x="981" y="567"/>
                </a:lnTo>
                <a:lnTo>
                  <a:pt x="981" y="774"/>
                </a:lnTo>
                <a:lnTo>
                  <a:pt x="113" y="774"/>
                </a:lnTo>
                <a:lnTo>
                  <a:pt x="113" y="567"/>
                </a:lnTo>
                <a:close/>
                <a:moveTo>
                  <a:pt x="132" y="822"/>
                </a:moveTo>
                <a:lnTo>
                  <a:pt x="961" y="822"/>
                </a:lnTo>
                <a:lnTo>
                  <a:pt x="961" y="979"/>
                </a:lnTo>
                <a:lnTo>
                  <a:pt x="132" y="979"/>
                </a:lnTo>
                <a:lnTo>
                  <a:pt x="132" y="822"/>
                </a:lnTo>
                <a:close/>
                <a:moveTo>
                  <a:pt x="368" y="1025"/>
                </a:moveTo>
                <a:lnTo>
                  <a:pt x="725" y="1025"/>
                </a:lnTo>
                <a:lnTo>
                  <a:pt x="725" y="1182"/>
                </a:lnTo>
                <a:lnTo>
                  <a:pt x="368" y="1182"/>
                </a:lnTo>
                <a:lnTo>
                  <a:pt x="368" y="1025"/>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grpSp>
        <p:nvGrpSpPr>
          <p:cNvPr id="899" name="组合 21"/>
          <p:cNvGrpSpPr/>
          <p:nvPr/>
        </p:nvGrpSpPr>
        <p:grpSpPr>
          <a:xfrm>
            <a:off x="3344760" y="3641760"/>
            <a:ext cx="1265400" cy="1263600"/>
            <a:chOff x="3344760" y="3641760"/>
            <a:chExt cx="1265400" cy="1263600"/>
          </a:xfrm>
        </p:grpSpPr>
        <p:sp>
          <p:nvSpPr>
            <p:cNvPr id="900" name="Freeform 8"/>
            <p:cNvSpPr/>
            <p:nvPr/>
          </p:nvSpPr>
          <p:spPr>
            <a:xfrm>
              <a:off x="3344760" y="3641760"/>
              <a:ext cx="1265400" cy="1263600"/>
            </a:xfrm>
            <a:custGeom>
              <a:avLst/>
              <a:gdLst>
                <a:gd name="textAreaLeft" fmla="*/ 0 w 1265400"/>
                <a:gd name="textAreaRight" fmla="*/ 1265760 w 1265400"/>
                <a:gd name="textAreaTop" fmla="*/ 0 h 1263600"/>
                <a:gd name="textAreaBottom" fmla="*/ 1263960 h 1263600"/>
              </a:gdLst>
              <a:ahLst/>
              <a:rect l="textAreaLeft" t="textAreaTop" r="textAreaRight" b="textAreaBottom"/>
              <a:pathLst>
                <a:path w="1386" h="1385">
                  <a:moveTo>
                    <a:pt x="160" y="565"/>
                  </a:moveTo>
                  <a:cubicBezTo>
                    <a:pt x="229" y="274"/>
                    <a:pt x="522" y="94"/>
                    <a:pt x="813" y="164"/>
                  </a:cubicBezTo>
                  <a:cubicBezTo>
                    <a:pt x="1104" y="233"/>
                    <a:pt x="1284" y="526"/>
                    <a:pt x="1214" y="817"/>
                  </a:cubicBezTo>
                  <a:cubicBezTo>
                    <a:pt x="1145" y="1108"/>
                    <a:pt x="852" y="1288"/>
                    <a:pt x="561" y="1218"/>
                  </a:cubicBezTo>
                  <a:cubicBezTo>
                    <a:pt x="270" y="1149"/>
                    <a:pt x="90" y="856"/>
                    <a:pt x="160" y="565"/>
                  </a:cubicBezTo>
                  <a:close/>
                  <a:moveTo>
                    <a:pt x="477" y="1353"/>
                  </a:moveTo>
                  <a:lnTo>
                    <a:pt x="584" y="1379"/>
                  </a:lnTo>
                  <a:lnTo>
                    <a:pt x="638" y="1279"/>
                  </a:lnTo>
                  <a:cubicBezTo>
                    <a:pt x="661" y="1281"/>
                    <a:pt x="684" y="1281"/>
                    <a:pt x="706" y="1280"/>
                  </a:cubicBezTo>
                  <a:lnTo>
                    <a:pt x="751" y="1385"/>
                  </a:lnTo>
                  <a:lnTo>
                    <a:pt x="860" y="1367"/>
                  </a:lnTo>
                  <a:lnTo>
                    <a:pt x="871" y="1251"/>
                  </a:lnTo>
                  <a:cubicBezTo>
                    <a:pt x="889" y="1245"/>
                    <a:pt x="907" y="1238"/>
                    <a:pt x="925" y="1230"/>
                  </a:cubicBezTo>
                  <a:lnTo>
                    <a:pt x="1007" y="1312"/>
                  </a:lnTo>
                  <a:lnTo>
                    <a:pt x="1101" y="1255"/>
                  </a:lnTo>
                  <a:lnTo>
                    <a:pt x="1067" y="1142"/>
                  </a:lnTo>
                  <a:cubicBezTo>
                    <a:pt x="1085" y="1126"/>
                    <a:pt x="1103" y="1110"/>
                    <a:pt x="1119" y="1092"/>
                  </a:cubicBezTo>
                  <a:lnTo>
                    <a:pt x="1229" y="1135"/>
                  </a:lnTo>
                  <a:lnTo>
                    <a:pt x="1292" y="1045"/>
                  </a:lnTo>
                  <a:lnTo>
                    <a:pt x="1215" y="954"/>
                  </a:lnTo>
                  <a:cubicBezTo>
                    <a:pt x="1222" y="939"/>
                    <a:pt x="1229" y="924"/>
                    <a:pt x="1235" y="909"/>
                  </a:cubicBezTo>
                  <a:lnTo>
                    <a:pt x="1354" y="908"/>
                  </a:lnTo>
                  <a:lnTo>
                    <a:pt x="1379" y="801"/>
                  </a:lnTo>
                  <a:lnTo>
                    <a:pt x="1274" y="745"/>
                  </a:lnTo>
                  <a:cubicBezTo>
                    <a:pt x="1276" y="725"/>
                    <a:pt x="1277" y="706"/>
                    <a:pt x="1277" y="686"/>
                  </a:cubicBezTo>
                  <a:lnTo>
                    <a:pt x="1386" y="641"/>
                  </a:lnTo>
                  <a:lnTo>
                    <a:pt x="1369" y="532"/>
                  </a:lnTo>
                  <a:lnTo>
                    <a:pt x="1251" y="520"/>
                  </a:lnTo>
                  <a:cubicBezTo>
                    <a:pt x="1245" y="500"/>
                    <a:pt x="1238" y="480"/>
                    <a:pt x="1230" y="461"/>
                  </a:cubicBezTo>
                  <a:lnTo>
                    <a:pt x="1313" y="378"/>
                  </a:lnTo>
                  <a:lnTo>
                    <a:pt x="1255" y="284"/>
                  </a:lnTo>
                  <a:lnTo>
                    <a:pt x="1143" y="318"/>
                  </a:lnTo>
                  <a:cubicBezTo>
                    <a:pt x="1131" y="303"/>
                    <a:pt x="1118" y="289"/>
                    <a:pt x="1105" y="275"/>
                  </a:cubicBezTo>
                  <a:lnTo>
                    <a:pt x="1150" y="168"/>
                  </a:lnTo>
                  <a:lnTo>
                    <a:pt x="1061" y="103"/>
                  </a:lnTo>
                  <a:lnTo>
                    <a:pt x="972" y="175"/>
                  </a:lnTo>
                  <a:cubicBezTo>
                    <a:pt x="952" y="164"/>
                    <a:pt x="931" y="154"/>
                    <a:pt x="909" y="145"/>
                  </a:cubicBezTo>
                  <a:lnTo>
                    <a:pt x="909" y="32"/>
                  </a:lnTo>
                  <a:lnTo>
                    <a:pt x="801" y="6"/>
                  </a:lnTo>
                  <a:lnTo>
                    <a:pt x="748" y="105"/>
                  </a:lnTo>
                  <a:cubicBezTo>
                    <a:pt x="725" y="102"/>
                    <a:pt x="701" y="101"/>
                    <a:pt x="678" y="101"/>
                  </a:cubicBezTo>
                  <a:lnTo>
                    <a:pt x="634" y="0"/>
                  </a:lnTo>
                  <a:lnTo>
                    <a:pt x="526" y="18"/>
                  </a:lnTo>
                  <a:lnTo>
                    <a:pt x="516" y="127"/>
                  </a:lnTo>
                  <a:cubicBezTo>
                    <a:pt x="495" y="133"/>
                    <a:pt x="475" y="140"/>
                    <a:pt x="455" y="149"/>
                  </a:cubicBezTo>
                  <a:lnTo>
                    <a:pt x="378" y="72"/>
                  </a:lnTo>
                  <a:lnTo>
                    <a:pt x="284" y="130"/>
                  </a:lnTo>
                  <a:lnTo>
                    <a:pt x="315" y="233"/>
                  </a:lnTo>
                  <a:cubicBezTo>
                    <a:pt x="295" y="250"/>
                    <a:pt x="275" y="269"/>
                    <a:pt x="256" y="288"/>
                  </a:cubicBezTo>
                  <a:lnTo>
                    <a:pt x="157" y="250"/>
                  </a:lnTo>
                  <a:lnTo>
                    <a:pt x="94" y="340"/>
                  </a:lnTo>
                  <a:lnTo>
                    <a:pt x="163" y="421"/>
                  </a:lnTo>
                  <a:cubicBezTo>
                    <a:pt x="154" y="439"/>
                    <a:pt x="145" y="457"/>
                    <a:pt x="138" y="476"/>
                  </a:cubicBezTo>
                  <a:lnTo>
                    <a:pt x="32" y="476"/>
                  </a:lnTo>
                  <a:lnTo>
                    <a:pt x="6" y="584"/>
                  </a:lnTo>
                  <a:lnTo>
                    <a:pt x="100" y="634"/>
                  </a:lnTo>
                  <a:cubicBezTo>
                    <a:pt x="98" y="657"/>
                    <a:pt x="97" y="680"/>
                    <a:pt x="97" y="703"/>
                  </a:cubicBezTo>
                  <a:lnTo>
                    <a:pt x="0" y="744"/>
                  </a:lnTo>
                  <a:lnTo>
                    <a:pt x="17" y="853"/>
                  </a:lnTo>
                  <a:lnTo>
                    <a:pt x="123" y="864"/>
                  </a:lnTo>
                  <a:cubicBezTo>
                    <a:pt x="130" y="887"/>
                    <a:pt x="139" y="909"/>
                    <a:pt x="148" y="931"/>
                  </a:cubicBezTo>
                  <a:lnTo>
                    <a:pt x="73" y="1007"/>
                  </a:lnTo>
                  <a:lnTo>
                    <a:pt x="131" y="1101"/>
                  </a:lnTo>
                  <a:lnTo>
                    <a:pt x="235" y="1069"/>
                  </a:lnTo>
                  <a:cubicBezTo>
                    <a:pt x="248" y="1086"/>
                    <a:pt x="263" y="1101"/>
                    <a:pt x="278" y="1116"/>
                  </a:cubicBezTo>
                  <a:lnTo>
                    <a:pt x="236" y="1216"/>
                  </a:lnTo>
                  <a:lnTo>
                    <a:pt x="325" y="1282"/>
                  </a:lnTo>
                  <a:lnTo>
                    <a:pt x="411" y="1212"/>
                  </a:lnTo>
                  <a:cubicBezTo>
                    <a:pt x="432" y="1223"/>
                    <a:pt x="454" y="1233"/>
                    <a:pt x="477" y="1242"/>
                  </a:cubicBezTo>
                  <a:lnTo>
                    <a:pt x="477" y="1353"/>
                  </a:lnTo>
                  <a:close/>
                </a:path>
              </a:pathLst>
            </a:custGeom>
            <a:solidFill>
              <a:srgbClr val="f2f2f2"/>
            </a:solidFill>
            <a:ln w="9360">
              <a:solidFill>
                <a:srgbClr val="b7b7b7"/>
              </a:solidFill>
              <a:round/>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01" name="Freeform 9"/>
            <p:cNvSpPr/>
            <p:nvPr/>
          </p:nvSpPr>
          <p:spPr>
            <a:xfrm>
              <a:off x="3457080" y="3758040"/>
              <a:ext cx="1028520" cy="1027080"/>
            </a:xfrm>
            <a:custGeom>
              <a:avLst/>
              <a:gdLst>
                <a:gd name="textAreaLeft" fmla="*/ 0 w 1028520"/>
                <a:gd name="textAreaRight" fmla="*/ 1028880 w 1028520"/>
                <a:gd name="textAreaTop" fmla="*/ 0 h 1027080"/>
                <a:gd name="textAreaBottom" fmla="*/ 1027440 h 1027080"/>
              </a:gdLst>
              <a:ahLst/>
              <a:rect l="textAreaLeft" t="textAreaTop" r="textAreaRight" b="textAreaBottom"/>
              <a:pathLst>
                <a:path w="1128" h="1128">
                  <a:moveTo>
                    <a:pt x="1062" y="683"/>
                  </a:moveTo>
                  <a:cubicBezTo>
                    <a:pt x="1128" y="408"/>
                    <a:pt x="958" y="132"/>
                    <a:pt x="683" y="66"/>
                  </a:cubicBezTo>
                  <a:cubicBezTo>
                    <a:pt x="408" y="0"/>
                    <a:pt x="132" y="170"/>
                    <a:pt x="66" y="445"/>
                  </a:cubicBezTo>
                  <a:cubicBezTo>
                    <a:pt x="0" y="720"/>
                    <a:pt x="170" y="996"/>
                    <a:pt x="445" y="1062"/>
                  </a:cubicBezTo>
                  <a:cubicBezTo>
                    <a:pt x="720" y="1128"/>
                    <a:pt x="996" y="958"/>
                    <a:pt x="1062" y="683"/>
                  </a:cubicBezTo>
                  <a:close/>
                </a:path>
              </a:pathLst>
            </a:custGeom>
            <a:solidFill>
              <a:srgbClr val="54a0d8"/>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grpSp>
      <p:grpSp>
        <p:nvGrpSpPr>
          <p:cNvPr id="902" name="组合 24"/>
          <p:cNvGrpSpPr/>
          <p:nvPr/>
        </p:nvGrpSpPr>
        <p:grpSpPr>
          <a:xfrm>
            <a:off x="4327560" y="1792440"/>
            <a:ext cx="1265040" cy="1263600"/>
            <a:chOff x="4327560" y="1792440"/>
            <a:chExt cx="1265040" cy="1263600"/>
          </a:xfrm>
        </p:grpSpPr>
        <p:sp>
          <p:nvSpPr>
            <p:cNvPr id="903" name="Freeform 10"/>
            <p:cNvSpPr/>
            <p:nvPr/>
          </p:nvSpPr>
          <p:spPr>
            <a:xfrm>
              <a:off x="4327560" y="1792440"/>
              <a:ext cx="1265040" cy="1263600"/>
            </a:xfrm>
            <a:custGeom>
              <a:avLst/>
              <a:gdLst>
                <a:gd name="textAreaLeft" fmla="*/ 0 w 1265040"/>
                <a:gd name="textAreaRight" fmla="*/ 1265400 w 1265040"/>
                <a:gd name="textAreaTop" fmla="*/ 0 h 1263600"/>
                <a:gd name="textAreaBottom" fmla="*/ 1263600 h 1263600"/>
              </a:gdLst>
              <a:ahLst/>
              <a:rect l="textAreaLeft" t="textAreaTop" r="textAreaRight" b="textAreaBottom"/>
              <a:pathLst>
                <a:path w="1386" h="1386">
                  <a:moveTo>
                    <a:pt x="160" y="566"/>
                  </a:moveTo>
                  <a:cubicBezTo>
                    <a:pt x="229" y="274"/>
                    <a:pt x="522" y="95"/>
                    <a:pt x="813" y="164"/>
                  </a:cubicBezTo>
                  <a:cubicBezTo>
                    <a:pt x="1105" y="234"/>
                    <a:pt x="1284" y="527"/>
                    <a:pt x="1215" y="818"/>
                  </a:cubicBezTo>
                  <a:cubicBezTo>
                    <a:pt x="1145" y="1109"/>
                    <a:pt x="852" y="1289"/>
                    <a:pt x="561" y="1219"/>
                  </a:cubicBezTo>
                  <a:cubicBezTo>
                    <a:pt x="270" y="1150"/>
                    <a:pt x="90" y="857"/>
                    <a:pt x="160" y="566"/>
                  </a:cubicBezTo>
                  <a:close/>
                  <a:moveTo>
                    <a:pt x="477" y="1354"/>
                  </a:moveTo>
                  <a:lnTo>
                    <a:pt x="584" y="1380"/>
                  </a:lnTo>
                  <a:lnTo>
                    <a:pt x="638" y="1279"/>
                  </a:lnTo>
                  <a:cubicBezTo>
                    <a:pt x="661" y="1281"/>
                    <a:pt x="684" y="1282"/>
                    <a:pt x="707" y="1281"/>
                  </a:cubicBezTo>
                  <a:lnTo>
                    <a:pt x="751" y="1386"/>
                  </a:lnTo>
                  <a:lnTo>
                    <a:pt x="860" y="1368"/>
                  </a:lnTo>
                  <a:lnTo>
                    <a:pt x="871" y="1252"/>
                  </a:lnTo>
                  <a:cubicBezTo>
                    <a:pt x="889" y="1246"/>
                    <a:pt x="907" y="1239"/>
                    <a:pt x="925" y="1231"/>
                  </a:cubicBezTo>
                  <a:lnTo>
                    <a:pt x="1008" y="1313"/>
                  </a:lnTo>
                  <a:lnTo>
                    <a:pt x="1102" y="1255"/>
                  </a:lnTo>
                  <a:lnTo>
                    <a:pt x="1067" y="1142"/>
                  </a:lnTo>
                  <a:cubicBezTo>
                    <a:pt x="1086" y="1127"/>
                    <a:pt x="1103" y="1111"/>
                    <a:pt x="1119" y="1093"/>
                  </a:cubicBezTo>
                  <a:lnTo>
                    <a:pt x="1229" y="1136"/>
                  </a:lnTo>
                  <a:lnTo>
                    <a:pt x="1292" y="1045"/>
                  </a:lnTo>
                  <a:lnTo>
                    <a:pt x="1215" y="955"/>
                  </a:lnTo>
                  <a:cubicBezTo>
                    <a:pt x="1222" y="940"/>
                    <a:pt x="1229" y="925"/>
                    <a:pt x="1235" y="909"/>
                  </a:cubicBezTo>
                  <a:lnTo>
                    <a:pt x="1354" y="909"/>
                  </a:lnTo>
                  <a:lnTo>
                    <a:pt x="1379" y="802"/>
                  </a:lnTo>
                  <a:lnTo>
                    <a:pt x="1274" y="745"/>
                  </a:lnTo>
                  <a:cubicBezTo>
                    <a:pt x="1276" y="726"/>
                    <a:pt x="1277" y="706"/>
                    <a:pt x="1277" y="687"/>
                  </a:cubicBezTo>
                  <a:lnTo>
                    <a:pt x="1386" y="642"/>
                  </a:lnTo>
                  <a:lnTo>
                    <a:pt x="1369" y="533"/>
                  </a:lnTo>
                  <a:lnTo>
                    <a:pt x="1251" y="521"/>
                  </a:lnTo>
                  <a:cubicBezTo>
                    <a:pt x="1245" y="501"/>
                    <a:pt x="1238" y="481"/>
                    <a:pt x="1230" y="462"/>
                  </a:cubicBezTo>
                  <a:lnTo>
                    <a:pt x="1313" y="378"/>
                  </a:lnTo>
                  <a:lnTo>
                    <a:pt x="1255" y="285"/>
                  </a:lnTo>
                  <a:lnTo>
                    <a:pt x="1143" y="318"/>
                  </a:lnTo>
                  <a:cubicBezTo>
                    <a:pt x="1131" y="304"/>
                    <a:pt x="1119" y="289"/>
                    <a:pt x="1105" y="276"/>
                  </a:cubicBezTo>
                  <a:lnTo>
                    <a:pt x="1150" y="169"/>
                  </a:lnTo>
                  <a:lnTo>
                    <a:pt x="1061" y="104"/>
                  </a:lnTo>
                  <a:lnTo>
                    <a:pt x="972" y="176"/>
                  </a:lnTo>
                  <a:cubicBezTo>
                    <a:pt x="952" y="164"/>
                    <a:pt x="931" y="154"/>
                    <a:pt x="909" y="145"/>
                  </a:cubicBezTo>
                  <a:lnTo>
                    <a:pt x="909" y="32"/>
                  </a:lnTo>
                  <a:lnTo>
                    <a:pt x="802" y="7"/>
                  </a:lnTo>
                  <a:lnTo>
                    <a:pt x="749" y="105"/>
                  </a:lnTo>
                  <a:cubicBezTo>
                    <a:pt x="725" y="103"/>
                    <a:pt x="701" y="102"/>
                    <a:pt x="678" y="102"/>
                  </a:cubicBezTo>
                  <a:lnTo>
                    <a:pt x="635" y="0"/>
                  </a:lnTo>
                  <a:lnTo>
                    <a:pt x="526" y="18"/>
                  </a:lnTo>
                  <a:lnTo>
                    <a:pt x="516" y="128"/>
                  </a:lnTo>
                  <a:cubicBezTo>
                    <a:pt x="495" y="134"/>
                    <a:pt x="475" y="141"/>
                    <a:pt x="455" y="150"/>
                  </a:cubicBezTo>
                  <a:lnTo>
                    <a:pt x="378" y="73"/>
                  </a:lnTo>
                  <a:lnTo>
                    <a:pt x="284" y="131"/>
                  </a:lnTo>
                  <a:lnTo>
                    <a:pt x="316" y="234"/>
                  </a:lnTo>
                  <a:cubicBezTo>
                    <a:pt x="295" y="251"/>
                    <a:pt x="275" y="269"/>
                    <a:pt x="256" y="289"/>
                  </a:cubicBezTo>
                  <a:lnTo>
                    <a:pt x="157" y="250"/>
                  </a:lnTo>
                  <a:lnTo>
                    <a:pt x="94" y="341"/>
                  </a:lnTo>
                  <a:lnTo>
                    <a:pt x="163" y="422"/>
                  </a:lnTo>
                  <a:cubicBezTo>
                    <a:pt x="154" y="440"/>
                    <a:pt x="146" y="458"/>
                    <a:pt x="138" y="477"/>
                  </a:cubicBezTo>
                  <a:lnTo>
                    <a:pt x="32" y="477"/>
                  </a:lnTo>
                  <a:lnTo>
                    <a:pt x="7" y="584"/>
                  </a:lnTo>
                  <a:lnTo>
                    <a:pt x="100" y="635"/>
                  </a:lnTo>
                  <a:cubicBezTo>
                    <a:pt x="98" y="658"/>
                    <a:pt x="97" y="681"/>
                    <a:pt x="98" y="704"/>
                  </a:cubicBezTo>
                  <a:lnTo>
                    <a:pt x="0" y="744"/>
                  </a:lnTo>
                  <a:lnTo>
                    <a:pt x="17" y="853"/>
                  </a:lnTo>
                  <a:lnTo>
                    <a:pt x="123" y="864"/>
                  </a:lnTo>
                  <a:cubicBezTo>
                    <a:pt x="130" y="887"/>
                    <a:pt x="139" y="910"/>
                    <a:pt x="149" y="932"/>
                  </a:cubicBezTo>
                  <a:lnTo>
                    <a:pt x="73" y="1008"/>
                  </a:lnTo>
                  <a:lnTo>
                    <a:pt x="131" y="1102"/>
                  </a:lnTo>
                  <a:lnTo>
                    <a:pt x="235" y="1070"/>
                  </a:lnTo>
                  <a:cubicBezTo>
                    <a:pt x="248" y="1086"/>
                    <a:pt x="263" y="1102"/>
                    <a:pt x="278" y="1116"/>
                  </a:cubicBezTo>
                  <a:lnTo>
                    <a:pt x="236" y="1217"/>
                  </a:lnTo>
                  <a:lnTo>
                    <a:pt x="325" y="1283"/>
                  </a:lnTo>
                  <a:lnTo>
                    <a:pt x="411" y="1213"/>
                  </a:lnTo>
                  <a:cubicBezTo>
                    <a:pt x="432" y="1224"/>
                    <a:pt x="454" y="1234"/>
                    <a:pt x="477" y="1242"/>
                  </a:cubicBezTo>
                  <a:lnTo>
                    <a:pt x="477" y="1354"/>
                  </a:lnTo>
                  <a:close/>
                </a:path>
              </a:pathLst>
            </a:custGeom>
            <a:solidFill>
              <a:srgbClr val="f2f2f2"/>
            </a:solidFill>
            <a:ln w="9360">
              <a:solidFill>
                <a:srgbClr val="b7b7b7"/>
              </a:solidFill>
              <a:round/>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04" name="Freeform 11"/>
            <p:cNvSpPr/>
            <p:nvPr/>
          </p:nvSpPr>
          <p:spPr>
            <a:xfrm>
              <a:off x="4439880" y="1908720"/>
              <a:ext cx="1028160" cy="1031040"/>
            </a:xfrm>
            <a:custGeom>
              <a:avLst/>
              <a:gdLst>
                <a:gd name="textAreaLeft" fmla="*/ 0 w 1028160"/>
                <a:gd name="textAreaRight" fmla="*/ 1028520 w 1028160"/>
                <a:gd name="textAreaTop" fmla="*/ 0 h 1031040"/>
                <a:gd name="textAreaBottom" fmla="*/ 1031400 h 1031040"/>
              </a:gdLst>
              <a:ahLst/>
              <a:rect l="textAreaLeft" t="textAreaTop" r="textAreaRight" b="textAreaBottom"/>
              <a:pathLst>
                <a:path w="1128" h="1128">
                  <a:moveTo>
                    <a:pt x="1062" y="683"/>
                  </a:moveTo>
                  <a:cubicBezTo>
                    <a:pt x="1128" y="408"/>
                    <a:pt x="958" y="131"/>
                    <a:pt x="683" y="66"/>
                  </a:cubicBezTo>
                  <a:cubicBezTo>
                    <a:pt x="408" y="0"/>
                    <a:pt x="132" y="170"/>
                    <a:pt x="66" y="445"/>
                  </a:cubicBezTo>
                  <a:cubicBezTo>
                    <a:pt x="0" y="720"/>
                    <a:pt x="170" y="996"/>
                    <a:pt x="445" y="1062"/>
                  </a:cubicBezTo>
                  <a:cubicBezTo>
                    <a:pt x="720" y="1128"/>
                    <a:pt x="997" y="958"/>
                    <a:pt x="1062" y="683"/>
                  </a:cubicBezTo>
                  <a:close/>
                </a:path>
              </a:pathLst>
            </a:custGeom>
            <a:solidFill>
              <a:srgbClr val="54a0d8"/>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grpSp>
      <p:grpSp>
        <p:nvGrpSpPr>
          <p:cNvPr id="905" name="组合 27"/>
          <p:cNvGrpSpPr/>
          <p:nvPr/>
        </p:nvGrpSpPr>
        <p:grpSpPr>
          <a:xfrm>
            <a:off x="6537240" y="1833480"/>
            <a:ext cx="1263600" cy="1265400"/>
            <a:chOff x="6537240" y="1833480"/>
            <a:chExt cx="1263600" cy="1265400"/>
          </a:xfrm>
        </p:grpSpPr>
        <p:sp>
          <p:nvSpPr>
            <p:cNvPr id="906" name="Freeform 14"/>
            <p:cNvSpPr/>
            <p:nvPr/>
          </p:nvSpPr>
          <p:spPr>
            <a:xfrm>
              <a:off x="6537240" y="1833480"/>
              <a:ext cx="1263600" cy="1265400"/>
            </a:xfrm>
            <a:custGeom>
              <a:avLst/>
              <a:gdLst>
                <a:gd name="textAreaLeft" fmla="*/ 0 w 1263600"/>
                <a:gd name="textAreaRight" fmla="*/ 1263600 w 1263600"/>
                <a:gd name="textAreaTop" fmla="*/ 0 h 1265400"/>
                <a:gd name="textAreaBottom" fmla="*/ 1265760 h 1265400"/>
              </a:gdLst>
              <a:ahLst/>
              <a:rect l="textAreaLeft" t="textAreaTop" r="textAreaRight" b="textAreaBottom"/>
              <a:pathLst>
                <a:path w="1386" h="1385">
                  <a:moveTo>
                    <a:pt x="160" y="565"/>
                  </a:moveTo>
                  <a:cubicBezTo>
                    <a:pt x="229" y="274"/>
                    <a:pt x="522" y="94"/>
                    <a:pt x="813" y="164"/>
                  </a:cubicBezTo>
                  <a:cubicBezTo>
                    <a:pt x="1105" y="234"/>
                    <a:pt x="1284" y="526"/>
                    <a:pt x="1215" y="817"/>
                  </a:cubicBezTo>
                  <a:cubicBezTo>
                    <a:pt x="1145" y="1109"/>
                    <a:pt x="852" y="1288"/>
                    <a:pt x="561" y="1219"/>
                  </a:cubicBezTo>
                  <a:cubicBezTo>
                    <a:pt x="270" y="1149"/>
                    <a:pt x="90" y="857"/>
                    <a:pt x="160" y="565"/>
                  </a:cubicBezTo>
                  <a:close/>
                  <a:moveTo>
                    <a:pt x="477" y="1354"/>
                  </a:moveTo>
                  <a:lnTo>
                    <a:pt x="584" y="1379"/>
                  </a:lnTo>
                  <a:lnTo>
                    <a:pt x="638" y="1279"/>
                  </a:lnTo>
                  <a:cubicBezTo>
                    <a:pt x="661" y="1281"/>
                    <a:pt x="684" y="1281"/>
                    <a:pt x="707" y="1281"/>
                  </a:cubicBezTo>
                  <a:lnTo>
                    <a:pt x="751" y="1385"/>
                  </a:lnTo>
                  <a:lnTo>
                    <a:pt x="860" y="1367"/>
                  </a:lnTo>
                  <a:lnTo>
                    <a:pt x="871" y="1252"/>
                  </a:lnTo>
                  <a:cubicBezTo>
                    <a:pt x="889" y="1246"/>
                    <a:pt x="907" y="1239"/>
                    <a:pt x="925" y="1231"/>
                  </a:cubicBezTo>
                  <a:lnTo>
                    <a:pt x="1008" y="1313"/>
                  </a:lnTo>
                  <a:lnTo>
                    <a:pt x="1102" y="1255"/>
                  </a:lnTo>
                  <a:lnTo>
                    <a:pt x="1067" y="1142"/>
                  </a:lnTo>
                  <a:cubicBezTo>
                    <a:pt x="1086" y="1127"/>
                    <a:pt x="1103" y="1110"/>
                    <a:pt x="1119" y="1093"/>
                  </a:cubicBezTo>
                  <a:lnTo>
                    <a:pt x="1229" y="1135"/>
                  </a:lnTo>
                  <a:lnTo>
                    <a:pt x="1292" y="1045"/>
                  </a:lnTo>
                  <a:lnTo>
                    <a:pt x="1215" y="954"/>
                  </a:lnTo>
                  <a:cubicBezTo>
                    <a:pt x="1222" y="940"/>
                    <a:pt x="1229" y="924"/>
                    <a:pt x="1235" y="909"/>
                  </a:cubicBezTo>
                  <a:lnTo>
                    <a:pt x="1354" y="909"/>
                  </a:lnTo>
                  <a:lnTo>
                    <a:pt x="1379" y="801"/>
                  </a:lnTo>
                  <a:lnTo>
                    <a:pt x="1274" y="745"/>
                  </a:lnTo>
                  <a:cubicBezTo>
                    <a:pt x="1276" y="726"/>
                    <a:pt x="1277" y="706"/>
                    <a:pt x="1277" y="687"/>
                  </a:cubicBezTo>
                  <a:lnTo>
                    <a:pt x="1386" y="641"/>
                  </a:lnTo>
                  <a:lnTo>
                    <a:pt x="1369" y="532"/>
                  </a:lnTo>
                  <a:lnTo>
                    <a:pt x="1251" y="520"/>
                  </a:lnTo>
                  <a:cubicBezTo>
                    <a:pt x="1245" y="500"/>
                    <a:pt x="1238" y="481"/>
                    <a:pt x="1230" y="461"/>
                  </a:cubicBezTo>
                  <a:lnTo>
                    <a:pt x="1313" y="378"/>
                  </a:lnTo>
                  <a:lnTo>
                    <a:pt x="1255" y="284"/>
                  </a:lnTo>
                  <a:lnTo>
                    <a:pt x="1144" y="318"/>
                  </a:lnTo>
                  <a:cubicBezTo>
                    <a:pt x="1131" y="303"/>
                    <a:pt x="1119" y="289"/>
                    <a:pt x="1105" y="275"/>
                  </a:cubicBezTo>
                  <a:lnTo>
                    <a:pt x="1150" y="169"/>
                  </a:lnTo>
                  <a:lnTo>
                    <a:pt x="1061" y="103"/>
                  </a:lnTo>
                  <a:lnTo>
                    <a:pt x="972" y="175"/>
                  </a:lnTo>
                  <a:cubicBezTo>
                    <a:pt x="952" y="164"/>
                    <a:pt x="931" y="154"/>
                    <a:pt x="909" y="145"/>
                  </a:cubicBezTo>
                  <a:lnTo>
                    <a:pt x="909" y="32"/>
                  </a:lnTo>
                  <a:lnTo>
                    <a:pt x="802" y="6"/>
                  </a:lnTo>
                  <a:lnTo>
                    <a:pt x="749" y="105"/>
                  </a:lnTo>
                  <a:cubicBezTo>
                    <a:pt x="725" y="103"/>
                    <a:pt x="701" y="101"/>
                    <a:pt x="678" y="102"/>
                  </a:cubicBezTo>
                  <a:lnTo>
                    <a:pt x="635" y="0"/>
                  </a:lnTo>
                  <a:lnTo>
                    <a:pt x="526" y="18"/>
                  </a:lnTo>
                  <a:lnTo>
                    <a:pt x="516" y="127"/>
                  </a:lnTo>
                  <a:cubicBezTo>
                    <a:pt x="495" y="134"/>
                    <a:pt x="475" y="141"/>
                    <a:pt x="455" y="149"/>
                  </a:cubicBezTo>
                  <a:lnTo>
                    <a:pt x="378" y="73"/>
                  </a:lnTo>
                  <a:lnTo>
                    <a:pt x="284" y="131"/>
                  </a:lnTo>
                  <a:lnTo>
                    <a:pt x="316" y="234"/>
                  </a:lnTo>
                  <a:cubicBezTo>
                    <a:pt x="295" y="251"/>
                    <a:pt x="275" y="269"/>
                    <a:pt x="257" y="289"/>
                  </a:cubicBezTo>
                  <a:lnTo>
                    <a:pt x="157" y="250"/>
                  </a:lnTo>
                  <a:lnTo>
                    <a:pt x="94" y="340"/>
                  </a:lnTo>
                  <a:lnTo>
                    <a:pt x="163" y="422"/>
                  </a:lnTo>
                  <a:cubicBezTo>
                    <a:pt x="154" y="439"/>
                    <a:pt x="146" y="458"/>
                    <a:pt x="138" y="477"/>
                  </a:cubicBezTo>
                  <a:lnTo>
                    <a:pt x="32" y="477"/>
                  </a:lnTo>
                  <a:lnTo>
                    <a:pt x="7" y="584"/>
                  </a:lnTo>
                  <a:lnTo>
                    <a:pt x="101" y="634"/>
                  </a:lnTo>
                  <a:cubicBezTo>
                    <a:pt x="98" y="658"/>
                    <a:pt x="97" y="681"/>
                    <a:pt x="98" y="704"/>
                  </a:cubicBezTo>
                  <a:lnTo>
                    <a:pt x="0" y="744"/>
                  </a:lnTo>
                  <a:lnTo>
                    <a:pt x="17" y="853"/>
                  </a:lnTo>
                  <a:lnTo>
                    <a:pt x="124" y="864"/>
                  </a:lnTo>
                  <a:cubicBezTo>
                    <a:pt x="131" y="887"/>
                    <a:pt x="139" y="909"/>
                    <a:pt x="149" y="931"/>
                  </a:cubicBezTo>
                  <a:lnTo>
                    <a:pt x="73" y="1007"/>
                  </a:lnTo>
                  <a:lnTo>
                    <a:pt x="131" y="1101"/>
                  </a:lnTo>
                  <a:lnTo>
                    <a:pt x="235" y="1070"/>
                  </a:lnTo>
                  <a:cubicBezTo>
                    <a:pt x="249" y="1086"/>
                    <a:pt x="263" y="1101"/>
                    <a:pt x="278" y="1116"/>
                  </a:cubicBezTo>
                  <a:lnTo>
                    <a:pt x="236" y="1217"/>
                  </a:lnTo>
                  <a:lnTo>
                    <a:pt x="325" y="1282"/>
                  </a:lnTo>
                  <a:lnTo>
                    <a:pt x="411" y="1212"/>
                  </a:lnTo>
                  <a:cubicBezTo>
                    <a:pt x="432" y="1224"/>
                    <a:pt x="454" y="1233"/>
                    <a:pt x="477" y="1242"/>
                  </a:cubicBezTo>
                  <a:lnTo>
                    <a:pt x="477" y="1354"/>
                  </a:lnTo>
                  <a:close/>
                </a:path>
              </a:pathLst>
            </a:custGeom>
            <a:solidFill>
              <a:srgbClr val="f2f2f2"/>
            </a:solidFill>
            <a:ln w="9360">
              <a:solidFill>
                <a:srgbClr val="b7b7b7"/>
              </a:solidFill>
              <a:round/>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07" name="Freeform 15"/>
            <p:cNvSpPr/>
            <p:nvPr/>
          </p:nvSpPr>
          <p:spPr>
            <a:xfrm>
              <a:off x="6649560" y="1949760"/>
              <a:ext cx="1027080" cy="1032480"/>
            </a:xfrm>
            <a:custGeom>
              <a:avLst/>
              <a:gdLst>
                <a:gd name="textAreaLeft" fmla="*/ 0 w 1027080"/>
                <a:gd name="textAreaRight" fmla="*/ 1027440 w 1027080"/>
                <a:gd name="textAreaTop" fmla="*/ 0 h 1032480"/>
                <a:gd name="textAreaBottom" fmla="*/ 1032840 h 1032480"/>
              </a:gdLst>
              <a:ahLst/>
              <a:rect l="textAreaLeft" t="textAreaTop" r="textAreaRight" b="textAreaBottom"/>
              <a:pathLst>
                <a:path w="1128" h="1128">
                  <a:moveTo>
                    <a:pt x="1062" y="683"/>
                  </a:moveTo>
                  <a:cubicBezTo>
                    <a:pt x="1128" y="408"/>
                    <a:pt x="958" y="132"/>
                    <a:pt x="683" y="66"/>
                  </a:cubicBezTo>
                  <a:cubicBezTo>
                    <a:pt x="408" y="0"/>
                    <a:pt x="132" y="170"/>
                    <a:pt x="66" y="445"/>
                  </a:cubicBezTo>
                  <a:cubicBezTo>
                    <a:pt x="0" y="720"/>
                    <a:pt x="170" y="997"/>
                    <a:pt x="445" y="1062"/>
                  </a:cubicBezTo>
                  <a:cubicBezTo>
                    <a:pt x="720" y="1128"/>
                    <a:pt x="997" y="958"/>
                    <a:pt x="1062" y="683"/>
                  </a:cubicBezTo>
                  <a:close/>
                </a:path>
              </a:pathLst>
            </a:custGeom>
            <a:solidFill>
              <a:srgbClr val="54a0d8"/>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grpSp>
      <p:grpSp>
        <p:nvGrpSpPr>
          <p:cNvPr id="908" name="组合 30"/>
          <p:cNvGrpSpPr/>
          <p:nvPr/>
        </p:nvGrpSpPr>
        <p:grpSpPr>
          <a:xfrm>
            <a:off x="7518240" y="3641760"/>
            <a:ext cx="1263960" cy="1263600"/>
            <a:chOff x="7518240" y="3641760"/>
            <a:chExt cx="1263960" cy="1263600"/>
          </a:xfrm>
        </p:grpSpPr>
        <p:sp>
          <p:nvSpPr>
            <p:cNvPr id="909" name="Freeform 16"/>
            <p:cNvSpPr/>
            <p:nvPr/>
          </p:nvSpPr>
          <p:spPr>
            <a:xfrm>
              <a:off x="7518240" y="3641760"/>
              <a:ext cx="1263960" cy="1263600"/>
            </a:xfrm>
            <a:custGeom>
              <a:avLst/>
              <a:gdLst>
                <a:gd name="textAreaLeft" fmla="*/ 0 w 1263960"/>
                <a:gd name="textAreaRight" fmla="*/ 1264320 w 1263960"/>
                <a:gd name="textAreaTop" fmla="*/ 0 h 1263600"/>
                <a:gd name="textAreaBottom" fmla="*/ 1263960 h 1263600"/>
              </a:gdLst>
              <a:ahLst/>
              <a:rect l="textAreaLeft" t="textAreaTop" r="textAreaRight" b="textAreaBottom"/>
              <a:pathLst>
                <a:path w="1386" h="1385">
                  <a:moveTo>
                    <a:pt x="160" y="565"/>
                  </a:moveTo>
                  <a:cubicBezTo>
                    <a:pt x="230" y="274"/>
                    <a:pt x="522" y="94"/>
                    <a:pt x="813" y="164"/>
                  </a:cubicBezTo>
                  <a:cubicBezTo>
                    <a:pt x="1105" y="233"/>
                    <a:pt x="1284" y="526"/>
                    <a:pt x="1215" y="817"/>
                  </a:cubicBezTo>
                  <a:cubicBezTo>
                    <a:pt x="1145" y="1108"/>
                    <a:pt x="853" y="1288"/>
                    <a:pt x="561" y="1218"/>
                  </a:cubicBezTo>
                  <a:cubicBezTo>
                    <a:pt x="270" y="1149"/>
                    <a:pt x="90" y="856"/>
                    <a:pt x="160" y="565"/>
                  </a:cubicBezTo>
                  <a:close/>
                  <a:moveTo>
                    <a:pt x="477" y="1353"/>
                  </a:moveTo>
                  <a:lnTo>
                    <a:pt x="584" y="1379"/>
                  </a:lnTo>
                  <a:lnTo>
                    <a:pt x="638" y="1279"/>
                  </a:lnTo>
                  <a:cubicBezTo>
                    <a:pt x="661" y="1281"/>
                    <a:pt x="684" y="1281"/>
                    <a:pt x="707" y="1280"/>
                  </a:cubicBezTo>
                  <a:lnTo>
                    <a:pt x="751" y="1385"/>
                  </a:lnTo>
                  <a:lnTo>
                    <a:pt x="860" y="1367"/>
                  </a:lnTo>
                  <a:lnTo>
                    <a:pt x="871" y="1251"/>
                  </a:lnTo>
                  <a:cubicBezTo>
                    <a:pt x="889" y="1245"/>
                    <a:pt x="907" y="1238"/>
                    <a:pt x="925" y="1230"/>
                  </a:cubicBezTo>
                  <a:lnTo>
                    <a:pt x="1008" y="1312"/>
                  </a:lnTo>
                  <a:lnTo>
                    <a:pt x="1102" y="1255"/>
                  </a:lnTo>
                  <a:lnTo>
                    <a:pt x="1067" y="1142"/>
                  </a:lnTo>
                  <a:cubicBezTo>
                    <a:pt x="1086" y="1126"/>
                    <a:pt x="1103" y="1110"/>
                    <a:pt x="1119" y="1092"/>
                  </a:cubicBezTo>
                  <a:lnTo>
                    <a:pt x="1229" y="1135"/>
                  </a:lnTo>
                  <a:lnTo>
                    <a:pt x="1292" y="1045"/>
                  </a:lnTo>
                  <a:lnTo>
                    <a:pt x="1215" y="954"/>
                  </a:lnTo>
                  <a:cubicBezTo>
                    <a:pt x="1222" y="939"/>
                    <a:pt x="1229" y="924"/>
                    <a:pt x="1235" y="909"/>
                  </a:cubicBezTo>
                  <a:lnTo>
                    <a:pt x="1354" y="908"/>
                  </a:lnTo>
                  <a:lnTo>
                    <a:pt x="1379" y="801"/>
                  </a:lnTo>
                  <a:lnTo>
                    <a:pt x="1274" y="745"/>
                  </a:lnTo>
                  <a:cubicBezTo>
                    <a:pt x="1276" y="725"/>
                    <a:pt x="1277" y="706"/>
                    <a:pt x="1277" y="686"/>
                  </a:cubicBezTo>
                  <a:lnTo>
                    <a:pt x="1386" y="641"/>
                  </a:lnTo>
                  <a:lnTo>
                    <a:pt x="1369" y="532"/>
                  </a:lnTo>
                  <a:lnTo>
                    <a:pt x="1252" y="520"/>
                  </a:lnTo>
                  <a:cubicBezTo>
                    <a:pt x="1245" y="500"/>
                    <a:pt x="1238" y="480"/>
                    <a:pt x="1230" y="461"/>
                  </a:cubicBezTo>
                  <a:lnTo>
                    <a:pt x="1313" y="378"/>
                  </a:lnTo>
                  <a:lnTo>
                    <a:pt x="1255" y="284"/>
                  </a:lnTo>
                  <a:lnTo>
                    <a:pt x="1144" y="318"/>
                  </a:lnTo>
                  <a:cubicBezTo>
                    <a:pt x="1131" y="303"/>
                    <a:pt x="1119" y="289"/>
                    <a:pt x="1105" y="275"/>
                  </a:cubicBezTo>
                  <a:lnTo>
                    <a:pt x="1150" y="168"/>
                  </a:lnTo>
                  <a:lnTo>
                    <a:pt x="1061" y="103"/>
                  </a:lnTo>
                  <a:lnTo>
                    <a:pt x="972" y="175"/>
                  </a:lnTo>
                  <a:cubicBezTo>
                    <a:pt x="952" y="164"/>
                    <a:pt x="931" y="154"/>
                    <a:pt x="909" y="145"/>
                  </a:cubicBezTo>
                  <a:lnTo>
                    <a:pt x="909" y="32"/>
                  </a:lnTo>
                  <a:lnTo>
                    <a:pt x="802" y="6"/>
                  </a:lnTo>
                  <a:lnTo>
                    <a:pt x="749" y="105"/>
                  </a:lnTo>
                  <a:cubicBezTo>
                    <a:pt x="725" y="102"/>
                    <a:pt x="701" y="101"/>
                    <a:pt x="678" y="101"/>
                  </a:cubicBezTo>
                  <a:lnTo>
                    <a:pt x="635" y="0"/>
                  </a:lnTo>
                  <a:lnTo>
                    <a:pt x="526" y="18"/>
                  </a:lnTo>
                  <a:lnTo>
                    <a:pt x="516" y="127"/>
                  </a:lnTo>
                  <a:cubicBezTo>
                    <a:pt x="495" y="133"/>
                    <a:pt x="475" y="140"/>
                    <a:pt x="455" y="149"/>
                  </a:cubicBezTo>
                  <a:lnTo>
                    <a:pt x="378" y="72"/>
                  </a:lnTo>
                  <a:lnTo>
                    <a:pt x="285" y="130"/>
                  </a:lnTo>
                  <a:lnTo>
                    <a:pt x="316" y="233"/>
                  </a:lnTo>
                  <a:cubicBezTo>
                    <a:pt x="295" y="250"/>
                    <a:pt x="275" y="269"/>
                    <a:pt x="257" y="288"/>
                  </a:cubicBezTo>
                  <a:lnTo>
                    <a:pt x="157" y="250"/>
                  </a:lnTo>
                  <a:lnTo>
                    <a:pt x="94" y="340"/>
                  </a:lnTo>
                  <a:lnTo>
                    <a:pt x="163" y="421"/>
                  </a:lnTo>
                  <a:cubicBezTo>
                    <a:pt x="154" y="439"/>
                    <a:pt x="146" y="457"/>
                    <a:pt x="138" y="476"/>
                  </a:cubicBezTo>
                  <a:lnTo>
                    <a:pt x="32" y="476"/>
                  </a:lnTo>
                  <a:lnTo>
                    <a:pt x="7" y="584"/>
                  </a:lnTo>
                  <a:lnTo>
                    <a:pt x="101" y="634"/>
                  </a:lnTo>
                  <a:cubicBezTo>
                    <a:pt x="98" y="657"/>
                    <a:pt x="97" y="680"/>
                    <a:pt x="98" y="703"/>
                  </a:cubicBezTo>
                  <a:lnTo>
                    <a:pt x="0" y="744"/>
                  </a:lnTo>
                  <a:lnTo>
                    <a:pt x="17" y="853"/>
                  </a:lnTo>
                  <a:lnTo>
                    <a:pt x="124" y="864"/>
                  </a:lnTo>
                  <a:cubicBezTo>
                    <a:pt x="131" y="887"/>
                    <a:pt x="139" y="909"/>
                    <a:pt x="149" y="931"/>
                  </a:cubicBezTo>
                  <a:lnTo>
                    <a:pt x="73" y="1007"/>
                  </a:lnTo>
                  <a:lnTo>
                    <a:pt x="131" y="1101"/>
                  </a:lnTo>
                  <a:lnTo>
                    <a:pt x="235" y="1069"/>
                  </a:lnTo>
                  <a:cubicBezTo>
                    <a:pt x="249" y="1086"/>
                    <a:pt x="263" y="1101"/>
                    <a:pt x="278" y="1116"/>
                  </a:cubicBezTo>
                  <a:lnTo>
                    <a:pt x="236" y="1216"/>
                  </a:lnTo>
                  <a:lnTo>
                    <a:pt x="325" y="1282"/>
                  </a:lnTo>
                  <a:lnTo>
                    <a:pt x="411" y="1212"/>
                  </a:lnTo>
                  <a:cubicBezTo>
                    <a:pt x="432" y="1223"/>
                    <a:pt x="454" y="1233"/>
                    <a:pt x="477" y="1242"/>
                  </a:cubicBezTo>
                  <a:lnTo>
                    <a:pt x="477" y="1353"/>
                  </a:lnTo>
                  <a:close/>
                </a:path>
              </a:pathLst>
            </a:custGeom>
            <a:solidFill>
              <a:srgbClr val="f2f2f2"/>
            </a:solidFill>
            <a:ln w="9360">
              <a:solidFill>
                <a:srgbClr val="b7b7b7"/>
              </a:solidFill>
              <a:round/>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10" name="Freeform 17"/>
            <p:cNvSpPr/>
            <p:nvPr/>
          </p:nvSpPr>
          <p:spPr>
            <a:xfrm>
              <a:off x="7630560" y="3758040"/>
              <a:ext cx="1027440" cy="1027080"/>
            </a:xfrm>
            <a:custGeom>
              <a:avLst/>
              <a:gdLst>
                <a:gd name="textAreaLeft" fmla="*/ 0 w 1027440"/>
                <a:gd name="textAreaRight" fmla="*/ 1027800 w 1027440"/>
                <a:gd name="textAreaTop" fmla="*/ 0 h 1027080"/>
                <a:gd name="textAreaBottom" fmla="*/ 1027440 h 1027080"/>
              </a:gdLst>
              <a:ahLst/>
              <a:rect l="textAreaLeft" t="textAreaTop" r="textAreaRight" b="textAreaBottom"/>
              <a:pathLst>
                <a:path w="1128" h="1128">
                  <a:moveTo>
                    <a:pt x="1062" y="683"/>
                  </a:moveTo>
                  <a:cubicBezTo>
                    <a:pt x="1128" y="408"/>
                    <a:pt x="958" y="132"/>
                    <a:pt x="683" y="66"/>
                  </a:cubicBezTo>
                  <a:cubicBezTo>
                    <a:pt x="408" y="0"/>
                    <a:pt x="132" y="170"/>
                    <a:pt x="66" y="445"/>
                  </a:cubicBezTo>
                  <a:cubicBezTo>
                    <a:pt x="0" y="720"/>
                    <a:pt x="170" y="996"/>
                    <a:pt x="445" y="1062"/>
                  </a:cubicBezTo>
                  <a:cubicBezTo>
                    <a:pt x="720" y="1128"/>
                    <a:pt x="997" y="958"/>
                    <a:pt x="1062" y="683"/>
                  </a:cubicBezTo>
                  <a:close/>
                </a:path>
              </a:pathLst>
            </a:custGeom>
            <a:solidFill>
              <a:srgbClr val="54a0d8"/>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grpSp>
      <p:sp>
        <p:nvSpPr>
          <p:cNvPr id="911" name="Freeform 18"/>
          <p:cNvSpPr/>
          <p:nvPr/>
        </p:nvSpPr>
        <p:spPr>
          <a:xfrm>
            <a:off x="5006880" y="3176640"/>
            <a:ext cx="2070360" cy="2041560"/>
          </a:xfrm>
          <a:custGeom>
            <a:avLst/>
            <a:gdLst>
              <a:gd name="textAreaLeft" fmla="*/ 0 w 2070360"/>
              <a:gd name="textAreaRight" fmla="*/ 2070720 w 2070360"/>
              <a:gd name="textAreaTop" fmla="*/ 0 h 2041560"/>
              <a:gd name="textAreaBottom" fmla="*/ 2041920 h 2041560"/>
            </a:gdLst>
            <a:ahLst/>
            <a:rect l="textAreaLeft" t="textAreaTop" r="textAreaRight" b="textAreaBottom"/>
            <a:pathLst>
              <a:path w="2267" h="2236">
                <a:moveTo>
                  <a:pt x="810" y="2236"/>
                </a:moveTo>
                <a:cubicBezTo>
                  <a:pt x="342" y="2096"/>
                  <a:pt x="0" y="1659"/>
                  <a:pt x="0" y="1141"/>
                </a:cubicBezTo>
                <a:cubicBezTo>
                  <a:pt x="0" y="511"/>
                  <a:pt x="507" y="0"/>
                  <a:pt x="1133" y="0"/>
                </a:cubicBezTo>
                <a:cubicBezTo>
                  <a:pt x="1759" y="0"/>
                  <a:pt x="2267" y="511"/>
                  <a:pt x="2267" y="1141"/>
                </a:cubicBezTo>
                <a:cubicBezTo>
                  <a:pt x="2267" y="1659"/>
                  <a:pt x="1925" y="2096"/>
                  <a:pt x="1456" y="2236"/>
                </a:cubicBezTo>
                <a:lnTo>
                  <a:pt x="810" y="2236"/>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12" name="矩形 34"/>
          <p:cNvSpPr/>
          <p:nvPr/>
        </p:nvSpPr>
        <p:spPr>
          <a:xfrm>
            <a:off x="5170320" y="3902040"/>
            <a:ext cx="1731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四个创新点</a:t>
            </a:r>
            <a:endParaRPr b="0" lang="en-US" sz="2400" spc="-1" strike="noStrike">
              <a:solidFill>
                <a:srgbClr val="54a0d8"/>
              </a:solidFill>
              <a:latin typeface="Arial"/>
            </a:endParaRPr>
          </a:p>
        </p:txBody>
      </p:sp>
      <p:sp>
        <p:nvSpPr>
          <p:cNvPr id="913" name="文本框 35"/>
          <p:cNvSpPr/>
          <p:nvPr/>
        </p:nvSpPr>
        <p:spPr>
          <a:xfrm>
            <a:off x="3610800" y="3921120"/>
            <a:ext cx="704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ifeline JL"/>
              </a:rPr>
              <a:t>01</a:t>
            </a:r>
            <a:endParaRPr b="0" lang="en-US" sz="3600" spc="-1" strike="noStrike">
              <a:solidFill>
                <a:srgbClr val="54a0d8"/>
              </a:solidFill>
              <a:latin typeface="Arial"/>
            </a:endParaRPr>
          </a:p>
        </p:txBody>
      </p:sp>
      <p:sp>
        <p:nvSpPr>
          <p:cNvPr id="914" name="文本框 36"/>
          <p:cNvSpPr/>
          <p:nvPr/>
        </p:nvSpPr>
        <p:spPr>
          <a:xfrm>
            <a:off x="4601520" y="2046240"/>
            <a:ext cx="704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ifeline JL"/>
              </a:rPr>
              <a:t>02</a:t>
            </a:r>
            <a:endParaRPr b="0" lang="en-US" sz="3600" spc="-1" strike="noStrike">
              <a:solidFill>
                <a:srgbClr val="54a0d8"/>
              </a:solidFill>
              <a:latin typeface="Arial"/>
            </a:endParaRPr>
          </a:p>
        </p:txBody>
      </p:sp>
      <p:sp>
        <p:nvSpPr>
          <p:cNvPr id="915" name="文本框 37"/>
          <p:cNvSpPr/>
          <p:nvPr/>
        </p:nvSpPr>
        <p:spPr>
          <a:xfrm>
            <a:off x="6811200" y="2082960"/>
            <a:ext cx="704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ifeline JL"/>
              </a:rPr>
              <a:t>03</a:t>
            </a:r>
            <a:endParaRPr b="0" lang="en-US" sz="3600" spc="-1" strike="noStrike">
              <a:solidFill>
                <a:srgbClr val="54a0d8"/>
              </a:solidFill>
              <a:latin typeface="Arial"/>
            </a:endParaRPr>
          </a:p>
        </p:txBody>
      </p:sp>
      <p:sp>
        <p:nvSpPr>
          <p:cNvPr id="916" name="文本框 38"/>
          <p:cNvSpPr/>
          <p:nvPr/>
        </p:nvSpPr>
        <p:spPr>
          <a:xfrm>
            <a:off x="7797240" y="3927600"/>
            <a:ext cx="704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ifeline JL"/>
              </a:rPr>
              <a:t>04</a:t>
            </a:r>
            <a:endParaRPr b="0" lang="en-US" sz="3600" spc="-1" strike="noStrike">
              <a:solidFill>
                <a:srgbClr val="54a0d8"/>
              </a:solidFill>
              <a:latin typeface="Arial"/>
            </a:endParaRPr>
          </a:p>
        </p:txBody>
      </p:sp>
      <p:sp>
        <p:nvSpPr>
          <p:cNvPr id="917" name="TextBox 42"/>
          <p:cNvSpPr/>
          <p:nvPr/>
        </p:nvSpPr>
        <p:spPr>
          <a:xfrm>
            <a:off x="1258920" y="182520"/>
            <a:ext cx="36496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微软雅黑"/>
                <a:ea typeface="微软雅黑"/>
              </a:rPr>
              <a:t>1.5 </a:t>
            </a:r>
            <a:r>
              <a:rPr b="0" lang="zh-CN" sz="2800" spc="-1" strike="noStrike">
                <a:solidFill>
                  <a:srgbClr val="4d4d4d"/>
                </a:solidFill>
                <a:latin typeface="微软雅黑"/>
                <a:ea typeface="微软雅黑"/>
              </a:rPr>
              <a:t>主要贡献与创新</a:t>
            </a:r>
            <a:endParaRPr b="0" lang="en-US" sz="2800" spc="-1" strike="noStrike">
              <a:solidFill>
                <a:srgbClr val="54a0d8"/>
              </a:solidFill>
              <a:latin typeface="Arial"/>
            </a:endParaRPr>
          </a:p>
        </p:txBody>
      </p:sp>
      <p:sp>
        <p:nvSpPr>
          <p:cNvPr id="918" name="Freeform 5"/>
          <p:cNvSpPr/>
          <p:nvPr/>
        </p:nvSpPr>
        <p:spPr>
          <a:xfrm>
            <a:off x="704880" y="138240"/>
            <a:ext cx="441360" cy="525240"/>
          </a:xfrm>
          <a:custGeom>
            <a:avLst/>
            <a:gdLst>
              <a:gd name="textAreaLeft" fmla="*/ 0 w 441360"/>
              <a:gd name="textAreaRight" fmla="*/ 441720 w 441360"/>
              <a:gd name="textAreaTop" fmla="*/ 0 h 525240"/>
              <a:gd name="textAreaBottom" fmla="*/ 525600 h 525240"/>
            </a:gdLst>
            <a:ahLst/>
            <a:rect l="textAreaLeft" t="textAreaTop" r="textAreaRight" b="textAreaBottom"/>
            <a:pathLst>
              <a:path w="537" h="623">
                <a:moveTo>
                  <a:pt x="269" y="0"/>
                </a:moveTo>
                <a:lnTo>
                  <a:pt x="403" y="78"/>
                </a:lnTo>
                <a:lnTo>
                  <a:pt x="537" y="156"/>
                </a:lnTo>
                <a:lnTo>
                  <a:pt x="537" y="311"/>
                </a:lnTo>
                <a:lnTo>
                  <a:pt x="537" y="467"/>
                </a:lnTo>
                <a:lnTo>
                  <a:pt x="403" y="545"/>
                </a:lnTo>
                <a:lnTo>
                  <a:pt x="269" y="623"/>
                </a:lnTo>
                <a:lnTo>
                  <a:pt x="134" y="545"/>
                </a:lnTo>
                <a:lnTo>
                  <a:pt x="0" y="467"/>
                </a:lnTo>
                <a:lnTo>
                  <a:pt x="0" y="311"/>
                </a:lnTo>
                <a:lnTo>
                  <a:pt x="0" y="156"/>
                </a:lnTo>
                <a:lnTo>
                  <a:pt x="134" y="78"/>
                </a:lnTo>
                <a:lnTo>
                  <a:pt x="269" y="0"/>
                </a:lnTo>
                <a:close/>
                <a:moveTo>
                  <a:pt x="269" y="53"/>
                </a:moveTo>
                <a:lnTo>
                  <a:pt x="380" y="117"/>
                </a:lnTo>
                <a:lnTo>
                  <a:pt x="492" y="182"/>
                </a:lnTo>
                <a:lnTo>
                  <a:pt x="492" y="311"/>
                </a:lnTo>
                <a:lnTo>
                  <a:pt x="492" y="441"/>
                </a:lnTo>
                <a:lnTo>
                  <a:pt x="380" y="505"/>
                </a:lnTo>
                <a:lnTo>
                  <a:pt x="269" y="570"/>
                </a:lnTo>
                <a:lnTo>
                  <a:pt x="157" y="505"/>
                </a:lnTo>
                <a:lnTo>
                  <a:pt x="46" y="441"/>
                </a:lnTo>
                <a:lnTo>
                  <a:pt x="46" y="311"/>
                </a:lnTo>
                <a:lnTo>
                  <a:pt x="46" y="182"/>
                </a:lnTo>
                <a:lnTo>
                  <a:pt x="157" y="117"/>
                </a:lnTo>
                <a:lnTo>
                  <a:pt x="269" y="53"/>
                </a:lnTo>
                <a:close/>
                <a:moveTo>
                  <a:pt x="215" y="455"/>
                </a:moveTo>
                <a:lnTo>
                  <a:pt x="367" y="455"/>
                </a:lnTo>
                <a:cubicBezTo>
                  <a:pt x="371" y="455"/>
                  <a:pt x="375" y="458"/>
                  <a:pt x="375" y="463"/>
                </a:cubicBezTo>
                <a:cubicBezTo>
                  <a:pt x="375" y="467"/>
                  <a:pt x="371" y="471"/>
                  <a:pt x="367" y="471"/>
                </a:cubicBezTo>
                <a:lnTo>
                  <a:pt x="215" y="471"/>
                </a:lnTo>
                <a:cubicBezTo>
                  <a:pt x="211" y="471"/>
                  <a:pt x="207" y="467"/>
                  <a:pt x="207" y="463"/>
                </a:cubicBezTo>
                <a:cubicBezTo>
                  <a:pt x="207" y="458"/>
                  <a:pt x="211" y="455"/>
                  <a:pt x="215" y="455"/>
                </a:cubicBezTo>
                <a:close/>
                <a:moveTo>
                  <a:pt x="218" y="380"/>
                </a:moveTo>
                <a:lnTo>
                  <a:pt x="302" y="242"/>
                </a:lnTo>
                <a:lnTo>
                  <a:pt x="331" y="260"/>
                </a:lnTo>
                <a:lnTo>
                  <a:pt x="248" y="398"/>
                </a:lnTo>
                <a:lnTo>
                  <a:pt x="218" y="380"/>
                </a:lnTo>
                <a:close/>
                <a:moveTo>
                  <a:pt x="159" y="344"/>
                </a:moveTo>
                <a:lnTo>
                  <a:pt x="243" y="207"/>
                </a:lnTo>
                <a:lnTo>
                  <a:pt x="272" y="224"/>
                </a:lnTo>
                <a:lnTo>
                  <a:pt x="189" y="362"/>
                </a:lnTo>
                <a:lnTo>
                  <a:pt x="159" y="344"/>
                </a:lnTo>
                <a:close/>
                <a:moveTo>
                  <a:pt x="146" y="456"/>
                </a:moveTo>
                <a:lnTo>
                  <a:pt x="154" y="387"/>
                </a:lnTo>
                <a:lnTo>
                  <a:pt x="211" y="422"/>
                </a:lnTo>
                <a:lnTo>
                  <a:pt x="155" y="461"/>
                </a:lnTo>
                <a:cubicBezTo>
                  <a:pt x="149" y="465"/>
                  <a:pt x="145" y="463"/>
                  <a:pt x="146" y="456"/>
                </a:cubicBezTo>
                <a:close/>
                <a:moveTo>
                  <a:pt x="266" y="168"/>
                </a:moveTo>
                <a:lnTo>
                  <a:pt x="253" y="188"/>
                </a:lnTo>
                <a:lnTo>
                  <a:pt x="342" y="242"/>
                </a:lnTo>
                <a:lnTo>
                  <a:pt x="354" y="222"/>
                </a:lnTo>
                <a:lnTo>
                  <a:pt x="266" y="168"/>
                </a:lnTo>
                <a:close/>
                <a:moveTo>
                  <a:pt x="285" y="138"/>
                </a:moveTo>
                <a:cubicBezTo>
                  <a:pt x="290" y="129"/>
                  <a:pt x="302" y="126"/>
                  <a:pt x="311" y="131"/>
                </a:cubicBezTo>
                <a:lnTo>
                  <a:pt x="366" y="165"/>
                </a:lnTo>
                <a:cubicBezTo>
                  <a:pt x="375" y="170"/>
                  <a:pt x="378" y="182"/>
                  <a:pt x="373" y="191"/>
                </a:cubicBezTo>
                <a:lnTo>
                  <a:pt x="365" y="204"/>
                </a:lnTo>
                <a:lnTo>
                  <a:pt x="277" y="150"/>
                </a:lnTo>
                <a:lnTo>
                  <a:pt x="285" y="138"/>
                </a:lnTo>
                <a:close/>
              </a:path>
            </a:pathLst>
          </a:custGeom>
          <a:solidFill>
            <a:srgbClr val="4d4d4d"/>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19" name="直接连接符 44"/>
          <p:cNvSpPr/>
          <p:nvPr/>
        </p:nvSpPr>
        <p:spPr>
          <a:xfrm>
            <a:off x="1258920" y="598320"/>
            <a:ext cx="9569520" cy="0"/>
          </a:xfrm>
          <a:prstGeom prst="line">
            <a:avLst/>
          </a:prstGeom>
          <a:ln w="9360">
            <a:solidFill>
              <a:srgbClr val="94949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spTree>
  </p:cSld>
  <p:transition spd="slow" advTm="6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0" name="TextBox 12"/>
          <p:cNvSpPr/>
          <p:nvPr/>
        </p:nvSpPr>
        <p:spPr>
          <a:xfrm>
            <a:off x="2970360" y="3119400"/>
            <a:ext cx="62578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4d4d4d"/>
                </a:solidFill>
                <a:latin typeface="微软雅黑"/>
                <a:ea typeface="微软雅黑"/>
              </a:rPr>
              <a:t>研究思路与方法</a:t>
            </a:r>
            <a:endParaRPr b="0" lang="en-US" sz="6600" spc="-1" strike="noStrike">
              <a:solidFill>
                <a:srgbClr val="54a0d8"/>
              </a:solidFill>
              <a:latin typeface="Arial"/>
            </a:endParaRPr>
          </a:p>
        </p:txBody>
      </p:sp>
      <p:sp>
        <p:nvSpPr>
          <p:cNvPr id="921" name="文本框 42"/>
          <p:cNvSpPr/>
          <p:nvPr/>
        </p:nvSpPr>
        <p:spPr>
          <a:xfrm>
            <a:off x="5506920" y="276552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微软雅黑"/>
                <a:ea typeface="微软雅黑"/>
              </a:rPr>
              <a:t>Part 2</a:t>
            </a:r>
            <a:endParaRPr b="0" lang="en-US" sz="2000" spc="-1" strike="noStrike">
              <a:solidFill>
                <a:srgbClr val="54a0d8"/>
              </a:solidFill>
              <a:latin typeface="Arial"/>
            </a:endParaRPr>
          </a:p>
        </p:txBody>
      </p:sp>
      <p:sp>
        <p:nvSpPr>
          <p:cNvPr id="922" name="Line 5"/>
          <p:cNvSpPr/>
          <p:nvPr/>
        </p:nvSpPr>
        <p:spPr>
          <a:xfrm flipH="1">
            <a:off x="1850760" y="4218120"/>
            <a:ext cx="8496360" cy="0"/>
          </a:xfrm>
          <a:prstGeom prst="line">
            <a:avLst/>
          </a:prstGeom>
          <a:ln w="12600">
            <a:solidFill>
              <a:srgbClr val="b8b8b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54a0d8"/>
              </a:solidFill>
              <a:latin typeface="Arial"/>
            </a:endParaRPr>
          </a:p>
        </p:txBody>
      </p:sp>
      <p:pic>
        <p:nvPicPr>
          <p:cNvPr id="923" name="图片 1" descr=""/>
          <p:cNvPicPr/>
          <p:nvPr/>
        </p:nvPicPr>
        <p:blipFill>
          <a:blip r:embed="rId2"/>
          <a:stretch/>
        </p:blipFill>
        <p:spPr>
          <a:xfrm>
            <a:off x="4514760" y="839880"/>
            <a:ext cx="3040200" cy="1947600"/>
          </a:xfrm>
          <a:prstGeom prst="rect">
            <a:avLst/>
          </a:prstGeom>
          <a:ln w="0">
            <a:noFill/>
          </a:ln>
        </p:spPr>
      </p:pic>
      <p:sp>
        <p:nvSpPr>
          <p:cNvPr id="924" name="Freeform 21"/>
          <p:cNvSpPr/>
          <p:nvPr/>
        </p:nvSpPr>
        <p:spPr>
          <a:xfrm>
            <a:off x="3963960" y="447192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25" name="TextBox 28"/>
          <p:cNvSpPr/>
          <p:nvPr/>
        </p:nvSpPr>
        <p:spPr>
          <a:xfrm>
            <a:off x="4259160" y="442116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理论基础</a:t>
            </a:r>
            <a:endParaRPr b="0" lang="en-US" sz="1800" spc="-1" strike="noStrike">
              <a:solidFill>
                <a:srgbClr val="54a0d8"/>
              </a:solidFill>
              <a:latin typeface="Arial"/>
            </a:endParaRPr>
          </a:p>
        </p:txBody>
      </p:sp>
      <p:sp>
        <p:nvSpPr>
          <p:cNvPr id="926" name="Freeform 21"/>
          <p:cNvSpPr/>
          <p:nvPr/>
        </p:nvSpPr>
        <p:spPr>
          <a:xfrm>
            <a:off x="6638760" y="447192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27" name="TextBox 44"/>
          <p:cNvSpPr/>
          <p:nvPr/>
        </p:nvSpPr>
        <p:spPr>
          <a:xfrm>
            <a:off x="6934320" y="4421160"/>
            <a:ext cx="227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采用某某方案</a:t>
            </a:r>
            <a:endParaRPr b="0" lang="en-US" sz="1800" spc="-1" strike="noStrike">
              <a:solidFill>
                <a:srgbClr val="54a0d8"/>
              </a:solidFill>
              <a:latin typeface="Arial"/>
            </a:endParaRPr>
          </a:p>
        </p:txBody>
      </p:sp>
      <p:sp>
        <p:nvSpPr>
          <p:cNvPr id="928" name="Freeform 21"/>
          <p:cNvSpPr/>
          <p:nvPr/>
        </p:nvSpPr>
        <p:spPr>
          <a:xfrm>
            <a:off x="3963960" y="496728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29" name="TextBox 46"/>
          <p:cNvSpPr/>
          <p:nvPr/>
        </p:nvSpPr>
        <p:spPr>
          <a:xfrm>
            <a:off x="4259160" y="491652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研究思路</a:t>
            </a:r>
            <a:endParaRPr b="0" lang="en-US" sz="1800" spc="-1" strike="noStrike">
              <a:solidFill>
                <a:srgbClr val="54a0d8"/>
              </a:solidFill>
              <a:latin typeface="Arial"/>
            </a:endParaRPr>
          </a:p>
        </p:txBody>
      </p:sp>
      <p:sp>
        <p:nvSpPr>
          <p:cNvPr id="930" name="Freeform 21"/>
          <p:cNvSpPr/>
          <p:nvPr/>
        </p:nvSpPr>
        <p:spPr>
          <a:xfrm>
            <a:off x="6638760" y="4967280"/>
            <a:ext cx="266760" cy="268200"/>
          </a:xfrm>
          <a:custGeom>
            <a:avLst/>
            <a:gdLst>
              <a:gd name="textAreaLeft" fmla="*/ 0 w 266760"/>
              <a:gd name="textAreaRight" fmla="*/ 267120 w 266760"/>
              <a:gd name="textAreaTop" fmla="*/ 0 h 268200"/>
              <a:gd name="textAreaBottom" fmla="*/ 268560 h 268200"/>
            </a:gdLst>
            <a:ahLst/>
            <a:rect l="textAreaLeft" t="textAreaTop" r="textAreaRight" b="textAreaBottom"/>
            <a:pathLst>
              <a:path w="234" h="234">
                <a:moveTo>
                  <a:pt x="117" y="0"/>
                </a:moveTo>
                <a:cubicBezTo>
                  <a:pt x="182" y="0"/>
                  <a:pt x="234" y="52"/>
                  <a:pt x="234" y="117"/>
                </a:cubicBezTo>
                <a:cubicBezTo>
                  <a:pt x="234" y="182"/>
                  <a:pt x="182" y="234"/>
                  <a:pt x="117" y="234"/>
                </a:cubicBezTo>
                <a:cubicBezTo>
                  <a:pt x="52" y="234"/>
                  <a:pt x="0" y="182"/>
                  <a:pt x="0" y="117"/>
                </a:cubicBezTo>
                <a:cubicBezTo>
                  <a:pt x="0" y="52"/>
                  <a:pt x="52" y="0"/>
                  <a:pt x="117" y="0"/>
                </a:cubicBezTo>
                <a:close/>
                <a:moveTo>
                  <a:pt x="99" y="199"/>
                </a:moveTo>
                <a:lnTo>
                  <a:pt x="135" y="199"/>
                </a:lnTo>
                <a:lnTo>
                  <a:pt x="135" y="136"/>
                </a:lnTo>
                <a:lnTo>
                  <a:pt x="199" y="136"/>
                </a:lnTo>
                <a:lnTo>
                  <a:pt x="199" y="99"/>
                </a:lnTo>
                <a:lnTo>
                  <a:pt x="135" y="99"/>
                </a:lnTo>
                <a:lnTo>
                  <a:pt x="135" y="35"/>
                </a:lnTo>
                <a:lnTo>
                  <a:pt x="99" y="35"/>
                </a:lnTo>
                <a:lnTo>
                  <a:pt x="99" y="99"/>
                </a:lnTo>
                <a:lnTo>
                  <a:pt x="35" y="99"/>
                </a:lnTo>
                <a:lnTo>
                  <a:pt x="35" y="136"/>
                </a:lnTo>
                <a:lnTo>
                  <a:pt x="99" y="136"/>
                </a:lnTo>
                <a:lnTo>
                  <a:pt x="99" y="199"/>
                </a:lnTo>
                <a:close/>
              </a:path>
            </a:pathLst>
          </a:custGeom>
          <a:solidFill>
            <a:srgbClr val="e96969"/>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
        <p:nvSpPr>
          <p:cNvPr id="931" name="TextBox 48"/>
          <p:cNvSpPr/>
          <p:nvPr/>
        </p:nvSpPr>
        <p:spPr>
          <a:xfrm>
            <a:off x="6934320" y="4916520"/>
            <a:ext cx="227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可行性说明</a:t>
            </a:r>
            <a:endParaRPr b="0" lang="en-US" sz="1800" spc="-1" strike="noStrike">
              <a:solidFill>
                <a:srgbClr val="54a0d8"/>
              </a:solidFill>
              <a:latin typeface="Arial"/>
            </a:endParaRPr>
          </a:p>
        </p:txBody>
      </p:sp>
      <p:sp>
        <p:nvSpPr>
          <p:cNvPr id="932" name="Freeform 22"/>
          <p:cNvSpPr/>
          <p:nvPr/>
        </p:nvSpPr>
        <p:spPr>
          <a:xfrm>
            <a:off x="5676840" y="1349280"/>
            <a:ext cx="911160" cy="871560"/>
          </a:xfrm>
          <a:custGeom>
            <a:avLst/>
            <a:gdLst>
              <a:gd name="textAreaLeft" fmla="*/ 0 w 911160"/>
              <a:gd name="textAreaRight" fmla="*/ 911520 w 911160"/>
              <a:gd name="textAreaTop" fmla="*/ 0 h 871560"/>
              <a:gd name="textAreaBottom" fmla="*/ 871920 h 871560"/>
            </a:gdLst>
            <a:ahLst/>
            <a:rect l="textAreaLeft" t="textAreaTop" r="textAreaRight" b="textAreaBottom"/>
            <a:pathLst>
              <a:path w="595" h="595">
                <a:moveTo>
                  <a:pt x="529" y="469"/>
                </a:moveTo>
                <a:lnTo>
                  <a:pt x="410" y="351"/>
                </a:lnTo>
                <a:cubicBezTo>
                  <a:pt x="418" y="334"/>
                  <a:pt x="422" y="317"/>
                  <a:pt x="422" y="297"/>
                </a:cubicBezTo>
                <a:cubicBezTo>
                  <a:pt x="422" y="229"/>
                  <a:pt x="366" y="173"/>
                  <a:pt x="298" y="173"/>
                </a:cubicBezTo>
                <a:cubicBezTo>
                  <a:pt x="286" y="173"/>
                  <a:pt x="275" y="175"/>
                  <a:pt x="265" y="178"/>
                </a:cubicBezTo>
                <a:lnTo>
                  <a:pt x="318" y="231"/>
                </a:lnTo>
                <a:cubicBezTo>
                  <a:pt x="340" y="253"/>
                  <a:pt x="338" y="290"/>
                  <a:pt x="314" y="314"/>
                </a:cubicBezTo>
                <a:cubicBezTo>
                  <a:pt x="290" y="338"/>
                  <a:pt x="253" y="339"/>
                  <a:pt x="231" y="317"/>
                </a:cubicBezTo>
                <a:lnTo>
                  <a:pt x="178" y="264"/>
                </a:lnTo>
                <a:cubicBezTo>
                  <a:pt x="175" y="275"/>
                  <a:pt x="174" y="286"/>
                  <a:pt x="174" y="297"/>
                </a:cubicBezTo>
                <a:cubicBezTo>
                  <a:pt x="174" y="366"/>
                  <a:pt x="229" y="422"/>
                  <a:pt x="298" y="422"/>
                </a:cubicBezTo>
                <a:cubicBezTo>
                  <a:pt x="317" y="422"/>
                  <a:pt x="335" y="417"/>
                  <a:pt x="351" y="410"/>
                </a:cubicBezTo>
                <a:lnTo>
                  <a:pt x="470" y="528"/>
                </a:lnTo>
                <a:cubicBezTo>
                  <a:pt x="485" y="543"/>
                  <a:pt x="511" y="542"/>
                  <a:pt x="527" y="526"/>
                </a:cubicBezTo>
                <a:cubicBezTo>
                  <a:pt x="543" y="509"/>
                  <a:pt x="544" y="484"/>
                  <a:pt x="529" y="469"/>
                </a:cubicBezTo>
                <a:close/>
                <a:moveTo>
                  <a:pt x="558" y="242"/>
                </a:moveTo>
                <a:lnTo>
                  <a:pt x="546" y="242"/>
                </a:lnTo>
                <a:lnTo>
                  <a:pt x="518" y="242"/>
                </a:lnTo>
                <a:cubicBezTo>
                  <a:pt x="512" y="242"/>
                  <a:pt x="506" y="240"/>
                  <a:pt x="502" y="237"/>
                </a:cubicBezTo>
                <a:cubicBezTo>
                  <a:pt x="502" y="236"/>
                  <a:pt x="501" y="236"/>
                  <a:pt x="501" y="236"/>
                </a:cubicBezTo>
                <a:cubicBezTo>
                  <a:pt x="491" y="230"/>
                  <a:pt x="485" y="218"/>
                  <a:pt x="485" y="205"/>
                </a:cubicBezTo>
                <a:cubicBezTo>
                  <a:pt x="485" y="201"/>
                  <a:pt x="485" y="197"/>
                  <a:pt x="486" y="194"/>
                </a:cubicBezTo>
                <a:cubicBezTo>
                  <a:pt x="488" y="189"/>
                  <a:pt x="490" y="186"/>
                  <a:pt x="493" y="182"/>
                </a:cubicBezTo>
                <a:lnTo>
                  <a:pt x="499" y="176"/>
                </a:lnTo>
                <a:lnTo>
                  <a:pt x="513" y="162"/>
                </a:lnTo>
                <a:lnTo>
                  <a:pt x="521" y="154"/>
                </a:lnTo>
                <a:cubicBezTo>
                  <a:pt x="533" y="138"/>
                  <a:pt x="533" y="116"/>
                  <a:pt x="521" y="100"/>
                </a:cubicBezTo>
                <a:lnTo>
                  <a:pt x="496" y="75"/>
                </a:lnTo>
                <a:cubicBezTo>
                  <a:pt x="481" y="63"/>
                  <a:pt x="459" y="63"/>
                  <a:pt x="443" y="75"/>
                </a:cubicBezTo>
                <a:lnTo>
                  <a:pt x="434" y="83"/>
                </a:lnTo>
                <a:lnTo>
                  <a:pt x="414" y="103"/>
                </a:lnTo>
                <a:lnTo>
                  <a:pt x="414" y="103"/>
                </a:lnTo>
                <a:cubicBezTo>
                  <a:pt x="403" y="112"/>
                  <a:pt x="389" y="113"/>
                  <a:pt x="376" y="108"/>
                </a:cubicBezTo>
                <a:cubicBezTo>
                  <a:pt x="372" y="106"/>
                  <a:pt x="368" y="104"/>
                  <a:pt x="365" y="100"/>
                </a:cubicBezTo>
                <a:cubicBezTo>
                  <a:pt x="358" y="94"/>
                  <a:pt x="355" y="86"/>
                  <a:pt x="354" y="78"/>
                </a:cubicBezTo>
                <a:lnTo>
                  <a:pt x="354" y="69"/>
                </a:lnTo>
                <a:lnTo>
                  <a:pt x="354" y="50"/>
                </a:lnTo>
                <a:lnTo>
                  <a:pt x="354" y="38"/>
                </a:lnTo>
                <a:cubicBezTo>
                  <a:pt x="351" y="18"/>
                  <a:pt x="336" y="2"/>
                  <a:pt x="316" y="0"/>
                </a:cubicBezTo>
                <a:lnTo>
                  <a:pt x="281" y="0"/>
                </a:lnTo>
                <a:cubicBezTo>
                  <a:pt x="261" y="2"/>
                  <a:pt x="245" y="18"/>
                  <a:pt x="243" y="37"/>
                </a:cubicBezTo>
                <a:lnTo>
                  <a:pt x="243" y="49"/>
                </a:lnTo>
                <a:lnTo>
                  <a:pt x="243" y="69"/>
                </a:lnTo>
                <a:lnTo>
                  <a:pt x="243" y="78"/>
                </a:lnTo>
                <a:lnTo>
                  <a:pt x="243" y="78"/>
                </a:lnTo>
                <a:lnTo>
                  <a:pt x="243" y="78"/>
                </a:lnTo>
                <a:cubicBezTo>
                  <a:pt x="242" y="79"/>
                  <a:pt x="242" y="80"/>
                  <a:pt x="242" y="81"/>
                </a:cubicBezTo>
                <a:cubicBezTo>
                  <a:pt x="242" y="81"/>
                  <a:pt x="242" y="81"/>
                  <a:pt x="242" y="81"/>
                </a:cubicBezTo>
                <a:cubicBezTo>
                  <a:pt x="242" y="82"/>
                  <a:pt x="242" y="83"/>
                  <a:pt x="241" y="84"/>
                </a:cubicBezTo>
                <a:cubicBezTo>
                  <a:pt x="241" y="84"/>
                  <a:pt x="241" y="84"/>
                  <a:pt x="241" y="84"/>
                </a:cubicBezTo>
                <a:cubicBezTo>
                  <a:pt x="241" y="85"/>
                  <a:pt x="240" y="86"/>
                  <a:pt x="240" y="87"/>
                </a:cubicBezTo>
                <a:cubicBezTo>
                  <a:pt x="240" y="87"/>
                  <a:pt x="240" y="87"/>
                  <a:pt x="240" y="87"/>
                </a:cubicBezTo>
                <a:cubicBezTo>
                  <a:pt x="240" y="89"/>
                  <a:pt x="239" y="90"/>
                  <a:pt x="239" y="90"/>
                </a:cubicBezTo>
                <a:cubicBezTo>
                  <a:pt x="239" y="90"/>
                  <a:pt x="239" y="91"/>
                  <a:pt x="239" y="91"/>
                </a:cubicBezTo>
                <a:cubicBezTo>
                  <a:pt x="236" y="95"/>
                  <a:pt x="233" y="99"/>
                  <a:pt x="230" y="102"/>
                </a:cubicBezTo>
                <a:cubicBezTo>
                  <a:pt x="223" y="107"/>
                  <a:pt x="215" y="111"/>
                  <a:pt x="206" y="111"/>
                </a:cubicBezTo>
                <a:cubicBezTo>
                  <a:pt x="197" y="111"/>
                  <a:pt x="189" y="108"/>
                  <a:pt x="183" y="103"/>
                </a:cubicBezTo>
                <a:lnTo>
                  <a:pt x="176" y="96"/>
                </a:lnTo>
                <a:lnTo>
                  <a:pt x="162" y="82"/>
                </a:lnTo>
                <a:lnTo>
                  <a:pt x="154" y="74"/>
                </a:lnTo>
                <a:cubicBezTo>
                  <a:pt x="138" y="62"/>
                  <a:pt x="116" y="62"/>
                  <a:pt x="100" y="74"/>
                </a:cubicBezTo>
                <a:lnTo>
                  <a:pt x="76" y="99"/>
                </a:lnTo>
                <a:cubicBezTo>
                  <a:pt x="63" y="114"/>
                  <a:pt x="63" y="137"/>
                  <a:pt x="75" y="152"/>
                </a:cubicBezTo>
                <a:lnTo>
                  <a:pt x="83" y="161"/>
                </a:lnTo>
                <a:lnTo>
                  <a:pt x="103" y="181"/>
                </a:lnTo>
                <a:cubicBezTo>
                  <a:pt x="104" y="182"/>
                  <a:pt x="104" y="182"/>
                  <a:pt x="104" y="182"/>
                </a:cubicBezTo>
                <a:cubicBezTo>
                  <a:pt x="105" y="183"/>
                  <a:pt x="105" y="183"/>
                  <a:pt x="105" y="184"/>
                </a:cubicBezTo>
                <a:cubicBezTo>
                  <a:pt x="106" y="184"/>
                  <a:pt x="106" y="185"/>
                  <a:pt x="106" y="186"/>
                </a:cubicBezTo>
                <a:cubicBezTo>
                  <a:pt x="107" y="186"/>
                  <a:pt x="107" y="186"/>
                  <a:pt x="107" y="187"/>
                </a:cubicBezTo>
                <a:cubicBezTo>
                  <a:pt x="107" y="187"/>
                  <a:pt x="108" y="188"/>
                  <a:pt x="108" y="189"/>
                </a:cubicBezTo>
                <a:cubicBezTo>
                  <a:pt x="108" y="189"/>
                  <a:pt x="108" y="189"/>
                  <a:pt x="109" y="190"/>
                </a:cubicBezTo>
                <a:cubicBezTo>
                  <a:pt x="109" y="191"/>
                  <a:pt x="109" y="191"/>
                  <a:pt x="109" y="192"/>
                </a:cubicBezTo>
                <a:cubicBezTo>
                  <a:pt x="109" y="192"/>
                  <a:pt x="110" y="193"/>
                  <a:pt x="110" y="193"/>
                </a:cubicBezTo>
                <a:cubicBezTo>
                  <a:pt x="110" y="194"/>
                  <a:pt x="110" y="195"/>
                  <a:pt x="111" y="196"/>
                </a:cubicBezTo>
                <a:cubicBezTo>
                  <a:pt x="111" y="196"/>
                  <a:pt x="111" y="196"/>
                  <a:pt x="111" y="196"/>
                </a:cubicBezTo>
                <a:cubicBezTo>
                  <a:pt x="111" y="197"/>
                  <a:pt x="111" y="198"/>
                  <a:pt x="111" y="200"/>
                </a:cubicBezTo>
                <a:cubicBezTo>
                  <a:pt x="111" y="200"/>
                  <a:pt x="111" y="200"/>
                  <a:pt x="111" y="200"/>
                </a:cubicBezTo>
                <a:cubicBezTo>
                  <a:pt x="112" y="211"/>
                  <a:pt x="109" y="222"/>
                  <a:pt x="100" y="231"/>
                </a:cubicBezTo>
                <a:cubicBezTo>
                  <a:pt x="94" y="237"/>
                  <a:pt x="87" y="240"/>
                  <a:pt x="78" y="241"/>
                </a:cubicBezTo>
                <a:lnTo>
                  <a:pt x="70" y="241"/>
                </a:lnTo>
                <a:lnTo>
                  <a:pt x="50" y="241"/>
                </a:lnTo>
                <a:lnTo>
                  <a:pt x="38" y="241"/>
                </a:lnTo>
                <a:cubicBezTo>
                  <a:pt x="18" y="244"/>
                  <a:pt x="3" y="259"/>
                  <a:pt x="0" y="279"/>
                </a:cubicBezTo>
                <a:lnTo>
                  <a:pt x="0" y="314"/>
                </a:lnTo>
                <a:cubicBezTo>
                  <a:pt x="2" y="334"/>
                  <a:pt x="18" y="350"/>
                  <a:pt x="38" y="352"/>
                </a:cubicBezTo>
                <a:lnTo>
                  <a:pt x="50" y="353"/>
                </a:lnTo>
                <a:lnTo>
                  <a:pt x="78" y="353"/>
                </a:lnTo>
                <a:cubicBezTo>
                  <a:pt x="79" y="353"/>
                  <a:pt x="80" y="353"/>
                  <a:pt x="81" y="353"/>
                </a:cubicBezTo>
                <a:cubicBezTo>
                  <a:pt x="82" y="353"/>
                  <a:pt x="82" y="353"/>
                  <a:pt x="82" y="353"/>
                </a:cubicBezTo>
                <a:cubicBezTo>
                  <a:pt x="83" y="354"/>
                  <a:pt x="84" y="354"/>
                  <a:pt x="85" y="354"/>
                </a:cubicBezTo>
                <a:cubicBezTo>
                  <a:pt x="100" y="359"/>
                  <a:pt x="111" y="373"/>
                  <a:pt x="111" y="390"/>
                </a:cubicBezTo>
                <a:lnTo>
                  <a:pt x="111" y="390"/>
                </a:lnTo>
                <a:cubicBezTo>
                  <a:pt x="111" y="398"/>
                  <a:pt x="108" y="406"/>
                  <a:pt x="103" y="413"/>
                </a:cubicBezTo>
                <a:lnTo>
                  <a:pt x="97" y="419"/>
                </a:lnTo>
                <a:lnTo>
                  <a:pt x="97" y="419"/>
                </a:lnTo>
                <a:lnTo>
                  <a:pt x="83" y="433"/>
                </a:lnTo>
                <a:lnTo>
                  <a:pt x="74" y="441"/>
                </a:lnTo>
                <a:cubicBezTo>
                  <a:pt x="62" y="457"/>
                  <a:pt x="62" y="479"/>
                  <a:pt x="75" y="495"/>
                </a:cubicBezTo>
                <a:lnTo>
                  <a:pt x="99" y="520"/>
                </a:lnTo>
                <a:cubicBezTo>
                  <a:pt x="115" y="532"/>
                  <a:pt x="137" y="532"/>
                  <a:pt x="153" y="520"/>
                </a:cubicBezTo>
                <a:lnTo>
                  <a:pt x="161" y="512"/>
                </a:lnTo>
                <a:lnTo>
                  <a:pt x="181" y="492"/>
                </a:lnTo>
                <a:lnTo>
                  <a:pt x="181" y="492"/>
                </a:lnTo>
                <a:cubicBezTo>
                  <a:pt x="181" y="492"/>
                  <a:pt x="182" y="492"/>
                  <a:pt x="182" y="492"/>
                </a:cubicBezTo>
                <a:cubicBezTo>
                  <a:pt x="183" y="491"/>
                  <a:pt x="183" y="490"/>
                  <a:pt x="184" y="490"/>
                </a:cubicBezTo>
                <a:cubicBezTo>
                  <a:pt x="185" y="490"/>
                  <a:pt x="185" y="489"/>
                  <a:pt x="185" y="489"/>
                </a:cubicBezTo>
                <a:cubicBezTo>
                  <a:pt x="186" y="489"/>
                  <a:pt x="187" y="488"/>
                  <a:pt x="187" y="488"/>
                </a:cubicBezTo>
                <a:cubicBezTo>
                  <a:pt x="188" y="488"/>
                  <a:pt x="189" y="487"/>
                  <a:pt x="189" y="487"/>
                </a:cubicBezTo>
                <a:cubicBezTo>
                  <a:pt x="189" y="487"/>
                  <a:pt x="190" y="487"/>
                  <a:pt x="190" y="487"/>
                </a:cubicBezTo>
                <a:cubicBezTo>
                  <a:pt x="191" y="486"/>
                  <a:pt x="192" y="486"/>
                  <a:pt x="193" y="486"/>
                </a:cubicBezTo>
                <a:cubicBezTo>
                  <a:pt x="193" y="486"/>
                  <a:pt x="193" y="486"/>
                  <a:pt x="193" y="486"/>
                </a:cubicBezTo>
                <a:cubicBezTo>
                  <a:pt x="193" y="486"/>
                  <a:pt x="193" y="485"/>
                  <a:pt x="193" y="485"/>
                </a:cubicBezTo>
                <a:cubicBezTo>
                  <a:pt x="194" y="485"/>
                  <a:pt x="195" y="485"/>
                  <a:pt x="196" y="485"/>
                </a:cubicBezTo>
                <a:cubicBezTo>
                  <a:pt x="196" y="485"/>
                  <a:pt x="197" y="485"/>
                  <a:pt x="197" y="485"/>
                </a:cubicBezTo>
                <a:cubicBezTo>
                  <a:pt x="197" y="484"/>
                  <a:pt x="198" y="484"/>
                  <a:pt x="199" y="484"/>
                </a:cubicBezTo>
                <a:cubicBezTo>
                  <a:pt x="200" y="484"/>
                  <a:pt x="200" y="484"/>
                  <a:pt x="200" y="484"/>
                </a:cubicBezTo>
                <a:cubicBezTo>
                  <a:pt x="201" y="484"/>
                  <a:pt x="202" y="484"/>
                  <a:pt x="203" y="484"/>
                </a:cubicBezTo>
                <a:cubicBezTo>
                  <a:pt x="213" y="483"/>
                  <a:pt x="223" y="487"/>
                  <a:pt x="231" y="495"/>
                </a:cubicBezTo>
                <a:cubicBezTo>
                  <a:pt x="237" y="501"/>
                  <a:pt x="240" y="509"/>
                  <a:pt x="241" y="517"/>
                </a:cubicBezTo>
                <a:lnTo>
                  <a:pt x="241" y="525"/>
                </a:lnTo>
                <a:lnTo>
                  <a:pt x="241" y="545"/>
                </a:lnTo>
                <a:lnTo>
                  <a:pt x="241" y="557"/>
                </a:lnTo>
                <a:cubicBezTo>
                  <a:pt x="244" y="577"/>
                  <a:pt x="260" y="593"/>
                  <a:pt x="280" y="595"/>
                </a:cubicBezTo>
                <a:lnTo>
                  <a:pt x="314" y="595"/>
                </a:lnTo>
                <a:cubicBezTo>
                  <a:pt x="334" y="593"/>
                  <a:pt x="350" y="577"/>
                  <a:pt x="353" y="558"/>
                </a:cubicBezTo>
                <a:lnTo>
                  <a:pt x="353" y="546"/>
                </a:lnTo>
                <a:lnTo>
                  <a:pt x="353" y="525"/>
                </a:lnTo>
                <a:lnTo>
                  <a:pt x="353" y="517"/>
                </a:lnTo>
                <a:lnTo>
                  <a:pt x="353" y="517"/>
                </a:lnTo>
                <a:cubicBezTo>
                  <a:pt x="354" y="510"/>
                  <a:pt x="356" y="504"/>
                  <a:pt x="361" y="499"/>
                </a:cubicBezTo>
                <a:cubicBezTo>
                  <a:pt x="361" y="498"/>
                  <a:pt x="361" y="498"/>
                  <a:pt x="362" y="497"/>
                </a:cubicBezTo>
                <a:cubicBezTo>
                  <a:pt x="362" y="497"/>
                  <a:pt x="362" y="496"/>
                  <a:pt x="363" y="496"/>
                </a:cubicBezTo>
                <a:cubicBezTo>
                  <a:pt x="365" y="494"/>
                  <a:pt x="367" y="492"/>
                  <a:pt x="370" y="490"/>
                </a:cubicBezTo>
                <a:lnTo>
                  <a:pt x="370" y="490"/>
                </a:lnTo>
                <a:cubicBezTo>
                  <a:pt x="371" y="489"/>
                  <a:pt x="372" y="489"/>
                  <a:pt x="373" y="489"/>
                </a:cubicBezTo>
                <a:cubicBezTo>
                  <a:pt x="373" y="488"/>
                  <a:pt x="373" y="488"/>
                  <a:pt x="373" y="488"/>
                </a:cubicBezTo>
                <a:cubicBezTo>
                  <a:pt x="374" y="488"/>
                  <a:pt x="374" y="488"/>
                  <a:pt x="374" y="488"/>
                </a:cubicBezTo>
                <a:cubicBezTo>
                  <a:pt x="375" y="488"/>
                  <a:pt x="375" y="487"/>
                  <a:pt x="376" y="487"/>
                </a:cubicBezTo>
                <a:lnTo>
                  <a:pt x="343" y="454"/>
                </a:lnTo>
                <a:cubicBezTo>
                  <a:pt x="328" y="458"/>
                  <a:pt x="313" y="460"/>
                  <a:pt x="297" y="460"/>
                </a:cubicBezTo>
                <a:cubicBezTo>
                  <a:pt x="207" y="460"/>
                  <a:pt x="135" y="387"/>
                  <a:pt x="135" y="297"/>
                </a:cubicBezTo>
                <a:cubicBezTo>
                  <a:pt x="135" y="207"/>
                  <a:pt x="208" y="134"/>
                  <a:pt x="298" y="134"/>
                </a:cubicBezTo>
                <a:cubicBezTo>
                  <a:pt x="388" y="135"/>
                  <a:pt x="461" y="208"/>
                  <a:pt x="461" y="298"/>
                </a:cubicBezTo>
                <a:cubicBezTo>
                  <a:pt x="461" y="313"/>
                  <a:pt x="458" y="328"/>
                  <a:pt x="454" y="342"/>
                </a:cubicBezTo>
                <a:lnTo>
                  <a:pt x="488" y="375"/>
                </a:lnTo>
                <a:cubicBezTo>
                  <a:pt x="489" y="371"/>
                  <a:pt x="492" y="368"/>
                  <a:pt x="495" y="364"/>
                </a:cubicBezTo>
                <a:cubicBezTo>
                  <a:pt x="499" y="361"/>
                  <a:pt x="503" y="358"/>
                  <a:pt x="507" y="356"/>
                </a:cubicBezTo>
                <a:cubicBezTo>
                  <a:pt x="511" y="355"/>
                  <a:pt x="514" y="354"/>
                  <a:pt x="517" y="354"/>
                </a:cubicBezTo>
                <a:lnTo>
                  <a:pt x="526" y="354"/>
                </a:lnTo>
                <a:lnTo>
                  <a:pt x="545" y="354"/>
                </a:lnTo>
                <a:lnTo>
                  <a:pt x="558" y="354"/>
                </a:lnTo>
                <a:cubicBezTo>
                  <a:pt x="577" y="351"/>
                  <a:pt x="593" y="336"/>
                  <a:pt x="595" y="316"/>
                </a:cubicBezTo>
                <a:lnTo>
                  <a:pt x="595" y="281"/>
                </a:lnTo>
                <a:cubicBezTo>
                  <a:pt x="593" y="261"/>
                  <a:pt x="578" y="245"/>
                  <a:pt x="558" y="242"/>
                </a:cubicBezTo>
                <a:close/>
                <a:moveTo>
                  <a:pt x="497" y="517"/>
                </a:moveTo>
                <a:lnTo>
                  <a:pt x="497" y="517"/>
                </a:lnTo>
                <a:cubicBezTo>
                  <a:pt x="486" y="517"/>
                  <a:pt x="476" y="508"/>
                  <a:pt x="476" y="496"/>
                </a:cubicBezTo>
                <a:cubicBezTo>
                  <a:pt x="476" y="484"/>
                  <a:pt x="486" y="475"/>
                  <a:pt x="497" y="475"/>
                </a:cubicBezTo>
                <a:cubicBezTo>
                  <a:pt x="509" y="475"/>
                  <a:pt x="518" y="484"/>
                  <a:pt x="518" y="496"/>
                </a:cubicBezTo>
                <a:cubicBezTo>
                  <a:pt x="518" y="508"/>
                  <a:pt x="509" y="517"/>
                  <a:pt x="497" y="51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54a0d8"/>
              </a:solidFill>
              <a:latin typeface="Arial"/>
            </a:endParaRPr>
          </a:p>
        </p:txBody>
      </p:sp>
    </p:spTree>
  </p:cSld>
  <p:transition spd="slow" advTm="10000">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优品PPT</dc:creator>
  <dc:description>http://www.ypppt.com/</dc:description>
  <cp:keywords>http:/www.ypppt.com</cp:keywords>
  <dc:language>en-US</dc:language>
  <cp:lastModifiedBy>Windows 用户</cp:lastModifiedBy>
  <dcterms:modified xsi:type="dcterms:W3CDTF">2017-03-27T08:46:04Z</dcterms:modified>
  <cp:revision>59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60</vt:lpwstr>
  </property>
</Properties>
</file>