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2098-64CF-4F76-80E8-E6FC3CB4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9824-D41C-4F19-8968-1F935370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9A2B-FF6F-4C22-91ED-814503816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EF5E-A1A9-4FDE-A105-7F4580AA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4E94-46DD-40A8-9FC3-C23DAF98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DF91-04AA-4175-8C37-F6A40C2B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6C63-F843-453C-8696-3B19651F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26A2-C405-4DB8-9827-FB2F2474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590A-FEB5-4D73-9995-59BD5FFF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6B93-7373-49F4-A88A-54304698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9CC0-4082-46CA-A26E-D233E3BD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A30F-2503-465A-8A58-C28B6B5A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E4E8-FC56-4FF5-8E40-CE51A6D13F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4T14:03:06Z</dcterms:created>
  <dc:creator>WYC</dc:creator>
  <dc:description/>
  <dc:language>en-US</dc:language>
  <cp:lastModifiedBy>WYC</cp:lastModifiedBy>
  <dcterms:modified xsi:type="dcterms:W3CDTF">2015-07-14T14:03:13Z</dcterms:modified>
  <cp:revision>1</cp:revision>
  <dc:subject/>
  <dc:title>幻灯片 1</dc:title>
</cp:coreProperties>
</file>