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BC1-DBA5-4BA2-ACBD-44EED622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6C6-9366-49EF-AC50-7892AEA4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110-F8F2-4480-80B8-3B2D1BA7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157-3256-4A5B-8D3B-16BD1821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60C-B0A3-4DA3-9C09-702B68E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6BB-9292-4EB0-B58E-60A560AB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853-FEB6-41A0-B1BB-BF5136B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142-F224-4DB0-8FEC-A5435432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070-54C0-4ECB-AFFA-CB0AC166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7CF-2D69-4911-BDFB-C025FEB5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79A-A7D6-4737-83E2-0CF1B67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B3D-7E9A-4B9F-88EE-369E4936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99A5-18BC-4DF0-925C-6957FF315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099" descr="800ce625bd64783e09122bbe?pn=1&amp;o=jpg_6&amp;md5sum=c7113021f32df2df1d888d3f442905cc&amp;sign=f54b39da54&amp;png=0-74099&amp;jpg=0-99047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矩形 4100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101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1267" descr="800ce625bd64783e09122bbe?pn=11&amp;o=jpg_6&amp;md5sum=c7113021f32df2df1d888d3f442905cc&amp;sign=f54b39da54&amp;png=2292842-2331028&amp;jpg=1872128-2052645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矩形 11268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269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2291" descr="800ce625bd64783e09122bbe?pn=12&amp;o=jpg_6&amp;md5sum=c7113021f32df2df1d888d3f442905cc&amp;sign=f54b39da54&amp;png=2331029-2413761&amp;jpg=2052646-2170854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矩形 12292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293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3315" descr="800ce625bd64783e09122bbe?pn=13&amp;o=jpg_6&amp;md5sum=c7113021f32df2df1d888d3f442905cc&amp;sign=f54b39da54&amp;png=2413762-2520295&amp;jpg=2170855-2300568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矩形 13316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317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4339" descr="800ce625bd64783e09122bbe?pn=14&amp;o=jpg_6&amp;md5sum=c7113021f32df2df1d888d3f442905cc&amp;sign=f54b39da54&amp;png=2520296-2595689&amp;jpg=2300569-2473388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矩形 14340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341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5363" descr="800ce625bd64783e09122bbe?pn=16&amp;o=jpg_6&amp;md5sum=c7113021f32df2df1d888d3f442905cc&amp;sign=f54b39da54&amp;png=2722865-2923370&amp;jpg=2604272-2776576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09" name="矩形 15364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365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16387" descr="800ce625bd64783e09122bbe?pn=17&amp;o=jpg_6&amp;md5sum=c7113021f32df2df1d888d3f442905cc&amp;sign=f54b39da54&amp;png=2923371-2928717&amp;jpg=2776577-2869506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14" name="矩形 16388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6389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7411" descr="800ce625bd64783e09122bbe?pn=18&amp;o=jpg_6&amp;md5sum=c7113021f32df2df1d888d3f442905cc&amp;sign=f54b39da54&amp;png=2928718-3645467&amp;jpg=2869507-3120066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19" name="矩形 17412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413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8435" descr="800ce625bd64783e09122bbe?pn=21&amp;o=jpg_6&amp;md5sum=c7113021f32df2df1d888d3f442905cc&amp;sign=f54b39da54&amp;png=4080175-4116865&amp;jpg=3569222-3727153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24" name="矩形 18436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8437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9459" descr="800ce625bd64783e09122bbe?pn=22&amp;o=jpg_6&amp;md5sum=c7113021f32df2df1d888d3f442905cc&amp;sign=f54b39da54&amp;png=4116866-4241065&amp;jpg=3727154-3931537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19460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461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20483" descr="800ce625bd64783e09122bbe?pn=41&amp;o=jpg_6&amp;md5sum=c7113021f32df2df1d888d3f442905cc&amp;sign=f54b39da54&amp;png=7446967-&amp;jpg=7553353-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134" name="矩形 20484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0485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123" descr="800ce625bd64783e09122bbe?pn=2&amp;o=jpg_6&amp;md5sum=c7113021f32df2df1d888d3f442905cc&amp;sign=f54b39da54&amp;png=74100-693107&amp;jpg=99048-328979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6147" descr="800ce625bd64783e09122bbe?pn=3&amp;o=jpg_6&amp;md5sum=c7113021f32df2df1d888d3f442905cc&amp;sign=f54b39da54&amp;png=693108-1084183&amp;jpg=328980-621223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矩形 6148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149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7171" descr="800ce625bd64783e09122bbe?pn=4&amp;o=jpg_6&amp;md5sum=c7113021f32df2df1d888d3f442905cc&amp;sign=f54b39da54&amp;png=1084184-1352286&amp;jpg=621224-781334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矩形 7172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173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8195" descr="800ce625bd64783e09122bbe?pn=5&amp;o=jpg_6&amp;md5sum=c7113021f32df2df1d888d3f442905cc&amp;sign=f54b39da54&amp;png=1352287-1539475&amp;jpg=781335-975374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矩形 8196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197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9219" descr="800ce625bd64783e09122bbe?pn=6&amp;o=jpg_6&amp;md5sum=c7113021f32df2df1d888d3f442905cc&amp;sign=f54b39da54&amp;png=1539476-1670695&amp;jpg=975375-1149942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矩形 9220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221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6867" descr="800ce625bd64783e09122bbe?pn=7&amp;o=jpg_6&amp;md5sum=c7113021f32df2df1d888d3f442905cc&amp;sign=f54b39da54&amp;png=1670696-1791645&amp;jpg=1149943-1314903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矩形 36868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6869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35843" descr="800ce625bd64783e09122bbe?pn=9&amp;o=jpg_6&amp;md5sum=c7113021f32df2df1d888d3f442905cc&amp;sign=f54b39da54&amp;png=1943702-2053549&amp;jpg=1518834-1666950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矩形 35844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5845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0243" descr="800ce625bd64783e09122bbe?pn=10&amp;o=jpg_6&amp;md5sum=c7113021f32df2df1d888d3f442905cc&amp;sign=f54b39da54&amp;png=2053550-2292841&amp;jpg=1666951-1872127"/>
          <p:cNvPicPr/>
          <p:nvPr/>
        </p:nvPicPr>
        <p:blipFill>
          <a:blip r:embed="rId1"/>
          <a:stretch/>
        </p:blipFill>
        <p:spPr>
          <a:xfrm>
            <a:off x="-571680" y="-379440"/>
            <a:ext cx="1028736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矩形 10244"/>
          <p:cNvSpPr/>
          <p:nvPr/>
        </p:nvSpPr>
        <p:spPr>
          <a:xfrm>
            <a:off x="396828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  <a:ea typeface="微软雅黑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245"/>
          <p:cNvSpPr/>
          <p:nvPr/>
        </p:nvSpPr>
        <p:spPr>
          <a:xfrm>
            <a:off x="-571680" y="-614880"/>
            <a:ext cx="720" cy="52344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5T06:59:24Z</dcterms:created>
  <dc:creator>Administrator</dc:creator>
  <dc:description/>
  <dc:language>en-US</dc:language>
  <cp:lastModifiedBy>haier</cp:lastModifiedBy>
  <dcterms:modified xsi:type="dcterms:W3CDTF">2017-05-28T10:00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  <property fmtid="{D5CDD505-2E9C-101B-9397-08002B2CF9AE}" pid="3" name="Version">
    <vt:r8>1</vt:r8>
  </property>
</Properties>
</file>