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1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D480-A70E-470C-B811-52A7AE40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ABBF-8A84-46A4-B7FF-04D00193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1279-706D-4EF4-BBE4-3F615844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FD0-C77D-4E12-9978-1187CCF9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90C-08BE-4A6E-9617-8D52A168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B0FE-1543-4063-87B1-5C42BF30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ADA-25FA-4CDD-94EC-86C5C981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642-05B8-48E6-AAB7-72F0A875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1A3-547D-4333-8C7A-8D6F4DEE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8C5-8024-4A1F-8B17-49C8152E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F69-E882-4B81-A24A-1BADC47D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7BC0-4287-4E31-A542-A5EFDE88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C0AE-F9B5-4CF4-A562-D6BC899880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5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3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0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0.gif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Q"/>
          <p:cNvPicPr/>
          <p:nvPr/>
        </p:nvPicPr>
        <p:blipFill>
          <a:blip r:embed="rId1"/>
          <a:stretch/>
        </p:blipFill>
        <p:spPr>
          <a:xfrm>
            <a:off x="-295200" y="-219240"/>
            <a:ext cx="9744120" cy="7305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9" descr="1"/>
          <p:cNvPicPr/>
          <p:nvPr/>
        </p:nvPicPr>
        <p:blipFill>
          <a:blip r:embed="rId2"/>
          <a:stretch/>
        </p:blipFill>
        <p:spPr>
          <a:xfrm>
            <a:off x="-898560" y="-817560"/>
            <a:ext cx="15903720" cy="1085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0" descr="汽泡"/>
          <p:cNvPicPr/>
          <p:nvPr/>
        </p:nvPicPr>
        <p:blipFill>
          <a:blip r:embed="rId3"/>
          <a:stretch/>
        </p:blipFill>
        <p:spPr>
          <a:xfrm>
            <a:off x="6659640" y="8469360"/>
            <a:ext cx="501480" cy="515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1" descr="汽泡"/>
          <p:cNvPicPr/>
          <p:nvPr/>
        </p:nvPicPr>
        <p:blipFill>
          <a:blip r:embed="rId4"/>
          <a:stretch/>
        </p:blipFill>
        <p:spPr>
          <a:xfrm>
            <a:off x="7667640" y="7893000"/>
            <a:ext cx="1050840" cy="1081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2" descr="汽泡"/>
          <p:cNvPicPr/>
          <p:nvPr/>
        </p:nvPicPr>
        <p:blipFill>
          <a:blip r:embed="rId5"/>
          <a:stretch/>
        </p:blipFill>
        <p:spPr>
          <a:xfrm>
            <a:off x="4643280" y="7605720"/>
            <a:ext cx="560520" cy="57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3" descr="汽泡"/>
          <p:cNvPicPr/>
          <p:nvPr/>
        </p:nvPicPr>
        <p:blipFill>
          <a:blip r:embed="rId6"/>
          <a:stretch/>
        </p:blipFill>
        <p:spPr>
          <a:xfrm>
            <a:off x="5148360" y="7893000"/>
            <a:ext cx="98100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汽泡"/>
          <p:cNvPicPr/>
          <p:nvPr/>
        </p:nvPicPr>
        <p:blipFill>
          <a:blip r:embed="rId7"/>
          <a:stretch/>
        </p:blipFill>
        <p:spPr>
          <a:xfrm>
            <a:off x="4359240" y="861372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5" descr="汽泡"/>
          <p:cNvPicPr/>
          <p:nvPr/>
        </p:nvPicPr>
        <p:blipFill>
          <a:blip r:embed="rId8"/>
          <a:stretch/>
        </p:blipFill>
        <p:spPr>
          <a:xfrm>
            <a:off x="3416400" y="8182080"/>
            <a:ext cx="420480" cy="43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6" descr="汽泡"/>
          <p:cNvPicPr/>
          <p:nvPr/>
        </p:nvPicPr>
        <p:blipFill>
          <a:blip r:embed="rId9"/>
          <a:stretch/>
        </p:blipFill>
        <p:spPr>
          <a:xfrm>
            <a:off x="2484360" y="825336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7" descr="汽泡"/>
          <p:cNvPicPr/>
          <p:nvPr/>
        </p:nvPicPr>
        <p:blipFill>
          <a:blip r:embed="rId10"/>
          <a:stretch/>
        </p:blipFill>
        <p:spPr>
          <a:xfrm>
            <a:off x="1692360" y="7677000"/>
            <a:ext cx="772920" cy="7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8" descr="汽泡"/>
          <p:cNvPicPr/>
          <p:nvPr/>
        </p:nvPicPr>
        <p:blipFill>
          <a:blip r:embed="rId11"/>
          <a:stretch/>
        </p:blipFill>
        <p:spPr>
          <a:xfrm>
            <a:off x="1692360" y="8613720"/>
            <a:ext cx="420480" cy="43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9" descr="汽泡"/>
          <p:cNvPicPr/>
          <p:nvPr/>
        </p:nvPicPr>
        <p:blipFill>
          <a:blip r:embed="rId12"/>
          <a:stretch/>
        </p:blipFill>
        <p:spPr>
          <a:xfrm>
            <a:off x="3851280" y="782172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0" descr="汽泡"/>
          <p:cNvPicPr/>
          <p:nvPr/>
        </p:nvPicPr>
        <p:blipFill>
          <a:blip r:embed="rId13"/>
          <a:stretch/>
        </p:blipFill>
        <p:spPr>
          <a:xfrm>
            <a:off x="6659640" y="789300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1" descr="汽泡"/>
          <p:cNvPicPr/>
          <p:nvPr/>
        </p:nvPicPr>
        <p:blipFill>
          <a:blip r:embed="rId14"/>
          <a:stretch/>
        </p:blipFill>
        <p:spPr>
          <a:xfrm>
            <a:off x="3059280" y="7966080"/>
            <a:ext cx="139680" cy="14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2" descr="汽泡"/>
          <p:cNvPicPr/>
          <p:nvPr/>
        </p:nvPicPr>
        <p:blipFill>
          <a:blip r:embed="rId15"/>
          <a:stretch/>
        </p:blipFill>
        <p:spPr>
          <a:xfrm>
            <a:off x="468360" y="7821720"/>
            <a:ext cx="631800" cy="649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3" descr="汽泡"/>
          <p:cNvPicPr/>
          <p:nvPr/>
        </p:nvPicPr>
        <p:blipFill>
          <a:blip r:embed="rId16"/>
          <a:stretch/>
        </p:blipFill>
        <p:spPr>
          <a:xfrm>
            <a:off x="7236000" y="825336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5" descr="551_07"/>
          <p:cNvPicPr/>
          <p:nvPr/>
        </p:nvPicPr>
        <p:blipFill>
          <a:blip r:embed="rId17"/>
          <a:stretch/>
        </p:blipFill>
        <p:spPr>
          <a:xfrm>
            <a:off x="10072800" y="2781360"/>
            <a:ext cx="1123920" cy="115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551_11"/>
          <p:cNvPicPr/>
          <p:nvPr/>
        </p:nvPicPr>
        <p:blipFill>
          <a:blip r:embed="rId18"/>
          <a:stretch/>
        </p:blipFill>
        <p:spPr>
          <a:xfrm>
            <a:off x="-1179360" y="7242120"/>
            <a:ext cx="942840" cy="866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7" descr="点"/>
          <p:cNvPicPr/>
          <p:nvPr/>
        </p:nvPicPr>
        <p:blipFill>
          <a:blip r:embed="rId19">
            <a:lum bright="54000"/>
          </a:blip>
          <a:stretch/>
        </p:blipFill>
        <p:spPr>
          <a:xfrm>
            <a:off x="771480" y="3003480"/>
            <a:ext cx="7601040" cy="3448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2" descr="汽泡"/>
          <p:cNvPicPr/>
          <p:nvPr/>
        </p:nvPicPr>
        <p:blipFill>
          <a:blip r:embed="rId20"/>
          <a:stretch/>
        </p:blipFill>
        <p:spPr>
          <a:xfrm>
            <a:off x="5580000" y="861372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4" descr="551_03"/>
          <p:cNvPicPr/>
          <p:nvPr/>
        </p:nvPicPr>
        <p:blipFill>
          <a:blip r:embed="rId21"/>
          <a:stretch/>
        </p:blipFill>
        <p:spPr>
          <a:xfrm>
            <a:off x="-2403360" y="2349360"/>
            <a:ext cx="857160" cy="116208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103446"/>
          <p:cNvSpPr/>
          <p:nvPr/>
        </p:nvSpPr>
        <p:spPr>
          <a:xfrm>
            <a:off x="1979640" y="2133720"/>
            <a:ext cx="5184720" cy="36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03447"/>
          <p:cNvSpPr/>
          <p:nvPr/>
        </p:nvSpPr>
        <p:spPr>
          <a:xfrm>
            <a:off x="1979640" y="2637000"/>
            <a:ext cx="540072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03448"/>
          <p:cNvSpPr/>
          <p:nvPr/>
        </p:nvSpPr>
        <p:spPr>
          <a:xfrm>
            <a:off x="3635280" y="4365720"/>
            <a:ext cx="4248360" cy="116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  <a:ea typeface="楷体_GB2312"/>
              </a:rPr>
              <a:t>xx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楷体_GB2312"/>
              </a:rPr>
              <a:t>小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楷体_GB2312"/>
              </a:rPr>
              <a:t>二年一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03449"/>
          <p:cNvSpPr txBox="1"/>
          <p:nvPr/>
        </p:nvSpPr>
        <p:spPr>
          <a:xfrm rot="60000">
            <a:off x="250560" y="1988640"/>
            <a:ext cx="8710560" cy="2441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楷体_GB2312"/>
              </a:rPr>
              <a:t>一样的心情 共同的责任</a:t>
            </a:r>
            <a:endParaRPr b="0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-0.34653 -0.00116 E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018334 -0.000101 C -0.015571 -0.034326 -0.049233 -0.0682 -0.051788 -0.11216 C -0.054342 -0.155762 -0.029493 -0.200439 0.003474 -0.263142 C 0.036441 -0.325845 0.111898 -0.411961 0.145573 -0.487631 C 0.179236 -0.563659 0.188985 -0.64006 0.205008 -0.718252 C 0.22103 -0.796444 0.23427 -0.906346 0.241933 -0.956082 E">
                                      <p:cBhvr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21988 -0.000114 C -0.013619 -0.034482 -0.048969 -0.068491 -0.051651 -0.112627 C -0.054334 -0.156763 -0.00338 -0.22117 0.006379 -0.264212 C 0.016127 -0.307269 -0.006555 -0.333307 0.007588 -0.370223 C 0.021731 -0.407123 0.074158 -0.416531 0.091221 -0.485627 C 0.1083 -0.554722 0.105856 -0.722233 0.109508 -0.784451 E">
                                      <p:cBhvr>
                                        <p:cTn id="10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E-006 -1.8E-005 C 0.00139 -0.014071 0.00538 -0.062151 0.00868 -0.084586 C 0.01198 -0.107021 0.02118 -0.114912 0.01979 -0.134137 C 0.0184 -0.153363 0.00191 -0.181716 0.00086 -0.19947 C -0.00018 -0.217224 0.00555 -0.218205 0.01354 -0.240149 C 0.02152 -0.262094 0.04566 -0.298828 0.0493 -0.331372 C 0.05295 -0.363915 0.03854 -0.414213 0.03576 -0.436157 E">
                                      <p:cBhvr>
                                        <p:cTn id="12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5053 -0.000178 C -0.022648 -0.036053 -0.047955 -0.083123 -0.05217 -0.117661 C -0.056385 -0.151733 -0.025961 -0.174164 -0.021746 -0.205098 C -0.017531 -0.236033 -0.033194 -0.270105 -0.026863 -0.301504 C -0.020844 -0.33333 -0.009396 -0.372787 0.016501 -0.394307 C 0.042398 -0.415828 0.105327 -0.422569 0.128518 -0.429736 E">
                                      <p:cBhvr>
                                        <p:cTn id="14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4.07407E-006 C 0.00521 -0.03496 0.00208 -0.06899 0.01094 -0.10533 C 0.01979 -0.14167 0.05312 -0.16505 0.0533 -0.2176 C 0.05347 -0.27014 0.02031 -0.37824 0.01163 -0.42037 E">
                                      <p:cBhvr>
                                        <p:cTn id="16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66667E-006 2.22045E-016 C 0.00382 -0.03191 0.01476 -0.04647 1.66667E-006 -0.08254 C -0.01476 -0.11861 -0.07031 -0.18913 -0.08889 -0.21711 E">
                                      <p:cBhvr>
                                        <p:cTn id="18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3.64162E-006 C -0.01615 -0.02289 -0.03229 -0.04578 -0.03334 -0.07398 C -0.03438 -0.10219 -0.00469 -0.13179 -0.00625 -0.16924 C -0.00782 -0.2067 -0.03889 -0.25687 -0.04271 -0.29826 C -0.04653 -0.33965 -0.03212 -0.39329 -0.02934 -0.41826 E">
                                      <p:cBhvr>
                                        <p:cTn id="20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3.33333E-006 C -0.04896 -0.05185 -0.09809 -0.10324 -0.11025 -0.14629 C -0.1224 -0.18935 -0.06459 -0.21805 -0.07361 -0.25833 C -0.08247 -0.29838 -0.14202 -0.34259 -0.16337 -0.38773 C -0.18473 -0.43287 -0.1941 -0.50023 -0.20226 -0.52986 E">
                                      <p:cBhvr>
                                        <p:cTn id="22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88889E-006 -1.48148E-006 C 0.0007 -0.02083 0.00139 -0.0412 0.01285 -0.0743 C 0.02431 -0.10717 0.05018 -0.1618 0.06841 -0.19907 C 0.08664 -0.23611 0.12466 -0.25208 0.12223 -0.29653 C 0.1198 -0.34097 0.06806 -0.43032 0.05382 -0.46551 E">
                                      <p:cBhvr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1E-005 -0.000123 C 0.000209 -0.151289 0.000402 -0.30248 0.024383 -0.371135 C 0.048172 -0.439284 0.130736 -0.347722 0.143123 -0.41161 C 0.155702 -0.475475 0.108328 -0.660718 0.099474 -0.75228 C 0.090631 -0.843843 0.091809 -0.91731 0.08985 -0.960431 E">
                                      <p:cBhvr>
                                        <p:cTn id="26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408 -0.000296 C -0.003761 -0.160519 0.000267 -0.350182 -0.015803 -0.455226 C -0.031855 -0.560309 -0.072339 -0.563847 -0.096752 -0.633312 C -0.121166 -0.70274 -0.149279 -0.799821 -0.162324 -0.870133 C -0.175369 -0.940482 -0.170686 -1.004601 -0.174694 -1.057104 C -0.178702 -1.109646 -0.184405 -1.159495 -0.186737 -1.186226 E">
                                      <p:cBhvr>
                                        <p:cTn id="28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-0.016667 -0.04463 -0.038194 -0.070278 -0.033333 -0.11213 C -0.028472 -0.153981 0.025347 -0.196944 0.028819 -0.250648 C 0.032292 -0.304259 -0.117153 -0.731019 -0.125694 -0.769444 E">
                                      <p:cBhvr>
                                        <p:cTn id="30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13264 -0.004537 C -0.012083 -0.026574 -0.040417 -0.053889 -0.039167 -0.076574 C -0.037986 -0.099259 0.007153 -0.119167 0.020903 -0.140926 C 0.034583 -0.162685 0.038958 -0.186296 0.043125 -0.206389 C 0.047292 -0.226574 0.055972 -0.211018 0.046458 -0.261481 C 0.029445 -0.303333 -0.04118 -0.402407 -0.055764 -0.512778 C -0.070347 -0.623148 -0.043611 -0.85537 -0.04118 -0.923889 E">
                                      <p:cBhvr>
                                        <p:cTn id="32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8925 -0.000176 C 0.006731 -0.116373 -0.033167 -0.225462 -0.001203 -0.330034 C 0.030748 -0.434605 0.167833 -0.541742 0.20066 -0.628885 C 0.2335 -0.716028 0.174218 -0.752837 0.19538 -0.853532 C 0.216528 -0.954227 0.300056 -1.154335 0.327602 -1.233084 E">
                                      <p:cBhvr>
                                        <p:cTn id="34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.55556E-007 -3.58382E-006 C -0.03125 0.03538 -0.06233 0.07098 -0.09062 0.07168 C -0.11892 0.07237 -0.1342 0.00093 -0.16996 0.00416 C -0.20573 0.0074 -0.28264 0.07653 -0.30486 0.09087 E">
                                      <p:cBhvr>
                                        <p:cTn id="39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22222E-006 -2.96296E-006 C 0.01753 -0.04629 0.03524 -0.09236 0.0618 -0.12037 C 0.08837 -0.14861 0.13646 -0.13518 0.16007 -0.16898 C 0.18385 -0.20277 0.17361 -0.27754 0.20451 -0.32338 C 0.23541 -0.36921 0.3158 -0.41898 0.34514 -0.44421 E">
                                      <p:cBhvr>
                                        <p:cTn id="41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6.38889E-006 -2.60116E-006 C 0.0276 0.00578 0.0552 0.0118 0.08246 0.00417 C 0.10971 -0.00346 0.13315 -0.04231 0.16336 -0.04647 C 0.19357 -0.05063 0.22586 -0.03075 0.26336 -0.02127 C 0.30086 -0.01179 0.34478 -0.00069 0.38888 0.01041 E">
                                      <p:cBhvr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87640" y="-168444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Bradley Hand ITC"/>
                <a:ea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920" y="98100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header-parentword"/>
          <p:cNvPicPr/>
          <p:nvPr/>
        </p:nvPicPr>
        <p:blipFill>
          <a:blip r:embed="rId1"/>
          <a:stretch/>
        </p:blipFill>
        <p:spPr>
          <a:xfrm>
            <a:off x="250920" y="0"/>
            <a:ext cx="2895480" cy="1063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MAR_140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28600" y="6095880"/>
            <a:ext cx="609480" cy="584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669960" y="5049720"/>
            <a:ext cx="672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627280" y="57340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324000" y="907920"/>
            <a:ext cx="867564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华文行楷"/>
                <a:ea typeface="华文行楷"/>
              </a:rPr>
              <a:t>    </a:t>
            </a: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活习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早晨按时起床，按时到校，不迟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吃饭、上学、做作业等生活中的事情不拖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3</a:t>
            </a:r>
            <a:r>
              <a:rPr b="0" lang="zh-CN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不随便要零食和玩具，不带零食和玩具上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4</a:t>
            </a:r>
            <a:r>
              <a:rPr b="0" lang="zh-CN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不对电视和网络着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5</a:t>
            </a:r>
            <a:r>
              <a:rPr b="0" lang="zh-CN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能帮助妈妈做一些家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12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35164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  <a:ea typeface="华文行楷"/>
              </a:rPr>
              <a:t>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卫生习惯</a:t>
            </a:r>
            <a:br>
              <a:rPr sz="5400"/>
            </a:br>
            <a:r>
              <a:rPr b="0" lang="en-US" sz="4000" spc="-1" strike="noStrike">
                <a:solidFill>
                  <a:srgbClr val="990000"/>
                </a:solidFill>
                <a:latin typeface="Arial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楷体_GB2312"/>
              </a:rPr>
              <a:t>、不随手扔垃圾，主动保持环境卫生。</a:t>
            </a: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Arial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楷体_GB2312"/>
              </a:rPr>
              <a:t>、讲究个人卫生，每天早晚洗脸刷牙，每晚洗脚，勤洗头，勤洗澡。</a:t>
            </a:r>
            <a:br>
              <a:rPr sz="4000"/>
            </a:br>
            <a:r>
              <a:rPr b="0" lang="en-US" sz="4000" spc="-1" strike="noStrike">
                <a:solidFill>
                  <a:srgbClr val="990000"/>
                </a:solidFill>
                <a:latin typeface="Arial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  <a:ea typeface="楷体_GB2312"/>
              </a:rPr>
              <a:t>、自觉主动地保持衣服干净卫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-23796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00000" y="-1752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4" descr="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124929"/>
          <p:cNvSpPr/>
          <p:nvPr/>
        </p:nvSpPr>
        <p:spPr>
          <a:xfrm>
            <a:off x="0" y="384120"/>
            <a:ext cx="8991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24930"/>
          <p:cNvSpPr/>
          <p:nvPr/>
        </p:nvSpPr>
        <p:spPr>
          <a:xfrm>
            <a:off x="468360" y="852480"/>
            <a:ext cx="864072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希望家长能督促孩子完成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能力的家长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多检查孩子作业的对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太懂的家长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保证孩子作业量的完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实在不会的家长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看看孩子的书写是否端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403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3300"/>
                </a:solidFill>
                <a:uFillTx/>
                <a:latin typeface="Arial"/>
                <a:ea typeface="宋体"/>
              </a:rPr>
              <a:t>具体做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4920" y="907920"/>
            <a:ext cx="7921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让孩子一放学先写作业，并且在这段时间内只能专心做作业，别的什么也不能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家长此时可以在旁边看书，督促孩子形成正确的坐姿和握笔姿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孩子写作业的顺序应该是：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先复习当天的学习内容。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写作业。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预习第二天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作业一定要认真工整，家长一旦发现孩子有写得不规范的地方，立刻让他重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孩子写作业当中不会的题，家长不要告诉他答案，而要让他自己想，实在想不出来，再让他看书，从书中找答案，坚持一段时间，他就会知道除了靠自己，他别无选择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1195200"/>
            <a:ext cx="79912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对于写作业比较慢的孩子，可以提前和孩子讲好，必须在多少时间内做完，时间一到，就不能再写了，没做完也不能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  </a:t>
            </a:r>
            <a:r>
              <a:rPr b="1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写完作业后，一定要让他自己检查。家长只是提醒他有几处错误就行，改完后再让您看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Arial"/>
                <a:ea typeface="宋体"/>
              </a:rPr>
              <a:t>等孩子预习过第二天内容后，让其自己收拾书桌和整理书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tre 1"/>
          <p:cNvSpPr/>
          <p:nvPr/>
        </p:nvSpPr>
        <p:spPr>
          <a:xfrm>
            <a:off x="250920" y="44280"/>
            <a:ext cx="403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3300"/>
                </a:solidFill>
                <a:uFillTx/>
                <a:latin typeface="Arial"/>
              </a:rPr>
              <a:t>具体做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JDSJ4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704880" y="1249200"/>
            <a:ext cx="779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爱是家庭教育的前提和基础。家长对孩子的期望和付诸的行动往往起着关键性作用，孩子的积极性往往反映出家长的积极性，成才的孩子常常是在家长的</a:t>
            </a:r>
            <a:r>
              <a:rPr b="0" lang="zh-CN" sz="3200" spc="-1" strike="noStrike">
                <a:solidFill>
                  <a:srgbClr val="990000"/>
                </a:solidFill>
                <a:latin typeface="华文新魏"/>
                <a:ea typeface="华文新魏"/>
              </a:rPr>
              <a:t>激励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成长起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反，家长如果对孩子采取压制、甚至歧视态度，往往会扼杀了孩子的聪明才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该表扬就及时表扬，</a:t>
            </a:r>
            <a:r>
              <a:rPr b="0" lang="zh-CN" sz="3200" spc="-1" strike="noStrike">
                <a:solidFill>
                  <a:srgbClr val="cc3300"/>
                </a:solidFill>
                <a:latin typeface="华文新魏"/>
                <a:ea typeface="华文新魏"/>
              </a:rPr>
              <a:t>口头表扬一点不逊于物质奖励，而且往往效果更好。</a:t>
            </a:r>
            <a:r>
              <a:rPr b="0" lang="zh-CN" sz="2400" spc="-1" strike="noStrike">
                <a:solidFill>
                  <a:srgbClr val="cc33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39640" y="54936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会</a:t>
            </a:r>
            <a:r>
              <a:rPr b="0" lang="zh-CN" sz="3600" spc="-1" strike="noStrike">
                <a:solidFill>
                  <a:srgbClr val="0836b2"/>
                </a:solidFill>
                <a:latin typeface="Times New Roman"/>
                <a:ea typeface="华文新魏"/>
              </a:rPr>
              <a:t>爱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4" name="图片 221187" descr="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矩形 221190"/>
          <p:cNvSpPr/>
          <p:nvPr/>
        </p:nvSpPr>
        <p:spPr>
          <a:xfrm>
            <a:off x="57240" y="247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21191"/>
          <p:cNvSpPr/>
          <p:nvPr/>
        </p:nvSpPr>
        <p:spPr>
          <a:xfrm>
            <a:off x="179280" y="605880"/>
            <a:ext cx="8713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时间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放假时间：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月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19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日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——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月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28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月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日开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打电话或发短信报平安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cc3300"/>
                </a:solidFill>
                <a:latin typeface="宋体"/>
                <a:ea typeface="Times New Roman"/>
              </a:rPr>
              <a:t>1</a:t>
            </a:r>
            <a:r>
              <a:rPr b="1" lang="zh-CN" sz="4400" spc="-1" strike="noStrike">
                <a:solidFill>
                  <a:srgbClr val="cc3300"/>
                </a:solidFill>
                <a:latin typeface="宋体"/>
                <a:ea typeface="Times New Roman"/>
              </a:rPr>
              <a:t>月</a:t>
            </a:r>
            <a:r>
              <a:rPr b="1" lang="en-US" sz="4400" spc="-1" strike="noStrike">
                <a:solidFill>
                  <a:srgbClr val="cc3300"/>
                </a:solidFill>
                <a:latin typeface="宋体"/>
                <a:ea typeface="Times New Roman"/>
              </a:rPr>
              <a:t>31</a:t>
            </a:r>
            <a:r>
              <a:rPr b="1" lang="zh-CN" sz="4400" spc="-1" strike="noStrike">
                <a:solidFill>
                  <a:srgbClr val="cc3300"/>
                </a:solidFill>
                <a:latin typeface="宋体"/>
                <a:ea typeface="Times New Roman"/>
              </a:rPr>
              <a:t>日  </a:t>
            </a:r>
            <a:r>
              <a:rPr b="1" lang="en-US" sz="4400" spc="-1" strike="noStrike">
                <a:solidFill>
                  <a:srgbClr val="cc3300"/>
                </a:solidFill>
                <a:latin typeface="宋体"/>
                <a:ea typeface="Times New Roman"/>
              </a:rPr>
              <a:t>2</a:t>
            </a:r>
            <a:r>
              <a:rPr b="1" lang="zh-CN" sz="4400" spc="-1" strike="noStrike">
                <a:solidFill>
                  <a:srgbClr val="cc3300"/>
                </a:solidFill>
                <a:latin typeface="宋体"/>
                <a:ea typeface="Times New Roman"/>
              </a:rPr>
              <a:t>月</a:t>
            </a:r>
            <a:r>
              <a:rPr b="1" lang="en-US" sz="4400" spc="-1" strike="noStrike">
                <a:solidFill>
                  <a:srgbClr val="cc3300"/>
                </a:solidFill>
                <a:latin typeface="宋体"/>
                <a:ea typeface="Times New Roman"/>
              </a:rPr>
              <a:t>17</a:t>
            </a:r>
            <a:r>
              <a:rPr b="1" lang="zh-CN" sz="4400" spc="-1" strike="noStrike">
                <a:solidFill>
                  <a:srgbClr val="cc3300"/>
                </a:solidFill>
                <a:latin typeface="宋体"/>
                <a:ea typeface="Times New Roman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召集时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  <a:ea typeface="Times New Roman"/>
              </a:rPr>
              <a:t>  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  <a:ea typeface="Times New Roman"/>
              </a:rPr>
              <a:t>2</a:t>
            </a: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Times New Roman"/>
              </a:rPr>
              <a:t>月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  <a:ea typeface="Times New Roman"/>
              </a:rPr>
              <a:t>28</a:t>
            </a: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Times New Roman"/>
              </a:rPr>
              <a:t>日（星期四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9" name="图片 222211" descr="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矩形 222212"/>
          <p:cNvSpPr/>
          <p:nvPr/>
        </p:nvSpPr>
        <p:spPr>
          <a:xfrm>
            <a:off x="250920" y="987480"/>
            <a:ext cx="74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每日早睡早起，按时起床、睡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0-8:20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语文 每天读一课课文，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遍  认读生字，口头组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午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:00——9:20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学  预习学习二年级下册内容每天一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上午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:00——10:20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语 练习读英语课文，背诵单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午 读课外书、开展长跑、跳绳、踢毽、拍球、踢球等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活动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开展“好书伴我成长”读书活动。写读后感。要求：清新朴实，语言流畅，故事性强。题目自拟，字数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——2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字左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背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弟子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泛爱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开展“孝敬父母、尊敬长辈”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以“环保“为主题，制作小作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争做“我是文明小公民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5" name="矩形 224259"/>
          <p:cNvSpPr/>
          <p:nvPr/>
        </p:nvSpPr>
        <p:spPr>
          <a:xfrm>
            <a:off x="2328120" y="277560"/>
            <a:ext cx="44877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外书推荐书目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国学小子丛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国节日故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皮皮兔的飞天摇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笨笨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音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丑小鸭安徒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眼睛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鼠记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拯救大白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走出院子的母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爱上读书的妖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你我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和坏，是什么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3809880" y="4800600"/>
            <a:ext cx="39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1042920" y="1557360"/>
            <a:ext cx="76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欢迎各位家长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      </a:t>
            </a:r>
            <a:r>
              <a:rPr b="1" i="1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期待与您的沟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挥手的小粉球"/>
          <p:cNvPicPr/>
          <p:nvPr/>
        </p:nvPicPr>
        <p:blipFill>
          <a:blip r:embed="rId1"/>
          <a:stretch/>
        </p:blipFill>
        <p:spPr>
          <a:xfrm>
            <a:off x="6111720" y="4094280"/>
            <a:ext cx="789120" cy="753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挥手的小粉球"/>
          <p:cNvPicPr/>
          <p:nvPr/>
        </p:nvPicPr>
        <p:blipFill>
          <a:blip r:embed="rId2"/>
          <a:stretch/>
        </p:blipFill>
        <p:spPr>
          <a:xfrm>
            <a:off x="5807160" y="4246560"/>
            <a:ext cx="560160" cy="534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挥手的小粉球"/>
          <p:cNvPicPr/>
          <p:nvPr/>
        </p:nvPicPr>
        <p:blipFill>
          <a:blip r:embed="rId3"/>
          <a:stretch/>
        </p:blipFill>
        <p:spPr>
          <a:xfrm>
            <a:off x="7072200" y="5072040"/>
            <a:ext cx="974880" cy="932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挥手的小粉球"/>
          <p:cNvPicPr/>
          <p:nvPr/>
        </p:nvPicPr>
        <p:blipFill>
          <a:blip r:embed="rId4"/>
          <a:stretch/>
        </p:blipFill>
        <p:spPr>
          <a:xfrm>
            <a:off x="4724280" y="4191120"/>
            <a:ext cx="669960" cy="63972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35"/>
          <p:cNvGrpSpPr/>
          <p:nvPr/>
        </p:nvGrpSpPr>
        <p:grpSpPr>
          <a:xfrm>
            <a:off x="272880" y="5943600"/>
            <a:ext cx="8579160" cy="304920"/>
            <a:chOff x="272880" y="5943600"/>
            <a:chExt cx="8579160" cy="304920"/>
          </a:xfrm>
        </p:grpSpPr>
        <p:pic>
          <p:nvPicPr>
            <p:cNvPr id="74" name="Picture 23" descr="五线谱"/>
            <p:cNvPicPr/>
            <p:nvPr/>
          </p:nvPicPr>
          <p:blipFill>
            <a:blip r:embed="rId5"/>
            <a:stretch/>
          </p:blipFill>
          <p:spPr>
            <a:xfrm>
              <a:off x="2984400" y="5943600"/>
              <a:ext cx="586764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5" descr="五线谱"/>
            <p:cNvPicPr/>
            <p:nvPr/>
          </p:nvPicPr>
          <p:blipFill>
            <a:blip r:embed="rId6"/>
            <a:stretch/>
          </p:blipFill>
          <p:spPr>
            <a:xfrm>
              <a:off x="272880" y="5943600"/>
              <a:ext cx="2711520" cy="3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Picture 14" descr="挥手的小粉球"/>
          <p:cNvPicPr/>
          <p:nvPr/>
        </p:nvPicPr>
        <p:blipFill>
          <a:blip r:embed="rId7"/>
          <a:stretch/>
        </p:blipFill>
        <p:spPr>
          <a:xfrm>
            <a:off x="1600200" y="5029200"/>
            <a:ext cx="1676520" cy="160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8" descr="xjdw022"/>
          <p:cNvPicPr/>
          <p:nvPr/>
        </p:nvPicPr>
        <p:blipFill>
          <a:blip r:embed="rId8"/>
          <a:stretch/>
        </p:blipFill>
        <p:spPr>
          <a:xfrm>
            <a:off x="838080" y="533520"/>
            <a:ext cx="1828800" cy="97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9" descr="xjdw022"/>
          <p:cNvPicPr/>
          <p:nvPr/>
        </p:nvPicPr>
        <p:blipFill>
          <a:blip r:embed="rId9"/>
          <a:stretch/>
        </p:blipFill>
        <p:spPr>
          <a:xfrm>
            <a:off x="2916360" y="333360"/>
            <a:ext cx="1828800" cy="971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xjdw022"/>
          <p:cNvPicPr/>
          <p:nvPr/>
        </p:nvPicPr>
        <p:blipFill>
          <a:blip r:embed="rId10"/>
          <a:stretch/>
        </p:blipFill>
        <p:spPr>
          <a:xfrm>
            <a:off x="1116000" y="3716280"/>
            <a:ext cx="1828800" cy="971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1" descr="xjdw022"/>
          <p:cNvPicPr/>
          <p:nvPr/>
        </p:nvPicPr>
        <p:blipFill>
          <a:blip r:embed="rId11"/>
          <a:stretch/>
        </p:blipFill>
        <p:spPr>
          <a:xfrm>
            <a:off x="5562720" y="838080"/>
            <a:ext cx="1828800" cy="971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2" descr="xjdw022"/>
          <p:cNvPicPr/>
          <p:nvPr/>
        </p:nvPicPr>
        <p:blipFill>
          <a:blip r:embed="rId12"/>
          <a:stretch/>
        </p:blipFill>
        <p:spPr>
          <a:xfrm>
            <a:off x="7315200" y="1557360"/>
            <a:ext cx="1828800" cy="971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3"/>
          <p:cNvSpPr/>
          <p:nvPr/>
        </p:nvSpPr>
        <p:spPr>
          <a:xfrm>
            <a:off x="8153280" y="6248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  <a:ea typeface="隶书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4" descr="挥手的小粉球"/>
          <p:cNvPicPr/>
          <p:nvPr/>
        </p:nvPicPr>
        <p:blipFill>
          <a:blip r:embed="rId13"/>
          <a:stretch/>
        </p:blipFill>
        <p:spPr>
          <a:xfrm>
            <a:off x="7848720" y="5715000"/>
            <a:ext cx="457200" cy="4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无标题a"/>
          <p:cNvPicPr/>
          <p:nvPr/>
        </p:nvPicPr>
        <p:blipFill>
          <a:blip r:embed="rId1"/>
          <a:stretch/>
        </p:blipFill>
        <p:spPr>
          <a:xfrm>
            <a:off x="3240" y="0"/>
            <a:ext cx="9140760" cy="69516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2052720" y="40464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结束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各位家长，我知道在当今的社会，孩子就是我们家庭的全部，孩子的希望和幸福就是我们每个家庭的希望和幸福；我更知道你们和我一样希望你的孩子能成才，我相信你的孩子能成才，并为之进行着默默的努力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50177" descr="fj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50178"/>
          <p:cNvSpPr/>
          <p:nvPr/>
        </p:nvSpPr>
        <p:spPr>
          <a:xfrm>
            <a:off x="4495680" y="41911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99"/>
                </a:solidFill>
                <a:latin typeface="Arial"/>
                <a:ea typeface="隶书"/>
              </a:rPr>
              <a:t>感谢光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75777" descr="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945000" y="6091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宋体"/>
              </a:rPr>
              <a:t>尊敬的各位家长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5840" y="1628280"/>
            <a:ext cx="6404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家好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先感谢各位家长在百忙之中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配合我们学校的工作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参加这次家长会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此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代表学校教师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热烈的欢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内容占位符 37889" descr="薰衣草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808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班级近况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7891"/>
          <p:cNvSpPr/>
          <p:nvPr/>
        </p:nvSpPr>
        <p:spPr>
          <a:xfrm>
            <a:off x="611280" y="1486080"/>
            <a:ext cx="79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一年级接班到现在，教咱们二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班，也快有一年多了，非常喜欢咱们班的孩子，自信、聪明、上进，又很活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学校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多数孩子团结同学，懂得尊重老师、家长，爱护公物、懂礼貌、讲卫生等。大部分孩子对学习很有兴趣，都能积极向上，养成上课认真听讲、大胆发言的习惯，也发现了他们身上越来越多的闪光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92" name="Picture 4" descr="bj0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书卷"/>
          <p:cNvPicPr/>
          <p:nvPr/>
        </p:nvPicPr>
        <p:blipFill>
          <a:blip r:embed="rId2"/>
          <a:stretch/>
        </p:blipFill>
        <p:spPr>
          <a:xfrm>
            <a:off x="0" y="0"/>
            <a:ext cx="27306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修饰3"/>
          <p:cNvPicPr/>
          <p:nvPr/>
        </p:nvPicPr>
        <p:blipFill>
          <a:blip r:embed="rId3"/>
          <a:stretch/>
        </p:blipFill>
        <p:spPr>
          <a:xfrm>
            <a:off x="0" y="18900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修饰3"/>
          <p:cNvPicPr/>
          <p:nvPr/>
        </p:nvPicPr>
        <p:blipFill>
          <a:blip r:embed="rId4"/>
          <a:stretch/>
        </p:blipFill>
        <p:spPr>
          <a:xfrm>
            <a:off x="0" y="4797360"/>
            <a:ext cx="2590920" cy="172728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214024"/>
          <p:cNvSpPr/>
          <p:nvPr/>
        </p:nvSpPr>
        <p:spPr>
          <a:xfrm>
            <a:off x="314280" y="1628640"/>
            <a:ext cx="15210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班级成绩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14025"/>
          <p:cNvSpPr/>
          <p:nvPr/>
        </p:nvSpPr>
        <p:spPr>
          <a:xfrm>
            <a:off x="2770200" y="549360"/>
            <a:ext cx="590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期末取得了可喜的成绩，语文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，数学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，其中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。英语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，其中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只有极个别学生没考上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内容占位符 185345" descr="薰衣草"/>
          <p:cNvPicPr/>
          <p:nvPr/>
        </p:nvPicPr>
        <p:blipFill>
          <a:blip r:embed="rId1"/>
          <a:stretch/>
        </p:blipFill>
        <p:spPr>
          <a:xfrm>
            <a:off x="36360" y="615960"/>
            <a:ext cx="9107640" cy="62420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几点教学建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85347"/>
          <p:cNvSpPr/>
          <p:nvPr/>
        </p:nvSpPr>
        <p:spPr>
          <a:xfrm>
            <a:off x="250920" y="141300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不要以为把孩子送到学校就开始了教育，只有当你的孩子爱上了阅读的时候，教育才真正开始。至于看什么书，为保护看书的积极性，我目前没有作特别多的要求，只是要求他能静心阅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认认真真地看。这样静心看书，既培养看书的兴趣和氛围，又帮助形成专心致志看书的好习惯。对于这项规定，班级学生表现各不相同。让孩子爱上阅读，老师的引导固然很重要，但是家庭的熏陶更不可少。作为家长，该怎么引导孩子爱上阅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内容占位符 115713" descr="薰衣草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宋体"/>
              </a:rPr>
              <a:t>几点教学建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15715"/>
          <p:cNvSpPr/>
          <p:nvPr/>
        </p:nvSpPr>
        <p:spPr>
          <a:xfrm>
            <a:off x="539640" y="14860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低年级孩子写话重在激发孩子说和写的兴趣，重在句子是否通顺、连贯，意思是否表达清楚。因此篇幅可以简短些。我们不要过分地拔高要求，也不要打击孩子，说孩子写得不好。要重鼓励重表扬。二年级了，我们把写话列入了学习训练的重点。在这里，我给家长提供几种写话的内容和方法，希望能对你们在指导孩子写话中起到帮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06" name="图片 215043" descr="薰衣草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215044"/>
          <p:cNvSpPr/>
          <p:nvPr/>
        </p:nvSpPr>
        <p:spPr>
          <a:xfrm>
            <a:off x="1835280" y="83664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15045"/>
          <p:cNvSpPr/>
          <p:nvPr/>
        </p:nvSpPr>
        <p:spPr>
          <a:xfrm>
            <a:off x="289080" y="76500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图写话是指导学生观察图画，根据图上具体形象的内容进行想象写话。这种训练，可以由看一幅图写一句话或一段话，到看几幅图写一段或几段通顺完整连贯的话。低年级以看单幅图写话居多。指导时，先让孩子仔细看图；再让孩子想象后自由说图；评一评；最后让孩子把观察到的内容及想象的内容有条理地写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无标题w"/>
          <p:cNvPicPr/>
          <p:nvPr/>
        </p:nvPicPr>
        <p:blipFill>
          <a:blip r:embed="rId1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1403280" y="692280"/>
            <a:ext cx="7489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说说安全教育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由于我校门前就是一条交通要道</a:t>
            </a:r>
            <a:r>
              <a:rPr b="1" lang="en-US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各种车辆来来往往。在学校里，我们每天都会关照学生，反复强调，注意安全，增强自我保护意识，校内外不做危险游戏，上学、放学路上不逗留，不玩耍，放学后要直接回家，相信各位家长和我们一样关心孩子的安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23:43Z</dcterms:created>
  <dc:creator>jlw</dc:creator>
  <dc:description/>
  <dc:language>en-US</dc:language>
  <cp:lastModifiedBy>Administrator</cp:lastModifiedBy>
  <dcterms:modified xsi:type="dcterms:W3CDTF">2016-08-15T10:59:00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