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wmf" ContentType="image/x-wmf"/>
  <Override PartName="/ppt/media/image36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76.png" ContentType="image/png"/>
  <Override PartName="/ppt/media/image27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35.wmf" ContentType="image/x-wmf"/>
  <Override PartName="/ppt/media/image73.png" ContentType="image/png"/>
  <Override PartName="/ppt/media/image59.png" ContentType="image/png"/>
  <Override PartName="/ppt/media/image4.wmf" ContentType="image/x-wmf"/>
  <Override PartName="/ppt/media/image72.png" ContentType="image/png"/>
  <Override PartName="/ppt/media/image58.png" ContentType="image/png"/>
  <Override PartName="/ppt/media/image3.wmf" ContentType="image/x-wmf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352-8948-4789-B926-6375F8DB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74D-5BDE-4FC4-A0F9-E3A58A4E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634-7C3C-4C44-B5FD-9C8499E1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2CC-1106-4402-B046-D3E1084E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173E-178D-4BE8-BB15-030F4928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D249-81FB-4169-ADA7-BDAEB066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628A-AA4F-4FA4-BBD9-B5A65155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E0AD-2993-4EC5-8C7E-8A67D01D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08F9-579D-4441-AAE2-94E95164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5A7E-EBD0-44A7-A9C2-5BE6A673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B1E7-C905-41C9-84C6-5EABECBA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5C3-4BE5-42CF-A2F9-926B61D4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42B1-D9F5-4F30-B43E-231050EE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FD2B-B56F-4626-A744-7134649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BB9E-74B8-4B33-919A-CE33B09A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A6C1-6DA6-46B4-A251-485873B5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782-6EEE-47AD-B763-D282D0C9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18E-62CC-4BE6-83B6-90D65E56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84F-DBFA-4C46-A5DF-40592C76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E1A-D833-48CF-A9FB-69814CAA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9E8-72FD-49EE-8CCA-1B195377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7F2-5323-4D9D-A78F-DA5B5992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708-65B5-4902-BB4B-D1567095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B3A-0D7A-4BBF-81AA-BEFBB0C2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BBE4-885F-47DB-834F-92BC2BB42F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7E93-7E51-487C-B953-860BCDF5811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ERWin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简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851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目前流行的数据库建模工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PowerDesig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ERw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ERwin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全称是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AllFusion ERwin Data Modele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是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CA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司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AllFusion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品牌下的建模套件之一，采用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  <a:ea typeface="宋体"/>
              </a:rPr>
              <a:t>IDEF1X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数据库建模语言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7908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工具栏介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50920" y="2349360"/>
            <a:ext cx="8641800" cy="4014720"/>
            <a:chOff x="250920" y="2349360"/>
            <a:chExt cx="8641800" cy="4014720"/>
          </a:xfrm>
        </p:grpSpPr>
        <p:sp>
          <p:nvSpPr>
            <p:cNvPr id="142" name=""/>
            <p:cNvSpPr/>
            <p:nvPr/>
          </p:nvSpPr>
          <p:spPr>
            <a:xfrm>
              <a:off x="7488360" y="3077640"/>
              <a:ext cx="972000" cy="2412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选择目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99280" y="2754000"/>
              <a:ext cx="972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範圍內放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7280" y="2430360"/>
              <a:ext cx="972000" cy="226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正向工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3280" y="2997000"/>
              <a:ext cx="648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放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54920" y="2673000"/>
              <a:ext cx="1296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顯示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的名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560" y="3077640"/>
              <a:ext cx="75636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新模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86920" y="3401640"/>
              <a:ext cx="972000" cy="3322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顯示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03640" y="3077640"/>
              <a:ext cx="1390680" cy="226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选择目標数据庫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76000" y="2430360"/>
              <a:ext cx="1512000" cy="3632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ODEL MART</a:t>
              </a:r>
              <a:br>
                <a:rPr sz="900"/>
              </a:b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工具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28000" y="5586840"/>
              <a:ext cx="1184040" cy="3322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ject Are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91640" y="6153480"/>
              <a:ext cx="864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正常顯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67640" y="5667840"/>
              <a:ext cx="648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縮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62920" y="5586840"/>
              <a:ext cx="53964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列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920" y="6072480"/>
              <a:ext cx="864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開啟模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11280" y="5262840"/>
              <a:ext cx="972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定义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06560" y="5748480"/>
              <a:ext cx="54036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存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1640" y="5101200"/>
              <a:ext cx="1026000" cy="3632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plete Comp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250920" y="4379760"/>
            <a:ext cx="8641800" cy="35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4379760"/>
                      <a:ext cx="8641800" cy="35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61" name=""/>
            <p:cNvCxnSpPr>
              <a:stCxn id="142" idx="2"/>
            </p:cNvCxnSpPr>
            <p:nvPr/>
          </p:nvCxnSpPr>
          <p:spPr>
            <a:xfrm rot="5400000">
              <a:off x="7061760" y="3544560"/>
              <a:ext cx="1122840" cy="70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0" idx="2"/>
            </p:cNvCxnSpPr>
            <p:nvPr/>
          </p:nvCxnSpPr>
          <p:spPr>
            <a:xfrm rot="5400000">
              <a:off x="5334480" y="3022560"/>
              <a:ext cx="1605600" cy="1189080"/>
            </a:xfrm>
            <a:prstGeom prst="bentConnector3">
              <a:avLst>
                <a:gd name="adj1" fmla="val 593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49" idx="2"/>
            </p:cNvCxnSpPr>
            <p:nvPr/>
          </p:nvCxnSpPr>
          <p:spPr>
            <a:xfrm rot="5400000">
              <a:off x="4831560" y="3596760"/>
              <a:ext cx="1146960" cy="587880"/>
            </a:xfrm>
            <a:prstGeom prst="bentConnector3">
              <a:avLst>
                <a:gd name="adj1" fmla="val 270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8" idx="0"/>
            </p:cNvCxnSpPr>
            <p:nvPr/>
          </p:nvCxnSpPr>
          <p:spPr>
            <a:xfrm flipV="1" rot="16200000">
              <a:off x="4710240" y="4726440"/>
              <a:ext cx="514440" cy="234720"/>
            </a:xfrm>
            <a:prstGeom prst="bentConnector3">
              <a:avLst>
                <a:gd name="adj1" fmla="val 498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44" idx="2"/>
            </p:cNvCxnSpPr>
            <p:nvPr/>
          </p:nvCxnSpPr>
          <p:spPr>
            <a:xfrm rot="5400000">
              <a:off x="3755160" y="3485520"/>
              <a:ext cx="1794600" cy="16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1" idx="0"/>
            </p:cNvCxnSpPr>
            <p:nvPr/>
          </p:nvCxnSpPr>
          <p:spPr>
            <a:xfrm flipV="1" rot="16200000">
              <a:off x="5393520" y="5060520"/>
              <a:ext cx="995400" cy="5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43" idx="2"/>
            </p:cNvCxnSpPr>
            <p:nvPr/>
          </p:nvCxnSpPr>
          <p:spPr>
            <a:xfrm flipH="1" rot="16200000">
              <a:off x="3402720" y="3660480"/>
              <a:ext cx="1474200" cy="108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2" idx="0"/>
            </p:cNvCxnSpPr>
            <p:nvPr/>
          </p:nvCxnSpPr>
          <p:spPr>
            <a:xfrm flipV="1" rot="16200000">
              <a:off x="2991960" y="5221800"/>
              <a:ext cx="1538640" cy="324720"/>
            </a:xfrm>
            <a:prstGeom prst="bentConnector3">
              <a:avLst>
                <a:gd name="adj1" fmla="val 499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45" idx="2"/>
            </p:cNvCxnSpPr>
            <p:nvPr/>
          </p:nvCxnSpPr>
          <p:spPr>
            <a:xfrm flipH="1" rot="16200000">
              <a:off x="2636640" y="3750480"/>
              <a:ext cx="1276560" cy="216360"/>
            </a:xfrm>
            <a:prstGeom prst="bentConnector3">
              <a:avLst>
                <a:gd name="adj1" fmla="val 499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3" idx="0"/>
            </p:cNvCxnSpPr>
            <p:nvPr/>
          </p:nvCxnSpPr>
          <p:spPr>
            <a:xfrm flipV="1" rot="16200000">
              <a:off x="2748600" y="4924800"/>
              <a:ext cx="1053000" cy="43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031640" y="5748480"/>
              <a:ext cx="864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放大到和視窗一樣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0"/>
            </p:cNvCxnSpPr>
            <p:nvPr/>
          </p:nvCxnSpPr>
          <p:spPr>
            <a:xfrm flipV="1" rot="16200000">
              <a:off x="3626280" y="4911120"/>
              <a:ext cx="1133640" cy="54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0"/>
            </p:cNvCxnSpPr>
            <p:nvPr/>
          </p:nvCxnSpPr>
          <p:spPr>
            <a:xfrm flipV="1" rot="16200000">
              <a:off x="2330280" y="4695480"/>
              <a:ext cx="648000" cy="487080"/>
            </a:xfrm>
            <a:prstGeom prst="bentConnector3">
              <a:avLst>
                <a:gd name="adj1" fmla="val 4997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48" idx="2"/>
            </p:cNvCxnSpPr>
            <p:nvPr/>
          </p:nvCxnSpPr>
          <p:spPr>
            <a:xfrm rot="5400000">
              <a:off x="1967040" y="3873960"/>
              <a:ext cx="725040" cy="487080"/>
            </a:xfrm>
            <a:prstGeom prst="bentConnector3">
              <a:avLst>
                <a:gd name="adj1" fmla="val 499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46" idx="2"/>
            </p:cNvCxnSpPr>
            <p:nvPr/>
          </p:nvCxnSpPr>
          <p:spPr>
            <a:xfrm rot="5400000">
              <a:off x="1295280" y="3472200"/>
              <a:ext cx="1582560" cy="432360"/>
            </a:xfrm>
            <a:prstGeom prst="bentConnector3">
              <a:avLst>
                <a:gd name="adj1" fmla="val 24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54" idx="0"/>
            </p:cNvCxnSpPr>
            <p:nvPr/>
          </p:nvCxnSpPr>
          <p:spPr>
            <a:xfrm flipV="1" rot="16200000">
              <a:off x="1276560" y="4830480"/>
              <a:ext cx="971640" cy="540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57" idx="0"/>
            </p:cNvCxnSpPr>
            <p:nvPr/>
          </p:nvCxnSpPr>
          <p:spPr>
            <a:xfrm flipV="1" rot="16200000">
              <a:off x="628920" y="5100120"/>
              <a:ext cx="1133640" cy="16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55" idx="0"/>
            </p:cNvCxnSpPr>
            <p:nvPr/>
          </p:nvCxnSpPr>
          <p:spPr>
            <a:xfrm flipH="1" flipV="1" rot="5400000">
              <a:off x="7920" y="5289480"/>
              <a:ext cx="1457280" cy="108720"/>
            </a:xfrm>
            <a:prstGeom prst="bentConnector3">
              <a:avLst>
                <a:gd name="adj1" fmla="val 499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47" idx="2"/>
            </p:cNvCxnSpPr>
            <p:nvPr/>
          </p:nvCxnSpPr>
          <p:spPr>
            <a:xfrm rot="5400000">
              <a:off x="39240" y="3782160"/>
              <a:ext cx="1177560" cy="216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358560" y="2349360"/>
              <a:ext cx="821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新建工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配置后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5977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主题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双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reate Subject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ubject Area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界面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按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 Subject Area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界面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输入主题域名，然后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及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236000" y="4508640"/>
            <a:ext cx="72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4724280"/>
            <a:ext cx="58327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6337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选择主题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所选的主题域，按右键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92360" y="3193920"/>
            <a:ext cx="48956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选择逻辑或物理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6978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实体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(Entit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dependent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8750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实体被指定作为独立实体，或依赖实体，取决于其键的获得方式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独立实体不依赖于模型中任何其它实体来标识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依赖实体依赖实体依存于模型中的其它实体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体框图中的水平线把属性分为两套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键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非键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线上叫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键区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线下叫做数据区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employe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键属性是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d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非键属是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name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dreess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705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ahoma"/>
              </a:rPr>
              <a:t>IDEF1X</a:t>
            </a:r>
            <a:r>
              <a:rPr b="0" lang="zh-CN" sz="4400" spc="-1" strike="noStrike">
                <a:solidFill>
                  <a:srgbClr val="00cc00"/>
                </a:solidFill>
                <a:latin typeface="Tahoma"/>
              </a:rPr>
              <a:t>是什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建立数据模型方法－是一种语言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起源于美國空軍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(1970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美國政府单位与工业界已使用</a:t>
            </a:r>
            <a:br>
              <a:rPr sz="3400"/>
            </a:b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超过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10</a:t>
            </a: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年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(FIPS PUB 184,1993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02920" y="1700280"/>
            <a:ext cx="5293080" cy="1523880"/>
            <a:chOff x="1402920" y="1700280"/>
            <a:chExt cx="5293080" cy="1523880"/>
          </a:xfrm>
        </p:grpSpPr>
        <p:graphicFrame>
          <p:nvGraphicFramePr>
            <p:cNvPr id="104" name=""/>
            <p:cNvGraphicFramePr/>
            <p:nvPr/>
          </p:nvGraphicFramePr>
          <p:xfrm>
            <a:off x="1631880" y="2005200"/>
            <a:ext cx="534960" cy="67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1880" y="2005200"/>
                      <a:ext cx="53496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2165760" y="2309400"/>
              <a:ext cx="14392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DE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02920" y="2309400"/>
              <a:ext cx="2552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3613320" y="1700280"/>
            <a:ext cx="696960" cy="855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13320" y="1700280"/>
                      <a:ext cx="696960" cy="85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4832280" y="2309400"/>
              <a:ext cx="3816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4070520" y="2766960"/>
            <a:ext cx="680760" cy="290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0520" y="2766960"/>
                      <a:ext cx="68076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5365800" y="2309400"/>
              <a:ext cx="5508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5975280" y="1700280"/>
            <a:ext cx="720720" cy="892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75280" y="1700280"/>
                      <a:ext cx="720720" cy="89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5137200" y="2614320"/>
              <a:ext cx="247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更改实体名，清楚地表达实体和属性的名称是非常重要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单击实体名进入修改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03280" y="3645000"/>
            <a:ext cx="6337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添加属性，通常属性的定义应当与实体定义的基本结构一样（如：描述，例子，注释等），描述和注释肯定要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选择表按右键单击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Column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-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弹出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-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-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3645000"/>
            <a:ext cx="6372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59054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进行输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624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enera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imary Ke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为主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5832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lumn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说解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66247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存储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实体右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tored Procedur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42480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，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 Stored Procedur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界面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存储过程名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5545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处输入代码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5305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索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实体右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dex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46083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0</a:t>
            </a:r>
            <a:r>
              <a:rPr b="0" lang="zh-CN" sz="2200" spc="-1" strike="noStrike">
                <a:solidFill>
                  <a:srgbClr val="0000ff"/>
                </a:solidFill>
                <a:latin typeface="Tahoma"/>
              </a:rPr>
              <a:t>－通过分解功能、分类功能间的联系来描述系统功能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1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用于描述企业重要管理资料的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1X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关系数据库的设计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2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一种以数字逻辑为基础的模拟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3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为自使用者描述系统结构的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4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一种面向对象式数据库的设计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5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是一种收集事实与资料的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6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是信息系统设计原理的描述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 Inde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及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右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54104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相应的列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54579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触发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实体右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rigger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419640" y="2637000"/>
            <a:ext cx="39607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，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 Trigg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界面输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触发器名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右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4824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rigger Cod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代码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右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419640" y="2637000"/>
            <a:ext cx="53816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实体间的关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Rwi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的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DEF1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模型语言建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dentifying ralationshi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on-identifying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any-to-many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6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7275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Identifying ralationshi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被称为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标识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是因为父实体的键成了子实体标识的一部分，即子实体的标识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依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于父实体。标识关系用连接两个实体间的带点实线来表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492360" y="5084640"/>
            <a:ext cx="48960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Non-identifying relationshi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非标识关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线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也连接父实体和子实体，由非标识关系迁移的非空外键子集被置于数据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线下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564000" y="4797360"/>
            <a:ext cx="54007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Many-to-many relationshi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多对多的关系：一个学生可以选择多门课程，一门课程也可以被多名学生选取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5113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使用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format preferenc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何将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动调整成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效果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71640" y="3573360"/>
            <a:ext cx="3744720" cy="2519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8289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安装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ERw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版本：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.1.4.42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首先运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W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目录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up.ex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进行安装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然后，在安装目录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找到并运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\REGIT.EX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Register Later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Name:AllFusion&amp;nbspERWin&amp;nbspData&amp;nbspModal4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:384809364319829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eference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348000" y="3213000"/>
            <a:ext cx="53294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ayout Entire Diagra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选择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594036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实现正向工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过正向工程能够快速方便生成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据库定义语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，单击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Forward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8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以做相应的配置后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eview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6012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据库定义语言，保存成后缀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er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2293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实现反向工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过反向工程能把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转换成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ERwin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据模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，单击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everse Engineer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9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6553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4356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cript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rowse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971880" y="2421000"/>
            <a:ext cx="51721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er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5292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everse Engine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及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932360" y="3860640"/>
            <a:ext cx="3745080" cy="2376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8593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工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5400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进行同步比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过同步比较能够对二个工程异同进行对比转换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，单击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Complete Compar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6192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rowse.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比较工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比较模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067280" y="2600280"/>
            <a:ext cx="5076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5400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9719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316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进行比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5087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epor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284720" y="3429000"/>
            <a:ext cx="3171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evi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554652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708360" y="2205000"/>
            <a:ext cx="50958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5848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确定键比较成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33624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生成浏览报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，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ata Brows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1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57243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对数据模型进行浏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1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4087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与数据库建立连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odelMar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是业界领先的模型管理环境，它提供了实用的可扩展性服务能与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Rwin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无缝地相集成。它允许建模者共享和重复利用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Rwin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象和模型，因而能提高生产效率。借助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odelMar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建模者甚至能同时更新相同模型。核查功能使建模者能检查他人的修改并对是否应保留修改进行表态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菜单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odelMar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nnection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2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439272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相应的配置，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nnec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连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2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47530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使用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Domai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右键，单击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则可生成一项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ropert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可以给他选择相关的属性，比如选择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atatyp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VARCHAR(18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还可以给它选择约束等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这个新建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omain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就能在这个项目中方便的使用了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3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3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2871720" cy="4608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2809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3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000160" y="1781280"/>
            <a:ext cx="5143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生成的域树结构中，父节点改动类型配置，子节点的类型配置则跟着变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子节点如改变类型配置后，则不受父节点的约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子节点类型配置的改动则不影响父节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子节点的各个实例间类型的变动，不会影响同级节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859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生成映射文件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.n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dit Naming Standards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lossar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要映射的字段。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保存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ns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。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5689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63723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61340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配置映射文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odel Naming Options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se Fil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rowse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映射文件的路径。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ming  Mapping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se glossar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列中打钩选中。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6337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64818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626436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经验：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s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中出现相同字段名时，是择后出现字段的映射为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同时要注意不同的字段是可映射成相同列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因为在映射是允许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把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nsm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文件同工程合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新建一个模型工程，在通过比较工程把有映射文件的工程全部导入，然后保存工程，就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啦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最后运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Fusion Erwin Data Modeler 4.1.4 sp3.ex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35280" y="3162240"/>
            <a:ext cx="4734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调整表结构列的顺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、正向工程中文生成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脚本，在脚本        中更改顺序后，新建一个模型导入生成工程，在用原来工程利用比较工程同生成工程进行比较，并新工程的表导入到原工程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二、直接对列的名字进行对调重命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三、在没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 NS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映射文件中有时可以直接调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在工程中快速查找字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正向工程时，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脚本中查找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132000" y="2724120"/>
            <a:ext cx="5248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如何设置显示格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设计域中右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根据需要选择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35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4762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3:33:55Z</dcterms:created>
  <dc:creator>微软用户</dc:creator>
  <dc:description/>
  <dc:language>en-US</dc:language>
  <cp:lastModifiedBy>微软用户</cp:lastModifiedBy>
  <dcterms:modified xsi:type="dcterms:W3CDTF">2006-12-13T09:39:42Z</dcterms:modified>
  <cp:revision>73</cp:revision>
  <dc:subject/>
  <dc:title>WRWin简介</dc:title>
</cp:coreProperties>
</file>