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597B-3F90-4F0D-A47D-57705E829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771A-3274-41F1-BDE2-2C23CC43E6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3AB4B-FF28-4FAF-B7D0-F574AF9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91A3F2-2703-4685-A108-B6BAD3B1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2CAFE-7D19-4222-BA1B-7B68B561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D53CA4-76F5-47F9-B7C5-20AEA9E4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DB1672-14EF-4AC8-89C5-078F24E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E3B35-57C0-4392-80A9-A3C82B4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8CF53-99DA-479C-B3ED-D4A3DC4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866BE-FBEE-449E-8A1F-5029C67F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3C7905-A924-4981-9BA7-E8628BF8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775C3-4FD5-4900-88D7-16FEC2C7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01A6-E2D8-48B5-B1D6-B14531853F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30E71-AF3B-4BC4-8CCE-01AE8009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7D2C5-9A7D-4258-9D02-19A2DAA4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9C348-BB3F-484D-B196-FE85BA73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950AC-C408-4227-B85B-D13F8A0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41174-C8E8-425A-A96D-D692C895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BB08C-B68D-4D3E-9FDA-E027260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8E30C-BAF9-4CE5-B580-6091726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39F66-4B1D-47CC-A6D9-B833A33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AAD45-12AD-4636-838E-7CF59F44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5B4C7-1708-4A00-85AE-95D2E36F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3E9F-B1C4-4008-B70F-26734737CB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45157-CBD3-49D0-BE74-C892742F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36E06-5A6A-437B-9FB5-B1B7C31A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451E4-C401-49EE-85C3-DD7DFF4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AA25C-D114-4D57-BB36-8C2EC82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420BB-ED69-421C-88C5-9D0C8BB5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88E5D-CDA4-4741-BB65-17E77EF1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C7022-39DF-47A2-B14D-A947FE1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E0836-0D17-43AF-B8B3-9528B92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74F40-FF9B-4CC1-95EA-2282CC2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3BA09-1967-46F9-B909-C9429B4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29830-2306-4B65-BEFE-ECC17AF4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5DDFF-2EC0-4756-B262-D47499D7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C0084-065D-48CB-9DC2-1729CAAC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E00BFA-8720-462A-91AD-AE2A7AF5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2397DA-4854-4C14-B1ED-3B0AF349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EA0702-533E-47A7-8312-9600963E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A0EE3B-9164-4775-A3E6-767AA683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FDF1B-147C-4DD7-A9F1-941CE2D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6E9015-9F48-490C-B24C-D742499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E845B6-FD28-4C08-ABA5-F7965CEA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0229E0-6E94-406A-90BF-0DDE2DDF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7C79D0-0430-4849-B8B5-C5F8F04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DAE359-B160-4FA1-B745-117F164E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5683CE-9313-47DE-BB91-5C681C01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FC6F0B-82E6-414C-9EE7-DAE53F0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4E3D1-B949-4354-B26D-C1E4EFD1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3D66E-AB0A-4DD2-9921-05760DA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D98E2-B6FE-48B2-9078-726D20E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186B5-9C21-47EE-B508-57D01C9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DD984-C9DF-4B70-A2F5-0F63848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8A24D-1521-4EF4-BC39-97F244D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190B1-C86A-4E23-ACF9-89BEFEB3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0B1DE-F5D7-472B-8D95-24E40B8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EEAD7-2D2A-4A71-9259-B1E5D1E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000C5-48B8-4DA0-806E-F91503C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73FBC-8728-43ED-8B6D-968A1514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7EEB1-B79C-42D9-9D6B-7B7F3AED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68A-5C2E-455B-B0F4-07E5D4456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29E0D-2F56-4870-B930-A70A6629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DCF31-E14E-4BCE-B71A-965A41D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7A10C-E831-4A60-A506-80895BA8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7F962-38D0-43B2-8CAD-50355C02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28931-FEF9-4A9A-AA6D-7A7A89F5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3F6A-F021-4D72-B42B-3D1233AC30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86F31-C230-4AD3-88A5-8444F998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5EBB4-5E7E-4BBC-AEDD-F569A62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5E35-4683-4BE8-84C9-F248B41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FD97-55AC-4877-9B62-33082ED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DB1C6-578F-4649-8C36-D1AB151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F76B-0EE1-4334-8B8A-3A90F82C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C315-E14A-4A30-A200-8A5A7D63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B5ACE-3D33-4F14-AC57-81E35C1F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60EB1-8C3A-460C-B2B9-32346004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2D652-E4B0-42A0-9829-0DB1D10C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076C-4479-42CB-8FE2-6A09DED948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809BD-838B-450F-8CCB-FC0B172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DB695-377F-4D53-AEC5-2108927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77C24-D436-4E08-BF5B-ED807C7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69442B-AAA7-467A-BE71-F6606BB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41B6F-2578-443A-AFF9-F6CE3A2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B3723-A84A-4C29-99AF-4306B40B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8FB21-A460-4371-A513-B7440C9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057FE-1142-4629-9E2A-8AC62506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694AD-A280-4291-A608-14624A9F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E7D85-ACBB-4F60-88C6-0CA21EDA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997A-6BF7-4D08-817F-0C995D28F2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B81CB-26E4-481A-9221-76790913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39B01-B521-4FA4-A06F-747256B0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D6F85-D981-4111-9A58-5EBA08CD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A8BB3-5D8D-4942-90B6-518585EA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E94D0-5EF0-4F82-9DA9-BFCF9525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B61ED-909C-4E4C-93CE-1D37CBC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B4810-7371-4761-8CCE-48DA76B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C91B9-4A8B-4657-AA3C-A971F62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0A1F9-D4FE-4D01-AC46-6250902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3D5E8-7C59-41AF-BF2E-C36DE0F5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0814-CF5D-4F20-9E06-490D7854B4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C27EC-33F8-4136-9163-0C7BCD22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C9BAA-EF20-4D0E-907D-0641F7F8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1B780-AD13-46F4-BF77-CCC99803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51D29-F1FF-432A-831B-8C6B608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0896D-DD46-4A5B-87E5-9090D5FF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F3B801-158D-4BB4-8844-A0AC79A8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4145C-BFA5-49DF-A09B-44AA8207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CCD1C1-F107-4EC1-A7EE-2DF3EF2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2C03D-DD75-4383-8645-D18A5ECA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7A19D-0A0E-4613-A98D-245BDB8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F08D-DDEC-4554-9805-4D47EF0548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650D4A-363B-457E-8740-17360CB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3A57B-CF3E-4ADC-B75E-480D5BA0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C6705D-E8DF-402D-9099-662C0E89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27974-C4F5-4AB0-9DFB-05B4D8DD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F7F359-9C1A-46E6-9CF2-7F962A1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9A252-A183-4B56-8B10-9AA1DC0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AB464-F263-4207-B8F9-4BB3B201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4F6A9-4432-4198-A26F-B477A87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3B8F74-C243-4AE6-B59E-D432A2A6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3C48D-0DDA-4C58-BC33-FBAF0B63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BE62-9C95-40FE-8704-F66C8BCFB5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46A79-C2B9-4757-A43F-F1FCD78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BEC69-483A-40D9-AC70-0331FEF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63D7F-31FD-4333-BEEE-3BDAE34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4CC797-75FF-4A1F-97F0-A4E11741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A14BF-F593-4F7A-9D80-90B4F209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FCCDD0-C0A7-4947-B209-AC8AC19B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DBBDA3-17F3-42F6-A171-3E81B08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BD8045-9837-479C-96D5-9DA6DE30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44F35B-2E5D-4980-AEDA-D1D5D575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7CBA3B-8064-4CC8-84C1-85DBB190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2DC1-BCCB-42CC-A611-3DC8F51D7A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EC652-C8FE-47C6-88A5-D71C960D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CE6CC-B3BE-4A52-ACE4-30F65099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DAD4C6-F85F-4B0E-BE26-8E8CE4A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C3ACAB-600C-4FA2-8795-5EB33DA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58FD1-CBE6-4A51-935B-FFFF6102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9B3E08-903E-4FFA-81A6-CF06BA79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437BA7-823C-453F-AFA9-A624B566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08C7F-2452-4E0F-B03D-C822B1A9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46C922-5E8E-4956-8E02-35334B3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D4F80C-407C-46BC-BA3D-0FE1404F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DDB9-B7E0-414F-984D-0B53E77A6472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17D-D900-4FF2-8C06-E3319083B7BC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4D75-9E7A-4B0A-A573-BEDDD5F15FA6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D8C-0E3D-477E-A429-7F3EE50E67F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591-1D30-4B35-9658-FA13AA794A1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D16-1869-4E7E-90D0-8C03669A026C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7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D16B-B83C-4516-BB50-F0D06E2AB58D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F74F-62B0-4661-8D2B-4D0200B09727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376-BB45-46E5-8D82-C6EEF9613329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7E3-07E3-4E65-8C95-D655048D0B6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90E4-7522-4B3E-ACB5-CFEC97F18A92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8BC-C949-4342-B4C8-10730FA2CBB3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3714840" y="49291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286240" y="571500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灯片编号占位符 3"/>
          <p:cNvSpPr/>
          <p:nvPr/>
        </p:nvSpPr>
        <p:spPr>
          <a:xfrm>
            <a:off x="642924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72B-CB45-41D2-82FC-FEFFA256B511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7120" y="58579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57120" y="714240"/>
            <a:ext cx="8207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3714840" y="52862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581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cp:keywords>lxym148</cp:keywords>
  <dc:language>en-US</dc:language>
  <cp:lastModifiedBy>内酷PPT</cp:lastModifiedBy>
  <dcterms:modified xsi:type="dcterms:W3CDTF">2011-06-18T01:52:46Z</dcterms:modified>
  <cp:revision>9</cp:revision>
  <dc:subject>lxym148</dc:subject>
  <dc:title>RESUME</dc:title>
</cp:coreProperties>
</file>