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777-416F-4454-9209-A624E42A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5638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360" y="4850640"/>
            <a:ext cx="5638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A11B-5B6E-4CDA-AB2A-E48497F8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16572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276360" y="485064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65720" y="485064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237-E6E6-4CE8-AD51-3EAFF6FE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82920" y="457200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089480" y="457200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276360" y="485064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5182920" y="485064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089480" y="485064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BF5-C67F-433E-A1B0-FE9CBE43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B066-AD3D-4EEF-8AC1-7C0FACCC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76360" y="457200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857E-31F1-4F2B-B5A7-F3813479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4345-217B-4DC0-9231-CBD958C4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275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165720" y="4572000"/>
            <a:ext cx="275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6A6F-A6C0-4FF5-96BB-6B6084A7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4705-4B69-4897-A027-38D51D4C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76360" y="2130120"/>
            <a:ext cx="563868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FADF-ADD9-4F46-8863-C845A770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65720" y="4572000"/>
            <a:ext cx="275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76360" y="485064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519C-F531-4BB9-8E40-E037D938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276360" y="457200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63D8-9A22-4468-BF11-81CCE1F0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275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6572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65720" y="485064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0FCF-8536-4D58-AF00-89A701F4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16572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76360" y="4850640"/>
            <a:ext cx="5638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E1C4-5042-4AA7-BB1F-07DF74BE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5638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6360" y="4850640"/>
            <a:ext cx="5638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E455-B211-4ED4-8614-1B9C59DA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16572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276360" y="485064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165720" y="485064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1C22-4912-4836-A62F-8A7A6C5B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82920" y="457200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089480" y="457200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276360" y="485064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5182920" y="485064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089480" y="485064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F6BA-991C-4061-A850-F8DBAE45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6157-AD43-4CEF-A603-299F4A07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275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65720" y="4572000"/>
            <a:ext cx="275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E15-BC49-4841-B8BB-FB9CCCE8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9AC6-E70E-48C1-9F7A-297DB104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276360" y="2130120"/>
            <a:ext cx="563868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E0DD-E86B-4911-B40E-D7E9FEA2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165720" y="4572000"/>
            <a:ext cx="275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76360" y="485064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E33-DD62-4F92-8F02-37724C94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275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6572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165720" y="485064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E52B-E21C-4E76-BC2D-A889F533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16572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76360" y="4850640"/>
            <a:ext cx="5638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032-7E8A-4310-8426-6F529AEC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0"/>
          <a:ext cx="3848040" cy="379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84804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304920" y="6508800"/>
            <a:ext cx="86104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ca5d8"/>
              </a:gs>
              <a:gs pos="100000">
                <a:srgbClr val="314c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ca5d8"/>
              </a:gs>
              <a:gs pos="100000">
                <a:srgbClr val="314c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7" name="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6ca5d8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888680" y="0"/>
              <a:ext cx="426240" cy="83520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318600" y="6524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428472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efefe"/>
                </a:solidFill>
                <a:latin typeface="Times New Roman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Times New Roman"/>
                <a:ea typeface="楷体_GB2312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efefe"/>
                </a:solidFill>
                <a:latin typeface="Times New Roman"/>
                <a:ea typeface="楷体_GB2312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Times New Roman"/>
                <a:ea typeface="楷体_GB2312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efefe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0142-4FB4-49F7-B6BE-58D04D19F5EE}" type="slidenum">
              <a:rPr b="0" lang="zh-CN" sz="1400" spc="-1" strike="noStrike">
                <a:solidFill>
                  <a:srgbClr val="fefefe"/>
                </a:solidFill>
                <a:latin typeface="Times New Roman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5b5b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175b5b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5b5b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175b5b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5b5b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175b5b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5b5b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175b5b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5b5b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175b5b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5b5b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175b5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8120" y="2437920"/>
            <a:ext cx="579096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论文名称</a:t>
            </a: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79640" y="4508280"/>
            <a:ext cx="48956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导   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答辩人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专    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论文框架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2014560"/>
            <a:ext cx="685800" cy="685800"/>
          </a:xfrm>
          <a:prstGeom prst="diamond">
            <a:avLst/>
          </a:prstGeom>
          <a:solidFill>
            <a:srgbClr val="6ca5d8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1773360"/>
            <a:ext cx="3429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研究背景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课题方向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论文要点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结论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94160" y="2112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852640"/>
            <a:ext cx="685800" cy="685800"/>
          </a:xfrm>
          <a:prstGeom prst="diamond">
            <a:avLst/>
          </a:prstGeom>
          <a:solidFill>
            <a:srgbClr val="cbb61d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94160" y="295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3691080"/>
            <a:ext cx="685800" cy="685800"/>
          </a:xfrm>
          <a:prstGeom prst="diamond">
            <a:avLst/>
          </a:prstGeom>
          <a:solidFill>
            <a:srgbClr val="5d4bc7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941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4605480"/>
            <a:ext cx="685800" cy="685800"/>
          </a:xfrm>
          <a:prstGeom prst="diamond">
            <a:avLst/>
          </a:prstGeom>
          <a:solidFill>
            <a:srgbClr val="878fa5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94160" y="4703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研究背景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课题方向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论文要点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43920"/>
            <a:ext cx="7162920" cy="7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结论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205080" y="3079800"/>
            <a:ext cx="539928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fefefe"/>
                  </a:solidFill>
                  <a:miter/>
                </a:ln>
                <a:gradFill rotWithShape="0">
                  <a:gsLst>
                    <a:gs pos="0">
                      <a:srgbClr val="cbb61d"/>
                    </a:gs>
                    <a:gs pos="100000">
                      <a:srgbClr val="6ca5d8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80808">
                      <a:alpha val="50000"/>
                    </a:srgbClr>
                  </a:outerShdw>
                </a:effectLst>
                <a:latin typeface="黑体"/>
              </a:rPr>
              <a:t>谢谢大家！</a:t>
            </a:r>
            <a:endParaRPr b="1" lang="en-US" sz="5400" spc="1" strike="noStrike">
              <a:ln w="28440">
                <a:solidFill>
                  <a:srgbClr val="fefefe"/>
                </a:solidFill>
                <a:miter/>
              </a:ln>
              <a:gradFill rotWithShape="0">
                <a:gsLst>
                  <a:gs pos="0">
                    <a:srgbClr val="cbb61d"/>
                  </a:gs>
                  <a:gs pos="100000">
                    <a:srgbClr val="6ca5d8"/>
                  </a:gs>
                </a:gsLst>
                <a:lin ang="10800000"/>
              </a:gradFill>
              <a:effectLst>
                <a:outerShdw dist="71785" dir="2700000" blurRad="0" rotWithShape="0">
                  <a:srgbClr val="080808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5:12:10Z</dcterms:created>
  <dc:creator>微软用户</dc:creator>
  <dc:description/>
  <dc:language>en-US</dc:language>
  <cp:lastModifiedBy>USER</cp:lastModifiedBy>
  <dcterms:modified xsi:type="dcterms:W3CDTF">2010-05-09T13:44:19Z</dcterms:modified>
  <cp:revision>3</cp:revision>
  <dc:subject/>
  <dc:title>论文名称</dc:title>
</cp:coreProperties>
</file>