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5D20-582C-420E-A89B-06855A9601B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D4BE-4379-417B-BF99-F5FD2832EBE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7BA8-9AB7-48F1-B5BC-9626976B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FB93-66E2-4149-B694-B762FABF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627C-2881-41EE-B75F-5D3B51B9A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8960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9796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8088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8960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9796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04B7-2F34-41B7-9E8A-FBE202DEF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1397-8E8A-46AE-B00F-923D4BE0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6DD6-B886-4D3A-9203-D9FED46A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6A75-257F-4BE8-A7EA-970CE034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99D2-5C9F-4F3B-8233-01E7A407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79FD-EFE7-483B-84E1-ECD79AA2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1A93-D5B7-4033-B330-6D314E56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035A-9B25-496E-BA3F-F451582C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8C14-7F10-486A-A213-3FE0BDF9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8F96-C795-4300-84E8-AF6B7ACC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A1D8-E8B7-411A-B7F6-C83FD778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65A0-3793-4FBF-A35B-09C31E36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09CD-BD98-4398-93DC-A3D00200D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8960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9796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38088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8960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9796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F34D-07F6-46B5-AB29-EEC43F06E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BDFE2-B27C-48DF-BF74-45847FBB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ACA30-98C0-4E04-901E-67AAC587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731C6-D7B7-4E12-A60D-8C68246B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0B358-11C9-4797-9D69-9E6456CE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9B6D5-B4BF-44B1-83EE-68A120C0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BF66-EDC4-4A09-8C61-A515EA13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6D970-9AFE-43E0-8B8F-F4AC037F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BECAB-04E8-4B82-A010-9B0CB61D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10344-2925-42B5-BF37-DCE8F999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6672F-1D48-49E1-A2DC-26BF09F8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FED50-0EEF-4FCD-A662-37870D87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B6828-6171-486B-AF50-9F68372C0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18960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9796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38088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18960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9796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B0343-C084-485D-92CE-13A5E959B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2D33-6DE7-4D2F-8097-1783FFA8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DE1D-51C0-4C8E-A357-14973940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79BD-914F-444C-B843-3104F924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7826-5B9E-4040-BFFF-5C6FBC69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3E06-39B4-436E-B483-A9FC523D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02D2-EA20-4145-83D4-39E5C8DD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35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3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Freeform 36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699de9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37"/>
          <p:cNvGrpSpPr/>
          <p:nvPr/>
        </p:nvGrpSpPr>
        <p:grpSpPr>
          <a:xfrm>
            <a:off x="0" y="914400"/>
            <a:ext cx="9144000" cy="351000"/>
            <a:chOff x="0" y="914400"/>
            <a:chExt cx="9144000" cy="351000"/>
          </a:xfrm>
        </p:grpSpPr>
        <p:sp>
          <p:nvSpPr>
            <p:cNvPr id="4" name="AutoShape 38"/>
            <p:cNvSpPr/>
            <p:nvPr/>
          </p:nvSpPr>
          <p:spPr>
            <a:xfrm>
              <a:off x="0" y="917640"/>
              <a:ext cx="229068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AutoShape 39"/>
            <p:cNvSpPr/>
            <p:nvPr/>
          </p:nvSpPr>
          <p:spPr>
            <a:xfrm>
              <a:off x="2276640" y="917640"/>
              <a:ext cx="229536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AutoShape 40"/>
            <p:cNvSpPr/>
            <p:nvPr/>
          </p:nvSpPr>
          <p:spPr>
            <a:xfrm>
              <a:off x="4565520" y="917640"/>
              <a:ext cx="230040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41"/>
            <p:cNvSpPr/>
            <p:nvPr/>
          </p:nvSpPr>
          <p:spPr>
            <a:xfrm>
              <a:off x="6861240" y="914400"/>
              <a:ext cx="228276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3805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AFCC-4475-4C77-9417-83145E9105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31"/>
          <p:cNvSpPr/>
          <p:nvPr/>
        </p:nvSpPr>
        <p:spPr>
          <a:xfrm>
            <a:off x="0" y="3481560"/>
            <a:ext cx="9155160" cy="3376440"/>
          </a:xfrm>
          <a:custGeom>
            <a:avLst/>
            <a:gdLst>
              <a:gd name="textAreaLeft" fmla="*/ 0 w 9155160"/>
              <a:gd name="textAreaRight" fmla="*/ 9155520 w 9155160"/>
              <a:gd name="textAreaTop" fmla="*/ 0 h 3376440"/>
              <a:gd name="textAreaBottom" fmla="*/ 3376800 h 3376440"/>
            </a:gdLst>
            <a:ahLst/>
            <a:rect l="textAreaLeft" t="textAreaTop" r="textAreaRight" b="textAreaBottom"/>
            <a:pathLst>
              <a:path w="5767" h="2127">
                <a:moveTo>
                  <a:pt x="0" y="1760"/>
                </a:moveTo>
                <a:lnTo>
                  <a:pt x="5767" y="0"/>
                </a:lnTo>
                <a:lnTo>
                  <a:pt x="5760" y="2127"/>
                </a:lnTo>
                <a:lnTo>
                  <a:pt x="0" y="2127"/>
                </a:lnTo>
                <a:lnTo>
                  <a:pt x="0" y="1760"/>
                </a:lnTo>
                <a:close/>
              </a:path>
            </a:pathLst>
          </a:custGeom>
          <a:solidFill>
            <a:srgbClr val="699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2"/>
          <p:cNvSpPr/>
          <p:nvPr/>
        </p:nvSpPr>
        <p:spPr>
          <a:xfrm rot="20584200">
            <a:off x="-141120" y="5310000"/>
            <a:ext cx="2541600" cy="572760"/>
          </a:xfrm>
          <a:prstGeom prst="parallelogram">
            <a:avLst>
              <a:gd name="adj" fmla="val 30076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3"/>
          <p:cNvSpPr/>
          <p:nvPr/>
        </p:nvSpPr>
        <p:spPr>
          <a:xfrm rot="20584200">
            <a:off x="2153880" y="4609800"/>
            <a:ext cx="2546280" cy="573120"/>
          </a:xfrm>
          <a:prstGeom prst="parallelogram">
            <a:avLst>
              <a:gd name="adj" fmla="val 30113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4"/>
          <p:cNvSpPr/>
          <p:nvPr/>
        </p:nvSpPr>
        <p:spPr>
          <a:xfrm rot="20584200">
            <a:off x="4448160" y="3908520"/>
            <a:ext cx="2552760" cy="573120"/>
          </a:xfrm>
          <a:prstGeom prst="parallelogram">
            <a:avLst>
              <a:gd name="adj" fmla="val 30189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5"/>
          <p:cNvSpPr/>
          <p:nvPr/>
        </p:nvSpPr>
        <p:spPr>
          <a:xfrm rot="20584200">
            <a:off x="6751800" y="3206520"/>
            <a:ext cx="2533320" cy="573120"/>
          </a:xfrm>
          <a:prstGeom prst="parallelogram">
            <a:avLst>
              <a:gd name="adj" fmla="val 29959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6"/>
          <p:cNvGrpSpPr/>
          <p:nvPr/>
        </p:nvGrpSpPr>
        <p:grpSpPr>
          <a:xfrm>
            <a:off x="4114800" y="5838840"/>
            <a:ext cx="1079640" cy="635760"/>
            <a:chOff x="4114800" y="5838840"/>
            <a:chExt cx="1079640" cy="635760"/>
          </a:xfrm>
        </p:grpSpPr>
        <p:sp>
          <p:nvSpPr>
            <p:cNvPr id="55" name="Text Box 14"/>
            <p:cNvSpPr/>
            <p:nvPr/>
          </p:nvSpPr>
          <p:spPr>
            <a:xfrm>
              <a:off x="4114800" y="60148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15"/>
            <p:cNvSpPr/>
            <p:nvPr/>
          </p:nvSpPr>
          <p:spPr>
            <a:xfrm rot="5400000">
              <a:off x="4508640" y="55450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73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69A5-F6E6-4496-A47D-A0DC0A8B5A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4847-584B-4437-A27F-EA7C45EBB63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694160" y="2895480"/>
            <a:ext cx="3501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题    目：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WLAN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在企业中的应用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班    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通信工程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086711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学生姓名：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崔国盛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教师：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王秋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634032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12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752480" y="1828800"/>
            <a:ext cx="495324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毕业</a:t>
            </a: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(</a:t>
            </a:r>
            <a:r>
              <a:rPr b="0" lang="zh-CN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设计</a:t>
            </a: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)</a:t>
            </a:r>
            <a:r>
              <a:rPr b="0" lang="zh-CN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论文答辩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49" name=""/>
          <p:cNvSpPr/>
          <p:nvPr/>
        </p:nvSpPr>
        <p:spPr>
          <a:xfrm>
            <a:off x="785880" y="1554120"/>
            <a:ext cx="76024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6094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南阳理工学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685800"/>
            <a:ext cx="243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05520" y="762120"/>
            <a:ext cx="2590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计算机与信息工程学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400800" y="4419720"/>
            <a:ext cx="60948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303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37399b"/>
              </a:solidFill>
              <a:latin typeface="Arial"/>
              <a:ea typeface="宋体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88" name=""/>
          <p:cNvSpPr/>
          <p:nvPr/>
        </p:nvSpPr>
        <p:spPr>
          <a:xfrm>
            <a:off x="5602320" y="2411280"/>
            <a:ext cx="2209680" cy="142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>
                  <a:alpha val="51372"/>
                </a:srgbClr>
              </a:gs>
              <a:gs pos="100000">
                <a:srgbClr val="f0fefe">
                  <a:alpha val="11372"/>
                </a:srgbClr>
              </a:gs>
            </a:gsLst>
            <a:path path="rect">
              <a:fillToRect l="50000" t="50000" r="50000" b="50000"/>
            </a:path>
          </a:gradFill>
          <a:ln w="38160">
            <a:solidFill>
              <a:srgbClr val="35a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69840" y="2314440"/>
            <a:ext cx="2301840" cy="1393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>
                  <a:alpha val="51372"/>
                </a:srgbClr>
              </a:gs>
              <a:gs pos="100000">
                <a:srgbClr val="e0fefe">
                  <a:alpha val="11372"/>
                </a:srgbClr>
              </a:gs>
            </a:gsLst>
            <a:path path="rect">
              <a:fillToRect l="50000" t="50000" r="50000" b="50000"/>
            </a:path>
          </a:gradFill>
          <a:ln w="38160">
            <a:solidFill>
              <a:srgbClr val="35a16b">
                <a:alpha val="9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995400" y="2595600"/>
            <a:ext cx="215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搜集到整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资料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268800" y="1598760"/>
            <a:ext cx="1108080" cy="117936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ff0f1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4610880" y="1565280"/>
            <a:ext cx="1049400" cy="123840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8f4f5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942160" y="2728800"/>
            <a:ext cx="16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论述不是很详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037040" y="2928960"/>
            <a:ext cx="719280" cy="1419120"/>
          </a:xfrm>
          <a:prstGeom prst="downArrow">
            <a:avLst>
              <a:gd name="adj1" fmla="val 50000"/>
              <a:gd name="adj2" fmla="val 49324"/>
            </a:avLst>
          </a:prstGeom>
          <a:gradFill rotWithShape="0">
            <a:gsLst>
              <a:gs pos="0">
                <a:srgbClr val="dff0f1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487680" y="4632480"/>
            <a:ext cx="184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缺乏理论与实践的深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33800" y="4437000"/>
            <a:ext cx="2519280" cy="13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fefe">
                  <a:alpha val="11372"/>
                </a:srgbClr>
              </a:gs>
              <a:gs pos="100000">
                <a:srgbClr val="ccffff">
                  <a:alpha val="14117"/>
                </a:srgbClr>
              </a:gs>
            </a:gsLst>
            <a:path path="rect">
              <a:fillToRect l="50000" t="50000" r="50000" b="50000"/>
            </a:path>
          </a:gradFill>
          <a:ln w="38160">
            <a:solidFill>
              <a:srgbClr val="35a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200400" y="152280"/>
            <a:ext cx="2743200" cy="6098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8dcde"/>
              </a:gs>
              <a:gs pos="100000">
                <a:srgbClr val="e4e6e8">
                  <a:alpha val="21176"/>
                </a:srgbClr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7399b"/>
                </a:solidFill>
                <a:latin typeface="楷体"/>
                <a:ea typeface="楷体"/>
              </a:rPr>
              <a:t>存在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7399b"/>
                </a:solidFill>
                <a:latin typeface="楷体"/>
                <a:ea typeface="楷体"/>
              </a:rPr>
              <a:t>致 谢</a:t>
            </a:r>
            <a:endParaRPr b="1" lang="en-US" sz="48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99" name="TextBox 65"/>
          <p:cNvSpPr/>
          <p:nvPr/>
        </p:nvSpPr>
        <p:spPr>
          <a:xfrm>
            <a:off x="1219320" y="1981080"/>
            <a:ext cx="6476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王秋芬老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计算机与信息工程学院所有老师及帮助我的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矩形 67" descr=""/>
          <p:cNvPicPr/>
          <p:nvPr/>
        </p:nvPicPr>
        <p:blipFill>
          <a:blip r:embed="rId1"/>
          <a:stretch/>
        </p:blipFill>
        <p:spPr>
          <a:xfrm>
            <a:off x="2693880" y="4389480"/>
            <a:ext cx="5816880" cy="1498680"/>
          </a:xfrm>
          <a:prstGeom prst="rect">
            <a:avLst/>
          </a:prstGeom>
          <a:ln w="0">
            <a:noFill/>
          </a:ln>
        </p:spPr>
      </p:pic>
      <p:pic>
        <p:nvPicPr>
          <p:cNvPr id="401" name="图片 70" descr="1.png"/>
          <p:cNvPicPr/>
          <p:nvPr/>
        </p:nvPicPr>
        <p:blipFill>
          <a:blip r:embed="rId2"/>
          <a:stretch/>
        </p:blipFill>
        <p:spPr>
          <a:xfrm>
            <a:off x="4495680" y="12193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402" name="TextBox 32"/>
          <p:cNvSpPr/>
          <p:nvPr/>
        </p:nvSpPr>
        <p:spPr>
          <a:xfrm>
            <a:off x="5257800" y="6458040"/>
            <a:ext cx="3886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WordArt 3"/>
          <p:cNvSpPr txBox="1"/>
          <p:nvPr/>
        </p:nvSpPr>
        <p:spPr>
          <a:xfrm>
            <a:off x="1523880" y="1752480"/>
            <a:ext cx="58676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7399b"/>
                    </a:gs>
                    <a:gs pos="100000">
                      <a:srgbClr val="699de9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Comic Sans MS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7399b"/>
                  </a:gs>
                  <a:gs pos="100000">
                    <a:srgbClr val="699de9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04" name="TextBox 25"/>
          <p:cNvSpPr/>
          <p:nvPr/>
        </p:nvSpPr>
        <p:spPr>
          <a:xfrm>
            <a:off x="2133720" y="3809880"/>
            <a:ext cx="4952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楷体"/>
                <a:ea typeface="楷体"/>
              </a:rPr>
              <a:t>计算机与信息工程学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楷体"/>
                <a:ea typeface="楷体"/>
              </a:rPr>
              <a:t>通信</a:t>
            </a:r>
            <a:r>
              <a:rPr b="1" lang="en-US" sz="3200" spc="-1" strike="noStrike">
                <a:solidFill>
                  <a:srgbClr val="0d0d0d"/>
                </a:solidFill>
                <a:latin typeface="楷体"/>
                <a:ea typeface="楷体"/>
              </a:rPr>
              <a:t>0867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楷体"/>
                <a:ea typeface="楷体"/>
              </a:rPr>
              <a:t>崔国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楷体"/>
                <a:ea typeface="楷体"/>
              </a:rPr>
              <a:t>2012</a:t>
            </a:r>
            <a:r>
              <a:rPr b="1" lang="zh-CN" sz="3200" spc="-1" strike="noStrike">
                <a:solidFill>
                  <a:srgbClr val="0d0d0d"/>
                </a:solidFill>
                <a:latin typeface="楷体"/>
                <a:ea typeface="楷体"/>
              </a:rPr>
              <a:t>年</a:t>
            </a:r>
            <a:r>
              <a:rPr b="1" lang="en-US" sz="3200" spc="-1" strike="noStrike">
                <a:solidFill>
                  <a:srgbClr val="0d0d0d"/>
                </a:solidFill>
                <a:latin typeface="楷体"/>
                <a:ea typeface="楷体"/>
              </a:rPr>
              <a:t>4</a:t>
            </a:r>
            <a:r>
              <a:rPr b="1" lang="zh-CN" sz="3200" spc="-1" strike="noStrike">
                <a:solidFill>
                  <a:srgbClr val="0d0d0d"/>
                </a:solidFill>
                <a:latin typeface="楷体"/>
                <a:ea typeface="楷体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" dur="6052" fill="hold"/>
                                        <p:tgtEl>
                                          <p:spTgt spid="4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7399b"/>
                </a:solidFill>
                <a:latin typeface="Trebuchet MS"/>
                <a:ea typeface="宋体"/>
              </a:rPr>
              <a:t>答辩提纲</a:t>
            </a:r>
            <a:endParaRPr b="1" lang="en-US" sz="44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156" name="Group 3"/>
          <p:cNvGrpSpPr/>
          <p:nvPr/>
        </p:nvGrpSpPr>
        <p:grpSpPr>
          <a:xfrm>
            <a:off x="1828800" y="1752480"/>
            <a:ext cx="762120" cy="665280"/>
            <a:chOff x="1828800" y="1752480"/>
            <a:chExt cx="762120" cy="665280"/>
          </a:xfrm>
        </p:grpSpPr>
        <p:sp>
          <p:nvSpPr>
            <p:cNvPr id="157" name="AutoShape 4"/>
            <p:cNvSpPr/>
            <p:nvPr/>
          </p:nvSpPr>
          <p:spPr>
            <a:xfrm>
              <a:off x="18349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5"/>
            <p:cNvSpPr/>
            <p:nvPr/>
          </p:nvSpPr>
          <p:spPr>
            <a:xfrm>
              <a:off x="18288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6"/>
            <p:cNvSpPr/>
            <p:nvPr/>
          </p:nvSpPr>
          <p:spPr>
            <a:xfrm>
              <a:off x="1873080" y="17920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6f5122"/>
                </a:gs>
                <a:gs pos="100000">
                  <a:srgbClr val="efb04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7"/>
          <p:cNvGrpSpPr/>
          <p:nvPr/>
        </p:nvGrpSpPr>
        <p:grpSpPr>
          <a:xfrm>
            <a:off x="1828800" y="2666880"/>
            <a:ext cx="761760" cy="665280"/>
            <a:chOff x="1828800" y="2666880"/>
            <a:chExt cx="761760" cy="665280"/>
          </a:xfrm>
        </p:grpSpPr>
        <p:sp>
          <p:nvSpPr>
            <p:cNvPr id="161" name="AutoShape 8"/>
            <p:cNvSpPr/>
            <p:nvPr/>
          </p:nvSpPr>
          <p:spPr>
            <a:xfrm>
              <a:off x="18349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9"/>
            <p:cNvSpPr/>
            <p:nvPr/>
          </p:nvSpPr>
          <p:spPr>
            <a:xfrm>
              <a:off x="18288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10"/>
            <p:cNvSpPr/>
            <p:nvPr/>
          </p:nvSpPr>
          <p:spPr>
            <a:xfrm>
              <a:off x="1873080" y="27064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Line 11"/>
          <p:cNvSpPr/>
          <p:nvPr/>
        </p:nvSpPr>
        <p:spPr>
          <a:xfrm>
            <a:off x="2438280" y="23623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3698280" y="16765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选题依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20275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4"/>
          <p:cNvSpPr/>
          <p:nvPr/>
        </p:nvSpPr>
        <p:spPr>
          <a:xfrm>
            <a:off x="2438280" y="3276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3698280" y="2590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基本框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20275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17"/>
          <p:cNvGrpSpPr/>
          <p:nvPr/>
        </p:nvGrpSpPr>
        <p:grpSpPr>
          <a:xfrm>
            <a:off x="1828800" y="3559320"/>
            <a:ext cx="762120" cy="664920"/>
            <a:chOff x="1828800" y="3559320"/>
            <a:chExt cx="762120" cy="664920"/>
          </a:xfrm>
        </p:grpSpPr>
        <p:sp>
          <p:nvSpPr>
            <p:cNvPr id="171" name="AutoShape 18"/>
            <p:cNvSpPr/>
            <p:nvPr/>
          </p:nvSpPr>
          <p:spPr>
            <a:xfrm>
              <a:off x="18349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19"/>
            <p:cNvSpPr/>
            <p:nvPr/>
          </p:nvSpPr>
          <p:spPr>
            <a:xfrm>
              <a:off x="18288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20"/>
            <p:cNvSpPr/>
            <p:nvPr/>
          </p:nvSpPr>
          <p:spPr>
            <a:xfrm>
              <a:off x="1873080" y="35989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6f5122"/>
                </a:gs>
                <a:gs pos="100000">
                  <a:srgbClr val="efb04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21"/>
          <p:cNvGrpSpPr/>
          <p:nvPr/>
        </p:nvGrpSpPr>
        <p:grpSpPr>
          <a:xfrm>
            <a:off x="1828800" y="4473720"/>
            <a:ext cx="761760" cy="664920"/>
            <a:chOff x="1828800" y="4473720"/>
            <a:chExt cx="761760" cy="664920"/>
          </a:xfrm>
        </p:grpSpPr>
        <p:sp>
          <p:nvSpPr>
            <p:cNvPr id="175" name="AutoShape 22"/>
            <p:cNvSpPr/>
            <p:nvPr/>
          </p:nvSpPr>
          <p:spPr>
            <a:xfrm>
              <a:off x="18349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23"/>
            <p:cNvSpPr/>
            <p:nvPr/>
          </p:nvSpPr>
          <p:spPr>
            <a:xfrm>
              <a:off x="18288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24"/>
            <p:cNvSpPr/>
            <p:nvPr/>
          </p:nvSpPr>
          <p:spPr>
            <a:xfrm>
              <a:off x="1873080" y="45133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Line 25"/>
          <p:cNvSpPr/>
          <p:nvPr/>
        </p:nvSpPr>
        <p:spPr>
          <a:xfrm>
            <a:off x="2438280" y="41688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6"/>
          <p:cNvSpPr/>
          <p:nvPr/>
        </p:nvSpPr>
        <p:spPr>
          <a:xfrm>
            <a:off x="3698280" y="35053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核心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7"/>
          <p:cNvSpPr/>
          <p:nvPr/>
        </p:nvSpPr>
        <p:spPr>
          <a:xfrm>
            <a:off x="20275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8"/>
          <p:cNvSpPr/>
          <p:nvPr/>
        </p:nvSpPr>
        <p:spPr>
          <a:xfrm>
            <a:off x="2438280" y="50832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9"/>
          <p:cNvSpPr/>
          <p:nvPr/>
        </p:nvSpPr>
        <p:spPr>
          <a:xfrm>
            <a:off x="3684600" y="44197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存在不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0"/>
          <p:cNvSpPr/>
          <p:nvPr/>
        </p:nvSpPr>
        <p:spPr>
          <a:xfrm>
            <a:off x="20275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948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  <a:ea typeface="宋体"/>
              </a:rPr>
              <a:t>WLAN</a:t>
            </a:r>
            <a:r>
              <a:rPr b="1" lang="zh-CN" sz="3200" spc="-1" strike="noStrike">
                <a:solidFill>
                  <a:srgbClr val="37399b"/>
                </a:solidFill>
                <a:latin typeface="Arial"/>
                <a:ea typeface="宋体"/>
              </a:rPr>
              <a:t>在企业中的应用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Application of WLAN in the Enter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2"/>
          <p:cNvGrpSpPr/>
          <p:nvPr/>
        </p:nvGrpSpPr>
        <p:grpSpPr>
          <a:xfrm>
            <a:off x="1066680" y="1752480"/>
            <a:ext cx="2214360" cy="3569760"/>
            <a:chOff x="1066680" y="1752480"/>
            <a:chExt cx="2214360" cy="3569760"/>
          </a:xfrm>
        </p:grpSpPr>
        <p:grpSp>
          <p:nvGrpSpPr>
            <p:cNvPr id="188" name="Group 3"/>
            <p:cNvGrpSpPr/>
            <p:nvPr/>
          </p:nvGrpSpPr>
          <p:grpSpPr>
            <a:xfrm>
              <a:off x="1066680" y="1752480"/>
              <a:ext cx="2214360" cy="3569760"/>
              <a:chOff x="1066680" y="1752480"/>
              <a:chExt cx="2214360" cy="3569760"/>
            </a:xfrm>
          </p:grpSpPr>
          <p:grpSp>
            <p:nvGrpSpPr>
              <p:cNvPr id="189" name="Group 4"/>
              <p:cNvGrpSpPr/>
              <p:nvPr/>
            </p:nvGrpSpPr>
            <p:grpSpPr>
              <a:xfrm>
                <a:off x="1066680" y="2200680"/>
                <a:ext cx="2214360" cy="3121560"/>
                <a:chOff x="1066680" y="2200680"/>
                <a:chExt cx="2214360" cy="3121560"/>
              </a:xfrm>
            </p:grpSpPr>
            <p:sp>
              <p:nvSpPr>
                <p:cNvPr id="190" name="Oval 5"/>
                <p:cNvSpPr/>
                <p:nvPr/>
              </p:nvSpPr>
              <p:spPr>
                <a:xfrm>
                  <a:off x="1090800" y="2300400"/>
                  <a:ext cx="2190240" cy="302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476dc"/>
                    </a:gs>
                    <a:gs pos="100000">
                      <a:srgbClr val="7c4a1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Oval 6"/>
                <p:cNvSpPr/>
                <p:nvPr/>
              </p:nvSpPr>
              <p:spPr>
                <a:xfrm>
                  <a:off x="1066680" y="2200680"/>
                  <a:ext cx="2190240" cy="3021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d2a5"/>
                    </a:gs>
                    <a:gs pos="100000">
                      <a:srgbClr val="7476dc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Oval 7"/>
              <p:cNvSpPr/>
              <p:nvPr/>
            </p:nvSpPr>
            <p:spPr>
              <a:xfrm>
                <a:off x="1171080" y="1894680"/>
                <a:ext cx="1982520" cy="2871000"/>
              </a:xfrm>
              <a:prstGeom prst="ellipse">
                <a:avLst/>
              </a:prstGeom>
              <a:gradFill rotWithShape="0">
                <a:gsLst>
                  <a:gs pos="0">
                    <a:srgbClr val="2c4865"/>
                  </a:gs>
                  <a:gs pos="100000">
                    <a:srgbClr val="699de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8"/>
              <p:cNvSpPr/>
              <p:nvPr/>
            </p:nvSpPr>
            <p:spPr>
              <a:xfrm>
                <a:off x="1196640" y="1911600"/>
                <a:ext cx="1933200" cy="2799360"/>
              </a:xfrm>
              <a:prstGeom prst="ellipse">
                <a:avLst/>
              </a:prstGeom>
              <a:gradFill rotWithShape="0">
                <a:gsLst>
                  <a:gs pos="0">
                    <a:srgbClr val="699de9">
                      <a:alpha val="0"/>
                    </a:srgbClr>
                  </a:gs>
                  <a:gs pos="100000">
                    <a:srgbClr val="c7dcf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9"/>
              <p:cNvSpPr/>
              <p:nvPr/>
            </p:nvSpPr>
            <p:spPr>
              <a:xfrm>
                <a:off x="1209600" y="1752480"/>
                <a:ext cx="1841760" cy="2616120"/>
              </a:xfrm>
              <a:prstGeom prst="ellipse">
                <a:avLst/>
              </a:prstGeom>
              <a:gradFill rotWithShape="0">
                <a:gsLst>
                  <a:gs pos="0">
                    <a:srgbClr val="4a7cad"/>
                  </a:gs>
                  <a:gs pos="100000">
                    <a:srgbClr val="699de9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10"/>
              <p:cNvSpPr/>
              <p:nvPr/>
            </p:nvSpPr>
            <p:spPr>
              <a:xfrm>
                <a:off x="1314000" y="1997280"/>
                <a:ext cx="1618920" cy="2119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99de9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Text Box 11"/>
            <p:cNvSpPr/>
            <p:nvPr/>
          </p:nvSpPr>
          <p:spPr>
            <a:xfrm>
              <a:off x="1771200" y="2119320"/>
              <a:ext cx="73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7030a0"/>
                  </a:solidFill>
                  <a:latin typeface="Times New Roman"/>
                  <a:ea typeface="楷体_GB2312"/>
                </a:rPr>
                <a:t>引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Freeform 12"/>
          <p:cNvSpPr/>
          <p:nvPr/>
        </p:nvSpPr>
        <p:spPr>
          <a:xfrm flipV="1" rot="8272200">
            <a:off x="3389040" y="2195280"/>
            <a:ext cx="1418040" cy="1065240"/>
          </a:xfrm>
          <a:prstGeom prst="pie">
            <a:avLst/>
          </a:prstGeom>
          <a:gradFill rotWithShape="0">
            <a:gsLst>
              <a:gs pos="0">
                <a:srgbClr val="efb049"/>
              </a:gs>
              <a:gs pos="100000">
                <a:srgbClr val="bad791"/>
              </a:gs>
            </a:gsLst>
            <a:lin ang="82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3"/>
          <p:cNvSpPr/>
          <p:nvPr/>
        </p:nvSpPr>
        <p:spPr>
          <a:xfrm flipH="1" flipV="1" rot="1831800">
            <a:off x="3401280" y="4212360"/>
            <a:ext cx="1422360" cy="1122480"/>
          </a:xfrm>
          <a:prstGeom prst="pie">
            <a:avLst/>
          </a:prstGeom>
          <a:gradFill rotWithShape="0">
            <a:gsLst>
              <a:gs pos="0">
                <a:srgbClr val="7476dc"/>
              </a:gs>
              <a:gs pos="100000">
                <a:srgbClr val="ffdfbe"/>
              </a:gs>
            </a:gsLst>
            <a:lin ang="197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4"/>
          <p:cNvGrpSpPr/>
          <p:nvPr/>
        </p:nvGrpSpPr>
        <p:grpSpPr>
          <a:xfrm>
            <a:off x="5000760" y="1857240"/>
            <a:ext cx="1714320" cy="1571760"/>
            <a:chOff x="5000760" y="1857240"/>
            <a:chExt cx="1714320" cy="1571760"/>
          </a:xfrm>
        </p:grpSpPr>
        <p:sp>
          <p:nvSpPr>
            <p:cNvPr id="200" name="AutoShape 15"/>
            <p:cNvSpPr/>
            <p:nvPr/>
          </p:nvSpPr>
          <p:spPr>
            <a:xfrm>
              <a:off x="5000760" y="1857240"/>
              <a:ext cx="1714320" cy="15717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6"/>
            <p:cNvSpPr/>
            <p:nvPr/>
          </p:nvSpPr>
          <p:spPr>
            <a:xfrm>
              <a:off x="5072040" y="1974960"/>
              <a:ext cx="127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5da2"/>
                  </a:solidFill>
                  <a:latin typeface="Times New Roman"/>
                  <a:ea typeface="楷体_GB2312"/>
                </a:rPr>
                <a:t>选题背景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17"/>
          <p:cNvGrpSpPr/>
          <p:nvPr/>
        </p:nvGrpSpPr>
        <p:grpSpPr>
          <a:xfrm>
            <a:off x="5000760" y="4286160"/>
            <a:ext cx="1785960" cy="1500120"/>
            <a:chOff x="5000760" y="4286160"/>
            <a:chExt cx="1785960" cy="1500120"/>
          </a:xfrm>
        </p:grpSpPr>
        <p:sp>
          <p:nvSpPr>
            <p:cNvPr id="203" name="AutoShape 18"/>
            <p:cNvSpPr/>
            <p:nvPr/>
          </p:nvSpPr>
          <p:spPr>
            <a:xfrm>
              <a:off x="5000760" y="4286160"/>
              <a:ext cx="1785960" cy="15001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9"/>
            <p:cNvSpPr/>
            <p:nvPr/>
          </p:nvSpPr>
          <p:spPr>
            <a:xfrm>
              <a:off x="5256000" y="4436640"/>
              <a:ext cx="127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5da2"/>
                  </a:solidFill>
                  <a:latin typeface="Times New Roman"/>
                  <a:ea typeface="楷体_GB2312"/>
                </a:rPr>
                <a:t>意义所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782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7399b"/>
                </a:solidFill>
                <a:latin typeface="楷体"/>
                <a:ea typeface="楷体"/>
              </a:rPr>
              <a:t>基本框架</a:t>
            </a:r>
            <a:endParaRPr b="1" lang="en-US" sz="44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07" name="AutoShape 3"/>
          <p:cNvSpPr/>
          <p:nvPr/>
        </p:nvSpPr>
        <p:spPr>
          <a:xfrm>
            <a:off x="6477120" y="3352680"/>
            <a:ext cx="1765080" cy="2590920"/>
          </a:xfrm>
          <a:custGeom>
            <a:avLst/>
            <a:gdLst>
              <a:gd name="textAreaLeft" fmla="*/ 70920 w 1765080"/>
              <a:gd name="textAreaRight" fmla="*/ 1694160 w 1765080"/>
              <a:gd name="textAreaTop" fmla="*/ 70920 h 2590920"/>
              <a:gd name="textAreaBottom" fmla="*/ 2520000 h 2590920"/>
            </a:gdLst>
            <a:ahLst/>
            <a:rect l="textAreaLeft" t="textAreaTop" r="textAreaRight" b="textAreaBottom"/>
            <a:pathLst>
              <a:path w="21600" h="31704">
                <a:moveTo>
                  <a:pt x="2969" y="0"/>
                </a:moveTo>
                <a:arcTo wR="2969" hR="2969" stAng="16200000" swAng="-5400000"/>
                <a:lnTo>
                  <a:pt x="0" y="28735"/>
                </a:lnTo>
                <a:arcTo wR="2969" hR="2969" stAng="10800000" swAng="-5400000"/>
                <a:lnTo>
                  <a:pt x="18631" y="3170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4559400" y="3352680"/>
            <a:ext cx="1765080" cy="2590920"/>
          </a:xfrm>
          <a:custGeom>
            <a:avLst/>
            <a:gdLst>
              <a:gd name="textAreaLeft" fmla="*/ 70920 w 1765080"/>
              <a:gd name="textAreaRight" fmla="*/ 1694160 w 1765080"/>
              <a:gd name="textAreaTop" fmla="*/ 70920 h 2590920"/>
              <a:gd name="textAreaBottom" fmla="*/ 2520000 h 2590920"/>
            </a:gdLst>
            <a:ahLst/>
            <a:rect l="textAreaLeft" t="textAreaTop" r="textAreaRight" b="textAreaBottom"/>
            <a:pathLst>
              <a:path w="21600" h="31704">
                <a:moveTo>
                  <a:pt x="2969" y="0"/>
                </a:moveTo>
                <a:arcTo wR="2969" hR="2969" stAng="16200000" swAng="-5400000"/>
                <a:lnTo>
                  <a:pt x="0" y="28735"/>
                </a:lnTo>
                <a:arcTo wR="2969" hR="2969" stAng="10800000" swAng="-5400000"/>
                <a:lnTo>
                  <a:pt x="18631" y="3170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2819520" y="33526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6"/>
          <p:cNvSpPr/>
          <p:nvPr/>
        </p:nvSpPr>
        <p:spPr>
          <a:xfrm>
            <a:off x="10540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7"/>
          <p:cNvGrpSpPr/>
          <p:nvPr/>
        </p:nvGrpSpPr>
        <p:grpSpPr>
          <a:xfrm>
            <a:off x="1276560" y="1828080"/>
            <a:ext cx="6622560" cy="1418760"/>
            <a:chOff x="1276560" y="1828080"/>
            <a:chExt cx="6622560" cy="1418760"/>
          </a:xfrm>
        </p:grpSpPr>
        <p:sp>
          <p:nvSpPr>
            <p:cNvPr id="212" name="Rectangle 8"/>
            <p:cNvSpPr/>
            <p:nvPr/>
          </p:nvSpPr>
          <p:spPr>
            <a:xfrm rot="3418800">
              <a:off x="1486800" y="2080080"/>
              <a:ext cx="928440" cy="1006560"/>
            </a:xfrm>
            <a:prstGeom prst="rect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1496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Group 9"/>
            <p:cNvGrpSpPr/>
            <p:nvPr/>
          </p:nvGrpSpPr>
          <p:grpSpPr>
            <a:xfrm>
              <a:off x="2453040" y="2250360"/>
              <a:ext cx="931320" cy="132120"/>
              <a:chOff x="2453040" y="2250360"/>
              <a:chExt cx="931320" cy="132120"/>
            </a:xfrm>
          </p:grpSpPr>
          <p:sp>
            <p:nvSpPr>
              <p:cNvPr id="214" name="Oval 10"/>
              <p:cNvSpPr/>
              <p:nvPr/>
            </p:nvSpPr>
            <p:spPr>
              <a:xfrm>
                <a:off x="2453040" y="2250360"/>
                <a:ext cx="156960" cy="1310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11"/>
              <p:cNvSpPr/>
              <p:nvPr/>
            </p:nvSpPr>
            <p:spPr>
              <a:xfrm>
                <a:off x="2542320" y="2251440"/>
                <a:ext cx="772920" cy="1310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12"/>
              <p:cNvSpPr/>
              <p:nvPr/>
            </p:nvSpPr>
            <p:spPr>
              <a:xfrm>
                <a:off x="3243240" y="2251800"/>
                <a:ext cx="141120" cy="12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13"/>
              <p:cNvSpPr/>
              <p:nvPr/>
            </p:nvSpPr>
            <p:spPr>
              <a:xfrm>
                <a:off x="3319200" y="2293560"/>
                <a:ext cx="39600" cy="378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Rectangle 14"/>
            <p:cNvSpPr/>
            <p:nvPr/>
          </p:nvSpPr>
          <p:spPr>
            <a:xfrm rot="3418800">
              <a:off x="3208320" y="2010240"/>
              <a:ext cx="927000" cy="1009800"/>
            </a:xfrm>
            <a:prstGeom prst="rect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Group 15"/>
            <p:cNvGrpSpPr/>
            <p:nvPr/>
          </p:nvGrpSpPr>
          <p:grpSpPr>
            <a:xfrm>
              <a:off x="4174200" y="2250360"/>
              <a:ext cx="931320" cy="132120"/>
              <a:chOff x="4174200" y="2250360"/>
              <a:chExt cx="931320" cy="132120"/>
            </a:xfrm>
          </p:grpSpPr>
          <p:sp>
            <p:nvSpPr>
              <p:cNvPr id="220" name="Oval 16"/>
              <p:cNvSpPr/>
              <p:nvPr/>
            </p:nvSpPr>
            <p:spPr>
              <a:xfrm>
                <a:off x="4174200" y="2250360"/>
                <a:ext cx="156960" cy="1310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Rectangle 17"/>
              <p:cNvSpPr/>
              <p:nvPr/>
            </p:nvSpPr>
            <p:spPr>
              <a:xfrm>
                <a:off x="4263480" y="2251440"/>
                <a:ext cx="772920" cy="1310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18"/>
              <p:cNvSpPr/>
              <p:nvPr/>
            </p:nvSpPr>
            <p:spPr>
              <a:xfrm>
                <a:off x="4964400" y="2251800"/>
                <a:ext cx="141120" cy="12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19"/>
              <p:cNvSpPr/>
              <p:nvPr/>
            </p:nvSpPr>
            <p:spPr>
              <a:xfrm>
                <a:off x="5040360" y="2293560"/>
                <a:ext cx="39600" cy="378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Rectangle 20"/>
            <p:cNvSpPr/>
            <p:nvPr/>
          </p:nvSpPr>
          <p:spPr>
            <a:xfrm rot="3418800">
              <a:off x="4856040" y="2011680"/>
              <a:ext cx="927000" cy="1006560"/>
            </a:xfrm>
            <a:prstGeom prst="rect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1496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Group 21"/>
            <p:cNvGrpSpPr/>
            <p:nvPr/>
          </p:nvGrpSpPr>
          <p:grpSpPr>
            <a:xfrm>
              <a:off x="5895000" y="2250360"/>
              <a:ext cx="1217880" cy="132120"/>
              <a:chOff x="5895000" y="2250360"/>
              <a:chExt cx="1217880" cy="132120"/>
            </a:xfrm>
          </p:grpSpPr>
          <p:sp>
            <p:nvSpPr>
              <p:cNvPr id="226" name="Oval 22"/>
              <p:cNvSpPr/>
              <p:nvPr/>
            </p:nvSpPr>
            <p:spPr>
              <a:xfrm>
                <a:off x="5895000" y="2250360"/>
                <a:ext cx="205200" cy="1310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23"/>
              <p:cNvSpPr/>
              <p:nvPr/>
            </p:nvSpPr>
            <p:spPr>
              <a:xfrm>
                <a:off x="6011640" y="2251440"/>
                <a:ext cx="1010160" cy="1310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24"/>
              <p:cNvSpPr/>
              <p:nvPr/>
            </p:nvSpPr>
            <p:spPr>
              <a:xfrm>
                <a:off x="6928200" y="2251800"/>
                <a:ext cx="184680" cy="12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Oval 25"/>
              <p:cNvSpPr/>
              <p:nvPr/>
            </p:nvSpPr>
            <p:spPr>
              <a:xfrm>
                <a:off x="7027560" y="2293560"/>
                <a:ext cx="51840" cy="378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Rectangle 26"/>
            <p:cNvSpPr/>
            <p:nvPr/>
          </p:nvSpPr>
          <p:spPr>
            <a:xfrm rot="3418800">
              <a:off x="6761520" y="1987920"/>
              <a:ext cx="927000" cy="1005120"/>
            </a:xfrm>
            <a:prstGeom prst="rect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Rectangle 27"/>
          <p:cNvSpPr/>
          <p:nvPr/>
        </p:nvSpPr>
        <p:spPr>
          <a:xfrm>
            <a:off x="1676520" y="22096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3431880" y="2209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5109120" y="21337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7013520" y="21337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1"/>
          <p:cNvSpPr/>
          <p:nvPr/>
        </p:nvSpPr>
        <p:spPr>
          <a:xfrm>
            <a:off x="1219320" y="365760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楷体"/>
                <a:ea typeface="楷体"/>
              </a:rPr>
              <a:t>整体介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2"/>
          <p:cNvSpPr/>
          <p:nvPr/>
        </p:nvSpPr>
        <p:spPr>
          <a:xfrm>
            <a:off x="2971800" y="373392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楷体"/>
                <a:ea typeface="楷体"/>
              </a:rPr>
              <a:t>设计方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3"/>
          <p:cNvSpPr/>
          <p:nvPr/>
        </p:nvSpPr>
        <p:spPr>
          <a:xfrm>
            <a:off x="6705720" y="373392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楷体"/>
                <a:ea typeface="楷体"/>
              </a:rPr>
              <a:t>结论启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4"/>
          <p:cNvSpPr/>
          <p:nvPr/>
        </p:nvSpPr>
        <p:spPr>
          <a:xfrm>
            <a:off x="4495680" y="3733920"/>
            <a:ext cx="1905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楷体"/>
                <a:ea typeface="楷体"/>
              </a:rPr>
              <a:t>性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楷体"/>
                <a:ea typeface="楷体"/>
              </a:rPr>
              <a:t>评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395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7399b"/>
                </a:solidFill>
                <a:latin typeface="楷体"/>
                <a:ea typeface="楷体"/>
              </a:rPr>
              <a:t>无线局域网的整体介绍</a:t>
            </a:r>
            <a:endParaRPr b="1" lang="en-US" sz="44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241" name="Group 3"/>
          <p:cNvGrpSpPr/>
          <p:nvPr/>
        </p:nvGrpSpPr>
        <p:grpSpPr>
          <a:xfrm>
            <a:off x="1219320" y="1836720"/>
            <a:ext cx="2361600" cy="4030200"/>
            <a:chOff x="1219320" y="1836720"/>
            <a:chExt cx="2361600" cy="4030200"/>
          </a:xfrm>
        </p:grpSpPr>
        <p:sp>
          <p:nvSpPr>
            <p:cNvPr id="242" name="AutoShape 4"/>
            <p:cNvSpPr/>
            <p:nvPr/>
          </p:nvSpPr>
          <p:spPr>
            <a:xfrm>
              <a:off x="1219320" y="2139480"/>
              <a:ext cx="2354760" cy="2857320"/>
            </a:xfrm>
            <a:custGeom>
              <a:avLst/>
              <a:gdLst>
                <a:gd name="textAreaLeft" fmla="*/ 120600 w 2354760"/>
                <a:gd name="textAreaRight" fmla="*/ 2234160 w 2354760"/>
                <a:gd name="textAreaTop" fmla="*/ 120600 h 2857320"/>
                <a:gd name="textAreaBottom" fmla="*/ 2736720 h 2857320"/>
              </a:gdLst>
              <a:ahLst/>
              <a:rect l="textAreaLeft" t="textAreaTop" r="textAreaRight" b="textAreaBottom"/>
              <a:pathLst>
                <a:path w="21600" h="26209">
                  <a:moveTo>
                    <a:pt x="3782" y="0"/>
                  </a:moveTo>
                  <a:arcTo wR="3782" hR="3782" stAng="16200000" swAng="-5400000"/>
                  <a:lnTo>
                    <a:pt x="0" y="22427"/>
                  </a:lnTo>
                  <a:arcTo wR="3782" hR="3782" stAng="10800000" swAng="-5400000"/>
                  <a:lnTo>
                    <a:pt x="17818" y="26209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5"/>
            <p:cNvSpPr/>
            <p:nvPr/>
          </p:nvSpPr>
          <p:spPr>
            <a:xfrm>
              <a:off x="1255680" y="2147760"/>
              <a:ext cx="2283840" cy="2802960"/>
            </a:xfrm>
            <a:custGeom>
              <a:avLst/>
              <a:gdLst>
                <a:gd name="textAreaLeft" fmla="*/ 111240 w 2283840"/>
                <a:gd name="textAreaRight" fmla="*/ 2172600 w 2283840"/>
                <a:gd name="textAreaTop" fmla="*/ 111240 h 2802960"/>
                <a:gd name="textAreaBottom" fmla="*/ 2691720 h 2802960"/>
              </a:gdLst>
              <a:ahLst/>
              <a:rect l="textAreaLeft" t="textAreaTop" r="textAreaRight" b="textAreaBottom"/>
              <a:pathLst>
                <a:path w="21600" h="26509">
                  <a:moveTo>
                    <a:pt x="3600" y="0"/>
                  </a:moveTo>
                  <a:arcTo wR="3600" hR="3600" stAng="16200000" swAng="-5400000"/>
                  <a:lnTo>
                    <a:pt x="0" y="22909"/>
                  </a:lnTo>
                  <a:arcTo wR="3600" hR="3600" stAng="10800000" swAng="-5400000"/>
                  <a:lnTo>
                    <a:pt x="18000" y="265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6"/>
            <p:cNvSpPr/>
            <p:nvPr/>
          </p:nvSpPr>
          <p:spPr>
            <a:xfrm>
              <a:off x="1274400" y="4211280"/>
              <a:ext cx="225288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7"/>
            <p:cNvSpPr/>
            <p:nvPr/>
          </p:nvSpPr>
          <p:spPr>
            <a:xfrm>
              <a:off x="1274400" y="2169720"/>
              <a:ext cx="225288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8"/>
            <p:cNvSpPr/>
            <p:nvPr/>
          </p:nvSpPr>
          <p:spPr>
            <a:xfrm>
              <a:off x="1226160" y="4997160"/>
              <a:ext cx="23547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9"/>
            <p:cNvSpPr/>
            <p:nvPr/>
          </p:nvSpPr>
          <p:spPr>
            <a:xfrm>
              <a:off x="1274400" y="5020920"/>
              <a:ext cx="225288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10"/>
            <p:cNvGrpSpPr/>
            <p:nvPr/>
          </p:nvGrpSpPr>
          <p:grpSpPr>
            <a:xfrm>
              <a:off x="2029320" y="1836720"/>
              <a:ext cx="699480" cy="622080"/>
              <a:chOff x="2029320" y="1836720"/>
              <a:chExt cx="699480" cy="622080"/>
            </a:xfrm>
          </p:grpSpPr>
          <p:sp>
            <p:nvSpPr>
              <p:cNvPr id="249" name="Oval 11"/>
              <p:cNvSpPr/>
              <p:nvPr/>
            </p:nvSpPr>
            <p:spPr>
              <a:xfrm>
                <a:off x="2029320" y="1912320"/>
                <a:ext cx="699480" cy="480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Oval 12"/>
              <p:cNvSpPr/>
              <p:nvPr/>
            </p:nvSpPr>
            <p:spPr>
              <a:xfrm>
                <a:off x="2036520" y="1836720"/>
                <a:ext cx="676440" cy="622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Oval 13"/>
              <p:cNvSpPr/>
              <p:nvPr/>
            </p:nvSpPr>
            <p:spPr>
              <a:xfrm>
                <a:off x="2044800" y="1840320"/>
                <a:ext cx="660600" cy="606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14"/>
              <p:cNvSpPr/>
              <p:nvPr/>
            </p:nvSpPr>
            <p:spPr>
              <a:xfrm>
                <a:off x="2052000" y="1846080"/>
                <a:ext cx="62820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Oval 15"/>
              <p:cNvSpPr/>
              <p:nvPr/>
            </p:nvSpPr>
            <p:spPr>
              <a:xfrm>
                <a:off x="2088720" y="1861560"/>
                <a:ext cx="558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Text Box 16"/>
            <p:cNvSpPr/>
            <p:nvPr/>
          </p:nvSpPr>
          <p:spPr>
            <a:xfrm>
              <a:off x="219708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7"/>
            <p:cNvSpPr/>
            <p:nvPr/>
          </p:nvSpPr>
          <p:spPr>
            <a:xfrm>
              <a:off x="1384920" y="2514240"/>
              <a:ext cx="2156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无线局域网基本构成框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18"/>
          <p:cNvGrpSpPr/>
          <p:nvPr/>
        </p:nvGrpSpPr>
        <p:grpSpPr>
          <a:xfrm>
            <a:off x="5029200" y="1828800"/>
            <a:ext cx="2361960" cy="4030200"/>
            <a:chOff x="5029200" y="1828800"/>
            <a:chExt cx="2361960" cy="4030200"/>
          </a:xfrm>
        </p:grpSpPr>
        <p:sp>
          <p:nvSpPr>
            <p:cNvPr id="257" name="AutoShape 19"/>
            <p:cNvSpPr/>
            <p:nvPr/>
          </p:nvSpPr>
          <p:spPr>
            <a:xfrm>
              <a:off x="5029200" y="2131560"/>
              <a:ext cx="2313000" cy="2857320"/>
            </a:xfrm>
            <a:custGeom>
              <a:avLst/>
              <a:gdLst>
                <a:gd name="textAreaLeft" fmla="*/ 118440 w 2313000"/>
                <a:gd name="textAreaRight" fmla="*/ 2194560 w 2313000"/>
                <a:gd name="textAreaTop" fmla="*/ 118440 h 2857320"/>
                <a:gd name="textAreaBottom" fmla="*/ 2738880 h 2857320"/>
              </a:gdLst>
              <a:ahLst/>
              <a:rect l="textAreaLeft" t="textAreaTop" r="textAreaRight" b="textAreaBottom"/>
              <a:pathLst>
                <a:path w="21600" h="26682">
                  <a:moveTo>
                    <a:pt x="3782" y="0"/>
                  </a:moveTo>
                  <a:arcTo wR="3782" hR="3782" stAng="16200000" swAng="-5400000"/>
                  <a:lnTo>
                    <a:pt x="0" y="22900"/>
                  </a:lnTo>
                  <a:arcTo wR="3782" hR="3782" stAng="10800000" swAng="-5400000"/>
                  <a:lnTo>
                    <a:pt x="17818" y="2668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20"/>
            <p:cNvSpPr/>
            <p:nvPr/>
          </p:nvSpPr>
          <p:spPr>
            <a:xfrm>
              <a:off x="5064480" y="2139840"/>
              <a:ext cx="2243520" cy="2802960"/>
            </a:xfrm>
            <a:custGeom>
              <a:avLst/>
              <a:gdLst>
                <a:gd name="textAreaLeft" fmla="*/ 109440 w 2243520"/>
                <a:gd name="textAreaRight" fmla="*/ 2134080 w 2243520"/>
                <a:gd name="textAreaTop" fmla="*/ 109440 h 2802960"/>
                <a:gd name="textAreaBottom" fmla="*/ 2693520 h 2802960"/>
              </a:gdLst>
              <a:ahLst/>
              <a:rect l="textAreaLeft" t="textAreaTop" r="textAreaRight" b="textAreaBottom"/>
              <a:pathLst>
                <a:path w="21600" h="26985">
                  <a:moveTo>
                    <a:pt x="3600" y="0"/>
                  </a:moveTo>
                  <a:arcTo wR="3600" hR="3600" stAng="16200000" swAng="-5400000"/>
                  <a:lnTo>
                    <a:pt x="0" y="23385"/>
                  </a:lnTo>
                  <a:arcTo wR="3600" hR="3600" stAng="10800000" swAng="-5400000"/>
                  <a:lnTo>
                    <a:pt x="18000" y="269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21"/>
            <p:cNvSpPr/>
            <p:nvPr/>
          </p:nvSpPr>
          <p:spPr>
            <a:xfrm>
              <a:off x="5083200" y="4203360"/>
              <a:ext cx="221292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22"/>
            <p:cNvSpPr/>
            <p:nvPr/>
          </p:nvSpPr>
          <p:spPr>
            <a:xfrm>
              <a:off x="5083200" y="2161800"/>
              <a:ext cx="221292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23"/>
            <p:cNvSpPr/>
            <p:nvPr/>
          </p:nvSpPr>
          <p:spPr>
            <a:xfrm>
              <a:off x="5826600" y="1904760"/>
              <a:ext cx="685800" cy="48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24"/>
            <p:cNvSpPr/>
            <p:nvPr/>
          </p:nvSpPr>
          <p:spPr>
            <a:xfrm>
              <a:off x="5831640" y="1828800"/>
              <a:ext cx="66528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25"/>
            <p:cNvSpPr/>
            <p:nvPr/>
          </p:nvSpPr>
          <p:spPr>
            <a:xfrm>
              <a:off x="5840280" y="1831680"/>
              <a:ext cx="6494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26"/>
            <p:cNvSpPr/>
            <p:nvPr/>
          </p:nvSpPr>
          <p:spPr>
            <a:xfrm>
              <a:off x="5846760" y="1838160"/>
              <a:ext cx="6174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27"/>
            <p:cNvSpPr/>
            <p:nvPr/>
          </p:nvSpPr>
          <p:spPr>
            <a:xfrm>
              <a:off x="5884200" y="1854000"/>
              <a:ext cx="54828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8"/>
            <p:cNvSpPr/>
            <p:nvPr/>
          </p:nvSpPr>
          <p:spPr>
            <a:xfrm>
              <a:off x="5986440" y="1915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29"/>
            <p:cNvSpPr/>
            <p:nvPr/>
          </p:nvSpPr>
          <p:spPr>
            <a:xfrm>
              <a:off x="5191920" y="2506320"/>
              <a:ext cx="2199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无线局域的基本设备简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30"/>
            <p:cNvSpPr/>
            <p:nvPr/>
          </p:nvSpPr>
          <p:spPr>
            <a:xfrm>
              <a:off x="5032080" y="4989240"/>
              <a:ext cx="23133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31"/>
            <p:cNvSpPr/>
            <p:nvPr/>
          </p:nvSpPr>
          <p:spPr>
            <a:xfrm>
              <a:off x="5079960" y="5013000"/>
              <a:ext cx="221292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6120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  <a:ea typeface="宋体"/>
              </a:rPr>
              <a:t> </a:t>
            </a:r>
            <a:r>
              <a:rPr b="1" lang="zh-CN" sz="4400" spc="-1" strike="noStrike">
                <a:solidFill>
                  <a:srgbClr val="37399b"/>
                </a:solidFill>
                <a:latin typeface="楷体"/>
                <a:ea typeface="楷体"/>
              </a:rPr>
              <a:t>无线局域网基本设备</a:t>
            </a:r>
            <a:endParaRPr b="1" lang="en-US" sz="44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272" name="Group 3"/>
          <p:cNvGrpSpPr/>
          <p:nvPr/>
        </p:nvGrpSpPr>
        <p:grpSpPr>
          <a:xfrm>
            <a:off x="-991440" y="939960"/>
            <a:ext cx="10631520" cy="6804000"/>
            <a:chOff x="-991440" y="939960"/>
            <a:chExt cx="10631520" cy="6804000"/>
          </a:xfrm>
        </p:grpSpPr>
        <p:sp>
          <p:nvSpPr>
            <p:cNvPr id="273" name="Freeform 4"/>
            <p:cNvSpPr/>
            <p:nvPr/>
          </p:nvSpPr>
          <p:spPr>
            <a:xfrm rot="20241600">
              <a:off x="593280" y="2460600"/>
              <a:ext cx="8655840" cy="3762000"/>
            </a:xfrm>
            <a:custGeom>
              <a:avLst/>
              <a:gdLst>
                <a:gd name="textAreaLeft" fmla="*/ 0 w 8655840"/>
                <a:gd name="textAreaRight" fmla="*/ 8656200 w 8655840"/>
                <a:gd name="textAreaTop" fmla="*/ 0 h 3762000"/>
                <a:gd name="textAreaBottom" fmla="*/ 3762360 h 3762000"/>
              </a:gdLst>
              <a:ahLst/>
              <a:rect l="textAreaLeft" t="textAreaTop" r="textAreaRight" b="textAreaBottom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52769a"/>
                </a:gs>
                <a:gs pos="100000">
                  <a:srgbClr val="91ccff"/>
                </a:gs>
              </a:gsLst>
              <a:lin ang="202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5"/>
            <p:cNvSpPr/>
            <p:nvPr/>
          </p:nvSpPr>
          <p:spPr>
            <a:xfrm rot="20056200">
              <a:off x="4672440" y="2671560"/>
              <a:ext cx="1437120" cy="3877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6"/>
            <p:cNvSpPr/>
            <p:nvPr/>
          </p:nvSpPr>
          <p:spPr>
            <a:xfrm rot="20056200">
              <a:off x="8163000" y="2574000"/>
              <a:ext cx="1437480" cy="3877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7"/>
            <p:cNvSpPr/>
            <p:nvPr/>
          </p:nvSpPr>
          <p:spPr>
            <a:xfrm rot="20056200">
              <a:off x="1181880" y="4998960"/>
              <a:ext cx="1437120" cy="3877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8"/>
            <p:cNvSpPr/>
            <p:nvPr/>
          </p:nvSpPr>
          <p:spPr>
            <a:xfrm rot="20056200">
              <a:off x="5592240" y="6004800"/>
              <a:ext cx="1616760" cy="403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10"/>
            <p:cNvSpPr/>
            <p:nvPr/>
          </p:nvSpPr>
          <p:spPr>
            <a:xfrm>
              <a:off x="3629160" y="1523880"/>
              <a:ext cx="1935000" cy="1745280"/>
            </a:xfrm>
            <a:prstGeom prst="ellipse">
              <a:avLst/>
            </a:prstGeom>
            <a:gradFill rotWithShape="0">
              <a:gsLst>
                <a:gs pos="0">
                  <a:srgbClr val="7476dc"/>
                </a:gs>
                <a:gs pos="100000">
                  <a:srgbClr val="28294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12"/>
            <p:cNvSpPr/>
            <p:nvPr/>
          </p:nvSpPr>
          <p:spPr>
            <a:xfrm>
              <a:off x="138240" y="3463560"/>
              <a:ext cx="2053080" cy="2080800"/>
            </a:xfrm>
            <a:prstGeom prst="ellipse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553f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13"/>
            <p:cNvSpPr/>
            <p:nvPr/>
          </p:nvSpPr>
          <p:spPr>
            <a:xfrm>
              <a:off x="4142160" y="4821120"/>
              <a:ext cx="2360880" cy="2036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4"/>
            <p:cNvSpPr/>
            <p:nvPr/>
          </p:nvSpPr>
          <p:spPr>
            <a:xfrm>
              <a:off x="7427520" y="1620720"/>
              <a:ext cx="1539720" cy="1557720"/>
            </a:xfrm>
            <a:prstGeom prst="ellipse">
              <a:avLst/>
            </a:prstGeom>
            <a:gradFill rotWithShape="0">
              <a:gsLst>
                <a:gs pos="0">
                  <a:srgbClr val="9ac664"/>
                </a:gs>
                <a:gs pos="100000">
                  <a:srgbClr val="3544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6"/>
            <p:cNvSpPr/>
            <p:nvPr/>
          </p:nvSpPr>
          <p:spPr>
            <a:xfrm>
              <a:off x="3927960" y="1814760"/>
              <a:ext cx="1521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无线</a:t>
              </a:r>
              <a:r>
                <a:rPr b="1" lang="en-US" sz="40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A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7"/>
            <p:cNvSpPr/>
            <p:nvPr/>
          </p:nvSpPr>
          <p:spPr>
            <a:xfrm>
              <a:off x="7274520" y="2008800"/>
              <a:ext cx="157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AP</a:t>
              </a:r>
              <a:r>
                <a:rPr b="1" lang="zh-CN" sz="2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控制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18"/>
            <p:cNvSpPr/>
            <p:nvPr/>
          </p:nvSpPr>
          <p:spPr>
            <a:xfrm>
              <a:off x="4703760" y="520920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无线路由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19"/>
            <p:cNvSpPr/>
            <p:nvPr/>
          </p:nvSpPr>
          <p:spPr>
            <a:xfrm>
              <a:off x="710640" y="394848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无线网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20"/>
            <p:cNvSpPr/>
            <p:nvPr/>
          </p:nvSpPr>
          <p:spPr>
            <a:xfrm>
              <a:off x="3218400" y="3657240"/>
              <a:ext cx="310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WLAN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基本设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1"/>
            <p:cNvSpPr/>
            <p:nvPr/>
          </p:nvSpPr>
          <p:spPr>
            <a:xfrm>
              <a:off x="2104200" y="2124000"/>
              <a:ext cx="2192040" cy="159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AutoShape 22"/>
            <p:cNvCxnSpPr/>
            <p:nvPr/>
          </p:nvCxnSpPr>
          <p:spPr>
            <a:xfrm flipH="1" flipV="1">
              <a:off x="-991440" y="2105280"/>
              <a:ext cx="3110040" cy="18720"/>
            </a:xfrm>
            <a:prstGeom prst="straightConnector1">
              <a:avLst/>
            </a:prstGeom>
            <a:ln w="0">
              <a:noFill/>
            </a:ln>
          </p:spPr>
        </p:cxnSp>
        <p:sp>
          <p:nvSpPr>
            <p:cNvPr id="289" name="Text Box 23"/>
            <p:cNvSpPr/>
            <p:nvPr/>
          </p:nvSpPr>
          <p:spPr>
            <a:xfrm>
              <a:off x="-374400" y="1620720"/>
              <a:ext cx="277164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03"/>
          <p:cNvGrpSpPr/>
          <p:nvPr/>
        </p:nvGrpSpPr>
        <p:grpSpPr>
          <a:xfrm>
            <a:off x="2819520" y="4826160"/>
            <a:ext cx="5181120" cy="507960"/>
            <a:chOff x="2819520" y="4826160"/>
            <a:chExt cx="5181120" cy="507960"/>
          </a:xfrm>
        </p:grpSpPr>
        <p:grpSp>
          <p:nvGrpSpPr>
            <p:cNvPr id="291" name="Group 204"/>
            <p:cNvGrpSpPr/>
            <p:nvPr/>
          </p:nvGrpSpPr>
          <p:grpSpPr>
            <a:xfrm>
              <a:off x="2819520" y="4826160"/>
              <a:ext cx="5181120" cy="507960"/>
              <a:chOff x="2819520" y="4826160"/>
              <a:chExt cx="5181120" cy="507960"/>
            </a:xfrm>
          </p:grpSpPr>
          <p:sp>
            <p:nvSpPr>
              <p:cNvPr id="292" name="Oval 205"/>
              <p:cNvSpPr/>
              <p:nvPr/>
            </p:nvSpPr>
            <p:spPr>
              <a:xfrm>
                <a:off x="2819520" y="4841640"/>
                <a:ext cx="498240" cy="481320"/>
              </a:xfrm>
              <a:prstGeom prst="ellipse">
                <a:avLst/>
              </a:prstGeom>
              <a:gradFill rotWithShape="0">
                <a:gsLst>
                  <a:gs pos="0">
                    <a:srgbClr val="3e5627"/>
                  </a:gs>
                  <a:gs pos="100000">
                    <a:srgbClr val="efb04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AutoShape 206"/>
              <p:cNvSpPr/>
              <p:nvPr/>
            </p:nvSpPr>
            <p:spPr>
              <a:xfrm>
                <a:off x="3202200" y="4826160"/>
                <a:ext cx="4798440" cy="507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fb04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Oval 207"/>
            <p:cNvSpPr/>
            <p:nvPr/>
          </p:nvSpPr>
          <p:spPr>
            <a:xfrm>
              <a:off x="2893320" y="4911480"/>
              <a:ext cx="346320" cy="333000"/>
            </a:xfrm>
            <a:prstGeom prst="ellipse">
              <a:avLst/>
            </a:prstGeom>
            <a:gradFill rotWithShape="0">
              <a:gsLst>
                <a:gs pos="0">
                  <a:srgbClr val="9ac664"/>
                </a:gs>
                <a:gs pos="100000">
                  <a:srgbClr val="7a8a9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208"/>
            <p:cNvSpPr/>
            <p:nvPr/>
          </p:nvSpPr>
          <p:spPr>
            <a:xfrm>
              <a:off x="2899080" y="4898880"/>
              <a:ext cx="250560" cy="243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9940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197"/>
          <p:cNvGrpSpPr/>
          <p:nvPr/>
        </p:nvGrpSpPr>
        <p:grpSpPr>
          <a:xfrm>
            <a:off x="3124080" y="3581280"/>
            <a:ext cx="5105160" cy="507960"/>
            <a:chOff x="3124080" y="3581280"/>
            <a:chExt cx="5105160" cy="507960"/>
          </a:xfrm>
        </p:grpSpPr>
        <p:grpSp>
          <p:nvGrpSpPr>
            <p:cNvPr id="297" name="Group 198"/>
            <p:cNvGrpSpPr/>
            <p:nvPr/>
          </p:nvGrpSpPr>
          <p:grpSpPr>
            <a:xfrm>
              <a:off x="3124080" y="3581280"/>
              <a:ext cx="5105160" cy="507960"/>
              <a:chOff x="3124080" y="3581280"/>
              <a:chExt cx="5105160" cy="507960"/>
            </a:xfrm>
          </p:grpSpPr>
          <p:sp>
            <p:nvSpPr>
              <p:cNvPr id="298" name="Oval 199"/>
              <p:cNvSpPr/>
              <p:nvPr/>
            </p:nvSpPr>
            <p:spPr>
              <a:xfrm>
                <a:off x="3124080" y="3596760"/>
                <a:ext cx="489960" cy="481320"/>
              </a:xfrm>
              <a:prstGeom prst="ellipse">
                <a:avLst/>
              </a:prstGeom>
              <a:gradFill rotWithShape="0">
                <a:gsLst>
                  <a:gs pos="0">
                    <a:srgbClr val="3e5627"/>
                  </a:gs>
                  <a:gs pos="100000">
                    <a:srgbClr val="efb04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AutoShape 200"/>
              <p:cNvSpPr/>
              <p:nvPr/>
            </p:nvSpPr>
            <p:spPr>
              <a:xfrm>
                <a:off x="3499560" y="3581280"/>
                <a:ext cx="4729680" cy="507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fb04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Oval 201"/>
            <p:cNvSpPr/>
            <p:nvPr/>
          </p:nvSpPr>
          <p:spPr>
            <a:xfrm>
              <a:off x="3196800" y="3666600"/>
              <a:ext cx="341280" cy="333000"/>
            </a:xfrm>
            <a:prstGeom prst="ellipse">
              <a:avLst/>
            </a:prstGeom>
            <a:gradFill rotWithShape="0">
              <a:gsLst>
                <a:gs pos="0">
                  <a:srgbClr val="9ac664"/>
                </a:gs>
                <a:gs pos="100000">
                  <a:srgbClr val="7a8a9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02"/>
            <p:cNvSpPr/>
            <p:nvPr/>
          </p:nvSpPr>
          <p:spPr>
            <a:xfrm>
              <a:off x="3202560" y="3654000"/>
              <a:ext cx="246960" cy="243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9940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7399b"/>
                </a:solidFill>
                <a:latin typeface="楷体"/>
                <a:ea typeface="楷体"/>
              </a:rPr>
              <a:t>无线局域网网络介绍</a:t>
            </a:r>
            <a:endParaRPr b="1" lang="en-US" sz="44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ireless Local Area Networ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90"/>
          <p:cNvSpPr/>
          <p:nvPr/>
        </p:nvSpPr>
        <p:spPr>
          <a:xfrm rot="5400000">
            <a:off x="-1412640" y="1626840"/>
            <a:ext cx="4824360" cy="4646880"/>
          </a:xfrm>
          <a:prstGeom prst="pie">
            <a:avLst/>
          </a:prstGeom>
          <a:gradFill rotWithShape="0">
            <a:gsLst>
              <a:gs pos="0">
                <a:srgbClr val="efb04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191"/>
          <p:cNvGrpSpPr/>
          <p:nvPr/>
        </p:nvGrpSpPr>
        <p:grpSpPr>
          <a:xfrm>
            <a:off x="2666880" y="2286000"/>
            <a:ext cx="5181480" cy="507960"/>
            <a:chOff x="2666880" y="2286000"/>
            <a:chExt cx="5181480" cy="507960"/>
          </a:xfrm>
        </p:grpSpPr>
        <p:grpSp>
          <p:nvGrpSpPr>
            <p:cNvPr id="306" name="Group 192"/>
            <p:cNvGrpSpPr/>
            <p:nvPr/>
          </p:nvGrpSpPr>
          <p:grpSpPr>
            <a:xfrm>
              <a:off x="2666880" y="2286000"/>
              <a:ext cx="5181480" cy="507960"/>
              <a:chOff x="2666880" y="2286000"/>
              <a:chExt cx="5181480" cy="507960"/>
            </a:xfrm>
          </p:grpSpPr>
          <p:sp>
            <p:nvSpPr>
              <p:cNvPr id="307" name="Oval 193"/>
              <p:cNvSpPr/>
              <p:nvPr/>
            </p:nvSpPr>
            <p:spPr>
              <a:xfrm>
                <a:off x="2666880" y="2301480"/>
                <a:ext cx="498600" cy="481320"/>
              </a:xfrm>
              <a:prstGeom prst="ellipse">
                <a:avLst/>
              </a:prstGeom>
              <a:gradFill rotWithShape="0">
                <a:gsLst>
                  <a:gs pos="0">
                    <a:srgbClr val="3e5627"/>
                  </a:gs>
                  <a:gs pos="100000">
                    <a:srgbClr val="efb04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AutoShape 194"/>
              <p:cNvSpPr/>
              <p:nvPr/>
            </p:nvSpPr>
            <p:spPr>
              <a:xfrm>
                <a:off x="3049560" y="2286000"/>
                <a:ext cx="4798800" cy="507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fb04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Oval 195"/>
            <p:cNvSpPr/>
            <p:nvPr/>
          </p:nvSpPr>
          <p:spPr>
            <a:xfrm>
              <a:off x="2740680" y="2371320"/>
              <a:ext cx="346320" cy="333000"/>
            </a:xfrm>
            <a:prstGeom prst="ellipse">
              <a:avLst/>
            </a:prstGeom>
            <a:gradFill rotWithShape="0">
              <a:gsLst>
                <a:gs pos="0">
                  <a:srgbClr val="9ac664"/>
                </a:gs>
                <a:gs pos="100000">
                  <a:srgbClr val="7a8a9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96"/>
            <p:cNvSpPr/>
            <p:nvPr/>
          </p:nvSpPr>
          <p:spPr>
            <a:xfrm>
              <a:off x="2746440" y="2358720"/>
              <a:ext cx="250560" cy="243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9940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AutoShape 221"/>
          <p:cNvSpPr/>
          <p:nvPr/>
        </p:nvSpPr>
        <p:spPr>
          <a:xfrm>
            <a:off x="3581280" y="3657600"/>
            <a:ext cx="3300480" cy="35892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无线网络管理控制介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222"/>
          <p:cNvSpPr/>
          <p:nvPr/>
        </p:nvSpPr>
        <p:spPr>
          <a:xfrm>
            <a:off x="3429000" y="4952880"/>
            <a:ext cx="2865600" cy="30816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无线网络的安全保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224"/>
          <p:cNvSpPr/>
          <p:nvPr/>
        </p:nvSpPr>
        <p:spPr>
          <a:xfrm>
            <a:off x="3132000" y="2362320"/>
            <a:ext cx="3726000" cy="3808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无线网络的带宽与出口带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225"/>
          <p:cNvSpPr/>
          <p:nvPr/>
        </p:nvSpPr>
        <p:spPr>
          <a:xfrm>
            <a:off x="3132000" y="5364000"/>
            <a:ext cx="1190880" cy="316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7399b"/>
                </a:solidFill>
                <a:latin typeface="宋体"/>
                <a:ea typeface="宋体"/>
              </a:rPr>
              <a:t> </a:t>
            </a:r>
            <a:r>
              <a:rPr b="1" lang="ko-KR" sz="2400" spc="-1" strike="noStrike">
                <a:solidFill>
                  <a:srgbClr val="37399b"/>
                </a:solidFill>
                <a:latin typeface="Arial"/>
                <a:ea typeface="Guli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226"/>
          <p:cNvSpPr/>
          <p:nvPr/>
        </p:nvSpPr>
        <p:spPr>
          <a:xfrm rot="5400000">
            <a:off x="1250280" y="1079280"/>
            <a:ext cx="301680" cy="9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377" y="566"/>
                  <a:pt x="3153" y="5080"/>
                  <a:pt x="3153" y="10800"/>
                </a:cubicBezTo>
                <a:cubicBezTo>
                  <a:pt x="3153" y="16520"/>
                  <a:pt x="12377" y="2103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99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27"/>
          <p:cNvSpPr/>
          <p:nvPr/>
        </p:nvSpPr>
        <p:spPr>
          <a:xfrm>
            <a:off x="1147320" y="1398600"/>
            <a:ext cx="72900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无线局域网网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8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7399b"/>
                </a:solidFill>
                <a:latin typeface="楷体"/>
                <a:ea typeface="楷体"/>
              </a:rPr>
              <a:t>无线局域网设计方案</a:t>
            </a:r>
            <a:endParaRPr b="1" lang="en-US" sz="44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规划示意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4"/>
          <p:cNvSpPr/>
          <p:nvPr/>
        </p:nvSpPr>
        <p:spPr>
          <a:xfrm>
            <a:off x="2454120" y="2147760"/>
            <a:ext cx="3633840" cy="3705480"/>
          </a:xfrm>
          <a:prstGeom prst="ellipse">
            <a:avLst/>
          </a:prstGeom>
          <a:gradFill rotWithShape="0">
            <a:gsLst>
              <a:gs pos="0">
                <a:srgbClr val="9ac664"/>
              </a:gs>
              <a:gs pos="100000">
                <a:srgbClr val="e5eb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5"/>
          <p:cNvGrpSpPr/>
          <p:nvPr/>
        </p:nvGrpSpPr>
        <p:grpSpPr>
          <a:xfrm>
            <a:off x="3344760" y="3073320"/>
            <a:ext cx="1852560" cy="1995480"/>
            <a:chOff x="3344760" y="3073320"/>
            <a:chExt cx="1852560" cy="1995480"/>
          </a:xfrm>
        </p:grpSpPr>
        <p:sp>
          <p:nvSpPr>
            <p:cNvPr id="321" name="Oval 6"/>
            <p:cNvSpPr/>
            <p:nvPr/>
          </p:nvSpPr>
          <p:spPr>
            <a:xfrm>
              <a:off x="3344760" y="3073320"/>
              <a:ext cx="1852560" cy="1995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42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7"/>
            <p:cNvSpPr/>
            <p:nvPr/>
          </p:nvSpPr>
          <p:spPr>
            <a:xfrm>
              <a:off x="3556440" y="3106440"/>
              <a:ext cx="1429200" cy="753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Text Box 8"/>
          <p:cNvSpPr/>
          <p:nvPr/>
        </p:nvSpPr>
        <p:spPr>
          <a:xfrm>
            <a:off x="3352680" y="3733920"/>
            <a:ext cx="1828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Arial"/>
                <a:ea typeface="宋体"/>
              </a:rPr>
              <a:t>设计原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组合 54"/>
          <p:cNvGrpSpPr/>
          <p:nvPr/>
        </p:nvGrpSpPr>
        <p:grpSpPr>
          <a:xfrm>
            <a:off x="37440" y="3581640"/>
            <a:ext cx="2993400" cy="838800"/>
            <a:chOff x="37440" y="3581640"/>
            <a:chExt cx="2993400" cy="838800"/>
          </a:xfrm>
        </p:grpSpPr>
        <p:grpSp>
          <p:nvGrpSpPr>
            <p:cNvPr id="325" name="Group 32"/>
            <p:cNvGrpSpPr/>
            <p:nvPr/>
          </p:nvGrpSpPr>
          <p:grpSpPr>
            <a:xfrm>
              <a:off x="1874880" y="3581640"/>
              <a:ext cx="824760" cy="838800"/>
              <a:chOff x="1874880" y="3581640"/>
              <a:chExt cx="824760" cy="838800"/>
            </a:xfrm>
          </p:grpSpPr>
          <p:grpSp>
            <p:nvGrpSpPr>
              <p:cNvPr id="326" name="Group 33"/>
              <p:cNvGrpSpPr/>
              <p:nvPr/>
            </p:nvGrpSpPr>
            <p:grpSpPr>
              <a:xfrm>
                <a:off x="1874880" y="3581640"/>
                <a:ext cx="824760" cy="838800"/>
                <a:chOff x="1874880" y="3581640"/>
                <a:chExt cx="824760" cy="838800"/>
              </a:xfrm>
            </p:grpSpPr>
            <p:sp>
              <p:nvSpPr>
                <p:cNvPr id="327" name="Oval 34"/>
                <p:cNvSpPr/>
                <p:nvPr/>
              </p:nvSpPr>
              <p:spPr>
                <a:xfrm rot="20173800">
                  <a:off x="1978560" y="3678480"/>
                  <a:ext cx="617400" cy="644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9de9"/>
                    </a:gs>
                    <a:gs pos="100000">
                      <a:srgbClr val="653e2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Freeform 35"/>
                <p:cNvSpPr/>
                <p:nvPr/>
              </p:nvSpPr>
              <p:spPr>
                <a:xfrm rot="20173800">
                  <a:off x="1999800" y="3745080"/>
                  <a:ext cx="483840" cy="241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99d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9" name="Text Box 36"/>
              <p:cNvSpPr/>
              <p:nvPr/>
            </p:nvSpPr>
            <p:spPr>
              <a:xfrm>
                <a:off x="2083680" y="37404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39"/>
            <p:cNvGrpSpPr/>
            <p:nvPr/>
          </p:nvGrpSpPr>
          <p:grpSpPr>
            <a:xfrm>
              <a:off x="2670120" y="3889080"/>
              <a:ext cx="360720" cy="160920"/>
              <a:chOff x="2670120" y="3889080"/>
              <a:chExt cx="360720" cy="160920"/>
            </a:xfrm>
          </p:grpSpPr>
          <p:sp>
            <p:nvSpPr>
              <p:cNvPr id="331" name="Oval 40"/>
              <p:cNvSpPr/>
              <p:nvPr/>
            </p:nvSpPr>
            <p:spPr>
              <a:xfrm rot="16801200">
                <a:off x="2682360" y="3914280"/>
                <a:ext cx="122400" cy="127800"/>
              </a:xfrm>
              <a:prstGeom prst="ellipse">
                <a:avLst/>
              </a:prstGeom>
              <a:gradFill rotWithShape="0">
                <a:gsLst>
                  <a:gs pos="0">
                    <a:srgbClr val="699de9"/>
                  </a:gs>
                  <a:gs pos="100000">
                    <a:srgbClr val="804e2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Oval 41"/>
              <p:cNvSpPr/>
              <p:nvPr/>
            </p:nvSpPr>
            <p:spPr>
              <a:xfrm rot="16801200">
                <a:off x="2887920" y="3906360"/>
                <a:ext cx="139320" cy="123840"/>
              </a:xfrm>
              <a:prstGeom prst="ellipse">
                <a:avLst/>
              </a:prstGeom>
              <a:gradFill rotWithShape="0">
                <a:gsLst>
                  <a:gs pos="0">
                    <a:srgbClr val="699de9"/>
                  </a:gs>
                  <a:gs pos="100000">
                    <a:srgbClr val="6c422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Text Box 47"/>
            <p:cNvSpPr/>
            <p:nvPr/>
          </p:nvSpPr>
          <p:spPr>
            <a:xfrm>
              <a:off x="37440" y="3732120"/>
              <a:ext cx="201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设计要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55"/>
          <p:cNvGrpSpPr/>
          <p:nvPr/>
        </p:nvGrpSpPr>
        <p:grpSpPr>
          <a:xfrm>
            <a:off x="2895480" y="990720"/>
            <a:ext cx="2971800" cy="1928880"/>
            <a:chOff x="2895480" y="990720"/>
            <a:chExt cx="2971800" cy="1928880"/>
          </a:xfrm>
        </p:grpSpPr>
        <p:grpSp>
          <p:nvGrpSpPr>
            <p:cNvPr id="335" name="Group 9"/>
            <p:cNvGrpSpPr/>
            <p:nvPr/>
          </p:nvGrpSpPr>
          <p:grpSpPr>
            <a:xfrm>
              <a:off x="3902040" y="1790280"/>
              <a:ext cx="617400" cy="592200"/>
              <a:chOff x="3902040" y="1790280"/>
              <a:chExt cx="617400" cy="592200"/>
            </a:xfrm>
          </p:grpSpPr>
          <p:grpSp>
            <p:nvGrpSpPr>
              <p:cNvPr id="336" name="Group 10"/>
              <p:cNvGrpSpPr/>
              <p:nvPr/>
            </p:nvGrpSpPr>
            <p:grpSpPr>
              <a:xfrm>
                <a:off x="3902040" y="1790280"/>
                <a:ext cx="617400" cy="592200"/>
                <a:chOff x="3902040" y="1790280"/>
                <a:chExt cx="617400" cy="592200"/>
              </a:xfrm>
            </p:grpSpPr>
            <p:sp>
              <p:nvSpPr>
                <p:cNvPr id="337" name="Oval 11"/>
                <p:cNvSpPr/>
                <p:nvPr/>
              </p:nvSpPr>
              <p:spPr>
                <a:xfrm>
                  <a:off x="3902040" y="1790280"/>
                  <a:ext cx="617400" cy="59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fb049"/>
                    </a:gs>
                    <a:gs pos="100000">
                      <a:srgbClr val="384f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Freeform 12"/>
                <p:cNvSpPr/>
                <p:nvPr/>
              </p:nvSpPr>
              <p:spPr>
                <a:xfrm>
                  <a:off x="3972600" y="1800000"/>
                  <a:ext cx="476280" cy="223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fb04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9" name="Text Box 13"/>
              <p:cNvSpPr/>
              <p:nvPr/>
            </p:nvSpPr>
            <p:spPr>
              <a:xfrm>
                <a:off x="4031280" y="18828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42"/>
            <p:cNvGrpSpPr/>
            <p:nvPr/>
          </p:nvGrpSpPr>
          <p:grpSpPr>
            <a:xfrm>
              <a:off x="4140720" y="2503080"/>
              <a:ext cx="174600" cy="416520"/>
              <a:chOff x="4140720" y="2503080"/>
              <a:chExt cx="174600" cy="416520"/>
            </a:xfrm>
          </p:grpSpPr>
          <p:sp>
            <p:nvSpPr>
              <p:cNvPr id="341" name="Oval 43"/>
              <p:cNvSpPr/>
              <p:nvPr/>
            </p:nvSpPr>
            <p:spPr>
              <a:xfrm rot="18226800">
                <a:off x="4173840" y="2523600"/>
                <a:ext cx="115560" cy="123480"/>
              </a:xfrm>
              <a:prstGeom prst="ellipse">
                <a:avLst/>
              </a:prstGeom>
              <a:gradFill rotWithShape="0">
                <a:gsLst>
                  <a:gs pos="0">
                    <a:srgbClr val="efb049"/>
                  </a:gs>
                  <a:gs pos="100000">
                    <a:srgbClr val="3c552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Oval 44"/>
              <p:cNvSpPr/>
              <p:nvPr/>
            </p:nvSpPr>
            <p:spPr>
              <a:xfrm rot="18226800">
                <a:off x="4165920" y="2774520"/>
                <a:ext cx="117360" cy="123480"/>
              </a:xfrm>
              <a:prstGeom prst="ellipse">
                <a:avLst/>
              </a:prstGeom>
              <a:gradFill rotWithShape="0">
                <a:gsLst>
                  <a:gs pos="0">
                    <a:srgbClr val="efb049"/>
                  </a:gs>
                  <a:gs pos="100000">
                    <a:srgbClr val="415a2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Text Box 48"/>
            <p:cNvSpPr/>
            <p:nvPr/>
          </p:nvSpPr>
          <p:spPr>
            <a:xfrm>
              <a:off x="2895480" y="990720"/>
              <a:ext cx="2971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设计理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组合 56"/>
          <p:cNvGrpSpPr/>
          <p:nvPr/>
        </p:nvGrpSpPr>
        <p:grpSpPr>
          <a:xfrm>
            <a:off x="5247000" y="3606840"/>
            <a:ext cx="3589920" cy="784800"/>
            <a:chOff x="5247000" y="3606840"/>
            <a:chExt cx="3589920" cy="784800"/>
          </a:xfrm>
        </p:grpSpPr>
        <p:grpSp>
          <p:nvGrpSpPr>
            <p:cNvPr id="345" name="Group 22"/>
            <p:cNvGrpSpPr/>
            <p:nvPr/>
          </p:nvGrpSpPr>
          <p:grpSpPr>
            <a:xfrm>
              <a:off x="5738760" y="3606840"/>
              <a:ext cx="761400" cy="784800"/>
              <a:chOff x="5738760" y="3606840"/>
              <a:chExt cx="761400" cy="784800"/>
            </a:xfrm>
          </p:grpSpPr>
          <p:grpSp>
            <p:nvGrpSpPr>
              <p:cNvPr id="346" name="Group 23"/>
              <p:cNvGrpSpPr/>
              <p:nvPr/>
            </p:nvGrpSpPr>
            <p:grpSpPr>
              <a:xfrm>
                <a:off x="5738760" y="3606840"/>
                <a:ext cx="761400" cy="784800"/>
                <a:chOff x="5738760" y="3606840"/>
                <a:chExt cx="761400" cy="784800"/>
              </a:xfrm>
            </p:grpSpPr>
            <p:sp>
              <p:nvSpPr>
                <p:cNvPr id="347" name="Oval 24"/>
                <p:cNvSpPr/>
                <p:nvPr/>
              </p:nvSpPr>
              <p:spPr>
                <a:xfrm rot="902400">
                  <a:off x="5812200" y="3675240"/>
                  <a:ext cx="614160" cy="647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476dc"/>
                    </a:gs>
                    <a:gs pos="100000">
                      <a:srgbClr val="989fe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25"/>
                <p:cNvSpPr/>
                <p:nvPr/>
              </p:nvSpPr>
              <p:spPr>
                <a:xfrm rot="902400">
                  <a:off x="5932080" y="3692520"/>
                  <a:ext cx="474120" cy="2448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476d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9" name="Text Box 26"/>
              <p:cNvSpPr/>
              <p:nvPr/>
            </p:nvSpPr>
            <p:spPr>
              <a:xfrm rot="159000">
                <a:off x="5911560" y="374472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Oval 45"/>
            <p:cNvSpPr/>
            <p:nvPr/>
          </p:nvSpPr>
          <p:spPr>
            <a:xfrm rot="19129800">
              <a:off x="5497200" y="3972960"/>
              <a:ext cx="122040" cy="125280"/>
            </a:xfrm>
            <a:prstGeom prst="ellipse">
              <a:avLst/>
            </a:prstGeom>
            <a:gradFill rotWithShape="0">
              <a:gsLst>
                <a:gs pos="0">
                  <a:srgbClr val="7881dd"/>
                </a:gs>
                <a:gs pos="100000">
                  <a:srgbClr val="7476d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46"/>
            <p:cNvSpPr/>
            <p:nvPr/>
          </p:nvSpPr>
          <p:spPr>
            <a:xfrm rot="19129800">
              <a:off x="5272200" y="4033080"/>
              <a:ext cx="122040" cy="123480"/>
            </a:xfrm>
            <a:prstGeom prst="ellipse">
              <a:avLst/>
            </a:prstGeom>
            <a:gradFill rotWithShape="0">
              <a:gsLst>
                <a:gs pos="0">
                  <a:srgbClr val="7881dd"/>
                </a:gs>
                <a:gs pos="100000">
                  <a:srgbClr val="7476d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49"/>
            <p:cNvSpPr/>
            <p:nvPr/>
          </p:nvSpPr>
          <p:spPr>
            <a:xfrm>
              <a:off x="6321960" y="3729960"/>
              <a:ext cx="251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设计方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60"/>
          <p:cNvGrpSpPr/>
          <p:nvPr/>
        </p:nvGrpSpPr>
        <p:grpSpPr>
          <a:xfrm>
            <a:off x="2743200" y="5077800"/>
            <a:ext cx="3048120" cy="1407960"/>
            <a:chOff x="2743200" y="5077800"/>
            <a:chExt cx="3048120" cy="1407960"/>
          </a:xfrm>
        </p:grpSpPr>
        <p:grpSp>
          <p:nvGrpSpPr>
            <p:cNvPr id="354" name="组合 58"/>
            <p:cNvGrpSpPr/>
            <p:nvPr/>
          </p:nvGrpSpPr>
          <p:grpSpPr>
            <a:xfrm>
              <a:off x="4161240" y="5077800"/>
              <a:ext cx="186480" cy="337680"/>
              <a:chOff x="4161240" y="5077800"/>
              <a:chExt cx="186480" cy="337680"/>
            </a:xfrm>
          </p:grpSpPr>
          <p:sp>
            <p:nvSpPr>
              <p:cNvPr id="355" name="Oval 37"/>
              <p:cNvSpPr/>
              <p:nvPr/>
            </p:nvSpPr>
            <p:spPr>
              <a:xfrm rot="21385200">
                <a:off x="4165560" y="5262480"/>
                <a:ext cx="177480" cy="14760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80808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Oval 38"/>
              <p:cNvSpPr/>
              <p:nvPr/>
            </p:nvSpPr>
            <p:spPr>
              <a:xfrm rot="18226800">
                <a:off x="4219560" y="5083200"/>
                <a:ext cx="79200" cy="12384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80808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组合 59"/>
            <p:cNvGrpSpPr/>
            <p:nvPr/>
          </p:nvGrpSpPr>
          <p:grpSpPr>
            <a:xfrm>
              <a:off x="2743200" y="5486400"/>
              <a:ext cx="3048120" cy="999360"/>
              <a:chOff x="2743200" y="5486400"/>
              <a:chExt cx="3048120" cy="999360"/>
            </a:xfrm>
          </p:grpSpPr>
          <p:grpSp>
            <p:nvGrpSpPr>
              <p:cNvPr id="358" name="Group 27"/>
              <p:cNvGrpSpPr/>
              <p:nvPr/>
            </p:nvGrpSpPr>
            <p:grpSpPr>
              <a:xfrm>
                <a:off x="3945960" y="5486400"/>
                <a:ext cx="587160" cy="582480"/>
                <a:chOff x="3945960" y="5486400"/>
                <a:chExt cx="587160" cy="582480"/>
              </a:xfrm>
            </p:grpSpPr>
            <p:grpSp>
              <p:nvGrpSpPr>
                <p:cNvPr id="359" name="Group 28"/>
                <p:cNvGrpSpPr/>
                <p:nvPr/>
              </p:nvGrpSpPr>
              <p:grpSpPr>
                <a:xfrm>
                  <a:off x="3945960" y="5486400"/>
                  <a:ext cx="587160" cy="582480"/>
                  <a:chOff x="3945960" y="5486400"/>
                  <a:chExt cx="587160" cy="582480"/>
                </a:xfrm>
              </p:grpSpPr>
              <p:sp>
                <p:nvSpPr>
                  <p:cNvPr id="360" name="Oval 29"/>
                  <p:cNvSpPr/>
                  <p:nvPr/>
                </p:nvSpPr>
                <p:spPr>
                  <a:xfrm>
                    <a:off x="3945960" y="5486400"/>
                    <a:ext cx="587160" cy="582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57575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Freeform 30"/>
                  <p:cNvSpPr/>
                  <p:nvPr/>
                </p:nvSpPr>
                <p:spPr>
                  <a:xfrm>
                    <a:off x="3990240" y="5486400"/>
                    <a:ext cx="452880" cy="219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2" name="Text Box 31"/>
                <p:cNvSpPr/>
                <p:nvPr/>
              </p:nvSpPr>
              <p:spPr>
                <a:xfrm>
                  <a:off x="4040280" y="5522040"/>
                  <a:ext cx="40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Verdana"/>
                      <a:ea typeface="宋体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" name="Text Box 51"/>
              <p:cNvSpPr/>
              <p:nvPr/>
            </p:nvSpPr>
            <p:spPr>
              <a:xfrm>
                <a:off x="2743200" y="6026040"/>
                <a:ext cx="304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网络安全及管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7399b"/>
                </a:solidFill>
                <a:latin typeface="楷体"/>
                <a:ea typeface="楷体"/>
              </a:rPr>
              <a:t>无线局域网性能测试</a:t>
            </a:r>
            <a:endParaRPr b="1" lang="en-US" sz="44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533520" y="3429000"/>
            <a:ext cx="1981080" cy="2162160"/>
            <a:chOff x="533520" y="3429000"/>
            <a:chExt cx="1981080" cy="2162160"/>
          </a:xfrm>
        </p:grpSpPr>
        <p:sp>
          <p:nvSpPr>
            <p:cNvPr id="366" name=""/>
            <p:cNvSpPr/>
            <p:nvPr/>
          </p:nvSpPr>
          <p:spPr>
            <a:xfrm>
              <a:off x="533520" y="3429000"/>
              <a:ext cx="1981080" cy="2162160"/>
            </a:xfrm>
            <a:custGeom>
              <a:avLst/>
              <a:gdLst>
                <a:gd name="textAreaLeft" fmla="*/ 96480 w 1981080"/>
                <a:gd name="textAreaRight" fmla="*/ 1884600 w 1981080"/>
                <a:gd name="textAreaTop" fmla="*/ 96480 h 2162160"/>
                <a:gd name="textAreaBottom" fmla="*/ 2065680 h 2162160"/>
              </a:gdLst>
              <a:ahLst/>
              <a:rect l="textAreaLeft" t="textAreaTop" r="textAreaRight" b="textAreaBottom"/>
              <a:pathLst>
                <a:path w="21600" h="23574">
                  <a:moveTo>
                    <a:pt x="3600" y="0"/>
                  </a:moveTo>
                  <a:arcTo wR="3600" hR="3600" stAng="16200000" swAng="-5400000"/>
                  <a:lnTo>
                    <a:pt x="0" y="19974"/>
                  </a:lnTo>
                  <a:arcTo wR="3600" hR="3600" stAng="10800000" swAng="-5400000"/>
                  <a:lnTo>
                    <a:pt x="18000" y="235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33960" y="3467520"/>
              <a:ext cx="1766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无线局域网网速测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2514600" y="27432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edef7"/>
              </a:gs>
              <a:gs pos="100000">
                <a:srgbClr val="699de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5790600" y="28195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edef7"/>
              </a:gs>
              <a:gs pos="100000">
                <a:srgbClr val="699de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3200400" y="1523880"/>
            <a:ext cx="2998440" cy="1601640"/>
            <a:chOff x="3200400" y="1523880"/>
            <a:chExt cx="2998440" cy="1601640"/>
          </a:xfrm>
        </p:grpSpPr>
        <p:grpSp>
          <p:nvGrpSpPr>
            <p:cNvPr id="371" name=""/>
            <p:cNvGrpSpPr/>
            <p:nvPr/>
          </p:nvGrpSpPr>
          <p:grpSpPr>
            <a:xfrm>
              <a:off x="3200400" y="1666800"/>
              <a:ext cx="2998440" cy="1458720"/>
              <a:chOff x="3200400" y="1666800"/>
              <a:chExt cx="2998440" cy="1458720"/>
            </a:xfrm>
          </p:grpSpPr>
          <p:sp>
            <p:nvSpPr>
              <p:cNvPr id="372" name=""/>
              <p:cNvSpPr/>
              <p:nvPr/>
            </p:nvSpPr>
            <p:spPr>
              <a:xfrm>
                <a:off x="3233160" y="171324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38396a"/>
                  </a:gs>
                  <a:gs pos="100000">
                    <a:srgbClr val="7476d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200400" y="16668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7476dc"/>
                  </a:gs>
                  <a:gs pos="100000">
                    <a:srgbClr val="c0c1e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3341880" y="152388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048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376800" y="153180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c9dbf6"/>
                </a:gs>
                <a:gs pos="100000">
                  <a:srgbClr val="699de9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03800" y="154476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48235"/>
                  </a:srgbClr>
                </a:gs>
                <a:gs pos="100000">
                  <a:srgbClr val="527b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35560" y="157176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886200" y="18288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三个方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6781680" y="3200400"/>
            <a:ext cx="2057040" cy="2103480"/>
            <a:chOff x="6781680" y="3200400"/>
            <a:chExt cx="2057040" cy="2103480"/>
          </a:xfrm>
        </p:grpSpPr>
        <p:sp>
          <p:nvSpPr>
            <p:cNvPr id="380" name=""/>
            <p:cNvSpPr/>
            <p:nvPr/>
          </p:nvSpPr>
          <p:spPr>
            <a:xfrm>
              <a:off x="6781680" y="3200400"/>
              <a:ext cx="1976400" cy="2103480"/>
            </a:xfrm>
            <a:custGeom>
              <a:avLst/>
              <a:gdLst>
                <a:gd name="textAreaLeft" fmla="*/ 96480 w 1976400"/>
                <a:gd name="textAreaRight" fmla="*/ 1879920 w 1976400"/>
                <a:gd name="textAreaTop" fmla="*/ 96480 h 2103480"/>
                <a:gd name="textAreaBottom" fmla="*/ 2007000 h 2103480"/>
              </a:gdLst>
              <a:ahLst/>
              <a:rect l="textAreaLeft" t="textAreaTop" r="textAreaRight" b="textAreaBottom"/>
              <a:pathLst>
                <a:path w="21600" h="22989">
                  <a:moveTo>
                    <a:pt x="3600" y="0"/>
                  </a:moveTo>
                  <a:arcTo wR="3600" hR="3600" stAng="16200000" swAng="-5400000"/>
                  <a:lnTo>
                    <a:pt x="0" y="19389"/>
                  </a:lnTo>
                  <a:arcTo wR="3600" hR="3600" stAng="10800000" swAng="-5400000"/>
                  <a:lnTo>
                    <a:pt x="18000" y="229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797880" y="3292920"/>
              <a:ext cx="2040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无线局域网管理测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733920" y="4572000"/>
            <a:ext cx="2057040" cy="2103480"/>
            <a:chOff x="3733920" y="4572000"/>
            <a:chExt cx="2057040" cy="2103480"/>
          </a:xfrm>
        </p:grpSpPr>
        <p:sp>
          <p:nvSpPr>
            <p:cNvPr id="383" name=""/>
            <p:cNvSpPr/>
            <p:nvPr/>
          </p:nvSpPr>
          <p:spPr>
            <a:xfrm>
              <a:off x="3733920" y="4572000"/>
              <a:ext cx="1976400" cy="2103480"/>
            </a:xfrm>
            <a:custGeom>
              <a:avLst/>
              <a:gdLst>
                <a:gd name="textAreaLeft" fmla="*/ 96480 w 1976400"/>
                <a:gd name="textAreaRight" fmla="*/ 1879920 w 1976400"/>
                <a:gd name="textAreaTop" fmla="*/ 96480 h 2103480"/>
                <a:gd name="textAreaBottom" fmla="*/ 2007000 h 2103480"/>
              </a:gdLst>
              <a:ahLst/>
              <a:rect l="textAreaLeft" t="textAreaTop" r="textAreaRight" b="textAreaBottom"/>
              <a:pathLst>
                <a:path w="21600" h="22989">
                  <a:moveTo>
                    <a:pt x="3600" y="0"/>
                  </a:moveTo>
                  <a:arcTo wR="3600" hR="3600" stAng="16200000" swAng="-5400000"/>
                  <a:lnTo>
                    <a:pt x="0" y="19389"/>
                  </a:lnTo>
                  <a:arcTo wR="3600" hR="3600" stAng="10800000" swAng="-5400000"/>
                  <a:lnTo>
                    <a:pt x="18000" y="229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750120" y="4664520"/>
              <a:ext cx="2040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无线局域网安全测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4343400" y="3124080"/>
            <a:ext cx="719280" cy="1419480"/>
          </a:xfrm>
          <a:prstGeom prst="downArrow">
            <a:avLst>
              <a:gd name="adj1" fmla="val 50000"/>
              <a:gd name="adj2" fmla="val 49337"/>
            </a:avLst>
          </a:prstGeom>
          <a:gradFill rotWithShape="0">
            <a:gsLst>
              <a:gs pos="0">
                <a:srgbClr val="dff0f1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ThemeGallery</dc:creator>
  <dc:description/>
  <dc:language>en-US</dc:language>
  <cp:lastModifiedBy>User</cp:lastModifiedBy>
  <dcterms:modified xsi:type="dcterms:W3CDTF">2012-04-20T11:52:29Z</dcterms:modified>
  <cp:revision>86</cp:revision>
  <dc:subject/>
  <dc:title>PowerPoint Template</dc:title>
</cp:coreProperties>
</file>