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A13E-922E-4391-9DFD-CF45748E8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BB29-9EF7-444D-9240-3763F306A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A21E-C214-4C71-8C95-4514388A5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4737-A014-4174-A61E-D3F025B78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82299-3B4B-411A-B877-8E3DC99DD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41D19-6AD2-4343-BBEB-44BF40C5D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96DB9-E005-479A-9008-E6EC16643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C4BF8-62BD-454E-B135-8664ECB58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708B3-3AF2-4E60-AE1C-561872236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E1207-E3A3-4784-8ACF-A9C2FDA8F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0D9B0-0ADA-43A1-BFE9-7D62A5FF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B17E-427A-47A1-A111-13A470087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CB8E7-C930-4431-AAA9-27492CDD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842FA-8E0B-42D7-960E-D95A9215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BF400-6ADE-49C3-BC73-A6161FC22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1DB15-9CF9-4CB1-89CD-800163418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696AC-4CF4-4C96-9A9E-EBD65D15F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F3A1-A7C8-4FB4-A79C-62F13F301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A088-D222-4428-8AEE-623EBCDBA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0924-1A02-4A0E-B015-D170AABB3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DE0C-C781-46C2-BB12-CCEC2B8E3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7533-D248-4C45-8F0A-40742151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765F-C6E6-487A-877D-87B839FD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435B-0911-4522-9A96-BB07011C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66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A8B86-84B2-48CC-A295-02B556F6CE6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66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09977-8B78-42C0-9D25-8A76EFDB666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7280" y="260280"/>
            <a:ext cx="88567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黑体"/>
                <a:ea typeface="黑体"/>
              </a:rPr>
              <a:t>直面困难</a:t>
            </a:r>
            <a:r>
              <a:rPr b="0" lang="en-US" sz="8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8000" spc="-1" strike="noStrike">
                <a:solidFill>
                  <a:srgbClr val="000000"/>
                </a:solidFill>
                <a:latin typeface="黑体"/>
                <a:ea typeface="黑体"/>
              </a:rPr>
              <a:t>追逐梦想</a:t>
            </a:r>
            <a:endParaRPr b="0" lang="en-US" sz="8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12400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66"/>
                </a:solidFill>
                <a:latin typeface="黑体"/>
                <a:ea typeface="黑体"/>
              </a:rPr>
              <a:t>高一</a:t>
            </a:r>
            <a:r>
              <a:rPr b="0" lang="en-US" sz="5400" spc="-1" strike="noStrike">
                <a:solidFill>
                  <a:srgbClr val="ffff66"/>
                </a:solidFill>
                <a:latin typeface="黑体"/>
                <a:ea typeface="黑体"/>
              </a:rPr>
              <a:t>(16)</a:t>
            </a:r>
            <a:r>
              <a:rPr b="0" lang="zh-CN" sz="5400" spc="-1" strike="noStrike">
                <a:solidFill>
                  <a:srgbClr val="ffff66"/>
                </a:solidFill>
                <a:latin typeface="黑体"/>
                <a:ea typeface="黑体"/>
              </a:rPr>
              <a:t>班主题班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2051"/>
          <p:cNvSpPr/>
          <p:nvPr/>
        </p:nvSpPr>
        <p:spPr>
          <a:xfrm>
            <a:off x="1879560" y="4797360"/>
            <a:ext cx="72644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2052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　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73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与梦想一起飞翔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与梦想一起飞翔，把目光朝向铸就成功的远方。志存高远，才没有年少无知的轻狂，才没有虚度光阴的荒唐；胸怀广阔，才不因挫折打击而迷惘，才不因失败伤痛而彷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与梦想一起飞翔，靠毅力挥动背负沉重的翅膀。如苍鹰搏击于长空，似海燕翱翔于汪洋。直面风吹雨打，历经夏暑秋凉。勇往直前，一如既往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与梦想一起飞翔，用真情呵护生命年轮的成长。将家的温馨贴在胸膛，朋友情谊似烈酒滚烫，师长风范如清茶悠长，让浓浓爱意洋溢年轻的心房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终有一天，梦想的花蕾会朵朵绽放，梦想的星辰会熠熠闪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老师寄语：</a:t>
            </a:r>
            <a:endParaRPr b="0" lang="en-US" sz="5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4920" y="1125360"/>
            <a:ext cx="8497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1001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黑体"/>
              </a:rPr>
              <a:t>把自己确立的远大理想分解成若干个小目标，再循序渐进地去实现它们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001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黑体"/>
              </a:rPr>
              <a:t>没有比脚更长的路，没有比自己更高的山！努力吧，树立目标，认识自我，超越自我。只要你自己相信自己“能”，就一定“能”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图片 102401" descr="FR809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文本框 102402"/>
          <p:cNvSpPr/>
          <p:nvPr/>
        </p:nvSpPr>
        <p:spPr>
          <a:xfrm>
            <a:off x="1676520" y="198108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阅读文摘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P93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做一粒咖啡豆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想一想：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身处逆境中，胡萝卜、鸡蛋、咖啡豆有什么不同的表现？你有何感悟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102403"/>
          <p:cNvSpPr/>
          <p:nvPr/>
        </p:nvSpPr>
        <p:spPr>
          <a:xfrm>
            <a:off x="2438280" y="1219320"/>
            <a:ext cx="495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加强阅读 理解吸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102404"/>
          <p:cNvSpPr/>
          <p:nvPr/>
        </p:nvSpPr>
        <p:spPr>
          <a:xfrm>
            <a:off x="1752480" y="41148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阅读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P21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苦难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记一记：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“你战胜苦难，它就是你的财富；苦难战胜你，它就是你的屈辱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图片 102405" descr=""/>
          <p:cNvPicPr/>
          <p:nvPr/>
        </p:nvPicPr>
        <p:blipFill>
          <a:blip r:embed="rId2"/>
          <a:stretch/>
        </p:blipFill>
        <p:spPr>
          <a:xfrm>
            <a:off x="685800" y="19051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14" name="图片 102406" descr=""/>
          <p:cNvPicPr/>
          <p:nvPr/>
        </p:nvPicPr>
        <p:blipFill>
          <a:blip r:embed="rId3"/>
          <a:stretch/>
        </p:blipFill>
        <p:spPr>
          <a:xfrm>
            <a:off x="685800" y="3733920"/>
            <a:ext cx="380880" cy="3808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周杰伦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黑体"/>
              </a:rPr>
              <a:t>《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蜗牛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黑体"/>
              </a:rPr>
              <a:t>》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-360" y="836640"/>
            <a:ext cx="50036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该不该搁下重重的壳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寻找到底哪里有蓝天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随着轻轻的风轻轻的飘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历经的伤都不感觉疼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要一步一步往上爬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等待阳光静静看着它的脸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小的天有大大的梦想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重重的壳裹着轻轻的仰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360" y="907920"/>
            <a:ext cx="403848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要一步一步往上爬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最高点乘着叶片往前飞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任风吹干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流过的泪和汗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总有一天我有属于我的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72713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4064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张敬轩</a:t>
            </a:r>
            <a:r>
              <a:rPr b="0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0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My way</a:t>
            </a:r>
            <a:r>
              <a:rPr b="0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8000" y="691920"/>
            <a:ext cx="47512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直在酝酿一直在盼望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爸爸和妈妈唯一的理想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二月第一天一九八一年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第一次对他们眨了眨眼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等待快点过去多少个明天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希望这个宝贝快快长大一点一点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身体要健康所有的事情都如所愿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by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长大以后就是小轩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will find my way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want a different way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er the wind ane rai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will be abrand new day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时候受伤有人心疼失落有人安慰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现在遇到困难自己就要学会面对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0" y="764640"/>
            <a:ext cx="41940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will find my way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want a different way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hing will stop me now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matter what they s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困难要用我的坚强和努力勇敢面对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现在用心去追感觉就对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"ll find my way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直就这样找我的方向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理会别人奇怪的眼光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直到有一天我忽然发现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梦想已经在实现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等待快点过去多少个明天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看着自己已经快快长大一点一点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的生活应该让我自己学会掌握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相信自己不怕风雨再多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54064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孙燕姿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黑体"/>
              </a:rPr>
              <a:t>《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逃亡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黑体"/>
              </a:rPr>
              <a:t>》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620280"/>
            <a:ext cx="477504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踩著月光打开车窗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离开这城市想找个解放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路开往最高那一座山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孤单的想像寂寞的逃亡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想是偶尔难免沮丧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想离开想躲起来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心里的期待总是填不满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看著山下千万的窗谁不曾感到失望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就算会彷徨也还要去闯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关于未来只有自己明白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8320" y="765000"/>
            <a:ext cx="41940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想让心情被现实打败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路开往最高那一座山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孤单的想像寂寞的逃亡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站在靠近天的顶端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张开手全部释放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月光取暖给自己力量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才发现关于梦的答案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直在自己手上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只有自己能让自己发光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5406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广 州 大 学 图 书 馆：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7" name="内容占位符 92165" descr="tsgjj_jpg"/>
          <p:cNvPicPr/>
          <p:nvPr/>
        </p:nvPicPr>
        <p:blipFill>
          <a:blip r:embed="rId1"/>
          <a:stretch/>
        </p:blipFill>
        <p:spPr>
          <a:xfrm>
            <a:off x="468360" y="907920"/>
            <a:ext cx="8280360" cy="58564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706800" y="228240"/>
            <a:ext cx="213516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广 州 大 学 钟 楼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228240"/>
            <a:ext cx="62532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内容占位符 94213" descr="钟楼"/>
          <p:cNvPicPr/>
          <p:nvPr/>
        </p:nvPicPr>
        <p:blipFill>
          <a:blip r:embed="rId1"/>
          <a:stretch/>
        </p:blipFill>
        <p:spPr>
          <a:xfrm>
            <a:off x="468360" y="189000"/>
            <a:ext cx="6119640" cy="6553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毕  业  照</a:t>
            </a:r>
            <a:endParaRPr b="0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2" name="内容占位符 97285" descr="biye"/>
          <p:cNvPicPr/>
          <p:nvPr/>
        </p:nvPicPr>
        <p:blipFill>
          <a:blip r:embed="rId1"/>
          <a:stretch/>
        </p:blipFill>
        <p:spPr>
          <a:xfrm>
            <a:off x="179280" y="1052640"/>
            <a:ext cx="8713800" cy="5545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54064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讨   论</a:t>
            </a: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endParaRPr b="0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一位乡下农夫有头老驴子，一天，老驴子不小心跌进了一个深坑，农夫听到驴的哀鸣，目睹它的困境，想了很久，断定救不了它，但又不忍心看着它痛苦而死，于是，农夫决定往坑里填土，把老驴闷死，以便使它早些脱离苦海，于是，农夫就开始往坑里填土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01680" y="0"/>
            <a:ext cx="8842320" cy="746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山高路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呼喊是爆发的沉默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沉默是无声的召唤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不论激越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不是宁静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我祈求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只要不是平淡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如果远方呼喊我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我就走向远方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如果大山召唤我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我就走向大山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双脚磨破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干脆再让夕阳涂抹小路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双手划烂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索性就让荆棘变成杜鹃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没有比脚更长的路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没有比人更高的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9T01:22:10Z</dcterms:created>
  <dc:creator>书利华教育网【www.ShuLiHua.net】</dc:creator>
  <dc:description>主题班会课件(分28大类): http://shop62905894.taobao.com</dc:description>
  <cp:keywords>主题班会课件(分28大类): http://shop62905894.taobao.com</cp:keywords>
  <dc:language>en-US</dc:language>
  <cp:lastModifiedBy>Administrator</cp:lastModifiedBy>
  <dcterms:modified xsi:type="dcterms:W3CDTF">2019-11-01T01:19:56Z</dcterms:modified>
  <cp:revision>17</cp:revision>
  <dc:subject>主题班会课件(分28大类): http://shop62905894.taobao.com</dc:subject>
  <dc:title>主题班会课件(分28大类): http://shop62905894.taobao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145</vt:lpwstr>
  </property>
</Properties>
</file>