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5FD2-EF75-45EB-8336-88180056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B64D-9AFA-469B-BB60-1DFD63CE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199A-DD3E-4AE1-8BDC-D35A7B22B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8660-7E17-4AE9-B23F-EF766515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6547-2A2F-48B5-80DE-9B9BA687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DF57-4C8A-478A-9437-0878960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7B5FD-EA11-41B6-B8DD-E0702394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BAA17-9EEB-4546-B67A-91981051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A57A-FF27-4558-AAC9-59FD27C3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61C8-90D0-4CE8-9C37-1E16C343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D98F1-24C0-474C-B9E2-B88EB18F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74CD-391E-4CB6-994A-696C9EBF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C392-B484-4918-84F8-73E509E5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D7CE-9E15-415E-8658-5112B484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DAD0-185D-4513-9815-F9D7AF00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E973-0E24-4E6C-8332-31D80040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A2B5-422C-468B-9D0C-6C561DA54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0A3-43E8-45AC-8581-C9ECD5B3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E52-33FD-47D0-9378-B49ECD396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72EB-FE51-4538-9A78-0B37DCA8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72BA-A7A8-4607-844D-B511E19B8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48EA-25F1-4891-A9F1-68A296ED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578-8DAE-4ADF-AB1C-520D01F8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F46-DBBF-4BAC-82CB-824C9080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CE9D-1884-42A3-9001-997BFE52ED1D}" type="slidenum"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080" y="371520"/>
            <a:ext cx="5180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21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D285-534B-47E8-B398-911ABD7E2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21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00000" y="189000"/>
            <a:ext cx="1297080" cy="4189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97080" y="1297080"/>
            <a:ext cx="4562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一章 工程概况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章 施工部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三章 施工准备工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四章 主要分部分项工程的施工方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五章 苗木的栽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4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苗木种植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4-1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苗木准备      根据工程设计图纸，列出苗木的品种、数量、规格、落实苗木供应来源，以及运到栽植地的运输情况及运秒方法。对符合规格、生长健壮无病虫害的苗木，应逐株做记号。高质量的苗木应具备的条件：根系发达完整，主跟短直，接近根茎范围内有较多的侧根和须根，起苗后根系无劈裂；苗木粗壮通直，不徒长；主侧枝分布均匀，能构成完美的树冠；无病虫害和机械损伤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4-2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植前整地及放线      根据设计图纸要求，种植地土质应基本满足植物生长需要，如发现土质太差，应栽植庙前还填种植土，以保植株成活。      根据图纸，在现场找出苗木实际栽植位置，用白灰撒处灰点，进行定点放线。一般采用行列式放线法及等距弧线放线法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4-3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树穴的开挖 树穴开挖一般在运取苗木前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—2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天进行。种植穴的大小依土球及根系情况而定，带土球的应比土球大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6—20cm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，穴的深度一般比球高度稍深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0—20cm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，栽植裸根苗木应保护根系充分舒展，树穴必须保证上下口径一致，避免 出现上大下小的“锅底坑”，挖出的表土、心土应分别堆放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4-4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苗木种植：将苗木的根系或土球放入树穴内，使其居中再将树木立起，保证垂直，然后分层回填种植土。一般每层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20—30cm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，先填较肥沃的表土，填土后将树根稍向上一提，市根系舒展，涌锨把将土捣实，直至填满穴坑。土痕应略平稍高于坑口，防止栽植后出现陷落、下沉，导致树干基部积水腐烂。坑土填平后，用余土环树，筑起拦水围堰并拍实以利浇水，高度不低于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5cm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4-5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苗木浇灌：新植苗木的浇灌应以天然水为佳，之后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8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小时之内必须浇上一遍水，第二遍水随后进行，第三遍水在第二遍水后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5—10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天内进行。注意浇水必须浇足浇透，浇完第三遍后，应及时封堰，并栽树干基部周围堆成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20—30cm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高的土堆，以保持土壤内水分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5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草坪的建植   场地平整 因为场地的平整与否，直接关系到以后草坪的生长质量，所以这一工序尤为重要。建坪前除杂草及病虫害的纺织：为防止简直草坪后杂草的滋生，除整地时清除树根、草根外，可用草甘磷、百草枯等灭生性内吸传导性除草剂，每亩用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75—100g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进行喷洒，一般在建坪前一个月使用。为防止虫害，可在植坪前一周喷洒甲胺磷、辛硫磷等杀虫剂，以达到灭虫的效果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草前施肥：对整平好的场地，均匀撒施熟化的有机肥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kg/m2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、复合肥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0.08kg/m2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，再进行土壤翻耕，然后耙平，耙细，准备播种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播种法：种子量一般为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8—10g /m2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，播种方法采用撒播与机械播种相结合。播种后，应及时覆盖土，土层厚度为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0.5—1cm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，而后用铁滚子镇压，以保证出苗均匀。浇水工作及保持水分，可在坪床上盖草帘子，以减少浇水辞书。待草苗出齐后，再将草帘揭去，注意揭帘子时须在阴天或傍晚前进行，防止太阳直射灼烧草苗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草坪栽植法：在平整好的地面上以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20—30cm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为行距，开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5cm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深的沟，将撕开的草块放入沟中，然后填土，踩实。为提高成活率，缩短缓苗期，移栽过程中要注意两点：一是草皮要带适量的护根土，二是尽可能缩短掘草到植草的时间，最好当天掘草当天栽，栽后要充分灌水，清除杂草，养护一个月后可成坪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5.</a:t>
            </a: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施工进度计划表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6.</a:t>
            </a: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质量保证措施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组织管理措施  建立质量保证体系，公司、项目部二级质量保证体系（详见附表）。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实行项目经理负责制的项目管理，建立有权威的质量管理组织，配备专职质量检查小组。强化“质量第一，为用户服务”的思想，定期进行质量检查评比工作，实行质量通知书的办法，做好各分项工程的质量评定工作，奖优罚劣。 强化隐蔽工程的验收制度，未经业主及监理单位认可，不得进行施工。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 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坚持对各工种的技术交底工作。在每一道工序施工前，应对操作班组作详细的技术交底，确保每个操作员熟悉技术要求和操作要点。 采用自检、互检、交接检和专业检查相结合的办法，实行主要工种操作者名单、级别、质量等级挂牌上墙制度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技术管理措施   为确保工程质量，对主要分布分项工程（如土方工程、石材安装、铺装工程等分项工程）分别编制质量控制工艺流程图。 轴线定位桩要严格保护，避免损坏，在施工期间要定期复核检查，轴线控制桩以及总标高控制点必须经业主书面认可方可使用。  所有测量观测点的埋设必须可靠、牢固。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严把材料质量关。砂、石进场必须具有质量检验报告，合格后方可使用；水泥进入现场必须具有出场质保书及合格证书，并在实验室复试，合格后方可使用；其它材料如广场砖、青石等均须具有合格证，并进行必要的试验，合格后方可使用。  所有现场操作人员必须听从施工技术员、监理的指导和督促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324760" cy="67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7.</a:t>
            </a: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安全文明施工措施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7-1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安全施工措施  工地成立以项目经理为首的安全领导小组，强化安全管理、消防管理、现场保卫工作及场容管理，争创文明施工工地。    所有施工人员进入施工现场时，必须进行安全教育，贯彻有关安全文件精神， 学习现场规章制度，以引起对安全的高度重视。   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建立健全各种安全管理制度，特别是用电和机械管理，非专业人员不得私接电线和操作机械。    经常检查维修电气线路，手持电动工具应接好漏电保护装置。   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施工人员进入现场必须戴好安全帽，严禁酒后进入现场施工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工程概况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该工程为某花园绿化工程，位于某地，占地面积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4000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平方米。该工程由某开发有限公司建设，某设计院设计，某有限责任公司施工，某监理公司负责监理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-2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．施工条件 本工程施工用地场内各种杂物未清除完毕，水电已接入现场，不具备“三通一平”条件，与其他施工单位交叉施工较多，需要边清理边施工，并于其他施工单位协调施工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-3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．质量目标 本工程的质量目标为确保优良，争创精品工程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7-2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文明施工措施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 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在施工现场范围内张挂标语口号，定期召开大会，强调文明施工的重要性。道路、料场随时清理，不得在施工区内大小便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节约措施     技术人员的提料计划应提高准确性，避免材料短缺或过剩。在施工过程中，执行限额领料制度，要把当天剩余的材料运回工棚或堆料场院地、仓库，不得随意乱扔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防止环境污染的保护措施   洗刷砼搅拌机、砂浆机的污水不得随地乱流，可在施工现场挖一集水井加盖封闭，冲洗搅拌机与砂浆机的污水流入集水井，待沉淀后排入下水道。在施工中随时清理并运出建筑垃圾，堆放在指定地点。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 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噪音大的机械安置时，尽量远离宿舍区，晚上尽量少用或不用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施工准备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2-1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．施工阶段的划分    本工程的施工作业量大，工期紧，按期保质完成必须精心统筹，合理安排，立体交叉，流水作业。本工程拟划分土建工程、水电安装工程、苗木种植、园林小品、道路铺设及附属工程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2-2.  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技术准备    安排技术人员熟悉图纸，进行图纸会审。  根据图纸工程量及工期要求，编排进度计划，编排施工组织设计。   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2-3.  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注意事项   检修测量仪器，提出前期用工、用料计划。在甲方力所能及的情况下，给予协调临建办公室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间，材料库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间，住房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间，如有困难，拟住房在外租赁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人材机用量计划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劳动力计划   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砼    工                 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人 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普通工                 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人 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机械工                 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人 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电    工                 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人 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瓦    工                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人 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其他工种             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人 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合    计                 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64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以上为高峰期作业人员，施工中可根据实际情况调整。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施工机械计划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砼搅拌机      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台           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5kw 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砂浆机        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台            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kw 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蛙式打夯机    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台             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6kw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P=1.1×(K1ΣP1)/Cos φ    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=1.1× 0.7× 44/0.65 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=52kw 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由此可知供电负荷不可小于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52kw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施工用水计划       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根据本工程的结构特点，并考虑当地用水困难，需打简易井给水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施工方案及工艺要求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-1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土建工程    地面现状为土地面，需平整夯实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-2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路铺设工程  基层处理 施工前应清理基层，并严格控制好标高。   铺装块料面层施工前要严格选砖、选板，色差和规格尺寸超过允许偏差不得使用。施工中严格控制水灰比，施工后应用锯木末保持湿润，洒水养护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-3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水电安装工程     施工放线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挖槽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预埋管防腐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预埋管线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土方回填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3-4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园林小品工程    施工放线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基础挖填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电管预埋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建模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浇注或预制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—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安装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技术措施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4-1  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测量仪器采用先进的全站仪、经纬仪、水准仪。 在具体的测量放线以前，先要根据施工平面图，布设方格网，方格网距以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0M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为宜，打好控制桩做好保护。将拐点的位置标注在图纸上，并计算出它的坐标在相邻两拐点间适当加密。为了提高精度，我们还将应用全站仪进行全面的校核。本工程由技术员、施工员、质检员三人组成放样小组，负责整个小区的测量放样工作，直至工程结束。测量放样顺序： 引测市政方格控制网，引测市政水准点； 测设施工方格控制网</a:t>
            </a: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100</a:t>
            </a:r>
            <a:r>
              <a:rPr b="0" lang="zh-CN" sz="2400" spc="-1" strike="noStrike">
                <a:solidFill>
                  <a:srgbClr val="5f5f5f"/>
                </a:solidFill>
                <a:latin typeface="Arial"/>
              </a:rPr>
              <a:t>，设置固定水准点； 测没园林建筑物、桥梁、河道、地坪等等； 测设水准点、编制桩号，深刷红漆标记； 测设临时施工便道尽量与待筑道路相吻合；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2  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基础工程  施工前，应根据总平面图布置和坐标控制点，将每个不同景点的平面位置放线于实地。挖土前应将基础的位置放线和放坡线用石灰进行放线，标高应根据国家的水准点，将标高测引到施工现场。并在车辆和施工人员碰不到的地方用水泥砂浆固定起来，基础施工时将标高测引到土壁上，让施工  人员做到心中有数，以防超挖。土方工程 土方开挖方案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本工程主要土方为路基及地面铺装结构层土方，面积较大，土方量较多。鉴于以上的情况，故采用机械开挖，人工进行清底、修整。基槽排水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为了排尽地下水和地面雨水（主要为地面雨水），应设置排水沟或集水井，面积教大的可设纵横盲沟与四周排沟相连，盲沟内应用碎石填平、填实。 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4-3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道路施工 首先根据施工总平面图，建立控制网，然后根据控制网，然后根据控制网进行各段道路定位测设，根据道路的路面位置和标高情况，确保控制网的数量，包括平面和高程。整个道路定位放样必须遵循“从整体到局部，先控制后施工”的原则。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路基施工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: 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为保证路基的稳定，施工时必须做好路基的排水工作。 路基穿越沟、塘等，必须抽水、清除淤泥，河岸边坡应挖成阶梯型，然后采用道渣间隔土分层填筑。填土时要采用同类土填筑，间隔土筑厚度为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道渣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厘米，土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5f5f5f"/>
                </a:solidFill>
                <a:latin typeface="Arial"/>
              </a:rPr>
              <a:t>厘米。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10:44Z</dcterms:created>
  <dc:creator/>
  <dc:description/>
  <cp:keywords/>
  <dc:language>en-US</dc:language>
  <cp:lastModifiedBy>Windows 用户</cp:lastModifiedBy>
  <cp:lastPrinted>1899-12-30T00:00:00Z</cp:lastPrinted>
  <dcterms:modified xsi:type="dcterms:W3CDTF">2016-03-11T11:29:14Z</dcterms:modified>
  <cp:revision>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