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1B9F-0E42-4A84-AAD2-4D780A1C476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slide" Target="../slides/slide6.xml"/><Relationship Id="rId1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7A72-487B-4490-A986-765E089BA85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kejian/yuwen/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kejian/shuxue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kejian/yingyu/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kejian/meishu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kejian/kexue/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kejian/wuli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kejian/huaxue/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kejian/shengwu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kejian/dili/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kejian/lishi/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D389-44C6-4735-AB1E-1B6FB1CE4E9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170D-F23E-40FD-9FE1-E0C2D0468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4E85-0EAB-4F32-9A3D-D21BD4CC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3EA76-8704-43F2-B75D-087F0C5C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0A220-42F0-4CE9-94AB-AA189188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B041B-15C6-45D9-B3F6-5329569B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456B6-B3E0-461B-BFB5-0140D214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B6668-C5BA-4E52-A729-AE2E7D66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09E35C-9B7B-43A1-A8A1-3EFD9145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A8BA6-A38F-4AF2-9CA4-21AC454B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B971C-C820-449F-98E1-61FD284E2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44E40-569F-4F32-B975-74C86F051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0B23D-B261-440F-A6F6-C2A17B45C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6F59-F9FA-4F72-B0A4-F16A2A6A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9571A6-265D-436F-B4BF-DFD93D00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7F5A1-18D0-43E5-BE20-3AB2E6E4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E392C2-D276-4F20-867B-8C2E35C7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B255A-F44E-4F8A-AB7D-A705CFC2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EFF5C6-A721-43BC-A546-03F7D525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A3F31-331A-40C6-8EFD-BEF5A966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737E5-D29D-40C8-9E7F-0F8554D1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E95CE-1FD2-48A6-A652-F17E6C52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6F3F2-89D3-4087-AFED-A617025F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DD331-12C7-4D49-A3BC-90D2A856C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4D34-E345-4055-B6CF-6AFB09BC2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9B408-3F32-4652-AF6D-3E83AA73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3EE7B-2052-4486-BD8E-CA10416F7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83AC02-9CA0-43A6-9211-CF0A46A8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A50F5-C758-4FF7-A8C9-7D8B7614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C7B30-D8F1-4F99-9BCC-1C909270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0E558-B31C-477A-B95A-4D058747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1AD10-7364-41C6-B6D6-F10AD42B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069EE-1919-4818-AAD0-26C27A22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01BF4-96E0-4933-8CBE-CC00C264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AADBE-CD3D-4227-BC7B-38A3DB48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A446-5F42-4EEB-AD70-171A28020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52F4E-1631-4C62-A1D3-D719757F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8076F-DF59-41E5-B621-0A2AAD54C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713F6-C6F9-428E-82C3-390BDE217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09404-E39B-4A70-9834-295FB5E78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6B1F65-C4C6-42BC-A1BC-26A9AB21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1B341-42C1-43C7-8DBB-4B8EA179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FEF92B-6BC6-4DA6-9B57-9F7E3410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15E293-B1F0-45FE-B4F1-EDA81A85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3CDDB7-E87E-4BA3-88EE-20135E41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69D51C-80AA-4774-8576-7A7266BF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5214-3469-4C36-8D97-088029B8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2AB07-A586-48B9-AEF3-66BC9D97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A240AE-73A7-4AEA-AA4C-CA1E168B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B4F9D3-830D-44BF-B9B0-73FA3820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3F9EA9-3341-4A30-9A52-23FEFAE7C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149C39-1703-40B1-BD87-E1D193250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342AEC-751E-4CB7-A6A4-B2E172B1F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0BA11F-0D86-4984-A0C2-5BF84C63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955862-AA24-4658-A87D-6A780B76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EF0D53-D131-4171-AF2D-3C35FB32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E6ACE7-FA00-4A94-A775-2116FA4D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FEC4-C160-494E-930B-98516819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0ABFB3-F31B-4B45-890C-F9EF11E5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10B65E-97DD-4377-8BF0-9247DE1F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AA297B-3D08-4533-A520-79808E91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9FB5AA-0DC2-4E5E-AD13-BEEE6358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2F2185-8CEF-4EBB-9FF3-83535BB5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16FB0C-3BC9-49DC-9923-D1FFF57E6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7BC52B-22C0-478E-B750-8D032391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30F8-9531-459E-AFAC-EDAA19F0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DB53-337D-4245-9F83-781D96E1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27AE-37EE-422F-B81A-FB59A448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A8E9-46E2-4FD8-9D04-0D62E5B5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897C-9104-49BB-A24E-3FA03E4E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5143-89B9-4898-ACFD-8D12D101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ABD2-CBDB-4A6D-BE2B-E1325589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65E7-2BAD-4404-9565-1F488722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04D3-C459-4128-81C8-052DF6CD1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1C86-D682-486F-9C34-F4215C4CF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A9658-A5AA-4C43-885A-231A283E6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6A8AE-420C-4286-A32A-AC02C224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C5CE3-9651-40F8-8096-14B03E02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B8768-8830-4CEE-A410-6D8EB284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19A85-3FC3-40DB-8F1E-5883FBBD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47C7-C771-41E8-AABB-B1ED48DA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D0863-C3E2-4D12-B2C4-CF48D2DA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996DD-BEC1-4C57-8B98-71F08A81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F092B-7476-441D-9E11-67350656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FAD55-8E2E-4395-9DD6-90C92741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A276A-39F1-4B48-A706-59079A7C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8B51F-6846-435A-B332-1FA6DA573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2B862-5DB6-4FE8-8886-DEB8D09B3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C1384-007D-498B-8C2F-F9FD9B036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8B53F-52E6-412B-AC3F-5FCE917F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35181-F6E7-4570-A4CF-95966CC5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994D-2D8C-43DD-93E5-DDA11306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1E2CA-223B-43E4-A764-696B8FA0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D958E-A4B5-4A6F-B507-44B29581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FF460-BF5B-445C-AFDF-58AA9F8D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C52A7-A4E1-4381-BBFD-97D482DC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B6AFC-6C0A-43A6-BB5B-96BB0854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6A6A5-3C0B-4ADB-A975-42B16992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39A50-3FF3-4D26-8E6E-583FB2E5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7A929-3FBD-43FC-ABC1-77038117D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5B47F-2E58-4F60-95BD-7BC5A4969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1196E-1F52-4E45-8C77-3E944C3EC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A3A7-4945-4097-B377-DC30B02A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D8485-FF6A-47F6-9D52-04A0D68F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86304-5235-4460-A6EF-CD0357C7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0B1CC-FC69-4A9A-BA40-820C5AED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A5CEF-6829-447D-BD42-0C058626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7D1C7-9A50-47A9-AB6E-42D50E28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E9C32-4C5E-4DF9-BD4C-CE4C2E8E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F4FED-DB92-40B8-A623-FEBEEA90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09B50-C2DC-4EB4-9B7B-2D51BFBE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36762-FA4E-40C4-8E5E-9E97752F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C97FD-46C4-4945-B88C-CD0453C0E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993F-7376-4738-AFE3-C542F9ED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8C17B-B72C-4E50-8E62-32AFFA5DF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15700-B612-4904-8A2B-0E94DA2AF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70570-A8C9-49A1-A26D-88DA00FA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DD166-43EE-4461-8BD4-02E0E914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4A440-8F85-43E8-8882-EAB3C925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F4B32-B9F6-4A4B-8BC6-F53188EA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3D7A7-5810-4527-9F87-5AFD3BEE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D7E1E-9797-4E7A-9E88-E1F5B6CA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109D4-9272-49E6-8CB2-332A6C7C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590BE-3928-4E41-B5F3-9579C43F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0BDA-2BE9-4A3D-AC3A-5A0376F6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1A51C-D189-4846-A02A-C5EA00AD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95A43-28FE-44F4-917A-B9E4D226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5835D-658B-4A8E-8A6D-293D46140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9FC8F-FE1B-4D9D-AD46-8B29E7D7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7BF3E-6ADD-4E59-B54F-D07673E5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7B9F7-6551-4A9B-8FCE-ECA2A075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0781F-89F6-4F94-AC1F-B19FD06D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2ACFB-DBB9-4AE6-94AA-359D1BF0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7ACF6-99A1-4505-8F55-D0BFB49F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32E3B-2A65-4A6D-BACB-8DF112E8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77D6-F80F-48FA-8EBF-A4805004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26AE7-2D87-4627-ADE2-88725C67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DD516-7B2F-43EE-8DE7-0722A2DF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28481-B6FE-44B0-BC76-15021428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41EF3-727C-4627-AFDF-1126B33D7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7F04F-A91B-4B1E-9E60-9507403D7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18DFE-D8EB-4274-9E2D-5AB64620C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94EEF-01B5-4279-B637-09A909F9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5CC89-0697-460F-A330-013C3037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2CDD4-3E5A-43E8-B5D5-16DCF8AA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883B2-BE6B-4EB3-983D-2DE2B053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DB70-C54C-418C-81B8-20E6BF8A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8F18C-FABF-4FDE-8E08-CF0CD43C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9BC06-63D3-4845-AD07-D8347B72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A4471-74EA-44C2-904B-9681F119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95943-D539-4EAC-8B83-1745FF19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320B3-2313-4107-8BEF-E7BADA92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A085A-A259-4FCF-B6E0-EE0F74A31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80D35-E4A0-4C6D-B180-CA56AC739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D5508D-A905-4D72-82CC-537D33EAC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DB7AB-19B4-4B25-94BC-43CE95F8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05909-EFA4-44E8-8C8E-26E3272D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4B35-EDC3-4216-8996-589362BB3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76A8-8FD8-4CAD-A716-A8F6561AD46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1D92-2727-49E4-8F20-59A0BD3257F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D459-BFEE-45D4-9843-B548298C7EA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E5D5-0FA1-43F1-8B0F-2A3BDFA99A8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D15B-D491-4EC0-8217-22234C30595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60C5-339C-433A-A1DA-EB0865E0550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DB2A-E0FF-4941-A84B-6C187E9EDA9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0D97-E4D0-443C-A3E7-1E0D6765F37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00E5-03AA-488E-BEF3-866512B8CE9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F46C-69D1-400C-AD1B-11B871B5DC9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39A4-83C3-45F0-A833-7B92DBD2404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3E22-3A3E-4C89-9CDC-D33D4C57C14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excel/" TargetMode="External"/><Relationship Id="rId14" Type="http://schemas.openxmlformats.org/officeDocument/2006/relationships/hyperlink" Target="http://www.1ppt.com/ziliao/" TargetMode="External"/><Relationship Id="rId15" Type="http://schemas.openxmlformats.org/officeDocument/2006/relationships/hyperlink" Target="http://www.1ppt.com/kejian/" TargetMode="External"/><Relationship Id="rId16" Type="http://schemas.openxmlformats.org/officeDocument/2006/relationships/hyperlink" Target="http://www.1ppt.com/fanwen/" TargetMode="External"/><Relationship Id="rId17" Type="http://schemas.openxmlformats.org/officeDocument/2006/relationships/hyperlink" Target="http://www.1ppt.com/fanwen/" TargetMode="External"/><Relationship Id="rId18" Type="http://schemas.openxmlformats.org/officeDocument/2006/relationships/hyperlink" Target="http://www.1ppt.com/shiti/" TargetMode="External"/><Relationship Id="rId19" Type="http://schemas.openxmlformats.org/officeDocument/2006/relationships/hyperlink" Target="http://www.1ppt.com/jiaoan/" TargetMode="External"/><Relationship Id="rId20" Type="http://schemas.openxmlformats.org/officeDocument/2006/relationships/hyperlink" Target="http://www.1ppt.cn/" TargetMode="External"/><Relationship Id="rId21" Type="http://schemas.openxmlformats.org/officeDocument/2006/relationships/image" Target="../media/image14.png"/><Relationship Id="rId22" Type="http://schemas.openxmlformats.org/officeDocument/2006/relationships/image" Target="../media/image15.png"/><Relationship Id="rId23" Type="http://schemas.openxmlformats.org/officeDocument/2006/relationships/image" Target="../media/image16.png"/><Relationship Id="rId2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WordArt 2"/>
          <p:cNvSpPr txBox="1"/>
          <p:nvPr/>
        </p:nvSpPr>
        <p:spPr>
          <a:xfrm>
            <a:off x="1547640" y="1773360"/>
            <a:ext cx="58676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华文隶书"/>
              </a:rPr>
              <a:t>防火知多少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华文隶书"/>
              <a:ea typeface="华文隶书"/>
            </a:endParaRPr>
          </a:p>
        </p:txBody>
      </p:sp>
      <p:pic>
        <p:nvPicPr>
          <p:cNvPr id="541" name="矩形 4" descr=""/>
          <p:cNvPicPr/>
          <p:nvPr/>
        </p:nvPicPr>
        <p:blipFill>
          <a:blip r:embed="rId1"/>
          <a:stretch/>
        </p:blipFill>
        <p:spPr>
          <a:xfrm>
            <a:off x="1809720" y="5400720"/>
            <a:ext cx="536580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1026" descr="D:\图片\救火4.jpg"/>
          <p:cNvPicPr/>
          <p:nvPr/>
        </p:nvPicPr>
        <p:blipFill>
          <a:blip r:embed="rId1"/>
          <a:stretch/>
        </p:blipFill>
        <p:spPr>
          <a:xfrm>
            <a:off x="0" y="0"/>
            <a:ext cx="7162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D:\图片\救火6.jpg"/>
          <p:cNvPicPr/>
          <p:nvPr/>
        </p:nvPicPr>
        <p:blipFill>
          <a:blip r:embed="rId1"/>
          <a:stretch/>
        </p:blipFill>
        <p:spPr>
          <a:xfrm>
            <a:off x="304920" y="873000"/>
            <a:ext cx="8839080" cy="56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" descr="D:\图片\救火7.jpg"/>
          <p:cNvPicPr/>
          <p:nvPr/>
        </p:nvPicPr>
        <p:blipFill>
          <a:blip r:embed="rId1"/>
          <a:stretch/>
        </p:blipFill>
        <p:spPr>
          <a:xfrm>
            <a:off x="0" y="0"/>
            <a:ext cx="883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D:\图片\救火5.jpg"/>
          <p:cNvPicPr/>
          <p:nvPr/>
        </p:nvPicPr>
        <p:blipFill>
          <a:blip r:embed="rId1"/>
          <a:stretch/>
        </p:blipFill>
        <p:spPr>
          <a:xfrm>
            <a:off x="0" y="0"/>
            <a:ext cx="883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矩形 4"/>
          <p:cNvSpPr/>
          <p:nvPr/>
        </p:nvSpPr>
        <p:spPr>
          <a:xfrm>
            <a:off x="1547640" y="4437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word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excel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zil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keji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om/fanwen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7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8"/>
              </a:rPr>
              <a:t>www.1ppt.com/shit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9"/>
              </a:rPr>
              <a:t>www.1ppt.com/jiao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论坛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0"/>
              </a:rPr>
              <a:t>www.1ppt.cn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17"/>
          <p:cNvSpPr/>
          <p:nvPr/>
        </p:nvSpPr>
        <p:spPr>
          <a:xfrm>
            <a:off x="0" y="2781360"/>
            <a:ext cx="9144000" cy="15843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图片 9" descr=""/>
          <p:cNvPicPr/>
          <p:nvPr/>
        </p:nvPicPr>
        <p:blipFill>
          <a:blip r:embed="rId21"/>
          <a:srcRect l="0" t="0" r="15793" b="53376"/>
          <a:stretch/>
        </p:blipFill>
        <p:spPr>
          <a:xfrm>
            <a:off x="1327320" y="981000"/>
            <a:ext cx="6489360" cy="124956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3"/>
          <p:cNvSpPr/>
          <p:nvPr/>
        </p:nvSpPr>
        <p:spPr>
          <a:xfrm>
            <a:off x="468360" y="3097080"/>
            <a:ext cx="41036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4572000" y="309708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Picture 10" descr="png-0644"/>
          <p:cNvPicPr/>
          <p:nvPr/>
        </p:nvPicPr>
        <p:blipFill>
          <a:blip r:embed="rId22"/>
          <a:stretch/>
        </p:blipFill>
        <p:spPr>
          <a:xfrm>
            <a:off x="2916360" y="309708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11" descr="png-0652"/>
          <p:cNvPicPr/>
          <p:nvPr/>
        </p:nvPicPr>
        <p:blipFill>
          <a:blip r:embed="rId23"/>
          <a:stretch/>
        </p:blipFill>
        <p:spPr>
          <a:xfrm>
            <a:off x="7234200" y="309708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3"/>
          <p:cNvSpPr/>
          <p:nvPr/>
        </p:nvSpPr>
        <p:spPr>
          <a:xfrm>
            <a:off x="838080" y="12682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活动目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449280" y="30574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培养幼儿初步的自我保护意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457200" y="37339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让幼儿了解火灾发生的几种原因，懂得如何防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457200" y="43434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初步掌握几种自救逃生的方法与技能，提高自我保护能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图片 1" descr=""/>
          <p:cNvPicPr/>
          <p:nvPr/>
        </p:nvPicPr>
        <p:blipFill>
          <a:blip r:embed="rId1"/>
          <a:stretch/>
        </p:blipFill>
        <p:spPr>
          <a:xfrm>
            <a:off x="108000" y="981000"/>
            <a:ext cx="892800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D:\图片\火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矩形 5"/>
          <p:cNvSpPr/>
          <p:nvPr/>
        </p:nvSpPr>
        <p:spPr>
          <a:xfrm>
            <a:off x="1258920" y="24922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Picture 3" descr="D:\图片\救火.jpg"/>
          <p:cNvPicPr/>
          <p:nvPr/>
        </p:nvPicPr>
        <p:blipFill>
          <a:blip r:embed="rId1"/>
          <a:stretch/>
        </p:blipFill>
        <p:spPr>
          <a:xfrm>
            <a:off x="457200" y="0"/>
            <a:ext cx="845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D:\图片\救火1.jpg"/>
          <p:cNvPicPr/>
          <p:nvPr/>
        </p:nvPicPr>
        <p:blipFill>
          <a:blip r:embed="rId1"/>
          <a:stretch/>
        </p:blipFill>
        <p:spPr>
          <a:xfrm>
            <a:off x="457200" y="236520"/>
            <a:ext cx="8286840" cy="66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D:\图片\救火2.jpg"/>
          <p:cNvPicPr/>
          <p:nvPr/>
        </p:nvPicPr>
        <p:blipFill>
          <a:blip r:embed="rId1"/>
          <a:stretch/>
        </p:blipFill>
        <p:spPr>
          <a:xfrm>
            <a:off x="838080" y="0"/>
            <a:ext cx="71629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D:\图片\救火3.jpg"/>
          <p:cNvPicPr/>
          <p:nvPr/>
        </p:nvPicPr>
        <p:blipFill>
          <a:blip r:embed="rId1"/>
          <a:stretch/>
        </p:blipFill>
        <p:spPr>
          <a:xfrm>
            <a:off x="99072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5T15:21:25Z</dcterms:created>
  <dc:creator>第一PPT模板网-WWW.1PPT.COM</dc:creator>
  <dc:description>第一PPT模板网-WWW.1PPT.COM
</dc:description>
  <cp:keywords>第一PPT模板网-WWW.1PPT.COM</cp:keywords>
  <dc:language>en-US</dc:language>
  <cp:lastModifiedBy>微软用户</cp:lastModifiedBy>
  <dcterms:modified xsi:type="dcterms:W3CDTF">2016-09-21T05:40:41Z</dcterms:modified>
  <cp:revision>8</cp:revision>
  <dc:subject>第一PPT模板网-WWW.1PPT.COM</dc:subject>
  <dc:title>第一PPT模板网-WWW.1PPT.COM</dc:title>
</cp:coreProperties>
</file>