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4.wmf" ContentType="image/x-wmf"/>
  <Override PartName="/ppt/media/image2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0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1B0-AAE5-4CE4-92DB-DC891F9C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D95-E9BB-43FE-8D30-D5CE124D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331-28E4-4B02-92EF-279ADFDB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E0A8-3A09-4B23-8F67-46A0C4DB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1B1C-CF68-45A8-9764-345EE8B1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BD00-1148-422F-B670-429DFC8C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95DD-519F-4E64-8E16-9D997C6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746D-6667-4793-9E42-FF31C8C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C37-0B57-4401-8282-1BEE5703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736-2293-42CF-8B3C-E19159AA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251E-55D2-4803-8458-859530FB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CBE-9046-471E-8AC9-2F6E48B5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D38-2EB4-464C-852C-F39D862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0C1A-1B15-4774-AA46-C2474008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599A-D548-4510-B34C-9AD2BE8E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A2F-EFFE-4AE9-AB73-6B8B04B8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3726-A6BB-4C93-970C-EDEAA5CD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CC6B-FA74-4CC5-B71E-16051DDB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E774F-3A5D-404D-95A7-12F9B2AE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CF67-3117-4060-85FF-CDD3D8D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496D-2F13-4C37-B563-7CAF5387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49B78-B58B-4839-BD92-32D944FC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534-962A-4005-A69B-AF1A3C57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E87CC-B9A4-43D2-9B32-FA7E7C29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CDFC8-D387-47D1-862A-EE6274C7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61A1-C993-4617-8488-8D48DEE2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AF98B-006E-40B2-BC15-B31711D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F52C9-07D7-42B7-9EF9-CEA9B5AE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4367-9E1A-4909-8FF4-BEA5BD4C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631E-F4C9-4DA3-8871-27D1656B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3DE-093D-4903-8ECC-2B57787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3A7-E62C-4B5B-98C8-C060ADD9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D71-5FF7-4A17-8B30-C4971C7E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1A9-ED8F-42E5-846E-873D2AE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79F-CDE8-4737-9D78-8AA484D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D04-B797-4568-AA85-03A4EE65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6403-27EE-4694-8F2E-D9666C835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BB57-2255-4AF9-AE29-DA6F10FB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B57D-A15A-4630-9214-24528A7861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hyperlink" Target="http://image.baidu.com/i?ct=503316480&amp;z=261380753&amp;tn=baiduimagedetail&amp;word=&#27491;&#20116;&#36793;&#24418;&amp;in=20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916360" y="2997360"/>
            <a:ext cx="668160" cy="668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195640" y="3935520"/>
            <a:ext cx="2160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幼圆"/>
              </a:rPr>
              <a:t>档案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92720" y="1122480"/>
            <a:ext cx="41148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幼圆"/>
              </a:rPr>
              <a:t>卷首语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幼圆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  <a:ea typeface="幼圆"/>
              </a:rPr>
              <a:t>每一个孩子都是幸福的天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宋体"/>
                <a:ea typeface="幼圆"/>
              </a:rPr>
              <a:t>在自己的城堡建造属于自己的童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我们惊喜地观赏孩子们的童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耐心地记录他们成长的点滴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给他们留下最美的记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留下童年的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和最真切的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幼圆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rcRect l="10216" t="0" r="21789" b="0"/>
          <a:stretch/>
        </p:blipFill>
        <p:spPr>
          <a:xfrm>
            <a:off x="4716360" y="1125360"/>
            <a:ext cx="612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3320" y="1773360"/>
            <a:ext cx="67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__________________________</a:t>
            </a:r>
            <a:r>
              <a:rPr b="0" i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703600"/>
            <a:ext cx="80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64104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————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0" y="40759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ff"/>
                </a:solidFill>
                <a:latin typeface="Arial"/>
                <a:ea typeface="幼圆"/>
              </a:rPr>
              <a:t>记录生活中的点滴趣事，留下一个个最童真的足迹。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70400" y="515700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记录人：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65000" y="5660280"/>
            <a:ext cx="38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"/>
                <a:ea typeface="幼圆"/>
              </a:rPr>
              <a:t>                             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日   期：</a:t>
            </a:r>
            <a:r>
              <a:rPr b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_________ </a:t>
            </a:r>
            <a:r>
              <a:rPr b="0" i="1" lang="zh-CN" sz="1800" spc="-1" strike="noStrike">
                <a:solidFill>
                  <a:srgbClr val="ff7c80"/>
                </a:solidFill>
                <a:latin typeface="Arial"/>
                <a:ea typeface="幼圆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624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童年的世界，梦想如诗如画，如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月星辰般灿烂，幼儿园的世界是你们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现蔚蓝色梦想的摇篮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幼圆"/>
              </a:rPr>
              <a:t>,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我愿是轻抚摇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的双手，我愿是流淌在你们心间的甜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童谣，陪伴你们在这梦开始的地方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成长！祝福你们，亲爱的孩子，愿你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  <a:ea typeface="幼圆"/>
              </a:rPr>
              <a:t>存留住最美好的时光，健康茁壮地成长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幼圆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637080" y="117360"/>
            <a:ext cx="223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方正少儿_GBK"/>
              </a:rPr>
              <a:t>结束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方正少儿_GBK"/>
              <a:ea typeface="方正少儿_G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29" name="内容占位符 6" descr="88.jpg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3060720" y="2852640"/>
            <a:ext cx="4114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名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年龄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幼儿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班级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爱好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宋体"/>
                <a:ea typeface="幼圆"/>
              </a:rPr>
              <a:t>我的梦想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701720"/>
            <a:ext cx="2447640" cy="244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2771640" y="981000"/>
            <a:ext cx="41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是谁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700360" y="1052640"/>
            <a:ext cx="2592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楷体_GB2312"/>
              </a:rPr>
              <a:t>快乐的一家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640" y="549360"/>
            <a:ext cx="27781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楷体_GB2312"/>
              </a:rPr>
              <a:t>快乐的一家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1916280"/>
            <a:ext cx="5975640" cy="381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我爱我的幼儿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幼儿园里朋友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又唱歌来又跳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9933ff"/>
                </a:solidFill>
                <a:latin typeface="Arial"/>
                <a:ea typeface="楷体_GB2312"/>
              </a:rPr>
              <a:t>大家一起多快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79280" y="115920"/>
            <a:ext cx="4032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我和我的伙伴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27840" y="262080"/>
            <a:ext cx="2735280" cy="273672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637080" y="1844640"/>
            <a:ext cx="2520720" cy="2661840"/>
            <a:chOff x="3637080" y="1844640"/>
            <a:chExt cx="2520720" cy="2661840"/>
          </a:xfrm>
        </p:grpSpPr>
        <p:pic>
          <p:nvPicPr>
            <p:cNvPr id="143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7080" y="1844640"/>
              <a:ext cx="2520720" cy="26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336200" y="2492280"/>
              <a:ext cx="1120320" cy="1294920"/>
            </a:xfrm>
            <a:prstGeom prst="pentagon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图片 15" descr=""/>
          <p:cNvPicPr/>
          <p:nvPr/>
        </p:nvPicPr>
        <p:blipFill>
          <a:blip r:embed="rId5"/>
          <a:stretch/>
        </p:blipFill>
        <p:spPr>
          <a:xfrm>
            <a:off x="5940360" y="3790800"/>
            <a:ext cx="3168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3480" y="0"/>
            <a:ext cx="91393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933720"/>
            <a:ext cx="2193840" cy="2922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117360"/>
            <a:ext cx="223344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21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我的作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8320" y="2749680"/>
            <a:ext cx="4038480" cy="22269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4920" y="117360"/>
            <a:ext cx="385128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精彩瞬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95280" y="117360"/>
            <a:ext cx="33480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生活中的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6299280" y="1843200"/>
            <a:ext cx="2233440" cy="1003320"/>
          </a:xfrm>
          <a:prstGeom prst="wedgeEllipseCallout">
            <a:avLst>
              <a:gd name="adj1" fmla="val -56046"/>
              <a:gd name="adj2" fmla="val 44328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2852640"/>
            <a:ext cx="2089080" cy="1008000"/>
          </a:xfrm>
          <a:prstGeom prst="wedgeEllipseCallout">
            <a:avLst>
              <a:gd name="adj1" fmla="val -60638"/>
              <a:gd name="adj2" fmla="val 2842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3933720"/>
            <a:ext cx="2232000" cy="936720"/>
          </a:xfrm>
          <a:prstGeom prst="wedgeEllipseCallout">
            <a:avLst>
              <a:gd name="adj1" fmla="val -62875"/>
              <a:gd name="adj2" fmla="val 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77080" y="2133360"/>
            <a:ext cx="1295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能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321300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认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04000" y="4221000"/>
            <a:ext cx="129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你看我多漂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564000" y="4005360"/>
            <a:ext cx="3095640" cy="2520720"/>
            <a:chOff x="3564000" y="4005360"/>
            <a:chExt cx="3095640" cy="2520720"/>
          </a:xfrm>
        </p:grpSpPr>
        <p:pic>
          <p:nvPicPr>
            <p:cNvPr id="163" name="图片 5" descr=""/>
            <p:cNvPicPr/>
            <p:nvPr/>
          </p:nvPicPr>
          <p:blipFill>
            <a:blip r:embed="rId2"/>
            <a:stretch/>
          </p:blipFill>
          <p:spPr>
            <a:xfrm>
              <a:off x="3564000" y="4005360"/>
              <a:ext cx="3095640" cy="25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Box 20"/>
            <p:cNvSpPr/>
            <p:nvPr/>
          </p:nvSpPr>
          <p:spPr>
            <a:xfrm>
              <a:off x="4041360" y="4199400"/>
              <a:ext cx="2363040" cy="92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08000" y="2854440"/>
            <a:ext cx="3381480" cy="2593800"/>
            <a:chOff x="1908000" y="2854440"/>
            <a:chExt cx="3381480" cy="2593800"/>
          </a:xfrm>
        </p:grpSpPr>
        <p:pic>
          <p:nvPicPr>
            <p:cNvPr id="166" name="图片 5" descr=""/>
            <p:cNvPicPr/>
            <p:nvPr/>
          </p:nvPicPr>
          <p:blipFill>
            <a:blip r:embed="rId3"/>
            <a:stretch/>
          </p:blipFill>
          <p:spPr>
            <a:xfrm>
              <a:off x="1908000" y="2854440"/>
              <a:ext cx="3381480" cy="25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20"/>
            <p:cNvSpPr/>
            <p:nvPr/>
          </p:nvSpPr>
          <p:spPr>
            <a:xfrm>
              <a:off x="2429640" y="3053880"/>
              <a:ext cx="2581200" cy="95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微软雅黑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32000" y="1198440"/>
            <a:ext cx="2952720" cy="2592360"/>
            <a:chOff x="1332000" y="1198440"/>
            <a:chExt cx="2952720" cy="2592360"/>
          </a:xfrm>
        </p:grpSpPr>
        <p:pic>
          <p:nvPicPr>
            <p:cNvPr id="169" name="图片 2" descr=""/>
            <p:cNvPicPr/>
            <p:nvPr/>
          </p:nvPicPr>
          <p:blipFill>
            <a:blip r:embed="rId4"/>
            <a:stretch/>
          </p:blipFill>
          <p:spPr>
            <a:xfrm>
              <a:off x="1332000" y="1198440"/>
              <a:ext cx="295272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20"/>
            <p:cNvSpPr/>
            <p:nvPr/>
          </p:nvSpPr>
          <p:spPr>
            <a:xfrm>
              <a:off x="1709640" y="1432800"/>
              <a:ext cx="220788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62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4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537080" cy="4537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75040" y="1176480"/>
            <a:ext cx="3326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48360" y="403560"/>
            <a:ext cx="29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-31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45080" y="2059920"/>
            <a:ext cx="4390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1572000">
            <a:off x="6229440" y="479520"/>
            <a:ext cx="26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楷体_GB2312"/>
              </a:rPr>
              <a:t>教师的话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微软用户</cp:lastModifiedBy>
  <cp:lastPrinted>1899-12-30T00:00:00Z</cp:lastPrinted>
  <dcterms:modified xsi:type="dcterms:W3CDTF">2012-09-19T12:34:08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