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image14.gif" ContentType="image/gif"/>
  <Override PartName="/ppt/media/image9.jpeg" ContentType="image/jpeg"/>
  <Override PartName="/ppt/media/image8.gif" ContentType="image/gif"/>
  <Override PartName="/ppt/media/image12.jpeg" ContentType="image/jpeg"/>
  <Override PartName="/ppt/media/image15.jpeg" ContentType="image/jpeg"/>
  <Override PartName="/ppt/media/image13.gif" ContentType="image/gif"/>
  <Override PartName="/ppt/media/chimes.wav" ContentType="audio/x-wav"/>
  <Override PartName="/ppt/media/image4.gif" ContentType="image/gif"/>
  <Override PartName="/ppt/media/image1.png" ContentType="image/png"/>
  <Override PartName="/ppt/media/image2.jpeg" ContentType="image/jpeg"/>
  <Override PartName="/ppt/media/whoosh.wav" ContentType="audio/x-wav"/>
  <Override PartName="/ppt/media/image5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6D91-84C7-43C4-94F6-AEA981C50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9F81-6D5B-4E7E-80DE-C8AEC82EF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2CAD-4268-42A1-B763-1DB23C7F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BF2E-D5C4-4EF4-9F71-319DDBC0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CF65-A352-422D-AA4C-E2E4B821D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99E8-E60A-4DA2-B40F-46FB2D69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6CA6-9D72-4241-A91B-3CA5730E2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A6C5-0561-4E91-A720-86EC3271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72D6-591A-4C3D-ABFA-BD5CF3666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0AA3-46AE-4F3D-A0A0-121B3440A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D709-00EE-41E7-8264-15C676BC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D2CF-70B6-434A-84C9-3621E71B1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8A1C-1585-46DE-BD14-0977A898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645A-756A-413E-B5DE-FD97D6D2E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BA81-043C-4FDC-BC5D-74352A4A6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887-6587-4899-8E9D-21FC9540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7D0-D0FE-4C8F-A380-F1EBCFF1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4E6-FB2F-405B-B70B-90ED4D18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208-B3C4-409D-8383-C715D14C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B34-4A8D-4E8C-B7DD-6CE7F5C7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520-7FCD-40E9-972C-8DB1E758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231-4CB6-4C2E-B40E-045DDDD9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0D9-E90D-4C20-857A-30C5CBC4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86B-AF0B-47A7-BC0D-B1809EAD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817-0766-48DD-B2ED-99CD8D2F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0BD-E29D-4FE7-9BC8-FEE7F1E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B70-18DD-4166-9A41-BFE2204A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3181-8090-49C4-93B8-2EED2B4EA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彩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-152280" y="1143000"/>
            <a:ext cx="8686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阳光总在风雨后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50" name="许美静-阳光总在风雨后.mp3" descr=""/>
          <p:cNvPicPr/>
          <p:nvPr/>
        </p:nvPicPr>
        <p:blipFill>
          <a:blip r:embed="rId2"/>
          <a:stretch/>
        </p:blipFill>
        <p:spPr>
          <a:xfrm>
            <a:off x="685800" y="6095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hip%20(12)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67480" y="4267080"/>
            <a:ext cx="1676520" cy="1301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79280" y="220968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迪生曾经试用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不同的材料作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魏碑简体"/>
              </a:rPr>
              <a:t>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灯泡的灯丝，都没有成功。有人批评他：“你已经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失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了。”可是爱迪生不这么认为，他充满自信地说：“我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成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在于发现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材料不适合做灯丝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380880" y="53352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爱迪生从挫折中找回自信：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995640" y="476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本的挫折教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小小阅读卡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121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孩子的心理素质被世人称道，源于其重视“挫折教育”。日本的挫折教育简单地说，就是让孩子自小受到艰难困苦的磨练，以培养坚忍不拔的意志和毅力。日本的幼儿园有一条不成文的规定：每逢冬天，幼儿都要赤身裸体于风雪之中摸爬滚打一定时间。天寒地冻，不少幼儿嘴唇冻得发紫，浑身发抖，但站在一边的家长们个个“铁石心肠”，没有一个上前搂住自己的孩子。他们知道，只有这样才能换来孩子真正的健康。在日本，不少中小学还兴起一种“穷留学”之风，即富裕的大城市中小学生到偏远的山区村寨接受艰苦的生活训练。日本人教育孩子有句名言：除了阳光和空气是大自然赐予的，其他一切都要通过劳动获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228600" y="228600"/>
            <a:ext cx="2666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说一说：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26920" y="1989000"/>
            <a:ext cx="792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挫折磨练人生的格言、警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风中听竹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眨眼的小女孩2"/>
          <p:cNvPicPr/>
          <p:nvPr/>
        </p:nvPicPr>
        <p:blipFill>
          <a:blip r:embed="rId1"/>
          <a:stretch/>
        </p:blipFill>
        <p:spPr>
          <a:xfrm>
            <a:off x="0" y="2286000"/>
            <a:ext cx="320040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2"/>
          <p:cNvSpPr txBox="1"/>
          <p:nvPr/>
        </p:nvSpPr>
        <p:spPr>
          <a:xfrm>
            <a:off x="1116000" y="260280"/>
            <a:ext cx="2666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议一议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590920" y="1773360"/>
            <a:ext cx="655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通过学习以后，你今后会如何面对挫折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2" descr="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假如生活欺骗了你.mp3" descr=""/>
          <p:cNvPicPr/>
          <p:nvPr/>
        </p:nvPicPr>
        <p:blipFill>
          <a:blip r:embed="rId2"/>
          <a:stretch/>
        </p:blipFill>
        <p:spPr>
          <a:xfrm>
            <a:off x="75564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1258920" y="252360"/>
            <a:ext cx="6264360" cy="64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假如生活欺骗了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普希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假如生活欺骗了你，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不要悲伤，也不要气愤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愁苦的日子里，要心平气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相信吧，快乐的日子会来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心儿为将来而热烈地跳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眼前的事情虽叫人悲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但一切转眼就会消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事情一过去，便成为欢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5433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1125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好心的老人，在草地上，发现了一个蛹，他把蛹带回家。过了几天，蛹壳上出现了一道小裂缝，里面的蝴蝶挣扎了好几个小时，身体似乎被卡住了，一直出不来。老人看着于心不忍，于是，他拿剪刀把蛹壳剪开，帮助蝴蝶脱蛹而出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WordArt 5" descr=""/>
          <p:cNvPicPr/>
          <p:nvPr/>
        </p:nvPicPr>
        <p:blipFill>
          <a:blip r:embed="rId1"/>
          <a:stretch/>
        </p:blipFill>
        <p:spPr>
          <a:xfrm>
            <a:off x="171360" y="0"/>
            <a:ext cx="4388040" cy="1176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68360" y="530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可是，这只蝴蝶的身躯臃肿，翅膀干瘪，根本就飞不起来，不久就死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228600" y="228600"/>
            <a:ext cx="2666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说一说：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2590920" y="152280"/>
            <a:ext cx="6553080" cy="3276720"/>
          </a:xfrm>
          <a:prstGeom prst="cloudCallout">
            <a:avLst>
              <a:gd name="adj1" fmla="val -43314"/>
              <a:gd name="adj2" fmla="val 6114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57600" y="76212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蝴蝶为什么会死去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E01561_"/>
          <p:cNvPicPr/>
          <p:nvPr/>
        </p:nvPicPr>
        <p:blipFill>
          <a:blip r:embed="rId1"/>
          <a:stretch/>
        </p:blipFill>
        <p:spPr>
          <a:xfrm>
            <a:off x="0" y="3816360"/>
            <a:ext cx="4583160" cy="304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BJ_040"/>
          <p:cNvPicPr/>
          <p:nvPr/>
        </p:nvPicPr>
        <p:blipFill>
          <a:blip r:embed="rId2"/>
          <a:stretch/>
        </p:blipFill>
        <p:spPr>
          <a:xfrm>
            <a:off x="5638680" y="4789440"/>
            <a:ext cx="3124440" cy="206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990720" y="609480"/>
            <a:ext cx="3276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谈一谈：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990720" y="2438280"/>
            <a:ext cx="76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  <a:ea typeface="华文行楷"/>
              </a:rPr>
              <a:t>    </a:t>
            </a: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行楷"/>
              </a:rPr>
              <a:t>你们曾经历过的挫折。你们是如何面对挫折的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95280" y="299736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人之逆境十之八九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68360" y="1341360"/>
            <a:ext cx="419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古语说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生长着的鲜花"/>
          <p:cNvPicPr/>
          <p:nvPr/>
        </p:nvPicPr>
        <p:blipFill>
          <a:blip r:embed="rId1"/>
          <a:stretch/>
        </p:blipFill>
        <p:spPr>
          <a:xfrm>
            <a:off x="611280" y="5373720"/>
            <a:ext cx="705636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002_JPG"/>
          <p:cNvPicPr/>
          <p:nvPr/>
        </p:nvPicPr>
        <p:blipFill>
          <a:blip r:embed="rId1"/>
          <a:stretch/>
        </p:blipFill>
        <p:spPr>
          <a:xfrm>
            <a:off x="0" y="3357720"/>
            <a:ext cx="1932120" cy="35002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/>
          <p:cNvSpPr/>
          <p:nvPr/>
        </p:nvSpPr>
        <p:spPr>
          <a:xfrm>
            <a:off x="1835280" y="1341360"/>
            <a:ext cx="6697440" cy="2303640"/>
          </a:xfrm>
          <a:prstGeom prst="cloudCallout">
            <a:avLst>
              <a:gd name="adj1" fmla="val -49810"/>
              <a:gd name="adj2" fmla="val 65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843280" y="162864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今天我考试考差了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BD06518_"/>
          <p:cNvPicPr/>
          <p:nvPr/>
        </p:nvPicPr>
        <p:blipFill>
          <a:blip r:embed="rId2"/>
          <a:stretch/>
        </p:blipFill>
        <p:spPr>
          <a:xfrm>
            <a:off x="5029200" y="4229280"/>
            <a:ext cx="4114800" cy="2628720"/>
          </a:xfrm>
          <a:prstGeom prst="rect">
            <a:avLst/>
          </a:prstGeom>
          <a:ln w="0">
            <a:noFill/>
          </a:ln>
        </p:spPr>
      </p:pic>
      <p:sp>
        <p:nvSpPr>
          <p:cNvPr id="73" name="WordArt 8"/>
          <p:cNvSpPr txBox="1"/>
          <p:nvPr/>
        </p:nvSpPr>
        <p:spPr>
          <a:xfrm>
            <a:off x="539640" y="404640"/>
            <a:ext cx="2664000" cy="10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小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79280" y="55872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数学试卷发放后的教室里，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正在议论这次考试，观点各不相同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今天数学考试才考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分，哎，真倒霉，运气这么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我和你考得差不多，不要这么唉声叹气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可我复习了好几遍了。这回又要挨骂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我觉得今天天气太热了，我很烦躁，没有全身心的投入，所以考砸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你们不要这样咯，唉声叹气有什么用。我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分，有什么办法呢？谁叫爸妈生得我这么笨，爸爸妈妈也不会骂我，我去玩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要我说是这张试卷太难了，要是简单一些，我才不至于这么几分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吹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我觉得试卷并不是很难，主要是我太粗心了，因此而失去将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呢，以后我一定加倍仔细。争取下一次考得好一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250920" y="0"/>
            <a:ext cx="23763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小品的内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684360" y="189000"/>
            <a:ext cx="3124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请举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708360" y="220500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ff"/>
                </a:solidFill>
                <a:latin typeface="Arial"/>
                <a:ea typeface="隶书"/>
              </a:rPr>
              <a:t>伟人、有成就之人受挫之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E01753_"/>
          <p:cNvPicPr/>
          <p:nvPr/>
        </p:nvPicPr>
        <p:blipFill>
          <a:blip r:embed="rId1"/>
          <a:stretch/>
        </p:blipFill>
        <p:spPr>
          <a:xfrm>
            <a:off x="304920" y="3200400"/>
            <a:ext cx="267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179280" y="220968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迪生曾经试用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不同的材料作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魏碑简体"/>
              </a:rPr>
              <a:t>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灯泡的灯丝，都没有成功。有人批评他：“你已经失败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了。”可是爱迪生不这么认为，他充满自信地说：“我的成功就在于发现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材料不适合做灯丝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380880" y="53352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爱迪生从挫折中找回自信：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lu</cp:lastModifiedBy>
  <dcterms:modified xsi:type="dcterms:W3CDTF">2019-10-29T02:36:58Z</dcterms:modified>
  <cp:revision>3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053</vt:lpwstr>
  </property>
  <property fmtid="{D5CDD505-2E9C-101B-9397-08002B2CF9AE}" pid="3" name="Version">
    <vt:r8>1</vt:r8>
  </property>
</Properties>
</file>