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18C8-D238-47F3-815E-D11568EDA7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3C0-A5FE-4F75-A31A-419C8C031EA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BBA-8BE6-4061-B181-B8024854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873-1DFF-4594-9390-C8B8409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171-D0BC-438D-BCFB-89E5A437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13E-8F51-4A47-AECB-BD64BA2C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795-A393-4CDE-BFA7-07E28373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22DD-C8BB-49BF-A5DB-2CA7AE28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9AAD-4114-4C3E-A34B-0AC19A3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A30E-C5FA-4715-BB4A-FE2CFC9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0BC9-2CD5-496E-9B9B-9E756DD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17A2-C828-41D1-98D4-61CC5389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399E-17EC-4EB4-8FA8-38B2CF9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172-3174-46CB-93DC-45125DC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E51-16D6-47DE-AF75-6BF7AAA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569A-1A1C-46F1-A9F3-9D0F583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E958-DD94-4BE2-B9C8-A9B9C542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6EB0-B0A5-4A7E-9275-BAABD727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0B29-8380-4ECE-84FF-0E03244C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4D8C-16D4-476A-9624-A00CF770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7E60-D629-4582-B782-5E077A6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BDE1-9384-44FF-B1E6-480433C9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FA61-0847-44EB-9AE7-780E17F5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D7F2-4FEA-4C1C-88B8-549256C9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AA9-DC30-4727-8F30-13C2D39D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FEC3-964A-49EC-9BE4-F988D790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E38B-618C-4065-8575-28A905E1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8D6F-2BAC-489A-AA51-87AF13B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672B-33A0-410D-B075-F55FA2C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7DEF-9746-4167-91FC-B618979C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0AF1-EFDC-434D-98E3-C3739901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D710-DCCC-4F07-8C4F-5B2CAA5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911-4028-4263-B2F4-EB48481B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C5B-B024-49FA-9FE5-7E56C82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653-49C9-43E7-8935-6BD18E3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483-5A9E-481D-B37A-E19E279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3C5-94B1-4288-859A-681688E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8A8-932E-4586-AB6C-9AF0076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BAB-EAD2-43CA-B03B-9F4AF34B7D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64D-520A-42E9-AA72-2F799F903B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E09-8936-4D5B-A94F-94BB9756DC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2064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雷锋精神，共创和谐校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15568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92888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195120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39640" y="27208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总书记全面而系统地对雷锋和雷锋精神进行了精辟的总结：“一个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短暂生命的普通共产党员，能够赢得亿万人民如此崇高和长久的敬意；一个普通的战士所表现出的高贵品质，能够激励几代人的健康成长；一个群众性的活动，能够在几十年历史进程中延续不断，影响一个时代的社会风尚，这表明雷锋精神对于我们这个民族和社会过去具有、现在仍然具有重大价值和时代意义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619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9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604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88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3353400"/>
            <a:ext cx="845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雷锋的名字已经超越了国界和疆域，全世界的人民在不同的国度用不同语言读着他的故事，在不同的岗位怀着同样的真诚学着他的精神。美国人说：“雷锋属于世界。”巴西人说：“雷锋应是精神领袖。”日本人说：“要像雷锋那样生活。”美国专门成立了学习雷锋研究会，泰国政府专门翻印《雷锋》图书发给国民学习，美国西点军校的大厅里悬挂着五位“英雄像”，首位就是雷锋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03400" y="404640"/>
            <a:ext cx="3168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雷锋在国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5877000"/>
            <a:ext cx="6769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讨论：我们将怎样践行雷锋精神？</a:t>
            </a:r>
            <a:endParaRPr b="0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8000" cy="151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44364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华山抢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160" y="1773360"/>
            <a:ext cx="835632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外出办事、不慎迷失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赶着办急事却挤不上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买东西缺少一分钱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不小心摔跤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搬不动重的东西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的车坏了时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下雨时忘了带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上课时病痛难忍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00000" y="3213000"/>
            <a:ext cx="775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们生活中学习中处处时时需要雷锋的帮助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77080" y="4543560"/>
            <a:ext cx="2266920" cy="23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4192560"/>
            <a:ext cx="2278080" cy="26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268360" cy="196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23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1285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凡是看到需要帮助的人，他都毫不犹豫地伸出热情的双手。究竟为别人做了多少好事，连他自己都记不住了。多年来，除了给希望工程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，他还帮助身边有困难的人和向社会慈善事业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。汶川大地震后，他不仅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次捐款，还交了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050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元特殊党费。正是由于他几十年如一日无怨无悔、不求任何回报的付出，使他拥有了强大的人格魅力，感动了身边的每一个人，也激发了他们对高尚品德和完美人格的追求与渴望。这就是郭明义他先后荣获了齐矿先进生产者标兵、模范共产党员，矿业公司先进生产者、模范共产党员，鞍钢先进生产者、精神文明建设标兵、优秀共产党员、鞍钢劳动模范，鞍山市优秀义工、道德模范、无偿献血形象代言人、特等劳动模范、辽宁省道德模范提名奖、希望工程突出贡献奖、全国无偿献血奉献奖金奖、全国红十字志愿者之星、中央企业优秀共产党员等荣誉称号。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日，齐大山铁矿党政工做出了《关于开展向郭明义同志学习活动的决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2152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活雷锋 郭明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352728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忠于革命忠于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爱憎分明不忘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艰苦朴素永不忘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愿做革命的螺丝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主席的教导记心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全心全意为人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泽东思想来武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保卫祖国握紧枪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0"/>
            <a:ext cx="730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《学习雷锋好榜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5975640" cy="511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678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849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9440" cy="6048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333360"/>
            <a:ext cx="374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333360"/>
            <a:ext cx="266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班主任寄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做好分内的事，做好身边的小事，怀着一颗感恩的心去学习、生活，共创和谐校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学习雷锋好榜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9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忠于革命忠于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憎分明不忘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艰苦朴素永不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愿做革命的螺丝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786200" y="928800"/>
            <a:ext cx="45720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主席的教导记心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心全意为人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泽东思想来武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卫祖国握紧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56720" y="2779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497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雷锋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4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出生于湖南省一个贫苦家庭，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岁成为孤儿。解放后，在党和政府的关怀下读书、工作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参加人民解放军，同年加入中国共产党。他乐以助人，大公无私，对工作精益求精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2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，不幸因公殉职。是一位伟大的共产主义战士，是我国社会主义时期一代新人的光辉典范。雷锋在其短暂而光辉的一生中所体现出来的爱国、爱党、爱社会主义的坚定信念，刻苦钻研科学理论的钉子精神，全心全意为人民服务的崇高品质，助人为乐、无私奉献的高尚情操，艰苦奋斗、忘我工作的优良作风，给我们留下了宝贵的精神财富，产生了广泛而深远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0240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56520" y="3573360"/>
            <a:ext cx="1155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雷锋简介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250920" y="1844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85840" y="7142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雷锋外出在沈阳站换车的时候，一出检票口，发现一群人围看一个背着小孩的中年妇女，原来这位妇女从山东去吉林看丈夫，车票和钱丢了。雷锋用自己的津贴费买了一张去吉林的火车票塞到大嫂手里，大嫂含着眼泪说：“大兄弟，你叫什么名字，是哪个单位的？“雷锋说：“我叫解放军，就住在中国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月的一天，雷锋冒雨要去沈阳，他为了赶早车，早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多就起来，带了几个馒头就披上雨衣上路了，路上，看见一位妇女背着一个小孩，手还领着一个小女孩也正艰难地向车站走去。雷锋脱下身上的雨衣披在大嫂身上，又抱起小女孩陪他们一起来到车站，上车后，雷锋见小女孩冷得发颤，又把自己的贴身线衣脱下来给她穿上，雷锋估计她早上也没吃饭，就把自己带的馒头给她们吃。火车到了沈阳，天还在下雨，雷锋又一直把她们送到家里。那位妇女感激地说：“同志，我可怎么感谢你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hiphotos.baidu.com/qsndxq/pic/item/d15df2547008124ad10906b3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9920" y="2676600"/>
            <a:ext cx="58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请问大家还知道哪些</a:t>
            </a:r>
            <a:br>
              <a:rPr sz="4600"/>
            </a:b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雷锋事迹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60422232701799"/>
          <p:cNvPicPr/>
          <p:nvPr/>
        </p:nvPicPr>
        <p:blipFill>
          <a:blip r:embed="rId1"/>
          <a:stretch/>
        </p:blipFill>
        <p:spPr>
          <a:xfrm>
            <a:off x="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zh-CN" sz="4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 定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辽宁抚顺雷锋纪念馆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1382400"/>
            <a:ext cx="461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始建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又建新馆，占地面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5.67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万平方米。主要纪念建筑物有雷锋纪念碑、雷锋墓、雷锋塑像和雷锋事迹陈列馆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日，中共中央总书记江泽民参观雷锋纪念馆，并题写馆名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5-022052903"/>
          <p:cNvPicPr/>
          <p:nvPr/>
        </p:nvPicPr>
        <p:blipFill>
          <a:blip r:embed="rId1"/>
          <a:stretch/>
        </p:blipFill>
        <p:spPr>
          <a:xfrm>
            <a:off x="395280" y="981000"/>
            <a:ext cx="3730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1639800"/>
            <a:ext cx="86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人的生命是有限的，可是，为人民服务是无限的，我要把有限的生命，投入到无限的为人民服务中去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待同志要像春天般的温暖，对待工作要像夏天一样的火热，对待个人主义要像秋风扫落叶一样，对待敌人要像严冬一样残酷无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344040" y="262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行楷"/>
                <a:ea typeface="华文行楷"/>
              </a:rPr>
              <a:t>雷锋名言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5564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3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块好好的木板，上面一个眼也没有，但钉子为什么能钉进去呢？原来是靠压力硬挤进去的，硬钻进去的。由此看来，钉子有两个长处：一个是挤劲，一个是钻劲。我们在学习上，也要提倡这种‘钉子’精神，善于挤和善于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“要记住：‘在工作上，要向积极性最高的同志看齐；在生活上，要向水平最低的同志看齐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19:36Z</dcterms:created>
  <dc:creator>微软中国</dc:creator>
  <dc:description/>
  <dc:language>en-US</dc:language>
  <cp:lastModifiedBy>User</cp:lastModifiedBy>
  <dcterms:modified xsi:type="dcterms:W3CDTF">2014-02-11T19:08:14Z</dcterms:modified>
  <cp:revision>66</cp:revision>
  <dc:subject/>
  <dc:title>幻灯片 1</dc:title>
</cp:coreProperties>
</file>