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gif" ContentType="image/gif"/>
  <Override PartName="/ppt/media/image13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34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907A-FF2A-4B2E-8D28-2A00AA52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4B2-5A4F-4D81-9BDE-DD8A1774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8CB6C-CEF9-43D1-9D31-620230A4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F2FB0-8906-47A3-967A-00DB0452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E6FF6-B86C-49EC-ACEB-5765EB10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04A0A-4A77-4E0B-8DBB-7DB8BB83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24DBB-C9C9-404D-9FE7-D6009C64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49ADC-4C96-4CA4-AF60-39B557C0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ADDE7-68E4-41D5-B31B-18B9861C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36CAA-0E90-432E-B5B8-29749CAB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7DB16-E2BC-4F8C-A8F4-ACAAAB2F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0E541-F84A-45EC-96FE-D57A2511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8868-598E-48B0-BC6E-10858BE4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36566-AE80-443F-ABD7-52152515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6DC21-6E31-4BF2-839C-AD98FCD7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5DCEE-193A-4458-B4D7-D36D93CF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74184-244A-4C6A-A843-EF42B56B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6C793-C736-4085-8933-483966EB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BBBA0-07CD-4C0F-8570-5ACF9E8C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00F5D-D00E-4E8E-8AC2-D17D3ACA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1B60A-7646-442D-9AFA-5492E17F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2C7B6-6D2A-416D-BDEA-3D323579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BB289-F1CB-4823-B7D5-2FE2591D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1878-4201-4E48-BCA7-55EC353D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0A8B8-A296-4668-9892-D8A195BF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C0887-CE59-4E18-9543-630C96B0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D9F65-325D-4812-AD27-B9726A38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D911A-F59C-4EBD-8C41-71BDF330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45662-0541-4986-B8EA-811BF2A6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B3A25-4A74-4302-8AA4-B55D0BB3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055E6-4602-4B91-924C-2CFB846A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526E6-282B-42B5-8AEF-67A39183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C0BFD-3805-4CEE-87FB-B406EF67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21CCD-27CF-4CD7-9EC1-9BE42F3B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3BBA-D1DE-4237-9499-328D04A4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6CDD5-79E7-4FE2-8260-E0BE5F01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3EF65-A041-4EF1-B047-63BF2CE3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0F92B-B1F2-4759-981F-1A564F17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717D-0947-4CE2-A5F4-F399160C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F8C4-1CAD-4F2A-982C-B44FD71D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298D-4693-460D-8B6F-520921DF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CC4F-EF2E-495B-BD1E-0D5B4C1C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2DBF-CCD1-4E5C-8568-F85BE19F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FBE6-6175-4FCE-ADA5-8C8CC247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4BC-43CA-4AC1-8037-C141637E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3330-AF3B-4836-91C9-1666E843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739A-90A6-4C45-9F46-A8B0F728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E2AE-C099-44AF-A219-2C17E7A5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1E11-B15E-4755-A4AE-272513CB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3017-FC5A-4B39-B9E6-5B6D76F8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1EAFB-90DA-41B5-990A-4DB626E1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94F9A-FEC6-4FD1-9FA1-9A989DC9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0C282-D86D-4271-A11C-9171C29C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A4410-9C37-4E8D-838A-C424E03D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678BC-609F-46E4-AF5F-CC789A11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D28-BCE1-4A1E-87C4-8348757F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8D856-F541-47F0-8DD0-357D3740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2D513-D791-44A4-B877-0DFBA8D0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18401-20CC-4167-A9F5-792C402B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16EF1-6A6B-4777-82A4-0E41C353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FE993-CFF3-4B23-9AA4-DA44F60F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BABC5-24EB-439F-B4C7-71745223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C0BED-9B31-44B0-B237-C7383F9B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1BBBE-8E81-4FAF-88AB-623BC8EA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3DEF5-97D6-47FF-BBC8-C95B81A3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DCEDE-889F-463B-AD6A-C41AEABC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258C-6B68-4E79-9D85-4C959A3D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AF46B-E804-460A-981B-86676F10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835A3-ABFC-4E93-952A-094A5368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C9F82-DF05-43DD-A76A-5CF098EB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791EC-4AAA-4BC5-AC90-20E94512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65A3B-F17A-4AFA-8EC8-3DC4CB9F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63403-B9FA-4689-90FD-0C31B8E7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6E166-598A-4D19-9D85-68ACF99B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93BE8-64B4-4A18-BC25-3DB8B40D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3C074-5F39-4C49-93B5-8CF14017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84832-A167-4730-BA02-CAA847BB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6BF2-4056-4B56-AA65-83B7F438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0DF2E-312B-49A6-B00E-165B5D2E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191B9-57C5-4400-9664-E6CF7C2C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28578-8CE3-40D6-93D5-5811913B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604D6-D680-4F4E-B975-12F5A448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D16C4-309D-44EB-BCB3-93674124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31337-9D19-4D6F-8921-56CA57A9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B7043-B6BE-4731-B718-BD5E3631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3EAAE-86C5-4AEC-BD4C-C98867F5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9C1B4-D7B2-45EA-A2B3-F1959DC3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B7AC3-B7DC-4939-A2A8-FEC4A420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C360-C00B-4F6A-A590-33978092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D0568-9DB1-44FC-B5BB-153BE4E4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152F0-20D5-4BF3-80C7-189DE822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CF5E2-4F9A-45FB-8EBA-87DC800E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3E4F3-4B92-4A29-A0E1-BFCC653F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34836-D703-424E-900E-B9D85610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9D1AC-5830-4D7E-9FCA-74413D12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DC67C-1058-4220-8C9E-61D46DBC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E7795-93EC-4654-9D89-20DEA15C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61BFC-5F3F-45E5-AB79-A6CA59E9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B39F2-F2BE-4568-95C1-04E5269B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1426-9722-42BD-A2B8-578837FD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F2094-77F5-4917-B6A0-9F80160B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D67E2-3179-4BEC-BF35-1693BB32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6BE49-BE8A-4A3F-93E6-37D13A73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09456-26DB-48A2-A029-7921F4CA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A3A2F-B8A0-46A3-BD28-B816DE01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1CBD3-5249-4866-B79E-4EB64A2E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DED28-0DFA-4EA8-BF45-0CA1B38E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A97EB-7D3E-44F4-9C37-42B2B37C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49294-8BD7-4151-866D-6F0403AF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FC14D-33E6-4669-9DD0-9AC6C488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5E9-2968-4596-8CEF-8709B099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D3160-C95C-40CE-8040-FBD0C6D5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AAC6C-664C-4FF5-8EEE-5BF2EDE5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8F2AC-7ED2-4B34-96F5-D25FA685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5557D-80A3-4D8C-8434-6DF4C985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01E15-0D17-4B3E-B1E4-88F2D02C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9E3AC-0C6B-4D0C-BD45-B360693D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A660D-F4EF-4427-9180-325E2A35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85A94-3E9B-4CA1-B618-C3652009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98156-948C-4213-97BF-07085D38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381E4-81C7-47D1-806D-21A8A294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B8E-CE63-4F6B-824B-731D3F09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09B54-C91C-4E65-A0B4-CD768C23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2FE5D-00D0-4316-87F8-96DB840A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26AD8-2BE0-41FF-A7E8-8B16AEB8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E4872-E4F2-4B70-A5B1-8372AC0F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312C5-39F9-4645-87A0-FBE6ABA0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8861A-05F9-41CB-8C35-15D51917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E0BB8-DCD1-44B2-8A8E-98617B13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C1004-CDD9-4344-8D42-FEC0C08A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1F0BE-97C5-412F-90D2-287C80F2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4C7A9-B689-4C22-B5B1-C0141D10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1AF8-A165-4D92-9F9E-6B5D195F71F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0609-A2E0-405E-9B40-B74B14EFB0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A837-C345-4E3D-9BFD-7FF9A7EC0D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0F97-7AED-4791-A448-20F9B3641D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7A08-42DC-4BBD-8F70-AE200C6D6E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F27A-900C-4006-866C-CD8EA062D8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07D4-2EB6-4ED4-A8EB-94B15D6A6F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FD3F-D487-4864-A2E4-626C764AD6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2186-6718-45CA-8D18-5F6172A563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DCA7-0255-41B4-A544-8532DE366E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86C2-501A-4FAC-9748-6DAF73F3E5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4D5B-2DE4-4CBA-A33F-5F5D1DFB22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-1,16,&#24187;&#28783;&#29255; 16" TargetMode="External"/><Relationship Id="rId3" Type="http://schemas.openxmlformats.org/officeDocument/2006/relationships/hyperlink" Target="-1,24,&#24187;&#28783;&#29255; 24" TargetMode="External"/><Relationship Id="rId4" Type="http://schemas.openxmlformats.org/officeDocument/2006/relationships/hyperlink" Target="-1,26,&#24187;&#28783;&#29255; 26" TargetMode="External"/><Relationship Id="rId5" Type="http://schemas.openxmlformats.org/officeDocument/2006/relationships/hyperlink" Target="-1,30,&#24187;&#28783;&#29255; 30" TargetMode="External"/><Relationship Id="rId6" Type="http://schemas.openxmlformats.org/officeDocument/2006/relationships/hyperlink" Target="-1,35,&#24187;&#28783;&#29255; 35" TargetMode="External"/><Relationship Id="rId7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../../../../../mp3/&#27468;&#26354;/&#26126;&#22825;&#20250;&#26356;&#22909;.swf" TargetMode="External"/><Relationship Id="rId3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WIN7_Themepack_Choobies/choobies_05.html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2052" descr="图片1"/>
          <p:cNvPicPr/>
          <p:nvPr/>
        </p:nvPicPr>
        <p:blipFill>
          <a:blip r:embed="rId1"/>
          <a:stretch/>
        </p:blipFill>
        <p:spPr>
          <a:xfrm>
            <a:off x="-60948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52" name="矩形 2053"/>
          <p:cNvSpPr txBox="1"/>
          <p:nvPr/>
        </p:nvSpPr>
        <p:spPr>
          <a:xfrm>
            <a:off x="611280" y="189000"/>
            <a:ext cx="6553080" cy="15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66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我们在路上</a:t>
            </a:r>
            <a:endParaRPr b="1" lang="en-US" sz="66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  <a:gradFill rotWithShape="0">
                <a:gsLst>
                  <a:gs pos="0">
                    <a:srgbClr val="33ccff"/>
                  </a:gs>
                  <a:gs pos="100000">
                    <a:srgbClr val="ff66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14337" descr="W020040210357697187519"/>
          <p:cNvPicPr/>
          <p:nvPr/>
        </p:nvPicPr>
        <p:blipFill>
          <a:blip r:embed="rId1"/>
          <a:stretch/>
        </p:blipFill>
        <p:spPr>
          <a:xfrm>
            <a:off x="1116000" y="0"/>
            <a:ext cx="6696000" cy="5910120"/>
          </a:xfrm>
          <a:prstGeom prst="rect">
            <a:avLst/>
          </a:prstGeom>
          <a:ln w="0">
            <a:noFill/>
          </a:ln>
        </p:spPr>
      </p:pic>
      <p:sp>
        <p:nvSpPr>
          <p:cNvPr id="477" name="矩形 14338"/>
          <p:cNvSpPr/>
          <p:nvPr/>
        </p:nvSpPr>
        <p:spPr>
          <a:xfrm>
            <a:off x="0" y="5804280"/>
            <a:ext cx="853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华文新魏"/>
              </a:rPr>
              <a:t>最困难之时就是离成功不远之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14339"/>
          <p:cNvSpPr/>
          <p:nvPr/>
        </p:nvSpPr>
        <p:spPr>
          <a:xfrm>
            <a:off x="0" y="333360"/>
            <a:ext cx="644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我相信这样的一个现实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9217" descr="15998d7b216501e10ad187eb"/>
          <p:cNvPicPr/>
          <p:nvPr/>
        </p:nvPicPr>
        <p:blipFill>
          <a:blip r:embed="rId1"/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  <p:sp>
        <p:nvSpPr>
          <p:cNvPr id="480" name="文本框 9218"/>
          <p:cNvSpPr/>
          <p:nvPr/>
        </p:nvSpPr>
        <p:spPr>
          <a:xfrm>
            <a:off x="0" y="26766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吃了第一个馒头，没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吃了第二个馒头，还没有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吃了第三个馒头，饱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由此下结论，只要吃第三个馒头就可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实，没有第一、第二两个馒头的基础，哪有第三个馒头的效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9219"/>
          <p:cNvSpPr/>
          <p:nvPr/>
        </p:nvSpPr>
        <p:spPr>
          <a:xfrm>
            <a:off x="1476360" y="1052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馒头理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图片 9220" descr="11_3_8-2"/>
          <p:cNvPicPr/>
          <p:nvPr/>
        </p:nvPicPr>
        <p:blipFill>
          <a:blip r:embed="rId2"/>
          <a:stretch/>
        </p:blipFill>
        <p:spPr>
          <a:xfrm>
            <a:off x="5940360" y="692280"/>
            <a:ext cx="2627280" cy="23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图片 26627" descr="f2264c23780b51539258078b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个小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游泳教练与“聪明的学员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　一次一个游泳教练在教导一群初学游泳的学员，为了克服学员不敢下水的心理，他拿了一个洋娃娃丢进游泳池，然后大声喊：“有小孩落到水了，大家赶快跳下去救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图片 27651" descr="f2264c23780b51539258078b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487" name="文本框 27649"/>
          <p:cNvSpPr/>
          <p:nvPr/>
        </p:nvSpPr>
        <p:spPr>
          <a:xfrm>
            <a:off x="762120" y="9144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同学们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如果你是其中的一位学员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你会怎么样做呢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隶书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27650"/>
          <p:cNvSpPr/>
          <p:nvPr/>
        </p:nvSpPr>
        <p:spPr>
          <a:xfrm>
            <a:off x="609480" y="2590920"/>
            <a:ext cx="8283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: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立刻跳进游泳池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B: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继续站在游泳池的边上无动于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图片 28675" descr="f2264c23780b51539258078b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68580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然后学员们听到了都争先恐后地跳到水里面去了。只有一位学员站在游泳池边不动，冷笑道：“想用这一招骗我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28674"/>
          <p:cNvSpPr/>
          <p:nvPr/>
        </p:nvSpPr>
        <p:spPr>
          <a:xfrm>
            <a:off x="914400" y="39625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他是全队学员中最最聪明的一位，可是很不幸也是全队学员中唯一没有学会游泳的一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30725" descr="f2264c23780b51539258078b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493" name="文本框 30721"/>
          <p:cNvSpPr/>
          <p:nvPr/>
        </p:nvSpPr>
        <p:spPr>
          <a:xfrm>
            <a:off x="2059200" y="1538280"/>
            <a:ext cx="4752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知道在适当的时候自动管制自己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就是聪明人。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华文行楷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雨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哪怕是自己的一点点克制，也后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变得强而有力。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华文行楷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尔基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30722"/>
          <p:cNvSpPr txBox="1"/>
          <p:nvPr/>
        </p:nvSpPr>
        <p:spPr>
          <a:xfrm>
            <a:off x="685800" y="533520"/>
            <a:ext cx="2666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记住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95" name="图片 30723" descr="A1019237511_13576"/>
          <p:cNvPicPr/>
          <p:nvPr/>
        </p:nvPicPr>
        <p:blipFill>
          <a:blip r:embed="rId2"/>
          <a:stretch/>
        </p:blipFill>
        <p:spPr>
          <a:xfrm>
            <a:off x="7238880" y="4419720"/>
            <a:ext cx="1295640" cy="13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图片 12291" descr="图片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7" name="矩形 12289"/>
          <p:cNvSpPr/>
          <p:nvPr/>
        </p:nvSpPr>
        <p:spPr>
          <a:xfrm>
            <a:off x="611280" y="2026080"/>
            <a:ext cx="79214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有人曾经这么说过：“伟大的事业不是靠力气、速度和身体的敏捷完成的，而是靠性格、意志和知识的力量完成的。”同学们，意志是成功的重要心理因素，为了我们将来能成就一番事业，就让我们从现在开始磨练我们的意志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图片 50177" descr="图片1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499" name="文本框 50178"/>
          <p:cNvSpPr/>
          <p:nvPr/>
        </p:nvSpPr>
        <p:spPr>
          <a:xfrm>
            <a:off x="468360" y="1268280"/>
            <a:ext cx="396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年轻的韶华里，我告诉我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己将有属于自己的生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要离开这没有明媚阳光的角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的生命没有时光的蹉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当看见升起的太阳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告诉我，必须锲而不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锲而不舍到明天，没有理由回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穿越云层的黑影，那是天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要坚持到发现彩虹终点的一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50179"/>
          <p:cNvSpPr/>
          <p:nvPr/>
        </p:nvSpPr>
        <p:spPr>
          <a:xfrm>
            <a:off x="5561280" y="1268280"/>
            <a:ext cx="2550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飘浮在自由的羽翅上，离开那些失落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要驰骋于明朝那金色的田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当沉重的旅行结束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将休息我疲惫的思索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那是为了融合世界的光明和它的丽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的生命没有时光的蹉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当看见落山的太阳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告诉我，必须锲而不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锲而不舍到明天，没有理由回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锲而不舍，锲而不舍，锲而不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50180"/>
          <p:cNvSpPr txBox="1"/>
          <p:nvPr/>
        </p:nvSpPr>
        <p:spPr>
          <a:xfrm>
            <a:off x="2627280" y="0"/>
            <a:ext cx="3200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锲而不舍到明天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图片 31747" descr="20081013055162231[1]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503" name="文本框 31745"/>
          <p:cNvSpPr/>
          <p:nvPr/>
        </p:nvSpPr>
        <p:spPr>
          <a:xfrm>
            <a:off x="324000" y="1212840"/>
            <a:ext cx="8496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年高考过后，总有同学留下遗憾或心有不甘：有的稀里糊涂进高三，晃晃悠悠就一年；有的手忙脚乱进考场，昏天黑地就“下课”；有的搏击题海身手不凡，剑走偏峰绝招不断，拿到考题方寸大乱；有的感觉良好阳光灿烂，考分下来天蹋地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其实，上述种种黑色遭遇的出现，半点也不奇怪。因为没有策划的高三，就没有成功的高考。进入高三，每个人的基础不一样，对自己的期望值也不一样，但一年的时间对每个人都是公平的，那么，如何利用这一年的时间，让自己最大程度地逼近甚至超过自己的预期目标呢？请跟我们来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31746"/>
          <p:cNvSpPr txBox="1"/>
          <p:nvPr/>
        </p:nvSpPr>
        <p:spPr>
          <a:xfrm>
            <a:off x="2340000" y="260280"/>
            <a:ext cx="41148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明年你会是这样吗？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图片 32771" descr="20081013055162231[1]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506" name="矩形 32769"/>
          <p:cNvSpPr txBox="1"/>
          <p:nvPr/>
        </p:nvSpPr>
        <p:spPr>
          <a:xfrm>
            <a:off x="914400" y="333360"/>
            <a:ext cx="35863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总结问题</a:t>
            </a:r>
            <a:endParaRPr b="1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24000" y="1386000"/>
            <a:ext cx="9296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“懒筋”没拔出，不够刻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对待练习不够认真，不刻苦钻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克制不住自己，无法进入学习状态，不想去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时间安排欠合理、科学，易受情绪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考试前没有认真复习，不懂的问题没有及时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考试时，太过粗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基础不够扎实，做练习太少，没能巩固好所学知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复习不全面，只是粗略地看了一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图片 4097" descr="C:\Users\Administrator\Desktop\新建文件夹\3.jpg3"/>
          <p:cNvPicPr/>
          <p:nvPr/>
        </p:nvPicPr>
        <p:blipFill>
          <a:blip r:embed="rId1"/>
          <a:stretch/>
        </p:blipFill>
        <p:spPr>
          <a:xfrm>
            <a:off x="-299880" y="-227160"/>
            <a:ext cx="9743760" cy="7312320"/>
          </a:xfrm>
          <a:prstGeom prst="rect">
            <a:avLst/>
          </a:prstGeom>
          <a:ln w="0">
            <a:noFill/>
          </a:ln>
        </p:spPr>
      </p:pic>
      <p:sp>
        <p:nvSpPr>
          <p:cNvPr id="454" name="文本框 4098"/>
          <p:cNvSpPr/>
          <p:nvPr/>
        </p:nvSpPr>
        <p:spPr>
          <a:xfrm>
            <a:off x="1752480" y="936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象有一家银行每天早上都在你的帐户里存入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6,4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可是每天的帐户余额都不能结转到明天，一到结算时间，银行就会把你当日未用尽的款项全数删除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这种情况下你会怎么做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4099"/>
          <p:cNvSpPr/>
          <p:nvPr/>
        </p:nvSpPr>
        <p:spPr>
          <a:xfrm>
            <a:off x="0" y="3657600"/>
            <a:ext cx="601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然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天不留分文地全数提领是最佳选择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可能不晓得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实我们每个人都有这样的一个银行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的名字是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「时间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(TIME)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」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图片 33794" descr="20081013055162231[1]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509" name="文本框 33793"/>
          <p:cNvSpPr/>
          <p:nvPr/>
        </p:nvSpPr>
        <p:spPr>
          <a:xfrm>
            <a:off x="468360" y="333360"/>
            <a:ext cx="80643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快乐战斗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做一个勇敢的堂吉柯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家一定看过堂吉柯德的故事，也许有人会嗤笑他的傻气幻想，人们大多把他当疯子，不过这并不妨碍我们对他的欣赏。堂吉柯德骑着老马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与天斗，与地斗，与人斗，其乐无穷，全然不理会身边的嘲笑，而是一步步向着自己心中的理想前进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认为高三最应该具备的，就是这种堂吉柯德式的精神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所谓堂吉柯德式的精神状态就是充满理想，充满激情，积极主动，信心百倍的状态。英文中有句谚语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great achievements were gained with enthusiasm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意思是说，没有激情成不了大事。 这里的激情就是指对成功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渴望，从内心里激发出来的对成功的追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35843" descr="20081013055162231[1]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511" name="文本框 35841"/>
          <p:cNvSpPr/>
          <p:nvPr/>
        </p:nvSpPr>
        <p:spPr>
          <a:xfrm>
            <a:off x="0" y="765000"/>
            <a:ext cx="88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很多同学才升入高三时雄心勃勃，也很有堂吉柯德式的感觉，但是没过多久就觉得身心疲惫，激情退却。其实这种所谓的激情，多数是被动的，主动调适的少，同学们感觉仿佛被绑在战车上，风驰电掣向前冲，惯性不得不使自己快速发生“位移”，所以学习起来缺乏兴奋点，新鲜刺激不够，疲沓困倦，心力交瘁，心里仿佛老是有个声音在喊：“考吧考吧，早考早解脱！”还有的患得患失，一次考试不错，似乎遍地阳光；要是哪次考砸，好像黑暗如磐。这些都不是高三应有的良好意识状态的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图片 36866" descr="20081013055162231[1]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513" name="文本框 36865"/>
          <p:cNvSpPr/>
          <p:nvPr/>
        </p:nvSpPr>
        <p:spPr>
          <a:xfrm>
            <a:off x="0" y="260280"/>
            <a:ext cx="889164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强烈的成功动机主要靠内部激发。当你把高三与自己一生的使命相联系时，你会发现高三的每一天都有它确定的意义。所以，明确自己人生的大目标，对把握好高三这一年有直接的促进作用。认识到自己的责任与使命，并愿意为之付出努力，是内部激发成功动机的最直接的方式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论通过何种方式激发自己的成功动机，有一点是明确的，即这种动机越早激发越好。因为它将引导自己的行为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图片 3075" descr="B~)TQVDQ{O)Z3U77S2I7}R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图片 48129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-396720" y="0"/>
            <a:ext cx="9540720" cy="693252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我们的对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态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决定一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智力无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规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法理第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/>
              </a:rPr>
              <a:t>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耐心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生的砥砺和坚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/>
              </a:rPr>
              <a:t>四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习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成就未来的必要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打开通往大学之门的钥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图片 49155" descr="135b2e61bef97c4c0d33fa3a"/>
          <p:cNvPicPr/>
          <p:nvPr/>
        </p:nvPicPr>
        <p:blipFill>
          <a:blip r:embed="rId1"/>
          <a:stretch/>
        </p:blipFill>
        <p:spPr>
          <a:xfrm>
            <a:off x="-34920" y="-2556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cc"/>
                </a:solidFill>
                <a:latin typeface="黑体"/>
                <a:ea typeface="黑体"/>
              </a:rPr>
              <a:t>有了目标，内心的力量才会找到方向。茫无目标的飘荡终归会迷路，而你心中那一座无价的金矿，也因不被开采而与平凡的尘土无异。”让我们共同携起手来</a:t>
            </a:r>
            <a:r>
              <a:rPr b="1" lang="en-US" sz="4800" spc="-1" strike="noStrike">
                <a:solidFill>
                  <a:srgbClr val="3366cc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3366cc"/>
                </a:solidFill>
                <a:latin typeface="黑体"/>
                <a:ea typeface="黑体"/>
              </a:rPr>
              <a:t>为了心中的同一个梦想而奋斗</a:t>
            </a:r>
            <a:r>
              <a:rPr b="1" lang="en-US" sz="4800" spc="-1" strike="noStrike">
                <a:solidFill>
                  <a:srgbClr val="3366cc"/>
                </a:solidFill>
                <a:latin typeface="黑体"/>
                <a:ea typeface="黑体"/>
              </a:rPr>
              <a:t>!</a:t>
            </a:r>
            <a:r>
              <a:rPr b="1" lang="zh-CN" sz="4800" spc="-1" strike="noStrike">
                <a:solidFill>
                  <a:srgbClr val="3366cc"/>
                </a:solidFill>
                <a:latin typeface="黑体"/>
                <a:ea typeface="黑体"/>
              </a:rPr>
              <a:t>让我们共同唱响明天会更好</a:t>
            </a:r>
            <a:r>
              <a:rPr b="1" lang="en-US" sz="4800" spc="-1" strike="noStrike">
                <a:solidFill>
                  <a:srgbClr val="3366cc"/>
                </a:solidFill>
                <a:latin typeface="黑体"/>
                <a:ea typeface="黑体"/>
              </a:rPr>
              <a:t>!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图片 16390" descr="2008052703461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21" name="矩形 16391" descr=""/>
          <p:cNvPicPr/>
          <p:nvPr/>
        </p:nvPicPr>
        <p:blipFill>
          <a:blip r:embed="rId2"/>
          <a:stretch/>
        </p:blipFill>
        <p:spPr>
          <a:xfrm>
            <a:off x="826920" y="333360"/>
            <a:ext cx="7740720" cy="15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图片 19460" descr="韩国插画矢量素材 - 科技未来的幻想生活 - 未来生活向量图1"/>
          <p:cNvPicPr/>
          <p:nvPr/>
        </p:nvPicPr>
        <p:blipFill>
          <a:blip r:embed="rId1"/>
          <a:stretch/>
        </p:blipFill>
        <p:spPr>
          <a:xfrm>
            <a:off x="468360" y="189000"/>
            <a:ext cx="4174920" cy="360036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19462" descr="韩国插画矢量素材 - 科技未来的幻想生活 - 未来生活向量图20"/>
          <p:cNvPicPr/>
          <p:nvPr/>
        </p:nvPicPr>
        <p:blipFill>
          <a:blip r:embed="rId2"/>
          <a:stretch/>
        </p:blipFill>
        <p:spPr>
          <a:xfrm>
            <a:off x="5651640" y="189000"/>
            <a:ext cx="3184560" cy="350496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19464" descr="韩国插画矢量素材 - 科技未来的幻想生活 - 未来生活向量图27"/>
          <p:cNvPicPr/>
          <p:nvPr/>
        </p:nvPicPr>
        <p:blipFill>
          <a:blip r:embed="rId3"/>
          <a:stretch/>
        </p:blipFill>
        <p:spPr>
          <a:xfrm>
            <a:off x="1187280" y="620640"/>
            <a:ext cx="5505480" cy="5715000"/>
          </a:xfrm>
          <a:prstGeom prst="rect">
            <a:avLst/>
          </a:prstGeom>
          <a:ln w="0">
            <a:noFill/>
          </a:ln>
        </p:spPr>
      </p:pic>
      <p:pic>
        <p:nvPicPr>
          <p:cNvPr id="525" name="图片 19466" descr="韩国插画矢量素材 - 科技未来的幻想生活29 - 未来生活韩国矢量AI图29"/>
          <p:cNvPicPr/>
          <p:nvPr/>
        </p:nvPicPr>
        <p:blipFill>
          <a:blip r:embed="rId4"/>
          <a:stretch/>
        </p:blipFill>
        <p:spPr>
          <a:xfrm>
            <a:off x="6804000" y="4653000"/>
            <a:ext cx="2154240" cy="189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图片 11265" descr="m_1247047463590"/>
          <p:cNvPicPr/>
          <p:nvPr/>
        </p:nvPicPr>
        <p:blipFill>
          <a:blip r:embed="rId1"/>
          <a:stretch/>
        </p:blipFill>
        <p:spPr>
          <a:xfrm>
            <a:off x="2700360" y="907920"/>
            <a:ext cx="3676680" cy="4592880"/>
          </a:xfrm>
          <a:prstGeom prst="rect">
            <a:avLst/>
          </a:prstGeom>
          <a:ln w="0">
            <a:noFill/>
          </a:ln>
        </p:spPr>
      </p:pic>
      <p:pic>
        <p:nvPicPr>
          <p:cNvPr id="527" name="我相信(8人和声编排版)-哈理工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8" name="文本框 11269"/>
          <p:cNvSpPr/>
          <p:nvPr/>
        </p:nvSpPr>
        <p:spPr>
          <a:xfrm>
            <a:off x="615960" y="1413000"/>
            <a:ext cx="11858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华文隶书"/>
              </a:rPr>
              <a:t>我坚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11270"/>
          <p:cNvSpPr/>
          <p:nvPr/>
        </p:nvSpPr>
        <p:spPr>
          <a:xfrm>
            <a:off x="6229440" y="1052640"/>
            <a:ext cx="23749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华文隶书"/>
              </a:rPr>
              <a:t>我们坚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385663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图片 20486" descr="韩国插画矢量素材 - 极精致AI图标电脑饮食暖色系列19 - 教育韩国矢量AI图19"/>
          <p:cNvPicPr/>
          <p:nvPr/>
        </p:nvPicPr>
        <p:blipFill>
          <a:blip r:embed="rId1"/>
          <a:stretch/>
        </p:blipFill>
        <p:spPr>
          <a:xfrm>
            <a:off x="2700360" y="2205000"/>
            <a:ext cx="3848040" cy="3848040"/>
          </a:xfrm>
          <a:prstGeom prst="rect">
            <a:avLst/>
          </a:prstGeom>
          <a:ln w="0">
            <a:noFill/>
          </a:ln>
        </p:spPr>
      </p:pic>
      <p:sp>
        <p:nvSpPr>
          <p:cNvPr id="531" name="矩形 20487"/>
          <p:cNvSpPr txBox="1"/>
          <p:nvPr/>
        </p:nvSpPr>
        <p:spPr>
          <a:xfrm>
            <a:off x="1547640" y="549360"/>
            <a:ext cx="54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谢谢观赏</a:t>
            </a:r>
            <a:endParaRPr b="1" lang="en-US" sz="4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图片 25604" descr="卡通形象--鸵鸟 - 卡通鸵鸟图片3"/>
          <p:cNvPicPr/>
          <p:nvPr/>
        </p:nvPicPr>
        <p:blipFill>
          <a:blip r:embed="rId1"/>
          <a:stretch/>
        </p:blipFill>
        <p:spPr>
          <a:xfrm>
            <a:off x="2333520" y="614520"/>
            <a:ext cx="4476960" cy="56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内容占位符 6145" descr="200745211940247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图片 7183" descr="韩国插画矢量素材 - 极精致AI图标电脑饮食暖色系列 - 文学向量图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矩形 7175"/>
          <p:cNvSpPr txBox="1"/>
          <p:nvPr/>
        </p:nvSpPr>
        <p:spPr>
          <a:xfrm>
            <a:off x="2700360" y="836640"/>
            <a:ext cx="345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182f76"/>
                    </a:gs>
                    <a:gs pos="50000">
                      <a:srgbClr val="3366ff"/>
                    </a:gs>
                    <a:gs pos="100000">
                      <a:srgbClr val="182f7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很多同学都说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182f76"/>
                  </a:gs>
                  <a:gs pos="50000">
                    <a:srgbClr val="3366ff"/>
                  </a:gs>
                  <a:gs pos="100000">
                    <a:srgbClr val="182f7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60" name="矩形 7176"/>
          <p:cNvSpPr txBox="1"/>
          <p:nvPr/>
        </p:nvSpPr>
        <p:spPr>
          <a:xfrm>
            <a:off x="1403280" y="4797360"/>
            <a:ext cx="6335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什么叫痛苦，什么叫幸福</a:t>
            </a:r>
            <a:endParaRPr b="0" lang="en-US" sz="1800" spc="-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61" name="矩形 7180"/>
          <p:cNvSpPr txBox="1"/>
          <p:nvPr/>
        </p:nvSpPr>
        <p:spPr>
          <a:xfrm>
            <a:off x="611280" y="2852640"/>
            <a:ext cx="76579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痛苦  压抑  煎熬</a:t>
            </a:r>
            <a:endParaRPr b="1" lang="en-US" sz="8000" spc="-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4" dur="250" autoRev="1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5" dur="250" autoRev="1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" dur="250" autoRev="1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图片 13319" descr="CNDESK_6v821p0608012017"/>
          <p:cNvPicPr/>
          <p:nvPr/>
        </p:nvPicPr>
        <p:blipFill>
          <a:blip r:embed="rId1"/>
          <a:stretch/>
        </p:blipFill>
        <p:spPr>
          <a:xfrm>
            <a:off x="-468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63" name="矩形 13321"/>
          <p:cNvSpPr txBox="1"/>
          <p:nvPr/>
        </p:nvSpPr>
        <p:spPr>
          <a:xfrm>
            <a:off x="1619280" y="333360"/>
            <a:ext cx="556272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不经历残酷的高考</a:t>
            </a:r>
            <a:endParaRPr b="1" lang="en-US" sz="5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64" name="矩形 13322"/>
          <p:cNvSpPr txBox="1"/>
          <p:nvPr/>
        </p:nvSpPr>
        <p:spPr>
          <a:xfrm>
            <a:off x="1692360" y="1413000"/>
            <a:ext cx="540072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你又如何去体会</a:t>
            </a:r>
            <a:endParaRPr b="1" lang="en-US" sz="54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65" name="矩形 13323"/>
          <p:cNvSpPr txBox="1"/>
          <p:nvPr/>
        </p:nvSpPr>
        <p:spPr>
          <a:xfrm>
            <a:off x="1143000" y="3048120"/>
            <a:ext cx="6858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真正的成功的喜悦！</a:t>
            </a:r>
            <a:endParaRPr b="0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图片 15366" descr="2007124161542250_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7" name="矩形 15361"/>
          <p:cNvSpPr/>
          <p:nvPr/>
        </p:nvSpPr>
        <p:spPr>
          <a:xfrm>
            <a:off x="1127520" y="403920"/>
            <a:ext cx="693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如果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将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字母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A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到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Z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別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编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上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到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26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分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A=1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B=2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…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Z=26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15362"/>
          <p:cNvSpPr/>
          <p:nvPr/>
        </p:nvSpPr>
        <p:spPr>
          <a:xfrm>
            <a:off x="2411280" y="2205000"/>
            <a:ext cx="5761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知识）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rdwork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努力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titude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态度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它们分别是多少分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5363"/>
          <p:cNvSpPr txBox="1"/>
          <p:nvPr/>
        </p:nvSpPr>
        <p:spPr>
          <a:xfrm>
            <a:off x="611280" y="2205000"/>
            <a:ext cx="1224000" cy="12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算算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图片 17412" descr="20080527034545"/>
          <p:cNvPicPr/>
          <p:nvPr/>
        </p:nvPicPr>
        <p:blipFill>
          <a:blip r:embed="rId1"/>
          <a:stretch/>
        </p:blipFill>
        <p:spPr>
          <a:xfrm>
            <a:off x="4859280" y="364500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471" name="矩形 17409"/>
          <p:cNvSpPr/>
          <p:nvPr/>
        </p:nvSpPr>
        <p:spPr>
          <a:xfrm>
            <a:off x="324000" y="765000"/>
            <a:ext cx="845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你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知识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KNOWLEDGE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得到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1+14+15+23+12+5+4+7+5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黑体"/>
                <a:ea typeface="黑体"/>
              </a:rPr>
              <a:t>你的努力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HARDWORK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也只得到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8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+1+18+4+23+15+18+11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8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黑体"/>
                <a:ea typeface="黑体"/>
              </a:rPr>
              <a:t>你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态度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TTITUDE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i="1" lang="zh-TW" sz="3600" spc="-1" strike="noStrike">
                <a:solidFill>
                  <a:srgbClr val="ff0000"/>
                </a:solidFill>
                <a:latin typeface="黑体"/>
                <a:ea typeface="黑体"/>
              </a:rPr>
              <a:t>才是左右你生命的全部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+20+20+9+20+21+4+5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图片 8201" descr="台湾酷分仔多媒体3D动画壁纸：Choobies 超毛星 - Choobies 超毛星动画图片壁纸4">
            <a:hlinkClick r:id="rId1"/>
          </p:cNvPr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矩形 8195" descr=""/>
          <p:cNvPicPr/>
          <p:nvPr/>
        </p:nvPicPr>
        <p:blipFill>
          <a:blip r:embed="rId3"/>
          <a:stretch/>
        </p:blipFill>
        <p:spPr>
          <a:xfrm>
            <a:off x="385920" y="3635280"/>
            <a:ext cx="8361360" cy="2492640"/>
          </a:xfrm>
          <a:prstGeom prst="rect">
            <a:avLst/>
          </a:prstGeom>
          <a:ln w="0">
            <a:noFill/>
          </a:ln>
        </p:spPr>
      </p:pic>
      <p:pic>
        <p:nvPicPr>
          <p:cNvPr id="475" name="矩形 8196" descr=""/>
          <p:cNvPicPr/>
          <p:nvPr/>
        </p:nvPicPr>
        <p:blipFill>
          <a:blip r:embed="rId4"/>
          <a:stretch/>
        </p:blipFill>
        <p:spPr>
          <a:xfrm>
            <a:off x="314280" y="755640"/>
            <a:ext cx="854064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5T14:33:26Z</dcterms:created>
  <dc:creator/>
  <dc:description/>
  <dc:language>en-US</dc:language>
  <cp:lastModifiedBy/>
  <dcterms:modified xsi:type="dcterms:W3CDTF">2020-03-25T14:33:2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8632</vt:lpwstr>
  </property>
</Properties>
</file>