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AB6-F76B-4B38-B1BE-20FDD7A7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E7E-3CBF-490D-8FEF-C7C5EE1F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26A-E1E9-40CA-AFA8-84E2C50B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463-DE16-428D-9F0C-E964BF8B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06F-C1AE-49BC-B93A-306251C5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FA1-465F-48DF-B0AA-A699F1CA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3C4-A3AE-45E8-8D65-939B0067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EA6-38E5-4599-B318-1FCACF0D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A37-703D-4547-9EF3-20CB0323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0BD-9F75-429C-8F98-77A55BB7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F3F-DD55-476C-BAEA-6C9A3506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68B-16A3-47A4-B00A-D5DA3F2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FACA-14E6-4B83-BC90-A5E874273F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../../../../../mp3/&#27468;&#26354;/&#26126;&#22825;&#20250;&#26356;&#22909;.swf" TargetMode="Externa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WIN7_Themepack_Choobies/choobies_05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189000"/>
            <a:ext cx="655308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33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们在路上</a:t>
            </a:r>
            <a:endParaRPr b="1" lang="en-US" sz="66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33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0600" cy="731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9200" y="1538280"/>
            <a:ext cx="4752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在适当的时候自动管制自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就是聪明人。——雨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是自己的一点点克制，也会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变得强而有力。——高尔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5335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记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29564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2026080"/>
            <a:ext cx="792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有人曾经这么说过：“伟大的事业不是靠力气、速度和身体的敏捷完成的，而是靠性格、意志和知识的力量完成的。”同学们，意志是成功的重要心理因素，为了我们将来能成就一番事业，就让我们从现在开始磨练我们的意志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1212840"/>
            <a:ext cx="8496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年高考过后，总有同学留下遗憾或心有不甘：有的稀里糊涂进高三，晃晃悠悠就一年；有的手忙脚乱进考场，昏天黑地就“下课”；有的搏击题海身手不凡，剑走偏峰绝招不断，拿到考题方寸大乱；有的感觉良好阳光灿烂，考分下来天蹋地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其实，上述种种黑色遭遇的出现，半点也不奇怪。因为没有策划的高三，就没有成功的高考。进入高三，每个人的基础不一样，对自己的期望值也不一样，但一年的时间对每个人都是公平的，那么，如何利用这一年的时间，让自己最大程度地逼近甚至超过自己的预期目标呢？请跟我们来吧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340000" y="260280"/>
            <a:ext cx="41148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明年你会是这样吗？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914400" y="333360"/>
            <a:ext cx="3586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问题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228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有严重偏科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333360"/>
            <a:ext cx="8064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快乐战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一个勇敢的堂吉柯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一定看过堂吉柯德的故事，也许有人会嗤笑他的傻气幻想，人们大多把他当疯子，不过这并不妨碍我们对他的欣赏。堂吉柯德骑着老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与天斗，与地斗，与人斗，其乐无穷，全然不理会身边的嘲笑，而是一步步向着自己心中的理想前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为高三最应该具备的，就是这种堂吉柯德式的精神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所谓堂吉柯德式的精神状态就是充满理想，充满激情，积极主动，信心百倍的状态。英文中有句谚语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ll great achievements were gained with enthusiasm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思是说，没有激情成不了大事。 这里的激情就是指对成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渴望，从内心里激发出来的对成功的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76500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同学才升入高三时雄心勃勃，也很有堂吉柯德式的感觉，但是没过多久就觉得身心疲惫，激情退却。其实这种所谓的激情，多数是被动的，主动调适的少，同学们感觉仿佛被绑在战车上，风驰电掣向前冲，惯性不得不使自己快速发生“位移”，所以学习起来缺乏兴奋点，新鲜刺激不够，疲沓困倦，心力交瘁，心里仿佛老是有个声音在喊：“考吧考吧，早考早解脱！”还有的患得患失，一次考试不错，似乎遍地阳光；要是哪次考砸，好像黑暗如磐。这些都不是高三应有的良好意识状态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60280"/>
            <a:ext cx="889164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强烈的成功动机主要靠内部激发。当你把高三与自己一生的使命相联系时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你会发现高三的每一天都有它确定的意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所以，明确自己人生的大目标，对把握好高三这一年有直接的促进作用。认识到自己的责任与使命，并愿意为之付出努力，是内部激发成功动机的最直接的方式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论通过何种方式激发自己的成功动机，有一点是明确的，即这种动机越早激发越好。因为它将引导自己的行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卡通形象--海豚 - 卡通海豚图片6"/>
          <p:cNvPicPr/>
          <p:nvPr/>
        </p:nvPicPr>
        <p:blipFill>
          <a:blip r:embed="rId1"/>
          <a:stretch/>
        </p:blipFill>
        <p:spPr>
          <a:xfrm>
            <a:off x="1763640" y="260280"/>
            <a:ext cx="5629320" cy="3629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835280" y="4076640"/>
            <a:ext cx="568944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1739a"/>
                    </a:gs>
                    <a:gs pos="50000">
                      <a:srgbClr val="ff99cc"/>
                    </a:gs>
                    <a:gs pos="100000">
                      <a:srgbClr val="c173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听老师的话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1739a"/>
                  </a:gs>
                  <a:gs pos="50000">
                    <a:srgbClr val="ff99cc"/>
                  </a:gs>
                  <a:gs pos="100000">
                    <a:srgbClr val="c1739a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396720" y="0"/>
            <a:ext cx="9540720" cy="693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的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一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智力无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耐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的砥砺和坚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就未来的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开通往大学之门的钥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卡通形象--鸵鸟 - 卡通鸵鸟图片3"/>
          <p:cNvPicPr/>
          <p:nvPr/>
        </p:nvPicPr>
        <p:blipFill>
          <a:blip r:embed="rId1"/>
          <a:stretch/>
        </p:blipFill>
        <p:spPr>
          <a:xfrm>
            <a:off x="2333520" y="614520"/>
            <a:ext cx="4476960" cy="56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韩国经典矢量素材 - 健身、休闲、运动 - 健身运动向量图18"/>
          <p:cNvPicPr/>
          <p:nvPr/>
        </p:nvPicPr>
        <p:blipFill>
          <a:blip r:embed="rId1"/>
          <a:stretch/>
        </p:blipFill>
        <p:spPr>
          <a:xfrm>
            <a:off x="5003640" y="333360"/>
            <a:ext cx="351504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韩国经典矢量素材 - 健身、休闲、运动 - 健身运动向量图17"/>
          <p:cNvPicPr/>
          <p:nvPr/>
        </p:nvPicPr>
        <p:blipFill>
          <a:blip r:embed="rId2"/>
          <a:stretch/>
        </p:blipFill>
        <p:spPr>
          <a:xfrm>
            <a:off x="684360" y="260280"/>
            <a:ext cx="373356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771640" y="2997360"/>
            <a:ext cx="360072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ffff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锻炼身体很重要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cc00"/>
                  </a:gs>
                  <a:gs pos="50000">
                    <a:srgbClr val="ffff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有了目标，内心的力量才会找到方向。茫无目标的飘荡终归会迷路，而你心中那一座无价的金矿，也因不被开采而与平凡的尘土无异。”让我们共同携起手来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为了心中的同一个梦想而奋斗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!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让我们共同唱响明天会更好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!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826920" y="333360"/>
            <a:ext cx="771552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175e5e"/>
                    </a:gs>
                    <a:gs pos="50000">
                      <a:srgbClr val="33cccc"/>
                    </a:gs>
                    <a:gs pos="100000">
                      <a:srgbClr val="175e5e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相信我们的未来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175e5e"/>
                    </a:gs>
                    <a:gs pos="50000">
                      <a:srgbClr val="33cccc"/>
                    </a:gs>
                    <a:gs pos="100000">
                      <a:srgbClr val="175e5e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会快乐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175e5e"/>
                    </a:gs>
                    <a:gs pos="50000">
                      <a:srgbClr val="33cccc"/>
                    </a:gs>
                    <a:gs pos="100000">
                      <a:srgbClr val="175e5e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会美好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3676680" cy="4592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5960" y="1413000"/>
            <a:ext cx="1185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隶书"/>
              </a:rPr>
              <a:t>我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15040" y="1052640"/>
            <a:ext cx="2374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隶书"/>
              </a:rPr>
              <a:t>我们坚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38566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坚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疯狂英语  李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秘密就是两个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人不理解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多人反对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人松懈时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绝望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坚持不住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咬紧牙坚持一会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寒地冻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独无助的时候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持  坚持  再坚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突然，你会发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成了那个领域的顶尖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成为了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成为了命运的主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成了自己都不敢相信的奇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持  坚持  再坚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4360" y="189000"/>
            <a:ext cx="691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用青春的名义宣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二百四十六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，让梦想焕发灿烂的光芒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用智慧培育理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用汗水浇灌希望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踏过书山坎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渡过学海茫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我没有失败的理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走过的每一步，都是我成功的保障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了大海，就去乘风破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了蓝天，就去展翅翱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了高三，就去全力以赴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发誓：不负父母的期盼，不负恩师的厚望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承诺：不作懦弱的退缩，不作无益的彷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将带着从容的微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赢得我志在必得的辉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十载拼搏，一朝圆梦；捷报飞传，金榜题名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奋斗二百四十六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让飞翔的梦在六月张开翅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奋斗二百四十六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让雄心与智慧在六月闪光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举胸中豪情，倾热血满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Arial"/>
              </a:rPr>
              <a:t>与雷霆碰杯，同日月争光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，注定成功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们，必将辉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-2003760" y="3306960"/>
            <a:ext cx="6165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寒窗十二载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欲登峰顶须努力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68360" y="0"/>
            <a:ext cx="47516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坚持一下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5451840" y="3053520"/>
            <a:ext cx="594360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假期两三天，要登金榜再加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27520" y="403920"/>
            <a:ext cx="693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字母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別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编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6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分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=1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B=2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=26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205000"/>
            <a:ext cx="576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rd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ttitu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它们分别是多少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2205000"/>
            <a:ext cx="12240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76500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KNOWLEDG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+14+15+23+12+5+4+7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努力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ARDWORK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也只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+1+18+4+23+15+18+11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态度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TTITUD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才是左右你生命的全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20+20+9+20+21+4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台湾酷分仔多媒体3D动画壁纸：Choobies 超毛星 - Choobies 超毛星动画图片壁纸4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3645000"/>
            <a:ext cx="83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欢乐比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成功后带来的幸福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又算得了什么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765000"/>
            <a:ext cx="849600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痛苦比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失败后的痛苦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那又算得了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0600" cy="7313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个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游泳教练与“聪明的学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一次一个游泳教练在教导一群初学游泳的学员，为了克服学员不敢下水的心理，他拿了一个洋娃娃丢进游泳池，然后大声喊：“有小孩落到水了，大家赶快跳下去救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同学们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如果你是其中的一位学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你会怎么样做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90920"/>
            <a:ext cx="828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刻跳进游泳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继续站在游泳池的边上无动于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然后学员们听到了都争先恐后地跳到水里面去了。只有一位学员站在游泳池边不动，冷笑道：“想用这一招骗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962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他是全队学员中最最聪明的一位，可是很不幸也是全队学员中唯一没有学会游泳的一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41:11Z</dcterms:created>
  <dc:creator>srq</dc:creator>
  <dc:description/>
  <dc:language>en-US</dc:language>
  <cp:lastModifiedBy>Ruida</cp:lastModifiedBy>
  <dcterms:modified xsi:type="dcterms:W3CDTF">2013-10-03T13:47:24Z</dcterms:modified>
  <cp:revision>22</cp:revision>
  <dc:subject/>
  <dc:title>幻灯片 1</dc:title>
</cp:coreProperties>
</file>