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3.jpeg" ContentType="image/jpeg"/>
  <Override PartName="/ppt/media/image24.png" ContentType="image/png"/>
  <Override PartName="/ppt/media/image19.gif" ContentType="image/gif"/>
  <Override PartName="/ppt/media/image4.jpeg" ContentType="image/jpeg"/>
  <Override PartName="/ppt/media/image6.jpeg" ContentType="image/jpeg"/>
  <Override PartName="/ppt/media/image20.gif" ContentType="image/gif"/>
  <Override PartName="/ppt/media/image13.jpeg" ContentType="image/jpeg"/>
  <Override PartName="/ppt/media/image9.gif" ContentType="image/gif"/>
  <Override PartName="/ppt/media/image8.jpeg" ContentType="image/jpeg"/>
  <Override PartName="/ppt/media/image10.jpeg" ContentType="image/jpeg"/>
  <Override PartName="/ppt/media/image30.png" ContentType="image/png"/>
  <Override PartName="/ppt/media/image25.png" ContentType="image/png"/>
  <Override PartName="/ppt/media/image2.gif" ContentType="image/gif"/>
  <Override PartName="/ppt/media/image12.gif" ContentType="image/gif"/>
  <Override PartName="/ppt/media/image31.png" ContentType="image/png"/>
  <Override PartName="/ppt/media/image32.png" ContentType="image/png"/>
  <Override PartName="/ppt/media/image1.jpeg" ContentType="image/jpeg"/>
  <Override PartName="/ppt/media/image34.png" ContentType="image/png"/>
  <Override PartName="/ppt/media/%E4%BA%A1%E7%81%B5%E5%BA%8F%E6%9B%B2.wav" ContentType="audio/x-wav"/>
  <Override PartName="/ppt/media/image14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28.png" ContentType="image/png"/>
  <Override PartName="/ppt/media/image5.gif" ContentType="image/gif"/>
  <Override PartName="/ppt/media/image7.jpeg" ContentType="image/jpeg"/>
  <Override PartName="/ppt/media/image15.gif" ContentType="image/gif"/>
  <Override PartName="/ppt/media/image16.gif" ContentType="image/gif"/>
  <Override PartName="/ppt/media/image17.gif" ContentType="image/gif"/>
  <Override PartName="/ppt/media/image22.png" ContentType="image/pn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F10-5919-4E8D-BF64-AF9724BC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743-198C-4CD1-AA08-6B8651C5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D28-B340-4060-AC21-AB9705F7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DC2-4151-4A8B-994C-D22031EB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D1EB-9AE6-4838-BECB-D8A8F6BE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6046-BE9D-4DA2-A6F5-696E7C44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8C11-BAA6-4BB1-884E-1552768B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6406-2FE1-4FF2-9CCE-B0F9E5EA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CF9F-BD7F-4A5B-BDAF-FFDC94D8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EE29-8DC5-467E-9B39-F2A5099B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8463-022A-44C6-B8EC-89415159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7C4-4EDF-446B-8649-CBE92BB6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D70C-7A5B-44F2-BEDB-2338347B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42AA-837C-470E-A462-98FABD4A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2E3D-1C1C-4005-A4E9-ACCC56DD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51E5-E901-4BF3-9F6A-1B1BE46C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4CFE-A858-4FE8-AC6D-CD6D3108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47F-3030-4D80-8650-CC028F0B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E3F-58D0-4417-9AC0-B4EB53C5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501-0100-4003-B643-A01359E8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B4E-2475-4BE9-A240-2E478F8C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852-7FF3-4BE1-B807-E55DAA02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979-2BB5-4C06-A9FA-23E7DD19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3ED-DA76-474D-B257-CB1DAF6B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0C02-C374-4C9D-924C-9970295CF20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BD85-1331-48E6-9B67-41607D7389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C6A0-083E-4279-8548-209604AC11B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145E-B790-4643-AC31-B6CAB2A974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hyperlink" Target="http://www.pptbz.com/" TargetMode="External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hyperlink" Target="http://www.pptbz.com/" TargetMode="External"/><Relationship Id="rId14" Type="http://schemas.openxmlformats.org/officeDocument/2006/relationships/hyperlink" Target="http://www.pptbz.com/" TargetMode="External"/><Relationship Id="rId15" Type="http://schemas.openxmlformats.org/officeDocument/2006/relationships/hyperlink" Target="http://www.pptbz.com/" TargetMode="External"/><Relationship Id="rId16" Type="http://schemas.openxmlformats.org/officeDocument/2006/relationships/hyperlink" Target="http://www.pptbz.com/pptshucai/" TargetMode="External"/><Relationship Id="rId17" Type="http://schemas.openxmlformats.org/officeDocument/2006/relationships/hyperlink" Target="http://www.pptbz.com/pptshucai/" TargetMode="External"/><Relationship Id="rId18" Type="http://schemas.openxmlformats.org/officeDocument/2006/relationships/hyperlink" Target="http://www.pptbz.com/pptshucai/" TargetMode="External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audio" Target="../media/&#20129;&#28789;&#24207;&#26354;.wav"/><Relationship Id="rId2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rcRect l="1885" t="5604" r="6676" b="116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2482920" y="112392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我和我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大学生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7" descr=""/>
          <p:cNvPicPr/>
          <p:nvPr/>
        </p:nvPicPr>
        <p:blipFill>
          <a:blip r:embed="rId2"/>
          <a:stretch/>
        </p:blipFill>
        <p:spPr>
          <a:xfrm>
            <a:off x="5060880" y="3789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media1.mp3" descr=""/>
          <p:cNvPicPr/>
          <p:nvPr/>
        </p:nvPicPr>
        <p:blipFill>
          <a:blip r:embed="rId3"/>
          <a:stretch/>
        </p:blipFill>
        <p:spPr>
          <a:xfrm>
            <a:off x="108000" y="6089760"/>
            <a:ext cx="73656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2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27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30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15">
                                          <p:stCondLst>
                                            <p:cond delay="16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5">
                                          <p:stCondLst>
                                            <p:cond delay="20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33" fill="hold">
                                          <p:stCondLst>
                                            <p:cond delay="8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207" fill="hold">
                                          <p:stCondLst>
                                            <p:cond delay="84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3" fill="hold">
                                          <p:stCondLst>
                                            <p:cond delay="164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207" fill="hold">
                                          <p:stCondLst>
                                            <p:cond delay="1673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3" fill="hold">
                                          <p:stCondLst>
                                            <p:cond delay="205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207" fill="hold">
                                          <p:stCondLst>
                                            <p:cond delay="208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33" fill="hold">
                                          <p:stCondLst>
                                            <p:cond delay="226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207" fill="hold">
                                          <p:stCondLst>
                                            <p:cond delay="2293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6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6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18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797">
                                          <p:stCondLst>
                                            <p:cond delay="797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98">
                                          <p:stCondLst>
                                            <p:cond delay="158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97">
                                          <p:stCondLst>
                                            <p:cond delay="1987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1" fill="hold">
                                          <p:stCondLst>
                                            <p:cond delay="78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99" fill="hold">
                                          <p:stCondLst>
                                            <p:cond delay="811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" fill="hold">
                                          <p:stCondLst>
                                            <p:cond delay="157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99" fill="hold">
                                          <p:stCondLst>
                                            <p:cond delay="160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" fill="hold">
                                          <p:stCondLst>
                                            <p:cond delay="19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99" fill="hold">
                                          <p:stCondLst>
                                            <p:cond delay="2001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1" fill="hold">
                                          <p:stCondLst>
                                            <p:cond delay="21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99" fill="hold">
                                          <p:stCondLst>
                                            <p:cond delay="2201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101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2736000" y="37180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我的大学生活似乎已经开始了</a:t>
            </a:r>
            <a:r>
              <a:rPr b="0" lang="en-US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2120" y="5300640"/>
            <a:ext cx="874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erlin Sans FB"/>
              </a:rPr>
              <a:t>New life begin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4060800" y="660240"/>
            <a:ext cx="14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踏上火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4290840" y="1484280"/>
            <a:ext cx="16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离开了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4366800" y="2205000"/>
            <a:ext cx="36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离开了我的</a:t>
            </a:r>
            <a:r>
              <a:rPr b="0" lang="en-US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old friends</a:t>
            </a: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1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1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" dur="1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1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" nodeType="afterEffect" fill="hold" presetClass="exit" presetID="47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4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3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3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2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6" descr=""/>
          <p:cNvPicPr/>
          <p:nvPr/>
        </p:nvPicPr>
        <p:blipFill>
          <a:blip r:embed="rId1"/>
          <a:stretch/>
        </p:blipFill>
        <p:spPr>
          <a:xfrm>
            <a:off x="8028000" y="522144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4"/>
          <p:cNvSpPr/>
          <p:nvPr/>
        </p:nvSpPr>
        <p:spPr>
          <a:xfrm>
            <a:off x="925200" y="3940200"/>
            <a:ext cx="35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多亏了他们，我才能很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找到宿舍，他们还帮我把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李搬上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4" descr=""/>
          <p:cNvPicPr/>
          <p:nvPr/>
        </p:nvPicPr>
        <p:blipFill>
          <a:blip r:embed="rId2"/>
          <a:srcRect l="22085" t="0" r="24252" b="0"/>
          <a:stretch/>
        </p:blipFill>
        <p:spPr>
          <a:xfrm>
            <a:off x="6599160" y="830160"/>
            <a:ext cx="1728720" cy="28576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6" descr=""/>
          <p:cNvPicPr/>
          <p:nvPr/>
        </p:nvPicPr>
        <p:blipFill>
          <a:blip r:embed="rId3"/>
          <a:srcRect l="15214" t="0" r="17157" b="0"/>
          <a:stretch/>
        </p:blipFill>
        <p:spPr>
          <a:xfrm>
            <a:off x="5292720" y="843120"/>
            <a:ext cx="1943280" cy="3144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611280" y="692280"/>
            <a:ext cx="583236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2d050"/>
                </a:solidFill>
                <a:latin typeface="华文琥珀"/>
                <a:ea typeface="华文琥珀"/>
              </a:rPr>
              <a:t>报到的那天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Harlow Solid Italic"/>
              </a:rPr>
              <a:t>The first day at sch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5" descr=""/>
          <p:cNvPicPr/>
          <p:nvPr/>
        </p:nvPicPr>
        <p:blipFill>
          <a:blip r:embed="rId4"/>
          <a:srcRect l="9235" t="3449" r="3912" b="0"/>
          <a:stretch/>
        </p:blipFill>
        <p:spPr>
          <a:xfrm>
            <a:off x="5580000" y="24163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8"/>
          <p:cNvSpPr/>
          <p:nvPr/>
        </p:nvSpPr>
        <p:spPr>
          <a:xfrm>
            <a:off x="68400" y="1371600"/>
            <a:ext cx="507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所幸正当我为如山的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李发愁时，马上就有好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的学长学姐来帮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11" descr=""/>
          <p:cNvPicPr/>
          <p:nvPr/>
        </p:nvPicPr>
        <p:blipFill>
          <a:blip r:embed="rId5"/>
          <a:stretch/>
        </p:blipFill>
        <p:spPr>
          <a:xfrm rot="1336800">
            <a:off x="3677760" y="2049480"/>
            <a:ext cx="1260720" cy="1260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3"/>
          <p:cNvSpPr/>
          <p:nvPr/>
        </p:nvSpPr>
        <p:spPr>
          <a:xfrm>
            <a:off x="4836240" y="938160"/>
            <a:ext cx="3525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告别家人，本以为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自理能力已经很强了，却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现，事实并非如此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730080" y="2165400"/>
            <a:ext cx="24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感动啊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~~~~~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xit" presetID="55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3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3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1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135" nodeType="afterEffect" fill="hold" presetClass="entr" presetID="2" presetSubtype="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1350"/>
                            </p:stCondLst>
                            <p:childTnLst>
                              <p:par>
                                <p:cTn id="1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185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1851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2901"/>
                            </p:stCondLst>
                            <p:childTnLst>
                              <p:par>
                                <p:cTn id="157" nodeType="afterEffect" fill="hold" presetClass="exit" presetID="10">
                                  <p:stCondLst>
                                    <p:cond delay="3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" dur="14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7451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7452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1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9252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2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1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2952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4952"/>
                            </p:stCondLst>
                            <p:childTnLst>
                              <p:par>
                                <p:cTn id="1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3" descr=""/>
          <p:cNvPicPr/>
          <p:nvPr/>
        </p:nvPicPr>
        <p:blipFill>
          <a:blip r:embed="rId1"/>
          <a:stretch/>
        </p:blipFill>
        <p:spPr>
          <a:xfrm>
            <a:off x="-9360" y="0"/>
            <a:ext cx="91422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768240" y="1700280"/>
            <a:ext cx="7797960" cy="7491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4618440" y="3429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3300"/>
                </a:solidFill>
                <a:latin typeface="微软雅黑"/>
                <a:ea typeface="微软雅黑"/>
              </a:rPr>
              <a:t>起初，对身边的一切事物都很好奇，因为对于我来说，处处都是新鲜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2" descr=""/>
          <p:cNvPicPr/>
          <p:nvPr/>
        </p:nvPicPr>
        <p:blipFill>
          <a:blip r:embed="rId3"/>
          <a:stretch/>
        </p:blipFill>
        <p:spPr>
          <a:xfrm>
            <a:off x="7791480" y="141300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6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4063320" y="256536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c0c0c"/>
                </a:solidFill>
                <a:latin typeface="方正舒体"/>
                <a:ea typeface="方正舒体"/>
              </a:rPr>
              <a:t>几乎每一天都有活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1078200" y="1209600"/>
            <a:ext cx="10342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才艺比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161600" y="1278000"/>
            <a:ext cx="82080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华文楷体"/>
                <a:ea typeface="华文楷体"/>
              </a:rPr>
              <a:t>辩论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6872760" y="1236600"/>
            <a:ext cx="10342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楷体"/>
                <a:ea typeface="楷体"/>
              </a:rPr>
              <a:t>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1112400" y="4352760"/>
            <a:ext cx="10342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各种晚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6954480" y="4378320"/>
            <a:ext cx="10342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各种讲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3933000" y="3854520"/>
            <a:ext cx="1278000" cy="4597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华文楷体"/>
                <a:ea typeface="华文楷体"/>
              </a:rPr>
              <a:t>各种社团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11" descr=""/>
          <p:cNvPicPr/>
          <p:nvPr/>
        </p:nvPicPr>
        <p:blipFill>
          <a:blip r:embed="rId2"/>
          <a:stretch/>
        </p:blipFill>
        <p:spPr>
          <a:xfrm>
            <a:off x="2724120" y="1619280"/>
            <a:ext cx="727200" cy="7286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2" descr=""/>
          <p:cNvPicPr/>
          <p:nvPr/>
        </p:nvPicPr>
        <p:blipFill>
          <a:blip r:embed="rId3"/>
          <a:stretch/>
        </p:blipFill>
        <p:spPr>
          <a:xfrm>
            <a:off x="5619600" y="1531800"/>
            <a:ext cx="741600" cy="7430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3" descr=""/>
          <p:cNvPicPr/>
          <p:nvPr/>
        </p:nvPicPr>
        <p:blipFill>
          <a:blip r:embed="rId4"/>
          <a:stretch/>
        </p:blipFill>
        <p:spPr>
          <a:xfrm>
            <a:off x="2724120" y="47973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6" descr=""/>
          <p:cNvPicPr/>
          <p:nvPr/>
        </p:nvPicPr>
        <p:blipFill>
          <a:blip r:embed="rId5"/>
          <a:stretch/>
        </p:blipFill>
        <p:spPr>
          <a:xfrm>
            <a:off x="5629320" y="4797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" descr=""/>
          <p:cNvPicPr/>
          <p:nvPr/>
        </p:nvPicPr>
        <p:blipFill>
          <a:blip r:embed="rId1"/>
          <a:srcRect l="2848" t="5101" r="2698" b="6282"/>
          <a:stretch/>
        </p:blipFill>
        <p:spPr>
          <a:xfrm>
            <a:off x="1547640" y="169920"/>
            <a:ext cx="6120000" cy="45910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1729080" y="4761000"/>
            <a:ext cx="518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终于，问题出现了，那些最初以为不怎么难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课程</a:t>
            </a:r>
            <a:r>
              <a:rPr b="1" lang="en-US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终于让我抓狂</a:t>
            </a:r>
            <a:r>
              <a:rPr b="1" lang="en-US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每到交作业的前一晚，我就有一夜回到高考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的感觉</a:t>
            </a:r>
            <a:r>
              <a:rPr b="1" lang="en-US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" descr=""/>
          <p:cNvPicPr/>
          <p:nvPr/>
        </p:nvPicPr>
        <p:blipFill>
          <a:blip r:embed="rId2"/>
          <a:stretch/>
        </p:blipFill>
        <p:spPr>
          <a:xfrm>
            <a:off x="8028000" y="313992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" descr=""/>
          <p:cNvPicPr/>
          <p:nvPr/>
        </p:nvPicPr>
        <p:blipFill>
          <a:blip r:embed="rId3"/>
          <a:stretch/>
        </p:blipFill>
        <p:spPr>
          <a:xfrm>
            <a:off x="322200" y="692280"/>
            <a:ext cx="938160" cy="9381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dissolv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7601"/>
                            </p:stCondLst>
                            <p:childTnLst>
                              <p:par>
                                <p:cTn id="27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1201"/>
                            </p:stCondLst>
                            <p:childTnLst>
                              <p:par>
                                <p:cTn id="2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2601"/>
                            </p:stCondLst>
                            <p:childTnLst>
                              <p:par>
                                <p:cTn id="28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3601"/>
                            </p:stCondLst>
                            <p:childTnLst>
                              <p:par>
                                <p:cTn id="2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755640" y="76500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-221760" y="620640"/>
            <a:ext cx="957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365d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65d"/>
                </a:solidFill>
                <a:latin typeface="Calibri"/>
                <a:ea typeface="Calibri"/>
              </a:rPr>
              <a:t>    </a:t>
            </a:r>
            <a:r>
              <a:rPr b="0" lang="zh-CN" sz="1800" spc="-1" strike="noStrike">
                <a:solidFill>
                  <a:srgbClr val="17365d"/>
                </a:solidFill>
                <a:latin typeface="Calibri"/>
              </a:rPr>
              <a:t>    </a:t>
            </a:r>
            <a:r>
              <a:rPr b="0" lang="zh-CN" sz="2000" spc="-1" strike="noStrike">
                <a:solidFill>
                  <a:srgbClr val="17365d"/>
                </a:solidFill>
                <a:latin typeface="华文琥珀"/>
                <a:ea typeface="华文琥珀"/>
              </a:rPr>
              <a:t>现在，我明白不该再让自己迷失，要找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365d"/>
                </a:solidFill>
                <a:latin typeface="华文琥珀"/>
                <a:ea typeface="华文琥珀"/>
              </a:rPr>
              <a:t>自己最初的梦想，找到自己的方向，让每一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365d"/>
                </a:solidFill>
                <a:latin typeface="华文琥珀"/>
                <a:ea typeface="华文琥珀"/>
              </a:rPr>
              <a:t>都过得有意义。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65d"/>
                </a:solidFill>
                <a:latin typeface="Bradley Hand ITC"/>
                <a:ea typeface="华文琥珀"/>
              </a:rPr>
              <a:t>I  will  greet  this  day  with  love  in  my 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65d"/>
                </a:solidFill>
                <a:latin typeface="Bradley Hand ITC"/>
                <a:ea typeface="华文琥珀"/>
              </a:rPr>
              <a:t>How   about   you   ? </a:t>
            </a:r>
            <a:r>
              <a:rPr b="0" lang="en-US" sz="2000" spc="-1" strike="noStrike">
                <a:solidFill>
                  <a:srgbClr val="17365d"/>
                </a:solidFill>
                <a:latin typeface="华文琥珀"/>
                <a:ea typeface="华文琥珀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65d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300720" y="1133640"/>
            <a:ext cx="2452680" cy="2449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25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0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25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25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25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250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1"/>
          <a:stretch/>
        </p:blipFill>
        <p:spPr>
          <a:xfrm>
            <a:off x="0" y="1355760"/>
            <a:ext cx="9144000" cy="46339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" descr="云1.png"/>
          <p:cNvPicPr/>
          <p:nvPr/>
        </p:nvPicPr>
        <p:blipFill>
          <a:blip r:embed="rId2"/>
          <a:stretch/>
        </p:blipFill>
        <p:spPr>
          <a:xfrm>
            <a:off x="-2268360" y="1684440"/>
            <a:ext cx="2268360" cy="7063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1" descr="云3.png"/>
          <p:cNvPicPr/>
          <p:nvPr/>
        </p:nvPicPr>
        <p:blipFill>
          <a:blip r:embed="rId3"/>
          <a:stretch/>
        </p:blipFill>
        <p:spPr>
          <a:xfrm>
            <a:off x="9858240" y="2363760"/>
            <a:ext cx="2994120" cy="1035000"/>
          </a:xfrm>
          <a:prstGeom prst="rect">
            <a:avLst/>
          </a:prstGeom>
          <a:ln w="0">
            <a:noFill/>
          </a:ln>
        </p:spPr>
      </p:pic>
      <p:sp>
        <p:nvSpPr>
          <p:cNvPr id="129" name="Line 7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-25560" y="125748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6"/>
          <p:cNvSpPr/>
          <p:nvPr/>
        </p:nvSpPr>
        <p:spPr>
          <a:xfrm>
            <a:off x="0" y="595620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音乐泡泡"/>
          <p:cNvPicPr/>
          <p:nvPr/>
        </p:nvPicPr>
        <p:blipFill>
          <a:blip r:embed="rId4"/>
          <a:stretch/>
        </p:blipFill>
        <p:spPr>
          <a:xfrm>
            <a:off x="7521480" y="7183440"/>
            <a:ext cx="1008000" cy="938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1" descr="音乐泡泡"/>
          <p:cNvPicPr/>
          <p:nvPr/>
        </p:nvPicPr>
        <p:blipFill>
          <a:blip r:embed="rId5"/>
          <a:stretch/>
        </p:blipFill>
        <p:spPr>
          <a:xfrm>
            <a:off x="6045120" y="7302600"/>
            <a:ext cx="647640" cy="603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3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5" descr="热气球"/>
          <p:cNvPicPr/>
          <p:nvPr/>
        </p:nvPicPr>
        <p:blipFill>
          <a:blip r:embed="rId6"/>
          <a:stretch/>
        </p:blipFill>
        <p:spPr>
          <a:xfrm>
            <a:off x="7164360" y="361800"/>
            <a:ext cx="1428840" cy="19875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8"/>
          <p:cNvSpPr/>
          <p:nvPr/>
        </p:nvSpPr>
        <p:spPr>
          <a:xfrm>
            <a:off x="2987640" y="549360"/>
            <a:ext cx="5184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i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宝藏致力于优秀的</a:t>
            </a:r>
            <a:r>
              <a:rPr b="1" i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i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分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920" y="130320"/>
            <a:ext cx="2982960" cy="9950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8" descr="07.png"/>
          <p:cNvPicPr/>
          <p:nvPr/>
        </p:nvPicPr>
        <p:blipFill>
          <a:blip r:embed="rId9"/>
          <a:stretch/>
        </p:blipFill>
        <p:spPr>
          <a:xfrm>
            <a:off x="2147760" y="-7632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美女跳舞2"/>
          <p:cNvPicPr/>
          <p:nvPr/>
        </p:nvPicPr>
        <p:blipFill>
          <a:blip r:embed="rId10"/>
          <a:stretch/>
        </p:blipFill>
        <p:spPr>
          <a:xfrm>
            <a:off x="179280" y="1341360"/>
            <a:ext cx="2297160" cy="5248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0" descr="绿风车棍子"/>
          <p:cNvPicPr/>
          <p:nvPr/>
        </p:nvPicPr>
        <p:blipFill>
          <a:blip r:embed="rId11"/>
          <a:stretch/>
        </p:blipFill>
        <p:spPr>
          <a:xfrm>
            <a:off x="8461440" y="4218120"/>
            <a:ext cx="71280" cy="1658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9" descr="绿风车"/>
          <p:cNvPicPr/>
          <p:nvPr/>
        </p:nvPicPr>
        <p:blipFill>
          <a:blip r:embed="rId12"/>
          <a:stretch/>
        </p:blipFill>
        <p:spPr>
          <a:xfrm>
            <a:off x="7850160" y="3722760"/>
            <a:ext cx="1217520" cy="12189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2627280" y="2476440"/>
            <a:ext cx="532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PPT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模板下载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pptbz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素材下载 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www.pptbz.com/pptsh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背景图片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ptbz.com/pptpi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课件下载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ptbz.com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55" descr=""/>
          <p:cNvPicPr/>
          <p:nvPr/>
        </p:nvPicPr>
        <p:blipFill>
          <a:blip r:embed="rId19"/>
          <a:stretch/>
        </p:blipFill>
        <p:spPr>
          <a:xfrm rot="2305200">
            <a:off x="2293560" y="23702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6" descr=""/>
          <p:cNvPicPr/>
          <p:nvPr/>
        </p:nvPicPr>
        <p:blipFill>
          <a:blip r:embed="rId20"/>
          <a:stretch/>
        </p:blipFill>
        <p:spPr>
          <a:xfrm rot="2305200">
            <a:off x="2293560" y="295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57" descr=""/>
          <p:cNvPicPr/>
          <p:nvPr/>
        </p:nvPicPr>
        <p:blipFill>
          <a:blip r:embed="rId21"/>
          <a:stretch/>
        </p:blipFill>
        <p:spPr>
          <a:xfrm rot="2305200">
            <a:off x="2293560" y="3527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58" descr=""/>
          <p:cNvPicPr/>
          <p:nvPr/>
        </p:nvPicPr>
        <p:blipFill>
          <a:blip r:embed="rId22"/>
          <a:stretch/>
        </p:blipFill>
        <p:spPr>
          <a:xfrm rot="2305200">
            <a:off x="2293560" y="41036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2"/>
          <p:cNvSpPr/>
          <p:nvPr/>
        </p:nvSpPr>
        <p:spPr>
          <a:xfrm>
            <a:off x="2471760" y="616572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更多精美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下载请点击：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宝藏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_www.pptbz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1111 L 1.79965 0.01111 E">
                                      <p:cBhvr>
                                        <p:cTn id="332" dur="8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1111 L -1.8467 0.01111 E">
                                      <p:cBhvr>
                                        <p:cTn id="334" dur="10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 repeatCount="2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 repeatCount="indefinite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9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C 0.03281 -0.09329 0.06597 -0.18588 0.11666 -0.24745 C 0.16788 -0.30879 0.29392 -0.30625 0.30503 -0.36898 C 0.31632 -0.43171 0.20034 -0.5493 0.18368 -0.6243 C 0.16736 -0.6993 0.17517 -0.77292 0.20538 -0.81782 C 0.23593 -0.86296 0.35625 -0.8618 0.36614 -0.89421 C 0.37604 -0.92685 0.25225 -0.98287 0.26458 -1.01366 C 0.27725 -1.04444 0.35902 -1.0618 0.44097 -1.0794 E">
                                      <p:cBhvr>
                                        <p:cTn id="354" dur="1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05556E-006 -0.00024 C -0.01267 -0.09676 -0.025 -0.19283 -0.04409 -0.25649 C -0.06319 -0.31991 -0.11041 -0.31737 -0.11475 -0.38218 C -0.11892 -0.44723 -0.07534 -0.56922 -0.06909 -0.64676 C -0.06302 -0.72454 -0.06597 -0.80093 -0.07743 -0.84723 C -0.08871 -0.89375 -0.13368 -0.8926 -0.13732 -0.92616 C -0.14132 -0.95996 -0.09461 -1.01783 -0.09948 -1.05 C -0.10416 -1.08149 -0.13489 -1.09954 -0.16527 -1.11783 E">
                                      <p:cBhvr>
                                        <p:cTn id="356" dur="8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 repeatCount="100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 repeatCount="100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 repeatCount="100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 repeatCount="100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2:23:00Z</dcterms:created>
  <dc:creator>samsung</dc:creator>
  <dc:description/>
  <cp:keywords/>
  <dc:language>en-US</dc:language>
  <cp:lastModifiedBy>ppt宝藏 www.pptbz.com提供漂亮ppt模板下载</cp:lastModifiedBy>
  <cp:lastPrinted>1899-12-30T00:00:00Z</cp:lastPrinted>
  <dcterms:modified xsi:type="dcterms:W3CDTF">2014-02-22T13:42:20Z</dcterms:modified>
  <cp:revision>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