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 u="sng">
                <a:solidFill>
                  <a:srgbClr val="ffffff"/>
                </a:solidFill>
                <a:uFillTx/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09C1-FE47-4E8F-85AA-50EA5054F188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817-4BEA-4154-8EA4-B98C0A1C5733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F7D-F688-4563-8E59-B72AAAC1740D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0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A04-94B5-48EE-B8D6-A105D4FAA8D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1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741-A3C3-4795-97C7-447A6ED5FAEB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2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D681-2110-40D2-92C1-D96044DDF71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3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C02B-098F-4F70-9E2B-2169A4C7D037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4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8B42-8410-40A3-93E1-2BCE423F1F64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3E6-6DCC-473F-985B-A1EE42651F90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Times New Roman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C0E-58B1-438E-8A29-4B4370E1E178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4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C2E-2261-494D-A3CE-D0B4B49D4079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5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8B6-5824-4299-AF1E-E5F7EDD441A5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607-4DA8-4580-B1D8-977E56C8EA82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7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79D4-56D0-449A-B3D4-D9C9254A6FF3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C6D-9C1A-4DBA-A632-E56AB8175FC2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D75-B32F-45D4-B64E-C2B90042994B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6162-1584-4162-921B-910768E61399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EEC5-B38F-4949-B471-C9A6797DB26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0FFD-C2AF-4039-9BD1-A658E66C946E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0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765F-16E4-48C7-9938-9C402BB33CF5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1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9AE2-44F9-4761-AA03-A6C28272014D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2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C569-8585-4CB8-BFD7-9AD3D9F23CB8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3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EB40-63C9-4357-A4F5-7D241B84BCB5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FF0-00F4-405B-9246-B43683A184F1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7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26F-689E-48EC-8B32-34DE25C4EB4D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BA55-6FEC-4880-B8C4-D2D7EB817A78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3F2-CF18-42BB-B936-506F7700CF81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0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C46-5A22-4889-8FB9-41033665AE82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1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F24-856D-44CB-AD8B-313A9DD30D38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2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986-EEF3-4F58-A22F-482095C0BC5A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EE9-7D52-4ACD-BF84-D37B647DB0D6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6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A4DF-6931-458C-9FE2-8058BB48DB39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7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255F-3865-4E62-B0A4-BE0FE0EBC8E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A35-0DAE-4826-8FB2-6C8567C924B1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4BE-C068-4791-8C00-B8447CB21E76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0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2D2-0E08-447C-8055-1F8B0277268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1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9EF2-D6A2-4A55-95A2-CFFF840F2CE7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9FF6-DF3F-42FE-938D-4A78D479FD40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5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5C5-1AF2-46CC-9D06-82F20B502CD7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6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496-4978-4E66-9D45-F986B1C3D396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7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6EC9-B21D-437F-BB02-D5DAC7E32ED2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BCE-2FBD-4172-BCB0-B3C77FBF410C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EC2C-CC4F-482C-AE8D-EE3FE50E7EE0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0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DFBE-D949-4A16-80B8-820F82177C9A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BC9E-7512-47AF-B2A2-92E6B9CB553F}" type="slidenum"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4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806E-D376-4AC0-BFB5-D46FFE797EED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5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9C93-1832-49F1-AA1E-911706EDBB62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6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B5C-0ADB-467B-8087-198826C64700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7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22F4-A1EC-48CB-953F-58647BDAB92B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8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D3E-ABBE-4751-A6A0-0308B287303A}" type="slidenum">
              <a:rPr b="1" i="1" lang="zh-CN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9" name="灯片编号占位符 4608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2CE3-8F41-4C03-88F8-853E9EB68324}" type="slidenum">
              <a:rPr b="1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2A9-AC4C-4D2E-9762-DF945FD7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74160" y="933588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1E1-0973-4828-BFA9-5EE352B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120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6A3-11C1-407F-8455-D184CF74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5660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3904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7416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5660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3904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F2B-CD49-4669-8235-C8ADFCD8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EC9D-CB67-4DCB-9DD5-F225D0CD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74160" y="745740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3B2A-F66D-425E-B9FA-3CF0241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51AF-F637-459D-AFC8-C29A2BC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882-D0C8-488A-8150-F520A0A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916D-9230-4D8D-B5E5-8BB304D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98240" y="4990320"/>
            <a:ext cx="822960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32F-918B-44A3-A61D-8DFD49C5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A06-AA5E-463D-B729-00223E3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74160" y="745740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00B-9210-4598-9BFB-204B7CA5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9120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94EB-586E-4C3F-8640-90EECE1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E0C4-E979-4011-B3AA-CF4AC7D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74160" y="933588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AF0F-ACE7-4830-8621-77F5362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99120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D97-A5F5-4782-B559-AA3E9DB8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5660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39040" y="745740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7416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55660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39040" y="9335880"/>
            <a:ext cx="264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9B15-6A98-410C-A2BD-8DB6E4C6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1FD-095F-45A0-86D0-288698BC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7D3-57B4-4828-86C9-190FF4F1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444-442F-413F-A776-9D5CD54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98240" y="4990320"/>
            <a:ext cx="822960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4F5-4191-48DF-AF46-B2DF1751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CBB-016F-4802-B73A-D3FDF72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1200" y="933588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E13-EFAF-445C-990E-6698202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98240" y="49903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7416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1200" y="7457400"/>
            <a:ext cx="40158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74160" y="9335880"/>
            <a:ext cx="8229600" cy="17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AAD-B7BE-48FC-AE2B-09539DC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7200" y="40176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54476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2600"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indent="12600">
              <a:spcBef>
                <a:spcPts val="799"/>
              </a:spcBef>
              <a:buClr>
                <a:srgbClr val="ffffff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indent="12600">
              <a:spcBef>
                <a:spcPts val="799"/>
              </a:spcBef>
              <a:buClr>
                <a:srgbClr val="ffffff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indent="12600"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indent="12600"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indent="12600">
              <a:spcBef>
                <a:spcPts val="799"/>
              </a:spcBef>
              <a:buClr>
                <a:srgbClr val="000000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92880"/>
            <a:ext cx="213372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19E-C6ED-45B2-8666-44EFA5A8DE07}" type="datetime">
              <a:rPr b="1" i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26/7/29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3720" y="6392520"/>
            <a:ext cx="28958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92880"/>
            <a:ext cx="213372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7A9-A200-42D0-A3E8-301A35B23B90}" type="slidenum">
              <a:rPr b="1" i="1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2720" y="1277640"/>
            <a:ext cx="7542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Oval 4"/>
          <p:cNvSpPr/>
          <p:nvPr/>
        </p:nvSpPr>
        <p:spPr>
          <a:xfrm>
            <a:off x="7081920" y="4975200"/>
            <a:ext cx="433440" cy="433440"/>
          </a:xfrm>
          <a:prstGeom prst="ellipse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600" indent="-1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1384200" y="541440"/>
            <a:ext cx="435240" cy="43344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600" indent="-1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1487520" y="720720"/>
            <a:ext cx="868320" cy="866880"/>
          </a:xfrm>
          <a:prstGeom prst="ellipse">
            <a:avLst/>
          </a:pr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600" indent="-1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7251840" y="5118120"/>
            <a:ext cx="866520" cy="868320"/>
          </a:xfrm>
          <a:prstGeom prst="ellipse">
            <a:avLst/>
          </a:prstGeom>
          <a:solidFill>
            <a:srgbClr val="993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600" indent="-12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6" name="Picture 2" descr="#wm#_48_01_*Z"/>
          <p:cNvPicPr/>
          <p:nvPr/>
        </p:nvPicPr>
        <p:blipFill>
          <a:blip r:embed="rId2"/>
          <a:stretch/>
        </p:blipFill>
        <p:spPr>
          <a:xfrm>
            <a:off x="1384200" y="2241720"/>
            <a:ext cx="5986440" cy="2663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392520"/>
            <a:ext cx="2133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0" spc="-1" strike="noStrike" u="sng">
                <a:solidFill>
                  <a:srgbClr val="ffffff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6F8-B62B-4890-A09B-AD65BFDF0330}" type="datetime">
              <a:rPr b="1" i="1" lang="en-US" sz="0" spc="-1" strike="noStrike" u="sng">
                <a:solidFill>
                  <a:srgbClr val="ffffff"/>
                </a:solidFill>
                <a:uFillTx/>
                <a:latin typeface="Arial"/>
              </a:rPr>
              <a:t>07/29/26</a:t>
            </a:fld>
            <a:endParaRPr b="1" i="1" lang="en-US" sz="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392520"/>
            <a:ext cx="2895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392520"/>
            <a:ext cx="2133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0" spc="-1" strike="noStrike" u="sng">
                <a:solidFill>
                  <a:srgbClr val="ffffff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DC3-A46F-4BAE-860F-D0B9FC0E7ACE}" type="slidenum">
              <a:rPr b="1" i="1" lang="en-US" sz="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&#38518;&#32592;&#21644;&#38081;&#32592;.sw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&#38518;&#32592;&#21644;&#38081;&#32592;.sw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2720" y="1277640"/>
            <a:ext cx="75423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同学们，开学啦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905000"/>
            <a:ext cx="64008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欢迎同学们重新回到校园！</a:t>
            </a:r>
            <a:endParaRPr b="0" lang="en-US" sz="2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5" name="Picture 2" descr="chatu"/>
          <p:cNvPicPr/>
          <p:nvPr/>
        </p:nvPicPr>
        <p:blipFill>
          <a:blip r:embed="rId1"/>
          <a:stretch/>
        </p:blipFill>
        <p:spPr>
          <a:xfrm>
            <a:off x="247680" y="247680"/>
            <a:ext cx="8648640" cy="6362640"/>
          </a:xfrm>
          <a:prstGeom prst="rect">
            <a:avLst/>
          </a:prstGeom>
          <a:ln w="0">
            <a:noFill/>
          </a:ln>
        </p:spPr>
      </p:pic>
      <p:sp>
        <p:nvSpPr>
          <p:cNvPr id="96" name="圆角矩形 1"/>
          <p:cNvSpPr/>
          <p:nvPr/>
        </p:nvSpPr>
        <p:spPr>
          <a:xfrm>
            <a:off x="1084320" y="2008080"/>
            <a:ext cx="1224000" cy="1008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陶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19440" y="2205000"/>
            <a:ext cx="136836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罐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直角三角形 3"/>
          <p:cNvSpPr/>
          <p:nvPr/>
        </p:nvSpPr>
        <p:spPr>
          <a:xfrm>
            <a:off x="4722840" y="2908440"/>
            <a:ext cx="1123920" cy="166032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和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圆柱形 4"/>
          <p:cNvSpPr/>
          <p:nvPr/>
        </p:nvSpPr>
        <p:spPr>
          <a:xfrm>
            <a:off x="5661000" y="2276640"/>
            <a:ext cx="792360" cy="1008000"/>
          </a:xfrm>
          <a:prstGeom prst="can">
            <a:avLst>
              <a:gd name="adj" fmla="val 19629"/>
            </a:avLst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铁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六边形 8"/>
          <p:cNvSpPr/>
          <p:nvPr/>
        </p:nvSpPr>
        <p:spPr>
          <a:xfrm>
            <a:off x="7362720" y="2127240"/>
            <a:ext cx="1152720" cy="1079640"/>
          </a:xfrm>
          <a:prstGeom prst="hexagon">
            <a:avLst>
              <a:gd name="adj" fmla="val 25031"/>
              <a:gd name="vf" fmla="val 115470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33cc33"/>
                </a:solidFill>
                <a:uFillTx/>
                <a:latin typeface="Times New Roman"/>
              </a:rPr>
              <a:t>罐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85346"/>
          <p:cNvSpPr/>
          <p:nvPr/>
        </p:nvSpPr>
        <p:spPr>
          <a:xfrm>
            <a:off x="204840" y="264960"/>
            <a:ext cx="8734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铁罐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你敢碰我吗？陶罐子！”铁罐</a:t>
            </a:r>
            <a:r>
              <a:rPr b="1" i="1" lang="zh-CN" sz="2400" spc="-1" strike="noStrike" u="sng">
                <a:solidFill>
                  <a:srgbClr val="c00000"/>
                </a:solidFill>
                <a:uFillTx/>
                <a:latin typeface="Times New Roman"/>
              </a:rPr>
              <a:t>傲慢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地问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陶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   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不敢，铁罐兄弟。”陶罐</a:t>
            </a: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谦虚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地回答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   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我就知道你不敢，懦弱的东西！”铁罐说，带着更加    </a:t>
            </a:r>
            <a:r>
              <a:rPr b="1" i="1" lang="zh-CN" sz="2400" spc="-1" strike="noStrike" u="sng">
                <a:solidFill>
                  <a:srgbClr val="c00000"/>
                </a:solidFill>
                <a:uFillTx/>
                <a:latin typeface="Times New Roman"/>
              </a:rPr>
              <a:t>轻蔑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的神气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陶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   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我确实不敢碰你，但并不是懦弱。” 陶罐</a:t>
            </a: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争辩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说，“我们生来就是盛东西的，并不是来互相碰撞的。说到盛东西，我不见得比你差。再说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……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      “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住嘴！”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铁罐</a:t>
            </a:r>
            <a:r>
              <a:rPr b="1" i="1" lang="zh-CN" sz="2400" spc="-1" strike="noStrike" u="sng">
                <a:solidFill>
                  <a:srgbClr val="c00000"/>
                </a:solidFill>
                <a:uFillTx/>
                <a:latin typeface="Times New Roman"/>
              </a:rPr>
              <a:t>恼怒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了，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你怎么敢和我相提并论！你等着吧，要不了几天，你就会破成碎片，我却永远在这里，什么也不怕。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陶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      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陶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说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何必这样说呢？”“我们还是和睦相处吧，有什么可吵的呢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)   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铁罐说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和你在一起，我感到羞耻，你算什么东西！” “走着瞧吧，总有一天，我要把你碰成碎片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动作按钮: 前进或下一项 185348">
            <a:hlinkClick r:id="rId1"/>
          </p:cNvPr>
          <p:cNvSpPr/>
          <p:nvPr/>
        </p:nvSpPr>
        <p:spPr>
          <a:xfrm>
            <a:off x="781200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3794"/>
                </a:moveTo>
                <a:lnTo>
                  <a:pt x="23304" y="10800"/>
                </a:lnTo>
                <a:lnTo>
                  <a:pt x="92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4817" descr="txtp018"/>
          <p:cNvPicPr/>
          <p:nvPr/>
        </p:nvPicPr>
        <p:blipFill>
          <a:blip r:embed="rId1"/>
          <a:stretch/>
        </p:blipFill>
        <p:spPr>
          <a:xfrm>
            <a:off x="249120" y="209520"/>
            <a:ext cx="864576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34818"/>
          <p:cNvSpPr/>
          <p:nvPr/>
        </p:nvSpPr>
        <p:spPr>
          <a:xfrm>
            <a:off x="1116000" y="907920"/>
            <a:ext cx="453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8" name="晨曲（截取）.mp3" descr=""/>
          <p:cNvPicPr/>
          <p:nvPr/>
        </p:nvPicPr>
        <p:blipFill>
          <a:blip r:embed="rId2"/>
          <a:stretch/>
        </p:blipFill>
        <p:spPr>
          <a:xfrm>
            <a:off x="723600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9221"/>
          <p:cNvSpPr/>
          <p:nvPr/>
        </p:nvSpPr>
        <p:spPr>
          <a:xfrm>
            <a:off x="368280" y="5513400"/>
            <a:ext cx="5761080" cy="944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时间在流逝，世界上发生了许多事情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……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</a:rPr>
              <a:t>。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36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94234"/>
          <p:cNvSpPr/>
          <p:nvPr/>
        </p:nvSpPr>
        <p:spPr>
          <a:xfrm>
            <a:off x="1565280" y="2117880"/>
            <a:ext cx="115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陶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文本框 94235"/>
          <p:cNvSpPr/>
          <p:nvPr/>
        </p:nvSpPr>
        <p:spPr>
          <a:xfrm>
            <a:off x="2806560" y="2027160"/>
            <a:ext cx="545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a7c6e5"/>
                </a:solidFill>
                <a:uFillTx/>
                <a:latin typeface="宋体"/>
              </a:rPr>
              <a:t>光洁朴素 成为文物</a:t>
            </a:r>
            <a:endParaRPr b="1" i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2" name="文本框 94236"/>
          <p:cNvSpPr/>
          <p:nvPr/>
        </p:nvSpPr>
        <p:spPr>
          <a:xfrm>
            <a:off x="1565280" y="3835440"/>
            <a:ext cx="115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铁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文本框 94237"/>
          <p:cNvSpPr/>
          <p:nvPr/>
        </p:nvSpPr>
        <p:spPr>
          <a:xfrm>
            <a:off x="2935440" y="3835440"/>
            <a:ext cx="5462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a7c6e5"/>
                </a:solidFill>
                <a:uFillTx/>
                <a:latin typeface="宋体"/>
              </a:rPr>
              <a:t>无影无踪 化为泥土</a:t>
            </a:r>
            <a:endParaRPr b="1" i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4" name="文本框 94238"/>
          <p:cNvSpPr/>
          <p:nvPr/>
        </p:nvSpPr>
        <p:spPr>
          <a:xfrm>
            <a:off x="538200" y="515880"/>
            <a:ext cx="115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结果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文本框 94218"/>
          <p:cNvSpPr/>
          <p:nvPr/>
        </p:nvSpPr>
        <p:spPr>
          <a:xfrm>
            <a:off x="3562200" y="1095480"/>
            <a:ext cx="201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荒凉场地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base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base">
                                        <p:cTn id="385" dur="200" autoRev="1" fill="hold" repeatCount="10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 repeatCount="10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 repeatCount="10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9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368642"/>
          <p:cNvSpPr/>
          <p:nvPr/>
        </p:nvSpPr>
        <p:spPr>
          <a:xfrm>
            <a:off x="971640" y="260280"/>
            <a:ext cx="71625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读了这个故事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你想到了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……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7" name="图片 368646" descr="200514181031"/>
          <p:cNvPicPr/>
          <p:nvPr/>
        </p:nvPicPr>
        <p:blipFill>
          <a:blip r:embed="rId1"/>
          <a:stretch/>
        </p:blipFill>
        <p:spPr>
          <a:xfrm>
            <a:off x="5076720" y="2708280"/>
            <a:ext cx="1541520" cy="2424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68647" descr="200514181247"/>
          <p:cNvPicPr/>
          <p:nvPr/>
        </p:nvPicPr>
        <p:blipFill>
          <a:blip r:embed="rId2"/>
          <a:stretch/>
        </p:blipFill>
        <p:spPr>
          <a:xfrm>
            <a:off x="1476360" y="1197000"/>
            <a:ext cx="2305080" cy="3960720"/>
          </a:xfrm>
          <a:prstGeom prst="rect">
            <a:avLst/>
          </a:prstGeom>
          <a:ln w="0">
            <a:noFill/>
          </a:ln>
        </p:spPr>
      </p:pic>
      <p:sp>
        <p:nvSpPr>
          <p:cNvPr id="179" name="云形标注 368648"/>
          <p:cNvSpPr/>
          <p:nvPr/>
        </p:nvSpPr>
        <p:spPr>
          <a:xfrm>
            <a:off x="5508720" y="907920"/>
            <a:ext cx="2448000" cy="2592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94211"/>
          <p:cNvSpPr/>
          <p:nvPr/>
        </p:nvSpPr>
        <p:spPr>
          <a:xfrm>
            <a:off x="66600" y="2492280"/>
            <a:ext cx="671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陶罐和铁罐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1" name="文本框 94213"/>
          <p:cNvSpPr/>
          <p:nvPr/>
        </p:nvSpPr>
        <p:spPr>
          <a:xfrm>
            <a:off x="298764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2" name="文本框 94214"/>
          <p:cNvSpPr/>
          <p:nvPr/>
        </p:nvSpPr>
        <p:spPr>
          <a:xfrm>
            <a:off x="1979640" y="76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3" name="文本框 94217"/>
          <p:cNvSpPr/>
          <p:nvPr/>
        </p:nvSpPr>
        <p:spPr>
          <a:xfrm>
            <a:off x="971640" y="1700280"/>
            <a:ext cx="194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国王御厨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4" name="文本框 94218"/>
          <p:cNvSpPr/>
          <p:nvPr/>
        </p:nvSpPr>
        <p:spPr>
          <a:xfrm>
            <a:off x="971640" y="4797360"/>
            <a:ext cx="201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</a:rPr>
              <a:t>荒凉场地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5" name="文本框 94222"/>
          <p:cNvSpPr/>
          <p:nvPr/>
        </p:nvSpPr>
        <p:spPr>
          <a:xfrm>
            <a:off x="3059280" y="836640"/>
            <a:ext cx="129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铁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6" name="文本框 94224"/>
          <p:cNvSpPr/>
          <p:nvPr/>
        </p:nvSpPr>
        <p:spPr>
          <a:xfrm>
            <a:off x="3203640" y="1347840"/>
            <a:ext cx="309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傲慢 轻蔑 恼怒 愤怒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7" name="文本框 94226"/>
          <p:cNvSpPr/>
          <p:nvPr/>
        </p:nvSpPr>
        <p:spPr>
          <a:xfrm>
            <a:off x="6588000" y="1805040"/>
            <a:ext cx="10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对比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8" name="文本框 94228"/>
          <p:cNvSpPr/>
          <p:nvPr/>
        </p:nvSpPr>
        <p:spPr>
          <a:xfrm>
            <a:off x="7810560" y="1805040"/>
            <a:ext cx="11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Arial"/>
                <a:ea typeface="黑体"/>
              </a:rPr>
              <a:t>各有所长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Arial"/>
                <a:ea typeface="黑体"/>
              </a:rPr>
              <a:t>正确对待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9" name="文本框 94229"/>
          <p:cNvSpPr/>
          <p:nvPr/>
        </p:nvSpPr>
        <p:spPr>
          <a:xfrm>
            <a:off x="8028000" y="314172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0" name="文本框 94231"/>
          <p:cNvSpPr/>
          <p:nvPr/>
        </p:nvSpPr>
        <p:spPr>
          <a:xfrm>
            <a:off x="7810560" y="3875040"/>
            <a:ext cx="111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Arial"/>
                <a:ea typeface="黑体"/>
              </a:rPr>
              <a:t>相互尊重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6600"/>
                </a:solidFill>
                <a:uFillTx/>
                <a:latin typeface="Arial"/>
                <a:ea typeface="黑体"/>
              </a:rPr>
              <a:t>和睦相处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1" name="文本框 94232"/>
          <p:cNvSpPr/>
          <p:nvPr/>
        </p:nvSpPr>
        <p:spPr>
          <a:xfrm>
            <a:off x="3024360" y="2168640"/>
            <a:ext cx="136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陶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2" name="文本框 94233"/>
          <p:cNvSpPr/>
          <p:nvPr/>
        </p:nvSpPr>
        <p:spPr>
          <a:xfrm>
            <a:off x="3355920" y="2849400"/>
            <a:ext cx="309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谦虚 友善 宽容 大度</a:t>
            </a:r>
            <a:endParaRPr b="1" i="1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3" name="文本框 94234"/>
          <p:cNvSpPr/>
          <p:nvPr/>
        </p:nvSpPr>
        <p:spPr>
          <a:xfrm>
            <a:off x="2987640" y="3933720"/>
            <a:ext cx="11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陶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4" name="文本框 94235"/>
          <p:cNvSpPr/>
          <p:nvPr/>
        </p:nvSpPr>
        <p:spPr>
          <a:xfrm>
            <a:off x="3382920" y="4545000"/>
            <a:ext cx="237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光洁朴素 成为文物</a:t>
            </a:r>
            <a:endParaRPr b="1" i="1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文本框 94236"/>
          <p:cNvSpPr/>
          <p:nvPr/>
        </p:nvSpPr>
        <p:spPr>
          <a:xfrm>
            <a:off x="2916360" y="5324400"/>
            <a:ext cx="115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铁罐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6" name="文本框 94237"/>
          <p:cNvSpPr/>
          <p:nvPr/>
        </p:nvSpPr>
        <p:spPr>
          <a:xfrm>
            <a:off x="3456000" y="5904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 u="sng">
                <a:solidFill>
                  <a:srgbClr val="ffffff"/>
                </a:solidFill>
                <a:uFillTx/>
                <a:latin typeface="宋体"/>
              </a:rPr>
              <a:t>无影无踪 化为泥土</a:t>
            </a:r>
            <a:endParaRPr b="1" i="1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7" name="文本框 94238"/>
          <p:cNvSpPr/>
          <p:nvPr/>
        </p:nvSpPr>
        <p:spPr>
          <a:xfrm>
            <a:off x="6659640" y="4941720"/>
            <a:ext cx="115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结果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8" name="左大括号 94240"/>
          <p:cNvSpPr/>
          <p:nvPr/>
        </p:nvSpPr>
        <p:spPr>
          <a:xfrm>
            <a:off x="2700360" y="422100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9" name="右大括号 94241"/>
          <p:cNvSpPr/>
          <p:nvPr/>
        </p:nvSpPr>
        <p:spPr>
          <a:xfrm>
            <a:off x="6299280" y="4149720"/>
            <a:ext cx="360360" cy="1871640"/>
          </a:xfrm>
          <a:custGeom>
            <a:avLst/>
            <a:gdLst>
              <a:gd name="textAreaLeft" fmla="*/ 0 w 360360"/>
              <a:gd name="textAreaRight" fmla="*/ 12996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0" name="左大括号 94244"/>
          <p:cNvSpPr/>
          <p:nvPr/>
        </p:nvSpPr>
        <p:spPr>
          <a:xfrm>
            <a:off x="2700360" y="1125360"/>
            <a:ext cx="360360" cy="18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1" name="右大括号 94245"/>
          <p:cNvSpPr/>
          <p:nvPr/>
        </p:nvSpPr>
        <p:spPr>
          <a:xfrm>
            <a:off x="6227640" y="1162080"/>
            <a:ext cx="358920" cy="1800360"/>
          </a:xfrm>
          <a:custGeom>
            <a:avLst/>
            <a:gdLst>
              <a:gd name="textAreaLeft" fmla="*/ 0 w 358920"/>
              <a:gd name="textAreaRight" fmla="*/ 129600 w 358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2" name="左大括号 94247"/>
          <p:cNvSpPr/>
          <p:nvPr/>
        </p:nvSpPr>
        <p:spPr>
          <a:xfrm>
            <a:off x="611280" y="206064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右大括号 94249"/>
          <p:cNvSpPr/>
          <p:nvPr/>
        </p:nvSpPr>
        <p:spPr>
          <a:xfrm>
            <a:off x="7504200" y="1700280"/>
            <a:ext cx="431640" cy="3960720"/>
          </a:xfrm>
          <a:custGeom>
            <a:avLst/>
            <a:gdLst>
              <a:gd name="textAreaLeft" fmla="*/ 0 w 431640"/>
              <a:gd name="textAreaRight" fmla="*/ 155880 w 43164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9"/>
          <p:cNvGrpSpPr/>
          <p:nvPr/>
        </p:nvGrpSpPr>
        <p:grpSpPr>
          <a:xfrm>
            <a:off x="144360" y="-258840"/>
            <a:ext cx="8908920" cy="6710400"/>
            <a:chOff x="144360" y="-258840"/>
            <a:chExt cx="8908920" cy="6710400"/>
          </a:xfrm>
        </p:grpSpPr>
        <p:pic>
          <p:nvPicPr>
            <p:cNvPr id="205" name="Picture 12" descr="200514181031"/>
            <p:cNvPicPr/>
            <p:nvPr/>
          </p:nvPicPr>
          <p:blipFill>
            <a:blip r:embed="rId1"/>
            <a:stretch/>
          </p:blipFill>
          <p:spPr>
            <a:xfrm>
              <a:off x="144360" y="4435560"/>
              <a:ext cx="151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" descr="200514181247"/>
            <p:cNvPicPr/>
            <p:nvPr/>
          </p:nvPicPr>
          <p:blipFill>
            <a:blip r:embed="rId2"/>
            <a:stretch/>
          </p:blipFill>
          <p:spPr>
            <a:xfrm>
              <a:off x="7524720" y="-258840"/>
              <a:ext cx="1528560" cy="19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359429"/>
          <p:cNvGrpSpPr/>
          <p:nvPr/>
        </p:nvGrpSpPr>
        <p:grpSpPr>
          <a:xfrm>
            <a:off x="1373040" y="109440"/>
            <a:ext cx="5756400" cy="5256360"/>
            <a:chOff x="1373040" y="109440"/>
            <a:chExt cx="5756400" cy="5256360"/>
          </a:xfrm>
        </p:grpSpPr>
        <p:sp>
          <p:nvSpPr>
            <p:cNvPr id="208" name="椭圆形标注 359430"/>
            <p:cNvSpPr/>
            <p:nvPr/>
          </p:nvSpPr>
          <p:spPr>
            <a:xfrm>
              <a:off x="1655640" y="109440"/>
              <a:ext cx="5473800" cy="5256360"/>
            </a:xfrm>
            <a:prstGeom prst="wedgeEllipseCallout">
              <a:avLst>
                <a:gd name="adj1" fmla="val 63458"/>
                <a:gd name="adj2" fmla="val -30004"/>
              </a:avLst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 u="sng">
                  <a:solidFill>
                    <a:srgbClr val="ffffff"/>
                  </a:solidFill>
                  <a:uFillTx/>
                  <a:latin typeface="楷体_GB2312"/>
                  <a:ea typeface="楷体_GB2312"/>
                </a:rPr>
                <a:t>每个人都有自己的长处和短处，要互相尊重，什么时候都不能骄傲自大</a:t>
              </a:r>
              <a:endParaRPr b="1" i="1" lang="en-US" sz="4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9" name="等腰三角形 359431"/>
            <p:cNvSpPr/>
            <p:nvPr/>
          </p:nvSpPr>
          <p:spPr>
            <a:xfrm>
              <a:off x="1373040" y="3747960"/>
              <a:ext cx="1079640" cy="792360"/>
            </a:xfrm>
            <a:prstGeom prst="triangle">
              <a:avLst>
                <a:gd name="adj" fmla="val 50000"/>
              </a:avLst>
            </a:prstGeom>
            <a:solidFill>
              <a:srgbClr val="c4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74786"/>
          <p:cNvSpPr/>
          <p:nvPr/>
        </p:nvSpPr>
        <p:spPr>
          <a:xfrm>
            <a:off x="250920" y="341280"/>
            <a:ext cx="6121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送给大家的话：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1" name="矩形 374787"/>
          <p:cNvSpPr/>
          <p:nvPr/>
        </p:nvSpPr>
        <p:spPr>
          <a:xfrm>
            <a:off x="355680" y="1628640"/>
            <a:ext cx="853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、取人之长，补己之短。</a:t>
            </a: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2" name="文本框 374788"/>
          <p:cNvSpPr/>
          <p:nvPr/>
        </p:nvSpPr>
        <p:spPr>
          <a:xfrm>
            <a:off x="355680" y="2781360"/>
            <a:ext cx="853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、寸有所长，尺有所短。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3" name="文本框 374789"/>
          <p:cNvSpPr/>
          <p:nvPr/>
        </p:nvSpPr>
        <p:spPr>
          <a:xfrm>
            <a:off x="434880" y="3695760"/>
            <a:ext cx="8460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、谦虚使人进步，骄傲使人落后。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4" name="直接连接符 374790"/>
          <p:cNvSpPr/>
          <p:nvPr/>
        </p:nvSpPr>
        <p:spPr>
          <a:xfrm>
            <a:off x="5364000" y="595008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5" name="文本框 374791"/>
          <p:cNvSpPr/>
          <p:nvPr/>
        </p:nvSpPr>
        <p:spPr>
          <a:xfrm>
            <a:off x="6588000" y="5373720"/>
            <a:ext cx="230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毛泽东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9698"/>
          <p:cNvSpPr/>
          <p:nvPr/>
        </p:nvSpPr>
        <p:spPr>
          <a:xfrm>
            <a:off x="250920" y="4869000"/>
            <a:ext cx="889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Arial"/>
              </a:rPr>
              <a:t>兴奋    陶罐   羞耻    流逝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文本框 29701"/>
          <p:cNvSpPr/>
          <p:nvPr/>
        </p:nvSpPr>
        <p:spPr>
          <a:xfrm>
            <a:off x="250920" y="260280"/>
            <a:ext cx="96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骄傲   傲慢   谦虚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文本框 29702"/>
          <p:cNvSpPr/>
          <p:nvPr/>
        </p:nvSpPr>
        <p:spPr>
          <a:xfrm>
            <a:off x="250920" y="1268280"/>
            <a:ext cx="867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神气   恼怒   相提并论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文本框 29703"/>
          <p:cNvSpPr/>
          <p:nvPr/>
        </p:nvSpPr>
        <p:spPr>
          <a:xfrm>
            <a:off x="250920" y="2349360"/>
            <a:ext cx="806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理会 </a:t>
            </a:r>
            <a:r>
              <a:rPr b="1" i="1" lang="zh-CN" sz="6000" spc="-1" strike="noStrike" u="sng">
                <a:solidFill>
                  <a:srgbClr val="006600"/>
                </a:solidFill>
                <a:uFillTx/>
                <a:latin typeface="宋体"/>
              </a:rPr>
              <a:t>  </a:t>
            </a: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荒凉   惊讶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文本框 29704"/>
          <p:cNvSpPr/>
          <p:nvPr/>
        </p:nvSpPr>
        <p:spPr>
          <a:xfrm>
            <a:off x="250920" y="357336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光洁 </a:t>
            </a:r>
            <a:r>
              <a:rPr b="1" i="1" lang="zh-CN" sz="60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宋体"/>
              </a:rPr>
              <a:t>朴素  价值  </a:t>
            </a: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Arial"/>
              </a:rPr>
              <a:t>闭嘴</a:t>
            </a:r>
            <a:r>
              <a:rPr b="1" i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i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base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1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base">
                                        <p:cTn id="1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37889"/>
          <p:cNvSpPr/>
          <p:nvPr/>
        </p:nvSpPr>
        <p:spPr>
          <a:xfrm>
            <a:off x="1376280" y="917640"/>
            <a:ext cx="10922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懦弱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　　</a:t>
            </a:r>
            <a:endParaRPr b="1" i="1" lang="en-US" sz="11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矩形 8194"/>
          <p:cNvSpPr/>
          <p:nvPr/>
        </p:nvSpPr>
        <p:spPr>
          <a:xfrm>
            <a:off x="2305080" y="3170160"/>
            <a:ext cx="5616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i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用尖刻的话数说别人的短处，使人难堪。</a:t>
            </a: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　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8" name="矩形 8195"/>
          <p:cNvSpPr/>
          <p:nvPr/>
        </p:nvSpPr>
        <p:spPr>
          <a:xfrm>
            <a:off x="1270080" y="191124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谦虚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9" name="矩形 38915"/>
          <p:cNvSpPr/>
          <p:nvPr/>
        </p:nvSpPr>
        <p:spPr>
          <a:xfrm>
            <a:off x="2468520" y="4654440"/>
            <a:ext cx="50198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把不同的人或不同的事物混在 一起来看待。     　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0" name="横卷形 1"/>
          <p:cNvSpPr/>
          <p:nvPr/>
        </p:nvSpPr>
        <p:spPr>
          <a:xfrm>
            <a:off x="2787480" y="917640"/>
            <a:ext cx="2980080" cy="639720"/>
          </a:xfrm>
          <a:prstGeom prst="horizontalScroll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软弱无能，不坚强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.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1" name="圆角矩形 3"/>
          <p:cNvSpPr/>
          <p:nvPr/>
        </p:nvSpPr>
        <p:spPr>
          <a:xfrm>
            <a:off x="1212840" y="3170160"/>
            <a:ext cx="1008000" cy="647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奚落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2" name="横卷形 4"/>
          <p:cNvSpPr/>
          <p:nvPr/>
        </p:nvSpPr>
        <p:spPr>
          <a:xfrm>
            <a:off x="2714760" y="1839960"/>
            <a:ext cx="4143240" cy="720720"/>
          </a:xfrm>
          <a:prstGeom prst="horizontalScroll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虚心，不自满，肯接受批评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楷体_GB2312"/>
              </a:rPr>
              <a:t>.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3" name="圆角矩形 5"/>
          <p:cNvSpPr/>
          <p:nvPr/>
        </p:nvSpPr>
        <p:spPr>
          <a:xfrm>
            <a:off x="695160" y="4654440"/>
            <a:ext cx="1773360" cy="6145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相提并论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remove" repeatCount="1000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remove" repeatCount="1000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remove" repeatCount="1000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remove" repeatCount="1000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18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base">
                                        <p:cTn id="18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base">
                                        <p:cTn id="2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"/>
                                          </p:val>
                                        </p:tav>
                                        <p:tav tm="50000">
                                          <p:val>
                                            <p:strVal val="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259076"/>
          <p:cNvSpPr/>
          <p:nvPr/>
        </p:nvSpPr>
        <p:spPr>
          <a:xfrm>
            <a:off x="1258920" y="620640"/>
            <a:ext cx="64818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　　在国王的御厨里有两个罐子，一个是陶的，一个是铁的。骄傲的（　　）看不起（　　），常常（　　）它。</a:t>
            </a:r>
            <a:endParaRPr b="1" i="1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5" name="文本框 259077"/>
          <p:cNvSpPr/>
          <p:nvPr/>
        </p:nvSpPr>
        <p:spPr>
          <a:xfrm>
            <a:off x="665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6" name="文本框 259078"/>
          <p:cNvSpPr/>
          <p:nvPr/>
        </p:nvSpPr>
        <p:spPr>
          <a:xfrm>
            <a:off x="8101080" y="1413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17" name="组合 259085"/>
          <p:cNvGrpSpPr/>
          <p:nvPr/>
        </p:nvGrpSpPr>
        <p:grpSpPr>
          <a:xfrm>
            <a:off x="3063960" y="3483000"/>
            <a:ext cx="3962160" cy="922320"/>
            <a:chOff x="3063960" y="3483000"/>
            <a:chExt cx="3962160" cy="922320"/>
          </a:xfrm>
        </p:grpSpPr>
        <p:sp>
          <p:nvSpPr>
            <p:cNvPr id="118" name="椭圆形标注 259086"/>
            <p:cNvSpPr/>
            <p:nvPr/>
          </p:nvSpPr>
          <p:spPr>
            <a:xfrm rot="10800000">
              <a:off x="3063960" y="3483000"/>
              <a:ext cx="3962160" cy="922320"/>
            </a:xfrm>
            <a:prstGeom prst="wedgeEllipseCallout">
              <a:avLst>
                <a:gd name="adj1" fmla="val 11921"/>
                <a:gd name="adj2" fmla="val 114425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9" name="文本框 259087"/>
            <p:cNvSpPr/>
            <p:nvPr/>
          </p:nvSpPr>
          <p:spPr>
            <a:xfrm>
              <a:off x="4303440" y="3531960"/>
              <a:ext cx="1403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奚落</a:t>
              </a:r>
              <a:endParaRPr b="1" i="1" lang="en-US" sz="4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20" name="文本框 259088"/>
          <p:cNvSpPr/>
          <p:nvPr/>
        </p:nvSpPr>
        <p:spPr>
          <a:xfrm>
            <a:off x="3151080" y="175104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铁罐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文本框 259089"/>
          <p:cNvSpPr/>
          <p:nvPr/>
        </p:nvSpPr>
        <p:spPr>
          <a:xfrm>
            <a:off x="895320" y="233028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陶罐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文本框 259090"/>
          <p:cNvSpPr/>
          <p:nvPr/>
        </p:nvSpPr>
        <p:spPr>
          <a:xfrm>
            <a:off x="4048200" y="2330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奚落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base">
                                        <p:cTn id="2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75778" descr="rjb05_107"/>
          <p:cNvPicPr/>
          <p:nvPr/>
        </p:nvPicPr>
        <p:blipFill>
          <a:blip r:embed="rId1"/>
          <a:stretch/>
        </p:blipFill>
        <p:spPr>
          <a:xfrm>
            <a:off x="225360" y="254160"/>
            <a:ext cx="4719600" cy="614808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727200" y="1052640"/>
            <a:ext cx="17460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1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727200" y="203040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2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727200" y="444348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6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727200" y="314172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5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8" name="图片 16" descr="rjb05_108"/>
          <p:cNvPicPr/>
          <p:nvPr/>
        </p:nvPicPr>
        <p:blipFill>
          <a:blip r:embed="rId2"/>
          <a:srcRect l="2858" t="888" r="0" b="0"/>
          <a:stretch/>
        </p:blipFill>
        <p:spPr>
          <a:xfrm>
            <a:off x="4946760" y="254160"/>
            <a:ext cx="3949560" cy="61624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1"/>
          <p:cNvSpPr/>
          <p:nvPr/>
        </p:nvSpPr>
        <p:spPr>
          <a:xfrm>
            <a:off x="727200" y="261144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4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727200" y="2284560"/>
            <a:ext cx="17460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3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5353200" y="203040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9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2" name="矩形 24"/>
          <p:cNvSpPr/>
          <p:nvPr/>
        </p:nvSpPr>
        <p:spPr>
          <a:xfrm>
            <a:off x="5353200" y="121752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8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5353200" y="696960"/>
            <a:ext cx="174600" cy="216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7</a:t>
            </a:r>
            <a:endParaRPr b="1" i="1" lang="en-US" sz="9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横卷形 1"/>
          <p:cNvSpPr/>
          <p:nvPr/>
        </p:nvSpPr>
        <p:spPr>
          <a:xfrm>
            <a:off x="227160" y="2060640"/>
            <a:ext cx="8669160" cy="4176720"/>
          </a:xfrm>
          <a:prstGeom prst="horizontalScroll">
            <a:avLst>
              <a:gd name="adj" fmla="val 12500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1.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准确的朗读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2--9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自然段。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2.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铁罐是如何奚落陶罐的？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并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把相应的语句画出来。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（小组之间讨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思考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幼圆"/>
                <a:ea typeface="幼圆"/>
              </a:rPr>
              <a:t>）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85347"/>
          <p:cNvSpPr/>
          <p:nvPr/>
        </p:nvSpPr>
        <p:spPr>
          <a:xfrm>
            <a:off x="355680" y="349200"/>
            <a:ext cx="3962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c000"/>
                </a:solidFill>
                <a:uFillTx/>
                <a:latin typeface="Times New Roman"/>
              </a:rPr>
              <a:t>铁罐</a:t>
            </a:r>
            <a:r>
              <a:rPr b="1" i="1" lang="zh-CN" sz="2800" spc="-1" strike="noStrike" u="sng">
                <a:solidFill>
                  <a:srgbClr val="ffc000"/>
                </a:solidFill>
                <a:uFillTx/>
                <a:latin typeface="Arial"/>
              </a:rPr>
              <a:t>奚落</a:t>
            </a:r>
            <a:r>
              <a:rPr b="1" i="1" lang="zh-CN" sz="2800" spc="-1" strike="noStrike" u="sng">
                <a:solidFill>
                  <a:srgbClr val="ffc000"/>
                </a:solidFill>
                <a:uFillTx/>
                <a:latin typeface="Times New Roman"/>
              </a:rPr>
              <a:t>陶罐的话：</a:t>
            </a:r>
            <a:endParaRPr b="1" i="1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6" name="动作按钮: 前进或下一项 185348">
            <a:hlinkClick r:id="rId1"/>
          </p:cNvPr>
          <p:cNvSpPr/>
          <p:nvPr/>
        </p:nvSpPr>
        <p:spPr>
          <a:xfrm>
            <a:off x="781200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3794"/>
                </a:moveTo>
                <a:lnTo>
                  <a:pt x="23304" y="10800"/>
                </a:lnTo>
                <a:lnTo>
                  <a:pt x="92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7" name="圆角矩形 2"/>
          <p:cNvSpPr/>
          <p:nvPr/>
        </p:nvSpPr>
        <p:spPr>
          <a:xfrm>
            <a:off x="541440" y="1079640"/>
            <a:ext cx="5265720" cy="504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你敢碰我吗？陶罐子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8" name="圆角矩形 3"/>
          <p:cNvSpPr/>
          <p:nvPr/>
        </p:nvSpPr>
        <p:spPr>
          <a:xfrm>
            <a:off x="541440" y="1965240"/>
            <a:ext cx="6769080" cy="5032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)</a:t>
            </a: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我就知道你不敢，懦弱的东西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9" name="圆角矩形 4"/>
          <p:cNvSpPr/>
          <p:nvPr/>
        </p:nvSpPr>
        <p:spPr>
          <a:xfrm>
            <a:off x="541440" y="2852640"/>
            <a:ext cx="8302680" cy="1152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)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住嘴！” “你怎么敢和我相提并论！你等着吧，要不了几天，你就会破成碎片，我却永远在这里，什么也不怕。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0" name="圆角矩形 5"/>
          <p:cNvSpPr/>
          <p:nvPr/>
        </p:nvSpPr>
        <p:spPr>
          <a:xfrm>
            <a:off x="539640" y="4492800"/>
            <a:ext cx="8064720" cy="115236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(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铁罐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)  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和你在一起，我感到羞耻，你算什么东西！” “走着瞧吧，总有一天，我要把你碰成碎片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1" name="横卷形 7"/>
          <p:cNvSpPr/>
          <p:nvPr/>
        </p:nvSpPr>
        <p:spPr>
          <a:xfrm>
            <a:off x="6012000" y="981000"/>
            <a:ext cx="2404800" cy="647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铁罐傲慢地问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2" name="横卷形 8"/>
          <p:cNvSpPr/>
          <p:nvPr/>
        </p:nvSpPr>
        <p:spPr>
          <a:xfrm>
            <a:off x="6443640" y="1820880"/>
            <a:ext cx="2521080" cy="1030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带着更加轻蔑的神气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3" name="横卷形 9"/>
          <p:cNvSpPr/>
          <p:nvPr/>
        </p:nvSpPr>
        <p:spPr>
          <a:xfrm>
            <a:off x="6829560" y="3762360"/>
            <a:ext cx="2016000" cy="59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铁罐恼怒了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3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436680" y="555480"/>
            <a:ext cx="1544040" cy="1577880"/>
            <a:chOff x="436680" y="555480"/>
            <a:chExt cx="1544040" cy="1577880"/>
          </a:xfrm>
        </p:grpSpPr>
        <p:sp>
          <p:nvSpPr>
            <p:cNvPr id="145" name="Oval 3"/>
            <p:cNvSpPr/>
            <p:nvPr/>
          </p:nvSpPr>
          <p:spPr>
            <a:xfrm>
              <a:off x="594000" y="746280"/>
              <a:ext cx="1386720" cy="138708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铁罐</a:t>
              </a:r>
              <a:endParaRPr b="1" i="1" lang="en-US" sz="2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436680" y="555480"/>
              <a:ext cx="621720" cy="621720"/>
            </a:xfrm>
            <a:prstGeom prst="ellipse">
              <a:avLst/>
            </a:prstGeom>
            <a:solidFill>
              <a:srgbClr val="cc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7" name="AutoShape 5"/>
          <p:cNvSpPr/>
          <p:nvPr/>
        </p:nvSpPr>
        <p:spPr>
          <a:xfrm>
            <a:off x="270000" y="2575080"/>
            <a:ext cx="3282840" cy="2303280"/>
          </a:xfrm>
          <a:prstGeom prst="triangle">
            <a:avLst>
              <a:gd name="adj" fmla="val 50000"/>
            </a:avLst>
          </a:pr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2678040" y="3795840"/>
            <a:ext cx="2535480" cy="1387440"/>
          </a:xfrm>
          <a:prstGeom prst="triangle">
            <a:avLst>
              <a:gd name="adj" fmla="val 50000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自大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510080" y="2749680"/>
            <a:ext cx="3568680" cy="2128680"/>
          </a:xfrm>
          <a:prstGeom prst="triangle">
            <a:avLst>
              <a:gd name="adj" fmla="val 50000"/>
            </a:avLst>
          </a:prstGeom>
          <a:solidFill>
            <a:srgbClr val="cc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傲慢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1058760" y="3594240"/>
            <a:ext cx="1706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骄傲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圆角矩形 2"/>
          <p:cNvSpPr/>
          <p:nvPr/>
        </p:nvSpPr>
        <p:spPr>
          <a:xfrm>
            <a:off x="438120" y="225360"/>
            <a:ext cx="5931000" cy="504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你敢碰我吗？陶罐子！”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铁罐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傲慢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地问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圆角矩形 3"/>
          <p:cNvSpPr/>
          <p:nvPr/>
        </p:nvSpPr>
        <p:spPr>
          <a:xfrm>
            <a:off x="246240" y="1450800"/>
            <a:ext cx="8308800" cy="6098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我就知道你不敢，懦弱的东西！”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带着更加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轻蔑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的神气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3" name="圆角矩形 4"/>
          <p:cNvSpPr/>
          <p:nvPr/>
        </p:nvSpPr>
        <p:spPr>
          <a:xfrm>
            <a:off x="368280" y="3376440"/>
            <a:ext cx="8302680" cy="1152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住嘴！” 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铁罐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恼怒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Times New Roman"/>
              </a:rPr>
              <a:t>了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你怎么敢和我相提并论！你等着吧，要不了几天，你就会破成碎片，我却永远在这里，什么也不怕。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圆角矩形 5"/>
          <p:cNvSpPr/>
          <p:nvPr/>
        </p:nvSpPr>
        <p:spPr>
          <a:xfrm>
            <a:off x="438120" y="5514840"/>
            <a:ext cx="8064360" cy="92736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r>
              <a:rPr b="1" i="1" lang="zh-CN" sz="2400" spc="-1" strike="noStrike" u="sng">
                <a:solidFill>
                  <a:srgbClr val="a7c6e5"/>
                </a:solidFill>
                <a:uFillTx/>
                <a:latin typeface="Arial"/>
              </a:rPr>
              <a:t>铁罐说</a:t>
            </a:r>
            <a:r>
              <a:rPr b="1" i="1" lang="en-US" sz="2400" spc="-1" strike="noStrike" u="sng">
                <a:solidFill>
                  <a:srgbClr val="a7c6e5"/>
                </a:solidFill>
                <a:uFillTx/>
                <a:latin typeface="Arial"/>
              </a:rPr>
              <a:t>:</a:t>
            </a:r>
            <a:r>
              <a:rPr b="1" i="1" lang="en-US" sz="2400" spc="-1" strike="noStrike" u="sng">
                <a:solidFill>
                  <a:srgbClr val="a7c6e5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和你在一起，我感到羞耻，你算什么东西！” “走着瞧吧，总有一天，我要把你碰成碎片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5" name="横卷形 8"/>
          <p:cNvSpPr/>
          <p:nvPr/>
        </p:nvSpPr>
        <p:spPr>
          <a:xfrm>
            <a:off x="246240" y="4444920"/>
            <a:ext cx="8451720" cy="11494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陶罐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说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何必这样说呢？”“我们还是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和睦相处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吧，有什么可吵的呢！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横卷形 10"/>
          <p:cNvSpPr/>
          <p:nvPr/>
        </p:nvSpPr>
        <p:spPr>
          <a:xfrm>
            <a:off x="246240" y="1974960"/>
            <a:ext cx="8424720" cy="1508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我确实不敢碰你，但并不是懦弱。” 陶罐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争辩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说，“我们生来就是盛东西的，并不是来互相碰撞的。说到盛东西，我不见得比你差。再说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……”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横卷形 18"/>
          <p:cNvSpPr/>
          <p:nvPr/>
        </p:nvSpPr>
        <p:spPr>
          <a:xfrm>
            <a:off x="368280" y="730080"/>
            <a:ext cx="5665680" cy="7207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不敢，铁罐兄弟。”陶罐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谦虚</a:t>
            </a:r>
            <a:r>
              <a:rPr b="1" i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地回答。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3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3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3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757080" y="542880"/>
            <a:ext cx="1544400" cy="1577520"/>
            <a:chOff x="757080" y="542880"/>
            <a:chExt cx="1544400" cy="1577520"/>
          </a:xfrm>
        </p:grpSpPr>
        <p:sp>
          <p:nvSpPr>
            <p:cNvPr id="159" name="Oval 3"/>
            <p:cNvSpPr/>
            <p:nvPr/>
          </p:nvSpPr>
          <p:spPr>
            <a:xfrm>
              <a:off x="914400" y="733680"/>
              <a:ext cx="1387080" cy="138672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 u="sng">
                  <a:solidFill>
                    <a:srgbClr val="ff0000"/>
                  </a:solidFill>
                  <a:uFillTx/>
                  <a:latin typeface="Arial"/>
                  <a:ea typeface="黑体"/>
                </a:rPr>
                <a:t>陶罐</a:t>
              </a:r>
              <a:endParaRPr b="1" i="1" lang="en-US" sz="2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0" name="Oval 4"/>
            <p:cNvSpPr/>
            <p:nvPr/>
          </p:nvSpPr>
          <p:spPr>
            <a:xfrm>
              <a:off x="757080" y="542880"/>
              <a:ext cx="621720" cy="621360"/>
            </a:xfrm>
            <a:prstGeom prst="ellipse">
              <a:avLst/>
            </a:prstGeom>
            <a:solidFill>
              <a:srgbClr val="cc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61" name="AutoShape 5"/>
          <p:cNvSpPr/>
          <p:nvPr/>
        </p:nvSpPr>
        <p:spPr>
          <a:xfrm>
            <a:off x="757080" y="2662200"/>
            <a:ext cx="3441960" cy="2511360"/>
          </a:xfrm>
          <a:prstGeom prst="triangle">
            <a:avLst>
              <a:gd name="adj" fmla="val 50000"/>
            </a:avLst>
          </a:pr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谦虚</a:t>
            </a:r>
            <a:endParaRPr b="1" i="1" lang="en-US" sz="6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135400" y="3054240"/>
            <a:ext cx="3237120" cy="2129040"/>
          </a:xfrm>
          <a:prstGeom prst="triangle">
            <a:avLst>
              <a:gd name="adj" fmla="val 50000"/>
            </a:avLst>
          </a:prstGeom>
          <a:solidFill>
            <a:srgbClr val="cc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友善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3568680" y="3786120"/>
            <a:ext cx="2430360" cy="1387440"/>
          </a:xfrm>
          <a:prstGeom prst="triangle">
            <a:avLst>
              <a:gd name="adj" fmla="val 50000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宽容</a:t>
            </a:r>
            <a:endParaRPr b="1" i="1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6:08:00Z</dcterms:created>
  <dc:creator>YlmF</dc:creator>
  <dc:description/>
  <dc:language>en-US</dc:language>
  <cp:lastModifiedBy>Administrator</cp:lastModifiedBy>
  <dcterms:modified xsi:type="dcterms:W3CDTF">2021-02-05T01:29:30Z</dcterms:modified>
  <cp:revision>1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