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D4E0-DA70-43B6-B804-FA9EAF054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C3F0-C31F-42B6-90BA-E3C257540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1350-F678-42C7-B605-7684CBF1C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1ED5-6971-4A98-BFCB-B6DEFB03B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57D70-5321-4695-8048-B9DE6E0D0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EECCD-9069-4527-991A-13AC9687D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18448-6820-434E-8388-6324BC84D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99BD0-3463-44AF-AA42-C54D16D80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9062B-DA04-43AB-BBFE-82DE573ED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BB859-FF87-4810-BA6C-4DC131026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4F0AF-BAE8-46A6-96CE-FE6DEEF8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4FF0-9106-43F0-8174-9031E5494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CFDA6-B932-490F-91A2-31B3F56C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C5F62-BE05-4699-B305-EF19C3E1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A0725-37EA-4170-9DDD-1B7421FEE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9FA70-7315-4A61-84F6-4836E849B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DF324-A105-4747-9662-80CE369A1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628EB-378D-47A6-8498-5C2AF47B7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182F9-43B5-4B95-8DA9-581CC7AB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BB588-BD63-4072-8667-D9762D52D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CA34F-6076-4C61-9C93-74630181B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7BB00-5F2A-47DB-84F4-5CBA74FC1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7951-964A-4E97-BA36-3A61AD64B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53A55-7710-4241-91FF-B90F5F856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3D567-54FC-4E90-A99A-8DEADD13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AF295-C781-4BBA-9722-920F56FD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D3C3D-5DB3-4D88-A2FE-940816C1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EFBDA-20FF-4A55-A3FF-FDD56AC53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5E1E7-457D-40C0-8BA7-57BB972EE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C0FE0-AC62-4189-A613-D5CA54AEB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005C-B2D0-469C-9B67-514C6EE74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26FE-FBAE-48E7-9181-2EE32AAD3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160D-09C3-4D85-8CD5-796FF9E30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5183-A90A-40F6-A253-BBAE8712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903F-DD43-4EB8-99F5-F8A864D3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FA40-DE7C-4454-A55D-B4F8EC3C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5F372-99EC-4568-8047-39F2559571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CEA74-FC00-4AD9-A483-B56CF38F42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E3CEA-7117-40A5-A6EE-2E2F130E17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无动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无动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依次渐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2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渐变并变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2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9" dur="1" nodeType="clickEffect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渐变并变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2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4" dur="1" nodeType="clickEffect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渐变式擦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120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139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渐变式擦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120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69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渐变式缩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5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渐变式缩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5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1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添加下划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540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6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添加下划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540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向内溶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无动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无动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向内溶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忽明忽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50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1" dur="250" autoRev="1" fill="hold"/>
                                        <p:tgtEl>
                                          <p:spTgt spid="1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忽明忽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50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250" autoRev="1" fill="hold"/>
                                        <p:tgtEl>
                                          <p:spTgt spid="1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突出显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indefinite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18" dur="indefinite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突出显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indefinite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28" dur="indefinite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随机线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100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10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随机线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60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5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擦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擦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上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10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出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上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10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下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110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下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110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压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100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10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压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100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10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典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10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5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典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10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5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升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100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897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10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897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升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100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897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10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897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逆序显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10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5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出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逆序显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10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10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回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5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dur="5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回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5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54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展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59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10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展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95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9.9"/>
                                  </p:iterate>
                                  <p:childTnLst>
                                    <p:set>
                                      <p:cBhvr>
                                        <p:cTn id="4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10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缩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5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5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缩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5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5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大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200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767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2" dur="767" fill="hold"/>
                                        <p:tgtEl>
                                          <p:spTgt spid="2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3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4" dur="767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5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6" dur="767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7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dur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大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200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767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2" dur="767" fill="hold"/>
                                        <p:tgtEl>
                                          <p:spTgt spid="2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3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4" dur="767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5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6" dur="767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7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弹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dur="200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29800">
                                          <p:val>
                                            <p:strVal val="#ppt_h/2"/>
                                          </p:val>
                                        </p:tav>
                                        <p:tav tm="398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59700">
                                          <p:val>
                                            <p:strVal val="#ppt_h"/>
                                          </p:val>
                                        </p:tav>
                                        <p:tav tm="69800">
                                          <p:val>
                                            <p:strVal val="#ppt_h/2"/>
                                          </p:val>
                                        </p:tav>
                                        <p:tav tm="799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19900">
                                          <p:val>
                                            <p:strVal val="#ppt_y-.2"/>
                                          </p:val>
                                        </p:tav>
                                        <p:tav tm="29800">
                                          <p:val>
                                            <p:strVal val="#ppt_y"/>
                                          </p:val>
                                        </p:tav>
                                        <p:tav tm="398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597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800">
                                          <p:val>
                                            <p:strVal val="#ppt_y"/>
                                          </p:val>
                                        </p:tav>
                                        <p:tav tm="799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dur="5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出现并变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" dur="1" nodeType="clickEffect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弹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200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29800">
                                          <p:val>
                                            <p:strVal val="#ppt_h/2"/>
                                          </p:val>
                                        </p:tav>
                                        <p:tav tm="398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59700">
                                          <p:val>
                                            <p:strVal val="#ppt_h"/>
                                          </p:val>
                                        </p:tav>
                                        <p:tav tm="69800">
                                          <p:val>
                                            <p:strVal val="#ppt_h/2"/>
                                          </p:val>
                                        </p:tav>
                                        <p:tav tm="799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19900">
                                          <p:val>
                                            <p:strVal val="#ppt_y-.2"/>
                                          </p:val>
                                        </p:tav>
                                        <p:tav tm="29800">
                                          <p:val>
                                            <p:strVal val="#ppt_y"/>
                                          </p:val>
                                        </p:tav>
                                        <p:tav tm="398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597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800">
                                          <p:val>
                                            <p:strVal val="#ppt_y"/>
                                          </p:val>
                                        </p:tav>
                                        <p:tav tm="799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5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字幕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dur="1500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dur="1500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5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5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字幕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1500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5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5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dur="1500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5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5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椭圆动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dur="239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38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9" dur="2000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640" dur="2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椭圆动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dur="239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46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dur="1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浮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0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dur="100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799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799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799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799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dur="10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浮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0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dur="100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799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799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799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799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dur="10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中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0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dur="2398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95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dur="10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897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中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0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dur="155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7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709" dur="12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dur="10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897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玩具风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0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dur="95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79.9"/>
                                  </p:iterate>
                                  <p:childTnLst>
                                    <p:set>
                                      <p:cBhvr>
                                        <p:cTn id="72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79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dur="5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出现并变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" dur="1" nodeType="clickEffect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玩具风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0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dur="71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9.7"/>
                                  </p:iterate>
                                  <p:childTnLst>
                                    <p:set>
                                      <p:cBhvr>
                                        <p:cTn id="7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59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dur="5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标题弧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0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dur="200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dur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标题弧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0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dur="200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dur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飞旋退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0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dur="100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dur="5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dur="200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3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fill="hold">
                                          <p:stCondLst>
                                            <p:cond delay="1996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dur="50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0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1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飞旋退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0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dur="100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dur="5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dur="200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5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0" fill="hold">
                                          <p:stCondLst>
                                            <p:cond delay="1996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dur="50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2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3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放大退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0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dur="50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dur="448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57" dur="4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58" dur="500" nodeType="withEffect" fill="hold" presetClass="entr" presetID="23" presetSubtype="16">
                                  <p:stCondLst>
                                    <p:cond delay="398"/>
                                  </p:stCondLst>
                                  <p:childTnLst>
                                    <p:set>
                                      <p:cBhvr>
                                        <p:cTn id="8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dur="500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7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dur="50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1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放大退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0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dur="50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dur="448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5" dur="4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86" dur="500" nodeType="withEffect" fill="hold" presetClass="entr" presetID="23" presetSubtype="16">
                                  <p:stCondLst>
                                    <p:cond delay="398"/>
                                  </p:stCondLst>
                                  <p:childTnLst>
                                    <p:set>
                                      <p:cBhvr>
                                        <p:cTn id="8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dur="500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5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dur="50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9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线形退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0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dur="50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dur="5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dur="500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5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dur="50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1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线形退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0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dur="50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dur="5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dur="500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7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dur="50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3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所有渐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所有渐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依次渐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2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1T04:26:34Z</dcterms:created>
  <dc:creator/>
  <dc:description/>
  <dc:language>en-US</dc:language>
  <cp:lastModifiedBy>i-hongys</cp:lastModifiedBy>
  <dcterms:modified xsi:type="dcterms:W3CDTF">2000-12-21T04:26:5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2052</vt:r8>
  </property>
  <property fmtid="{D5CDD505-2E9C-101B-9397-08002B2CF9AE}" pid="3" name="Version">
    <vt:r8>4</vt:r8>
  </property>
</Properties>
</file>