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D3C-9553-4F65-AD30-1AE465BE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159-BFB1-4CE2-BBBB-ADA32313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CBE-6C5E-414E-87E8-C651D225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939-C6AA-4CD0-99BF-E5FD64B0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732-0B7B-4B07-BE7B-EF3305B1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3A9-73DD-4856-AEA6-7E01AF1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57C-44C7-4D6A-9AA5-6A443117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6BC-E976-4E18-A72D-79D97BF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DB4-FE3A-420E-92EB-580E802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24C-CD68-4CF3-B062-97C55BDC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9C4-CB7D-4C43-AA1F-140DA36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A2A-E8E7-451E-BEA8-8B28E92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8052-D619-49FC-B2BA-54EF768877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RestrictedPermissionViewer?clid=2052" TargetMode="External"/><Relationship Id="rId3" Type="http://schemas.openxmlformats.org/officeDocument/2006/relationships/hyperlink" Target="http://r.office.microsoft.com/r/rlidRestrictedPermissionViewer?clid=2052" TargetMode="External"/><Relationship Id="rId4" Type="http://schemas.openxmlformats.org/officeDocument/2006/relationships/hyperlink" Target="http://r.office.microsoft.com/r/rlidRestrictedPermissionViewer?clid=2052" TargetMode="External"/><Relationship Id="rId5" Type="http://schemas.openxmlformats.org/officeDocument/2006/relationships/hyperlink" Target="http://r.office.microsoft.com/r/rlidRestrictedPermissionViewer?clid=2052" TargetMode="External"/><Relationship Id="rId6" Type="http://schemas.openxmlformats.org/officeDocument/2006/relationships/hyperlink" Target="http://r.office.microsoft.com/r/rlidRestrictedPermissionViewer?clid=2052" TargetMode="External"/><Relationship Id="rId7" Type="http://schemas.openxmlformats.org/officeDocument/2006/relationships/hyperlink" Target="http://r.office.microsoft.com/r/rlidRestrictedPermissionViewer?clid=2052" TargetMode="External"/><Relationship Id="rId8" Type="http://schemas.openxmlformats.org/officeDocument/2006/relationships/hyperlink" Target="http://r.office.microsoft.com/r/rlidDRMMoreInfoLicenseReq?clid=2052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97180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以阅读此演示文稿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8288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下载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3"/>
              </a:rPr>
              <a:t>“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4"/>
              </a:rPr>
              <a:t>用于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5"/>
              </a:rPr>
              <a:t>Internet Explorer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6"/>
              </a:rPr>
              <a:t>的权限管理加载项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7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146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8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5:58Z</dcterms:modified>
  <cp:revision>84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4889819</vt:r8>
  </property>
</Properties>
</file>