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66AC-9043-4666-8300-5683ED1F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FAFA-5913-4CEC-AC61-99E42FAC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B79B-FAB8-4D30-9399-E7FA5F63D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D733-3CEC-4E2E-BD10-69F77C7DB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03C5-ECBD-4B77-BBD7-0625422F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1A86-16B3-45E8-B95E-69D3BB7A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D6EB-6C39-40DD-934A-8E0C5043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A7C3-87EA-45D4-9C19-2EBD8574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4F1C-EA51-4E8B-9760-84AAE08F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2B31-2406-4B67-8883-3FB2C318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4DA1-3B9C-49DB-A4E0-E33E5369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48DF-51A4-4071-BE0A-81F84BD8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381F-D506-4E9D-97E1-570D4A819C4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.office.microsoft.com/r/rlidDRMMoreInfoLicenseReq?clid=2052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2210040"/>
          </a:xfrm>
          <a:prstGeom prst="rect">
            <a:avLst/>
          </a:prstGeom>
          <a:solidFill>
            <a:srgbClr val="faf8ed"/>
          </a:solidFill>
          <a:ln w="3240">
            <a:solidFill>
              <a:srgbClr val="c0c0c0"/>
            </a:solidFill>
            <a:miter/>
          </a:ln>
        </p:spPr>
        <p:txBody>
          <a:bodyPr lIns="54864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对此演示文稿的权限当前受到限制。只有使用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Microsoft Office 2003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或更高版本才能打开该演示文稿。您可以向演示文稿的作者申请一份可以使用“用于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Internet Explorer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的权限管理加载项”阅读的演示文稿副本。单击“视图”菜单的“幻灯片放映”可以打开此链接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doNotEnter" descr=""/>
          <p:cNvPicPr/>
          <p:nvPr/>
        </p:nvPicPr>
        <p:blipFill>
          <a:blip r:embed="rId1"/>
          <a:stretch/>
        </p:blipFill>
        <p:spPr>
          <a:xfrm>
            <a:off x="314280" y="314280"/>
            <a:ext cx="295200" cy="295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9480" y="1752480"/>
            <a:ext cx="693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ea typeface="宋体"/>
                <a:hlinkClick r:id="rId2"/>
              </a:rPr>
              <a:t>了解关于受限权限文档的更多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18:12:01Z</dcterms:created>
  <dc:creator/>
  <dc:description/>
  <dc:language>en-US</dc:language>
  <cp:lastModifiedBy/>
  <dcterms:modified xsi:type="dcterms:W3CDTF">2003-04-10T10:54:53Z</dcterms:modified>
  <cp:revision>82</cp:revision>
  <dc:subject/>
  <dc:title>Permission to this presentation is  currently restricted. This presentation can  be opened by Microsoft Office 11 Beta  or a viewer. For more information,  go to http://office.microsoft.com/viewer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230526548</vt:r8>
  </property>
</Properties>
</file>