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F5E-858B-4FAB-953E-83AEE5AE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6FE-1136-44DB-8C10-397F1E93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F4554-38C7-4334-AE2B-C6BA6C17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C2839-C848-4E5A-A449-F0E6A6F3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7ED56-67E3-4E58-BC87-DF4EEDD1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4E584-1E42-48C2-8A4E-423C1E27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4B267-DA88-4AB9-BD09-F9771EE9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BD334-F5F4-42DD-BE9A-6FD84771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04FAC-B82F-47E7-B284-A7EE1CC0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B0CB5-75CA-4ABF-A904-3D32B8E0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C11BB-F1BA-4CEA-9EBC-60C8340B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958D1-9F2E-49AE-9934-1496A69A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FFA-9BC6-4E06-A32C-DE5FAFB9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8E1F8-84DB-4F81-970E-AA5B4912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ABC49-8FDF-4A58-B98F-27D2B11D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2E8A3-EB26-47ED-BAC1-02B4C04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559CF-5DCE-42CC-B54B-1FBF151F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84283-8788-4A06-B8A5-D7A8ED9E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C1826-843F-4E9A-97F2-ABD3F872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32EA4-D3F1-490C-A3F9-84009434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5488B-5BCD-4ECB-ADCD-D15385E9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CFC6C-5526-4FB9-B231-62766176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A6DAC-3B13-4D1F-8863-9B6BAD0D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E65-8265-4B86-85C2-655437AF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567DC-5196-46EA-936D-80774810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E2294-F8A2-49F6-A479-6E2ADA72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F9E6C-3DD7-41D6-B4C2-7F701D18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342D7-9E01-4055-8E37-5384237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FF398-E50F-4ACF-8834-8C5BA250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F022D-046E-4506-835A-163089E8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EB7A4-6371-4B49-A61E-DACE3D0E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9382C-CCCB-4191-965E-97BE213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0AA9B-8381-4C30-AFFB-D26CE57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7D253-7E28-4B9E-A3D7-0AF624A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008-7242-421B-A378-7678921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48609-E4B4-4610-B19A-A493C8FD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0206D-2F41-46FC-AFBC-20963EE1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28E4-4DC4-4D4D-8E5C-9A752EF9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877D2-A21E-4436-BA5F-EB3EA19B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E06E4-8513-4B51-B1BA-254D4A93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25D69-2074-442E-A8D3-9C8D0B36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95DF-C0D8-47C2-94D6-BFC11C14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7F6BA-8B88-4CFD-8781-1EF61815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4E5C5-9C56-42DE-BE7D-E8A9FE98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2953A-CE3B-433A-AAD9-817D363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2631-0393-4A1F-A4F0-0B243100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825D8-F193-4958-9A91-492CE13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614B8-77B0-41C3-9311-FC57683B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9783A-B827-4B1E-B906-1B57F430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A5626-8410-4774-BC29-E92BDC1E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BA8C1-AC6C-467A-AC94-45484475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0DEC2-5FFD-4733-A6C1-0FB1F59E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3D04E-74B7-4FF5-871F-920962DD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812A7-B845-411F-AB20-75B1FE3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BE821-99BA-43AF-AFCF-4E9DA54E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24F6C-927F-4322-951F-BA0C9130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92D7-A19B-44D1-AAE0-E46CCD58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79034-A893-4ECA-AD8C-473F6DD1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5D1D9-6210-4278-B45E-EB5D2B5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D4013-8E4C-4DB1-BF92-F40FF44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7A524-EC6C-4F96-BCC6-43FBECF8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B2E81-1769-439C-92C4-85F4BE35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E80BB-0EAF-426B-8731-308BC11A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FD161-9D49-4AC6-85CB-F7FC719A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A077-B509-45AF-879F-4BAB629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0ACE-C5C1-4A2C-8320-F676C4E9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C2F4-89C3-44B2-87E1-BC9C8D2D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6E29-D83E-4CC5-8519-C50A5F0D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FFC-6649-4D64-B96E-19082B89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37E7-5AFB-4236-A9EF-D64A4DC8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934D-6A19-49A3-BCAE-37D17B2C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84C2-C84F-44EC-8746-C1165BA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F21-57DE-43ED-AD8F-7E27C4F9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1FED-9694-4046-BB71-EA6D9109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33BC-929A-4DD7-8CD2-7D9F0B63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4E9F-3E07-442F-A244-F5F071B2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DD52-E405-4CF7-9AB2-EBE07244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122E-6FD6-4C88-82E3-52383E9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7EA2-0D3E-4B4E-B9FA-BE52925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354-933B-42F1-A40C-8AD7426B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4542-FE60-4FD8-9A12-22C01733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A187-C51E-4162-8ACD-907B3F8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84ED-999A-499D-B2C7-4E44F86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5295-C146-4863-BA04-C4EACF9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2972-AC8A-496B-ACA6-F3D1DB4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A0D6-3848-4F62-9282-1CFB183E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A140-D053-4A88-9BD1-BB67C134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304D-44BE-4AB0-B93B-6B6F9383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72DC-75A2-4E85-8D23-7D6FE026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9EB0-3F81-4706-BBFE-2D733FD8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A40-8F4C-4FCE-9103-900C6EB2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5719-83D0-4E92-9BEA-528370B0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5F9D-C213-4BF1-8647-4B38F6D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C6587-B5E1-4D5F-84F1-DF515D9A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73AB8-2B97-4075-8762-74F6DCD4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F824-C028-45EB-8FC7-FF1F4DD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AE98-770F-4D26-B130-8777A974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8EC0B-9425-4823-8D1D-8335B46A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1BFC7-8729-4B05-B6E4-6A74A0B1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54B4-4881-457D-8EA1-FCD4B0B0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58681-1D5D-455B-8902-BFD2851C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E1A-3F7C-4CD9-8B6A-858D50AD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3F76-B5CC-4885-8F6B-63CD5E1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8559-3891-4CE4-8571-2EF57D7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958D-B021-4CAC-B932-B1C0C635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E8E3-91F4-4295-B72D-45818170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C4976-DFC9-4347-AC41-551FE888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05087-C147-49A3-B531-F4B2D6C3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2F655-7F26-4AA0-8781-024CBA2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C6E57-5CCF-487B-9344-D7E9F7D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90466-67C4-4D0B-A35A-A8CCD205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68485-4D48-4B58-9431-4F782875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132-99DB-4EEC-B7C8-BAD8035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36F9-1B33-4C2B-A8F8-3BDB73AC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425C2-5FE9-48F2-A5C1-C118204B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63BAC-2A6E-438F-8B2B-9709CF86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7D10E-1B91-428D-8C5B-DA23D32F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E886-563B-4F06-A713-70B1967B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7F342-3216-4238-8AC3-8D2C787A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49DF-E7BE-49DE-B40D-1B41E418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0A8B-0C7B-4030-80E8-914ECB2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A1BE-C307-4D91-A097-9084BDE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DDD0-07E4-4BAE-8364-BEE55E4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B09-D9E1-4454-838D-7E7431E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339D-30E2-451D-8BCA-52813503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6336-48AE-4036-84F7-938FCA00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F64F1-3DB1-4307-B26C-4316624D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E204C-BD1A-49E9-B300-A044C246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EF54-9CCE-467F-8F40-BDD3909D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7CE9D-3463-4E81-A1A6-0DD2136F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7607F-40E0-48EF-AC67-7AB1A89E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E6726-C735-485C-947A-31E0ECD8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89967-1000-414E-A490-1E0FADC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B2E00-24BD-4492-98B5-999F471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FD5-7D1D-41F0-9737-4547253A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C6CB-454E-441A-B24A-1D34D65B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B0884-F1A8-4855-B66F-048A564B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BBFF2-4CDB-4AC7-B026-6C6FC110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58D8D-EE6D-4836-9284-99272E47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8F3A5-B015-41DB-B9F9-FA436BD5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1841A-A232-4D5D-865E-9536F9E6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3395-9543-43A9-AC7C-B20DA1B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FF790-9B97-46F4-9A34-A6109F05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EB57B-0AEE-49D6-A43B-EC343348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391BB-0859-4B7B-B0F4-002EED5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869-3CB9-4685-B869-F893E9D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4368F-EE09-4368-8912-3D4DF7B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41A3C-A00D-4B0B-BA3C-1DE93AF5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9D227-8EF8-4D16-80AF-8B8C19A9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14710-F2C6-4130-B5A6-B3515D52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17F3-6B17-4306-BEF8-535CC4DD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06144-3580-4B2F-9544-1FC9BBE7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CAEFB-6D74-422C-8054-B3E2C62E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C5DF2-D7CD-4DFD-9F5F-EACD1B7D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2305-EE55-4A64-894E-D9ABF9FF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D1B9F-CF6D-4BFE-99AE-29AE27CA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744B-1A66-4908-8C36-88C5906EAF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A9E-D6DF-485F-88E5-21985486A7C7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F5AE-EE72-4D87-B8EB-E3BC42316109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FBAD-08C1-4408-9454-FB107ACBE1A2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BFA-9F57-4096-953A-F619011E52D0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7395-E6D7-4B93-A261-E42596BBE1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B966-2D73-40E5-8577-B04C214F6746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746F-17AB-48AF-B09A-3B8932EAFDEC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1E51-F024-4218-88FA-F97CCD89AB23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24A7-CE9B-4B28-833C-6AAA56A9D75D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CD5D-365E-48AA-9498-01397249EF60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3CCE-537F-49B5-B38D-29FDF0BBA4B3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528-2932-40BC-825B-11A3CA06B1A1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2"/>
          <p:cNvSpPr/>
          <p:nvPr/>
        </p:nvSpPr>
        <p:spPr>
          <a:xfrm>
            <a:off x="2514600" y="2743200"/>
            <a:ext cx="12193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moban/ </a:t>
            </a:r>
            <a:endParaRPr b="1" lang="en-US" sz="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4" name="Picture 2" descr="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1811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meet </a:t>
            </a:r>
            <a:br>
              <a:rPr sz="26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lov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ood conversatio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3" name="Picture 5" descr="10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ould you like to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start a convers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5" name="Picture 7" descr="1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ell him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7" name="Picture 5" descr="19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ch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9" name="Picture 4" descr="17"/>
          <p:cNvPicPr/>
          <p:nvPr/>
        </p:nvPicPr>
        <p:blipFill>
          <a:blip r:embed="rId1"/>
          <a:stretch/>
        </p:blipFill>
        <p:spPr>
          <a:xfrm>
            <a:off x="0" y="-23004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 j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hang ou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s gang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1" name="Picture 4" descr="1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20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e can help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2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you 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star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the conversa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7"/>
          <p:cNvSpPr/>
          <p:nvPr/>
        </p:nvSpPr>
        <p:spPr>
          <a:xfrm>
            <a:off x="1893240" y="2895480"/>
            <a:ext cx="531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All you need to do is.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1" descr="20"/>
          <p:cNvPicPr/>
          <p:nvPr/>
        </p:nvPicPr>
        <p:blipFill>
          <a:blip r:embed="rId1"/>
          <a:stretch/>
        </p:blipFill>
        <p:spPr>
          <a:xfrm>
            <a:off x="0" y="1295280"/>
            <a:ext cx="9101160" cy="56041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8"/>
          <p:cNvSpPr/>
          <p:nvPr/>
        </p:nvSpPr>
        <p:spPr>
          <a:xfrm>
            <a:off x="1828800" y="19051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宋体"/>
              </a:rPr>
              <a:t>Contact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029200" y="266688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aurabh@Phonethics.i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4"/>
          <p:cNvSpPr/>
          <p:nvPr/>
        </p:nvSpPr>
        <p:spPr>
          <a:xfrm>
            <a:off x="1220760" y="4005360"/>
            <a:ext cx="795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moban/     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hangye/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ucai/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tubiao/     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powerpoint/     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0" y="2286000"/>
            <a:ext cx="9144000" cy="2222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0" name="图片 9" descr=""/>
          <p:cNvPicPr/>
          <p:nvPr/>
        </p:nvPicPr>
        <p:blipFill>
          <a:blip r:embed="rId1"/>
          <a:stretch/>
        </p:blipFill>
        <p:spPr>
          <a:xfrm>
            <a:off x="1878120" y="714240"/>
            <a:ext cx="5789520" cy="13464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6836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457200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3" name="Picture 10" descr="png-0644"/>
          <p:cNvPicPr/>
          <p:nvPr/>
        </p:nvPicPr>
        <p:blipFill>
          <a:blip r:embed="rId2"/>
          <a:stretch/>
        </p:blipFill>
        <p:spPr>
          <a:xfrm>
            <a:off x="3703680" y="24876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png-0652"/>
          <p:cNvPicPr/>
          <p:nvPr/>
        </p:nvPicPr>
        <p:blipFill>
          <a:blip r:embed="rId3"/>
          <a:stretch/>
        </p:blipFill>
        <p:spPr>
          <a:xfrm>
            <a:off x="7645320" y="24876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2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67080" y="5333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a.k.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3"/>
          <p:cNvPicPr/>
          <p:nvPr/>
        </p:nvPicPr>
        <p:blipFill>
          <a:blip r:embed="rId1"/>
          <a:stretch/>
        </p:blipFill>
        <p:spPr>
          <a:xfrm>
            <a:off x="-380880" y="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86200" y="5333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Mr. Multiple Profiles!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74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lives in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loba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villag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1" name="Picture 5" descr="4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5"/>
          <p:cNvPicPr/>
          <p:nvPr/>
        </p:nvPicPr>
        <p:blipFill>
          <a:blip r:embed="rId1"/>
          <a:stretch/>
        </p:blipFill>
        <p:spPr>
          <a:xfrm>
            <a:off x="380880" y="78120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11430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ives a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eco friend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reat sport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7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makes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1676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grea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9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05280" y="114264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 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lousy at.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3-06-06T14:02:0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