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376-ACBB-4FD4-989E-7F151488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DB0-F2CA-4F27-B55E-30964168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19D4-99EA-4E3E-A65F-F4923AA4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97B-4D43-41CC-95DC-9678A247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05B7-A70D-4EE4-BBDE-16AB65EA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FFB7-D826-45B2-8D79-73B426BE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EC1-F363-4DE4-A439-5D923D8F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53F5-E4B7-45BE-99A3-81232A6B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608B-4024-4765-827B-6EB6FB5F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DA3-2FAA-4163-98E3-59BB2C18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2C9A-577F-4A5A-94F5-C09B6F4D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72C-3CFC-4795-8E77-71406316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6E99-B9FE-462A-B2F2-AD16D66B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F850-7C9C-4D70-A16B-FBAAC803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CA68-1151-43CF-A871-F817ED1A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D8C6-FFD3-4C9F-85FE-A7E8994E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6282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993480"/>
            <a:ext cx="264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B575-0B5C-4FC9-8E5B-72A1C9F0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248-409B-4EEF-A6F1-1D6C75C2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08F-7B92-414C-B815-46C78DCB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8ED-2485-4289-9E24-B47CB6EC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E168-BB56-453F-9E1D-B008954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918-83E2-4F96-A1CE-9AC5F881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34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2D63-24AE-481E-804F-83763D50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280"/>
            <a:ext cx="40158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3480"/>
            <a:ext cx="822960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CA2-0417-49B5-A883-1D300BF4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1" marL="743040" indent="-28584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2" marL="1143000" indent="-22860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602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602e0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C7BA-A6B7-455A-AB2C-496D2C3A3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69080" y="5445000"/>
            <a:ext cx="1501920" cy="15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1080" y="2677680"/>
            <a:ext cx="6696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2e04"/>
                </a:solidFill>
                <a:latin typeface="时尚中黑简体"/>
              </a:rPr>
              <a:t>Click to edit the title text format</a:t>
            </a: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0AB8-942E-499A-BD3C-DBE3065009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02e04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602e04"/>
              </a:solidFill>
              <a:latin typeface="微软雅黑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2e04"/>
                </a:solidFill>
                <a:latin typeface="微软雅黑"/>
              </a:rPr>
              <a:t>Second Outline Level</a:t>
            </a:r>
            <a:endParaRPr b="0" lang="en-US" sz="1800" spc="-1" strike="noStrike">
              <a:solidFill>
                <a:srgbClr val="602e04"/>
              </a:solidFill>
              <a:latin typeface="微软雅黑"/>
            </a:endParaRPr>
          </a:p>
          <a:p>
            <a:pPr lvl="2" marL="914400" algn="ctr">
              <a:spcBef>
                <a:spcPts val="400"/>
              </a:spcBef>
              <a:buClr>
                <a:srgbClr val="602e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02e04"/>
                </a:solidFill>
                <a:latin typeface="微软雅黑"/>
              </a:rPr>
              <a:t>Third Outline Level</a:t>
            </a:r>
            <a:endParaRPr b="0" lang="en-US" sz="1600" spc="-1" strike="noStrike">
              <a:solidFill>
                <a:srgbClr val="602e04"/>
              </a:solidFill>
              <a:latin typeface="微软雅黑"/>
            </a:endParaRPr>
          </a:p>
          <a:p>
            <a:pPr lvl="3" marL="1371600" algn="ctr">
              <a:spcBef>
                <a:spcPts val="349"/>
              </a:spcBef>
              <a:buClr>
                <a:srgbClr val="602e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02e04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602e04"/>
              </a:solidFill>
              <a:latin typeface="微软雅黑"/>
            </a:endParaRPr>
          </a:p>
          <a:p>
            <a:pPr lvl="4" marL="1828800" algn="ctr">
              <a:spcBef>
                <a:spcPts val="300"/>
              </a:spcBef>
              <a:buClr>
                <a:srgbClr val="602e04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Fif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ix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02e04"/>
                </a:solidFill>
                <a:latin typeface="微软雅黑"/>
              </a:rPr>
              <a:t>Seventh Outline Level</a:t>
            </a:r>
            <a:endParaRPr b="0" lang="en-US" sz="1200" spc="-1" strike="noStrike">
              <a:solidFill>
                <a:srgbClr val="602e04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1080" y="2677680"/>
            <a:ext cx="66960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02e04"/>
                </a:solidFill>
                <a:latin typeface="时尚中黑简体"/>
              </a:rPr>
              <a:t>公交车逃生技巧</a:t>
            </a:r>
            <a:endParaRPr b="1" lang="en-US" sz="36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0720" y="3933360"/>
            <a:ext cx="4103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安全环保科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王雪娇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rcRect l="0" t="8409" r="29398" b="58024"/>
          <a:stretch/>
        </p:blipFill>
        <p:spPr>
          <a:xfrm>
            <a:off x="250920" y="5248440"/>
            <a:ext cx="41050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注意点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不要乱喊乱叫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捂嘴弯腰跑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3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身上有火勿奔跑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4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上车后观察安全锤、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逃生窗、灭火器位置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861080" y="1628640"/>
            <a:ext cx="244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549360"/>
            <a:ext cx="77184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应对措施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发现公交车起火，第一反应应该怎么做？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判断形势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火势可控，用车上灭火器灭火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火势不可控，想办法逃生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注意点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上灭火器为干粉灭火器，不要对着人喷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灭火器的放置位置，一般在下车门附近和司机座位附近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653000"/>
            <a:ext cx="46483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门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逃生首选通道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-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门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门能正常开启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乘客就近从前后车门下车。先逃离乘客可协助司机，在门边疏导、保护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）车门附近有火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用衣服抱住头，冲出去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40000" y="3933720"/>
            <a:ext cx="40291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3)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门打不开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目前，好多公交车都加装了应急断气开关，按此开关可在车门电路短路时，切断气路释放气压，手动开门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司机座位旁和前后车门顶部，样子像电扇档位开关，车体外部也有，可求助路人从外部按下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2720" y="3860640"/>
            <a:ext cx="347364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356080" y="3860640"/>
            <a:ext cx="288000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780000" y="3860640"/>
            <a:ext cx="1609560" cy="2160720"/>
          </a:xfrm>
          <a:prstGeom prst="rect">
            <a:avLst/>
          </a:prstGeom>
          <a:ln w="19080">
            <a:solidFill>
              <a:srgbClr val="c0504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3598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部分公交车是早期的公交车，该开关是隐藏在车门上方的铁盒子内，需要打开顶盖才能转动开关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356000" y="1701720"/>
            <a:ext cx="358164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4560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1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推拉窗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一般空调车的最前面和最后面一排的车窗是可推拉的，非空调车的车窗都可推拉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2</a:t>
            </a: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、非推拉窗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使用安全锤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高跟鞋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钥匙（成功率较低）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啥都没有（手扶座椅靠背，脚跟用力蹬玻璃）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1413000"/>
            <a:ext cx="3962160" cy="2009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140360" y="3573360"/>
            <a:ext cx="403848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顶天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8501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车顶逃生窗在正常情况下用来通风，紧急情况下，是一个重要的逃生出口，一般在车顶前后各有一个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8000" y="2494080"/>
            <a:ext cx="53326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车顶天窗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33829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转动红色开关，用力外推，即可打开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213080" y="3933720"/>
            <a:ext cx="3416400" cy="215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213080" y="1700280"/>
            <a:ext cx="33912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逃生通道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-</a:t>
            </a:r>
            <a:r>
              <a:rPr b="0" lang="zh-CN" sz="2800" spc="-1" strike="noStrike">
                <a:solidFill>
                  <a:srgbClr val="602e04"/>
                </a:solidFill>
                <a:latin typeface="时尚中黑简体"/>
              </a:rPr>
              <a:t>其他</a:t>
            </a:r>
            <a:endParaRPr b="0" lang="en-US" sz="2800" spc="-1" strike="noStrike">
              <a:solidFill>
                <a:srgbClr val="602e04"/>
              </a:solidFill>
              <a:latin typeface="时尚中黑简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38876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除了车门和逃生窗，一些新兴公交车上两侧还配有专门的逃生窗，窗户边缘有红色把手，打开塑料罩后，向上扭动把手，即可推开窗户逃生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  <a:p>
            <a:pPr marL="343080" indent="-343080">
              <a:spcBef>
                <a:spcPts val="499"/>
              </a:spcBef>
              <a:buClr>
                <a:srgbClr val="602e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02e04"/>
                </a:solidFill>
                <a:latin typeface="微软雅黑"/>
              </a:rPr>
              <a:t>此外还有玻璃爆破装置，一般在自己驾驶座旁边，紧急情况下，司机按动该按钮，两边玻璃自动爆破。</a:t>
            </a:r>
            <a:endParaRPr b="0" lang="en-US" sz="2000" spc="-1" strike="noStrike">
              <a:solidFill>
                <a:srgbClr val="602e04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930920" y="1557360"/>
            <a:ext cx="2881080" cy="1760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930920" y="3141720"/>
            <a:ext cx="290016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07-21T02:21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