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24.gif" ContentType="image/gif"/>
  <Override PartName="/ppt/media/image23.jpeg" ContentType="image/jpeg"/>
  <Override PartName="/ppt/media/image18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1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4394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50CA-2DFB-4361-B971-F4C35AB39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000" y="309312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CBBF-BE4A-4F7C-8404-99C4C6767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664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093E-E2C3-409D-8664-145245144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864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7528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200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864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7528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D56C-4E1F-4BAA-BB83-A7E1DF86A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22000" y="1347840"/>
            <a:ext cx="93956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E644-E31D-4CA9-A28E-78673607A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93956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491B-68ED-49B9-837A-178EA77A7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9F66-C540-4812-9CD5-8941CB32F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E005-69ED-426B-95D9-91205C5D3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22000" y="229680"/>
            <a:ext cx="9395640" cy="44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6D98-FCCE-436D-950A-87F450B16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C8AB-D3A3-417A-83D5-7874EEFD7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664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F324-18FD-45F9-8ABD-BD74821AE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FB3D-900F-4343-BB9E-1CD263451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8"/>
          <p:cNvSpPr/>
          <p:nvPr/>
        </p:nvSpPr>
        <p:spPr>
          <a:xfrm>
            <a:off x="504720" y="379440"/>
            <a:ext cx="9574200" cy="366840"/>
          </a:xfrm>
          <a:prstGeom prst="rect">
            <a:avLst/>
          </a:prstGeom>
          <a:solidFill>
            <a:srgbClr val="eeeef9"/>
          </a:solidFill>
          <a:ln w="0">
            <a:noFill/>
          </a:ln>
          <a:effectLst>
            <a:outerShdw dist="38183" dir="81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" name="Line 37"/>
          <p:cNvSpPr/>
          <p:nvPr/>
        </p:nvSpPr>
        <p:spPr>
          <a:xfrm>
            <a:off x="4065480" y="5205240"/>
            <a:ext cx="0" cy="55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" name="Line 67"/>
          <p:cNvSpPr/>
          <p:nvPr/>
        </p:nvSpPr>
        <p:spPr>
          <a:xfrm>
            <a:off x="6299280" y="5205240"/>
            <a:ext cx="0" cy="55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" name="Line 68"/>
          <p:cNvSpPr/>
          <p:nvPr/>
        </p:nvSpPr>
        <p:spPr>
          <a:xfrm>
            <a:off x="8381880" y="5205240"/>
            <a:ext cx="0" cy="55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4" name="图片 12" descr="wawa.png"/>
          <p:cNvPicPr/>
          <p:nvPr/>
        </p:nvPicPr>
        <p:blipFill>
          <a:blip r:embed="rId2"/>
          <a:stretch/>
        </p:blipFill>
        <p:spPr>
          <a:xfrm rot="21161400">
            <a:off x="324000" y="4190760"/>
            <a:ext cx="2530440" cy="1414440"/>
          </a:xfrm>
          <a:prstGeom prst="rect">
            <a:avLst/>
          </a:prstGeom>
          <a:ln w="0">
            <a:noFill/>
          </a:ln>
        </p:spPr>
      </p:pic>
      <p:pic>
        <p:nvPicPr>
          <p:cNvPr id="5" name="图片 13" descr="123.png"/>
          <p:cNvPicPr/>
          <p:nvPr/>
        </p:nvPicPr>
        <p:blipFill>
          <a:blip r:embed="rId3"/>
          <a:stretch/>
        </p:blipFill>
        <p:spPr>
          <a:xfrm>
            <a:off x="7292880" y="22320"/>
            <a:ext cx="238140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8537040" y="5362200"/>
            <a:ext cx="138924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diHau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diHaus"/>
              </a:rPr>
              <a:t>p. </a:t>
            </a:r>
            <a:fld id="{142971E1-507D-4164-8CA2-B0CEED698261}" type="slidenum">
              <a:rPr b="0" lang="en-US" sz="1000" spc="-1" strike="noStrike">
                <a:solidFill>
                  <a:srgbClr val="000000"/>
                </a:solidFill>
                <a:latin typeface="AdiHaus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231480"/>
            <a:ext cx="939636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1344240"/>
            <a:ext cx="93963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45" name="Picture 4" descr="7E2955D4188C"/>
          <p:cNvPicPr/>
          <p:nvPr/>
        </p:nvPicPr>
        <p:blipFill>
          <a:blip r:embed="rId1"/>
          <a:stretch/>
        </p:blipFill>
        <p:spPr>
          <a:xfrm>
            <a:off x="-27000" y="0"/>
            <a:ext cx="10501200" cy="5761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96720" y="3457440"/>
            <a:ext cx="8053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000000"/>
                </a:solidFill>
                <a:latin typeface="AdiHaus"/>
              </a:rPr>
              <a:t>  </a:t>
            </a:r>
            <a:r>
              <a:rPr b="1" i="1" lang="zh-CN" sz="5000" spc="-1" strike="noStrike">
                <a:solidFill>
                  <a:srgbClr val="000000"/>
                </a:solidFill>
                <a:latin typeface="AdiHaus"/>
              </a:rPr>
              <a:t>防中暑安全常识</a:t>
            </a:r>
            <a:endParaRPr b="0" i="1" lang="en-US" sz="50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kj95"/>
          <p:cNvPicPr/>
          <p:nvPr/>
        </p:nvPicPr>
        <p:blipFill>
          <a:blip r:embed="rId1"/>
          <a:stretch/>
        </p:blipFill>
        <p:spPr>
          <a:xfrm>
            <a:off x="0" y="577800"/>
            <a:ext cx="10442520" cy="4997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318560" y="6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00"/>
                </a:solidFill>
                <a:latin typeface="AdiHaus"/>
              </a:rPr>
              <a:t>怎样照顾中暑患者？</a:t>
            </a:r>
            <a:endParaRPr b="0" i="1" lang="en-US" sz="32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2000" y="231480"/>
            <a:ext cx="939636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91" name="Picture 3" descr="Img314564231"/>
          <p:cNvPicPr/>
          <p:nvPr/>
        </p:nvPicPr>
        <p:blipFill>
          <a:blip r:embed="rId1"/>
          <a:stretch/>
        </p:blipFill>
        <p:spPr>
          <a:xfrm>
            <a:off x="612720" y="144360"/>
            <a:ext cx="939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-173160" y="-65160"/>
            <a:ext cx="10539360" cy="5784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Administrator\桌面\20110403220228426.gif20110403220228426"/>
          <p:cNvPicPr/>
          <p:nvPr/>
        </p:nvPicPr>
        <p:blipFill>
          <a:blip r:embed="rId2"/>
          <a:stretch/>
        </p:blipFill>
        <p:spPr>
          <a:xfrm>
            <a:off x="7021440" y="360360"/>
            <a:ext cx="3382920" cy="338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1301977028_qUiQSk"/>
          <p:cNvPicPr/>
          <p:nvPr/>
        </p:nvPicPr>
        <p:blipFill>
          <a:blip r:embed="rId3"/>
          <a:stretch/>
        </p:blipFill>
        <p:spPr>
          <a:xfrm>
            <a:off x="1981080" y="1009800"/>
            <a:ext cx="50403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0441080" cy="576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u=1475900283,231874189&amp;fm=23&amp;gp=0"/>
          <p:cNvPicPr/>
          <p:nvPr/>
        </p:nvPicPr>
        <p:blipFill>
          <a:blip r:embed="rId2"/>
          <a:stretch/>
        </p:blipFill>
        <p:spPr>
          <a:xfrm>
            <a:off x="0" y="2089080"/>
            <a:ext cx="3105000" cy="3673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4"/>
          <p:cNvSpPr/>
          <p:nvPr/>
        </p:nvSpPr>
        <p:spPr>
          <a:xfrm flipV="1" rot="17160000">
            <a:off x="4437360" y="-232200"/>
            <a:ext cx="4719600" cy="4832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76720" y="1657440"/>
            <a:ext cx="387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diHaus"/>
                <a:ea typeface="楷体_GB2312"/>
              </a:rPr>
              <a:t>你学会了吗？</a:t>
            </a:r>
            <a:endParaRPr b="0" i="1" lang="en-US" sz="4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200560" y="287964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diHaus"/>
              </a:rPr>
              <a:t>Let's go !</a:t>
            </a:r>
            <a:endParaRPr b="0" i="1" lang="en-US" sz="44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=3177294716,682465964&amp;fm=23&amp;gp=0"/>
          <p:cNvPicPr/>
          <p:nvPr/>
        </p:nvPicPr>
        <p:blipFill>
          <a:blip r:embed="rId1"/>
          <a:stretch/>
        </p:blipFill>
        <p:spPr>
          <a:xfrm>
            <a:off x="-28440" y="0"/>
            <a:ext cx="10432800" cy="568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u=3005618395,108217513&amp;fm=56"/>
          <p:cNvPicPr/>
          <p:nvPr/>
        </p:nvPicPr>
        <p:blipFill>
          <a:blip r:embed="rId2"/>
          <a:stretch/>
        </p:blipFill>
        <p:spPr>
          <a:xfrm>
            <a:off x="7597800" y="10098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989440" y="223344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00"/>
                </a:solidFill>
                <a:latin typeface="AdiHaus"/>
              </a:rPr>
              <a:t>谢谢您的参与！</a:t>
            </a:r>
            <a:endParaRPr b="0" i="1" lang="en-US" sz="54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720720"/>
            <a:ext cx="9397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diHaus"/>
                <a:ea typeface="宋体"/>
              </a:rPr>
              <a:t>第一次课需要准备的物品：</a:t>
            </a: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800000"/>
            <a:ext cx="9720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iHaus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diHaus"/>
                <a:ea typeface="宋体"/>
              </a:rPr>
              <a:t>在第二篇食品安全知识中，准备一种三无食品，一种合格食品；（小朋友爱吃的最好）</a:t>
            </a: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iHaus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diHaus"/>
                <a:ea typeface="宋体"/>
              </a:rPr>
              <a:t>在第三篇防中暑知识中，准备：</a:t>
            </a: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iHaus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常用的防暑药品，如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藿香正气水、人丹、清凉油、风油精、十滴水、薄荷片等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至两种；</a:t>
            </a: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中暑急救物品，扇子一把；毛巾一条；冷水一盆；靠垫一个；（模拟中暑病人时，准备可以躺在地上的东西，如席子、报纸或者其他垫子。）</a:t>
            </a: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0" y="1440"/>
            <a:ext cx="10549080" cy="578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istrator\桌面\2457331_153403068301_2.jpg2457331_153403068301_2"/>
          <p:cNvPicPr/>
          <p:nvPr/>
        </p:nvPicPr>
        <p:blipFill>
          <a:blip r:embed="rId2"/>
          <a:stretch/>
        </p:blipFill>
        <p:spPr>
          <a:xfrm>
            <a:off x="684360" y="360360"/>
            <a:ext cx="16272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692360" y="649440"/>
            <a:ext cx="8353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暑是炎热夏季常见的急性热病之一，轻的病人可出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头昏、头痛、恶心、口渴、大汗、心慌及面色潮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体温可升高到３８℃以上。</a:t>
            </a:r>
            <a:endParaRPr b="0" i="1" lang="en-US" sz="3200" spc="-1" strike="noStrike">
              <a:solidFill>
                <a:srgbClr val="000000"/>
              </a:solidFill>
              <a:latin typeface="AdiHau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者表现为高热（体温超过４１℃）、无汗、言语及神志不清、手足抽搐及意识障碍等症状，严重时出现休克、心力衰竭、肺水肿、脑水肿等危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0" y="1440"/>
            <a:ext cx="10549080" cy="578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istrator\桌面\2457331_153403068301_2.jpg2457331_153403068301_2"/>
          <p:cNvPicPr/>
          <p:nvPr/>
        </p:nvPicPr>
        <p:blipFill>
          <a:blip r:embed="rId2"/>
          <a:stretch/>
        </p:blipFill>
        <p:spPr>
          <a:xfrm>
            <a:off x="684360" y="360360"/>
            <a:ext cx="162720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QQ截图20140811103911"/>
          <p:cNvPicPr/>
          <p:nvPr/>
        </p:nvPicPr>
        <p:blipFill>
          <a:blip r:embed="rId3"/>
          <a:stretch/>
        </p:blipFill>
        <p:spPr>
          <a:xfrm>
            <a:off x="6084720" y="289080"/>
            <a:ext cx="2962440" cy="351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QQ截图20140811103835"/>
          <p:cNvPicPr/>
          <p:nvPr/>
        </p:nvPicPr>
        <p:blipFill>
          <a:blip r:embed="rId4"/>
          <a:stretch/>
        </p:blipFill>
        <p:spPr>
          <a:xfrm>
            <a:off x="1908000" y="289080"/>
            <a:ext cx="3295800" cy="35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5304880_152355292000_2"/>
          <p:cNvPicPr/>
          <p:nvPr/>
        </p:nvPicPr>
        <p:blipFill>
          <a:blip r:embed="rId5"/>
          <a:stretch/>
        </p:blipFill>
        <p:spPr>
          <a:xfrm>
            <a:off x="2771640" y="388944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94551343020757359"/>
          <p:cNvPicPr/>
          <p:nvPr/>
        </p:nvPicPr>
        <p:blipFill>
          <a:blip r:embed="rId6"/>
          <a:stretch/>
        </p:blipFill>
        <p:spPr>
          <a:xfrm>
            <a:off x="6805440" y="3816360"/>
            <a:ext cx="165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0" y="73080"/>
            <a:ext cx="10547280" cy="578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istrator\桌面\2457331_153403068301_2.jpg2457331_153403068301_2"/>
          <p:cNvPicPr/>
          <p:nvPr/>
        </p:nvPicPr>
        <p:blipFill>
          <a:blip r:embed="rId2"/>
          <a:stretch/>
        </p:blipFill>
        <p:spPr>
          <a:xfrm>
            <a:off x="684360" y="360360"/>
            <a:ext cx="162720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0131028172216_XCuWn"/>
          <p:cNvPicPr/>
          <p:nvPr/>
        </p:nvPicPr>
        <p:blipFill>
          <a:blip r:embed="rId3"/>
          <a:stretch/>
        </p:blipFill>
        <p:spPr>
          <a:xfrm>
            <a:off x="6445080" y="3529080"/>
            <a:ext cx="3600720" cy="201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340000" y="208908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楷体_GB2312"/>
              </a:rPr>
              <a:t>穿宽松、透气性良好、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楷体_GB2312"/>
              </a:rPr>
              <a:t>色浅的衣服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楷体_GB2312"/>
              </a:rPr>
              <a:t>；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484360" y="576360"/>
            <a:ext cx="302436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diHaus"/>
                <a:ea typeface="黑体"/>
              </a:rPr>
              <a:t>防中暑小贴士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61" name="Picture 7" descr="u=1811298128,2125158720&amp;fm=23&amp;gp=0"/>
          <p:cNvPicPr/>
          <p:nvPr/>
        </p:nvPicPr>
        <p:blipFill>
          <a:blip r:embed="rId4"/>
          <a:stretch/>
        </p:blipFill>
        <p:spPr>
          <a:xfrm>
            <a:off x="7453440" y="576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0" y="-65160"/>
            <a:ext cx="10549080" cy="578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istrator\桌面\2457331_153403068301_2.jpg2457331_153403068301_2"/>
          <p:cNvPicPr/>
          <p:nvPr/>
        </p:nvPicPr>
        <p:blipFill>
          <a:blip r:embed="rId2"/>
          <a:stretch/>
        </p:blipFill>
        <p:spPr>
          <a:xfrm>
            <a:off x="684360" y="360360"/>
            <a:ext cx="1627200" cy="1152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484360" y="576360"/>
            <a:ext cx="302436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diHaus"/>
                <a:ea typeface="黑体"/>
              </a:rPr>
              <a:t>防中暑小贴士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65" name="Picture 5" descr="aaaf823593ab639282eabaf07b98_800_800"/>
          <p:cNvPicPr/>
          <p:nvPr/>
        </p:nvPicPr>
        <p:blipFill>
          <a:blip r:embed="rId3"/>
          <a:stretch/>
        </p:blipFill>
        <p:spPr>
          <a:xfrm>
            <a:off x="6732720" y="21600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=1811298128,2125158720&amp;fm=23&amp;gp=0"/>
          <p:cNvPicPr/>
          <p:nvPr/>
        </p:nvPicPr>
        <p:blipFill>
          <a:blip r:embed="rId4"/>
          <a:stretch/>
        </p:blipFill>
        <p:spPr>
          <a:xfrm>
            <a:off x="5076720" y="3384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340000" y="194472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d0d11"/>
                </a:solidFill>
                <a:latin typeface="AdiHaus"/>
              </a:rPr>
              <a:t>烈日下外出要戴</a:t>
            </a:r>
            <a:r>
              <a:rPr b="1" lang="zh-CN" sz="3600" spc="-1" strike="noStrike">
                <a:solidFill>
                  <a:srgbClr val="ff0000"/>
                </a:solidFill>
                <a:latin typeface="AdiHaus"/>
              </a:rPr>
              <a:t>遮阳</a:t>
            </a:r>
            <a:r>
              <a:rPr b="1" lang="zh-CN" sz="3600" spc="-1" strike="noStrike">
                <a:solidFill>
                  <a:srgbClr val="0d0d11"/>
                </a:solidFill>
                <a:latin typeface="AdiHaus"/>
              </a:rPr>
              <a:t>帽；</a:t>
            </a:r>
            <a:r>
              <a:rPr b="1" lang="zh-CN" sz="3600" spc="-1" strike="noStrike">
                <a:solidFill>
                  <a:srgbClr val="000000"/>
                </a:solidFill>
                <a:latin typeface="AdiHaus"/>
              </a:rPr>
              <a:t>最好不要在</a:t>
            </a:r>
            <a:r>
              <a:rPr b="1" lang="zh-CN" sz="3600" spc="-1" strike="noStrike">
                <a:solidFill>
                  <a:srgbClr val="000000"/>
                </a:solidFill>
                <a:latin typeface="AdiHaus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diHaus"/>
              </a:rPr>
              <a:t>点至</a:t>
            </a:r>
            <a:r>
              <a:rPr b="1" lang="zh-CN" sz="3600" spc="-1" strike="noStrike">
                <a:solidFill>
                  <a:srgbClr val="000000"/>
                </a:solidFill>
                <a:latin typeface="AdiHaus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diHaus"/>
              </a:rPr>
              <a:t>点时在烈日下行走；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0" y="1440"/>
            <a:ext cx="10549080" cy="578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Administrator\桌面\2457331_153403068301_2.jpg2457331_153403068301_2"/>
          <p:cNvPicPr/>
          <p:nvPr/>
        </p:nvPicPr>
        <p:blipFill>
          <a:blip r:embed="rId2"/>
          <a:stretch/>
        </p:blipFill>
        <p:spPr>
          <a:xfrm>
            <a:off x="684360" y="360360"/>
            <a:ext cx="1627200" cy="1152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484360" y="576360"/>
            <a:ext cx="302436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diHaus"/>
                <a:ea typeface="黑体"/>
              </a:rPr>
              <a:t>防中暑小贴士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71" name="Picture 5" descr="201106092115272801"/>
          <p:cNvPicPr/>
          <p:nvPr/>
        </p:nvPicPr>
        <p:blipFill>
          <a:blip r:embed="rId3"/>
          <a:stretch/>
        </p:blipFill>
        <p:spPr>
          <a:xfrm>
            <a:off x="6516720" y="289080"/>
            <a:ext cx="3481200" cy="5184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061080" y="1800360"/>
            <a:ext cx="342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diHaus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diHaus"/>
                <a:ea typeface="楷体_GB2312"/>
              </a:rPr>
              <a:t>不要等口渴了才喝水，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diHaus"/>
                <a:ea typeface="楷体_GB2312"/>
              </a:rPr>
              <a:t>多喝</a:t>
            </a:r>
            <a:r>
              <a:rPr b="1" lang="zh-CN" sz="3600" spc="-1" strike="noStrike">
                <a:solidFill>
                  <a:srgbClr val="ff0000"/>
                </a:solidFill>
                <a:latin typeface="AdiHaus"/>
                <a:ea typeface="楷体_GB2312"/>
              </a:rPr>
              <a:t>盐开水、绿豆汤、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diHaus"/>
                <a:ea typeface="楷体_GB2312"/>
              </a:rPr>
              <a:t>菊花茶；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0" y="0"/>
            <a:ext cx="10547280" cy="579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20131028172216_XCuWn"/>
          <p:cNvPicPr/>
          <p:nvPr/>
        </p:nvPicPr>
        <p:blipFill>
          <a:blip r:embed="rId2"/>
          <a:stretch/>
        </p:blipFill>
        <p:spPr>
          <a:xfrm>
            <a:off x="6445080" y="3529080"/>
            <a:ext cx="360072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Administrator\桌面\2457331_153403068301_2.jpg2457331_153403068301_2"/>
          <p:cNvPicPr/>
          <p:nvPr/>
        </p:nvPicPr>
        <p:blipFill>
          <a:blip r:embed="rId3"/>
          <a:stretch/>
        </p:blipFill>
        <p:spPr>
          <a:xfrm>
            <a:off x="684360" y="360360"/>
            <a:ext cx="1627200" cy="115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340000" y="2089080"/>
            <a:ext cx="507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充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睡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diHaus"/>
                <a:ea typeface="楷体_GB2312"/>
              </a:rPr>
              <a:t>睡眠时注意不要躺在空调的出风口和电风扇下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4360" y="576360"/>
            <a:ext cx="302436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diHaus"/>
                <a:ea typeface="黑体"/>
              </a:rPr>
              <a:t>防中暑小贴士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78" name="Picture 7" descr="20130310225606_29124"/>
          <p:cNvPicPr/>
          <p:nvPr/>
        </p:nvPicPr>
        <p:blipFill>
          <a:blip r:embed="rId4"/>
          <a:stretch/>
        </p:blipFill>
        <p:spPr>
          <a:xfrm>
            <a:off x="6086520" y="290520"/>
            <a:ext cx="3959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0" y="73080"/>
            <a:ext cx="10547280" cy="578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Administrator\桌面\2457331_153403068301_2.jpg2457331_153403068301_2"/>
          <p:cNvPicPr/>
          <p:nvPr/>
        </p:nvPicPr>
        <p:blipFill>
          <a:blip r:embed="rId2"/>
          <a:stretch/>
        </p:blipFill>
        <p:spPr>
          <a:xfrm>
            <a:off x="684360" y="360360"/>
            <a:ext cx="1627200" cy="1152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340000" y="208908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楷体_GB2312"/>
              </a:rPr>
              <a:t>家中常备防暑药品：</a:t>
            </a:r>
            <a:r>
              <a:rPr b="1" lang="zh-CN" sz="3600" spc="-1" strike="noStrike">
                <a:solidFill>
                  <a:srgbClr val="ff0000"/>
                </a:solidFill>
                <a:latin typeface="AdiHaus"/>
                <a:ea typeface="楷体_GB2312"/>
              </a:rPr>
              <a:t>藿香正气水、人丹、清凉油、风油精、十滴水、薄荷片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360" y="576360"/>
            <a:ext cx="302436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diHaus"/>
                <a:ea typeface="黑体"/>
              </a:rPr>
              <a:t>防中暑小贴士</a:t>
            </a:r>
            <a:endParaRPr b="0" i="1" lang="en-US" sz="36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83" name="Picture 6" descr="b7fd5266d01609243e0fdfc8d50735fae6cd343e"/>
          <p:cNvPicPr/>
          <p:nvPr/>
        </p:nvPicPr>
        <p:blipFill>
          <a:blip r:embed="rId3"/>
          <a:stretch/>
        </p:blipFill>
        <p:spPr>
          <a:xfrm>
            <a:off x="7453440" y="433440"/>
            <a:ext cx="2538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72309f790529822e74da42fd6ca7bcb0b46d4e4"/>
          <p:cNvPicPr/>
          <p:nvPr/>
        </p:nvPicPr>
        <p:blipFill>
          <a:blip r:embed="rId1"/>
          <a:stretch/>
        </p:blipFill>
        <p:spPr>
          <a:xfrm>
            <a:off x="-28440" y="0"/>
            <a:ext cx="10540800" cy="579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Administrator\桌面\20110403220228426.gif20110403220228426"/>
          <p:cNvPicPr/>
          <p:nvPr/>
        </p:nvPicPr>
        <p:blipFill>
          <a:blip r:embed="rId2"/>
          <a:stretch/>
        </p:blipFill>
        <p:spPr>
          <a:xfrm>
            <a:off x="6732720" y="50472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836720" y="720720"/>
            <a:ext cx="4680000" cy="82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diHaus"/>
                <a:ea typeface="黑体"/>
              </a:rPr>
              <a:t>中暑了怎么办？</a:t>
            </a:r>
            <a:endParaRPr b="0" i="1" lang="en-US" sz="48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87" name="Picture 5" descr="70951242086099639"/>
          <p:cNvPicPr/>
          <p:nvPr/>
        </p:nvPicPr>
        <p:blipFill>
          <a:blip r:embed="rId3"/>
          <a:stretch/>
        </p:blipFill>
        <p:spPr>
          <a:xfrm>
            <a:off x="2629080" y="1873080"/>
            <a:ext cx="4321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2:25:10Z</dcterms:created>
  <dc:creator>kerstin</dc:creator>
  <dc:description/>
  <cp:keywords/>
  <dc:language>en-US</dc:language>
  <cp:lastModifiedBy>down5g</cp:lastModifiedBy>
  <dcterms:modified xsi:type="dcterms:W3CDTF">2021-05-29T03:04:01Z</dcterms:modified>
  <cp:revision>1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