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2D9-2A43-4D5F-A756-2AB6E34E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A1D-2022-410C-A8F8-0768ADB4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056-12E7-49DA-A707-948E53E2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C2A-D025-4BDC-8A64-065ED162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BA29-ECC1-4FD6-89D1-F1E5FC88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2DC-5D1D-4B60-B4D3-FD11EC27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13A3-0A56-4F66-8BFA-3727B135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0FD4-68AA-405E-A015-180B54C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1A5B-4B20-4F56-A748-CBF0431E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749-93FD-442E-A19A-3EEDFF23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B460-B29F-4AFC-91FC-06D2C65F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B57-5F06-47FB-A037-8CB7616D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8A3B-8F8A-43F9-98BC-922662C8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A707-5633-4563-A83D-2E20F35A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32DD-C336-476C-A095-C2444D76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A279-AF9A-4D75-B6D2-6F0CF878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4E8C-3510-4CE5-9A81-71DF32F9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8BD-587C-4399-A213-7E22831A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12F-2D9D-4B2C-A23C-1A1A77BC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A4A-30DB-4BCF-9ABC-8271389E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6C8-22A6-46A5-8132-36298F2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41A-57E3-43A3-8E97-F8E62BF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B51-B2F7-48FD-8CE6-AB112D5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11F-6613-433F-9750-880C02F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70FD-35C6-4B1D-81C4-8ACCFDE166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9E1E-173A-424A-A9F2-C39B9433F8B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6019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52880" y="5943600"/>
            <a:ext cx="4191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绿城育华心理辅导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0"/>
            <a:ext cx="3886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04920"/>
            <a:ext cx="3962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适应新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增强自信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76920"/>
            <a:ext cx="1295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93920" y="914400"/>
            <a:ext cx="375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明确目标  学做真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057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真人”是指具有完美人格与高超本领 的人，是指说真话、办真事、求真知、为真理而奋斗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3962520"/>
            <a:ext cx="647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培养自己成为具有真道德、真知识、真本领的全面发展的“四有”新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1680" y="914400"/>
            <a:ext cx="52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树立信心  加强“四个意识”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362320"/>
            <a:ext cx="6400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）崇高的目标意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）自主的学习意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）合作的竞争意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）探索的方法意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95280" y="91440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）崇高的目标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133720"/>
            <a:ext cx="6477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崇高的理想，是人们精神世界里的太阳。高尚的行为，是这个太阳放射出来的光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                                         </a:t>
            </a:r>
            <a:r>
              <a:rPr b="1" lang="zh-CN" sz="2800" spc="-1" strike="noStrike">
                <a:solidFill>
                  <a:srgbClr val="009900"/>
                </a:solidFill>
                <a:latin typeface="Arial Narrow"/>
              </a:rPr>
              <a:t>（中国锦言）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4572000"/>
            <a:ext cx="82296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1047"/>
                </a:solidFill>
                <a:latin typeface="Arial Narrow"/>
              </a:rPr>
              <a:t>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您进育华的理想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目标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99072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）自主的学习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198108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 Narrow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青春是有限的，智慧是无穷的，趁短短的青春，去学无穷的智慧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                             </a:t>
            </a:r>
            <a:r>
              <a:rPr b="1" lang="zh-CN" sz="3600" spc="-1" strike="noStrike">
                <a:solidFill>
                  <a:srgbClr val="009900"/>
                </a:solidFill>
                <a:latin typeface="Arial Narrow"/>
              </a:rPr>
              <a:t>－ 高尔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2346120" cy="247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133720" y="44197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您有否把自己当作主人，       生命的主宰，命运的创造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914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）合作的竞争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133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Arial Narrow"/>
              </a:rPr>
              <a:t>不管人努力的目标是什么，不管他干什么，他单抢匹马总是没有力量的。合群永远是一切有善良思想的人的最高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038480"/>
            <a:ext cx="5105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墙角的花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你孤芳自赏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天地便小了。－冰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505320" y="1371600"/>
            <a:ext cx="4800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通向文明社会的今天，人类在呼唤群体意识，人类在唤呼真情，我们要的是团队精神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是人类在精神、情感上对人际交往的永恒的需要，是科技发展本身对人际交往和合作的需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9144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通向成功的需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8954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99072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 Narrow"/>
              </a:rPr>
              <a:t>）探索的方法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220968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什么是成功的秘诀？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7200" spc="-1" strike="noStrike">
                <a:solidFill>
                  <a:srgbClr val="006600"/>
                </a:solidFill>
                <a:latin typeface="Arial Narrow"/>
              </a:rPr>
              <a:t>“</a:t>
            </a:r>
            <a:r>
              <a:rPr b="1" lang="zh-CN" sz="7200" spc="-1" strike="noStrike">
                <a:solidFill>
                  <a:srgbClr val="006600"/>
                </a:solidFill>
                <a:latin typeface="Arial Narrow"/>
              </a:rPr>
              <a:t>A=X+Y+Z”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2438280"/>
            <a:ext cx="2971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代表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代表艰苦劳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代表正确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代表少说废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4343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 Narrow"/>
              </a:rPr>
              <a:t>－爱因斯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362320" y="1066680"/>
            <a:ext cx="678168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Arial Narrow"/>
              </a:rPr>
              <a:t>思索，继续不断的思索，以待天曙，渐渐的见及光明……如果说我对世界有些微贡献的话，那不是由于别的，却只是由于我的辛勤耐久的思索所致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        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－牛顿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1643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－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1727</a:t>
            </a: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66680" y="1143000"/>
            <a:ext cx="65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握“五个环节”，养成良好的学习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课前预习，提出疑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专心听课，做好笔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复习巩固，独立作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认真考试，查漏补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课外学习，开阔眼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75160" y="76212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课前预习，提出疑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010280" cy="4876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52480" y="2514600"/>
            <a:ext cx="6096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一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提高课堂学习质量，准对性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二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促进自学能力提高，终身受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三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改变学习被动局面，自主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838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初一年级心理适应能力统计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2480" y="1981080"/>
            <a:ext cx="5834160" cy="3353040"/>
            <a:chOff x="1752480" y="1981080"/>
            <a:chExt cx="5834160" cy="3353040"/>
          </a:xfrm>
        </p:grpSpPr>
        <p:grpSp>
          <p:nvGrpSpPr>
            <p:cNvPr id="108" name=""/>
            <p:cNvGrpSpPr/>
            <p:nvPr/>
          </p:nvGrpSpPr>
          <p:grpSpPr>
            <a:xfrm>
              <a:off x="1757160" y="1984680"/>
              <a:ext cx="5824440" cy="3344400"/>
              <a:chOff x="1757160" y="1984680"/>
              <a:chExt cx="5824440" cy="33444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57160" y="1984680"/>
                <a:ext cx="1941480" cy="557280"/>
                <a:chOff x="1757160" y="1984680"/>
                <a:chExt cx="1941480" cy="557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825560" y="198468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得分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75716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698640" y="1984680"/>
                <a:ext cx="1941480" cy="557280"/>
                <a:chOff x="3698640" y="1984680"/>
                <a:chExt cx="1941480" cy="557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76704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适应能力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69864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40120" y="1984680"/>
                <a:ext cx="1941480" cy="557280"/>
                <a:chOff x="5640120" y="1984680"/>
                <a:chExt cx="1941480" cy="557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0852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人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4012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757160" y="2541960"/>
                <a:ext cx="1941480" cy="557280"/>
                <a:chOff x="1757160" y="2541960"/>
                <a:chExt cx="1941480" cy="557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825560" y="254196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4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75716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698640" y="2541960"/>
                <a:ext cx="1941480" cy="557280"/>
                <a:chOff x="3698640" y="2541960"/>
                <a:chExt cx="1941480" cy="557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76704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69864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640120" y="2541960"/>
                <a:ext cx="1941480" cy="557280"/>
                <a:chOff x="5640120" y="2541960"/>
                <a:chExt cx="1941480" cy="557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70852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6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64012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757160" y="3099600"/>
                <a:ext cx="1941480" cy="557280"/>
                <a:chOff x="1757160" y="3099600"/>
                <a:chExt cx="1941480" cy="557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825560" y="30996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3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75716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698640" y="3099600"/>
                <a:ext cx="1941480" cy="557280"/>
                <a:chOff x="3698640" y="3099600"/>
                <a:chExt cx="1941480" cy="557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76704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良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69864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640120" y="3099600"/>
                <a:ext cx="1941480" cy="557280"/>
                <a:chOff x="5640120" y="3099600"/>
                <a:chExt cx="1941480" cy="557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70852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4012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757160" y="3657240"/>
                <a:ext cx="1941480" cy="557280"/>
                <a:chOff x="1757160" y="3657240"/>
                <a:chExt cx="1941480" cy="557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825560" y="365724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28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75716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698640" y="3657240"/>
                <a:ext cx="1941480" cy="557280"/>
                <a:chOff x="3698640" y="3657240"/>
                <a:chExt cx="1941480" cy="557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6704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一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9864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640120" y="3657240"/>
                <a:ext cx="1941480" cy="557280"/>
                <a:chOff x="5640120" y="3657240"/>
                <a:chExt cx="1941480" cy="557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70852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16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4012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757160" y="4214520"/>
                <a:ext cx="1941480" cy="556920"/>
                <a:chOff x="1757160" y="4214520"/>
                <a:chExt cx="1941480" cy="5569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825560" y="4214520"/>
                  <a:ext cx="180468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1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5716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698640" y="4214520"/>
                <a:ext cx="1941480" cy="556920"/>
                <a:chOff x="3698640" y="4214520"/>
                <a:chExt cx="1941480" cy="556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76704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较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69864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640120" y="4214520"/>
                <a:ext cx="1941480" cy="556920"/>
                <a:chOff x="5640120" y="4214520"/>
                <a:chExt cx="1941480" cy="556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0852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128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64012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757160" y="4771800"/>
                <a:ext cx="1941480" cy="557280"/>
                <a:chOff x="1757160" y="4771800"/>
                <a:chExt cx="1941480" cy="557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825560" y="47718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以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75716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698640" y="4771800"/>
                <a:ext cx="1941480" cy="557280"/>
                <a:chOff x="3698640" y="4771800"/>
                <a:chExt cx="1941480" cy="557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76704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69864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640120" y="4771800"/>
                <a:ext cx="1941480" cy="557280"/>
                <a:chOff x="5640120" y="4771800"/>
                <a:chExt cx="1941480" cy="557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70852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7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64012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1752480" y="1981080"/>
              <a:ext cx="5834160" cy="335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51080" y="5334120"/>
            <a:ext cx="491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结果：在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530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人中，良好以上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30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一般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31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；  较差以下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39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6720" y="60948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专心听课，做好笔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479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4382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010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一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心身准备，进入学习状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二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认真观察，把握重点，重于领会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三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积极思考，理清思路，提出疑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四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记笔记，提高听课效率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五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抓住学科特点，灵活应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1640" y="91440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复习巩固，独立作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62120" y="228600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一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尝试回忆。增强记忆，养成思考习惯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二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看教科书。勾划要点，写书眉提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三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整理笔记。正页听课记、副页预习记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四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选好参考书，灵活掌握时间，扩大知识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五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f53bd6"/>
                </a:solidFill>
                <a:latin typeface="Arial Narrow"/>
              </a:rPr>
              <a:t>提高作业质量，增强学习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17960" y="99072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认真考试，查漏补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029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371600" y="1828800"/>
            <a:ext cx="67057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一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能否考出应有水平的三个决定因素：学习（知识）、心理、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二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怎样才能考出应有水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1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临考的心身准备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2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临场应有水平的发挥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        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3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考后分析和命题研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三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.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发扬求真精神，诚实应考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15200" cy="5303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217960" y="609480"/>
            <a:ext cx="39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课外学习，开阔眼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676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600" spc="-1" strike="noStrike">
                <a:solidFill>
                  <a:srgbClr val="ec0cc7"/>
                </a:solidFill>
                <a:latin typeface="Arial Narrow"/>
              </a:rPr>
              <a:t>会利用空闲时间学习的人，才是真正会学习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小结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三个真字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真道德、真知识、真本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四个意识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）崇高的目标意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）自主的学习意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）合作的竞争意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0aeeee"/>
                </a:solidFill>
                <a:latin typeface="Tahoma"/>
              </a:rPr>
              <a:t>）探索的方法意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23880" y="76212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eeee"/>
                </a:solidFill>
                <a:latin typeface="Arial Narrow"/>
              </a:rPr>
              <a:t>五个环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600200"/>
            <a:ext cx="6248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课前预习，提出疑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专心听课，做好笔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复习巩固，独立作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认真考试，查漏补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12f4ef"/>
                </a:solidFill>
                <a:latin typeface="Arial"/>
              </a:rPr>
              <a:t>）课外学习，开阔眼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7621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 Narrow"/>
              </a:rPr>
              <a:t>赠言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1981080"/>
            <a:ext cx="6400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 Narrow"/>
              </a:rPr>
              <a:t>     </a:t>
            </a:r>
            <a:r>
              <a:rPr b="1" lang="zh-CN" sz="4400" spc="-1" strike="noStrike">
                <a:solidFill>
                  <a:srgbClr val="009900"/>
                </a:solidFill>
                <a:latin typeface="Arial Narrow"/>
              </a:rPr>
              <a:t>人生就象一本书。傻瓜们走马看花似的随手翻阅它，聪明的人用心地阅读它。因为他知道这本书只能读一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 Narrow"/>
              </a:rPr>
              <a:t>         </a:t>
            </a:r>
            <a:r>
              <a:rPr b="1" lang="zh-CN" sz="4400" spc="-1" strike="noStrike">
                <a:solidFill>
                  <a:srgbClr val="009900"/>
                </a:solidFill>
                <a:latin typeface="Arial Narrow"/>
              </a:rPr>
              <a:t>－尚•保罗</a:t>
            </a:r>
            <a:r>
              <a:rPr b="1" lang="zh-CN" sz="3200" spc="-1" strike="noStrike">
                <a:solidFill>
                  <a:srgbClr val="009900"/>
                </a:solidFill>
                <a:latin typeface="Arial Narrow"/>
              </a:rPr>
              <a:t>（德 国作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219320" y="914400"/>
            <a:ext cx="6629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Arial Narrow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 Narrow"/>
              </a:rPr>
              <a:t>青春是有限的，智慧是无穷的，趁短短的青春，去学无穷的智慧。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 Narrow"/>
              </a:rPr>
              <a:t> 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Arial Narrow"/>
              </a:rPr>
              <a:t>－ 高尔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80880" y="762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高一年级心理适应能力统计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600200" y="1981080"/>
            <a:ext cx="5834160" cy="3353040"/>
            <a:chOff x="1600200" y="1981080"/>
            <a:chExt cx="5834160" cy="3353040"/>
          </a:xfrm>
        </p:grpSpPr>
        <p:grpSp>
          <p:nvGrpSpPr>
            <p:cNvPr id="167" name=""/>
            <p:cNvGrpSpPr/>
            <p:nvPr/>
          </p:nvGrpSpPr>
          <p:grpSpPr>
            <a:xfrm>
              <a:off x="1604880" y="1984680"/>
              <a:ext cx="5824440" cy="3344400"/>
              <a:chOff x="1604880" y="1984680"/>
              <a:chExt cx="5824440" cy="33444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604880" y="1984680"/>
                <a:ext cx="1941480" cy="557280"/>
                <a:chOff x="1604880" y="1984680"/>
                <a:chExt cx="1941480" cy="557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673280" y="198468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得分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60488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546360" y="1984680"/>
                <a:ext cx="1941480" cy="557280"/>
                <a:chOff x="3546360" y="1984680"/>
                <a:chExt cx="1941480" cy="55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61476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适应能力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54636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487840" y="1984680"/>
                <a:ext cx="1941480" cy="557280"/>
                <a:chOff x="5487840" y="1984680"/>
                <a:chExt cx="1941480" cy="55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556240" y="198468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人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487840" y="198468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4880" y="2541960"/>
                <a:ext cx="1941480" cy="557280"/>
                <a:chOff x="1604880" y="2541960"/>
                <a:chExt cx="1941480" cy="55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673280" y="254196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4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0488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46360" y="2541960"/>
                <a:ext cx="1941480" cy="557280"/>
                <a:chOff x="3546360" y="2541960"/>
                <a:chExt cx="1941480" cy="557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1476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4636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487840" y="2541960"/>
                <a:ext cx="1941480" cy="557280"/>
                <a:chOff x="5487840" y="2541960"/>
                <a:chExt cx="1941480" cy="557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56240" y="254196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487840" y="254196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04880" y="3099600"/>
                <a:ext cx="1941480" cy="557280"/>
                <a:chOff x="1604880" y="3099600"/>
                <a:chExt cx="1941480" cy="557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673280" y="30996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3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0488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46360" y="3099600"/>
                <a:ext cx="1941480" cy="557280"/>
                <a:chOff x="3546360" y="3099600"/>
                <a:chExt cx="1941480" cy="557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1476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良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4636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487840" y="3099600"/>
                <a:ext cx="1941480" cy="557280"/>
                <a:chOff x="5487840" y="3099600"/>
                <a:chExt cx="1941480" cy="5572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56240" y="30996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19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487840" y="30996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04880" y="3657240"/>
                <a:ext cx="1941480" cy="557280"/>
                <a:chOff x="1604880" y="3657240"/>
                <a:chExt cx="1941480" cy="5572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673280" y="365724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28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0488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46360" y="3657240"/>
                <a:ext cx="1941480" cy="557280"/>
                <a:chOff x="3546360" y="3657240"/>
                <a:chExt cx="1941480" cy="5572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1476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一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4636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487840" y="3657240"/>
                <a:ext cx="1941480" cy="557280"/>
                <a:chOff x="5487840" y="3657240"/>
                <a:chExt cx="1941480" cy="557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56240" y="365724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7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487840" y="365724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04880" y="4214520"/>
                <a:ext cx="1941480" cy="556920"/>
                <a:chOff x="1604880" y="4214520"/>
                <a:chExt cx="1941480" cy="5569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673280" y="4214520"/>
                  <a:ext cx="180468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 Narrow"/>
                    </a:rPr>
                    <a:t>16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0488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46360" y="4214520"/>
                <a:ext cx="1941480" cy="556920"/>
                <a:chOff x="3546360" y="4214520"/>
                <a:chExt cx="1941480" cy="5569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1476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较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4636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487840" y="4214520"/>
                <a:ext cx="1941480" cy="556920"/>
                <a:chOff x="5487840" y="4214520"/>
                <a:chExt cx="1941480" cy="5569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56240" y="4214520"/>
                  <a:ext cx="180504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7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487840" y="4214520"/>
                  <a:ext cx="1941480" cy="55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04880" y="4771800"/>
                <a:ext cx="1941480" cy="557280"/>
                <a:chOff x="1604880" y="4771800"/>
                <a:chExt cx="1941480" cy="557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673280" y="4771800"/>
                  <a:ext cx="18046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分以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0488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546360" y="4771800"/>
                <a:ext cx="1941480" cy="557280"/>
                <a:chOff x="3546360" y="4771800"/>
                <a:chExt cx="1941480" cy="55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1476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很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4636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487840" y="4771800"/>
                <a:ext cx="1941480" cy="557280"/>
                <a:chOff x="5487840" y="4771800"/>
                <a:chExt cx="1941480" cy="55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556240" y="4771800"/>
                  <a:ext cx="180504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49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487840" y="4771800"/>
                  <a:ext cx="1941480" cy="5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1600200" y="1981080"/>
              <a:ext cx="5834160" cy="335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8088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在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221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人中，良好以上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10.4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； 一般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34.8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；较差以下占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54.8</a:t>
            </a:r>
            <a:r>
              <a:rPr b="1" lang="zh-CN" sz="3200" spc="-1" strike="noStrike">
                <a:solidFill>
                  <a:srgbClr val="3333cc"/>
                </a:solidFill>
                <a:latin typeface="Arial Narrow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适应新环境    增强自信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209680"/>
            <a:ext cx="73911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进入高一级学校，有哪些不适应的现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产生不适应的原因在哪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为什么要学会适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怎样适应新学校的学习生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90720" y="609480"/>
            <a:ext cx="541008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一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进入高一级学校后，有那些不适应的现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教师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课程加深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学习方式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活动内容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对自己位置变化的不适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46800" y="160020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553080" y="2362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125d4"/>
                </a:solidFill>
                <a:latin typeface="Arial Narrow"/>
              </a:rPr>
              <a:t>烦恼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004760"/>
            <a:ext cx="70866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二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Arial Narrow"/>
              </a:rPr>
              <a:t>产生不适应的原因在哪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由于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环境的变化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使已有的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心理定势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与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全新的信息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输入不相符合，使之在心理上产生不平衡的缘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在新的学习环境中出现不适应的现象是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难免的，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有时也是</a:t>
            </a:r>
            <a:r>
              <a:rPr b="1" lang="zh-CN" sz="3200" spc="-1" strike="noStrike">
                <a:solidFill>
                  <a:srgbClr val="ec0cc7"/>
                </a:solidFill>
                <a:latin typeface="Arial Narrow"/>
              </a:rPr>
              <a:t>必要的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你应该知道烦恼将促使我们成长，预示着我们走向成熟，它将激发我们的斗志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90720" y="1028880"/>
            <a:ext cx="7619760" cy="35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什么要学会适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人的整个历史也无非是人类本性不断改 变而已。”             －马克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*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是客观存在，多变的环境不会以个人的意愿而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*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有改变和调节自身，来适应赖以生活的社会环境，从而实现自我，获得自身存在的价值。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适应，是个体生存和发展的前提，是人生的必修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066680"/>
            <a:ext cx="7848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四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怎样适应高中的学习生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校训：仁爱     求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a5ed"/>
                </a:solidFill>
                <a:latin typeface="Arial"/>
                <a:ea typeface="华文新魏"/>
              </a:rPr>
              <a:t>                  </a:t>
            </a: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千教万教教人求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                     </a:t>
            </a: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千学万学学做真人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                                     </a:t>
            </a:r>
            <a:r>
              <a:rPr b="1" lang="zh-CN" sz="4000" spc="-1" strike="noStrike">
                <a:solidFill>
                  <a:srgbClr val="ec0cc7"/>
                </a:solidFill>
                <a:latin typeface="Arial"/>
                <a:ea typeface="华文新魏"/>
              </a:rPr>
              <a:t>－ 陶行知</a:t>
            </a:r>
            <a:r>
              <a:rPr b="1" lang="zh-CN" sz="3600" spc="-1" strike="noStrike">
                <a:solidFill>
                  <a:srgbClr val="f3a5ed"/>
                </a:solidFill>
                <a:latin typeface="Arial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a5ed"/>
                </a:solidFill>
                <a:latin typeface="Arial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2133720"/>
            <a:ext cx="6400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明确目标 ， 学做真人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树立信心  加强“四个意识”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握“五个环节”，养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良好 学习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9144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和新同学交流三个问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952880" y="3124080"/>
            <a:ext cx="3962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2:13:29Z</dcterms:created>
  <dc:creator/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6:49:50Z</dcterms:modified>
  <cp:revision>1</cp:revision>
  <dc:subject>主题班会课件(分28大类): http://shop62905894.taobao.com</dc:subject>
  <dc:title>主题班会课件(分28大类): http://shop62905894.taobao.com</dc:title>
</cp:coreProperties>
</file>