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6C4-5EC5-4F0D-BE99-EC266819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92C-207A-4E94-8C3C-528B6E21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47F-1C48-4487-8C3A-23DB422A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FDE-3557-4474-9C2E-06FB40FC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65F-AEFF-4F04-A627-3AB60EA7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341D-5B33-469B-84F5-6066051E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294D-C4AE-429D-81C2-6CB7DCA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F5C8-39BC-42DE-B736-D40A9255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3C7-3AE7-44D7-BD0D-66916622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25DF-8A85-4730-B1D3-84D293D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68B-9A1E-483A-A657-4856D261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45B-2FF1-4192-B2AD-3D26A106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6CA3-8A3E-432E-AF11-ABE0F02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3EF3-D76C-4CC5-89B4-A5D2EE38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1A49-084E-4222-90B6-72B0E88A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BE19-1560-4260-BD17-D32B4660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2DC0-BD44-4B69-8EA7-5C11A079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81B-D3F5-42BB-981D-E36CDBC6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5F5-A108-4119-8434-863A3CDA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10F-FE9E-48A2-9D9D-7BE91895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CD9-4BE1-41CD-8038-01511E96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47B-7F0E-47F1-9D1E-03C34B9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76C-FA90-4D5A-8AFF-96A6F79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194-1D8D-4978-9958-102962FF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598F-5E1F-4784-B8BE-43507CF6D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E0B2-6CA8-49C6-8BE1-870F2FAB16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260280"/>
            <a:ext cx="885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直面困难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追逐梦想</a:t>
            </a:r>
            <a:endParaRPr b="0" lang="en-US" sz="8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高一</a:t>
            </a:r>
            <a:r>
              <a:rPr b="0" lang="en-US" sz="5400" spc="-1" strike="noStrike">
                <a:solidFill>
                  <a:srgbClr val="ffff66"/>
                </a:solidFill>
                <a:latin typeface="黑体"/>
                <a:ea typeface="黑体"/>
              </a:rPr>
              <a:t>(16)</a:t>
            </a: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班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051"/>
          <p:cNvSpPr/>
          <p:nvPr/>
        </p:nvSpPr>
        <p:spPr>
          <a:xfrm>
            <a:off x="1879560" y="4797360"/>
            <a:ext cx="7264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052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梦想一起飞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把目光朝向铸就成功的远方。志存高远，才没有年少无知的轻狂，才没有虚度光阴的荒唐；胸怀广阔，才不因挫折打击而迷惘，才不因失败伤痛而彷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靠毅力挥动背负沉重的翅膀。如苍鹰搏击于长空，似海燕翱翔于汪洋。直面风吹雨打，历经夏暑秋凉。勇往直前，一如既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与梦想一起飞翔，用真情呵护生命年轮的成长。将家的温馨贴在胸膛，朋友情谊似烈酒滚烫，师长风范如清茶悠长，让浓浓爱意洋溢年轻的心房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终有一天，梦想的花蕾会朵朵绽放，梦想的星辰会熠熠闪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老师寄语：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把自己确立的远大理想分解成若干个小目标，再循序渐进地去实现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没有比脚更长的路，没有比自己更高的山！努力吧，树立目标，认识自我，超越自我。只要你自己相信自己“能”，就一定“能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2401" descr="FR8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02402"/>
          <p:cNvSpPr/>
          <p:nvPr/>
        </p:nvSpPr>
        <p:spPr>
          <a:xfrm>
            <a:off x="167652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文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9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一粒咖啡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想一想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处逆境中，胡萝卜、鸡蛋、咖啡豆有什么不同的表现？你有何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2403"/>
          <p:cNvSpPr/>
          <p:nvPr/>
        </p:nvSpPr>
        <p:spPr>
          <a:xfrm>
            <a:off x="2438280" y="121932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加强阅读 理解吸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2404"/>
          <p:cNvSpPr/>
          <p:nvPr/>
        </p:nvSpPr>
        <p:spPr>
          <a:xfrm>
            <a:off x="175248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2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苦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记一记：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“你战胜苦难，它就是你的财富；苦难战胜你，它就是你的屈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02405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02406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周杰伦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蜗牛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003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不该搁下重重的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寻找到底哪里有蓝天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轻轻的风轻轻的飘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历经的伤都不感觉疼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待阳光静静看着它的脸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的天有大大的梦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重的壳裹着轻轻的仰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36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最高点乘着叶片往前飞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风吹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过的泪和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有一天我有属于我的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271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张敬轩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My way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751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在酝酿一直在盼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和妈妈唯一的理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月第一天一九八一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第一次对他们眨了眨眼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希望这个宝贝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体要健康所有的事情都如所愿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大以后就是小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er the wind ane ra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will be abrand new d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候受伤有人心疼失落有人安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遇到困难自己就要学会面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764640"/>
            <a:ext cx="419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hing will stop me n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tter what they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困难要用我的坚强和努力勇敢面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用心去追感觉就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"ll find my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就这样找我的方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理会别人奇怪的眼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到有一天我忽然发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想已经在实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着自己已经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生活应该让我自己学会掌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信自己不怕风雨再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孙燕姿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逃亡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620280"/>
            <a:ext cx="47750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踩著月光打开车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开这城市想找个解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是偶尔难免沮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离开想躲起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里的期待总是填不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著山下千万的窗谁不曾感到失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算会彷徨也还要去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未来只有自己明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765000"/>
            <a:ext cx="419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想让心情被现实打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站在靠近天的顶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开手全部释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月光取暖给自己力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发现关于梦的答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直在自己手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自己能让自己发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广 州 大 学 图 书 馆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内容占位符 92165" descr="tsgjj_jpg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06800" y="228240"/>
            <a:ext cx="213516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广 州 大 学 钟 楼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62532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内容占位符 94213" descr="钟楼"/>
          <p:cNvPicPr/>
          <p:nvPr/>
        </p:nvPicPr>
        <p:blipFill>
          <a:blip r:embed="rId1"/>
          <a:stretch/>
        </p:blipFill>
        <p:spPr>
          <a:xfrm>
            <a:off x="468360" y="189000"/>
            <a:ext cx="61196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毕  业  照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内容占位符 97285" descr="biye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讨   论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位乡下农夫有头老驴子，一天，老驴子不小心跌进了一个深坑，农夫听到驴的哀鸣，目睹它的困境，想了很久，断定救不了它，但又不忍心看着它痛苦而死，于是，农夫决定往坑里填土，把老驴闷死，以便使它早些脱离苦海，于是，农夫就开始往坑里填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74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山高路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呼喊是爆发的沉默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沉默是无声的召唤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论激越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是宁静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祈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只要不是平淡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远方呼喊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远方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大山召唤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大山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脚磨破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干脆再让夕阳涂抹小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手划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索性就让荆棘变成杜鹃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脚更长的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人更高的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1:22:10Z</dcterms:created>
  <dc:creator>书利华教育网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Administrator</cp:lastModifiedBy>
  <dcterms:modified xsi:type="dcterms:W3CDTF">2019-11-01T01:19:56Z</dcterms:modified>
  <cp:revision>1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