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CAMERA.WAV" ContentType="audio/x-wav"/>
  <Override PartName="/ppt/media/image17.jpeg" ContentType="image/jpeg"/>
  <Override PartName="/ppt/media/image24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chimes.wav" ContentType="audio/x-wav"/>
  <Override PartName="/ppt/media/image18.jpeg" ContentType="image/jpeg"/>
  <Override PartName="/ppt/media/image26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11.png" ContentType="image/png"/>
  <Override PartName="/ppt/media/image36.jpeg" ContentType="image/jpeg"/>
  <Override PartName="/ppt/media/image10.jpeg" ContentType="image/jpeg"/>
  <Override PartName="/ppt/media/image29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5.png" ContentType="image/png"/>
  <Override PartName="/ppt/media/image20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42.png" ContentType="image/png"/>
  <Override PartName="/ppt/media/image45.png" ContentType="image/png"/>
  <Override PartName="/ppt/media/image6.jpeg" ContentType="image/jpeg"/>
  <Override PartName="/ppt/media/image46.png" ContentType="image/png"/>
  <Override PartName="/ppt/media/image31.png" ContentType="image/png"/>
  <Override PartName="/ppt/media/image43.png" ContentType="image/png"/>
  <Override PartName="/ppt/media/image47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4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2.gif" ContentType="image/gif"/>
  <Override PartName="/ppt/media/image30.png" ContentType="image/png"/>
  <Override PartName="/ppt/media/image37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9B4F-47A7-492B-9C02-D34D73641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6481-39A5-4603-A01D-39D81889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D025-421F-49A6-8042-A10B8D0EA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D7A3-C915-4194-B5CE-6A72C470E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6001-6F5C-47C5-B6AA-58D7A89E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83B4-23C6-4380-B3CB-BFDE3FC6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8710-D5BE-42B6-96C2-6C8EF3EB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FD87-CF39-43B9-9FA9-2CA52937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CB55-1FA3-4AB2-BEAE-48AC34C7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6343-1F98-4CE8-8CB2-CD8A26A8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B52A-094E-4F6D-A9ED-7F714DB0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326E-A7EF-4D7A-91E9-0FE47922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76A1-01CB-4F01-A2E4-A73E60AEF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6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-1,2,&#24187;&#28783;&#29255; 2" TargetMode="External"/><Relationship Id="rId3" Type="http://schemas.openxmlformats.org/officeDocument/2006/relationships/hyperlink" Target="-1,3,&#24187;&#28783;&#29255; 3" TargetMode="External"/><Relationship Id="rId4" Type="http://schemas.openxmlformats.org/officeDocument/2006/relationships/hyperlink" Target="257,4,&#24187;&#28783;&#29255; 4" TargetMode="External"/><Relationship Id="rId5" Type="http://schemas.openxmlformats.org/officeDocument/2006/relationships/hyperlink" Target="257,4,&#24187;&#28783;&#29255; 4" TargetMode="External"/><Relationship Id="rId6" Type="http://schemas.openxmlformats.org/officeDocument/2006/relationships/hyperlink" Target="-1,5,&#24187;&#28783;&#29255; 5" TargetMode="External"/><Relationship Id="rId7" Type="http://schemas.openxmlformats.org/officeDocument/2006/relationships/hyperlink" Target="-1,6,&#24187;&#28783;&#29255; 6" TargetMode="External"/><Relationship Id="rId8" Type="http://schemas.openxmlformats.org/officeDocument/2006/relationships/hyperlink" Target="-1,7,&#24187;&#28783;&#29255; 7" TargetMode="External"/><Relationship Id="rId9" Type="http://schemas.openxmlformats.org/officeDocument/2006/relationships/hyperlink" Target="-1,8,&#24187;&#28783;&#29255; 8" TargetMode="External"/><Relationship Id="rId10" Type="http://schemas.openxmlformats.org/officeDocument/2006/relationships/hyperlink" Target="-1,9,&#24187;&#28783;&#29255; 9" TargetMode="External"/><Relationship Id="rId11" Type="http://schemas.openxmlformats.org/officeDocument/2006/relationships/hyperlink" Target="-1,10,&#24187;&#28783;&#29255; 10" TargetMode="External"/><Relationship Id="rId12" Type="http://schemas.openxmlformats.org/officeDocument/2006/relationships/hyperlink" Target="-1,21,&#24187;&#28783;&#29255; 21" TargetMode="External"/><Relationship Id="rId13" Type="http://schemas.openxmlformats.org/officeDocument/2006/relationships/hyperlink" Target="-1,18,&#24187;&#28783;&#29255; 18" TargetMode="External"/><Relationship Id="rId14" Type="http://schemas.openxmlformats.org/officeDocument/2006/relationships/hyperlink" Target="-1,22,&#24187;&#28783;&#29255; 22" TargetMode="Externa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 Box 7" descr=""/>
          <p:cNvPicPr/>
          <p:nvPr/>
        </p:nvPicPr>
        <p:blipFill>
          <a:blip r:embed="rId1"/>
          <a:stretch/>
        </p:blipFill>
        <p:spPr>
          <a:xfrm>
            <a:off x="468360" y="1123920"/>
            <a:ext cx="83516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大自然的语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20880" y="609480"/>
            <a:ext cx="932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自然    蚂蚁     睁眼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雁        搬家      蝌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撒落     省略号     钓鱼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汪洋       游泳       晴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不爱学习的人从来看不懂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粗心大意的人永远看不见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作者发现了哪些是大自然的语言？这语言告诉我们什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由读第二至第九小节，选自己喜欢的小节，感悟诗歌的语言美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T05-0023"/>
          <p:cNvPicPr/>
          <p:nvPr/>
        </p:nvPicPr>
        <p:blipFill>
          <a:blip r:embed="rId1"/>
          <a:stretch/>
        </p:blipFill>
        <p:spPr>
          <a:xfrm>
            <a:off x="0" y="0"/>
            <a:ext cx="9144000" cy="32846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0" y="0"/>
            <a:ext cx="597384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你看那天上的白云，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这就是大自然的语言：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白云飘得高高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明天准是个晴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T05-0023"/>
          <p:cNvPicPr/>
          <p:nvPr/>
        </p:nvPicPr>
        <p:blipFill>
          <a:blip r:embed="rId2"/>
          <a:stretch/>
        </p:blipFill>
        <p:spPr>
          <a:xfrm>
            <a:off x="4284720" y="184464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T05-0037"/>
          <p:cNvPicPr/>
          <p:nvPr/>
        </p:nvPicPr>
        <p:blipFill>
          <a:blip r:embed="rId3"/>
          <a:stretch/>
        </p:blipFill>
        <p:spPr>
          <a:xfrm>
            <a:off x="7086600" y="1557360"/>
            <a:ext cx="2057400" cy="1630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T05-0011"/>
          <p:cNvPicPr/>
          <p:nvPr/>
        </p:nvPicPr>
        <p:blipFill>
          <a:blip r:embed="rId4"/>
          <a:stretch/>
        </p:blipFill>
        <p:spPr>
          <a:xfrm>
            <a:off x="5508720" y="0"/>
            <a:ext cx="2361960" cy="20048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304920" y="63309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0" y="3213000"/>
            <a:ext cx="5653080" cy="35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你看那地上的蚂蚁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也是大自然的语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蚂蚁忙着搬家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出门要带雨伞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bz28"/>
          <p:cNvPicPr/>
          <p:nvPr/>
        </p:nvPicPr>
        <p:blipFill>
          <a:blip r:embed="rId5"/>
          <a:stretch/>
        </p:blipFill>
        <p:spPr>
          <a:xfrm>
            <a:off x="4788000" y="3284640"/>
            <a:ext cx="4356000" cy="357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8"/>
          <p:cNvSpPr/>
          <p:nvPr/>
        </p:nvSpPr>
        <p:spPr>
          <a:xfrm>
            <a:off x="0" y="18446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语言精练、押韵、结构整齐、富于变化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757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752480" y="685800"/>
            <a:ext cx="18432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BT161-09"/>
          <p:cNvPicPr/>
          <p:nvPr/>
        </p:nvPicPr>
        <p:blipFill>
          <a:blip r:embed="rId2"/>
          <a:stretch/>
        </p:blipFill>
        <p:spPr>
          <a:xfrm>
            <a:off x="533520" y="4495680"/>
            <a:ext cx="2819160" cy="2087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75755"/>
          <p:cNvPicPr/>
          <p:nvPr/>
        </p:nvPicPr>
        <p:blipFill>
          <a:blip r:embed="rId3"/>
          <a:stretch/>
        </p:blipFill>
        <p:spPr>
          <a:xfrm>
            <a:off x="3352680" y="4495680"/>
            <a:ext cx="2743200" cy="2076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TS77-1470"/>
          <p:cNvPicPr/>
          <p:nvPr/>
        </p:nvPicPr>
        <p:blipFill>
          <a:blip r:embed="rId4"/>
          <a:stretch/>
        </p:blipFill>
        <p:spPr>
          <a:xfrm>
            <a:off x="6095880" y="4495680"/>
            <a:ext cx="2590920" cy="2057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7"/>
          <p:cNvSpPr/>
          <p:nvPr/>
        </p:nvSpPr>
        <p:spPr>
          <a:xfrm>
            <a:off x="304920" y="63309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1908000" y="907920"/>
            <a:ext cx="792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蝌蚪在水中游泳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不就像黑色的“逗点”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大自然在水面上写着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春天来到人间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caf9fc7fac504e4fabfd30e1ec88c261"/>
          <p:cNvPicPr/>
          <p:nvPr/>
        </p:nvPicPr>
        <p:blipFill>
          <a:blip r:embed="rId5"/>
          <a:stretch/>
        </p:blipFill>
        <p:spPr>
          <a:xfrm>
            <a:off x="6134040" y="4437000"/>
            <a:ext cx="3009960" cy="217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2313720" y="0"/>
            <a:ext cx="353340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大雁在编队南飞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不就像“省略号”一串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大自然在蓝天上写着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秋天就在眼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MIN109250"/>
          <p:cNvPicPr/>
          <p:nvPr/>
        </p:nvPicPr>
        <p:blipFill>
          <a:blip r:embed="rId1"/>
          <a:stretch/>
        </p:blipFill>
        <p:spPr>
          <a:xfrm>
            <a:off x="6084720" y="2708280"/>
            <a:ext cx="2438640" cy="1849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914-0624"/>
          <p:cNvPicPr/>
          <p:nvPr/>
        </p:nvPicPr>
        <p:blipFill>
          <a:blip r:embed="rId2"/>
          <a:stretch/>
        </p:blipFill>
        <p:spPr>
          <a:xfrm>
            <a:off x="2987640" y="4581360"/>
            <a:ext cx="2666880" cy="1779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MIN035623"/>
          <p:cNvPicPr/>
          <p:nvPr/>
        </p:nvPicPr>
        <p:blipFill>
          <a:blip r:embed="rId3"/>
          <a:stretch/>
        </p:blipFill>
        <p:spPr>
          <a:xfrm>
            <a:off x="250920" y="3500280"/>
            <a:ext cx="2438280" cy="1513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304920" y="63309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niamlun2w"/>
          <p:cNvPicPr/>
          <p:nvPr/>
        </p:nvPicPr>
        <p:blipFill>
          <a:blip r:embed="rId1"/>
          <a:stretch/>
        </p:blipFill>
        <p:spPr>
          <a:xfrm>
            <a:off x="0" y="1219320"/>
            <a:ext cx="8872560" cy="56386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395280" y="1890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大树如果被砍倒，你会把年轮发现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24000" y="692280"/>
            <a:ext cx="85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一年只长一圈，这也是大自然的语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3733920" y="152280"/>
            <a:ext cx="449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宽的年轮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窄的年轮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疤痕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0" y="4191120"/>
            <a:ext cx="2514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：这些年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说明该树是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着长的，年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较宽的一边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示树木在这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边长势较快。　　　　　　　　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419720" y="4133880"/>
            <a:ext cx="2819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3 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如果树枝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折断了．将会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下疤痕。最终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会绕过疤痕继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生长。但年轮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会给你讲述这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故事．　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2057400" y="419112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2 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火灾在年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上留下了疤痕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计算年轮时，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可以算出它在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么时候遭到火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6705720" y="4114800"/>
            <a:ext cx="236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4 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从此图可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看出树木生长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平衡的情况．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能是由于极度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旱，树木生长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慢。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年轮较窄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年轮4"/>
          <p:cNvPicPr/>
          <p:nvPr/>
        </p:nvPicPr>
        <p:blipFill>
          <a:blip r:embed="rId1"/>
          <a:stretch/>
        </p:blipFill>
        <p:spPr>
          <a:xfrm>
            <a:off x="4419720" y="1828800"/>
            <a:ext cx="4724280" cy="235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年轮1"/>
          <p:cNvPicPr/>
          <p:nvPr/>
        </p:nvPicPr>
        <p:blipFill>
          <a:blip r:embed="rId2"/>
          <a:stretch/>
        </p:blipFill>
        <p:spPr>
          <a:xfrm>
            <a:off x="0" y="1828800"/>
            <a:ext cx="4648320" cy="2305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nianlun"/>
          <p:cNvPicPr/>
          <p:nvPr/>
        </p:nvPicPr>
        <p:blipFill>
          <a:blip r:embed="rId3"/>
          <a:stretch/>
        </p:blipFill>
        <p:spPr>
          <a:xfrm>
            <a:off x="762120" y="0"/>
            <a:ext cx="3200400" cy="21337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1"/>
          <p:cNvSpPr/>
          <p:nvPr/>
        </p:nvSpPr>
        <p:spPr>
          <a:xfrm>
            <a:off x="6887880" y="152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生长期良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6887880" y="6238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生长期不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2438280" y="10350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曾遭受过森林火灾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虫灾、根部损害和病害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7232398bddc7ecc9fc1f10d8"/>
          <p:cNvPicPr/>
          <p:nvPr/>
        </p:nvPicPr>
        <p:blipFill>
          <a:blip r:embed="rId1"/>
          <a:stretch/>
        </p:blipFill>
        <p:spPr>
          <a:xfrm>
            <a:off x="-1692360" y="0"/>
            <a:ext cx="6264360" cy="60213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3"/>
          <p:cNvSpPr/>
          <p:nvPr/>
        </p:nvSpPr>
        <p:spPr>
          <a:xfrm>
            <a:off x="684360" y="6033600"/>
            <a:ext cx="374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公鸡打鸣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200752282140561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0213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4932360" y="5850720"/>
            <a:ext cx="331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电闪雷鸣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MIN15325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FL5625"/>
          <p:cNvPicPr/>
          <p:nvPr/>
        </p:nvPicPr>
        <p:blipFill>
          <a:blip r:embed="rId2"/>
          <a:stretch/>
        </p:blipFill>
        <p:spPr>
          <a:xfrm>
            <a:off x="7596360" y="5661000"/>
            <a:ext cx="990360" cy="8002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"/>
          <p:cNvSpPr/>
          <p:nvPr/>
        </p:nvSpPr>
        <p:spPr>
          <a:xfrm>
            <a:off x="324000" y="189000"/>
            <a:ext cx="583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你如果钓到大鱼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鱼鳞上也有圆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——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一圈就是一岁，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这又是大自然的语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MIN1532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971640" y="762120"/>
            <a:ext cx="649584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大自然把“三叶虫”化石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嵌在喜马拉雅山巅。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这是在告诉人们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那儿曾经是汪洋一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images"/>
          <p:cNvPicPr/>
          <p:nvPr/>
        </p:nvPicPr>
        <p:blipFill>
          <a:blip r:embed="rId2"/>
          <a:stretch/>
        </p:blipFill>
        <p:spPr>
          <a:xfrm>
            <a:off x="6588000" y="3645000"/>
            <a:ext cx="1656000" cy="1431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images"/>
          <p:cNvPicPr/>
          <p:nvPr/>
        </p:nvPicPr>
        <p:blipFill>
          <a:blip r:embed="rId3"/>
          <a:stretch/>
        </p:blipFill>
        <p:spPr>
          <a:xfrm>
            <a:off x="5867280" y="5349960"/>
            <a:ext cx="1584360" cy="12477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304920" y="63309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0405"/>
          <p:cNvPicPr/>
          <p:nvPr/>
        </p:nvPicPr>
        <p:blipFill>
          <a:blip r:embed="rId1"/>
          <a:stretch/>
        </p:blipFill>
        <p:spPr>
          <a:xfrm>
            <a:off x="7740720" y="5589720"/>
            <a:ext cx="676080" cy="685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his504_03pic"/>
          <p:cNvPicPr/>
          <p:nvPr/>
        </p:nvPicPr>
        <p:blipFill>
          <a:blip r:embed="rId2"/>
          <a:stretch/>
        </p:blipFill>
        <p:spPr>
          <a:xfrm>
            <a:off x="1619280" y="5013360"/>
            <a:ext cx="1523880" cy="1152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u=2984487877,3771880463&amp;fm=0&amp;gp=40"/>
          <p:cNvPicPr/>
          <p:nvPr/>
        </p:nvPicPr>
        <p:blipFill>
          <a:blip r:embed="rId3"/>
          <a:stretch/>
        </p:blipFill>
        <p:spPr>
          <a:xfrm>
            <a:off x="5724360" y="5157720"/>
            <a:ext cx="1333800" cy="1152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u=2984487877,3771880463&amp;fm=0&amp;gp=40"/>
          <p:cNvPicPr/>
          <p:nvPr/>
        </p:nvPicPr>
        <p:blipFill>
          <a:blip r:embed="rId4"/>
          <a:stretch/>
        </p:blipFill>
        <p:spPr>
          <a:xfrm>
            <a:off x="3708360" y="5084640"/>
            <a:ext cx="1368360" cy="11509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2"/>
          <p:cNvSpPr/>
          <p:nvPr/>
        </p:nvSpPr>
        <p:spPr>
          <a:xfrm>
            <a:off x="1619280" y="692280"/>
            <a:ext cx="684036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大自然把一块“漂砾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撒在江南的庐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那又在提醒大家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这儿有过寒冷的冰川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9" descr="科技精英-李四光与冰川漂砾"/>
          <p:cNvPicPr/>
          <p:nvPr/>
        </p:nvPicPr>
        <p:blipFill>
          <a:blip r:embed="rId1"/>
          <a:stretch/>
        </p:blipFill>
        <p:spPr>
          <a:xfrm>
            <a:off x="7524720" y="5661000"/>
            <a:ext cx="1143000" cy="8571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576360" y="1557360"/>
            <a:ext cx="85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漂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冰川消融后沉积下来的巨大的石块，上面常有冰川擦痕，看到树林当中的一块很大的花岗石，对它的出现产生了疑问，原来是冰搬来的，说明当时这儿还根本没有森林，漂砾周围的森林是后来才长的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hl71660p1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Bandari - One Day in Spring（One Day in Spring）.mp3" descr=""/>
          <p:cNvPicPr/>
          <p:nvPr/>
        </p:nvPicPr>
        <p:blipFill>
          <a:blip r:embed="rId2"/>
          <a:stretch/>
        </p:blipFill>
        <p:spPr>
          <a:xfrm>
            <a:off x="8028000" y="6093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26788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谁能倾听大自然的语言，谁就能获悉真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观察大自然，记录大自然，创作诗歌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世界也许很小很小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心的领域却很大很大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3"/>
          <p:cNvSpPr/>
          <p:nvPr/>
        </p:nvSpPr>
        <p:spPr>
          <a:xfrm>
            <a:off x="1523880" y="2209680"/>
            <a:ext cx="549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187280" y="1268280"/>
            <a:ext cx="708048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你还知道哪些大自然的语言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914-0438"/>
          <p:cNvPicPr/>
          <p:nvPr/>
        </p:nvPicPr>
        <p:blipFill>
          <a:blip r:embed="rId1"/>
          <a:stretch/>
        </p:blipFill>
        <p:spPr>
          <a:xfrm>
            <a:off x="971640" y="0"/>
            <a:ext cx="6264360" cy="4221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900000" y="4869000"/>
            <a:ext cx="69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朝霞不出门，晚霞行千里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91840" y="59500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林中落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945_12895_4e57e5d265f6bfa"/>
          <p:cNvPicPr/>
          <p:nvPr/>
        </p:nvPicPr>
        <p:blipFill>
          <a:blip r:embed="rId1"/>
          <a:stretch/>
        </p:blipFill>
        <p:spPr>
          <a:xfrm>
            <a:off x="684360" y="0"/>
            <a:ext cx="7127640" cy="45813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1042920" y="609300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116000" y="4941720"/>
            <a:ext cx="63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柳毛开花，点豆种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457200" y="228600"/>
            <a:ext cx="8229600" cy="60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古代流传下来的许多</a:t>
            </a:r>
            <a:r>
              <a:rPr b="1" lang="zh-CN" sz="3600" spc="-1" strike="noStrike" u="sng">
                <a:solidFill>
                  <a:srgbClr val="cc3300"/>
                </a:solidFill>
                <a:uFillTx/>
                <a:latin typeface="Times New Roman"/>
              </a:rPr>
              <a:t>农谚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就包含了丰富的物候知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   “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清明前，开秧田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   “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柳毛开花，点豆种瓜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   “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雨中闻蝉叫，预告晴天到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   “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朝霞不出门，晚霞行千里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996633"/>
                </a:solidFill>
                <a:latin typeface="Times New Roman"/>
              </a:rPr>
              <a:t>燕子低飞要落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996633"/>
                </a:solidFill>
                <a:latin typeface="Times New Roman"/>
              </a:rPr>
              <a:t>龟背潮，下雨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996633"/>
                </a:solidFill>
                <a:latin typeface="Times New Roman"/>
              </a:rPr>
              <a:t>鸡迟宿，鸭欢叫，风雨不久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996633"/>
                </a:solidFill>
                <a:latin typeface="Times New Roman"/>
              </a:rPr>
              <a:t>馒头云，天气晴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011"/>
          <p:cNvPicPr/>
          <p:nvPr/>
        </p:nvPicPr>
        <p:blipFill>
          <a:blip r:embed="rId1"/>
          <a:stretch/>
        </p:blipFill>
        <p:spPr>
          <a:xfrm>
            <a:off x="0" y="3063960"/>
            <a:ext cx="5076720" cy="3794040"/>
          </a:xfrm>
          <a:prstGeom prst="rect">
            <a:avLst/>
          </a:prstGeom>
          <a:ln w="0">
            <a:noFill/>
          </a:ln>
        </p:spPr>
      </p:pic>
      <p:sp>
        <p:nvSpPr>
          <p:cNvPr id="138" name="WordArt 4"/>
          <p:cNvSpPr txBox="1"/>
          <p:nvPr/>
        </p:nvSpPr>
        <p:spPr>
          <a:xfrm>
            <a:off x="304920" y="609480"/>
            <a:ext cx="4267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楷体_GB2312"/>
              </a:rPr>
              <a:t>接天莲叶无穷碧</a:t>
            </a:r>
            <a:endParaRPr b="0" lang="en-US" sz="4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39" name="WordArt 5"/>
          <p:cNvSpPr txBox="1"/>
          <p:nvPr/>
        </p:nvSpPr>
        <p:spPr>
          <a:xfrm>
            <a:off x="5003640" y="3357720"/>
            <a:ext cx="38862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映日荷花别样红</a:t>
            </a:r>
            <a:endParaRPr b="0" lang="en-US" sz="4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2"/>
          <a:stretch/>
        </p:blipFill>
        <p:spPr>
          <a:xfrm>
            <a:off x="5183280" y="0"/>
            <a:ext cx="3960720" cy="33116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himes.wav"/>
      </p:stSnd>
    </p:sndAc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3"/>
          <p:cNvSpPr txBox="1"/>
          <p:nvPr/>
        </p:nvSpPr>
        <p:spPr>
          <a:xfrm>
            <a:off x="1403280" y="4724280"/>
            <a:ext cx="6553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八月桂花遍地香</a:t>
            </a:r>
            <a:endParaRPr b="1" lang="en-US" sz="4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3"/>
          <a:stretch/>
        </p:blipFill>
        <p:spPr>
          <a:xfrm>
            <a:off x="1332000" y="333360"/>
            <a:ext cx="6408720" cy="4200480"/>
          </a:xfrm>
          <a:prstGeom prst="rect">
            <a:avLst/>
          </a:prstGeom>
          <a:ln w="0">
            <a:noFill/>
          </a:ln>
        </p:spPr>
      </p:pic>
    </p:spTree>
  </p:cSld>
  <p:transition>
    <p:cover dir="d"/>
    <p:sndAc>
      <p:stSnd>
        <p:snd r:embed="rId4" name="chimes.wav"/>
      </p:stSnd>
    </p:sndAc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4"/>
          <p:cNvSpPr txBox="1"/>
          <p:nvPr/>
        </p:nvSpPr>
        <p:spPr>
          <a:xfrm rot="5400000">
            <a:off x="-723960" y="4457520"/>
            <a:ext cx="304776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2500"/>
                <a:gd name="adj2" fmla="val -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楷体_GB2312"/>
              </a:rPr>
              <a:t>梅花香</a:t>
            </a:r>
            <a:endParaRPr b="1" lang="en-US" sz="4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44" name="WordArt 5"/>
          <p:cNvSpPr txBox="1"/>
          <p:nvPr/>
        </p:nvSpPr>
        <p:spPr>
          <a:xfrm rot="5400000">
            <a:off x="6248160" y="3733560"/>
            <a:ext cx="4343400" cy="1447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楷体_GB2312"/>
              </a:rPr>
              <a:t>自苦寒来</a:t>
            </a:r>
            <a:endParaRPr b="1" lang="en-US" sz="4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45" name="Picture 7" descr=""/>
          <p:cNvPicPr/>
          <p:nvPr/>
        </p:nvPicPr>
        <p:blipFill>
          <a:blip r:embed="rId1"/>
          <a:stretch/>
        </p:blipFill>
        <p:spPr>
          <a:xfrm>
            <a:off x="5003640" y="0"/>
            <a:ext cx="4284720" cy="2276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28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724742_200802052343061"/>
          <p:cNvPicPr/>
          <p:nvPr/>
        </p:nvPicPr>
        <p:blipFill>
          <a:blip r:embed="rId3"/>
          <a:stretch/>
        </p:blipFill>
        <p:spPr>
          <a:xfrm>
            <a:off x="1619280" y="3141720"/>
            <a:ext cx="5761080" cy="352260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4" name="chimes.wav"/>
      </p:stSnd>
    </p:sndAc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T05-00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75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538920" y="6278400"/>
            <a:ext cx="78469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/>
              </a:rPr>
              <a:t>课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6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7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8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9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0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1"/>
              </a:rPr>
              <a:t>生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2"/>
              </a:rPr>
              <a:t>词语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3"/>
              </a:rPr>
              <a:t>问题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4"/>
              </a:rPr>
              <a:t>资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af9fc7fac504e4fabfd30e1ec88c2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桃花开放_big"/>
          <p:cNvPicPr/>
          <p:nvPr/>
        </p:nvPicPr>
        <p:blipFill>
          <a:blip r:embed="rId1"/>
          <a:stretch/>
        </p:blipFill>
        <p:spPr>
          <a:xfrm>
            <a:off x="100080" y="74520"/>
            <a:ext cx="8945640" cy="67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1116000" y="187920"/>
            <a:ext cx="69850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这语言到处都有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睁开眼就能看见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 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900000" y="3429000"/>
            <a:ext cx="698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睁开眼就能看见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1332000" y="47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3276720" y="479736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28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1523880" y="2209680"/>
            <a:ext cx="549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990720" y="274320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692360" y="692280"/>
            <a:ext cx="6049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提示：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4400" spc="-1" strike="noStrike">
                <a:solidFill>
                  <a:srgbClr val="ff00ff"/>
                </a:solidFill>
                <a:latin typeface="宋体"/>
              </a:rPr>
              <a:t>自读课文，把自己喜欢的小节多读几遍，注意遇到不认识的字可以问老师、问同学、查字典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10:59:17Z</dcterms:created>
  <dc:creator>第一PPT模板网-WWW.1PPT.COM</dc:creator>
  <dc:description>第一PPT模板网-WWW.1PPT.COM
</dc:description>
  <cp:keywords>第一PPT模板网-WWW.1PPT.COM</cp:keywords>
  <dc:language>en-US</dc:language>
  <cp:lastModifiedBy>shuopu</cp:lastModifiedBy>
  <dcterms:modified xsi:type="dcterms:W3CDTF">2017-11-11T05:52:28Z</dcterms:modified>
  <cp:revision>4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30</vt:lpwstr>
  </property>
</Properties>
</file>