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D45-8EF3-4670-A427-ECC4FBB7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841-1D61-42D3-B914-3782FD42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D9B-967B-4E28-8CEC-E3F97C9A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122-F4F9-49D3-A26F-8BF2C3CD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FA1-17E5-4BC3-8550-64935EF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A6A-C118-405E-8003-153183D1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39D-E32E-4A7A-8AC7-C2624AA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C12-D75D-4330-A988-04E4023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A95-208B-4B4D-80BB-1E8C249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CBE-080B-448C-907F-2691415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C9F-E4B5-4B0C-9D01-877E45A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587-81C4-4316-978C-3CBA601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14EA-C2C4-4351-87A2-B58EC38C37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.baidu.com/i?ct=503316480&amp;z=&amp;tn=baiduimagedetail&amp;word=apple&amp;in=14415&amp;cl=2&amp;lm=-1&amp;st=-1&amp;pn=6&amp;rn=1&amp;di=23034174975&amp;ln=1994&amp;fr=&amp;fm=result&amp;fmq=1329393894753_R&amp;ic=0&amp;s=0&amp;se=1&amp;sme=0&amp;tab=&amp;width=&amp;height=&amp;face=0&amp;is=&amp;istype=2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12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2133720"/>
            <a:ext cx="604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中宋"/>
              </a:rPr>
              <a:t>我读书 我快乐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66100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龙岩实小三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00360" y="40464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1970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飞行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如何拿起扫帚开始，学习最基本的飞天扫帚飞行技巧。学校提供二十多把飞天扫帚，但这些扫帚的质量不尽理想，有的飞太高时会瑟瑟发抖，还有的总是微微向左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680" y="278136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魔药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配置各种常用药水和基本毒药的解药，要想成为傲罗，魔药考试必须达到优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645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占卜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占卜和算术占卜。前者通过观察茶叶的形状和水晶球等进行对未来的预测，后者则需要进行繁杂的数学计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45086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天文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行星和恒星方位，运动轨迹，互相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魔咒课和黑魔法防御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最主要的两门课程，学习各种常用魔咒和如何防御黑魔法的攻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91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变形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门主课，教学生学习如何让一样物体变形，也就是变形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08560" y="260280"/>
            <a:ext cx="47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只名叫赛林的小谷仓猫头鹰，刚刚出生没多久，本应在爸爸妈妈的怀抱中撒娇，并等着最激动的时刻的到来——爸爸教他学飞——这也是所有小雏鸟最盼望的事情，赛林却在沉睡中遭受到暗算，被推出温暖的窝，并被邪恶的猫头鹰掳到圣灵枭猫头鹰孤儿院，并在那里亲身经历和目睹到一些极其可怕和残忍的事情，他意识到这股邪恶的力量即将打碎猫头鹰王国的安宁，于是，赛林的生活轨迹从此改变。于是，一个神奇的旅程就此开始。一路上，赛林和其朋友将一起找寻真理，与不可想象的危险战斗，由一只曾经弱不禁风的小雏鸟到最后王者归来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因为赛林的自信，终于战胜了邪恶力量，守卫了猫头鹰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78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4720" y="404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人公名叫波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杰克逊，是海神波塞冬和人类所生的混血人：一半是人、一半是神。宙斯的雷霆杖被偷后，他成为主要怀疑对象。从此，他与身怀绝技的朋友们在凡人和众神两个世界里穿梭，拯救着人间与神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221000"/>
            <a:ext cx="5905440" cy="2122560"/>
          </a:xfrm>
          <a:prstGeom prst="wedgeEllipseCallout">
            <a:avLst>
              <a:gd name="adj1" fmla="val -46370"/>
              <a:gd name="adj2" fmla="val 5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4700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美国总统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奥巴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亲自重点推荐给青少年的最佳读物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71640" y="2421000"/>
            <a:ext cx="7543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外国儿童经典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7367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549360"/>
            <a:ext cx="237636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·B·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怀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美国著名作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一共只写了三部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《精灵鼠小弟》、《夏洛的网》、《吹小号的天鹅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的儿童文学作品被介绍到许多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67120" y="281160"/>
            <a:ext cx="41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主要内容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头小猪威伯与大灰蜘蛛夏洛同住在农场仓房的地窖中，聪明勇敢的夏洛在自己的网上编织“好猪”、“杰出”、“谦虚”等等字样，使得威伯在猪的比赛中荣获了大奖，救了他的性命。而威伯又怀着感激之情，保护了夏洛的孩子顺利诞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24360" y="4149720"/>
            <a:ext cx="2019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乐于助人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4869000"/>
            <a:ext cx="20192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聪明勇敢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55897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它们真挚的友情所感动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4020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276640"/>
            <a:ext cx="398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长袜子皮皮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小飞人尼尔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卡尔松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米欧，我的米欧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狮心兄弟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绿林女儿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淘气包埃米尔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大侦探小卡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疯丫头马迪根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吵闹村的孩子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6360" y="836640"/>
            <a:ext cx="3657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童话外婆：林格伦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292720" cy="5473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7280" y="333360"/>
            <a:ext cx="6629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国际大奖小说系列（共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59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册）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0811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本都获得国际儿童文学著名奖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科普读物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4824360" cy="610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19640" y="981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套影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奥巴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克林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几代人成长的经典科普作品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01608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神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巴菲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一投资出版的百科全书！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72200" y="4384800"/>
            <a:ext cx="362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地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宇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人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艺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世界人文地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方面进行精彩介绍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720" y="260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国少年儿童百科全书（共七本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336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-170640"/>
            <a:ext cx="258804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知识就是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培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英国文学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197000"/>
            <a:ext cx="56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不读书的人，思想就会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狄德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法国文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9280" y="26028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角形、矩形、正方形和圆——你能用形状做些什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860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如何为一场比赛记录统计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6560" y="17733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何破解一个密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枚硬币落下之后正面朝上的概率大还是反面朝上的概率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507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87280" y="5300640"/>
            <a:ext cx="6115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神奇校车系列</a:t>
            </a:r>
            <a:endParaRPr b="1" lang="en-US" sz="8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3804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浑身上下充满了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魔幻色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科学课老师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弗瑞丝小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每次上课都是开着一辆黄色校车四处游荡。这辆看起来似乎是美国最最常见的，学生们最主要的交通工具，但却充满了神奇的魔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神奇校车”能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带领我们进入浩瀚的科学领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游梭于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物科学、地球科学、太空科学、气象学、古生物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各门学科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3280" y="69228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部书表面上看起来似乎很深奥，因为它是一本介绍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宇宙的结构、地球和其它行星的状况、核物理、相对论、生物、生命、进化、遗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知识的书。但如果你能静下心来看，你会发现并没有你想象中的难：因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书中穿插了大量科学家、发明家的趣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很少有科学术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45140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189000"/>
            <a:ext cx="7315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可怕的科学之经典数学系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052640"/>
            <a:ext cx="4376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常使你感到痛苦吗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学习和考试中，你是不是常常为数字头痛，或者被图形搞得晕头转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现在好了，《要命的数学》将会为你摆平以上所有问题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1480" y="465300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保证，你如果看完这套书，一定会大大增加对数学的兴趣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其它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765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乔布斯的传记，你会发现乔布斯的成功也不是一帆风顺的，他经历了许多坎坷，最终才成就了非凡的苹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194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77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6000" y="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轻松有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兼学英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1628640"/>
            <a:ext cx="326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一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漫画加上文字说明的另类日记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人公格雷是一个善良、诚实、聪明、爱玩，满脑子的鬼点子的初中生。他除了记述了有趣的或难忘的事情外，还画了许多漫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尤其是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中英文对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对学习英文是一本很好的读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45147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兔子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尽一切办法不再活下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它透过放大镜静静地望着太阳；它义无反顾地袭击外星人；它炸掉比萨斜塔；它向核武器根据地进攻；它在直升机螺旋桨下玩蹦床；它从下面钻开硫酸瓶子；它口含唱片去撞墙；当其他动物都登上诺亚方舟的时候，它却在陆地上悠然自得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11320" y="-191160"/>
            <a:ext cx="13993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猜猜看，它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终死成了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05264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结语：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今天，我只是推荐了我喜欢的一部分书，其实，还有很多很多好看的书，让我们互相推荐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35480" y="1989000"/>
            <a:ext cx="48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我喜欢读书，也很享受读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86320" y="260280"/>
            <a:ext cx="53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我的书橱一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2781360"/>
            <a:ext cx="6096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推荐的书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奇幻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49236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4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哈利﹒波特》是英国女作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J﹒K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罗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创作的系列小说，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。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J·K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罗琳创造了出版史上的神话。至今，《哈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特》系列已被译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种文字，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个国家和地区累计销售达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多册。而她自己也凭借巨额版税成为英国最富有的女人之一，资产超过英国女王，达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美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5290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5960" y="604440"/>
            <a:ext cx="91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J K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罗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11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197000"/>
            <a:ext cx="408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魔法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密室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阿兹卡班的囚徒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火焰杯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凤凰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混血王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死亡圣器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60" y="260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189000"/>
            <a:ext cx="365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长着绿眼睛、棕色头发，额上有一道闪电形伤疤，鼻梁上戴着一副断了架的宽边大眼镜的、瘦瘦的男孩，他总是手持一根神奇的魔杖，骑着一把看似普通的扫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一个风靡全球的、活灵活现的小巫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5589720"/>
            <a:ext cx="3429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睿智、勇敢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76500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"/>
          <p:cNvSpPr/>
          <p:nvPr/>
        </p:nvSpPr>
        <p:spPr>
          <a:xfrm>
            <a:off x="2859120" y="170028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一所《哈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波特》系列小说中描写的专门培养巫师的魔法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85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很喜欢这个学校，因为它的课程设置很丰富有趣，如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飞行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、魔药课、占卜课、天文课、魔咒课、变形课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8:38:34Z</dcterms:created>
  <dc:creator>hp</dc:creator>
  <dc:description/>
  <dc:language>en-US</dc:language>
  <cp:lastModifiedBy>hp</cp:lastModifiedBy>
  <dcterms:modified xsi:type="dcterms:W3CDTF">2012-02-16T23:08:35Z</dcterms:modified>
  <cp:revision>45</cp:revision>
  <dc:subject/>
  <dc:title>幻灯片 1</dc:title>
</cp:coreProperties>
</file>